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39E6-4857-4B63-A8A9-DB59AEED48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ecesidad de Bienes públicos y bienes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entralidad de la economía del conocimiento y del rol del territorio en la producción de conocimi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entralidad de los planos meso y micro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ecesidad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ienes públicos y bienes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entralidad de la economía del conocimiento y del rol del territorio en la producción de conocimi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entralidad de los planos meso y micro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novación, diversidad y selección como elementos claves para el desarrollo de competencias locales y para la interpretación de la dinámica 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96B-381E-4725-BB9F-5802E68A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BA5-616A-4E55-B5EA-65D87437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5A3-FB52-4335-A1C4-B7735662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2F5-09D5-4F37-96F2-17A7047D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EBE-31C8-4B38-BA30-E52A2FA3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4153-D912-4ADB-909D-445ACCD9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0969-86BB-439C-B1C4-0A785937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E509-8C81-4F3E-AE89-59AED65D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B9FB-260D-4B35-83DA-E3ADE700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795C-A998-487D-A293-ADE16AEB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D3ED-E9F7-40FA-A7AE-C4B1A7B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0BD-3F39-4FBB-8046-94AFC7C4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5415-39AC-4745-9A76-D3FB8369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3B36-97C0-43AD-A34E-2B7E04FC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48AF-C306-4E1A-B471-AB6E5122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CEDC-0FF8-4978-B496-2B196B6B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BA65-5136-42E2-A5F9-9A24A018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E3A-08D8-4EE4-828A-748D85BD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63F-FE7E-471A-9F2D-02141971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826-C6B5-4BE4-B5F2-B51039BF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5A9-7B80-4274-A237-7F721A97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BB3-6061-478A-94F8-EA62B78E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916-6B12-4B50-9F3D-3DB2AE0A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D72-8469-4409-BEA6-72FECA3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EB7-CA54-46BB-BAD8-0C0BE951E13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4F91-D38E-4D29-93BA-97E6874AF66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836640"/>
            <a:ext cx="71276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Sistemas locales de innovación y sistemas productivos locales. ¿Cómo son, cómo estudiarlos y cómo actuar sobre ellos?</a:t>
            </a:r>
            <a:br>
              <a:rPr sz="44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240" y="3962160"/>
            <a:ext cx="7232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Gabriel Yoguel, José Borello y Analía Erb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6000840"/>
            <a:ext cx="2158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Algunas hipóte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grado de desarrollo del sistema local (la fortaleza de sus instituciones, las vinculaciones entre los agentes, la existencia de múltiples traductores y traducciones) constituye un elemento clave en la competitividad de las empresas y de la sociedad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istencia de sistemas locales no anula las diferencias microeconómicas evolutivas de las fi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 requieren umbrales mínimos de competencias para que el sistema local contribuy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mplementar las conocimientos fal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minuir las incertidumbres diná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spcAft>
                <a:spcPts val="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otenciar los procesos de aprendizaje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Algunas hipótesis 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uando el sistema local genera externalidades positiv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i) el tamaño de los agentes no constituye una variable signific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ii) es menor el umbral mínimo de competencias necesarias para apropiarse del conocimiento que se ge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desarrollo institucional es un determinante importante del nivel de capacidad innovativa alcanzado por los ag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Algunas hipótesis (3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os procesos de aprendizajes son factores claves para interpretar la creciente incertidumbre y la complejidad 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os empresarios tienen la función de percibir e imaginar el cambio con anticipación a los de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los sistemas territoriales virtuosos en términos de la existencia de multiplicidad de agentes e interacciones, el componente invisible de la economía se hace visible y se convierte en un factor clave en la nueva competencia glob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330033"/>
                </a:solidFill>
                <a:latin typeface="Times New Roman"/>
              </a:rPr>
              <a:t>¿Cómo estudiarlos y qué estudiar de ellos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(i) Características de un sistem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aracterísticas físicas y organizativas de un sistema loc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tructura económica y del emple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stricciones al desarrollo del sistema loc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stituciones e interrelacione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cripción de las instituciones locales relacionadas con la actividad produc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lejidad del sistema lo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i) Hipótesis y afirmaciones sobre el sistem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330033"/>
                </a:solidFill>
                <a:latin typeface="Times New Roman"/>
              </a:rPr>
              <a:t>¿Qué hacer con los sistemas locales de producción y de innovació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diciones previas al desarrollo de la polí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2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nanci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2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nsibilización sobre la necesidad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ogramas e instru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2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acios de manifestación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ación de las coaliciones regresivas que bloquean el desarrollo de la política y el cambio estructural e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cia de agentes acti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ácter experimental de las políticas (sujetas a evaluación y cambios periód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jes problemáticos centrales (I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Relativos a las competencias endógenas de los agente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ificultades de los agentes para identificar y aprovechar los instrumentos de polític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imitadas competencias endógen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ificultad para generar rutinas individuales y colectivas que tiendan a la innov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Relativos a las interacciones entre empresas y entre empresas e institucion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bilidad en la interacción entre agentes y actores, en los mecanismos de traducción y en los esquemas de circulación de conocimien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asa relevancia de las actividades de extensión y participación de los actores públicos y privados en la construcción del espacio públic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xcesivo esquema top-down en el desarrollo de polític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jes problemáticos centrales (II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Relativos al funcionamiento integrado de los sistemas locales y region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spcAft>
                <a:spcPts val="75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emas de especialización 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spcAft>
                <a:spcPts val="75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terogeneidad de sistemas provinciales y locales de inno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spcAft>
                <a:spcPts val="75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ado de apertura de los sistemas locales a los inputs que puedan provenir de sistemas o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spcAft>
                <a:spcPts val="75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juste entre los límites administrativos y los ámbitos de despliegue real de los agentes: conflictividad y predominio de coaliciones regres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0033"/>
                </a:solidFill>
                <a:latin typeface="Times New Roman"/>
              </a:rPr>
              <a:t>Políticas asociadas al desarrollo de competencias endógenas en los agentes</a:t>
            </a:r>
            <a:endParaRPr b="0" lang="en-US" sz="3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bilización sobre la importancia del desarrollo de competencias endógenas en los agentes e instit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dades de información y autodiagnóstico que den cuenta de los problemas existentes en el sistema lo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er al alcance de los agentes y actores locales los instrumentos de política exist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instancias de traducción en términos de las necesidades loc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mentar la construcción de redes a partir de la promoción de relaciones privado-privado y público-priv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espacios y herramientas para la evaluación de las políticas exist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mentar la presencia de profesionales y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r áreas de vacancia en términos de traducciones y re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560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Políticas asociadas al desarrollo de interacciones entre empresas e institucion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zar sobre la importancia de las interacciones para la construcción de bienes públicos y bienes club en las cadenas loc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r traductores locales y organizadores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r formas alternativas de financiamiento de instituciones no gubernamentales: cám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ar planes estratégicos que operen sobre las tramas más que sobre los agent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ar los principales problemas institucional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r autodiagnósticos institu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11280" y="2779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33"/>
                </a:solidFill>
                <a:latin typeface="Times New Roman"/>
              </a:rPr>
              <a:t>Políticas asociadas al funcionamiento integrado de los sistemas locales y regionales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0755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zar sobre la importancia del territorio y del conocimiento en la agenda de debate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r las inversiones físicas neces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la integración versátil del sistema local al siste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mentar la producción de conocimientos y estadísticas sobre sistemas locales y regionales de innov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structura de la charl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925"/>
              </a:spcBef>
              <a:spcAft>
                <a:spcPts val="10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o Analí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925"/>
              </a:spcBef>
              <a:spcAft>
                <a:spcPts val="10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on los sistemas locales de producción y de innovación en la Argenti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925"/>
              </a:spcBef>
              <a:spcAft>
                <a:spcPts val="10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udiar estos sistemas? ¿Cuáles son los aspectos cla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925"/>
              </a:spcBef>
              <a:spcAft>
                <a:spcPts val="10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acciones se pueden emprender para mejorar el funcionamiento de esos sist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925"/>
              </a:spcBef>
              <a:spcAft>
                <a:spcPts val="10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misas y recomendaciones de p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925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330033"/>
                </a:solidFill>
                <a:latin typeface="Times New Roman"/>
              </a:rPr>
              <a:t>Marco analític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(i) Los agentes operan en un marco de creciente compet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(ii) La naturaleza de esa competencia ha cambiado y, crecientemente, operar en ese nuevo marco requiere de capacidades cognitivas superi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(iii) Esas capacidades no devienen solamente de factores estáticos dado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330033"/>
                </a:solidFill>
                <a:latin typeface="Times New Roman"/>
              </a:rPr>
              <a:t>Marco analítico 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(iv) El ambiente institucional en el que operan las firmas es de creciente importanc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(v) Gran parte de ese ambiente es construido y recreado en escalas geográficas locales y reg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¿Cómo son los sistemas locales de producción y de innovación en la Argentina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n sistema local de innovación es un espacio de interacción definido por las relaciones entre empresas (tanto de carácter competitivo como cooperativo) y entre empresas e instituciones, en el contexto de una ubicación geográfica comú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os sistemas son heterogéneos y van desde aquellos muy simples a otros muy complej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¿Cómo son los sistemas locales de producción y de innovación en la Argentina? (2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os sistemas locales de innovación están constituidos, en parte, por sistemas productiv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demás de sistemas productivos, los sistemas locales de innovación incluyen a instituciones educativas y de formación de diversos niveles, a instituciones que agrupan a trabajadores, técnicos, profesionales y empresas y a entidades de investigación y desarrollo científico y tecnológico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¿Cómo son los sistemas locales de producción y de innovación en la Argentina? (3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Un sistema productivo local puede ser delimitado empíricamente a partir de los movimientos diarios que realizan las personas en la interacción frecuente que abarca los lugares de trabajo y los domicilios de los trabaj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Hemos propuesto una unidad, denominada Áreas Económicas Locales (AELs) para delimitar los sistemas productivos locales a partir de esos movimientos diar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¿Cómo son los sistemas locales de producción y de innovación en la Argentina? (4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n sistemas muy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heterogéneo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 en función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i) tamaño;  (ii) características;  (iii) presencia de actores; (iv) existencia de traductor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v) desarrollo del espacio público; (vi) la construcción institucional; (vii) grado de desarrollo de las competencias endógen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viii) importancia de la circulación de conocimiento; (xix) reflexividad; (xi) natalidad y mortalidad de firmas y (xii) circulación de trabaj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¿Cómo son los sistemas locales de producción y de innovación en la Argentina? (5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n sistemas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oco complejo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ocos age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ocas relaciones entre s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 pocas competenci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ocos espacios públic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oca reflexivida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 veces faltan condiciones mínimas de base para desarrollar políticas de innov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0:38:24Z</dcterms:created>
  <dc:creator>Usuario</dc:creator>
  <dc:description/>
  <dc:language>en-US</dc:language>
  <cp:lastModifiedBy>C.P.C.E.C.A.B.A.</cp:lastModifiedBy>
  <dcterms:modified xsi:type="dcterms:W3CDTF">2006-11-06T21:59:00Z</dcterms:modified>
  <cp:revision>41</cp:revision>
  <dc:subject/>
  <dc:title>Estructura Económica Argentina</dc:title>
</cp:coreProperties>
</file>