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DB3-9864-45C8-B911-FBE5EFF8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103-869C-4D6C-8D67-060A0B7A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A6BC-294C-41E1-8385-DBBE1E42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45D-7FF6-496A-9130-0083A265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385-9C8E-4123-8E92-B8CEACCD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E03-07B4-4F6F-BB22-C46E9B10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CFF-7C88-4DE6-A15A-9E76E825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655-B087-40B0-9EDF-FE3477E4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6AC-90EC-4AA9-9AD3-3E013ECC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B4C-9086-47A4-B2C3-E1A4540E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ABD-0B0E-4763-90E4-2519B6C3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70E-7F69-4399-AE02-CEC34731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638C-9AD2-4CA9-9126-9CFCB1C57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3366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9280" y="5157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Autor: Pablo D. Wag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Fecha: 2 de noviembre de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07920"/>
            <a:ext cx="9144000" cy="792360"/>
          </a:xfrm>
          <a:prstGeom prst="rect">
            <a:avLst/>
          </a:prstGeom>
          <a:solidFill>
            <a:srgbClr val="3366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Actividades de soporte a la Estrate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3240" y="2637000"/>
            <a:ext cx="9144000" cy="1800000"/>
          </a:xfrm>
          <a:prstGeom prst="rect">
            <a:avLst/>
          </a:prstGeom>
          <a:solidFill>
            <a:srgbClr val="3366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IX Congreso de la Pequeña y median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"PyMEs 2006: Alternativas para crecer y consolidar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"Reafirmación de su papel protagónico en la reconstr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el entramado económico y social del paí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flipH="1">
            <a:off x="3059280" y="3727440"/>
            <a:ext cx="1008000" cy="72072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6920" y="2421000"/>
            <a:ext cx="865440" cy="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2836800"/>
            <a:ext cx="0" cy="30492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Tablero de comando integr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6160" y="1916280"/>
            <a:ext cx="1185840" cy="48243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7480" y="2017800"/>
            <a:ext cx="2016360" cy="82224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  <a:ea typeface="Arial"/>
              </a:rPr>
              <a:t>Incrementar ingresos por produ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360" y="2995560"/>
            <a:ext cx="889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360" y="5587920"/>
            <a:ext cx="889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8000" y="601992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endizaje y Cr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8000" y="4651200"/>
            <a:ext cx="116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esos Inter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7960" y="335592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entes /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1080" y="2217600"/>
            <a:ext cx="108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1987560"/>
            <a:ext cx="2016000" cy="82224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  <a:ea typeface="Arial"/>
              </a:rPr>
              <a:t>Incrementar ingresos por servicios conex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24360" y="3195720"/>
            <a:ext cx="2016000" cy="8078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arrollar otros mercados para ofrecer el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360" y="4292640"/>
            <a:ext cx="889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360" y="1916280"/>
            <a:ext cx="8893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98880" y="4003560"/>
            <a:ext cx="1800" cy="43344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8000" y="16286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spec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4476600"/>
            <a:ext cx="2016000" cy="82260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  <a:ea typeface="Arial"/>
              </a:rPr>
              <a:t>Generar el desarrollar de procesos de servicios conex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51640" y="2781360"/>
            <a:ext cx="0" cy="36036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2360" y="3213000"/>
            <a:ext cx="2016000" cy="808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rar el desarrollo comercial de servicios conex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51640" y="4076640"/>
            <a:ext cx="1800" cy="43200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24360" y="4476600"/>
            <a:ext cx="2016000" cy="82260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  <a:ea typeface="Arial"/>
              </a:rPr>
              <a:t>Investigar necesidades de consumidores de mercados me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5805360"/>
            <a:ext cx="2016000" cy="8226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  <a:ea typeface="Arial"/>
              </a:rPr>
              <a:t>Capacitación en Innovación y desarrollo de serv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5362560"/>
            <a:ext cx="0" cy="43164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309840" y="2635200"/>
            <a:ext cx="719280" cy="50472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24040" y="4476600"/>
            <a:ext cx="2016000" cy="82260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  <a:ea typeface="Arial"/>
              </a:rPr>
              <a:t>Mejorar calidad del producto y atención al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24040" y="3179880"/>
            <a:ext cx="2016000" cy="8078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jorar posicionamiento con clientes actu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24040" y="5773680"/>
            <a:ext cx="2016000" cy="822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Arial"/>
                <a:ea typeface="Arial"/>
              </a:rPr>
              <a:t>Generar cultura de atención al cliente y desarro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32040" y="4003560"/>
            <a:ext cx="0" cy="50508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32040" y="5343480"/>
            <a:ext cx="0" cy="4320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363640" y="3716280"/>
            <a:ext cx="1008360" cy="720720"/>
          </a:xfrm>
          <a:prstGeom prst="line">
            <a:avLst/>
          </a:prstGeom>
          <a:ln w="1260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Tablero de comando integr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2060640"/>
            <a:ext cx="8136000" cy="432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Benefici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Relacionar la estrategia con su ejecución, definiendo objetivos en el corto, medio y largo plaz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Tener una herramienta de control que permita la toma de decisiones de manera ági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Comunicar la estrategia a todos los niveles de la organización consiguiendo así alinear a las personas con la Estrateg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Tener una clara visión de las relaciones causa-efecto de la Estrateg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Redes de contacto y relación con la comunid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131920"/>
            <a:ext cx="2232000" cy="144144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Redes de cont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4869000"/>
            <a:ext cx="2232000" cy="144144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Relación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la 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1557360"/>
            <a:ext cx="5616360" cy="28796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20000"/>
              </a:lnSpc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Wingdings" charset="2"/>
              <a:buChar char="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ventos del sector industrial y de servic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Wingdings" charset="2"/>
              <a:buChar char="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elaciones con universida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Wingdings" charset="2"/>
              <a:buChar char="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tros eventos relacionados con cámaras de comercio, embajadas, ferias, convenciones, congreso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Wingdings" charset="2"/>
              <a:buChar char="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elaciones con otras entidades o personas que puedan aportar sinergia a la organización para obtener mejores negoc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Wingdings" charset="2"/>
              <a:buChar char="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Toda otra relación que sea útil para obtener información, emprender acciones conjuntas con otras entidades, capitalizar el efecto complementario entre dos organizaciones, mejorar la eficiencia en conjunto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59080" y="4797360"/>
            <a:ext cx="5616720" cy="1656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20000"/>
              </a:lnSpc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Wingdings" charset="2"/>
              <a:buChar char="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articipación de trabajadores en actividades solidar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Wingdings" charset="2"/>
              <a:buChar char="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laboración con escuelas, comedores y otros lugares que necesitan ayu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Wingdings" charset="2"/>
              <a:buChar char="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laboración ONG´s que se dedican a ayuda solida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20000"/>
              </a:lnSpc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Wingdings" charset="2"/>
              <a:buChar char="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ctividades solidarias junto con clientes, proveedor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Redes de contacto y relación con la comunid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060640"/>
            <a:ext cx="8136000" cy="415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Benefici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Llegada a jugadores clave del sector industrial o de servici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Llegada a miembros de otras organizaciones y efectuar sinergia con la empresa (universidades, ONG´s, Cámaras de comercio, otras empresas, etc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Llegada a miembros de la comunida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Imagen de responsabilidad sobre la marc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Efecto positivo sobre el perso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1630440"/>
            <a:ext cx="7274160" cy="503280"/>
          </a:xfrm>
          <a:custGeom>
            <a:avLst/>
            <a:gdLst>
              <a:gd name="textAreaLeft" fmla="*/ 0 w 7274160"/>
              <a:gd name="textAreaRight" fmla="*/ 7274520 w 72741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8" y="0"/>
                </a:lnTo>
                <a:lnTo>
                  <a:pt x="21600" y="10800"/>
                </a:lnTo>
                <a:lnTo>
                  <a:pt x="2039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1. Conocer el mercado y sus particip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2351160"/>
            <a:ext cx="7274160" cy="503280"/>
          </a:xfrm>
          <a:custGeom>
            <a:avLst/>
            <a:gdLst>
              <a:gd name="textAreaLeft" fmla="*/ 0 w 7274160"/>
              <a:gd name="textAreaRight" fmla="*/ 7274520 w 72741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8" y="0"/>
                </a:lnTo>
                <a:lnTo>
                  <a:pt x="21600" y="10800"/>
                </a:lnTo>
                <a:lnTo>
                  <a:pt x="2039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2. Conocer las fortalezas y debilidades prop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070080"/>
            <a:ext cx="7274160" cy="503280"/>
          </a:xfrm>
          <a:custGeom>
            <a:avLst/>
            <a:gdLst>
              <a:gd name="textAreaLeft" fmla="*/ 0 w 7274160"/>
              <a:gd name="textAreaRight" fmla="*/ 7274520 w 72741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8" y="0"/>
                </a:lnTo>
                <a:lnTo>
                  <a:pt x="21600" y="10800"/>
                </a:lnTo>
                <a:lnTo>
                  <a:pt x="2039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3. Definir los objetivos a alcanz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3790800"/>
            <a:ext cx="7274160" cy="503280"/>
          </a:xfrm>
          <a:custGeom>
            <a:avLst/>
            <a:gdLst>
              <a:gd name="textAreaLeft" fmla="*/ 0 w 7274160"/>
              <a:gd name="textAreaRight" fmla="*/ 7274520 w 72741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8" y="0"/>
                </a:lnTo>
                <a:lnTo>
                  <a:pt x="21600" y="10800"/>
                </a:lnTo>
                <a:lnTo>
                  <a:pt x="2039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4. Definir la estrategia para alcanzar est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510080"/>
            <a:ext cx="7274160" cy="503280"/>
          </a:xfrm>
          <a:custGeom>
            <a:avLst/>
            <a:gdLst>
              <a:gd name="textAreaLeft" fmla="*/ 0 w 7274160"/>
              <a:gd name="textAreaRight" fmla="*/ 7274520 w 72741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8" y="0"/>
                </a:lnTo>
                <a:lnTo>
                  <a:pt x="21600" y="10800"/>
                </a:lnTo>
                <a:lnTo>
                  <a:pt x="2039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5. Generar herramientas para medir el cumpl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e los objetivos bus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5229360"/>
            <a:ext cx="7274160" cy="503280"/>
          </a:xfrm>
          <a:custGeom>
            <a:avLst/>
            <a:gdLst>
              <a:gd name="textAreaLeft" fmla="*/ 0 w 7274160"/>
              <a:gd name="textAreaRight" fmla="*/ 7274520 w 72741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8" y="0"/>
                </a:lnTo>
                <a:lnTo>
                  <a:pt x="21600" y="10800"/>
                </a:lnTo>
                <a:lnTo>
                  <a:pt x="2039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6. Destinar tiempo para el análisis y toma de decisión estratég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5950080"/>
            <a:ext cx="7274160" cy="503280"/>
          </a:xfrm>
          <a:custGeom>
            <a:avLst/>
            <a:gdLst>
              <a:gd name="textAreaLeft" fmla="*/ 0 w 7274160"/>
              <a:gd name="textAreaRight" fmla="*/ 7274520 w 72741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8" y="0"/>
                </a:lnTo>
                <a:lnTo>
                  <a:pt x="21600" y="10800"/>
                </a:lnTo>
                <a:lnTo>
                  <a:pt x="2039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7. Buscar una retroalimentación y tomar decisiones proacti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2133720"/>
            <a:ext cx="9144000" cy="1871640"/>
          </a:xfrm>
          <a:prstGeom prst="rect">
            <a:avLst/>
          </a:prstGeom>
          <a:solidFill>
            <a:srgbClr val="3366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Consultas: pwagner@cponline.org.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Objetivo de la presenta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El objetivo es presentar la influencia que tienen las actividades de soporte en el negocio principal del ent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Si bien no son las actividades centrales ni las que generan efectivo, sí poseen una influencia significativa en el desempeño eficiente de la organización, en el posicionamiento en el mercado y en la rentabilidad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Las organizaciones que no implementan estas actividades de soporte, o que no lo hacen adecuadamente, poseen dificultades estructurales para crecer y alcanzar sus objetivo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59240" y="476280"/>
            <a:ext cx="2232000" cy="1914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tividad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ncip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971640" y="2463480"/>
            <a:ext cx="7199280" cy="3975120"/>
          </a:xfrm>
          <a:custGeom>
            <a:avLst/>
            <a:gdLst>
              <a:gd name="textAreaLeft" fmla="*/ 1958040 w 7199280"/>
              <a:gd name="textAreaRight" fmla="*/ 5241240 w 7199280"/>
              <a:gd name="textAreaTop" fmla="*/ 1081080 h 3975120"/>
              <a:gd name="textAreaBottom" fmla="*/ 2894040 h 397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76" y="21600"/>
                </a:lnTo>
                <a:lnTo>
                  <a:pt x="7424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47760" y="2565360"/>
            <a:ext cx="4513320" cy="3819600"/>
            <a:chOff x="2147760" y="2565360"/>
            <a:chExt cx="4513320" cy="3819600"/>
          </a:xfrm>
        </p:grpSpPr>
        <p:cxnSp>
          <p:nvCxnSpPr>
            <p:cNvPr id="50" name="_s7196"/>
            <p:cNvCxnSpPr>
              <a:stCxn id="51" idx="1"/>
              <a:endCxn id="52" idx="2"/>
            </p:cNvCxnSpPr>
            <p:nvPr/>
          </p:nvCxnSpPr>
          <p:spPr>
            <a:xfrm rot="10800000">
              <a:off x="5185800" y="3715560"/>
              <a:ext cx="143280" cy="2414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7194"/>
            <p:cNvCxnSpPr>
              <a:stCxn id="54" idx="1"/>
              <a:endCxn id="55" idx="2"/>
            </p:cNvCxnSpPr>
            <p:nvPr/>
          </p:nvCxnSpPr>
          <p:spPr>
            <a:xfrm rot="10800000">
              <a:off x="3598200" y="3717360"/>
              <a:ext cx="110160" cy="219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7174"/>
            <p:cNvCxnSpPr>
              <a:stCxn id="57" idx="1"/>
              <a:endCxn id="52" idx="2"/>
            </p:cNvCxnSpPr>
            <p:nvPr/>
          </p:nvCxnSpPr>
          <p:spPr>
            <a:xfrm rot="10800000">
              <a:off x="5185800" y="3715560"/>
              <a:ext cx="143280" cy="180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7175"/>
            <p:cNvCxnSpPr>
              <a:stCxn id="59" idx="1"/>
              <a:endCxn id="52" idx="2"/>
            </p:cNvCxnSpPr>
            <p:nvPr/>
          </p:nvCxnSpPr>
          <p:spPr>
            <a:xfrm rot="10800000">
              <a:off x="5185800" y="3715560"/>
              <a:ext cx="143280" cy="118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7176"/>
            <p:cNvCxnSpPr>
              <a:stCxn id="61" idx="1"/>
              <a:endCxn id="52" idx="2"/>
            </p:cNvCxnSpPr>
            <p:nvPr/>
          </p:nvCxnSpPr>
          <p:spPr>
            <a:xfrm rot="10800000">
              <a:off x="5185800" y="3715560"/>
              <a:ext cx="143280" cy="57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7177"/>
            <p:cNvCxnSpPr>
              <a:stCxn id="63" idx="1"/>
              <a:endCxn id="55" idx="2"/>
            </p:cNvCxnSpPr>
            <p:nvPr/>
          </p:nvCxnSpPr>
          <p:spPr>
            <a:xfrm rot="10800000">
              <a:off x="3598200" y="3717360"/>
              <a:ext cx="110160" cy="861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7178"/>
            <p:cNvCxnSpPr>
              <a:stCxn id="65" idx="1"/>
              <a:endCxn id="55" idx="2"/>
            </p:cNvCxnSpPr>
            <p:nvPr/>
          </p:nvCxnSpPr>
          <p:spPr>
            <a:xfrm rot="10800000">
              <a:off x="3598200" y="3717360"/>
              <a:ext cx="110160" cy="154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7179"/>
            <p:cNvCxnSpPr>
              <a:stCxn id="67" idx="3"/>
              <a:endCxn id="55" idx="2"/>
            </p:cNvCxnSpPr>
            <p:nvPr/>
          </p:nvCxnSpPr>
          <p:spPr>
            <a:xfrm flipV="1">
              <a:off x="3477960" y="3717360"/>
              <a:ext cx="121320" cy="176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7180"/>
            <p:cNvCxnSpPr>
              <a:stCxn id="69" idx="3"/>
              <a:endCxn id="55" idx="2"/>
            </p:cNvCxnSpPr>
            <p:nvPr/>
          </p:nvCxnSpPr>
          <p:spPr>
            <a:xfrm flipV="1">
              <a:off x="3454200" y="3717720"/>
              <a:ext cx="144720" cy="1119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7181"/>
            <p:cNvCxnSpPr>
              <a:stCxn id="52" idx="0"/>
              <a:endCxn id="71" idx="2"/>
            </p:cNvCxnSpPr>
            <p:nvPr/>
          </p:nvCxnSpPr>
          <p:spPr>
            <a:xfrm flipV="1" rot="16200000">
              <a:off x="4724640" y="2843280"/>
              <a:ext cx="308520" cy="615240"/>
            </a:xfrm>
            <a:prstGeom prst="bentConnector3">
              <a:avLst>
                <a:gd name="adj1" fmla="val 370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7182"/>
            <p:cNvCxnSpPr>
              <a:stCxn id="55" idx="0"/>
              <a:endCxn id="71" idx="2"/>
            </p:cNvCxnSpPr>
            <p:nvPr/>
          </p:nvCxnSpPr>
          <p:spPr>
            <a:xfrm flipH="1" flipV="1" rot="5400000">
              <a:off x="3930480" y="2664720"/>
              <a:ext cx="309960" cy="973800"/>
            </a:xfrm>
            <a:prstGeom prst="bentConnector3">
              <a:avLst>
                <a:gd name="adj1" fmla="val 368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7183"/>
            <p:cNvSpPr/>
            <p:nvPr/>
          </p:nvSpPr>
          <p:spPr>
            <a:xfrm>
              <a:off x="3780000" y="2565360"/>
              <a:ext cx="158400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ctividade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de soporte 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7184"/>
            <p:cNvSpPr/>
            <p:nvPr/>
          </p:nvSpPr>
          <p:spPr>
            <a:xfrm>
              <a:off x="3059280" y="3306600"/>
              <a:ext cx="1079280" cy="411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Estrateg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7185"/>
            <p:cNvSpPr/>
            <p:nvPr/>
          </p:nvSpPr>
          <p:spPr>
            <a:xfrm>
              <a:off x="4646520" y="3305160"/>
              <a:ext cx="1077840" cy="41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Gest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7186"/>
            <p:cNvSpPr/>
            <p:nvPr/>
          </p:nvSpPr>
          <p:spPr>
            <a:xfrm>
              <a:off x="2147760" y="4581360"/>
              <a:ext cx="1330560" cy="50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nálisis del mercad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y desarrol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 negoc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7187"/>
            <p:cNvSpPr/>
            <p:nvPr/>
          </p:nvSpPr>
          <p:spPr>
            <a:xfrm>
              <a:off x="2147760" y="5227560"/>
              <a:ext cx="1330560" cy="50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Benchmark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7188"/>
            <p:cNvSpPr/>
            <p:nvPr/>
          </p:nvSpPr>
          <p:spPr>
            <a:xfrm>
              <a:off x="3708360" y="5008680"/>
              <a:ext cx="1330200" cy="50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ablero de comand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tegr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7189"/>
            <p:cNvSpPr/>
            <p:nvPr/>
          </p:nvSpPr>
          <p:spPr>
            <a:xfrm>
              <a:off x="3708360" y="4324320"/>
              <a:ext cx="1327320" cy="50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nálisis d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adena de val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xtendi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7190"/>
            <p:cNvSpPr/>
            <p:nvPr/>
          </p:nvSpPr>
          <p:spPr>
            <a:xfrm>
              <a:off x="5329080" y="4040280"/>
              <a:ext cx="1330560" cy="50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laneamiento 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ntrol de gest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7191"/>
            <p:cNvSpPr/>
            <p:nvPr/>
          </p:nvSpPr>
          <p:spPr>
            <a:xfrm>
              <a:off x="5329080" y="4651200"/>
              <a:ext cx="1327320" cy="50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sarrollo d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ocesos intern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7192"/>
            <p:cNvSpPr/>
            <p:nvPr/>
          </p:nvSpPr>
          <p:spPr>
            <a:xfrm>
              <a:off x="5329080" y="5264280"/>
              <a:ext cx="1324080" cy="50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estión del tal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7193"/>
            <p:cNvSpPr/>
            <p:nvPr/>
          </p:nvSpPr>
          <p:spPr>
            <a:xfrm>
              <a:off x="3708360" y="5657760"/>
              <a:ext cx="1332000" cy="50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es de contac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y rel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n la comun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7195"/>
            <p:cNvSpPr/>
            <p:nvPr/>
          </p:nvSpPr>
          <p:spPr>
            <a:xfrm>
              <a:off x="5329080" y="5877000"/>
              <a:ext cx="1332000" cy="507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tención al cliente /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lam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236000" y="234936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219640" y="2298600"/>
            <a:ext cx="158436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2349360"/>
            <a:ext cx="0" cy="237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8200" y="3357720"/>
            <a:ext cx="468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Análisis del mercado y desarrollo de negoci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84720" y="3068640"/>
            <a:ext cx="2159280" cy="647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3068640"/>
            <a:ext cx="2158920" cy="647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46560" y="3068640"/>
            <a:ext cx="2158920" cy="647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mpeti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ac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6560" y="2060640"/>
            <a:ext cx="2158920" cy="647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mpeti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oten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6560" y="4076640"/>
            <a:ext cx="2158920" cy="647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Sustit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4720" y="2060640"/>
            <a:ext cx="2159280" cy="647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mplemen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34760" y="4868280"/>
            <a:ext cx="60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ntorno tecnológico, político, económico, jurídico y soc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8200" y="1628640"/>
            <a:ext cx="7921440" cy="36720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rot="10800000">
            <a:off x="825840" y="5445000"/>
            <a:ext cx="576360" cy="64800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5589720"/>
            <a:ext cx="2158920" cy="647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Información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5661000"/>
            <a:ext cx="1079280" cy="432000"/>
          </a:xfrm>
          <a:prstGeom prst="rightArrow">
            <a:avLst>
              <a:gd name="adj1" fmla="val 50000"/>
              <a:gd name="adj2" fmla="val 62458"/>
            </a:avLst>
          </a:pr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5589720"/>
            <a:ext cx="2158920" cy="647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esarroll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Análisis del mercado y desarrollo de negoci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060640"/>
            <a:ext cx="81360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Benefici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Actualizar el conocimiento acerca del mercado donde opera la empres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Generar información para retroalimentar a la definición de mercado y la Estrategia del negoc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Identificar oportunidades de negoci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Benchmar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141720"/>
            <a:ext cx="180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3933720"/>
            <a:ext cx="180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4724280"/>
            <a:ext cx="180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tras indust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05200" y="3500280"/>
            <a:ext cx="180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nsumi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8720" y="4365720"/>
            <a:ext cx="1800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nsumi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nter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781360"/>
            <a:ext cx="2016360" cy="28796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932280"/>
            <a:ext cx="432000" cy="433440"/>
          </a:xfrm>
          <a:prstGeom prst="plus">
            <a:avLst>
              <a:gd name="adj" fmla="val 439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2781360"/>
            <a:ext cx="2016360" cy="28796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2133720"/>
            <a:ext cx="2016360" cy="5032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Bench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2133720"/>
            <a:ext cx="2016360" cy="5032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refer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el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933800" y="4005360"/>
            <a:ext cx="358920" cy="288360"/>
            <a:chOff x="4933800" y="4005360"/>
            <a:chExt cx="358920" cy="288360"/>
          </a:xfrm>
        </p:grpSpPr>
        <p:sp>
          <p:nvSpPr>
            <p:cNvPr id="104" name=""/>
            <p:cNvSpPr/>
            <p:nvPr/>
          </p:nvSpPr>
          <p:spPr>
            <a:xfrm>
              <a:off x="4933800" y="4005360"/>
              <a:ext cx="358920" cy="7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33800" y="4221000"/>
              <a:ext cx="358920" cy="7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435640" y="2133720"/>
            <a:ext cx="2016000" cy="5032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osiciona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2781360"/>
            <a:ext cx="2016000" cy="28796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30680" y="3500280"/>
            <a:ext cx="1800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unt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30680" y="4363920"/>
            <a:ext cx="1800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Punt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indi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96360" y="3573360"/>
            <a:ext cx="1368360" cy="12970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A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rr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400536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Benchmar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2060640"/>
            <a:ext cx="8136000" cy="345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Benefici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Identificar puntos de diferenciación con respecto de la competenc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Detectar aspectos en los que la competencia se diferenc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Identificar puntos mínimos para competir en el mercad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Encontrar mejores prácticas en relación a las actua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Input para la implementación de las acciones correctiv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Análisis de la cadena de valor extendi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2760840"/>
            <a:ext cx="1439640" cy="93636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07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Almacen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2760840"/>
            <a:ext cx="1440000" cy="93636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Envas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61080" y="2760840"/>
            <a:ext cx="1439640" cy="93636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Se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760840"/>
            <a:ext cx="1439640" cy="93636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 algn="ctr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Molde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2760840"/>
            <a:ext cx="1440000" cy="93636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Derret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2760840"/>
            <a:ext cx="1440000" cy="93636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Solidifi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60840"/>
            <a:ext cx="1440000" cy="93636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Obten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materia pr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líqu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546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2546280"/>
            <a:ext cx="3166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38920" y="2546280"/>
            <a:ext cx="25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2880" y="2133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05240" y="213516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istribuidor (cl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60200" y="21351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4720" y="3933720"/>
            <a:ext cx="3311640" cy="64764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12" y="0"/>
                </a:lnTo>
                <a:lnTo>
                  <a:pt x="21600" y="10800"/>
                </a:lnTo>
                <a:lnTo>
                  <a:pt x="19612" y="21600"/>
                </a:lnTo>
                <a:lnTo>
                  <a:pt x="0" y="21600"/>
                </a:lnTo>
                <a:lnTo>
                  <a:pt x="1988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adena de va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intra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726080"/>
            <a:ext cx="7704360" cy="647640"/>
          </a:xfrm>
          <a:custGeom>
            <a:avLst/>
            <a:gdLst>
              <a:gd name="textAreaLeft" fmla="*/ 0 w 7704360"/>
              <a:gd name="textAreaRight" fmla="*/ 7704720 w 77043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06" y="0"/>
                </a:lnTo>
                <a:lnTo>
                  <a:pt x="21600" y="10800"/>
                </a:lnTo>
                <a:lnTo>
                  <a:pt x="20906" y="21600"/>
                </a:lnTo>
                <a:lnTo>
                  <a:pt x="0" y="21600"/>
                </a:lnTo>
                <a:lnTo>
                  <a:pt x="694" y="108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adena de va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xten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62864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5877000"/>
            <a:ext cx="8496000" cy="57636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Lo importante: mantener siempre una actitud proactiva y cordial con los clientes y proveedores para identificar estas oportunidades y aprovecharlas ef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17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Análisis de la cadena de valor extendi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060640"/>
            <a:ext cx="8136000" cy="345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Benefici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Fortalecer las relaciones con clientes y provee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Detectar necesidades de clientes y de provee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Generar oportunidades de valor agregado y fidelización de client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Generar acuerdos de beneficio conjunto con provee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14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ffffff"/>
                </a:solidFill>
                <a:latin typeface="Arial"/>
              </a:rPr>
              <a:t>Ahorro de costos en forma conjunt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16:23:47Z</dcterms:created>
  <dc:creator>Wagner, Pablo D</dc:creator>
  <dc:description/>
  <dc:language>en-US</dc:language>
  <cp:lastModifiedBy>C.P.C.E.C.A.B.A.</cp:lastModifiedBy>
  <dcterms:modified xsi:type="dcterms:W3CDTF">2006-11-06T22:16:42Z</dcterms:modified>
  <cp:revision>25</cp:revision>
  <dc:subject/>
  <dc:title>Slide 1</dc:title>
</cp:coreProperties>
</file>