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484-ACD2-47BE-AC37-57D88785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DDA-EBD4-41D5-8111-DACC2224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FF5-42D2-4674-B3BB-96BC157F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6E8-5925-432A-9B74-5B782A9C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31F-C882-45FE-932E-0EE0B19C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6D4A-FB87-4492-B6F0-4B4F6C49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F989-533D-40A6-8354-782C9B6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297-DC06-4355-8FF1-B819EC74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E688-A51C-4A0A-9330-912B91E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4AF4-C9CE-4F71-AE8E-AA01E272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BA03-E0B3-47F8-B36E-15D4170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4AC-1276-49ED-91D8-C0B4714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80E0-3175-4764-967F-D059DD8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07F8-EB81-4A80-B337-389E6BBB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04A0-1C16-41B8-AE5E-7F27E2B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C2A5-F5AB-4DB4-9EAC-0367F8EC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6321-B461-470F-B4C8-6681F152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C71-3A0D-436E-B649-D19F36FC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52A-436F-4075-B14E-7894E23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FFD-A30E-4E62-B0DD-1FE1D16D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6FE-7FA5-4D02-96BA-930182B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A55-8040-453F-8F5C-8352BCAA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CD1-8C58-4296-A7D5-42DEAFC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96A-212F-4835-B2CC-333330B9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3109-D91A-454B-A945-12C2EACCA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578E-E981-4807-92C1-FDE6224C0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trovato@econ.unicen.edu.ar" TargetMode="External"/><Relationship Id="rId3" Type="http://schemas.openxmlformats.org/officeDocument/2006/relationships/hyperlink" Target="mailto:trovato@econ.unicen.edu.ar" TargetMode="External"/><Relationship Id="rId4" Type="http://schemas.openxmlformats.org/officeDocument/2006/relationships/hyperlink" Target="mailto:trovato@econ.unicen.edu.ar" TargetMode="External"/><Relationship Id="rId5" Type="http://schemas.openxmlformats.org/officeDocument/2006/relationships/hyperlink" Target="mailto:trovato@econ.unicen.edu.ar" TargetMode="External"/><Relationship Id="rId6" Type="http://schemas.openxmlformats.org/officeDocument/2006/relationships/hyperlink" Target="mailto:trovato@econ.unicen.edu.ar" TargetMode="External"/><Relationship Id="rId7" Type="http://schemas.openxmlformats.org/officeDocument/2006/relationships/hyperlink" Target="mailto:trovato@econ.unicen.edu.ar" TargetMode="External"/><Relationship Id="rId8" Type="http://schemas.openxmlformats.org/officeDocument/2006/relationships/hyperlink" Target="mailto:trovato@econ.unicen.edu.ar" TargetMode="External"/><Relationship Id="rId9" Type="http://schemas.openxmlformats.org/officeDocument/2006/relationships/hyperlink" Target="mailto:trovato@econ.unicen.edu.ar" TargetMode="External"/><Relationship Id="rId10" Type="http://schemas.openxmlformats.org/officeDocument/2006/relationships/hyperlink" Target="mailto:trovato@econ.unicen.edu.ar" TargetMode="External"/><Relationship Id="rId11" Type="http://schemas.openxmlformats.org/officeDocument/2006/relationships/hyperlink" Target="mailto:lapacheco@infovia.com.ar" TargetMode="External"/><Relationship Id="rId12" Type="http://schemas.openxmlformats.org/officeDocument/2006/relationships/hyperlink" Target="mailto:lapacheco@infovia.com.ar" TargetMode="External"/><Relationship Id="rId13" Type="http://schemas.openxmlformats.org/officeDocument/2006/relationships/hyperlink" Target="mailto:lapacheco@infovia.com.ar" TargetMode="External"/><Relationship Id="rId14" Type="http://schemas.openxmlformats.org/officeDocument/2006/relationships/hyperlink" Target="mailto:lapacheco@infovia.com.ar" TargetMode="External"/><Relationship Id="rId15" Type="http://schemas.openxmlformats.org/officeDocument/2006/relationships/hyperlink" Target="mailto:lapacheco@infovia.com.ar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trovato@econ.unicen.edu.ar" TargetMode="External"/><Relationship Id="rId3" Type="http://schemas.openxmlformats.org/officeDocument/2006/relationships/hyperlink" Target="mailto:trovato@econ.unicen.edu.ar" TargetMode="External"/><Relationship Id="rId4" Type="http://schemas.openxmlformats.org/officeDocument/2006/relationships/hyperlink" Target="mailto:trovato@econ.unicen.edu.ar" TargetMode="External"/><Relationship Id="rId5" Type="http://schemas.openxmlformats.org/officeDocument/2006/relationships/hyperlink" Target="mailto:trovato@econ.unicen.edu.ar" TargetMode="External"/><Relationship Id="rId6" Type="http://schemas.openxmlformats.org/officeDocument/2006/relationships/hyperlink" Target="mailto:trovato@econ.unicen.edu.ar" TargetMode="External"/><Relationship Id="rId7" Type="http://schemas.openxmlformats.org/officeDocument/2006/relationships/hyperlink" Target="mailto:trovato@econ.unicen.edu.ar" TargetMode="External"/><Relationship Id="rId8" Type="http://schemas.openxmlformats.org/officeDocument/2006/relationships/hyperlink" Target="mailto:trovato@econ.unicen.edu.ar" TargetMode="External"/><Relationship Id="rId9" Type="http://schemas.openxmlformats.org/officeDocument/2006/relationships/hyperlink" Target="mailto:trovato@econ.unicen.edu.ar" TargetMode="External"/><Relationship Id="rId10" Type="http://schemas.openxmlformats.org/officeDocument/2006/relationships/hyperlink" Target="mailto:trovato@econ.unicen.edu.ar" TargetMode="External"/><Relationship Id="rId11" Type="http://schemas.openxmlformats.org/officeDocument/2006/relationships/hyperlink" Target="mailto:lapacheco@infovia.com.ar" TargetMode="External"/><Relationship Id="rId12" Type="http://schemas.openxmlformats.org/officeDocument/2006/relationships/hyperlink" Target="mailto:lapacheco@infovia.com.ar" TargetMode="External"/><Relationship Id="rId13" Type="http://schemas.openxmlformats.org/officeDocument/2006/relationships/hyperlink" Target="mailto:lapacheco@infovia.com.ar" TargetMode="External"/><Relationship Id="rId14" Type="http://schemas.openxmlformats.org/officeDocument/2006/relationships/hyperlink" Target="mailto:lapacheco@infovia.com.ar" TargetMode="External"/><Relationship Id="rId15" Type="http://schemas.openxmlformats.org/officeDocument/2006/relationships/hyperlink" Target="mailto:lapacheco@infovia.com.ar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724280" y="5943600"/>
            <a:ext cx="4038840" cy="550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d9d9d9"/>
                </a:solidFill>
                <a:latin typeface="Tahoma"/>
              </a:rPr>
              <a:t>CEAE (Centro de Estudios en Administración y Economia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d9d9d9"/>
                </a:solidFill>
                <a:latin typeface="Tahoma"/>
              </a:rPr>
              <a:t>Facultad de Ciencias Económicas - U.N.C.P.B.A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d9d9d9"/>
                </a:solidFill>
                <a:latin typeface="Tahoma"/>
              </a:rPr>
              <a:t>Tandil - Buenos Aires - ARGENTI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_econ70" descr=""/>
          <p:cNvPicPr/>
          <p:nvPr/>
        </p:nvPicPr>
        <p:blipFill>
          <a:blip r:embed="rId1"/>
          <a:stretch/>
        </p:blipFill>
        <p:spPr>
          <a:xfrm>
            <a:off x="5791320" y="5105520"/>
            <a:ext cx="1839960" cy="799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3429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d9d9d9"/>
                </a:solidFill>
                <a:latin typeface="Comic Sans MS"/>
              </a:rPr>
              <a:t>Lic. Gloria Trovato – Ing. Luis Pache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114800"/>
            <a:ext cx="8305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2"/>
              </a:rPr>
              <a:t>trovato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3"/>
              </a:rPr>
              <a:t>@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4"/>
              </a:rPr>
              <a:t>econ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5"/>
              </a:rPr>
              <a:t>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6"/>
              </a:rPr>
              <a:t>unicen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7"/>
              </a:rPr>
              <a:t>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8"/>
              </a:rPr>
              <a:t>edu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9"/>
              </a:rPr>
              <a:t>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0"/>
              </a:rPr>
              <a:t>ar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1"/>
              </a:rPr>
              <a:t>lapacheco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2"/>
              </a:rPr>
              <a:t>@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3"/>
              </a:rPr>
              <a:t>infovia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4"/>
              </a:rPr>
              <a:t>.com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5"/>
              </a:rPr>
              <a:t>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127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logo%20UNC" descr=""/>
            <p:cNvPicPr/>
            <p:nvPr/>
          </p:nvPicPr>
          <p:blipFill>
            <a:blip r:embed="rId16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499040" y="173340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ION EN PyMEs SEGÚN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POR PROCES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PUESTO POR LA  NORMA ISO 9001: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1720" y="76212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X CONGRESO DE LA PEQUEÑA Y MEDIANA EMPRE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1" i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yMEs: Alternativas para crecer y consolidarse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133720" y="3429000"/>
            <a:ext cx="6095880" cy="265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mbio 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mbio estruc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ponsabilidad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blecimiento de indicadores de funcionamiento y objetivos de mejo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s bajo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atisfacción de cliente interno y ex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1981080"/>
            <a:ext cx="2361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Comic Sans MS"/>
              </a:rPr>
              <a:t>Proce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1828800"/>
            <a:ext cx="228600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r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2362320"/>
            <a:ext cx="228600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agramar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05520" y="2895480"/>
            <a:ext cx="198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ocumento SG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2240" y="91440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stión por PROCESOS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una visión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657600" y="198036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57600" y="236160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9800000">
            <a:off x="1769400" y="358128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Comic Sans MS"/>
              </a:rPr>
              <a:t>REQUI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532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2606760"/>
            <a:ext cx="2286000" cy="1191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s que agreguen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3429000"/>
            <a:ext cx="2286000" cy="82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ortunidades de mej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057400" y="1600200"/>
            <a:ext cx="1904760" cy="838080"/>
            <a:chOff x="2057400" y="1600200"/>
            <a:chExt cx="1904760" cy="838080"/>
          </a:xfrm>
        </p:grpSpPr>
        <p:sp>
          <p:nvSpPr>
            <p:cNvPr id="542" name=""/>
            <p:cNvSpPr/>
            <p:nvPr/>
          </p:nvSpPr>
          <p:spPr>
            <a:xfrm>
              <a:off x="2057400" y="1600200"/>
              <a:ext cx="1904760" cy="83808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04640" y="175248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or qué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257800" y="1676520"/>
            <a:ext cx="1900800" cy="838080"/>
            <a:chOff x="5257800" y="1676520"/>
            <a:chExt cx="1900800" cy="838080"/>
          </a:xfrm>
        </p:grpSpPr>
        <p:sp>
          <p:nvSpPr>
            <p:cNvPr id="545" name=""/>
            <p:cNvSpPr/>
            <p:nvPr/>
          </p:nvSpPr>
          <p:spPr>
            <a:xfrm>
              <a:off x="5257800" y="1676520"/>
              <a:ext cx="1838520" cy="838080"/>
            </a:xfrm>
            <a:prstGeom prst="ellipse">
              <a:avLst/>
            </a:prstGeom>
            <a:solidFill>
              <a:srgbClr val="99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97040" y="182880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ara quié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638680" y="2590920"/>
            <a:ext cx="2819520" cy="1191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es superiores de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88560" y="91440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stión por PROCESOS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una visión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3962520"/>
            <a:ext cx="2438280" cy="82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aptación al cambio ex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4648320"/>
            <a:ext cx="198144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cremento ventajas compet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67080" y="4952880"/>
            <a:ext cx="2362320" cy="82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cremento de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553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4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066680" y="1676520"/>
            <a:ext cx="7239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Comic Sans MS"/>
              </a:rPr>
              <a:t>Necesidades vs Expectati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3454560"/>
            <a:ext cx="2286000" cy="1922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bje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n la percepción de la calidad por el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3880" y="3429000"/>
            <a:ext cx="2286000" cy="265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je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plici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adas con función, calidad y pre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líci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220968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6858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OCESO de SATISFACCIÓN del CLIENTE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l reto a la sup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43600" y="220968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9800000">
            <a:off x="5322960" y="4800240"/>
            <a:ext cx="35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RETROAL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568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9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225680" y="1752480"/>
            <a:ext cx="34452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es de ca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6858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OCESO de SATISFACCIÓN del CLIENTE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l reto a la sup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24600" y="2438280"/>
            <a:ext cx="12459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is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0200" y="2362320"/>
            <a:ext cx="18572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ue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90720" y="2057400"/>
            <a:ext cx="2743200" cy="180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evamiento de comentarios y sugerenc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3276720"/>
            <a:ext cx="259092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sencia de NC exter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4038480"/>
            <a:ext cx="15238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920" y="4495680"/>
            <a:ext cx="2819160" cy="137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dores de cumplimiento en plaz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9632600">
            <a:off x="6021000" y="41904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HABILIDADES TÉCNICAS Y PROFES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585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922680" y="-899280"/>
            <a:ext cx="6665400" cy="6224760"/>
            <a:chOff x="922680" y="-899280"/>
            <a:chExt cx="6665400" cy="6224760"/>
          </a:xfrm>
        </p:grpSpPr>
        <p:sp>
          <p:nvSpPr>
            <p:cNvPr id="593" name=""/>
            <p:cNvSpPr/>
            <p:nvPr/>
          </p:nvSpPr>
          <p:spPr>
            <a:xfrm flipH="1" flipV="1" rot="9337800">
              <a:off x="1598760" y="-720"/>
              <a:ext cx="5311800" cy="4427640"/>
            </a:xfrm>
            <a:prstGeom prst="rtTriangl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15200">
              <a:off x="2437920" y="3047760"/>
              <a:ext cx="685800" cy="314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8480 h 314280"/>
                <a:gd name="textAreaBottom" fmla="*/ 23580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515800">
              <a:off x="3124080" y="4343040"/>
              <a:ext cx="685800" cy="314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8480 h 314280"/>
                <a:gd name="textAreaBottom" fmla="*/ 23580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156200">
              <a:off x="1752120" y="2057040"/>
              <a:ext cx="685800" cy="314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8480 h 314280"/>
                <a:gd name="textAreaBottom" fmla="*/ 23580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853200">
              <a:off x="2990520" y="2666880"/>
              <a:ext cx="31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Comic Sans MS"/>
                </a:rPr>
                <a:t>Enfoque al 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1540000">
              <a:off x="3048120" y="3657600"/>
              <a:ext cx="685800" cy="314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8480 h 314280"/>
                <a:gd name="textAreaBottom" fmla="*/ 23580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41600">
              <a:off x="2437920" y="2514240"/>
              <a:ext cx="685800" cy="314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78480 h 314280"/>
                <a:gd name="textAreaBottom" fmla="*/ 23580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 rot="3759000">
            <a:off x="-658800" y="3062520"/>
            <a:ext cx="4648320" cy="82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ctividades que añaden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685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OCESO de CREACION de VAL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¿Qué quieren los clien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715000" y="1600200"/>
            <a:ext cx="2895480" cy="685800"/>
            <a:chOff x="5715000" y="1600200"/>
            <a:chExt cx="2895480" cy="685800"/>
          </a:xfrm>
        </p:grpSpPr>
        <p:sp>
          <p:nvSpPr>
            <p:cNvPr id="603" name=""/>
            <p:cNvSpPr/>
            <p:nvPr/>
          </p:nvSpPr>
          <p:spPr>
            <a:xfrm>
              <a:off x="5715000" y="1600200"/>
              <a:ext cx="2895480" cy="685800"/>
            </a:xfrm>
            <a:prstGeom prst="cloudCallout">
              <a:avLst>
                <a:gd name="adj1" fmla="val 4277"/>
                <a:gd name="adj2" fmla="val 134953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19920" y="1676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omic Sans MS"/>
                </a:rPr>
                <a:t>Percep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145680" y="4741920"/>
            <a:ext cx="3767040" cy="1552320"/>
            <a:chOff x="3145680" y="4741920"/>
            <a:chExt cx="3767040" cy="1552320"/>
          </a:xfrm>
        </p:grpSpPr>
        <p:sp>
          <p:nvSpPr>
            <p:cNvPr id="606" name=""/>
            <p:cNvSpPr/>
            <p:nvPr/>
          </p:nvSpPr>
          <p:spPr>
            <a:xfrm rot="5954400">
              <a:off x="4539960" y="3688920"/>
              <a:ext cx="977760" cy="3657600"/>
            </a:xfrm>
            <a:custGeom>
              <a:avLst/>
              <a:gdLst>
                <a:gd name="textAreaLeft" fmla="*/ 131040 w 977760"/>
                <a:gd name="textAreaRight" fmla="*/ 846720 w 977760"/>
                <a:gd name="textAreaTop" fmla="*/ 726480 h 3657600"/>
                <a:gd name="textAreaBottom" fmla="*/ 25653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581" stAng="-5400000" swAng="5400000"/>
                  <a:lnTo>
                    <a:pt x="21600" y="10859"/>
                  </a:lnTo>
                  <a:arcTo wR="21600" hR="8581" stAng="0" swAng="2465775"/>
                  <a:lnTo>
                    <a:pt x="8953" y="20828"/>
                  </a:lnTo>
                  <a:lnTo>
                    <a:pt x="0" y="18301"/>
                  </a:lnTo>
                  <a:lnTo>
                    <a:pt x="8953" y="14230"/>
                  </a:lnTo>
                  <a:lnTo>
                    <a:pt x="8953" y="16390"/>
                  </a:lnTo>
                  <a:arcTo wR="21600" hR="8581" stAng="2465775" swAng="-2283052"/>
                  <a:lnTo>
                    <a:pt x="21409" y="9720"/>
                  </a:lnTo>
                  <a:arcTo wR="21600" hR="8581" stAng="-182724" swAng="-5217276"/>
                  <a:close/>
                </a:path>
                <a:path fill="darkenLess" w="21600" h="21600">
                  <a:moveTo>
                    <a:pt x="0" y="0"/>
                  </a:moveTo>
                  <a:arcTo wR="21600" hR="8581" stAng="-5400000" swAng="5400000"/>
                  <a:lnTo>
                    <a:pt x="21600" y="10859"/>
                  </a:lnTo>
                  <a:arcTo wR="21600" hR="8581" stAng="0" swAng="-182724"/>
                  <a:lnTo>
                    <a:pt x="21409" y="9720"/>
                  </a:lnTo>
                  <a:arcTo wR="21600" hR="8581" stAng="-182724" swAng="-5217276"/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ffff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4343400" y="5029200"/>
              <a:ext cx="2181240" cy="838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Elemento inductor</a:t>
              </a:r>
              <a:endParaRPr b="0" lang="en-US" sz="2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095880" y="2590920"/>
            <a:ext cx="1970280" cy="2695320"/>
            <a:chOff x="6095880" y="2590920"/>
            <a:chExt cx="1970280" cy="2695320"/>
          </a:xfrm>
        </p:grpSpPr>
        <p:sp>
          <p:nvSpPr>
            <p:cNvPr id="609" name=""/>
            <p:cNvSpPr/>
            <p:nvPr/>
          </p:nvSpPr>
          <p:spPr>
            <a:xfrm>
              <a:off x="6095880" y="2590920"/>
              <a:ext cx="1970280" cy="2695320"/>
            </a:xfrm>
            <a:custGeom>
              <a:avLst/>
              <a:gdLst/>
              <a:ahLst/>
              <a:rect l="l" t="t" r="r" b="b"/>
              <a:pathLst>
                <a:path w="2480" h="3396">
                  <a:moveTo>
                    <a:pt x="2480" y="3396"/>
                  </a:moveTo>
                  <a:lnTo>
                    <a:pt x="2324" y="3396"/>
                  </a:lnTo>
                  <a:lnTo>
                    <a:pt x="2170" y="3396"/>
                  </a:lnTo>
                  <a:lnTo>
                    <a:pt x="2009" y="3396"/>
                  </a:lnTo>
                  <a:lnTo>
                    <a:pt x="1849" y="3396"/>
                  </a:lnTo>
                  <a:lnTo>
                    <a:pt x="1686" y="3396"/>
                  </a:lnTo>
                  <a:lnTo>
                    <a:pt x="1522" y="3396"/>
                  </a:lnTo>
                  <a:lnTo>
                    <a:pt x="1361" y="3396"/>
                  </a:lnTo>
                  <a:lnTo>
                    <a:pt x="1199" y="3396"/>
                  </a:lnTo>
                  <a:lnTo>
                    <a:pt x="1036" y="3396"/>
                  </a:lnTo>
                  <a:lnTo>
                    <a:pt x="876" y="3396"/>
                  </a:lnTo>
                  <a:lnTo>
                    <a:pt x="718" y="3396"/>
                  </a:lnTo>
                  <a:lnTo>
                    <a:pt x="566" y="3396"/>
                  </a:lnTo>
                  <a:lnTo>
                    <a:pt x="416" y="3396"/>
                  </a:lnTo>
                  <a:lnTo>
                    <a:pt x="271" y="3396"/>
                  </a:lnTo>
                  <a:lnTo>
                    <a:pt x="129" y="3396"/>
                  </a:lnTo>
                  <a:lnTo>
                    <a:pt x="0" y="3396"/>
                  </a:lnTo>
                  <a:lnTo>
                    <a:pt x="26" y="3375"/>
                  </a:lnTo>
                  <a:lnTo>
                    <a:pt x="66" y="3301"/>
                  </a:lnTo>
                  <a:lnTo>
                    <a:pt x="108" y="3215"/>
                  </a:lnTo>
                  <a:lnTo>
                    <a:pt x="159" y="3122"/>
                  </a:lnTo>
                  <a:lnTo>
                    <a:pt x="212" y="3016"/>
                  </a:lnTo>
                  <a:lnTo>
                    <a:pt x="271" y="2909"/>
                  </a:lnTo>
                  <a:lnTo>
                    <a:pt x="328" y="2797"/>
                  </a:lnTo>
                  <a:lnTo>
                    <a:pt x="387" y="2687"/>
                  </a:lnTo>
                  <a:lnTo>
                    <a:pt x="442" y="2579"/>
                  </a:lnTo>
                  <a:lnTo>
                    <a:pt x="496" y="2476"/>
                  </a:lnTo>
                  <a:lnTo>
                    <a:pt x="545" y="2381"/>
                  </a:lnTo>
                  <a:lnTo>
                    <a:pt x="591" y="2299"/>
                  </a:lnTo>
                  <a:lnTo>
                    <a:pt x="625" y="2229"/>
                  </a:lnTo>
                  <a:lnTo>
                    <a:pt x="655" y="2178"/>
                  </a:lnTo>
                  <a:lnTo>
                    <a:pt x="672" y="2144"/>
                  </a:lnTo>
                  <a:lnTo>
                    <a:pt x="678" y="2134"/>
                  </a:lnTo>
                  <a:lnTo>
                    <a:pt x="298" y="1868"/>
                  </a:lnTo>
                  <a:lnTo>
                    <a:pt x="397" y="699"/>
                  </a:lnTo>
                  <a:lnTo>
                    <a:pt x="998" y="338"/>
                  </a:lnTo>
                  <a:lnTo>
                    <a:pt x="1226" y="0"/>
                  </a:lnTo>
                  <a:lnTo>
                    <a:pt x="1980" y="482"/>
                  </a:lnTo>
                  <a:lnTo>
                    <a:pt x="2461" y="1060"/>
                  </a:lnTo>
                  <a:lnTo>
                    <a:pt x="2275" y="2153"/>
                  </a:lnTo>
                  <a:lnTo>
                    <a:pt x="2448" y="2358"/>
                  </a:lnTo>
                  <a:lnTo>
                    <a:pt x="2448" y="2368"/>
                  </a:lnTo>
                  <a:lnTo>
                    <a:pt x="2448" y="2398"/>
                  </a:lnTo>
                  <a:lnTo>
                    <a:pt x="2450" y="2442"/>
                  </a:lnTo>
                  <a:lnTo>
                    <a:pt x="2452" y="2505"/>
                  </a:lnTo>
                  <a:lnTo>
                    <a:pt x="2454" y="2575"/>
                  </a:lnTo>
                  <a:lnTo>
                    <a:pt x="2457" y="2657"/>
                  </a:lnTo>
                  <a:lnTo>
                    <a:pt x="2459" y="2744"/>
                  </a:lnTo>
                  <a:lnTo>
                    <a:pt x="2463" y="2837"/>
                  </a:lnTo>
                  <a:lnTo>
                    <a:pt x="2465" y="2930"/>
                  </a:lnTo>
                  <a:lnTo>
                    <a:pt x="2467" y="3022"/>
                  </a:lnTo>
                  <a:lnTo>
                    <a:pt x="2469" y="3113"/>
                  </a:lnTo>
                  <a:lnTo>
                    <a:pt x="2473" y="3198"/>
                  </a:lnTo>
                  <a:lnTo>
                    <a:pt x="2474" y="3274"/>
                  </a:lnTo>
                  <a:lnTo>
                    <a:pt x="2476" y="3341"/>
                  </a:lnTo>
                  <a:lnTo>
                    <a:pt x="2478" y="3394"/>
                  </a:lnTo>
                  <a:lnTo>
                    <a:pt x="2480" y="3396"/>
                  </a:lnTo>
                  <a:lnTo>
                    <a:pt x="2480" y="33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29440" y="2747880"/>
              <a:ext cx="1741320" cy="2538000"/>
            </a:xfrm>
            <a:custGeom>
              <a:avLst/>
              <a:gdLst/>
              <a:ahLst/>
              <a:rect l="l" t="t" r="r" b="b"/>
              <a:pathLst>
                <a:path w="2193" h="3199">
                  <a:moveTo>
                    <a:pt x="0" y="3199"/>
                  </a:moveTo>
                  <a:lnTo>
                    <a:pt x="2053" y="3199"/>
                  </a:lnTo>
                  <a:lnTo>
                    <a:pt x="2193" y="2522"/>
                  </a:lnTo>
                  <a:lnTo>
                    <a:pt x="1952" y="1718"/>
                  </a:lnTo>
                  <a:lnTo>
                    <a:pt x="2108" y="1696"/>
                  </a:lnTo>
                  <a:lnTo>
                    <a:pt x="2161" y="768"/>
                  </a:lnTo>
                  <a:lnTo>
                    <a:pt x="1452" y="255"/>
                  </a:lnTo>
                  <a:lnTo>
                    <a:pt x="1494" y="152"/>
                  </a:lnTo>
                  <a:lnTo>
                    <a:pt x="992" y="0"/>
                  </a:lnTo>
                  <a:lnTo>
                    <a:pt x="863" y="350"/>
                  </a:lnTo>
                  <a:lnTo>
                    <a:pt x="283" y="702"/>
                  </a:lnTo>
                  <a:lnTo>
                    <a:pt x="217" y="1346"/>
                  </a:lnTo>
                  <a:lnTo>
                    <a:pt x="329" y="1751"/>
                  </a:lnTo>
                  <a:lnTo>
                    <a:pt x="699" y="1642"/>
                  </a:lnTo>
                  <a:lnTo>
                    <a:pt x="329" y="2625"/>
                  </a:lnTo>
                  <a:lnTo>
                    <a:pt x="131" y="2756"/>
                  </a:lnTo>
                  <a:lnTo>
                    <a:pt x="0" y="3199"/>
                  </a:lnTo>
                  <a:lnTo>
                    <a:pt x="0" y="319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78760" y="3722400"/>
              <a:ext cx="517320" cy="1563480"/>
            </a:xfrm>
            <a:custGeom>
              <a:avLst/>
              <a:gdLst/>
              <a:ahLst/>
              <a:rect l="l" t="t" r="r" b="b"/>
              <a:pathLst>
                <a:path w="652" h="1969">
                  <a:moveTo>
                    <a:pt x="105" y="544"/>
                  </a:moveTo>
                  <a:lnTo>
                    <a:pt x="97" y="0"/>
                  </a:lnTo>
                  <a:lnTo>
                    <a:pt x="652" y="1099"/>
                  </a:lnTo>
                  <a:lnTo>
                    <a:pt x="647" y="1106"/>
                  </a:lnTo>
                  <a:lnTo>
                    <a:pt x="633" y="1131"/>
                  </a:lnTo>
                  <a:lnTo>
                    <a:pt x="613" y="1169"/>
                  </a:lnTo>
                  <a:lnTo>
                    <a:pt x="588" y="1222"/>
                  </a:lnTo>
                  <a:lnTo>
                    <a:pt x="556" y="1281"/>
                  </a:lnTo>
                  <a:lnTo>
                    <a:pt x="519" y="1349"/>
                  </a:lnTo>
                  <a:lnTo>
                    <a:pt x="479" y="1422"/>
                  </a:lnTo>
                  <a:lnTo>
                    <a:pt x="441" y="1501"/>
                  </a:lnTo>
                  <a:lnTo>
                    <a:pt x="398" y="1579"/>
                  </a:lnTo>
                  <a:lnTo>
                    <a:pt x="358" y="1657"/>
                  </a:lnTo>
                  <a:lnTo>
                    <a:pt x="316" y="1733"/>
                  </a:lnTo>
                  <a:lnTo>
                    <a:pt x="282" y="1804"/>
                  </a:lnTo>
                  <a:lnTo>
                    <a:pt x="246" y="1868"/>
                  </a:lnTo>
                  <a:lnTo>
                    <a:pt x="219" y="1923"/>
                  </a:lnTo>
                  <a:lnTo>
                    <a:pt x="194" y="1967"/>
                  </a:lnTo>
                  <a:lnTo>
                    <a:pt x="177" y="1969"/>
                  </a:lnTo>
                  <a:lnTo>
                    <a:pt x="166" y="1969"/>
                  </a:lnTo>
                  <a:lnTo>
                    <a:pt x="156" y="1969"/>
                  </a:lnTo>
                  <a:lnTo>
                    <a:pt x="143" y="1969"/>
                  </a:lnTo>
                  <a:lnTo>
                    <a:pt x="134" y="1969"/>
                  </a:lnTo>
                  <a:lnTo>
                    <a:pt x="120" y="1969"/>
                  </a:lnTo>
                  <a:lnTo>
                    <a:pt x="111" y="1969"/>
                  </a:lnTo>
                  <a:lnTo>
                    <a:pt x="99" y="1969"/>
                  </a:lnTo>
                  <a:lnTo>
                    <a:pt x="90" y="1969"/>
                  </a:lnTo>
                  <a:lnTo>
                    <a:pt x="77" y="1969"/>
                  </a:lnTo>
                  <a:lnTo>
                    <a:pt x="65" y="1969"/>
                  </a:lnTo>
                  <a:lnTo>
                    <a:pt x="52" y="1969"/>
                  </a:lnTo>
                  <a:lnTo>
                    <a:pt x="42" y="1969"/>
                  </a:lnTo>
                  <a:lnTo>
                    <a:pt x="31" y="1969"/>
                  </a:lnTo>
                  <a:lnTo>
                    <a:pt x="21" y="1969"/>
                  </a:lnTo>
                  <a:lnTo>
                    <a:pt x="10" y="1969"/>
                  </a:lnTo>
                  <a:lnTo>
                    <a:pt x="0" y="1969"/>
                  </a:lnTo>
                  <a:lnTo>
                    <a:pt x="6" y="1969"/>
                  </a:lnTo>
                  <a:lnTo>
                    <a:pt x="16" y="1939"/>
                  </a:lnTo>
                  <a:lnTo>
                    <a:pt x="29" y="1889"/>
                  </a:lnTo>
                  <a:lnTo>
                    <a:pt x="50" y="1830"/>
                  </a:lnTo>
                  <a:lnTo>
                    <a:pt x="69" y="1762"/>
                  </a:lnTo>
                  <a:lnTo>
                    <a:pt x="92" y="1692"/>
                  </a:lnTo>
                  <a:lnTo>
                    <a:pt x="115" y="1615"/>
                  </a:lnTo>
                  <a:lnTo>
                    <a:pt x="137" y="1541"/>
                  </a:lnTo>
                  <a:lnTo>
                    <a:pt x="158" y="1463"/>
                  </a:lnTo>
                  <a:lnTo>
                    <a:pt x="181" y="1393"/>
                  </a:lnTo>
                  <a:lnTo>
                    <a:pt x="202" y="1325"/>
                  </a:lnTo>
                  <a:lnTo>
                    <a:pt x="221" y="1268"/>
                  </a:lnTo>
                  <a:lnTo>
                    <a:pt x="236" y="1214"/>
                  </a:lnTo>
                  <a:lnTo>
                    <a:pt x="248" y="1176"/>
                  </a:lnTo>
                  <a:lnTo>
                    <a:pt x="257" y="1152"/>
                  </a:lnTo>
                  <a:lnTo>
                    <a:pt x="261" y="1144"/>
                  </a:lnTo>
                  <a:lnTo>
                    <a:pt x="105" y="544"/>
                  </a:lnTo>
                  <a:lnTo>
                    <a:pt x="105" y="54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34200" y="3458880"/>
              <a:ext cx="476280" cy="1827000"/>
            </a:xfrm>
            <a:custGeom>
              <a:avLst/>
              <a:gdLst/>
              <a:ahLst/>
              <a:rect l="l" t="t" r="r" b="b"/>
              <a:pathLst>
                <a:path w="600" h="2302">
                  <a:moveTo>
                    <a:pt x="57" y="561"/>
                  </a:moveTo>
                  <a:lnTo>
                    <a:pt x="57" y="0"/>
                  </a:lnTo>
                  <a:lnTo>
                    <a:pt x="568" y="1249"/>
                  </a:lnTo>
                  <a:lnTo>
                    <a:pt x="600" y="1914"/>
                  </a:lnTo>
                  <a:lnTo>
                    <a:pt x="597" y="1918"/>
                  </a:lnTo>
                  <a:lnTo>
                    <a:pt x="589" y="1929"/>
                  </a:lnTo>
                  <a:lnTo>
                    <a:pt x="572" y="1947"/>
                  </a:lnTo>
                  <a:lnTo>
                    <a:pt x="557" y="1971"/>
                  </a:lnTo>
                  <a:lnTo>
                    <a:pt x="534" y="1998"/>
                  </a:lnTo>
                  <a:lnTo>
                    <a:pt x="511" y="2030"/>
                  </a:lnTo>
                  <a:lnTo>
                    <a:pt x="485" y="2066"/>
                  </a:lnTo>
                  <a:lnTo>
                    <a:pt x="462" y="2102"/>
                  </a:lnTo>
                  <a:lnTo>
                    <a:pt x="433" y="2139"/>
                  </a:lnTo>
                  <a:lnTo>
                    <a:pt x="405" y="2177"/>
                  </a:lnTo>
                  <a:lnTo>
                    <a:pt x="380" y="2209"/>
                  </a:lnTo>
                  <a:lnTo>
                    <a:pt x="357" y="2243"/>
                  </a:lnTo>
                  <a:lnTo>
                    <a:pt x="334" y="2272"/>
                  </a:lnTo>
                  <a:lnTo>
                    <a:pt x="315" y="2298"/>
                  </a:lnTo>
                  <a:lnTo>
                    <a:pt x="298" y="2302"/>
                  </a:lnTo>
                  <a:lnTo>
                    <a:pt x="291" y="2302"/>
                  </a:lnTo>
                  <a:lnTo>
                    <a:pt x="272" y="2302"/>
                  </a:lnTo>
                  <a:lnTo>
                    <a:pt x="255" y="2302"/>
                  </a:lnTo>
                  <a:lnTo>
                    <a:pt x="236" y="2302"/>
                  </a:lnTo>
                  <a:lnTo>
                    <a:pt x="220" y="2302"/>
                  </a:lnTo>
                  <a:lnTo>
                    <a:pt x="201" y="2302"/>
                  </a:lnTo>
                  <a:lnTo>
                    <a:pt x="184" y="2302"/>
                  </a:lnTo>
                  <a:lnTo>
                    <a:pt x="167" y="2302"/>
                  </a:lnTo>
                  <a:lnTo>
                    <a:pt x="148" y="2302"/>
                  </a:lnTo>
                  <a:lnTo>
                    <a:pt x="129" y="2302"/>
                  </a:lnTo>
                  <a:lnTo>
                    <a:pt x="110" y="2302"/>
                  </a:lnTo>
                  <a:lnTo>
                    <a:pt x="91" y="2302"/>
                  </a:lnTo>
                  <a:lnTo>
                    <a:pt x="74" y="2302"/>
                  </a:lnTo>
                  <a:lnTo>
                    <a:pt x="55" y="2302"/>
                  </a:lnTo>
                  <a:lnTo>
                    <a:pt x="36" y="2302"/>
                  </a:lnTo>
                  <a:lnTo>
                    <a:pt x="17" y="2302"/>
                  </a:lnTo>
                  <a:lnTo>
                    <a:pt x="0" y="2302"/>
                  </a:lnTo>
                  <a:lnTo>
                    <a:pt x="9" y="2302"/>
                  </a:lnTo>
                  <a:lnTo>
                    <a:pt x="25" y="2272"/>
                  </a:lnTo>
                  <a:lnTo>
                    <a:pt x="44" y="2230"/>
                  </a:lnTo>
                  <a:lnTo>
                    <a:pt x="66" y="2182"/>
                  </a:lnTo>
                  <a:lnTo>
                    <a:pt x="89" y="2131"/>
                  </a:lnTo>
                  <a:lnTo>
                    <a:pt x="116" y="2074"/>
                  </a:lnTo>
                  <a:lnTo>
                    <a:pt x="142" y="2017"/>
                  </a:lnTo>
                  <a:lnTo>
                    <a:pt x="169" y="1962"/>
                  </a:lnTo>
                  <a:lnTo>
                    <a:pt x="194" y="1903"/>
                  </a:lnTo>
                  <a:lnTo>
                    <a:pt x="220" y="1852"/>
                  </a:lnTo>
                  <a:lnTo>
                    <a:pt x="243" y="1802"/>
                  </a:lnTo>
                  <a:lnTo>
                    <a:pt x="264" y="1760"/>
                  </a:lnTo>
                  <a:lnTo>
                    <a:pt x="279" y="1722"/>
                  </a:lnTo>
                  <a:lnTo>
                    <a:pt x="294" y="1696"/>
                  </a:lnTo>
                  <a:lnTo>
                    <a:pt x="302" y="1679"/>
                  </a:lnTo>
                  <a:lnTo>
                    <a:pt x="306" y="1673"/>
                  </a:lnTo>
                  <a:lnTo>
                    <a:pt x="306" y="1304"/>
                  </a:lnTo>
                  <a:lnTo>
                    <a:pt x="57" y="561"/>
                  </a:lnTo>
                  <a:lnTo>
                    <a:pt x="57" y="561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40400" y="3565440"/>
              <a:ext cx="432000" cy="1720440"/>
            </a:xfrm>
            <a:custGeom>
              <a:avLst/>
              <a:gdLst/>
              <a:ahLst/>
              <a:rect l="l" t="t" r="r" b="b"/>
              <a:pathLst>
                <a:path w="543" h="2169">
                  <a:moveTo>
                    <a:pt x="0" y="80"/>
                  </a:moveTo>
                  <a:lnTo>
                    <a:pt x="97" y="0"/>
                  </a:lnTo>
                  <a:lnTo>
                    <a:pt x="338" y="502"/>
                  </a:lnTo>
                  <a:lnTo>
                    <a:pt x="543" y="1126"/>
                  </a:lnTo>
                  <a:lnTo>
                    <a:pt x="532" y="1563"/>
                  </a:lnTo>
                  <a:lnTo>
                    <a:pt x="528" y="1568"/>
                  </a:lnTo>
                  <a:lnTo>
                    <a:pt x="521" y="1586"/>
                  </a:lnTo>
                  <a:lnTo>
                    <a:pt x="511" y="1610"/>
                  </a:lnTo>
                  <a:lnTo>
                    <a:pt x="498" y="1646"/>
                  </a:lnTo>
                  <a:lnTo>
                    <a:pt x="481" y="1688"/>
                  </a:lnTo>
                  <a:lnTo>
                    <a:pt x="464" y="1736"/>
                  </a:lnTo>
                  <a:lnTo>
                    <a:pt x="445" y="1787"/>
                  </a:lnTo>
                  <a:lnTo>
                    <a:pt x="426" y="1842"/>
                  </a:lnTo>
                  <a:lnTo>
                    <a:pt x="403" y="1895"/>
                  </a:lnTo>
                  <a:lnTo>
                    <a:pt x="382" y="1950"/>
                  </a:lnTo>
                  <a:lnTo>
                    <a:pt x="361" y="2004"/>
                  </a:lnTo>
                  <a:lnTo>
                    <a:pt x="344" y="2055"/>
                  </a:lnTo>
                  <a:lnTo>
                    <a:pt x="325" y="2101"/>
                  </a:lnTo>
                  <a:lnTo>
                    <a:pt x="310" y="2140"/>
                  </a:lnTo>
                  <a:lnTo>
                    <a:pt x="298" y="2169"/>
                  </a:lnTo>
                  <a:lnTo>
                    <a:pt x="291" y="2169"/>
                  </a:lnTo>
                  <a:lnTo>
                    <a:pt x="277" y="2169"/>
                  </a:lnTo>
                  <a:lnTo>
                    <a:pt x="264" y="2169"/>
                  </a:lnTo>
                  <a:lnTo>
                    <a:pt x="249" y="2169"/>
                  </a:lnTo>
                  <a:lnTo>
                    <a:pt x="237" y="2169"/>
                  </a:lnTo>
                  <a:lnTo>
                    <a:pt x="224" y="2169"/>
                  </a:lnTo>
                  <a:lnTo>
                    <a:pt x="209" y="2169"/>
                  </a:lnTo>
                  <a:lnTo>
                    <a:pt x="196" y="2169"/>
                  </a:lnTo>
                  <a:lnTo>
                    <a:pt x="182" y="2169"/>
                  </a:lnTo>
                  <a:lnTo>
                    <a:pt x="167" y="2169"/>
                  </a:lnTo>
                  <a:lnTo>
                    <a:pt x="154" y="2169"/>
                  </a:lnTo>
                  <a:lnTo>
                    <a:pt x="139" y="2169"/>
                  </a:lnTo>
                  <a:lnTo>
                    <a:pt x="123" y="2169"/>
                  </a:lnTo>
                  <a:lnTo>
                    <a:pt x="108" y="2169"/>
                  </a:lnTo>
                  <a:lnTo>
                    <a:pt x="95" y="2169"/>
                  </a:lnTo>
                  <a:lnTo>
                    <a:pt x="80" y="2169"/>
                  </a:lnTo>
                  <a:lnTo>
                    <a:pt x="66" y="2169"/>
                  </a:lnTo>
                  <a:lnTo>
                    <a:pt x="68" y="2169"/>
                  </a:lnTo>
                  <a:lnTo>
                    <a:pt x="72" y="2163"/>
                  </a:lnTo>
                  <a:lnTo>
                    <a:pt x="76" y="2139"/>
                  </a:lnTo>
                  <a:lnTo>
                    <a:pt x="83" y="2114"/>
                  </a:lnTo>
                  <a:lnTo>
                    <a:pt x="89" y="2087"/>
                  </a:lnTo>
                  <a:lnTo>
                    <a:pt x="95" y="2059"/>
                  </a:lnTo>
                  <a:lnTo>
                    <a:pt x="101" y="2028"/>
                  </a:lnTo>
                  <a:lnTo>
                    <a:pt x="108" y="2002"/>
                  </a:lnTo>
                  <a:lnTo>
                    <a:pt x="114" y="1971"/>
                  </a:lnTo>
                  <a:lnTo>
                    <a:pt x="120" y="1945"/>
                  </a:lnTo>
                  <a:lnTo>
                    <a:pt x="123" y="1918"/>
                  </a:lnTo>
                  <a:lnTo>
                    <a:pt x="129" y="1899"/>
                  </a:lnTo>
                  <a:lnTo>
                    <a:pt x="133" y="1880"/>
                  </a:lnTo>
                  <a:lnTo>
                    <a:pt x="137" y="1869"/>
                  </a:lnTo>
                  <a:lnTo>
                    <a:pt x="139" y="1859"/>
                  </a:lnTo>
                  <a:lnTo>
                    <a:pt x="140" y="1857"/>
                  </a:lnTo>
                  <a:lnTo>
                    <a:pt x="247" y="1871"/>
                  </a:lnTo>
                  <a:lnTo>
                    <a:pt x="370" y="1255"/>
                  </a:lnTo>
                  <a:lnTo>
                    <a:pt x="194" y="108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85040" y="3617640"/>
              <a:ext cx="434880" cy="1668240"/>
            </a:xfrm>
            <a:custGeom>
              <a:avLst/>
              <a:gdLst/>
              <a:ahLst/>
              <a:rect l="l" t="t" r="r" b="b"/>
              <a:pathLst>
                <a:path w="547" h="2102">
                  <a:moveTo>
                    <a:pt x="72" y="0"/>
                  </a:moveTo>
                  <a:lnTo>
                    <a:pt x="76" y="6"/>
                  </a:lnTo>
                  <a:lnTo>
                    <a:pt x="89" y="27"/>
                  </a:lnTo>
                  <a:lnTo>
                    <a:pt x="110" y="59"/>
                  </a:lnTo>
                  <a:lnTo>
                    <a:pt x="141" y="104"/>
                  </a:lnTo>
                  <a:lnTo>
                    <a:pt x="173" y="160"/>
                  </a:lnTo>
                  <a:lnTo>
                    <a:pt x="213" y="224"/>
                  </a:lnTo>
                  <a:lnTo>
                    <a:pt x="253" y="295"/>
                  </a:lnTo>
                  <a:lnTo>
                    <a:pt x="295" y="378"/>
                  </a:lnTo>
                  <a:lnTo>
                    <a:pt x="336" y="464"/>
                  </a:lnTo>
                  <a:lnTo>
                    <a:pt x="378" y="559"/>
                  </a:lnTo>
                  <a:lnTo>
                    <a:pt x="418" y="656"/>
                  </a:lnTo>
                  <a:lnTo>
                    <a:pt x="456" y="760"/>
                  </a:lnTo>
                  <a:lnTo>
                    <a:pt x="485" y="863"/>
                  </a:lnTo>
                  <a:lnTo>
                    <a:pt x="511" y="971"/>
                  </a:lnTo>
                  <a:lnTo>
                    <a:pt x="530" y="1079"/>
                  </a:lnTo>
                  <a:lnTo>
                    <a:pt x="544" y="1188"/>
                  </a:lnTo>
                  <a:lnTo>
                    <a:pt x="545" y="1285"/>
                  </a:lnTo>
                  <a:lnTo>
                    <a:pt x="547" y="1380"/>
                  </a:lnTo>
                  <a:lnTo>
                    <a:pt x="544" y="1467"/>
                  </a:lnTo>
                  <a:lnTo>
                    <a:pt x="540" y="1553"/>
                  </a:lnTo>
                  <a:lnTo>
                    <a:pt x="532" y="1631"/>
                  </a:lnTo>
                  <a:lnTo>
                    <a:pt x="525" y="1705"/>
                  </a:lnTo>
                  <a:lnTo>
                    <a:pt x="513" y="1775"/>
                  </a:lnTo>
                  <a:lnTo>
                    <a:pt x="506" y="1840"/>
                  </a:lnTo>
                  <a:lnTo>
                    <a:pt x="490" y="1895"/>
                  </a:lnTo>
                  <a:lnTo>
                    <a:pt x="481" y="1948"/>
                  </a:lnTo>
                  <a:lnTo>
                    <a:pt x="468" y="1994"/>
                  </a:lnTo>
                  <a:lnTo>
                    <a:pt x="458" y="2035"/>
                  </a:lnTo>
                  <a:lnTo>
                    <a:pt x="445" y="2068"/>
                  </a:lnTo>
                  <a:lnTo>
                    <a:pt x="437" y="2096"/>
                  </a:lnTo>
                  <a:lnTo>
                    <a:pt x="429" y="2102"/>
                  </a:lnTo>
                  <a:lnTo>
                    <a:pt x="426" y="2102"/>
                  </a:lnTo>
                  <a:lnTo>
                    <a:pt x="409" y="2102"/>
                  </a:lnTo>
                  <a:lnTo>
                    <a:pt x="391" y="2102"/>
                  </a:lnTo>
                  <a:lnTo>
                    <a:pt x="374" y="2102"/>
                  </a:lnTo>
                  <a:lnTo>
                    <a:pt x="357" y="2102"/>
                  </a:lnTo>
                  <a:lnTo>
                    <a:pt x="338" y="2102"/>
                  </a:lnTo>
                  <a:lnTo>
                    <a:pt x="321" y="2102"/>
                  </a:lnTo>
                  <a:lnTo>
                    <a:pt x="304" y="2102"/>
                  </a:lnTo>
                  <a:lnTo>
                    <a:pt x="287" y="2102"/>
                  </a:lnTo>
                  <a:lnTo>
                    <a:pt x="268" y="2102"/>
                  </a:lnTo>
                  <a:lnTo>
                    <a:pt x="249" y="2102"/>
                  </a:lnTo>
                  <a:lnTo>
                    <a:pt x="230" y="2102"/>
                  </a:lnTo>
                  <a:lnTo>
                    <a:pt x="211" y="2102"/>
                  </a:lnTo>
                  <a:lnTo>
                    <a:pt x="190" y="2102"/>
                  </a:lnTo>
                  <a:lnTo>
                    <a:pt x="169" y="2102"/>
                  </a:lnTo>
                  <a:lnTo>
                    <a:pt x="150" y="2102"/>
                  </a:lnTo>
                  <a:lnTo>
                    <a:pt x="131" y="2102"/>
                  </a:lnTo>
                  <a:lnTo>
                    <a:pt x="139" y="2102"/>
                  </a:lnTo>
                  <a:lnTo>
                    <a:pt x="152" y="2085"/>
                  </a:lnTo>
                  <a:lnTo>
                    <a:pt x="169" y="2047"/>
                  </a:lnTo>
                  <a:lnTo>
                    <a:pt x="190" y="2005"/>
                  </a:lnTo>
                  <a:lnTo>
                    <a:pt x="213" y="1958"/>
                  </a:lnTo>
                  <a:lnTo>
                    <a:pt x="238" y="1904"/>
                  </a:lnTo>
                  <a:lnTo>
                    <a:pt x="262" y="1851"/>
                  </a:lnTo>
                  <a:lnTo>
                    <a:pt x="291" y="1798"/>
                  </a:lnTo>
                  <a:lnTo>
                    <a:pt x="314" y="1745"/>
                  </a:lnTo>
                  <a:lnTo>
                    <a:pt x="336" y="1693"/>
                  </a:lnTo>
                  <a:lnTo>
                    <a:pt x="359" y="1646"/>
                  </a:lnTo>
                  <a:lnTo>
                    <a:pt x="380" y="1604"/>
                  </a:lnTo>
                  <a:lnTo>
                    <a:pt x="397" y="1568"/>
                  </a:lnTo>
                  <a:lnTo>
                    <a:pt x="410" y="1543"/>
                  </a:lnTo>
                  <a:lnTo>
                    <a:pt x="420" y="1526"/>
                  </a:lnTo>
                  <a:lnTo>
                    <a:pt x="422" y="1520"/>
                  </a:lnTo>
                  <a:lnTo>
                    <a:pt x="325" y="1461"/>
                  </a:lnTo>
                  <a:lnTo>
                    <a:pt x="445" y="1188"/>
                  </a:lnTo>
                  <a:lnTo>
                    <a:pt x="150" y="677"/>
                  </a:lnTo>
                  <a:lnTo>
                    <a:pt x="272" y="555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27720" y="3814560"/>
              <a:ext cx="727200" cy="1471320"/>
            </a:xfrm>
            <a:custGeom>
              <a:avLst/>
              <a:gdLst/>
              <a:ahLst/>
              <a:rect l="l" t="t" r="r" b="b"/>
              <a:pathLst>
                <a:path w="917" h="1853">
                  <a:moveTo>
                    <a:pt x="677" y="175"/>
                  </a:moveTo>
                  <a:lnTo>
                    <a:pt x="917" y="0"/>
                  </a:lnTo>
                  <a:lnTo>
                    <a:pt x="863" y="1028"/>
                  </a:lnTo>
                  <a:lnTo>
                    <a:pt x="856" y="1036"/>
                  </a:lnTo>
                  <a:lnTo>
                    <a:pt x="839" y="1059"/>
                  </a:lnTo>
                  <a:lnTo>
                    <a:pt x="812" y="1093"/>
                  </a:lnTo>
                  <a:lnTo>
                    <a:pt x="780" y="1140"/>
                  </a:lnTo>
                  <a:lnTo>
                    <a:pt x="738" y="1195"/>
                  </a:lnTo>
                  <a:lnTo>
                    <a:pt x="692" y="1258"/>
                  </a:lnTo>
                  <a:lnTo>
                    <a:pt x="641" y="1325"/>
                  </a:lnTo>
                  <a:lnTo>
                    <a:pt x="592" y="1399"/>
                  </a:lnTo>
                  <a:lnTo>
                    <a:pt x="535" y="1473"/>
                  </a:lnTo>
                  <a:lnTo>
                    <a:pt x="483" y="1545"/>
                  </a:lnTo>
                  <a:lnTo>
                    <a:pt x="428" y="1617"/>
                  </a:lnTo>
                  <a:lnTo>
                    <a:pt x="382" y="1686"/>
                  </a:lnTo>
                  <a:lnTo>
                    <a:pt x="335" y="1747"/>
                  </a:lnTo>
                  <a:lnTo>
                    <a:pt x="295" y="1802"/>
                  </a:lnTo>
                  <a:lnTo>
                    <a:pt x="261" y="1847"/>
                  </a:lnTo>
                  <a:lnTo>
                    <a:pt x="238" y="1853"/>
                  </a:lnTo>
                  <a:lnTo>
                    <a:pt x="217" y="1853"/>
                  </a:lnTo>
                  <a:lnTo>
                    <a:pt x="200" y="1853"/>
                  </a:lnTo>
                  <a:lnTo>
                    <a:pt x="183" y="1853"/>
                  </a:lnTo>
                  <a:lnTo>
                    <a:pt x="168" y="1853"/>
                  </a:lnTo>
                  <a:lnTo>
                    <a:pt x="151" y="1853"/>
                  </a:lnTo>
                  <a:lnTo>
                    <a:pt x="133" y="1853"/>
                  </a:lnTo>
                  <a:lnTo>
                    <a:pt x="118" y="1853"/>
                  </a:lnTo>
                  <a:lnTo>
                    <a:pt x="105" y="1853"/>
                  </a:lnTo>
                  <a:lnTo>
                    <a:pt x="90" y="1853"/>
                  </a:lnTo>
                  <a:lnTo>
                    <a:pt x="73" y="1853"/>
                  </a:lnTo>
                  <a:lnTo>
                    <a:pt x="59" y="1853"/>
                  </a:lnTo>
                  <a:lnTo>
                    <a:pt x="48" y="1853"/>
                  </a:lnTo>
                  <a:lnTo>
                    <a:pt x="33" y="1853"/>
                  </a:lnTo>
                  <a:lnTo>
                    <a:pt x="21" y="1853"/>
                  </a:lnTo>
                  <a:lnTo>
                    <a:pt x="10" y="1853"/>
                  </a:lnTo>
                  <a:lnTo>
                    <a:pt x="0" y="1853"/>
                  </a:lnTo>
                  <a:lnTo>
                    <a:pt x="12" y="1781"/>
                  </a:lnTo>
                  <a:lnTo>
                    <a:pt x="35" y="1688"/>
                  </a:lnTo>
                  <a:lnTo>
                    <a:pt x="65" y="1595"/>
                  </a:lnTo>
                  <a:lnTo>
                    <a:pt x="103" y="1511"/>
                  </a:lnTo>
                  <a:lnTo>
                    <a:pt x="143" y="1433"/>
                  </a:lnTo>
                  <a:lnTo>
                    <a:pt x="189" y="1359"/>
                  </a:lnTo>
                  <a:lnTo>
                    <a:pt x="236" y="1290"/>
                  </a:lnTo>
                  <a:lnTo>
                    <a:pt x="286" y="1232"/>
                  </a:lnTo>
                  <a:lnTo>
                    <a:pt x="331" y="1174"/>
                  </a:lnTo>
                  <a:lnTo>
                    <a:pt x="377" y="1129"/>
                  </a:lnTo>
                  <a:lnTo>
                    <a:pt x="419" y="1087"/>
                  </a:lnTo>
                  <a:lnTo>
                    <a:pt x="458" y="1055"/>
                  </a:lnTo>
                  <a:lnTo>
                    <a:pt x="489" y="1026"/>
                  </a:lnTo>
                  <a:lnTo>
                    <a:pt x="514" y="1007"/>
                  </a:lnTo>
                  <a:lnTo>
                    <a:pt x="531" y="998"/>
                  </a:lnTo>
                  <a:lnTo>
                    <a:pt x="536" y="994"/>
                  </a:lnTo>
                  <a:lnTo>
                    <a:pt x="677" y="175"/>
                  </a:lnTo>
                  <a:lnTo>
                    <a:pt x="677" y="175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92880" y="3823920"/>
              <a:ext cx="815760" cy="1461960"/>
            </a:xfrm>
            <a:custGeom>
              <a:avLst/>
              <a:gdLst/>
              <a:ahLst/>
              <a:rect l="l" t="t" r="r" b="b"/>
              <a:pathLst>
                <a:path w="1028" h="1842">
                  <a:moveTo>
                    <a:pt x="791" y="67"/>
                  </a:moveTo>
                  <a:lnTo>
                    <a:pt x="1028" y="0"/>
                  </a:lnTo>
                  <a:lnTo>
                    <a:pt x="867" y="1236"/>
                  </a:lnTo>
                  <a:lnTo>
                    <a:pt x="859" y="1241"/>
                  </a:lnTo>
                  <a:lnTo>
                    <a:pt x="844" y="1257"/>
                  </a:lnTo>
                  <a:lnTo>
                    <a:pt x="817" y="1281"/>
                  </a:lnTo>
                  <a:lnTo>
                    <a:pt x="787" y="1316"/>
                  </a:lnTo>
                  <a:lnTo>
                    <a:pt x="749" y="1355"/>
                  </a:lnTo>
                  <a:lnTo>
                    <a:pt x="707" y="1403"/>
                  </a:lnTo>
                  <a:lnTo>
                    <a:pt x="660" y="1452"/>
                  </a:lnTo>
                  <a:lnTo>
                    <a:pt x="612" y="1506"/>
                  </a:lnTo>
                  <a:lnTo>
                    <a:pt x="559" y="1559"/>
                  </a:lnTo>
                  <a:lnTo>
                    <a:pt x="510" y="1614"/>
                  </a:lnTo>
                  <a:lnTo>
                    <a:pt x="458" y="1667"/>
                  </a:lnTo>
                  <a:lnTo>
                    <a:pt x="413" y="1720"/>
                  </a:lnTo>
                  <a:lnTo>
                    <a:pt x="367" y="1766"/>
                  </a:lnTo>
                  <a:lnTo>
                    <a:pt x="329" y="1808"/>
                  </a:lnTo>
                  <a:lnTo>
                    <a:pt x="297" y="1842"/>
                  </a:lnTo>
                  <a:lnTo>
                    <a:pt x="272" y="1842"/>
                  </a:lnTo>
                  <a:lnTo>
                    <a:pt x="251" y="1842"/>
                  </a:lnTo>
                  <a:lnTo>
                    <a:pt x="232" y="1842"/>
                  </a:lnTo>
                  <a:lnTo>
                    <a:pt x="213" y="1842"/>
                  </a:lnTo>
                  <a:lnTo>
                    <a:pt x="196" y="1842"/>
                  </a:lnTo>
                  <a:lnTo>
                    <a:pt x="175" y="1842"/>
                  </a:lnTo>
                  <a:lnTo>
                    <a:pt x="158" y="1842"/>
                  </a:lnTo>
                  <a:lnTo>
                    <a:pt x="139" y="1842"/>
                  </a:lnTo>
                  <a:lnTo>
                    <a:pt x="124" y="1842"/>
                  </a:lnTo>
                  <a:lnTo>
                    <a:pt x="107" y="1842"/>
                  </a:lnTo>
                  <a:lnTo>
                    <a:pt x="89" y="1842"/>
                  </a:lnTo>
                  <a:lnTo>
                    <a:pt x="72" y="1842"/>
                  </a:lnTo>
                  <a:lnTo>
                    <a:pt x="57" y="1842"/>
                  </a:lnTo>
                  <a:lnTo>
                    <a:pt x="42" y="1842"/>
                  </a:lnTo>
                  <a:lnTo>
                    <a:pt x="27" y="1842"/>
                  </a:lnTo>
                  <a:lnTo>
                    <a:pt x="12" y="1842"/>
                  </a:lnTo>
                  <a:lnTo>
                    <a:pt x="0" y="1842"/>
                  </a:lnTo>
                  <a:lnTo>
                    <a:pt x="4" y="1842"/>
                  </a:lnTo>
                  <a:lnTo>
                    <a:pt x="10" y="1838"/>
                  </a:lnTo>
                  <a:lnTo>
                    <a:pt x="17" y="1817"/>
                  </a:lnTo>
                  <a:lnTo>
                    <a:pt x="27" y="1794"/>
                  </a:lnTo>
                  <a:lnTo>
                    <a:pt x="32" y="1766"/>
                  </a:lnTo>
                  <a:lnTo>
                    <a:pt x="42" y="1741"/>
                  </a:lnTo>
                  <a:lnTo>
                    <a:pt x="51" y="1715"/>
                  </a:lnTo>
                  <a:lnTo>
                    <a:pt x="61" y="1688"/>
                  </a:lnTo>
                  <a:lnTo>
                    <a:pt x="69" y="1661"/>
                  </a:lnTo>
                  <a:lnTo>
                    <a:pt x="74" y="1637"/>
                  </a:lnTo>
                  <a:lnTo>
                    <a:pt x="82" y="1614"/>
                  </a:lnTo>
                  <a:lnTo>
                    <a:pt x="91" y="1595"/>
                  </a:lnTo>
                  <a:lnTo>
                    <a:pt x="93" y="1578"/>
                  </a:lnTo>
                  <a:lnTo>
                    <a:pt x="99" y="1566"/>
                  </a:lnTo>
                  <a:lnTo>
                    <a:pt x="103" y="1557"/>
                  </a:lnTo>
                  <a:lnTo>
                    <a:pt x="105" y="1555"/>
                  </a:lnTo>
                  <a:lnTo>
                    <a:pt x="300" y="1430"/>
                  </a:lnTo>
                  <a:lnTo>
                    <a:pt x="268" y="1380"/>
                  </a:lnTo>
                  <a:lnTo>
                    <a:pt x="576" y="1093"/>
                  </a:lnTo>
                  <a:lnTo>
                    <a:pt x="715" y="603"/>
                  </a:lnTo>
                  <a:lnTo>
                    <a:pt x="637" y="548"/>
                  </a:lnTo>
                  <a:lnTo>
                    <a:pt x="791" y="67"/>
                  </a:lnTo>
                  <a:lnTo>
                    <a:pt x="791" y="67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24640" y="3600360"/>
              <a:ext cx="774720" cy="1685520"/>
            </a:xfrm>
            <a:custGeom>
              <a:avLst/>
              <a:gdLst/>
              <a:ahLst/>
              <a:rect l="l" t="t" r="r" b="b"/>
              <a:pathLst>
                <a:path w="976" h="2125">
                  <a:moveTo>
                    <a:pt x="789" y="0"/>
                  </a:moveTo>
                  <a:lnTo>
                    <a:pt x="976" y="0"/>
                  </a:lnTo>
                  <a:lnTo>
                    <a:pt x="842" y="1443"/>
                  </a:lnTo>
                  <a:lnTo>
                    <a:pt x="837" y="1446"/>
                  </a:lnTo>
                  <a:lnTo>
                    <a:pt x="825" y="1467"/>
                  </a:lnTo>
                  <a:lnTo>
                    <a:pt x="806" y="1494"/>
                  </a:lnTo>
                  <a:lnTo>
                    <a:pt x="784" y="1534"/>
                  </a:lnTo>
                  <a:lnTo>
                    <a:pt x="751" y="1580"/>
                  </a:lnTo>
                  <a:lnTo>
                    <a:pt x="721" y="1631"/>
                  </a:lnTo>
                  <a:lnTo>
                    <a:pt x="685" y="1686"/>
                  </a:lnTo>
                  <a:lnTo>
                    <a:pt x="649" y="1749"/>
                  </a:lnTo>
                  <a:lnTo>
                    <a:pt x="609" y="1809"/>
                  </a:lnTo>
                  <a:lnTo>
                    <a:pt x="571" y="1872"/>
                  </a:lnTo>
                  <a:lnTo>
                    <a:pt x="533" y="1931"/>
                  </a:lnTo>
                  <a:lnTo>
                    <a:pt x="497" y="1988"/>
                  </a:lnTo>
                  <a:lnTo>
                    <a:pt x="464" y="2039"/>
                  </a:lnTo>
                  <a:lnTo>
                    <a:pt x="434" y="2087"/>
                  </a:lnTo>
                  <a:lnTo>
                    <a:pt x="411" y="2125"/>
                  </a:lnTo>
                  <a:lnTo>
                    <a:pt x="392" y="2125"/>
                  </a:lnTo>
                  <a:lnTo>
                    <a:pt x="365" y="2125"/>
                  </a:lnTo>
                  <a:lnTo>
                    <a:pt x="337" y="2125"/>
                  </a:lnTo>
                  <a:lnTo>
                    <a:pt x="310" y="2125"/>
                  </a:lnTo>
                  <a:lnTo>
                    <a:pt x="286" y="2125"/>
                  </a:lnTo>
                  <a:lnTo>
                    <a:pt x="261" y="2125"/>
                  </a:lnTo>
                  <a:lnTo>
                    <a:pt x="234" y="2125"/>
                  </a:lnTo>
                  <a:lnTo>
                    <a:pt x="209" y="2125"/>
                  </a:lnTo>
                  <a:lnTo>
                    <a:pt x="185" y="2125"/>
                  </a:lnTo>
                  <a:lnTo>
                    <a:pt x="158" y="2125"/>
                  </a:lnTo>
                  <a:lnTo>
                    <a:pt x="135" y="2125"/>
                  </a:lnTo>
                  <a:lnTo>
                    <a:pt x="113" y="2125"/>
                  </a:lnTo>
                  <a:lnTo>
                    <a:pt x="90" y="2125"/>
                  </a:lnTo>
                  <a:lnTo>
                    <a:pt x="65" y="2125"/>
                  </a:lnTo>
                  <a:lnTo>
                    <a:pt x="42" y="2125"/>
                  </a:lnTo>
                  <a:lnTo>
                    <a:pt x="21" y="2125"/>
                  </a:lnTo>
                  <a:lnTo>
                    <a:pt x="0" y="2125"/>
                  </a:lnTo>
                  <a:lnTo>
                    <a:pt x="6" y="2125"/>
                  </a:lnTo>
                  <a:lnTo>
                    <a:pt x="10" y="2125"/>
                  </a:lnTo>
                  <a:lnTo>
                    <a:pt x="18" y="2106"/>
                  </a:lnTo>
                  <a:lnTo>
                    <a:pt x="25" y="2087"/>
                  </a:lnTo>
                  <a:lnTo>
                    <a:pt x="31" y="2066"/>
                  </a:lnTo>
                  <a:lnTo>
                    <a:pt x="38" y="2047"/>
                  </a:lnTo>
                  <a:lnTo>
                    <a:pt x="46" y="2026"/>
                  </a:lnTo>
                  <a:lnTo>
                    <a:pt x="54" y="2007"/>
                  </a:lnTo>
                  <a:lnTo>
                    <a:pt x="59" y="1986"/>
                  </a:lnTo>
                  <a:lnTo>
                    <a:pt x="67" y="1969"/>
                  </a:lnTo>
                  <a:lnTo>
                    <a:pt x="73" y="1954"/>
                  </a:lnTo>
                  <a:lnTo>
                    <a:pt x="78" y="1939"/>
                  </a:lnTo>
                  <a:lnTo>
                    <a:pt x="82" y="1927"/>
                  </a:lnTo>
                  <a:lnTo>
                    <a:pt x="86" y="1918"/>
                  </a:lnTo>
                  <a:lnTo>
                    <a:pt x="88" y="1912"/>
                  </a:lnTo>
                  <a:lnTo>
                    <a:pt x="90" y="1912"/>
                  </a:lnTo>
                  <a:lnTo>
                    <a:pt x="187" y="1924"/>
                  </a:lnTo>
                  <a:lnTo>
                    <a:pt x="295" y="1629"/>
                  </a:lnTo>
                  <a:lnTo>
                    <a:pt x="571" y="1452"/>
                  </a:lnTo>
                  <a:lnTo>
                    <a:pt x="645" y="1038"/>
                  </a:lnTo>
                  <a:lnTo>
                    <a:pt x="789" y="0"/>
                  </a:lnTo>
                  <a:lnTo>
                    <a:pt x="78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84840" y="3628800"/>
              <a:ext cx="647640" cy="1657080"/>
            </a:xfrm>
            <a:custGeom>
              <a:avLst/>
              <a:gdLst/>
              <a:ahLst/>
              <a:rect l="l" t="t" r="r" b="b"/>
              <a:pathLst>
                <a:path w="815" h="2089">
                  <a:moveTo>
                    <a:pt x="815" y="15"/>
                  </a:moveTo>
                  <a:lnTo>
                    <a:pt x="718" y="1363"/>
                  </a:lnTo>
                  <a:lnTo>
                    <a:pt x="715" y="1367"/>
                  </a:lnTo>
                  <a:lnTo>
                    <a:pt x="703" y="1388"/>
                  </a:lnTo>
                  <a:lnTo>
                    <a:pt x="688" y="1416"/>
                  </a:lnTo>
                  <a:lnTo>
                    <a:pt x="667" y="1456"/>
                  </a:lnTo>
                  <a:lnTo>
                    <a:pt x="639" y="1504"/>
                  </a:lnTo>
                  <a:lnTo>
                    <a:pt x="610" y="1559"/>
                  </a:lnTo>
                  <a:lnTo>
                    <a:pt x="578" y="1616"/>
                  </a:lnTo>
                  <a:lnTo>
                    <a:pt x="545" y="1680"/>
                  </a:lnTo>
                  <a:lnTo>
                    <a:pt x="511" y="1743"/>
                  </a:lnTo>
                  <a:lnTo>
                    <a:pt x="477" y="1810"/>
                  </a:lnTo>
                  <a:lnTo>
                    <a:pt x="441" y="1870"/>
                  </a:lnTo>
                  <a:lnTo>
                    <a:pt x="410" y="1933"/>
                  </a:lnTo>
                  <a:lnTo>
                    <a:pt x="378" y="1988"/>
                  </a:lnTo>
                  <a:lnTo>
                    <a:pt x="352" y="2040"/>
                  </a:lnTo>
                  <a:lnTo>
                    <a:pt x="329" y="2083"/>
                  </a:lnTo>
                  <a:lnTo>
                    <a:pt x="312" y="2089"/>
                  </a:lnTo>
                  <a:lnTo>
                    <a:pt x="291" y="2089"/>
                  </a:lnTo>
                  <a:lnTo>
                    <a:pt x="272" y="2089"/>
                  </a:lnTo>
                  <a:lnTo>
                    <a:pt x="251" y="2089"/>
                  </a:lnTo>
                  <a:lnTo>
                    <a:pt x="230" y="2089"/>
                  </a:lnTo>
                  <a:lnTo>
                    <a:pt x="209" y="2089"/>
                  </a:lnTo>
                  <a:lnTo>
                    <a:pt x="190" y="2089"/>
                  </a:lnTo>
                  <a:lnTo>
                    <a:pt x="171" y="2089"/>
                  </a:lnTo>
                  <a:lnTo>
                    <a:pt x="152" y="2089"/>
                  </a:lnTo>
                  <a:lnTo>
                    <a:pt x="131" y="2089"/>
                  </a:lnTo>
                  <a:lnTo>
                    <a:pt x="112" y="2089"/>
                  </a:lnTo>
                  <a:lnTo>
                    <a:pt x="93" y="2089"/>
                  </a:lnTo>
                  <a:lnTo>
                    <a:pt x="74" y="2089"/>
                  </a:lnTo>
                  <a:lnTo>
                    <a:pt x="53" y="2089"/>
                  </a:lnTo>
                  <a:lnTo>
                    <a:pt x="36" y="2089"/>
                  </a:lnTo>
                  <a:lnTo>
                    <a:pt x="17" y="2089"/>
                  </a:lnTo>
                  <a:lnTo>
                    <a:pt x="0" y="2089"/>
                  </a:lnTo>
                  <a:lnTo>
                    <a:pt x="7" y="2089"/>
                  </a:lnTo>
                  <a:lnTo>
                    <a:pt x="19" y="2070"/>
                  </a:lnTo>
                  <a:lnTo>
                    <a:pt x="30" y="2038"/>
                  </a:lnTo>
                  <a:lnTo>
                    <a:pt x="46" y="2009"/>
                  </a:lnTo>
                  <a:lnTo>
                    <a:pt x="59" y="1973"/>
                  </a:lnTo>
                  <a:lnTo>
                    <a:pt x="72" y="1939"/>
                  </a:lnTo>
                  <a:lnTo>
                    <a:pt x="85" y="1903"/>
                  </a:lnTo>
                  <a:lnTo>
                    <a:pt x="103" y="1869"/>
                  </a:lnTo>
                  <a:lnTo>
                    <a:pt x="114" y="1834"/>
                  </a:lnTo>
                  <a:lnTo>
                    <a:pt x="127" y="1804"/>
                  </a:lnTo>
                  <a:lnTo>
                    <a:pt x="139" y="1775"/>
                  </a:lnTo>
                  <a:lnTo>
                    <a:pt x="150" y="1751"/>
                  </a:lnTo>
                  <a:lnTo>
                    <a:pt x="158" y="1730"/>
                  </a:lnTo>
                  <a:lnTo>
                    <a:pt x="165" y="1713"/>
                  </a:lnTo>
                  <a:lnTo>
                    <a:pt x="167" y="1703"/>
                  </a:lnTo>
                  <a:lnTo>
                    <a:pt x="171" y="1701"/>
                  </a:lnTo>
                  <a:lnTo>
                    <a:pt x="226" y="1863"/>
                  </a:lnTo>
                  <a:lnTo>
                    <a:pt x="357" y="1526"/>
                  </a:lnTo>
                  <a:lnTo>
                    <a:pt x="574" y="1429"/>
                  </a:lnTo>
                  <a:lnTo>
                    <a:pt x="555" y="924"/>
                  </a:lnTo>
                  <a:lnTo>
                    <a:pt x="640" y="719"/>
                  </a:lnTo>
                  <a:lnTo>
                    <a:pt x="707" y="0"/>
                  </a:lnTo>
                  <a:lnTo>
                    <a:pt x="815" y="15"/>
                  </a:lnTo>
                  <a:lnTo>
                    <a:pt x="815" y="15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18320" y="3882960"/>
              <a:ext cx="195120" cy="201240"/>
            </a:xfrm>
            <a:custGeom>
              <a:avLst/>
              <a:gdLst/>
              <a:ahLst/>
              <a:rect l="l" t="t" r="r" b="b"/>
              <a:pathLst>
                <a:path w="245" h="253">
                  <a:moveTo>
                    <a:pt x="83" y="8"/>
                  </a:moveTo>
                  <a:lnTo>
                    <a:pt x="0" y="65"/>
                  </a:lnTo>
                  <a:lnTo>
                    <a:pt x="20" y="179"/>
                  </a:lnTo>
                  <a:lnTo>
                    <a:pt x="49" y="179"/>
                  </a:lnTo>
                  <a:lnTo>
                    <a:pt x="49" y="120"/>
                  </a:lnTo>
                  <a:lnTo>
                    <a:pt x="74" y="126"/>
                  </a:lnTo>
                  <a:lnTo>
                    <a:pt x="93" y="253"/>
                  </a:lnTo>
                  <a:lnTo>
                    <a:pt x="127" y="246"/>
                  </a:lnTo>
                  <a:lnTo>
                    <a:pt x="127" y="202"/>
                  </a:lnTo>
                  <a:lnTo>
                    <a:pt x="144" y="194"/>
                  </a:lnTo>
                  <a:lnTo>
                    <a:pt x="154" y="236"/>
                  </a:lnTo>
                  <a:lnTo>
                    <a:pt x="190" y="217"/>
                  </a:lnTo>
                  <a:lnTo>
                    <a:pt x="197" y="175"/>
                  </a:lnTo>
                  <a:lnTo>
                    <a:pt x="245" y="145"/>
                  </a:lnTo>
                  <a:lnTo>
                    <a:pt x="239" y="0"/>
                  </a:lnTo>
                  <a:lnTo>
                    <a:pt x="83" y="8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83320" y="3152520"/>
              <a:ext cx="390600" cy="761760"/>
            </a:xfrm>
            <a:custGeom>
              <a:avLst/>
              <a:gdLst/>
              <a:ahLst/>
              <a:rect l="l" t="t" r="r" b="b"/>
              <a:pathLst>
                <a:path w="493" h="959">
                  <a:moveTo>
                    <a:pt x="78" y="0"/>
                  </a:moveTo>
                  <a:lnTo>
                    <a:pt x="0" y="376"/>
                  </a:lnTo>
                  <a:lnTo>
                    <a:pt x="312" y="503"/>
                  </a:lnTo>
                  <a:lnTo>
                    <a:pt x="306" y="959"/>
                  </a:lnTo>
                  <a:lnTo>
                    <a:pt x="383" y="959"/>
                  </a:lnTo>
                  <a:lnTo>
                    <a:pt x="493" y="442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15000" y="3105000"/>
              <a:ext cx="393840" cy="809280"/>
            </a:xfrm>
            <a:custGeom>
              <a:avLst/>
              <a:gdLst/>
              <a:ahLst/>
              <a:rect l="l" t="t" r="r" b="b"/>
              <a:pathLst>
                <a:path w="496" h="1020">
                  <a:moveTo>
                    <a:pt x="80" y="0"/>
                  </a:moveTo>
                  <a:lnTo>
                    <a:pt x="496" y="475"/>
                  </a:lnTo>
                  <a:lnTo>
                    <a:pt x="371" y="1020"/>
                  </a:lnTo>
                  <a:lnTo>
                    <a:pt x="322" y="1011"/>
                  </a:lnTo>
                  <a:lnTo>
                    <a:pt x="362" y="650"/>
                  </a:lnTo>
                  <a:lnTo>
                    <a:pt x="386" y="661"/>
                  </a:lnTo>
                  <a:lnTo>
                    <a:pt x="403" y="513"/>
                  </a:lnTo>
                  <a:lnTo>
                    <a:pt x="228" y="403"/>
                  </a:lnTo>
                  <a:lnTo>
                    <a:pt x="280" y="340"/>
                  </a:lnTo>
                  <a:lnTo>
                    <a:pt x="0" y="13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83320" y="3384360"/>
              <a:ext cx="285840" cy="533160"/>
            </a:xfrm>
            <a:custGeom>
              <a:avLst/>
              <a:gdLst/>
              <a:ahLst/>
              <a:rect l="l" t="t" r="r" b="b"/>
              <a:pathLst>
                <a:path w="362" h="673">
                  <a:moveTo>
                    <a:pt x="0" y="0"/>
                  </a:moveTo>
                  <a:lnTo>
                    <a:pt x="362" y="175"/>
                  </a:lnTo>
                  <a:lnTo>
                    <a:pt x="322" y="673"/>
                  </a:lnTo>
                  <a:lnTo>
                    <a:pt x="272" y="660"/>
                  </a:lnTo>
                  <a:lnTo>
                    <a:pt x="255" y="284"/>
                  </a:lnTo>
                  <a:lnTo>
                    <a:pt x="0" y="1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64240" y="3458880"/>
              <a:ext cx="266760" cy="447480"/>
            </a:xfrm>
            <a:custGeom>
              <a:avLst/>
              <a:gdLst/>
              <a:ahLst/>
              <a:rect l="l" t="t" r="r" b="b"/>
              <a:pathLst>
                <a:path w="334" h="565">
                  <a:moveTo>
                    <a:pt x="0" y="71"/>
                  </a:moveTo>
                  <a:lnTo>
                    <a:pt x="3" y="71"/>
                  </a:lnTo>
                  <a:lnTo>
                    <a:pt x="13" y="73"/>
                  </a:lnTo>
                  <a:lnTo>
                    <a:pt x="30" y="75"/>
                  </a:lnTo>
                  <a:lnTo>
                    <a:pt x="55" y="82"/>
                  </a:lnTo>
                  <a:lnTo>
                    <a:pt x="79" y="90"/>
                  </a:lnTo>
                  <a:lnTo>
                    <a:pt x="110" y="103"/>
                  </a:lnTo>
                  <a:lnTo>
                    <a:pt x="138" y="120"/>
                  </a:lnTo>
                  <a:lnTo>
                    <a:pt x="169" y="143"/>
                  </a:lnTo>
                  <a:lnTo>
                    <a:pt x="194" y="170"/>
                  </a:lnTo>
                  <a:lnTo>
                    <a:pt x="222" y="202"/>
                  </a:lnTo>
                  <a:lnTo>
                    <a:pt x="243" y="242"/>
                  </a:lnTo>
                  <a:lnTo>
                    <a:pt x="260" y="289"/>
                  </a:lnTo>
                  <a:lnTo>
                    <a:pt x="270" y="342"/>
                  </a:lnTo>
                  <a:lnTo>
                    <a:pt x="275" y="405"/>
                  </a:lnTo>
                  <a:lnTo>
                    <a:pt x="270" y="477"/>
                  </a:lnTo>
                  <a:lnTo>
                    <a:pt x="256" y="561"/>
                  </a:lnTo>
                  <a:lnTo>
                    <a:pt x="302" y="565"/>
                  </a:lnTo>
                  <a:lnTo>
                    <a:pt x="334" y="386"/>
                  </a:lnTo>
                  <a:lnTo>
                    <a:pt x="306" y="301"/>
                  </a:lnTo>
                  <a:lnTo>
                    <a:pt x="334" y="137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35720" y="3065400"/>
              <a:ext cx="239760" cy="596520"/>
            </a:xfrm>
            <a:custGeom>
              <a:avLst/>
              <a:gdLst/>
              <a:ahLst/>
              <a:rect l="l" t="t" r="r" b="b"/>
              <a:pathLst>
                <a:path w="302" h="753">
                  <a:moveTo>
                    <a:pt x="116" y="0"/>
                  </a:moveTo>
                  <a:lnTo>
                    <a:pt x="302" y="50"/>
                  </a:lnTo>
                  <a:lnTo>
                    <a:pt x="245" y="369"/>
                  </a:lnTo>
                  <a:lnTo>
                    <a:pt x="198" y="591"/>
                  </a:lnTo>
                  <a:lnTo>
                    <a:pt x="179" y="753"/>
                  </a:lnTo>
                  <a:lnTo>
                    <a:pt x="0" y="751"/>
                  </a:lnTo>
                  <a:lnTo>
                    <a:pt x="50" y="221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16840" y="3062160"/>
              <a:ext cx="336240" cy="599760"/>
            </a:xfrm>
            <a:custGeom>
              <a:avLst/>
              <a:gdLst/>
              <a:ahLst/>
              <a:rect l="l" t="t" r="r" b="b"/>
              <a:pathLst>
                <a:path w="423" h="756">
                  <a:moveTo>
                    <a:pt x="49" y="0"/>
                  </a:moveTo>
                  <a:lnTo>
                    <a:pt x="391" y="11"/>
                  </a:lnTo>
                  <a:lnTo>
                    <a:pt x="384" y="285"/>
                  </a:lnTo>
                  <a:lnTo>
                    <a:pt x="340" y="309"/>
                  </a:lnTo>
                  <a:lnTo>
                    <a:pt x="423" y="499"/>
                  </a:lnTo>
                  <a:lnTo>
                    <a:pt x="365" y="756"/>
                  </a:lnTo>
                  <a:lnTo>
                    <a:pt x="249" y="756"/>
                  </a:lnTo>
                  <a:lnTo>
                    <a:pt x="0" y="18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77160" y="3071520"/>
              <a:ext cx="369720" cy="595080"/>
            </a:xfrm>
            <a:custGeom>
              <a:avLst/>
              <a:gdLst/>
              <a:ahLst/>
              <a:rect l="l" t="t" r="r" b="b"/>
              <a:pathLst>
                <a:path w="465" h="751">
                  <a:moveTo>
                    <a:pt x="40" y="0"/>
                  </a:moveTo>
                  <a:lnTo>
                    <a:pt x="218" y="0"/>
                  </a:lnTo>
                  <a:lnTo>
                    <a:pt x="325" y="378"/>
                  </a:lnTo>
                  <a:lnTo>
                    <a:pt x="450" y="530"/>
                  </a:lnTo>
                  <a:lnTo>
                    <a:pt x="465" y="751"/>
                  </a:lnTo>
                  <a:lnTo>
                    <a:pt x="233" y="745"/>
                  </a:lnTo>
                  <a:lnTo>
                    <a:pt x="0" y="125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91120" y="3071520"/>
              <a:ext cx="344520" cy="590400"/>
            </a:xfrm>
            <a:custGeom>
              <a:avLst/>
              <a:gdLst/>
              <a:ahLst/>
              <a:rect l="l" t="t" r="r" b="b"/>
              <a:pathLst>
                <a:path w="434" h="745">
                  <a:moveTo>
                    <a:pt x="0" y="19"/>
                  </a:moveTo>
                  <a:lnTo>
                    <a:pt x="152" y="0"/>
                  </a:lnTo>
                  <a:lnTo>
                    <a:pt x="238" y="331"/>
                  </a:lnTo>
                  <a:lnTo>
                    <a:pt x="318" y="338"/>
                  </a:lnTo>
                  <a:lnTo>
                    <a:pt x="434" y="745"/>
                  </a:lnTo>
                  <a:lnTo>
                    <a:pt x="29" y="74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89720" y="3481200"/>
              <a:ext cx="695160" cy="545760"/>
            </a:xfrm>
            <a:custGeom>
              <a:avLst/>
              <a:gdLst/>
              <a:ahLst/>
              <a:rect l="l" t="t" r="r" b="b"/>
              <a:pathLst>
                <a:path w="874" h="688">
                  <a:moveTo>
                    <a:pt x="0" y="137"/>
                  </a:moveTo>
                  <a:lnTo>
                    <a:pt x="749" y="0"/>
                  </a:lnTo>
                  <a:lnTo>
                    <a:pt x="785" y="42"/>
                  </a:lnTo>
                  <a:lnTo>
                    <a:pt x="834" y="13"/>
                  </a:lnTo>
                  <a:lnTo>
                    <a:pt x="874" y="555"/>
                  </a:lnTo>
                  <a:lnTo>
                    <a:pt x="110" y="688"/>
                  </a:lnTo>
                  <a:lnTo>
                    <a:pt x="0" y="646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86480" y="3850920"/>
              <a:ext cx="679320" cy="176040"/>
            </a:xfrm>
            <a:custGeom>
              <a:avLst/>
              <a:gdLst/>
              <a:ahLst/>
              <a:rect l="l" t="t" r="r" b="b"/>
              <a:pathLst>
                <a:path w="855" h="222">
                  <a:moveTo>
                    <a:pt x="0" y="180"/>
                  </a:moveTo>
                  <a:lnTo>
                    <a:pt x="557" y="79"/>
                  </a:lnTo>
                  <a:lnTo>
                    <a:pt x="576" y="0"/>
                  </a:lnTo>
                  <a:lnTo>
                    <a:pt x="658" y="43"/>
                  </a:lnTo>
                  <a:lnTo>
                    <a:pt x="743" y="28"/>
                  </a:lnTo>
                  <a:lnTo>
                    <a:pt x="855" y="98"/>
                  </a:lnTo>
                  <a:lnTo>
                    <a:pt x="114" y="22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16600" y="3831840"/>
              <a:ext cx="225360" cy="163440"/>
            </a:xfrm>
            <a:custGeom>
              <a:avLst/>
              <a:gdLst/>
              <a:ahLst/>
              <a:rect l="l" t="t" r="r" b="b"/>
              <a:pathLst>
                <a:path w="285" h="205">
                  <a:moveTo>
                    <a:pt x="95" y="28"/>
                  </a:moveTo>
                  <a:lnTo>
                    <a:pt x="185" y="0"/>
                  </a:lnTo>
                  <a:lnTo>
                    <a:pt x="247" y="57"/>
                  </a:lnTo>
                  <a:lnTo>
                    <a:pt x="234" y="80"/>
                  </a:lnTo>
                  <a:lnTo>
                    <a:pt x="192" y="53"/>
                  </a:lnTo>
                  <a:lnTo>
                    <a:pt x="169" y="64"/>
                  </a:lnTo>
                  <a:lnTo>
                    <a:pt x="285" y="150"/>
                  </a:lnTo>
                  <a:lnTo>
                    <a:pt x="263" y="184"/>
                  </a:lnTo>
                  <a:lnTo>
                    <a:pt x="215" y="139"/>
                  </a:lnTo>
                  <a:lnTo>
                    <a:pt x="192" y="150"/>
                  </a:lnTo>
                  <a:lnTo>
                    <a:pt x="238" y="196"/>
                  </a:lnTo>
                  <a:lnTo>
                    <a:pt x="196" y="205"/>
                  </a:lnTo>
                  <a:lnTo>
                    <a:pt x="162" y="177"/>
                  </a:lnTo>
                  <a:lnTo>
                    <a:pt x="111" y="194"/>
                  </a:lnTo>
                  <a:lnTo>
                    <a:pt x="0" y="123"/>
                  </a:lnTo>
                  <a:lnTo>
                    <a:pt x="95" y="28"/>
                  </a:lnTo>
                  <a:lnTo>
                    <a:pt x="95" y="28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13280" y="3360600"/>
              <a:ext cx="289080" cy="493200"/>
            </a:xfrm>
            <a:custGeom>
              <a:avLst/>
              <a:gdLst/>
              <a:ahLst/>
              <a:rect l="l" t="t" r="r" b="b"/>
              <a:pathLst>
                <a:path w="363" h="621">
                  <a:moveTo>
                    <a:pt x="363" y="0"/>
                  </a:moveTo>
                  <a:lnTo>
                    <a:pt x="321" y="171"/>
                  </a:lnTo>
                  <a:lnTo>
                    <a:pt x="124" y="230"/>
                  </a:lnTo>
                  <a:lnTo>
                    <a:pt x="240" y="621"/>
                  </a:lnTo>
                  <a:lnTo>
                    <a:pt x="25" y="564"/>
                  </a:lnTo>
                  <a:lnTo>
                    <a:pt x="0" y="66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99160" y="3176280"/>
              <a:ext cx="403200" cy="723600"/>
            </a:xfrm>
            <a:custGeom>
              <a:avLst/>
              <a:gdLst/>
              <a:ahLst/>
              <a:rect l="l" t="t" r="r" b="b"/>
              <a:pathLst>
                <a:path w="507" h="910">
                  <a:moveTo>
                    <a:pt x="496" y="42"/>
                  </a:moveTo>
                  <a:lnTo>
                    <a:pt x="507" y="232"/>
                  </a:lnTo>
                  <a:lnTo>
                    <a:pt x="182" y="353"/>
                  </a:lnTo>
                  <a:lnTo>
                    <a:pt x="249" y="688"/>
                  </a:lnTo>
                  <a:lnTo>
                    <a:pt x="384" y="867"/>
                  </a:lnTo>
                  <a:lnTo>
                    <a:pt x="357" y="910"/>
                  </a:lnTo>
                  <a:lnTo>
                    <a:pt x="49" y="760"/>
                  </a:lnTo>
                  <a:lnTo>
                    <a:pt x="0" y="384"/>
                  </a:lnTo>
                  <a:lnTo>
                    <a:pt x="226" y="0"/>
                  </a:lnTo>
                  <a:lnTo>
                    <a:pt x="496" y="42"/>
                  </a:lnTo>
                  <a:lnTo>
                    <a:pt x="496" y="4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48400" y="3126960"/>
              <a:ext cx="444600" cy="790560"/>
            </a:xfrm>
            <a:custGeom>
              <a:avLst/>
              <a:gdLst/>
              <a:ahLst/>
              <a:rect l="l" t="t" r="r" b="b"/>
              <a:pathLst>
                <a:path w="559" h="996">
                  <a:moveTo>
                    <a:pt x="528" y="0"/>
                  </a:moveTo>
                  <a:lnTo>
                    <a:pt x="559" y="109"/>
                  </a:lnTo>
                  <a:lnTo>
                    <a:pt x="293" y="206"/>
                  </a:lnTo>
                  <a:lnTo>
                    <a:pt x="118" y="489"/>
                  </a:lnTo>
                  <a:lnTo>
                    <a:pt x="207" y="489"/>
                  </a:lnTo>
                  <a:lnTo>
                    <a:pt x="264" y="837"/>
                  </a:lnTo>
                  <a:lnTo>
                    <a:pt x="327" y="808"/>
                  </a:lnTo>
                  <a:lnTo>
                    <a:pt x="420" y="973"/>
                  </a:lnTo>
                  <a:lnTo>
                    <a:pt x="393" y="996"/>
                  </a:lnTo>
                  <a:lnTo>
                    <a:pt x="190" y="926"/>
                  </a:lnTo>
                  <a:lnTo>
                    <a:pt x="0" y="673"/>
                  </a:lnTo>
                  <a:lnTo>
                    <a:pt x="26" y="299"/>
                  </a:lnTo>
                  <a:lnTo>
                    <a:pt x="315" y="15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72280" y="3152520"/>
              <a:ext cx="138240" cy="533160"/>
            </a:xfrm>
            <a:custGeom>
              <a:avLst/>
              <a:gdLst/>
              <a:ahLst/>
              <a:rect l="l" t="t" r="r" b="b"/>
              <a:pathLst>
                <a:path w="175" h="670">
                  <a:moveTo>
                    <a:pt x="0" y="104"/>
                  </a:moveTo>
                  <a:lnTo>
                    <a:pt x="42" y="157"/>
                  </a:lnTo>
                  <a:lnTo>
                    <a:pt x="19" y="598"/>
                  </a:lnTo>
                  <a:lnTo>
                    <a:pt x="122" y="670"/>
                  </a:lnTo>
                  <a:lnTo>
                    <a:pt x="175" y="581"/>
                  </a:lnTo>
                  <a:lnTo>
                    <a:pt x="93" y="154"/>
                  </a:lnTo>
                  <a:lnTo>
                    <a:pt x="135" y="87"/>
                  </a:lnTo>
                  <a:lnTo>
                    <a:pt x="45" y="0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54920" y="3035160"/>
              <a:ext cx="301320" cy="261360"/>
            </a:xfrm>
            <a:custGeom>
              <a:avLst/>
              <a:gdLst/>
              <a:ahLst/>
              <a:rect l="l" t="t" r="r" b="b"/>
              <a:pathLst>
                <a:path w="380" h="329">
                  <a:moveTo>
                    <a:pt x="0" y="38"/>
                  </a:moveTo>
                  <a:lnTo>
                    <a:pt x="55" y="295"/>
                  </a:lnTo>
                  <a:lnTo>
                    <a:pt x="205" y="202"/>
                  </a:lnTo>
                  <a:lnTo>
                    <a:pt x="332" y="329"/>
                  </a:lnTo>
                  <a:lnTo>
                    <a:pt x="380" y="65"/>
                  </a:lnTo>
                  <a:lnTo>
                    <a:pt x="342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14960" y="2833560"/>
              <a:ext cx="320760" cy="348840"/>
            </a:xfrm>
            <a:custGeom>
              <a:avLst/>
              <a:gdLst/>
              <a:ahLst/>
              <a:rect l="l" t="t" r="r" b="b"/>
              <a:pathLst>
                <a:path w="403" h="441">
                  <a:moveTo>
                    <a:pt x="263" y="9"/>
                  </a:moveTo>
                  <a:lnTo>
                    <a:pt x="264" y="11"/>
                  </a:lnTo>
                  <a:lnTo>
                    <a:pt x="274" y="19"/>
                  </a:lnTo>
                  <a:lnTo>
                    <a:pt x="285" y="28"/>
                  </a:lnTo>
                  <a:lnTo>
                    <a:pt x="302" y="43"/>
                  </a:lnTo>
                  <a:lnTo>
                    <a:pt x="310" y="51"/>
                  </a:lnTo>
                  <a:lnTo>
                    <a:pt x="320" y="60"/>
                  </a:lnTo>
                  <a:lnTo>
                    <a:pt x="329" y="68"/>
                  </a:lnTo>
                  <a:lnTo>
                    <a:pt x="339" y="79"/>
                  </a:lnTo>
                  <a:lnTo>
                    <a:pt x="348" y="89"/>
                  </a:lnTo>
                  <a:lnTo>
                    <a:pt x="359" y="100"/>
                  </a:lnTo>
                  <a:lnTo>
                    <a:pt x="369" y="110"/>
                  </a:lnTo>
                  <a:lnTo>
                    <a:pt x="380" y="121"/>
                  </a:lnTo>
                  <a:lnTo>
                    <a:pt x="344" y="142"/>
                  </a:lnTo>
                  <a:lnTo>
                    <a:pt x="403" y="270"/>
                  </a:lnTo>
                  <a:lnTo>
                    <a:pt x="339" y="433"/>
                  </a:lnTo>
                  <a:lnTo>
                    <a:pt x="186" y="441"/>
                  </a:lnTo>
                  <a:lnTo>
                    <a:pt x="38" y="270"/>
                  </a:lnTo>
                  <a:lnTo>
                    <a:pt x="0" y="117"/>
                  </a:lnTo>
                  <a:lnTo>
                    <a:pt x="162" y="0"/>
                  </a:lnTo>
                  <a:lnTo>
                    <a:pt x="263" y="9"/>
                  </a:lnTo>
                  <a:lnTo>
                    <a:pt x="263" y="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4640" y="2889000"/>
              <a:ext cx="144720" cy="60120"/>
            </a:xfrm>
            <a:custGeom>
              <a:avLst/>
              <a:gdLst/>
              <a:ahLst/>
              <a:rect l="l" t="t" r="r" b="b"/>
              <a:pathLst>
                <a:path w="181" h="76">
                  <a:moveTo>
                    <a:pt x="152" y="0"/>
                  </a:moveTo>
                  <a:lnTo>
                    <a:pt x="0" y="28"/>
                  </a:lnTo>
                  <a:lnTo>
                    <a:pt x="13" y="76"/>
                  </a:lnTo>
                  <a:lnTo>
                    <a:pt x="181" y="28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b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94520" y="2962080"/>
              <a:ext cx="241200" cy="220320"/>
            </a:xfrm>
            <a:custGeom>
              <a:avLst/>
              <a:gdLst/>
              <a:ahLst/>
              <a:rect l="l" t="t" r="r" b="b"/>
              <a:pathLst>
                <a:path w="302" h="280">
                  <a:moveTo>
                    <a:pt x="0" y="0"/>
                  </a:moveTo>
                  <a:lnTo>
                    <a:pt x="97" y="50"/>
                  </a:lnTo>
                  <a:lnTo>
                    <a:pt x="116" y="131"/>
                  </a:lnTo>
                  <a:lnTo>
                    <a:pt x="302" y="112"/>
                  </a:lnTo>
                  <a:lnTo>
                    <a:pt x="291" y="139"/>
                  </a:lnTo>
                  <a:lnTo>
                    <a:pt x="104" y="179"/>
                  </a:lnTo>
                  <a:lnTo>
                    <a:pt x="167" y="272"/>
                  </a:lnTo>
                  <a:lnTo>
                    <a:pt x="123" y="280"/>
                  </a:lnTo>
                  <a:lnTo>
                    <a:pt x="11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13480" y="3085920"/>
              <a:ext cx="449280" cy="861480"/>
            </a:xfrm>
            <a:custGeom>
              <a:avLst/>
              <a:gdLst/>
              <a:ahLst/>
              <a:rect l="l" t="t" r="r" b="b"/>
              <a:pathLst>
                <a:path w="567" h="1085">
                  <a:moveTo>
                    <a:pt x="481" y="0"/>
                  </a:moveTo>
                  <a:lnTo>
                    <a:pt x="474" y="0"/>
                  </a:lnTo>
                  <a:lnTo>
                    <a:pt x="460" y="6"/>
                  </a:lnTo>
                  <a:lnTo>
                    <a:pt x="435" y="13"/>
                  </a:lnTo>
                  <a:lnTo>
                    <a:pt x="405" y="27"/>
                  </a:lnTo>
                  <a:lnTo>
                    <a:pt x="369" y="42"/>
                  </a:lnTo>
                  <a:lnTo>
                    <a:pt x="329" y="65"/>
                  </a:lnTo>
                  <a:lnTo>
                    <a:pt x="285" y="91"/>
                  </a:lnTo>
                  <a:lnTo>
                    <a:pt x="242" y="123"/>
                  </a:lnTo>
                  <a:lnTo>
                    <a:pt x="196" y="158"/>
                  </a:lnTo>
                  <a:lnTo>
                    <a:pt x="152" y="200"/>
                  </a:lnTo>
                  <a:lnTo>
                    <a:pt x="110" y="247"/>
                  </a:lnTo>
                  <a:lnTo>
                    <a:pt x="76" y="300"/>
                  </a:lnTo>
                  <a:lnTo>
                    <a:pt x="46" y="361"/>
                  </a:lnTo>
                  <a:lnTo>
                    <a:pt x="21" y="426"/>
                  </a:lnTo>
                  <a:lnTo>
                    <a:pt x="6" y="500"/>
                  </a:lnTo>
                  <a:lnTo>
                    <a:pt x="0" y="580"/>
                  </a:lnTo>
                  <a:lnTo>
                    <a:pt x="2" y="658"/>
                  </a:lnTo>
                  <a:lnTo>
                    <a:pt x="15" y="728"/>
                  </a:lnTo>
                  <a:lnTo>
                    <a:pt x="34" y="791"/>
                  </a:lnTo>
                  <a:lnTo>
                    <a:pt x="63" y="846"/>
                  </a:lnTo>
                  <a:lnTo>
                    <a:pt x="93" y="891"/>
                  </a:lnTo>
                  <a:lnTo>
                    <a:pt x="131" y="933"/>
                  </a:lnTo>
                  <a:lnTo>
                    <a:pt x="167" y="967"/>
                  </a:lnTo>
                  <a:lnTo>
                    <a:pt x="209" y="998"/>
                  </a:lnTo>
                  <a:lnTo>
                    <a:pt x="247" y="1021"/>
                  </a:lnTo>
                  <a:lnTo>
                    <a:pt x="285" y="1040"/>
                  </a:lnTo>
                  <a:lnTo>
                    <a:pt x="321" y="1055"/>
                  </a:lnTo>
                  <a:lnTo>
                    <a:pt x="356" y="1066"/>
                  </a:lnTo>
                  <a:lnTo>
                    <a:pt x="382" y="1074"/>
                  </a:lnTo>
                  <a:lnTo>
                    <a:pt x="403" y="1079"/>
                  </a:lnTo>
                  <a:lnTo>
                    <a:pt x="418" y="1083"/>
                  </a:lnTo>
                  <a:lnTo>
                    <a:pt x="424" y="1085"/>
                  </a:lnTo>
                  <a:lnTo>
                    <a:pt x="439" y="1043"/>
                  </a:lnTo>
                  <a:lnTo>
                    <a:pt x="339" y="918"/>
                  </a:lnTo>
                  <a:lnTo>
                    <a:pt x="302" y="967"/>
                  </a:lnTo>
                  <a:lnTo>
                    <a:pt x="72" y="707"/>
                  </a:lnTo>
                  <a:lnTo>
                    <a:pt x="105" y="369"/>
                  </a:lnTo>
                  <a:lnTo>
                    <a:pt x="173" y="390"/>
                  </a:lnTo>
                  <a:lnTo>
                    <a:pt x="361" y="93"/>
                  </a:lnTo>
                  <a:lnTo>
                    <a:pt x="415" y="137"/>
                  </a:lnTo>
                  <a:lnTo>
                    <a:pt x="567" y="51"/>
                  </a:lnTo>
                  <a:lnTo>
                    <a:pt x="481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88040" y="3481200"/>
              <a:ext cx="55800" cy="407520"/>
            </a:xfrm>
            <a:custGeom>
              <a:avLst/>
              <a:gdLst/>
              <a:ahLst/>
              <a:rect l="l" t="t" r="r" b="b"/>
              <a:pathLst>
                <a:path w="71" h="513">
                  <a:moveTo>
                    <a:pt x="0" y="0"/>
                  </a:moveTo>
                  <a:lnTo>
                    <a:pt x="14" y="479"/>
                  </a:lnTo>
                  <a:lnTo>
                    <a:pt x="71" y="513"/>
                  </a:lnTo>
                  <a:lnTo>
                    <a:pt x="57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97680" y="2793600"/>
              <a:ext cx="245880" cy="268200"/>
            </a:xfrm>
            <a:custGeom>
              <a:avLst/>
              <a:gdLst/>
              <a:ahLst/>
              <a:rect l="l" t="t" r="r" b="b"/>
              <a:pathLst>
                <a:path w="310" h="339">
                  <a:moveTo>
                    <a:pt x="310" y="55"/>
                  </a:moveTo>
                  <a:lnTo>
                    <a:pt x="124" y="129"/>
                  </a:lnTo>
                  <a:lnTo>
                    <a:pt x="124" y="211"/>
                  </a:lnTo>
                  <a:lnTo>
                    <a:pt x="65" y="196"/>
                  </a:lnTo>
                  <a:lnTo>
                    <a:pt x="61" y="198"/>
                  </a:lnTo>
                  <a:lnTo>
                    <a:pt x="57" y="206"/>
                  </a:lnTo>
                  <a:lnTo>
                    <a:pt x="54" y="219"/>
                  </a:lnTo>
                  <a:lnTo>
                    <a:pt x="52" y="234"/>
                  </a:lnTo>
                  <a:lnTo>
                    <a:pt x="52" y="249"/>
                  </a:lnTo>
                  <a:lnTo>
                    <a:pt x="57" y="264"/>
                  </a:lnTo>
                  <a:lnTo>
                    <a:pt x="63" y="272"/>
                  </a:lnTo>
                  <a:lnTo>
                    <a:pt x="69" y="280"/>
                  </a:lnTo>
                  <a:lnTo>
                    <a:pt x="80" y="283"/>
                  </a:lnTo>
                  <a:lnTo>
                    <a:pt x="92" y="291"/>
                  </a:lnTo>
                  <a:lnTo>
                    <a:pt x="73" y="339"/>
                  </a:lnTo>
                  <a:lnTo>
                    <a:pt x="69" y="335"/>
                  </a:lnTo>
                  <a:lnTo>
                    <a:pt x="57" y="327"/>
                  </a:lnTo>
                  <a:lnTo>
                    <a:pt x="48" y="320"/>
                  </a:lnTo>
                  <a:lnTo>
                    <a:pt x="44" y="310"/>
                  </a:lnTo>
                  <a:lnTo>
                    <a:pt x="35" y="301"/>
                  </a:lnTo>
                  <a:lnTo>
                    <a:pt x="29" y="291"/>
                  </a:lnTo>
                  <a:lnTo>
                    <a:pt x="21" y="278"/>
                  </a:lnTo>
                  <a:lnTo>
                    <a:pt x="14" y="263"/>
                  </a:lnTo>
                  <a:lnTo>
                    <a:pt x="8" y="245"/>
                  </a:lnTo>
                  <a:lnTo>
                    <a:pt x="4" y="228"/>
                  </a:lnTo>
                  <a:lnTo>
                    <a:pt x="0" y="206"/>
                  </a:lnTo>
                  <a:lnTo>
                    <a:pt x="0" y="185"/>
                  </a:lnTo>
                  <a:lnTo>
                    <a:pt x="2" y="160"/>
                  </a:lnTo>
                  <a:lnTo>
                    <a:pt x="6" y="135"/>
                  </a:lnTo>
                  <a:lnTo>
                    <a:pt x="247" y="0"/>
                  </a:lnTo>
                  <a:lnTo>
                    <a:pt x="310" y="55"/>
                  </a:lnTo>
                  <a:lnTo>
                    <a:pt x="310" y="55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643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4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762120" y="685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OCESO de CREACION de VAL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¿Qué quieren los clien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24120" y="4162320"/>
            <a:ext cx="250200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33cc"/>
                </a:solidFill>
                <a:latin typeface="Comic Sans MS"/>
              </a:rPr>
              <a:t>Voz del Client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867280" y="3247920"/>
            <a:ext cx="2514600" cy="3076560"/>
            <a:chOff x="5867280" y="3247920"/>
            <a:chExt cx="2514600" cy="3076560"/>
          </a:xfrm>
        </p:grpSpPr>
        <p:grpSp>
          <p:nvGrpSpPr>
            <p:cNvPr id="653" name=""/>
            <p:cNvGrpSpPr/>
            <p:nvPr/>
          </p:nvGrpSpPr>
          <p:grpSpPr>
            <a:xfrm>
              <a:off x="5867280" y="3247920"/>
              <a:ext cx="2514600" cy="647640"/>
              <a:chOff x="5867280" y="3247920"/>
              <a:chExt cx="2514600" cy="647640"/>
            </a:xfrm>
          </p:grpSpPr>
          <p:sp>
            <p:nvSpPr>
              <p:cNvPr id="654" name=""/>
              <p:cNvSpPr/>
              <p:nvPr/>
            </p:nvSpPr>
            <p:spPr>
              <a:xfrm>
                <a:off x="5867280" y="3247920"/>
                <a:ext cx="2514600" cy="647640"/>
              </a:xfrm>
              <a:prstGeom prst="cloudCallout">
                <a:avLst>
                  <a:gd name="adj1" fmla="val 4277"/>
                  <a:gd name="adj2" fmla="val 134953"/>
                </a:avLst>
              </a:prstGeom>
              <a:solidFill>
                <a:srgbClr val="00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131880" y="3319920"/>
                <a:ext cx="198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omic Sans MS"/>
                  </a:rPr>
                  <a:t>Percepció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6553080" y="4467240"/>
              <a:ext cx="1295640" cy="1857240"/>
              <a:chOff x="6553080" y="4467240"/>
              <a:chExt cx="1295640" cy="1857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553080" y="4467240"/>
                <a:ext cx="1295640" cy="1857240"/>
              </a:xfrm>
              <a:custGeom>
                <a:avLst/>
                <a:gdLst/>
                <a:ahLst/>
                <a:rect l="l" t="t" r="r" b="b"/>
                <a:pathLst>
                  <a:path w="2480" h="3396">
                    <a:moveTo>
                      <a:pt x="2480" y="3396"/>
                    </a:moveTo>
                    <a:lnTo>
                      <a:pt x="2324" y="3396"/>
                    </a:lnTo>
                    <a:lnTo>
                      <a:pt x="2170" y="3396"/>
                    </a:lnTo>
                    <a:lnTo>
                      <a:pt x="2009" y="3396"/>
                    </a:lnTo>
                    <a:lnTo>
                      <a:pt x="1849" y="3396"/>
                    </a:lnTo>
                    <a:lnTo>
                      <a:pt x="1686" y="3396"/>
                    </a:lnTo>
                    <a:lnTo>
                      <a:pt x="1522" y="3396"/>
                    </a:lnTo>
                    <a:lnTo>
                      <a:pt x="1361" y="3396"/>
                    </a:lnTo>
                    <a:lnTo>
                      <a:pt x="1199" y="3396"/>
                    </a:lnTo>
                    <a:lnTo>
                      <a:pt x="1036" y="3396"/>
                    </a:lnTo>
                    <a:lnTo>
                      <a:pt x="876" y="3396"/>
                    </a:lnTo>
                    <a:lnTo>
                      <a:pt x="718" y="3396"/>
                    </a:lnTo>
                    <a:lnTo>
                      <a:pt x="566" y="3396"/>
                    </a:lnTo>
                    <a:lnTo>
                      <a:pt x="416" y="3396"/>
                    </a:lnTo>
                    <a:lnTo>
                      <a:pt x="271" y="3396"/>
                    </a:lnTo>
                    <a:lnTo>
                      <a:pt x="129" y="3396"/>
                    </a:lnTo>
                    <a:lnTo>
                      <a:pt x="0" y="3396"/>
                    </a:lnTo>
                    <a:lnTo>
                      <a:pt x="26" y="3375"/>
                    </a:lnTo>
                    <a:lnTo>
                      <a:pt x="66" y="3301"/>
                    </a:lnTo>
                    <a:lnTo>
                      <a:pt x="108" y="3215"/>
                    </a:lnTo>
                    <a:lnTo>
                      <a:pt x="159" y="3122"/>
                    </a:lnTo>
                    <a:lnTo>
                      <a:pt x="212" y="3016"/>
                    </a:lnTo>
                    <a:lnTo>
                      <a:pt x="271" y="2909"/>
                    </a:lnTo>
                    <a:lnTo>
                      <a:pt x="328" y="2797"/>
                    </a:lnTo>
                    <a:lnTo>
                      <a:pt x="387" y="2687"/>
                    </a:lnTo>
                    <a:lnTo>
                      <a:pt x="442" y="2579"/>
                    </a:lnTo>
                    <a:lnTo>
                      <a:pt x="496" y="2476"/>
                    </a:lnTo>
                    <a:lnTo>
                      <a:pt x="545" y="2381"/>
                    </a:lnTo>
                    <a:lnTo>
                      <a:pt x="591" y="2299"/>
                    </a:lnTo>
                    <a:lnTo>
                      <a:pt x="625" y="2229"/>
                    </a:lnTo>
                    <a:lnTo>
                      <a:pt x="655" y="2178"/>
                    </a:lnTo>
                    <a:lnTo>
                      <a:pt x="672" y="2144"/>
                    </a:lnTo>
                    <a:lnTo>
                      <a:pt x="678" y="2134"/>
                    </a:lnTo>
                    <a:lnTo>
                      <a:pt x="298" y="1868"/>
                    </a:lnTo>
                    <a:lnTo>
                      <a:pt x="397" y="699"/>
                    </a:lnTo>
                    <a:lnTo>
                      <a:pt x="998" y="338"/>
                    </a:lnTo>
                    <a:lnTo>
                      <a:pt x="1226" y="0"/>
                    </a:lnTo>
                    <a:lnTo>
                      <a:pt x="1980" y="482"/>
                    </a:lnTo>
                    <a:lnTo>
                      <a:pt x="2461" y="1060"/>
                    </a:lnTo>
                    <a:lnTo>
                      <a:pt x="2275" y="2153"/>
                    </a:lnTo>
                    <a:lnTo>
                      <a:pt x="2448" y="2358"/>
                    </a:lnTo>
                    <a:lnTo>
                      <a:pt x="2448" y="2368"/>
                    </a:lnTo>
                    <a:lnTo>
                      <a:pt x="2448" y="2398"/>
                    </a:lnTo>
                    <a:lnTo>
                      <a:pt x="2450" y="2442"/>
                    </a:lnTo>
                    <a:lnTo>
                      <a:pt x="2452" y="2505"/>
                    </a:lnTo>
                    <a:lnTo>
                      <a:pt x="2454" y="2575"/>
                    </a:lnTo>
                    <a:lnTo>
                      <a:pt x="2457" y="2657"/>
                    </a:lnTo>
                    <a:lnTo>
                      <a:pt x="2459" y="2744"/>
                    </a:lnTo>
                    <a:lnTo>
                      <a:pt x="2463" y="2837"/>
                    </a:lnTo>
                    <a:lnTo>
                      <a:pt x="2465" y="2930"/>
                    </a:lnTo>
                    <a:lnTo>
                      <a:pt x="2467" y="3022"/>
                    </a:lnTo>
                    <a:lnTo>
                      <a:pt x="2469" y="3113"/>
                    </a:lnTo>
                    <a:lnTo>
                      <a:pt x="2473" y="3198"/>
                    </a:lnTo>
                    <a:lnTo>
                      <a:pt x="2474" y="3274"/>
                    </a:lnTo>
                    <a:lnTo>
                      <a:pt x="2476" y="3341"/>
                    </a:lnTo>
                    <a:lnTo>
                      <a:pt x="2478" y="3394"/>
                    </a:lnTo>
                    <a:lnTo>
                      <a:pt x="2480" y="3396"/>
                    </a:lnTo>
                    <a:lnTo>
                      <a:pt x="2480" y="339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640560" y="4575600"/>
                <a:ext cx="1145160" cy="1748880"/>
              </a:xfrm>
              <a:custGeom>
                <a:avLst/>
                <a:gdLst/>
                <a:ahLst/>
                <a:rect l="l" t="t" r="r" b="b"/>
                <a:pathLst>
                  <a:path w="2193" h="3199">
                    <a:moveTo>
                      <a:pt x="0" y="3199"/>
                    </a:moveTo>
                    <a:lnTo>
                      <a:pt x="2053" y="3199"/>
                    </a:lnTo>
                    <a:lnTo>
                      <a:pt x="2193" y="2522"/>
                    </a:lnTo>
                    <a:lnTo>
                      <a:pt x="1952" y="1718"/>
                    </a:lnTo>
                    <a:lnTo>
                      <a:pt x="2108" y="1696"/>
                    </a:lnTo>
                    <a:lnTo>
                      <a:pt x="2161" y="768"/>
                    </a:lnTo>
                    <a:lnTo>
                      <a:pt x="1452" y="255"/>
                    </a:lnTo>
                    <a:lnTo>
                      <a:pt x="1494" y="152"/>
                    </a:lnTo>
                    <a:lnTo>
                      <a:pt x="992" y="0"/>
                    </a:lnTo>
                    <a:lnTo>
                      <a:pt x="863" y="350"/>
                    </a:lnTo>
                    <a:lnTo>
                      <a:pt x="283" y="702"/>
                    </a:lnTo>
                    <a:lnTo>
                      <a:pt x="217" y="1346"/>
                    </a:lnTo>
                    <a:lnTo>
                      <a:pt x="329" y="1751"/>
                    </a:lnTo>
                    <a:lnTo>
                      <a:pt x="699" y="1642"/>
                    </a:lnTo>
                    <a:lnTo>
                      <a:pt x="329" y="2625"/>
                    </a:lnTo>
                    <a:lnTo>
                      <a:pt x="131" y="2756"/>
                    </a:lnTo>
                    <a:lnTo>
                      <a:pt x="0" y="3199"/>
                    </a:lnTo>
                    <a:lnTo>
                      <a:pt x="0" y="319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65160" y="5247000"/>
                <a:ext cx="340200" cy="1077480"/>
              </a:xfrm>
              <a:custGeom>
                <a:avLst/>
                <a:gdLst/>
                <a:ahLst/>
                <a:rect l="l" t="t" r="r" b="b"/>
                <a:pathLst>
                  <a:path w="652" h="1969">
                    <a:moveTo>
                      <a:pt x="105" y="544"/>
                    </a:moveTo>
                    <a:lnTo>
                      <a:pt x="97" y="0"/>
                    </a:lnTo>
                    <a:lnTo>
                      <a:pt x="652" y="1099"/>
                    </a:lnTo>
                    <a:lnTo>
                      <a:pt x="647" y="1106"/>
                    </a:lnTo>
                    <a:lnTo>
                      <a:pt x="633" y="1131"/>
                    </a:lnTo>
                    <a:lnTo>
                      <a:pt x="613" y="1169"/>
                    </a:lnTo>
                    <a:lnTo>
                      <a:pt x="588" y="1222"/>
                    </a:lnTo>
                    <a:lnTo>
                      <a:pt x="556" y="1281"/>
                    </a:lnTo>
                    <a:lnTo>
                      <a:pt x="519" y="1349"/>
                    </a:lnTo>
                    <a:lnTo>
                      <a:pt x="479" y="1422"/>
                    </a:lnTo>
                    <a:lnTo>
                      <a:pt x="441" y="1501"/>
                    </a:lnTo>
                    <a:lnTo>
                      <a:pt x="398" y="1579"/>
                    </a:lnTo>
                    <a:lnTo>
                      <a:pt x="358" y="1657"/>
                    </a:lnTo>
                    <a:lnTo>
                      <a:pt x="316" y="1733"/>
                    </a:lnTo>
                    <a:lnTo>
                      <a:pt x="282" y="1804"/>
                    </a:lnTo>
                    <a:lnTo>
                      <a:pt x="246" y="1868"/>
                    </a:lnTo>
                    <a:lnTo>
                      <a:pt x="219" y="1923"/>
                    </a:lnTo>
                    <a:lnTo>
                      <a:pt x="194" y="1967"/>
                    </a:lnTo>
                    <a:lnTo>
                      <a:pt x="177" y="1969"/>
                    </a:lnTo>
                    <a:lnTo>
                      <a:pt x="166" y="1969"/>
                    </a:lnTo>
                    <a:lnTo>
                      <a:pt x="156" y="1969"/>
                    </a:lnTo>
                    <a:lnTo>
                      <a:pt x="143" y="1969"/>
                    </a:lnTo>
                    <a:lnTo>
                      <a:pt x="134" y="1969"/>
                    </a:lnTo>
                    <a:lnTo>
                      <a:pt x="120" y="1969"/>
                    </a:lnTo>
                    <a:lnTo>
                      <a:pt x="111" y="1969"/>
                    </a:lnTo>
                    <a:lnTo>
                      <a:pt x="99" y="1969"/>
                    </a:lnTo>
                    <a:lnTo>
                      <a:pt x="90" y="1969"/>
                    </a:lnTo>
                    <a:lnTo>
                      <a:pt x="77" y="1969"/>
                    </a:lnTo>
                    <a:lnTo>
                      <a:pt x="65" y="1969"/>
                    </a:lnTo>
                    <a:lnTo>
                      <a:pt x="52" y="1969"/>
                    </a:lnTo>
                    <a:lnTo>
                      <a:pt x="42" y="1969"/>
                    </a:lnTo>
                    <a:lnTo>
                      <a:pt x="31" y="1969"/>
                    </a:lnTo>
                    <a:lnTo>
                      <a:pt x="21" y="1969"/>
                    </a:lnTo>
                    <a:lnTo>
                      <a:pt x="10" y="1969"/>
                    </a:lnTo>
                    <a:lnTo>
                      <a:pt x="0" y="1969"/>
                    </a:lnTo>
                    <a:lnTo>
                      <a:pt x="6" y="1969"/>
                    </a:lnTo>
                    <a:lnTo>
                      <a:pt x="16" y="1939"/>
                    </a:lnTo>
                    <a:lnTo>
                      <a:pt x="29" y="1889"/>
                    </a:lnTo>
                    <a:lnTo>
                      <a:pt x="50" y="1830"/>
                    </a:lnTo>
                    <a:lnTo>
                      <a:pt x="69" y="1762"/>
                    </a:lnTo>
                    <a:lnTo>
                      <a:pt x="92" y="1692"/>
                    </a:lnTo>
                    <a:lnTo>
                      <a:pt x="115" y="1615"/>
                    </a:lnTo>
                    <a:lnTo>
                      <a:pt x="137" y="1541"/>
                    </a:lnTo>
                    <a:lnTo>
                      <a:pt x="158" y="1463"/>
                    </a:lnTo>
                    <a:lnTo>
                      <a:pt x="181" y="1393"/>
                    </a:lnTo>
                    <a:lnTo>
                      <a:pt x="202" y="1325"/>
                    </a:lnTo>
                    <a:lnTo>
                      <a:pt x="221" y="1268"/>
                    </a:lnTo>
                    <a:lnTo>
                      <a:pt x="236" y="1214"/>
                    </a:lnTo>
                    <a:lnTo>
                      <a:pt x="248" y="1176"/>
                    </a:lnTo>
                    <a:lnTo>
                      <a:pt x="257" y="1152"/>
                    </a:lnTo>
                    <a:lnTo>
                      <a:pt x="261" y="1144"/>
                    </a:lnTo>
                    <a:lnTo>
                      <a:pt x="105" y="544"/>
                    </a:lnTo>
                    <a:lnTo>
                      <a:pt x="105" y="5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01520" y="5065200"/>
                <a:ext cx="313200" cy="1258920"/>
              </a:xfrm>
              <a:custGeom>
                <a:avLst/>
                <a:gdLst/>
                <a:ahLst/>
                <a:rect l="l" t="t" r="r" b="b"/>
                <a:pathLst>
                  <a:path w="600" h="2302">
                    <a:moveTo>
                      <a:pt x="57" y="561"/>
                    </a:moveTo>
                    <a:lnTo>
                      <a:pt x="57" y="0"/>
                    </a:lnTo>
                    <a:lnTo>
                      <a:pt x="568" y="1249"/>
                    </a:lnTo>
                    <a:lnTo>
                      <a:pt x="600" y="1914"/>
                    </a:lnTo>
                    <a:lnTo>
                      <a:pt x="597" y="1918"/>
                    </a:lnTo>
                    <a:lnTo>
                      <a:pt x="589" y="1929"/>
                    </a:lnTo>
                    <a:lnTo>
                      <a:pt x="572" y="1947"/>
                    </a:lnTo>
                    <a:lnTo>
                      <a:pt x="557" y="1971"/>
                    </a:lnTo>
                    <a:lnTo>
                      <a:pt x="534" y="1998"/>
                    </a:lnTo>
                    <a:lnTo>
                      <a:pt x="511" y="2030"/>
                    </a:lnTo>
                    <a:lnTo>
                      <a:pt x="485" y="2066"/>
                    </a:lnTo>
                    <a:lnTo>
                      <a:pt x="462" y="2102"/>
                    </a:lnTo>
                    <a:lnTo>
                      <a:pt x="433" y="2139"/>
                    </a:lnTo>
                    <a:lnTo>
                      <a:pt x="405" y="2177"/>
                    </a:lnTo>
                    <a:lnTo>
                      <a:pt x="380" y="2209"/>
                    </a:lnTo>
                    <a:lnTo>
                      <a:pt x="357" y="2243"/>
                    </a:lnTo>
                    <a:lnTo>
                      <a:pt x="334" y="2272"/>
                    </a:lnTo>
                    <a:lnTo>
                      <a:pt x="315" y="2298"/>
                    </a:lnTo>
                    <a:lnTo>
                      <a:pt x="298" y="2302"/>
                    </a:lnTo>
                    <a:lnTo>
                      <a:pt x="291" y="2302"/>
                    </a:lnTo>
                    <a:lnTo>
                      <a:pt x="272" y="2302"/>
                    </a:lnTo>
                    <a:lnTo>
                      <a:pt x="255" y="2302"/>
                    </a:lnTo>
                    <a:lnTo>
                      <a:pt x="236" y="2302"/>
                    </a:lnTo>
                    <a:lnTo>
                      <a:pt x="220" y="2302"/>
                    </a:lnTo>
                    <a:lnTo>
                      <a:pt x="201" y="2302"/>
                    </a:lnTo>
                    <a:lnTo>
                      <a:pt x="184" y="2302"/>
                    </a:lnTo>
                    <a:lnTo>
                      <a:pt x="167" y="2302"/>
                    </a:lnTo>
                    <a:lnTo>
                      <a:pt x="148" y="2302"/>
                    </a:lnTo>
                    <a:lnTo>
                      <a:pt x="129" y="2302"/>
                    </a:lnTo>
                    <a:lnTo>
                      <a:pt x="110" y="2302"/>
                    </a:lnTo>
                    <a:lnTo>
                      <a:pt x="91" y="2302"/>
                    </a:lnTo>
                    <a:lnTo>
                      <a:pt x="74" y="2302"/>
                    </a:lnTo>
                    <a:lnTo>
                      <a:pt x="55" y="2302"/>
                    </a:lnTo>
                    <a:lnTo>
                      <a:pt x="36" y="2302"/>
                    </a:lnTo>
                    <a:lnTo>
                      <a:pt x="17" y="2302"/>
                    </a:lnTo>
                    <a:lnTo>
                      <a:pt x="0" y="2302"/>
                    </a:lnTo>
                    <a:lnTo>
                      <a:pt x="9" y="2302"/>
                    </a:lnTo>
                    <a:lnTo>
                      <a:pt x="25" y="2272"/>
                    </a:lnTo>
                    <a:lnTo>
                      <a:pt x="44" y="2230"/>
                    </a:lnTo>
                    <a:lnTo>
                      <a:pt x="66" y="2182"/>
                    </a:lnTo>
                    <a:lnTo>
                      <a:pt x="89" y="2131"/>
                    </a:lnTo>
                    <a:lnTo>
                      <a:pt x="116" y="2074"/>
                    </a:lnTo>
                    <a:lnTo>
                      <a:pt x="142" y="2017"/>
                    </a:lnTo>
                    <a:lnTo>
                      <a:pt x="169" y="1962"/>
                    </a:lnTo>
                    <a:lnTo>
                      <a:pt x="194" y="1903"/>
                    </a:lnTo>
                    <a:lnTo>
                      <a:pt x="220" y="1852"/>
                    </a:lnTo>
                    <a:lnTo>
                      <a:pt x="243" y="1802"/>
                    </a:lnTo>
                    <a:lnTo>
                      <a:pt x="264" y="1760"/>
                    </a:lnTo>
                    <a:lnTo>
                      <a:pt x="279" y="1722"/>
                    </a:lnTo>
                    <a:lnTo>
                      <a:pt x="294" y="1696"/>
                    </a:lnTo>
                    <a:lnTo>
                      <a:pt x="302" y="1679"/>
                    </a:lnTo>
                    <a:lnTo>
                      <a:pt x="306" y="1673"/>
                    </a:lnTo>
                    <a:lnTo>
                      <a:pt x="306" y="1304"/>
                    </a:lnTo>
                    <a:lnTo>
                      <a:pt x="57" y="561"/>
                    </a:lnTo>
                    <a:lnTo>
                      <a:pt x="57" y="561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371360" y="5138640"/>
                <a:ext cx="284040" cy="1185480"/>
              </a:xfrm>
              <a:custGeom>
                <a:avLst/>
                <a:gdLst/>
                <a:ahLst/>
                <a:rect l="l" t="t" r="r" b="b"/>
                <a:pathLst>
                  <a:path w="543" h="2169">
                    <a:moveTo>
                      <a:pt x="0" y="80"/>
                    </a:moveTo>
                    <a:lnTo>
                      <a:pt x="97" y="0"/>
                    </a:lnTo>
                    <a:lnTo>
                      <a:pt x="338" y="502"/>
                    </a:lnTo>
                    <a:lnTo>
                      <a:pt x="543" y="1126"/>
                    </a:lnTo>
                    <a:lnTo>
                      <a:pt x="532" y="1563"/>
                    </a:lnTo>
                    <a:lnTo>
                      <a:pt x="528" y="1568"/>
                    </a:lnTo>
                    <a:lnTo>
                      <a:pt x="521" y="1586"/>
                    </a:lnTo>
                    <a:lnTo>
                      <a:pt x="511" y="1610"/>
                    </a:lnTo>
                    <a:lnTo>
                      <a:pt x="498" y="1646"/>
                    </a:lnTo>
                    <a:lnTo>
                      <a:pt x="481" y="1688"/>
                    </a:lnTo>
                    <a:lnTo>
                      <a:pt x="464" y="1736"/>
                    </a:lnTo>
                    <a:lnTo>
                      <a:pt x="445" y="1787"/>
                    </a:lnTo>
                    <a:lnTo>
                      <a:pt x="426" y="1842"/>
                    </a:lnTo>
                    <a:lnTo>
                      <a:pt x="403" y="1895"/>
                    </a:lnTo>
                    <a:lnTo>
                      <a:pt x="382" y="1950"/>
                    </a:lnTo>
                    <a:lnTo>
                      <a:pt x="361" y="2004"/>
                    </a:lnTo>
                    <a:lnTo>
                      <a:pt x="344" y="2055"/>
                    </a:lnTo>
                    <a:lnTo>
                      <a:pt x="325" y="2101"/>
                    </a:lnTo>
                    <a:lnTo>
                      <a:pt x="310" y="2140"/>
                    </a:lnTo>
                    <a:lnTo>
                      <a:pt x="298" y="2169"/>
                    </a:lnTo>
                    <a:lnTo>
                      <a:pt x="291" y="2169"/>
                    </a:lnTo>
                    <a:lnTo>
                      <a:pt x="277" y="2169"/>
                    </a:lnTo>
                    <a:lnTo>
                      <a:pt x="264" y="2169"/>
                    </a:lnTo>
                    <a:lnTo>
                      <a:pt x="249" y="2169"/>
                    </a:lnTo>
                    <a:lnTo>
                      <a:pt x="237" y="2169"/>
                    </a:lnTo>
                    <a:lnTo>
                      <a:pt x="224" y="2169"/>
                    </a:lnTo>
                    <a:lnTo>
                      <a:pt x="209" y="2169"/>
                    </a:lnTo>
                    <a:lnTo>
                      <a:pt x="196" y="2169"/>
                    </a:lnTo>
                    <a:lnTo>
                      <a:pt x="182" y="2169"/>
                    </a:lnTo>
                    <a:lnTo>
                      <a:pt x="167" y="2169"/>
                    </a:lnTo>
                    <a:lnTo>
                      <a:pt x="154" y="2169"/>
                    </a:lnTo>
                    <a:lnTo>
                      <a:pt x="139" y="2169"/>
                    </a:lnTo>
                    <a:lnTo>
                      <a:pt x="123" y="2169"/>
                    </a:lnTo>
                    <a:lnTo>
                      <a:pt x="108" y="2169"/>
                    </a:lnTo>
                    <a:lnTo>
                      <a:pt x="95" y="2169"/>
                    </a:lnTo>
                    <a:lnTo>
                      <a:pt x="80" y="2169"/>
                    </a:lnTo>
                    <a:lnTo>
                      <a:pt x="66" y="2169"/>
                    </a:lnTo>
                    <a:lnTo>
                      <a:pt x="68" y="2169"/>
                    </a:lnTo>
                    <a:lnTo>
                      <a:pt x="72" y="2163"/>
                    </a:lnTo>
                    <a:lnTo>
                      <a:pt x="76" y="2139"/>
                    </a:lnTo>
                    <a:lnTo>
                      <a:pt x="83" y="2114"/>
                    </a:lnTo>
                    <a:lnTo>
                      <a:pt x="89" y="2087"/>
                    </a:lnTo>
                    <a:lnTo>
                      <a:pt x="95" y="2059"/>
                    </a:lnTo>
                    <a:lnTo>
                      <a:pt x="101" y="2028"/>
                    </a:lnTo>
                    <a:lnTo>
                      <a:pt x="108" y="2002"/>
                    </a:lnTo>
                    <a:lnTo>
                      <a:pt x="114" y="1971"/>
                    </a:lnTo>
                    <a:lnTo>
                      <a:pt x="120" y="1945"/>
                    </a:lnTo>
                    <a:lnTo>
                      <a:pt x="123" y="1918"/>
                    </a:lnTo>
                    <a:lnTo>
                      <a:pt x="129" y="1899"/>
                    </a:lnTo>
                    <a:lnTo>
                      <a:pt x="133" y="1880"/>
                    </a:lnTo>
                    <a:lnTo>
                      <a:pt x="137" y="1869"/>
                    </a:lnTo>
                    <a:lnTo>
                      <a:pt x="139" y="1859"/>
                    </a:lnTo>
                    <a:lnTo>
                      <a:pt x="140" y="1857"/>
                    </a:lnTo>
                    <a:lnTo>
                      <a:pt x="247" y="1871"/>
                    </a:lnTo>
                    <a:lnTo>
                      <a:pt x="370" y="1255"/>
                    </a:lnTo>
                    <a:lnTo>
                      <a:pt x="194" y="108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00880" y="5174640"/>
                <a:ext cx="285840" cy="1149480"/>
              </a:xfrm>
              <a:custGeom>
                <a:avLst/>
                <a:gdLst/>
                <a:ahLst/>
                <a:rect l="l" t="t" r="r" b="b"/>
                <a:pathLst>
                  <a:path w="547" h="2102">
                    <a:moveTo>
                      <a:pt x="72" y="0"/>
                    </a:moveTo>
                    <a:lnTo>
                      <a:pt x="76" y="6"/>
                    </a:lnTo>
                    <a:lnTo>
                      <a:pt x="89" y="27"/>
                    </a:lnTo>
                    <a:lnTo>
                      <a:pt x="110" y="59"/>
                    </a:lnTo>
                    <a:lnTo>
                      <a:pt x="141" y="104"/>
                    </a:lnTo>
                    <a:lnTo>
                      <a:pt x="173" y="160"/>
                    </a:lnTo>
                    <a:lnTo>
                      <a:pt x="213" y="224"/>
                    </a:lnTo>
                    <a:lnTo>
                      <a:pt x="253" y="295"/>
                    </a:lnTo>
                    <a:lnTo>
                      <a:pt x="295" y="378"/>
                    </a:lnTo>
                    <a:lnTo>
                      <a:pt x="336" y="464"/>
                    </a:lnTo>
                    <a:lnTo>
                      <a:pt x="378" y="559"/>
                    </a:lnTo>
                    <a:lnTo>
                      <a:pt x="418" y="656"/>
                    </a:lnTo>
                    <a:lnTo>
                      <a:pt x="456" y="760"/>
                    </a:lnTo>
                    <a:lnTo>
                      <a:pt x="485" y="863"/>
                    </a:lnTo>
                    <a:lnTo>
                      <a:pt x="511" y="971"/>
                    </a:lnTo>
                    <a:lnTo>
                      <a:pt x="530" y="1079"/>
                    </a:lnTo>
                    <a:lnTo>
                      <a:pt x="544" y="1188"/>
                    </a:lnTo>
                    <a:lnTo>
                      <a:pt x="545" y="1285"/>
                    </a:lnTo>
                    <a:lnTo>
                      <a:pt x="547" y="1380"/>
                    </a:lnTo>
                    <a:lnTo>
                      <a:pt x="544" y="1467"/>
                    </a:lnTo>
                    <a:lnTo>
                      <a:pt x="540" y="1553"/>
                    </a:lnTo>
                    <a:lnTo>
                      <a:pt x="532" y="1631"/>
                    </a:lnTo>
                    <a:lnTo>
                      <a:pt x="525" y="1705"/>
                    </a:lnTo>
                    <a:lnTo>
                      <a:pt x="513" y="1775"/>
                    </a:lnTo>
                    <a:lnTo>
                      <a:pt x="506" y="1840"/>
                    </a:lnTo>
                    <a:lnTo>
                      <a:pt x="490" y="1895"/>
                    </a:lnTo>
                    <a:lnTo>
                      <a:pt x="481" y="1948"/>
                    </a:lnTo>
                    <a:lnTo>
                      <a:pt x="468" y="1994"/>
                    </a:lnTo>
                    <a:lnTo>
                      <a:pt x="458" y="2035"/>
                    </a:lnTo>
                    <a:lnTo>
                      <a:pt x="445" y="2068"/>
                    </a:lnTo>
                    <a:lnTo>
                      <a:pt x="437" y="2096"/>
                    </a:lnTo>
                    <a:lnTo>
                      <a:pt x="429" y="2102"/>
                    </a:lnTo>
                    <a:lnTo>
                      <a:pt x="426" y="2102"/>
                    </a:lnTo>
                    <a:lnTo>
                      <a:pt x="409" y="2102"/>
                    </a:lnTo>
                    <a:lnTo>
                      <a:pt x="391" y="2102"/>
                    </a:lnTo>
                    <a:lnTo>
                      <a:pt x="374" y="2102"/>
                    </a:lnTo>
                    <a:lnTo>
                      <a:pt x="357" y="2102"/>
                    </a:lnTo>
                    <a:lnTo>
                      <a:pt x="338" y="2102"/>
                    </a:lnTo>
                    <a:lnTo>
                      <a:pt x="321" y="2102"/>
                    </a:lnTo>
                    <a:lnTo>
                      <a:pt x="304" y="2102"/>
                    </a:lnTo>
                    <a:lnTo>
                      <a:pt x="287" y="2102"/>
                    </a:lnTo>
                    <a:lnTo>
                      <a:pt x="268" y="2102"/>
                    </a:lnTo>
                    <a:lnTo>
                      <a:pt x="249" y="2102"/>
                    </a:lnTo>
                    <a:lnTo>
                      <a:pt x="230" y="2102"/>
                    </a:lnTo>
                    <a:lnTo>
                      <a:pt x="211" y="2102"/>
                    </a:lnTo>
                    <a:lnTo>
                      <a:pt x="190" y="2102"/>
                    </a:lnTo>
                    <a:lnTo>
                      <a:pt x="169" y="2102"/>
                    </a:lnTo>
                    <a:lnTo>
                      <a:pt x="150" y="2102"/>
                    </a:lnTo>
                    <a:lnTo>
                      <a:pt x="131" y="2102"/>
                    </a:lnTo>
                    <a:lnTo>
                      <a:pt x="139" y="2102"/>
                    </a:lnTo>
                    <a:lnTo>
                      <a:pt x="152" y="2085"/>
                    </a:lnTo>
                    <a:lnTo>
                      <a:pt x="169" y="2047"/>
                    </a:lnTo>
                    <a:lnTo>
                      <a:pt x="190" y="2005"/>
                    </a:lnTo>
                    <a:lnTo>
                      <a:pt x="213" y="1958"/>
                    </a:lnTo>
                    <a:lnTo>
                      <a:pt x="238" y="1904"/>
                    </a:lnTo>
                    <a:lnTo>
                      <a:pt x="262" y="1851"/>
                    </a:lnTo>
                    <a:lnTo>
                      <a:pt x="291" y="1798"/>
                    </a:lnTo>
                    <a:lnTo>
                      <a:pt x="314" y="1745"/>
                    </a:lnTo>
                    <a:lnTo>
                      <a:pt x="336" y="1693"/>
                    </a:lnTo>
                    <a:lnTo>
                      <a:pt x="359" y="1646"/>
                    </a:lnTo>
                    <a:lnTo>
                      <a:pt x="380" y="1604"/>
                    </a:lnTo>
                    <a:lnTo>
                      <a:pt x="397" y="1568"/>
                    </a:lnTo>
                    <a:lnTo>
                      <a:pt x="410" y="1543"/>
                    </a:lnTo>
                    <a:lnTo>
                      <a:pt x="420" y="1526"/>
                    </a:lnTo>
                    <a:lnTo>
                      <a:pt x="422" y="1520"/>
                    </a:lnTo>
                    <a:lnTo>
                      <a:pt x="325" y="1461"/>
                    </a:lnTo>
                    <a:lnTo>
                      <a:pt x="445" y="1188"/>
                    </a:lnTo>
                    <a:lnTo>
                      <a:pt x="150" y="677"/>
                    </a:lnTo>
                    <a:lnTo>
                      <a:pt x="272" y="555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5360" y="5310360"/>
                <a:ext cx="478080" cy="1013760"/>
              </a:xfrm>
              <a:custGeom>
                <a:avLst/>
                <a:gdLst/>
                <a:ahLst/>
                <a:rect l="l" t="t" r="r" b="b"/>
                <a:pathLst>
                  <a:path w="917" h="1853">
                    <a:moveTo>
                      <a:pt x="677" y="175"/>
                    </a:moveTo>
                    <a:lnTo>
                      <a:pt x="917" y="0"/>
                    </a:lnTo>
                    <a:lnTo>
                      <a:pt x="863" y="1028"/>
                    </a:lnTo>
                    <a:lnTo>
                      <a:pt x="856" y="1036"/>
                    </a:lnTo>
                    <a:lnTo>
                      <a:pt x="839" y="1059"/>
                    </a:lnTo>
                    <a:lnTo>
                      <a:pt x="812" y="1093"/>
                    </a:lnTo>
                    <a:lnTo>
                      <a:pt x="780" y="1140"/>
                    </a:lnTo>
                    <a:lnTo>
                      <a:pt x="738" y="1195"/>
                    </a:lnTo>
                    <a:lnTo>
                      <a:pt x="692" y="1258"/>
                    </a:lnTo>
                    <a:lnTo>
                      <a:pt x="641" y="1325"/>
                    </a:lnTo>
                    <a:lnTo>
                      <a:pt x="592" y="1399"/>
                    </a:lnTo>
                    <a:lnTo>
                      <a:pt x="535" y="1473"/>
                    </a:lnTo>
                    <a:lnTo>
                      <a:pt x="483" y="1545"/>
                    </a:lnTo>
                    <a:lnTo>
                      <a:pt x="428" y="1617"/>
                    </a:lnTo>
                    <a:lnTo>
                      <a:pt x="382" y="1686"/>
                    </a:lnTo>
                    <a:lnTo>
                      <a:pt x="335" y="1747"/>
                    </a:lnTo>
                    <a:lnTo>
                      <a:pt x="295" y="1802"/>
                    </a:lnTo>
                    <a:lnTo>
                      <a:pt x="261" y="1847"/>
                    </a:lnTo>
                    <a:lnTo>
                      <a:pt x="238" y="1853"/>
                    </a:lnTo>
                    <a:lnTo>
                      <a:pt x="217" y="1853"/>
                    </a:lnTo>
                    <a:lnTo>
                      <a:pt x="200" y="1853"/>
                    </a:lnTo>
                    <a:lnTo>
                      <a:pt x="183" y="1853"/>
                    </a:lnTo>
                    <a:lnTo>
                      <a:pt x="168" y="1853"/>
                    </a:lnTo>
                    <a:lnTo>
                      <a:pt x="151" y="1853"/>
                    </a:lnTo>
                    <a:lnTo>
                      <a:pt x="133" y="1853"/>
                    </a:lnTo>
                    <a:lnTo>
                      <a:pt x="118" y="1853"/>
                    </a:lnTo>
                    <a:lnTo>
                      <a:pt x="105" y="1853"/>
                    </a:lnTo>
                    <a:lnTo>
                      <a:pt x="90" y="1853"/>
                    </a:lnTo>
                    <a:lnTo>
                      <a:pt x="73" y="1853"/>
                    </a:lnTo>
                    <a:lnTo>
                      <a:pt x="59" y="1853"/>
                    </a:lnTo>
                    <a:lnTo>
                      <a:pt x="48" y="1853"/>
                    </a:lnTo>
                    <a:lnTo>
                      <a:pt x="33" y="1853"/>
                    </a:lnTo>
                    <a:lnTo>
                      <a:pt x="21" y="1853"/>
                    </a:lnTo>
                    <a:lnTo>
                      <a:pt x="10" y="1853"/>
                    </a:lnTo>
                    <a:lnTo>
                      <a:pt x="0" y="1853"/>
                    </a:lnTo>
                    <a:lnTo>
                      <a:pt x="12" y="1781"/>
                    </a:lnTo>
                    <a:lnTo>
                      <a:pt x="35" y="1688"/>
                    </a:lnTo>
                    <a:lnTo>
                      <a:pt x="65" y="1595"/>
                    </a:lnTo>
                    <a:lnTo>
                      <a:pt x="103" y="1511"/>
                    </a:lnTo>
                    <a:lnTo>
                      <a:pt x="143" y="1433"/>
                    </a:lnTo>
                    <a:lnTo>
                      <a:pt x="189" y="1359"/>
                    </a:lnTo>
                    <a:lnTo>
                      <a:pt x="236" y="1290"/>
                    </a:lnTo>
                    <a:lnTo>
                      <a:pt x="286" y="1232"/>
                    </a:lnTo>
                    <a:lnTo>
                      <a:pt x="331" y="1174"/>
                    </a:lnTo>
                    <a:lnTo>
                      <a:pt x="377" y="1129"/>
                    </a:lnTo>
                    <a:lnTo>
                      <a:pt x="419" y="1087"/>
                    </a:lnTo>
                    <a:lnTo>
                      <a:pt x="458" y="1055"/>
                    </a:lnTo>
                    <a:lnTo>
                      <a:pt x="489" y="1026"/>
                    </a:lnTo>
                    <a:lnTo>
                      <a:pt x="514" y="1007"/>
                    </a:lnTo>
                    <a:lnTo>
                      <a:pt x="531" y="998"/>
                    </a:lnTo>
                    <a:lnTo>
                      <a:pt x="536" y="994"/>
                    </a:lnTo>
                    <a:lnTo>
                      <a:pt x="677" y="175"/>
                    </a:lnTo>
                    <a:lnTo>
                      <a:pt x="677" y="175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748200" y="5316840"/>
                <a:ext cx="536400" cy="1007280"/>
              </a:xfrm>
              <a:custGeom>
                <a:avLst/>
                <a:gdLst/>
                <a:ahLst/>
                <a:rect l="l" t="t" r="r" b="b"/>
                <a:pathLst>
                  <a:path w="1028" h="1842">
                    <a:moveTo>
                      <a:pt x="791" y="67"/>
                    </a:moveTo>
                    <a:lnTo>
                      <a:pt x="1028" y="0"/>
                    </a:lnTo>
                    <a:lnTo>
                      <a:pt x="867" y="1236"/>
                    </a:lnTo>
                    <a:lnTo>
                      <a:pt x="859" y="1241"/>
                    </a:lnTo>
                    <a:lnTo>
                      <a:pt x="844" y="1257"/>
                    </a:lnTo>
                    <a:lnTo>
                      <a:pt x="817" y="1281"/>
                    </a:lnTo>
                    <a:lnTo>
                      <a:pt x="787" y="1316"/>
                    </a:lnTo>
                    <a:lnTo>
                      <a:pt x="749" y="1355"/>
                    </a:lnTo>
                    <a:lnTo>
                      <a:pt x="707" y="1403"/>
                    </a:lnTo>
                    <a:lnTo>
                      <a:pt x="660" y="1452"/>
                    </a:lnTo>
                    <a:lnTo>
                      <a:pt x="612" y="1506"/>
                    </a:lnTo>
                    <a:lnTo>
                      <a:pt x="559" y="1559"/>
                    </a:lnTo>
                    <a:lnTo>
                      <a:pt x="510" y="1614"/>
                    </a:lnTo>
                    <a:lnTo>
                      <a:pt x="458" y="1667"/>
                    </a:lnTo>
                    <a:lnTo>
                      <a:pt x="413" y="1720"/>
                    </a:lnTo>
                    <a:lnTo>
                      <a:pt x="367" y="1766"/>
                    </a:lnTo>
                    <a:lnTo>
                      <a:pt x="329" y="1808"/>
                    </a:lnTo>
                    <a:lnTo>
                      <a:pt x="297" y="1842"/>
                    </a:lnTo>
                    <a:lnTo>
                      <a:pt x="272" y="1842"/>
                    </a:lnTo>
                    <a:lnTo>
                      <a:pt x="251" y="1842"/>
                    </a:lnTo>
                    <a:lnTo>
                      <a:pt x="232" y="1842"/>
                    </a:lnTo>
                    <a:lnTo>
                      <a:pt x="213" y="1842"/>
                    </a:lnTo>
                    <a:lnTo>
                      <a:pt x="196" y="1842"/>
                    </a:lnTo>
                    <a:lnTo>
                      <a:pt x="175" y="1842"/>
                    </a:lnTo>
                    <a:lnTo>
                      <a:pt x="158" y="1842"/>
                    </a:lnTo>
                    <a:lnTo>
                      <a:pt x="139" y="1842"/>
                    </a:lnTo>
                    <a:lnTo>
                      <a:pt x="124" y="1842"/>
                    </a:lnTo>
                    <a:lnTo>
                      <a:pt x="107" y="1842"/>
                    </a:lnTo>
                    <a:lnTo>
                      <a:pt x="89" y="1842"/>
                    </a:lnTo>
                    <a:lnTo>
                      <a:pt x="72" y="1842"/>
                    </a:lnTo>
                    <a:lnTo>
                      <a:pt x="57" y="1842"/>
                    </a:lnTo>
                    <a:lnTo>
                      <a:pt x="42" y="1842"/>
                    </a:lnTo>
                    <a:lnTo>
                      <a:pt x="27" y="1842"/>
                    </a:lnTo>
                    <a:lnTo>
                      <a:pt x="12" y="1842"/>
                    </a:lnTo>
                    <a:lnTo>
                      <a:pt x="0" y="1842"/>
                    </a:lnTo>
                    <a:lnTo>
                      <a:pt x="4" y="1842"/>
                    </a:lnTo>
                    <a:lnTo>
                      <a:pt x="10" y="1838"/>
                    </a:lnTo>
                    <a:lnTo>
                      <a:pt x="17" y="1817"/>
                    </a:lnTo>
                    <a:lnTo>
                      <a:pt x="27" y="1794"/>
                    </a:lnTo>
                    <a:lnTo>
                      <a:pt x="32" y="1766"/>
                    </a:lnTo>
                    <a:lnTo>
                      <a:pt x="42" y="1741"/>
                    </a:lnTo>
                    <a:lnTo>
                      <a:pt x="51" y="1715"/>
                    </a:lnTo>
                    <a:lnTo>
                      <a:pt x="61" y="1688"/>
                    </a:lnTo>
                    <a:lnTo>
                      <a:pt x="69" y="1661"/>
                    </a:lnTo>
                    <a:lnTo>
                      <a:pt x="74" y="1637"/>
                    </a:lnTo>
                    <a:lnTo>
                      <a:pt x="82" y="1614"/>
                    </a:lnTo>
                    <a:lnTo>
                      <a:pt x="91" y="1595"/>
                    </a:lnTo>
                    <a:lnTo>
                      <a:pt x="93" y="1578"/>
                    </a:lnTo>
                    <a:lnTo>
                      <a:pt x="99" y="1566"/>
                    </a:lnTo>
                    <a:lnTo>
                      <a:pt x="103" y="1557"/>
                    </a:lnTo>
                    <a:lnTo>
                      <a:pt x="105" y="1555"/>
                    </a:lnTo>
                    <a:lnTo>
                      <a:pt x="300" y="1430"/>
                    </a:lnTo>
                    <a:lnTo>
                      <a:pt x="268" y="1380"/>
                    </a:lnTo>
                    <a:lnTo>
                      <a:pt x="576" y="1093"/>
                    </a:lnTo>
                    <a:lnTo>
                      <a:pt x="715" y="603"/>
                    </a:lnTo>
                    <a:lnTo>
                      <a:pt x="637" y="548"/>
                    </a:lnTo>
                    <a:lnTo>
                      <a:pt x="791" y="67"/>
                    </a:lnTo>
                    <a:lnTo>
                      <a:pt x="791" y="67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34960" y="5162760"/>
                <a:ext cx="509400" cy="1161360"/>
              </a:xfrm>
              <a:custGeom>
                <a:avLst/>
                <a:gdLst/>
                <a:ahLst/>
                <a:rect l="l" t="t" r="r" b="b"/>
                <a:pathLst>
                  <a:path w="976" h="2125">
                    <a:moveTo>
                      <a:pt x="789" y="0"/>
                    </a:moveTo>
                    <a:lnTo>
                      <a:pt x="976" y="0"/>
                    </a:lnTo>
                    <a:lnTo>
                      <a:pt x="842" y="1443"/>
                    </a:lnTo>
                    <a:lnTo>
                      <a:pt x="837" y="1446"/>
                    </a:lnTo>
                    <a:lnTo>
                      <a:pt x="825" y="1467"/>
                    </a:lnTo>
                    <a:lnTo>
                      <a:pt x="806" y="1494"/>
                    </a:lnTo>
                    <a:lnTo>
                      <a:pt x="784" y="1534"/>
                    </a:lnTo>
                    <a:lnTo>
                      <a:pt x="751" y="1580"/>
                    </a:lnTo>
                    <a:lnTo>
                      <a:pt x="721" y="1631"/>
                    </a:lnTo>
                    <a:lnTo>
                      <a:pt x="685" y="1686"/>
                    </a:lnTo>
                    <a:lnTo>
                      <a:pt x="649" y="1749"/>
                    </a:lnTo>
                    <a:lnTo>
                      <a:pt x="609" y="1809"/>
                    </a:lnTo>
                    <a:lnTo>
                      <a:pt x="571" y="1872"/>
                    </a:lnTo>
                    <a:lnTo>
                      <a:pt x="533" y="1931"/>
                    </a:lnTo>
                    <a:lnTo>
                      <a:pt x="497" y="1988"/>
                    </a:lnTo>
                    <a:lnTo>
                      <a:pt x="464" y="2039"/>
                    </a:lnTo>
                    <a:lnTo>
                      <a:pt x="434" y="2087"/>
                    </a:lnTo>
                    <a:lnTo>
                      <a:pt x="411" y="2125"/>
                    </a:lnTo>
                    <a:lnTo>
                      <a:pt x="392" y="2125"/>
                    </a:lnTo>
                    <a:lnTo>
                      <a:pt x="365" y="2125"/>
                    </a:lnTo>
                    <a:lnTo>
                      <a:pt x="337" y="2125"/>
                    </a:lnTo>
                    <a:lnTo>
                      <a:pt x="310" y="2125"/>
                    </a:lnTo>
                    <a:lnTo>
                      <a:pt x="286" y="2125"/>
                    </a:lnTo>
                    <a:lnTo>
                      <a:pt x="261" y="2125"/>
                    </a:lnTo>
                    <a:lnTo>
                      <a:pt x="234" y="2125"/>
                    </a:lnTo>
                    <a:lnTo>
                      <a:pt x="209" y="2125"/>
                    </a:lnTo>
                    <a:lnTo>
                      <a:pt x="185" y="2125"/>
                    </a:lnTo>
                    <a:lnTo>
                      <a:pt x="158" y="2125"/>
                    </a:lnTo>
                    <a:lnTo>
                      <a:pt x="135" y="2125"/>
                    </a:lnTo>
                    <a:lnTo>
                      <a:pt x="113" y="2125"/>
                    </a:lnTo>
                    <a:lnTo>
                      <a:pt x="90" y="2125"/>
                    </a:lnTo>
                    <a:lnTo>
                      <a:pt x="65" y="2125"/>
                    </a:lnTo>
                    <a:lnTo>
                      <a:pt x="42" y="2125"/>
                    </a:lnTo>
                    <a:lnTo>
                      <a:pt x="21" y="2125"/>
                    </a:lnTo>
                    <a:lnTo>
                      <a:pt x="0" y="2125"/>
                    </a:lnTo>
                    <a:lnTo>
                      <a:pt x="6" y="2125"/>
                    </a:lnTo>
                    <a:lnTo>
                      <a:pt x="10" y="2125"/>
                    </a:lnTo>
                    <a:lnTo>
                      <a:pt x="18" y="2106"/>
                    </a:lnTo>
                    <a:lnTo>
                      <a:pt x="25" y="2087"/>
                    </a:lnTo>
                    <a:lnTo>
                      <a:pt x="31" y="2066"/>
                    </a:lnTo>
                    <a:lnTo>
                      <a:pt x="38" y="2047"/>
                    </a:lnTo>
                    <a:lnTo>
                      <a:pt x="46" y="2026"/>
                    </a:lnTo>
                    <a:lnTo>
                      <a:pt x="54" y="2007"/>
                    </a:lnTo>
                    <a:lnTo>
                      <a:pt x="59" y="1986"/>
                    </a:lnTo>
                    <a:lnTo>
                      <a:pt x="67" y="1969"/>
                    </a:lnTo>
                    <a:lnTo>
                      <a:pt x="73" y="1954"/>
                    </a:lnTo>
                    <a:lnTo>
                      <a:pt x="78" y="1939"/>
                    </a:lnTo>
                    <a:lnTo>
                      <a:pt x="82" y="1927"/>
                    </a:lnTo>
                    <a:lnTo>
                      <a:pt x="86" y="1918"/>
                    </a:lnTo>
                    <a:lnTo>
                      <a:pt x="88" y="1912"/>
                    </a:lnTo>
                    <a:lnTo>
                      <a:pt x="90" y="1912"/>
                    </a:lnTo>
                    <a:lnTo>
                      <a:pt x="187" y="1924"/>
                    </a:lnTo>
                    <a:lnTo>
                      <a:pt x="295" y="1629"/>
                    </a:lnTo>
                    <a:lnTo>
                      <a:pt x="571" y="1452"/>
                    </a:lnTo>
                    <a:lnTo>
                      <a:pt x="645" y="1038"/>
                    </a:lnTo>
                    <a:lnTo>
                      <a:pt x="789" y="0"/>
                    </a:lnTo>
                    <a:lnTo>
                      <a:pt x="78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40080" y="5182560"/>
                <a:ext cx="425880" cy="1141920"/>
              </a:xfrm>
              <a:custGeom>
                <a:avLst/>
                <a:gdLst/>
                <a:ahLst/>
                <a:rect l="l" t="t" r="r" b="b"/>
                <a:pathLst>
                  <a:path w="815" h="2089">
                    <a:moveTo>
                      <a:pt x="815" y="15"/>
                    </a:moveTo>
                    <a:lnTo>
                      <a:pt x="718" y="1363"/>
                    </a:lnTo>
                    <a:lnTo>
                      <a:pt x="715" y="1367"/>
                    </a:lnTo>
                    <a:lnTo>
                      <a:pt x="703" y="1388"/>
                    </a:lnTo>
                    <a:lnTo>
                      <a:pt x="688" y="1416"/>
                    </a:lnTo>
                    <a:lnTo>
                      <a:pt x="667" y="1456"/>
                    </a:lnTo>
                    <a:lnTo>
                      <a:pt x="639" y="1504"/>
                    </a:lnTo>
                    <a:lnTo>
                      <a:pt x="610" y="1559"/>
                    </a:lnTo>
                    <a:lnTo>
                      <a:pt x="578" y="1616"/>
                    </a:lnTo>
                    <a:lnTo>
                      <a:pt x="545" y="1680"/>
                    </a:lnTo>
                    <a:lnTo>
                      <a:pt x="511" y="1743"/>
                    </a:lnTo>
                    <a:lnTo>
                      <a:pt x="477" y="1810"/>
                    </a:lnTo>
                    <a:lnTo>
                      <a:pt x="441" y="1870"/>
                    </a:lnTo>
                    <a:lnTo>
                      <a:pt x="410" y="1933"/>
                    </a:lnTo>
                    <a:lnTo>
                      <a:pt x="378" y="1988"/>
                    </a:lnTo>
                    <a:lnTo>
                      <a:pt x="352" y="2040"/>
                    </a:lnTo>
                    <a:lnTo>
                      <a:pt x="329" y="2083"/>
                    </a:lnTo>
                    <a:lnTo>
                      <a:pt x="312" y="2089"/>
                    </a:lnTo>
                    <a:lnTo>
                      <a:pt x="291" y="2089"/>
                    </a:lnTo>
                    <a:lnTo>
                      <a:pt x="272" y="2089"/>
                    </a:lnTo>
                    <a:lnTo>
                      <a:pt x="251" y="2089"/>
                    </a:lnTo>
                    <a:lnTo>
                      <a:pt x="230" y="2089"/>
                    </a:lnTo>
                    <a:lnTo>
                      <a:pt x="209" y="2089"/>
                    </a:lnTo>
                    <a:lnTo>
                      <a:pt x="190" y="2089"/>
                    </a:lnTo>
                    <a:lnTo>
                      <a:pt x="171" y="2089"/>
                    </a:lnTo>
                    <a:lnTo>
                      <a:pt x="152" y="2089"/>
                    </a:lnTo>
                    <a:lnTo>
                      <a:pt x="131" y="2089"/>
                    </a:lnTo>
                    <a:lnTo>
                      <a:pt x="112" y="2089"/>
                    </a:lnTo>
                    <a:lnTo>
                      <a:pt x="93" y="2089"/>
                    </a:lnTo>
                    <a:lnTo>
                      <a:pt x="74" y="2089"/>
                    </a:lnTo>
                    <a:lnTo>
                      <a:pt x="53" y="2089"/>
                    </a:lnTo>
                    <a:lnTo>
                      <a:pt x="36" y="2089"/>
                    </a:lnTo>
                    <a:lnTo>
                      <a:pt x="17" y="2089"/>
                    </a:lnTo>
                    <a:lnTo>
                      <a:pt x="0" y="2089"/>
                    </a:lnTo>
                    <a:lnTo>
                      <a:pt x="7" y="2089"/>
                    </a:lnTo>
                    <a:lnTo>
                      <a:pt x="19" y="2070"/>
                    </a:lnTo>
                    <a:lnTo>
                      <a:pt x="30" y="2038"/>
                    </a:lnTo>
                    <a:lnTo>
                      <a:pt x="46" y="2009"/>
                    </a:lnTo>
                    <a:lnTo>
                      <a:pt x="59" y="1973"/>
                    </a:lnTo>
                    <a:lnTo>
                      <a:pt x="72" y="1939"/>
                    </a:lnTo>
                    <a:lnTo>
                      <a:pt x="85" y="1903"/>
                    </a:lnTo>
                    <a:lnTo>
                      <a:pt x="103" y="1869"/>
                    </a:lnTo>
                    <a:lnTo>
                      <a:pt x="114" y="1834"/>
                    </a:lnTo>
                    <a:lnTo>
                      <a:pt x="127" y="1804"/>
                    </a:lnTo>
                    <a:lnTo>
                      <a:pt x="139" y="1775"/>
                    </a:lnTo>
                    <a:lnTo>
                      <a:pt x="150" y="1751"/>
                    </a:lnTo>
                    <a:lnTo>
                      <a:pt x="158" y="1730"/>
                    </a:lnTo>
                    <a:lnTo>
                      <a:pt x="165" y="1713"/>
                    </a:lnTo>
                    <a:lnTo>
                      <a:pt x="167" y="1703"/>
                    </a:lnTo>
                    <a:lnTo>
                      <a:pt x="171" y="1701"/>
                    </a:lnTo>
                    <a:lnTo>
                      <a:pt x="226" y="1863"/>
                    </a:lnTo>
                    <a:lnTo>
                      <a:pt x="357" y="1526"/>
                    </a:lnTo>
                    <a:lnTo>
                      <a:pt x="574" y="1429"/>
                    </a:lnTo>
                    <a:lnTo>
                      <a:pt x="555" y="924"/>
                    </a:lnTo>
                    <a:lnTo>
                      <a:pt x="640" y="719"/>
                    </a:lnTo>
                    <a:lnTo>
                      <a:pt x="707" y="0"/>
                    </a:lnTo>
                    <a:lnTo>
                      <a:pt x="815" y="15"/>
                    </a:lnTo>
                    <a:lnTo>
                      <a:pt x="815" y="15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54240" y="5357520"/>
                <a:ext cx="128160" cy="138600"/>
              </a:xfrm>
              <a:custGeom>
                <a:avLst/>
                <a:gdLst/>
                <a:ahLst/>
                <a:rect l="l" t="t" r="r" b="b"/>
                <a:pathLst>
                  <a:path w="245" h="253">
                    <a:moveTo>
                      <a:pt x="83" y="8"/>
                    </a:moveTo>
                    <a:lnTo>
                      <a:pt x="0" y="65"/>
                    </a:lnTo>
                    <a:lnTo>
                      <a:pt x="20" y="179"/>
                    </a:lnTo>
                    <a:lnTo>
                      <a:pt x="49" y="179"/>
                    </a:lnTo>
                    <a:lnTo>
                      <a:pt x="49" y="120"/>
                    </a:lnTo>
                    <a:lnTo>
                      <a:pt x="74" y="126"/>
                    </a:lnTo>
                    <a:lnTo>
                      <a:pt x="93" y="253"/>
                    </a:lnTo>
                    <a:lnTo>
                      <a:pt x="127" y="246"/>
                    </a:lnTo>
                    <a:lnTo>
                      <a:pt x="127" y="202"/>
                    </a:lnTo>
                    <a:lnTo>
                      <a:pt x="144" y="194"/>
                    </a:lnTo>
                    <a:lnTo>
                      <a:pt x="154" y="236"/>
                    </a:lnTo>
                    <a:lnTo>
                      <a:pt x="190" y="217"/>
                    </a:lnTo>
                    <a:lnTo>
                      <a:pt x="197" y="175"/>
                    </a:lnTo>
                    <a:lnTo>
                      <a:pt x="245" y="145"/>
                    </a:lnTo>
                    <a:lnTo>
                      <a:pt x="239" y="0"/>
                    </a:lnTo>
                    <a:lnTo>
                      <a:pt x="83" y="8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465320" y="4854240"/>
                <a:ext cx="256680" cy="524880"/>
              </a:xfrm>
              <a:custGeom>
                <a:avLst/>
                <a:gdLst/>
                <a:ahLst/>
                <a:rect l="l" t="t" r="r" b="b"/>
                <a:pathLst>
                  <a:path w="493" h="959">
                    <a:moveTo>
                      <a:pt x="78" y="0"/>
                    </a:moveTo>
                    <a:lnTo>
                      <a:pt x="0" y="376"/>
                    </a:lnTo>
                    <a:lnTo>
                      <a:pt x="312" y="503"/>
                    </a:lnTo>
                    <a:lnTo>
                      <a:pt x="306" y="959"/>
                    </a:lnTo>
                    <a:lnTo>
                      <a:pt x="383" y="959"/>
                    </a:lnTo>
                    <a:lnTo>
                      <a:pt x="493" y="44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86200" y="4821480"/>
                <a:ext cx="258840" cy="557640"/>
              </a:xfrm>
              <a:custGeom>
                <a:avLst/>
                <a:gdLst/>
                <a:ahLst/>
                <a:rect l="l" t="t" r="r" b="b"/>
                <a:pathLst>
                  <a:path w="496" h="1020">
                    <a:moveTo>
                      <a:pt x="80" y="0"/>
                    </a:moveTo>
                    <a:lnTo>
                      <a:pt x="496" y="475"/>
                    </a:lnTo>
                    <a:lnTo>
                      <a:pt x="371" y="1020"/>
                    </a:lnTo>
                    <a:lnTo>
                      <a:pt x="322" y="1011"/>
                    </a:lnTo>
                    <a:lnTo>
                      <a:pt x="362" y="650"/>
                    </a:lnTo>
                    <a:lnTo>
                      <a:pt x="386" y="661"/>
                    </a:lnTo>
                    <a:lnTo>
                      <a:pt x="403" y="513"/>
                    </a:lnTo>
                    <a:lnTo>
                      <a:pt x="228" y="403"/>
                    </a:lnTo>
                    <a:lnTo>
                      <a:pt x="280" y="340"/>
                    </a:lnTo>
                    <a:lnTo>
                      <a:pt x="0" y="133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465320" y="5014080"/>
                <a:ext cx="187920" cy="367560"/>
              </a:xfrm>
              <a:custGeom>
                <a:avLst/>
                <a:gdLst/>
                <a:ahLst/>
                <a:rect l="l" t="t" r="r" b="b"/>
                <a:pathLst>
                  <a:path w="362" h="673">
                    <a:moveTo>
                      <a:pt x="0" y="0"/>
                    </a:moveTo>
                    <a:lnTo>
                      <a:pt x="362" y="175"/>
                    </a:lnTo>
                    <a:lnTo>
                      <a:pt x="322" y="673"/>
                    </a:lnTo>
                    <a:lnTo>
                      <a:pt x="272" y="660"/>
                    </a:lnTo>
                    <a:lnTo>
                      <a:pt x="255" y="284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52720" y="5065200"/>
                <a:ext cx="175320" cy="308520"/>
              </a:xfrm>
              <a:custGeom>
                <a:avLst/>
                <a:gdLst/>
                <a:ahLst/>
                <a:rect l="l" t="t" r="r" b="b"/>
                <a:pathLst>
                  <a:path w="334" h="565">
                    <a:moveTo>
                      <a:pt x="0" y="71"/>
                    </a:moveTo>
                    <a:lnTo>
                      <a:pt x="3" y="71"/>
                    </a:lnTo>
                    <a:lnTo>
                      <a:pt x="13" y="73"/>
                    </a:lnTo>
                    <a:lnTo>
                      <a:pt x="30" y="75"/>
                    </a:lnTo>
                    <a:lnTo>
                      <a:pt x="55" y="82"/>
                    </a:lnTo>
                    <a:lnTo>
                      <a:pt x="79" y="90"/>
                    </a:lnTo>
                    <a:lnTo>
                      <a:pt x="110" y="103"/>
                    </a:lnTo>
                    <a:lnTo>
                      <a:pt x="138" y="120"/>
                    </a:lnTo>
                    <a:lnTo>
                      <a:pt x="169" y="143"/>
                    </a:lnTo>
                    <a:lnTo>
                      <a:pt x="194" y="170"/>
                    </a:lnTo>
                    <a:lnTo>
                      <a:pt x="222" y="202"/>
                    </a:lnTo>
                    <a:lnTo>
                      <a:pt x="243" y="242"/>
                    </a:lnTo>
                    <a:lnTo>
                      <a:pt x="260" y="289"/>
                    </a:lnTo>
                    <a:lnTo>
                      <a:pt x="270" y="342"/>
                    </a:lnTo>
                    <a:lnTo>
                      <a:pt x="275" y="405"/>
                    </a:lnTo>
                    <a:lnTo>
                      <a:pt x="270" y="477"/>
                    </a:lnTo>
                    <a:lnTo>
                      <a:pt x="256" y="561"/>
                    </a:lnTo>
                    <a:lnTo>
                      <a:pt x="302" y="565"/>
                    </a:lnTo>
                    <a:lnTo>
                      <a:pt x="334" y="386"/>
                    </a:lnTo>
                    <a:lnTo>
                      <a:pt x="306" y="301"/>
                    </a:lnTo>
                    <a:lnTo>
                      <a:pt x="334" y="137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68120" y="4794120"/>
                <a:ext cx="157320" cy="411120"/>
              </a:xfrm>
              <a:custGeom>
                <a:avLst/>
                <a:gdLst/>
                <a:ahLst/>
                <a:rect l="l" t="t" r="r" b="b"/>
                <a:pathLst>
                  <a:path w="302" h="753">
                    <a:moveTo>
                      <a:pt x="116" y="0"/>
                    </a:moveTo>
                    <a:lnTo>
                      <a:pt x="302" y="50"/>
                    </a:lnTo>
                    <a:lnTo>
                      <a:pt x="245" y="369"/>
                    </a:lnTo>
                    <a:lnTo>
                      <a:pt x="198" y="591"/>
                    </a:lnTo>
                    <a:lnTo>
                      <a:pt x="179" y="753"/>
                    </a:lnTo>
                    <a:lnTo>
                      <a:pt x="0" y="751"/>
                    </a:lnTo>
                    <a:lnTo>
                      <a:pt x="50" y="221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24480" y="4791960"/>
                <a:ext cx="221040" cy="413280"/>
              </a:xfrm>
              <a:custGeom>
                <a:avLst/>
                <a:gdLst/>
                <a:ahLst/>
                <a:rect l="l" t="t" r="r" b="b"/>
                <a:pathLst>
                  <a:path w="423" h="756">
                    <a:moveTo>
                      <a:pt x="49" y="0"/>
                    </a:moveTo>
                    <a:lnTo>
                      <a:pt x="391" y="11"/>
                    </a:lnTo>
                    <a:lnTo>
                      <a:pt x="384" y="285"/>
                    </a:lnTo>
                    <a:lnTo>
                      <a:pt x="340" y="309"/>
                    </a:lnTo>
                    <a:lnTo>
                      <a:pt x="423" y="499"/>
                    </a:lnTo>
                    <a:lnTo>
                      <a:pt x="365" y="756"/>
                    </a:lnTo>
                    <a:lnTo>
                      <a:pt x="249" y="756"/>
                    </a:lnTo>
                    <a:lnTo>
                      <a:pt x="0" y="186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132320" y="4798440"/>
                <a:ext cx="243000" cy="410040"/>
              </a:xfrm>
              <a:custGeom>
                <a:avLst/>
                <a:gdLst/>
                <a:ahLst/>
                <a:rect l="l" t="t" r="r" b="b"/>
                <a:pathLst>
                  <a:path w="465" h="751">
                    <a:moveTo>
                      <a:pt x="40" y="0"/>
                    </a:moveTo>
                    <a:lnTo>
                      <a:pt x="218" y="0"/>
                    </a:lnTo>
                    <a:lnTo>
                      <a:pt x="325" y="378"/>
                    </a:lnTo>
                    <a:lnTo>
                      <a:pt x="450" y="530"/>
                    </a:lnTo>
                    <a:lnTo>
                      <a:pt x="465" y="751"/>
                    </a:lnTo>
                    <a:lnTo>
                      <a:pt x="233" y="745"/>
                    </a:lnTo>
                    <a:lnTo>
                      <a:pt x="0" y="125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75800" y="4798440"/>
                <a:ext cx="226440" cy="406800"/>
              </a:xfrm>
              <a:custGeom>
                <a:avLst/>
                <a:gdLst/>
                <a:ahLst/>
                <a:rect l="l" t="t" r="r" b="b"/>
                <a:pathLst>
                  <a:path w="434" h="745">
                    <a:moveTo>
                      <a:pt x="0" y="19"/>
                    </a:moveTo>
                    <a:lnTo>
                      <a:pt x="152" y="0"/>
                    </a:lnTo>
                    <a:lnTo>
                      <a:pt x="238" y="331"/>
                    </a:lnTo>
                    <a:lnTo>
                      <a:pt x="318" y="338"/>
                    </a:lnTo>
                    <a:lnTo>
                      <a:pt x="434" y="745"/>
                    </a:lnTo>
                    <a:lnTo>
                      <a:pt x="29" y="74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11920" y="5080680"/>
                <a:ext cx="456840" cy="376200"/>
              </a:xfrm>
              <a:custGeom>
                <a:avLst/>
                <a:gdLst/>
                <a:ahLst/>
                <a:rect l="l" t="t" r="r" b="b"/>
                <a:pathLst>
                  <a:path w="874" h="688">
                    <a:moveTo>
                      <a:pt x="0" y="137"/>
                    </a:moveTo>
                    <a:lnTo>
                      <a:pt x="749" y="0"/>
                    </a:lnTo>
                    <a:lnTo>
                      <a:pt x="785" y="42"/>
                    </a:lnTo>
                    <a:lnTo>
                      <a:pt x="834" y="13"/>
                    </a:lnTo>
                    <a:lnTo>
                      <a:pt x="874" y="555"/>
                    </a:lnTo>
                    <a:lnTo>
                      <a:pt x="110" y="688"/>
                    </a:lnTo>
                    <a:lnTo>
                      <a:pt x="0" y="646"/>
                    </a:lnTo>
                    <a:lnTo>
                      <a:pt x="0" y="137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9cb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09760" y="5335560"/>
                <a:ext cx="446400" cy="121320"/>
              </a:xfrm>
              <a:custGeom>
                <a:avLst/>
                <a:gdLst/>
                <a:ahLst/>
                <a:rect l="l" t="t" r="r" b="b"/>
                <a:pathLst>
                  <a:path w="855" h="222">
                    <a:moveTo>
                      <a:pt x="0" y="180"/>
                    </a:moveTo>
                    <a:lnTo>
                      <a:pt x="557" y="79"/>
                    </a:lnTo>
                    <a:lnTo>
                      <a:pt x="576" y="0"/>
                    </a:lnTo>
                    <a:lnTo>
                      <a:pt x="658" y="43"/>
                    </a:lnTo>
                    <a:lnTo>
                      <a:pt x="743" y="28"/>
                    </a:lnTo>
                    <a:lnTo>
                      <a:pt x="855" y="98"/>
                    </a:lnTo>
                    <a:lnTo>
                      <a:pt x="114" y="222"/>
                    </a:lnTo>
                    <a:lnTo>
                      <a:pt x="0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757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26840" y="5322240"/>
                <a:ext cx="147960" cy="11268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95" y="28"/>
                    </a:moveTo>
                    <a:lnTo>
                      <a:pt x="185" y="0"/>
                    </a:lnTo>
                    <a:lnTo>
                      <a:pt x="247" y="57"/>
                    </a:lnTo>
                    <a:lnTo>
                      <a:pt x="234" y="80"/>
                    </a:lnTo>
                    <a:lnTo>
                      <a:pt x="192" y="53"/>
                    </a:lnTo>
                    <a:lnTo>
                      <a:pt x="169" y="64"/>
                    </a:lnTo>
                    <a:lnTo>
                      <a:pt x="285" y="150"/>
                    </a:lnTo>
                    <a:lnTo>
                      <a:pt x="263" y="184"/>
                    </a:lnTo>
                    <a:lnTo>
                      <a:pt x="215" y="139"/>
                    </a:lnTo>
                    <a:lnTo>
                      <a:pt x="192" y="150"/>
                    </a:lnTo>
                    <a:lnTo>
                      <a:pt x="238" y="196"/>
                    </a:lnTo>
                    <a:lnTo>
                      <a:pt x="196" y="205"/>
                    </a:lnTo>
                    <a:lnTo>
                      <a:pt x="162" y="177"/>
                    </a:lnTo>
                    <a:lnTo>
                      <a:pt x="111" y="194"/>
                    </a:lnTo>
                    <a:lnTo>
                      <a:pt x="0" y="123"/>
                    </a:lnTo>
                    <a:lnTo>
                      <a:pt x="95" y="28"/>
                    </a:lnTo>
                    <a:lnTo>
                      <a:pt x="95" y="28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58800" y="4997520"/>
                <a:ext cx="190080" cy="339840"/>
              </a:xfrm>
              <a:custGeom>
                <a:avLst/>
                <a:gdLst/>
                <a:ahLst/>
                <a:rect l="l" t="t" r="r" b="b"/>
                <a:pathLst>
                  <a:path w="363" h="621">
                    <a:moveTo>
                      <a:pt x="363" y="0"/>
                    </a:moveTo>
                    <a:lnTo>
                      <a:pt x="321" y="171"/>
                    </a:lnTo>
                    <a:lnTo>
                      <a:pt x="124" y="230"/>
                    </a:lnTo>
                    <a:lnTo>
                      <a:pt x="240" y="621"/>
                    </a:lnTo>
                    <a:lnTo>
                      <a:pt x="25" y="564"/>
                    </a:lnTo>
                    <a:lnTo>
                      <a:pt x="0" y="66"/>
                    </a:lnTo>
                    <a:lnTo>
                      <a:pt x="363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883920" y="4870800"/>
                <a:ext cx="264960" cy="498600"/>
              </a:xfrm>
              <a:custGeom>
                <a:avLst/>
                <a:gdLst/>
                <a:ahLst/>
                <a:rect l="l" t="t" r="r" b="b"/>
                <a:pathLst>
                  <a:path w="507" h="910">
                    <a:moveTo>
                      <a:pt x="496" y="42"/>
                    </a:moveTo>
                    <a:lnTo>
                      <a:pt x="507" y="232"/>
                    </a:lnTo>
                    <a:lnTo>
                      <a:pt x="182" y="353"/>
                    </a:lnTo>
                    <a:lnTo>
                      <a:pt x="249" y="688"/>
                    </a:lnTo>
                    <a:lnTo>
                      <a:pt x="384" y="867"/>
                    </a:lnTo>
                    <a:lnTo>
                      <a:pt x="357" y="910"/>
                    </a:lnTo>
                    <a:lnTo>
                      <a:pt x="49" y="760"/>
                    </a:lnTo>
                    <a:lnTo>
                      <a:pt x="0" y="384"/>
                    </a:lnTo>
                    <a:lnTo>
                      <a:pt x="226" y="0"/>
                    </a:lnTo>
                    <a:lnTo>
                      <a:pt x="496" y="42"/>
                    </a:lnTo>
                    <a:lnTo>
                      <a:pt x="496" y="4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50440" y="4836600"/>
                <a:ext cx="292320" cy="544680"/>
              </a:xfrm>
              <a:custGeom>
                <a:avLst/>
                <a:gdLst/>
                <a:ahLst/>
                <a:rect l="l" t="t" r="r" b="b"/>
                <a:pathLst>
                  <a:path w="559" h="996">
                    <a:moveTo>
                      <a:pt x="528" y="0"/>
                    </a:moveTo>
                    <a:lnTo>
                      <a:pt x="559" y="109"/>
                    </a:lnTo>
                    <a:lnTo>
                      <a:pt x="293" y="206"/>
                    </a:lnTo>
                    <a:lnTo>
                      <a:pt x="118" y="489"/>
                    </a:lnTo>
                    <a:lnTo>
                      <a:pt x="207" y="489"/>
                    </a:lnTo>
                    <a:lnTo>
                      <a:pt x="264" y="837"/>
                    </a:lnTo>
                    <a:lnTo>
                      <a:pt x="327" y="808"/>
                    </a:lnTo>
                    <a:lnTo>
                      <a:pt x="420" y="973"/>
                    </a:lnTo>
                    <a:lnTo>
                      <a:pt x="393" y="996"/>
                    </a:lnTo>
                    <a:lnTo>
                      <a:pt x="190" y="926"/>
                    </a:lnTo>
                    <a:lnTo>
                      <a:pt x="0" y="673"/>
                    </a:lnTo>
                    <a:lnTo>
                      <a:pt x="26" y="299"/>
                    </a:lnTo>
                    <a:lnTo>
                      <a:pt x="315" y="15"/>
                    </a:lnTo>
                    <a:lnTo>
                      <a:pt x="528" y="0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260840" y="4854240"/>
                <a:ext cx="90720" cy="367560"/>
              </a:xfrm>
              <a:custGeom>
                <a:avLst/>
                <a:gdLst/>
                <a:ahLst/>
                <a:rect l="l" t="t" r="r" b="b"/>
                <a:pathLst>
                  <a:path w="175" h="670">
                    <a:moveTo>
                      <a:pt x="0" y="104"/>
                    </a:moveTo>
                    <a:lnTo>
                      <a:pt x="42" y="157"/>
                    </a:lnTo>
                    <a:lnTo>
                      <a:pt x="19" y="598"/>
                    </a:lnTo>
                    <a:lnTo>
                      <a:pt x="122" y="670"/>
                    </a:lnTo>
                    <a:lnTo>
                      <a:pt x="175" y="581"/>
                    </a:lnTo>
                    <a:lnTo>
                      <a:pt x="93" y="154"/>
                    </a:lnTo>
                    <a:lnTo>
                      <a:pt x="135" y="87"/>
                    </a:lnTo>
                    <a:lnTo>
                      <a:pt x="45" y="0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183440" y="4773240"/>
                <a:ext cx="198000" cy="180000"/>
              </a:xfrm>
              <a:custGeom>
                <a:avLst/>
                <a:gdLst/>
                <a:ahLst/>
                <a:rect l="l" t="t" r="r" b="b"/>
                <a:pathLst>
                  <a:path w="380" h="329">
                    <a:moveTo>
                      <a:pt x="0" y="38"/>
                    </a:moveTo>
                    <a:lnTo>
                      <a:pt x="55" y="295"/>
                    </a:lnTo>
                    <a:lnTo>
                      <a:pt x="205" y="202"/>
                    </a:lnTo>
                    <a:lnTo>
                      <a:pt x="332" y="329"/>
                    </a:lnTo>
                    <a:lnTo>
                      <a:pt x="380" y="65"/>
                    </a:lnTo>
                    <a:lnTo>
                      <a:pt x="342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57160" y="4634640"/>
                <a:ext cx="210600" cy="240480"/>
              </a:xfrm>
              <a:custGeom>
                <a:avLst/>
                <a:gdLst/>
                <a:ahLst/>
                <a:rect l="l" t="t" r="r" b="b"/>
                <a:pathLst>
                  <a:path w="403" h="441">
                    <a:moveTo>
                      <a:pt x="263" y="9"/>
                    </a:moveTo>
                    <a:lnTo>
                      <a:pt x="264" y="11"/>
                    </a:lnTo>
                    <a:lnTo>
                      <a:pt x="274" y="19"/>
                    </a:lnTo>
                    <a:lnTo>
                      <a:pt x="285" y="28"/>
                    </a:lnTo>
                    <a:lnTo>
                      <a:pt x="302" y="43"/>
                    </a:lnTo>
                    <a:lnTo>
                      <a:pt x="310" y="51"/>
                    </a:lnTo>
                    <a:lnTo>
                      <a:pt x="320" y="60"/>
                    </a:lnTo>
                    <a:lnTo>
                      <a:pt x="329" y="68"/>
                    </a:lnTo>
                    <a:lnTo>
                      <a:pt x="339" y="79"/>
                    </a:lnTo>
                    <a:lnTo>
                      <a:pt x="348" y="89"/>
                    </a:lnTo>
                    <a:lnTo>
                      <a:pt x="359" y="100"/>
                    </a:lnTo>
                    <a:lnTo>
                      <a:pt x="369" y="110"/>
                    </a:lnTo>
                    <a:lnTo>
                      <a:pt x="380" y="121"/>
                    </a:lnTo>
                    <a:lnTo>
                      <a:pt x="344" y="142"/>
                    </a:lnTo>
                    <a:lnTo>
                      <a:pt x="403" y="270"/>
                    </a:lnTo>
                    <a:lnTo>
                      <a:pt x="339" y="433"/>
                    </a:lnTo>
                    <a:lnTo>
                      <a:pt x="186" y="441"/>
                    </a:lnTo>
                    <a:lnTo>
                      <a:pt x="38" y="270"/>
                    </a:lnTo>
                    <a:lnTo>
                      <a:pt x="0" y="117"/>
                    </a:lnTo>
                    <a:lnTo>
                      <a:pt x="162" y="0"/>
                    </a:lnTo>
                    <a:lnTo>
                      <a:pt x="263" y="9"/>
                    </a:lnTo>
                    <a:lnTo>
                      <a:pt x="263" y="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249320" y="4672800"/>
                <a:ext cx="95040" cy="41400"/>
              </a:xfrm>
              <a:custGeom>
                <a:avLst/>
                <a:gdLst/>
                <a:ahLst/>
                <a:rect l="l" t="t" r="r" b="b"/>
                <a:pathLst>
                  <a:path w="181" h="76">
                    <a:moveTo>
                      <a:pt x="152" y="0"/>
                    </a:moveTo>
                    <a:lnTo>
                      <a:pt x="0" y="28"/>
                    </a:lnTo>
                    <a:lnTo>
                      <a:pt x="13" y="76"/>
                    </a:lnTo>
                    <a:lnTo>
                      <a:pt x="181" y="28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b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209720" y="4723200"/>
                <a:ext cx="158400" cy="151920"/>
              </a:xfrm>
              <a:custGeom>
                <a:avLst/>
                <a:gdLst/>
                <a:ahLst/>
                <a:rect l="l" t="t" r="r" b="b"/>
                <a:pathLst>
                  <a:path w="302" h="280">
                    <a:moveTo>
                      <a:pt x="0" y="0"/>
                    </a:moveTo>
                    <a:lnTo>
                      <a:pt x="97" y="50"/>
                    </a:lnTo>
                    <a:lnTo>
                      <a:pt x="116" y="131"/>
                    </a:lnTo>
                    <a:lnTo>
                      <a:pt x="302" y="112"/>
                    </a:lnTo>
                    <a:lnTo>
                      <a:pt x="291" y="139"/>
                    </a:lnTo>
                    <a:lnTo>
                      <a:pt x="104" y="179"/>
                    </a:lnTo>
                    <a:lnTo>
                      <a:pt x="167" y="272"/>
                    </a:lnTo>
                    <a:lnTo>
                      <a:pt x="123" y="280"/>
                    </a:lnTo>
                    <a:lnTo>
                      <a:pt x="11" y="1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827400" y="4808520"/>
                <a:ext cx="295200" cy="593640"/>
              </a:xfrm>
              <a:custGeom>
                <a:avLst/>
                <a:gdLst/>
                <a:ahLst/>
                <a:rect l="l" t="t" r="r" b="b"/>
                <a:pathLst>
                  <a:path w="567" h="1085">
                    <a:moveTo>
                      <a:pt x="481" y="0"/>
                    </a:moveTo>
                    <a:lnTo>
                      <a:pt x="474" y="0"/>
                    </a:lnTo>
                    <a:lnTo>
                      <a:pt x="460" y="6"/>
                    </a:lnTo>
                    <a:lnTo>
                      <a:pt x="435" y="13"/>
                    </a:lnTo>
                    <a:lnTo>
                      <a:pt x="405" y="27"/>
                    </a:lnTo>
                    <a:lnTo>
                      <a:pt x="369" y="42"/>
                    </a:lnTo>
                    <a:lnTo>
                      <a:pt x="329" y="65"/>
                    </a:lnTo>
                    <a:lnTo>
                      <a:pt x="285" y="91"/>
                    </a:lnTo>
                    <a:lnTo>
                      <a:pt x="242" y="123"/>
                    </a:lnTo>
                    <a:lnTo>
                      <a:pt x="196" y="158"/>
                    </a:lnTo>
                    <a:lnTo>
                      <a:pt x="152" y="200"/>
                    </a:lnTo>
                    <a:lnTo>
                      <a:pt x="110" y="247"/>
                    </a:lnTo>
                    <a:lnTo>
                      <a:pt x="76" y="300"/>
                    </a:lnTo>
                    <a:lnTo>
                      <a:pt x="46" y="361"/>
                    </a:lnTo>
                    <a:lnTo>
                      <a:pt x="21" y="426"/>
                    </a:lnTo>
                    <a:lnTo>
                      <a:pt x="6" y="500"/>
                    </a:lnTo>
                    <a:lnTo>
                      <a:pt x="0" y="580"/>
                    </a:lnTo>
                    <a:lnTo>
                      <a:pt x="2" y="658"/>
                    </a:lnTo>
                    <a:lnTo>
                      <a:pt x="15" y="728"/>
                    </a:lnTo>
                    <a:lnTo>
                      <a:pt x="34" y="791"/>
                    </a:lnTo>
                    <a:lnTo>
                      <a:pt x="63" y="846"/>
                    </a:lnTo>
                    <a:lnTo>
                      <a:pt x="93" y="891"/>
                    </a:lnTo>
                    <a:lnTo>
                      <a:pt x="131" y="933"/>
                    </a:lnTo>
                    <a:lnTo>
                      <a:pt x="167" y="967"/>
                    </a:lnTo>
                    <a:lnTo>
                      <a:pt x="209" y="998"/>
                    </a:lnTo>
                    <a:lnTo>
                      <a:pt x="247" y="1021"/>
                    </a:lnTo>
                    <a:lnTo>
                      <a:pt x="285" y="1040"/>
                    </a:lnTo>
                    <a:lnTo>
                      <a:pt x="321" y="1055"/>
                    </a:lnTo>
                    <a:lnTo>
                      <a:pt x="356" y="1066"/>
                    </a:lnTo>
                    <a:lnTo>
                      <a:pt x="382" y="1074"/>
                    </a:lnTo>
                    <a:lnTo>
                      <a:pt x="403" y="1079"/>
                    </a:lnTo>
                    <a:lnTo>
                      <a:pt x="418" y="1083"/>
                    </a:lnTo>
                    <a:lnTo>
                      <a:pt x="424" y="1085"/>
                    </a:lnTo>
                    <a:lnTo>
                      <a:pt x="439" y="1043"/>
                    </a:lnTo>
                    <a:lnTo>
                      <a:pt x="339" y="918"/>
                    </a:lnTo>
                    <a:lnTo>
                      <a:pt x="302" y="967"/>
                    </a:lnTo>
                    <a:lnTo>
                      <a:pt x="72" y="707"/>
                    </a:lnTo>
                    <a:lnTo>
                      <a:pt x="105" y="369"/>
                    </a:lnTo>
                    <a:lnTo>
                      <a:pt x="173" y="390"/>
                    </a:lnTo>
                    <a:lnTo>
                      <a:pt x="361" y="93"/>
                    </a:lnTo>
                    <a:lnTo>
                      <a:pt x="415" y="137"/>
                    </a:lnTo>
                    <a:lnTo>
                      <a:pt x="567" y="51"/>
                    </a:lnTo>
                    <a:lnTo>
                      <a:pt x="481" y="0"/>
                    </a:lnTo>
                    <a:lnTo>
                      <a:pt x="481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205400" y="5080680"/>
                <a:ext cx="36360" cy="280800"/>
              </a:xfrm>
              <a:custGeom>
                <a:avLst/>
                <a:gdLst/>
                <a:ahLst/>
                <a:rect l="l" t="t" r="r" b="b"/>
                <a:pathLst>
                  <a:path w="71" h="513">
                    <a:moveTo>
                      <a:pt x="0" y="0"/>
                    </a:moveTo>
                    <a:lnTo>
                      <a:pt x="14" y="479"/>
                    </a:lnTo>
                    <a:lnTo>
                      <a:pt x="71" y="513"/>
                    </a:lnTo>
                    <a:lnTo>
                      <a:pt x="57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46000" y="4606920"/>
                <a:ext cx="161640" cy="185040"/>
              </a:xfrm>
              <a:custGeom>
                <a:avLst/>
                <a:gdLst/>
                <a:ahLst/>
                <a:rect l="l" t="t" r="r" b="b"/>
                <a:pathLst>
                  <a:path w="310" h="339">
                    <a:moveTo>
                      <a:pt x="310" y="55"/>
                    </a:moveTo>
                    <a:lnTo>
                      <a:pt x="124" y="129"/>
                    </a:lnTo>
                    <a:lnTo>
                      <a:pt x="124" y="211"/>
                    </a:lnTo>
                    <a:lnTo>
                      <a:pt x="65" y="196"/>
                    </a:lnTo>
                    <a:lnTo>
                      <a:pt x="61" y="198"/>
                    </a:lnTo>
                    <a:lnTo>
                      <a:pt x="57" y="206"/>
                    </a:lnTo>
                    <a:lnTo>
                      <a:pt x="54" y="219"/>
                    </a:lnTo>
                    <a:lnTo>
                      <a:pt x="52" y="234"/>
                    </a:lnTo>
                    <a:lnTo>
                      <a:pt x="52" y="249"/>
                    </a:lnTo>
                    <a:lnTo>
                      <a:pt x="57" y="264"/>
                    </a:lnTo>
                    <a:lnTo>
                      <a:pt x="63" y="272"/>
                    </a:lnTo>
                    <a:lnTo>
                      <a:pt x="69" y="280"/>
                    </a:lnTo>
                    <a:lnTo>
                      <a:pt x="80" y="283"/>
                    </a:lnTo>
                    <a:lnTo>
                      <a:pt x="92" y="291"/>
                    </a:lnTo>
                    <a:lnTo>
                      <a:pt x="73" y="339"/>
                    </a:lnTo>
                    <a:lnTo>
                      <a:pt x="69" y="335"/>
                    </a:lnTo>
                    <a:lnTo>
                      <a:pt x="57" y="327"/>
                    </a:lnTo>
                    <a:lnTo>
                      <a:pt x="48" y="320"/>
                    </a:lnTo>
                    <a:lnTo>
                      <a:pt x="44" y="310"/>
                    </a:lnTo>
                    <a:lnTo>
                      <a:pt x="35" y="301"/>
                    </a:lnTo>
                    <a:lnTo>
                      <a:pt x="29" y="291"/>
                    </a:lnTo>
                    <a:lnTo>
                      <a:pt x="21" y="278"/>
                    </a:lnTo>
                    <a:lnTo>
                      <a:pt x="14" y="263"/>
                    </a:lnTo>
                    <a:lnTo>
                      <a:pt x="8" y="245"/>
                    </a:lnTo>
                    <a:lnTo>
                      <a:pt x="4" y="228"/>
                    </a:lnTo>
                    <a:lnTo>
                      <a:pt x="0" y="206"/>
                    </a:lnTo>
                    <a:lnTo>
                      <a:pt x="0" y="185"/>
                    </a:lnTo>
                    <a:lnTo>
                      <a:pt x="2" y="160"/>
                    </a:lnTo>
                    <a:lnTo>
                      <a:pt x="6" y="135"/>
                    </a:lnTo>
                    <a:lnTo>
                      <a:pt x="247" y="0"/>
                    </a:lnTo>
                    <a:lnTo>
                      <a:pt x="310" y="55"/>
                    </a:lnTo>
                    <a:lnTo>
                      <a:pt x="310" y="55"/>
                    </a:lnTo>
                    <a:close/>
                  </a:path>
                </a:pathLst>
              </a:custGeom>
              <a:solidFill>
                <a:srgbClr val="b3b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3886200" y="431496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3520" y="4038480"/>
            <a:ext cx="3352680" cy="1191240"/>
          </a:xfrm>
          <a:prstGeom prst="rect">
            <a:avLst/>
          </a:prstGeom>
          <a:solidFill>
            <a:srgbClr val="0066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pliegue interno de procesos involuc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76520" y="3124080"/>
            <a:ext cx="838080" cy="762120"/>
          </a:xfrm>
          <a:custGeom>
            <a:avLst/>
            <a:gdLst>
              <a:gd name="textAreaLeft" fmla="*/ 0 w 838080"/>
              <a:gd name="textAreaRight" fmla="*/ 838440 w 8380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666880" y="2057400"/>
            <a:ext cx="2895840" cy="1676520"/>
            <a:chOff x="2666880" y="2057400"/>
            <a:chExt cx="2895840" cy="1676520"/>
          </a:xfrm>
        </p:grpSpPr>
        <p:pic>
          <p:nvPicPr>
            <p:cNvPr id="694" name="FD01084_" descr=""/>
            <p:cNvPicPr/>
            <p:nvPr/>
          </p:nvPicPr>
          <p:blipFill>
            <a:blip r:embed="rId1"/>
            <a:stretch/>
          </p:blipFill>
          <p:spPr>
            <a:xfrm>
              <a:off x="4267080" y="2438280"/>
              <a:ext cx="129564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BD08911_" descr=""/>
            <p:cNvPicPr/>
            <p:nvPr/>
          </p:nvPicPr>
          <p:blipFill>
            <a:blip r:embed="rId2"/>
            <a:stretch/>
          </p:blipFill>
          <p:spPr>
            <a:xfrm>
              <a:off x="2666880" y="2362320"/>
              <a:ext cx="136368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 flipH="1">
              <a:off x="3733920" y="2057400"/>
              <a:ext cx="838080" cy="167652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 rot="5571600">
            <a:off x="5600520" y="285732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1828800"/>
            <a:ext cx="2438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edición de la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700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1" name="logo%20UNC" descr=""/>
            <p:cNvPicPr/>
            <p:nvPr/>
          </p:nvPicPr>
          <p:blipFill>
            <a:blip r:embed="rId3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4572000" y="1736640"/>
            <a:ext cx="3276720" cy="2226960"/>
            <a:chOff x="4572000" y="1736640"/>
            <a:chExt cx="3276720" cy="2226960"/>
          </a:xfrm>
        </p:grpSpPr>
        <p:sp>
          <p:nvSpPr>
            <p:cNvPr id="708" name=""/>
            <p:cNvSpPr/>
            <p:nvPr/>
          </p:nvSpPr>
          <p:spPr>
            <a:xfrm>
              <a:off x="4572000" y="1736640"/>
              <a:ext cx="3276720" cy="2210040"/>
            </a:xfrm>
            <a:prstGeom prst="ellipse">
              <a:avLst/>
            </a:prstGeom>
            <a:noFill/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34120" y="3321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omic Sans MS"/>
                </a:rPr>
                <a:t>SCP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4114800" y="2422440"/>
            <a:ext cx="19810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Medidas e Indic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3520" y="1965240"/>
            <a:ext cx="31622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tro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3520" y="2575080"/>
            <a:ext cx="31622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Mejo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3184560"/>
            <a:ext cx="31622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valu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685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ISTEMA de CONTROL de PROCESO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Medir para decid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38560" y="21178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6ccff"/>
          </a:soli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38560" y="26892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6ccff"/>
          </a:soli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238560" y="32608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6ccff"/>
          </a:soli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7480" y="4419720"/>
            <a:ext cx="7889040" cy="137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mplir con procedimientos establec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canzar estándares (procesos es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mplir necesidades y expectativas del 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20518800">
            <a:off x="7384680" y="2091960"/>
            <a:ext cx="1041480" cy="3097080"/>
          </a:xfrm>
          <a:custGeom>
            <a:avLst/>
            <a:gdLst>
              <a:gd name="textAreaLeft" fmla="*/ 139320 w 1041480"/>
              <a:gd name="textAreaRight" fmla="*/ 902160 w 1041480"/>
              <a:gd name="textAreaTop" fmla="*/ 541800 h 3097080"/>
              <a:gd name="textAreaBottom" fmla="*/ 224532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24480" y="2193840"/>
            <a:ext cx="228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ivel de desempeño del 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722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3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33520" y="3276720"/>
            <a:ext cx="792468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car las mejores prácticas para realizar un trabaj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evar la capacidad de los procesos para satisfacer las necesidades y expectativas de los cl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62320" y="1523880"/>
            <a:ext cx="1143000" cy="1600200"/>
          </a:xfrm>
          <a:prstGeom prst="downArrow">
            <a:avLst>
              <a:gd name="adj1" fmla="val 50000"/>
              <a:gd name="adj2" fmla="val 3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914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MEJORA CONTINUA 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Objetivo 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8288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Imp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419720" y="5181480"/>
            <a:ext cx="1981080" cy="1068840"/>
            <a:chOff x="4419720" y="5181480"/>
            <a:chExt cx="1981080" cy="1068840"/>
          </a:xfrm>
        </p:grpSpPr>
        <p:sp>
          <p:nvSpPr>
            <p:cNvPr id="734" name=""/>
            <p:cNvSpPr/>
            <p:nvPr/>
          </p:nvSpPr>
          <p:spPr>
            <a:xfrm>
              <a:off x="4419720" y="5181480"/>
              <a:ext cx="198108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33cc"/>
                  </a:solidFill>
                  <a:latin typeface="Comic Sans MS"/>
                </a:rPr>
                <a:t>= contro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610160" y="5334120"/>
              <a:ext cx="76320" cy="30456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737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8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762120" y="914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MEJORA CONTINUA 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Objetivo 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8080" y="190512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finir e implementar un </a:t>
            </a:r>
            <a:r>
              <a:rPr b="1" i="1" lang="es-ES" sz="28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proceso para mejora continua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que pueda aplicarse a la </a:t>
            </a:r>
            <a:r>
              <a:rPr b="1" i="1" lang="es-ES" sz="28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realización y apoyo de los procesos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y las actividades.... Dicho proceso... debería utilizarse como una herramienta para mejorar la eficacia y la eficiencia internas, así como mejorar la </a:t>
            </a:r>
            <a:r>
              <a:rPr b="1" i="1" lang="es-ES" sz="28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satisfacción de los clientes</a:t>
            </a: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y de las otras partes interesadas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47040" y="5715000"/>
            <a:ext cx="1910520" cy="398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SO 9004: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748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9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074960" y="838080"/>
            <a:ext cx="29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14400" y="160020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Gestión por Proceso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mplica desarrollar una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visión integral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de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Proceso de Satisfacción del Client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no es más que un contínuo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reto a la superació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or parte de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Sistema de Control de Proceso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se basa en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medicione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elementos fundamentales para gestionar un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  <a:ea typeface="Times New Roman"/>
              </a:rPr>
              <a:t>Círculo Deming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es la herramienta ideal para cumplir con el objetivo de la mejora contí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066680" y="518148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a Gestión por Procesos permite mantener y mejorar la competitividad organizaci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759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0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16040" y="1692360"/>
            <a:ext cx="8305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cbcbc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La adopción de un sistema de gestión de la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lidad debe ser una 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decisión estraté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cbcbc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El sistema de gestión esta influenciado 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7040" y="88884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de Gestión de la Calidad ISO 9001: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8200" y="3657600"/>
            <a:ext cx="53607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iferentes neces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cesos emple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ducto (servici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amaño y estructura de l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140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1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304920" y="336240"/>
            <a:ext cx="8534160" cy="6190200"/>
            <a:chOff x="304920" y="336240"/>
            <a:chExt cx="8534160" cy="6190200"/>
          </a:xfrm>
        </p:grpSpPr>
        <p:sp>
          <p:nvSpPr>
            <p:cNvPr id="767" name=""/>
            <p:cNvSpPr/>
            <p:nvPr/>
          </p:nvSpPr>
          <p:spPr>
            <a:xfrm>
              <a:off x="533520" y="6127920"/>
              <a:ext cx="4616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Facultad de Ciencias Económicas - 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8" name="logo%20UNC" descr=""/>
            <p:cNvPicPr/>
            <p:nvPr/>
          </p:nvPicPr>
          <p:blipFill>
            <a:blip r:embed="rId1"/>
            <a:stretch/>
          </p:blipFill>
          <p:spPr>
            <a:xfrm>
              <a:off x="595440" y="6095880"/>
              <a:ext cx="54756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304920" y="336600"/>
              <a:ext cx="0" cy="60642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4920" y="640080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4419720" y="336240"/>
              <a:ext cx="4419360" cy="6096240"/>
              <a:chOff x="4419720" y="336240"/>
              <a:chExt cx="4419360" cy="6096240"/>
            </a:xfrm>
          </p:grpSpPr>
          <p:sp>
            <p:nvSpPr>
              <p:cNvPr id="772" name=""/>
              <p:cNvSpPr/>
              <p:nvPr/>
            </p:nvSpPr>
            <p:spPr>
              <a:xfrm>
                <a:off x="4419720" y="6432480"/>
                <a:ext cx="441936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8839080" y="336240"/>
                <a:ext cx="0" cy="6095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"/>
          <p:cNvSpPr/>
          <p:nvPr/>
        </p:nvSpPr>
        <p:spPr>
          <a:xfrm>
            <a:off x="304920" y="336600"/>
            <a:ext cx="85341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95280" y="852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90720" y="2286000"/>
            <a:ext cx="7538760" cy="155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66ff"/>
                </a:solidFill>
                <a:latin typeface="Comic Sans MS"/>
              </a:rPr>
              <a:t>GRACIA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66ff"/>
                </a:solidFill>
                <a:latin typeface="Comic Sans MS"/>
              </a:rPr>
              <a:t>POR SU ATEN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295280" y="44197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d9d9d9"/>
                </a:solidFill>
                <a:latin typeface="Comic Sans MS"/>
              </a:rPr>
              <a:t>Lic. Gloria Trovato – Ing. Luis Pache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" y="5105520"/>
            <a:ext cx="8305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2"/>
              </a:rPr>
              <a:t>trovato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3"/>
              </a:rPr>
              <a:t>@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4"/>
              </a:rPr>
              <a:t>econ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5"/>
              </a:rPr>
              <a:t>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6"/>
              </a:rPr>
              <a:t>unicen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7"/>
              </a:rPr>
              <a:t>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8"/>
              </a:rPr>
              <a:t>edu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9"/>
              </a:rPr>
              <a:t>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0"/>
              </a:rPr>
              <a:t>ar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1"/>
              </a:rPr>
              <a:t>lapacheco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2"/>
              </a:rPr>
              <a:t>@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3"/>
              </a:rPr>
              <a:t>infovia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4"/>
              </a:rPr>
              <a:t>.com.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Comic Sans MS"/>
                <a:hlinkClick r:id="rId15"/>
              </a:rPr>
              <a:t>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41720" y="76212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X CONGRESO DE LA PEQUEÑA Y MEDIANA EMPRE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1" i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yMEs: Alternativas para crecer y consolidarse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9160" y="941400"/>
            <a:ext cx="41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FOQUE A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4920" y="22543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ratégicamen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no de los más abarcativos e integ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167652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76480" y="3352680"/>
            <a:ext cx="1547640" cy="4597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jetiv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3840" y="4343400"/>
            <a:ext cx="600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ff"/>
                </a:solidFill>
                <a:latin typeface="Comic Sans MS"/>
              </a:rPr>
              <a:t>Interpretar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para </a:t>
            </a:r>
            <a:r>
              <a:rPr b="0" lang="es-ES_tradnl" sz="2400" spc="-1" strike="noStrike">
                <a:solidFill>
                  <a:srgbClr val="00ffff"/>
                </a:solidFill>
                <a:latin typeface="Comic Sans MS"/>
              </a:rPr>
              <a:t>aplicar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adecu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8.1 Medición, análisis y mejora en Py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3360" y="5257800"/>
            <a:ext cx="1910520" cy="398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SO 9001: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68600">
            <a:off x="1684440" y="4012920"/>
            <a:ext cx="296640" cy="787320"/>
          </a:xfrm>
          <a:custGeom>
            <a:avLst/>
            <a:gdLst>
              <a:gd name="textAreaLeft" fmla="*/ 39600 w 296640"/>
              <a:gd name="textAreaRight" fmla="*/ 257040 w 296640"/>
              <a:gd name="textAreaTop" fmla="*/ 137520 h 787320"/>
              <a:gd name="textAreaBottom" fmla="*/ 57096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155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6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19368600">
            <a:off x="457200" y="2133360"/>
            <a:ext cx="297000" cy="787320"/>
          </a:xfrm>
          <a:custGeom>
            <a:avLst/>
            <a:gdLst>
              <a:gd name="textAreaLeft" fmla="*/ 39600 w 297000"/>
              <a:gd name="textAreaRight" fmla="*/ 257400 w 297000"/>
              <a:gd name="textAreaTop" fmla="*/ 137520 h 787320"/>
              <a:gd name="textAreaBottom" fmla="*/ 57096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368600">
            <a:off x="457200" y="4267080"/>
            <a:ext cx="297000" cy="787680"/>
          </a:xfrm>
          <a:custGeom>
            <a:avLst/>
            <a:gdLst>
              <a:gd name="textAreaLeft" fmla="*/ 39600 w 297000"/>
              <a:gd name="textAreaRight" fmla="*/ 257400 w 297000"/>
              <a:gd name="textAreaTop" fmla="*/ 137880 h 787680"/>
              <a:gd name="textAreaBottom" fmla="*/ 571320 h 78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362320"/>
            <a:ext cx="7696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ff"/>
                </a:solidFill>
                <a:latin typeface="Comic Sans MS"/>
              </a:rPr>
              <a:t>Proceso de Satisfacción del 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10000"/>
            <a:ext cx="7696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ff"/>
                </a:solidFill>
                <a:latin typeface="Comic Sans MS"/>
              </a:rPr>
              <a:t>Proceso de Creación de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648320"/>
            <a:ext cx="7696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ff"/>
                </a:solidFill>
                <a:latin typeface="Comic Sans MS"/>
              </a:rPr>
              <a:t>Sistema de Control de Gestión de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9368600">
            <a:off x="457200" y="3098520"/>
            <a:ext cx="297000" cy="787320"/>
          </a:xfrm>
          <a:custGeom>
            <a:avLst/>
            <a:gdLst>
              <a:gd name="textAreaLeft" fmla="*/ 39600 w 297000"/>
              <a:gd name="textAreaRight" fmla="*/ 257400 w 297000"/>
              <a:gd name="textAreaTop" fmla="*/ 137520 h 787320"/>
              <a:gd name="textAreaBottom" fmla="*/ 57096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9160" y="941400"/>
            <a:ext cx="41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FOQUE A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170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1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24320" y="1574640"/>
            <a:ext cx="4835160" cy="398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Comic Sans MS"/>
              </a:rPr>
              <a:t>Modelo de un SGC basado en proc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6280" y="91440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stión por PROCESOS: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una visión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08160" y="2097000"/>
            <a:ext cx="5241960" cy="399888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2080" y="2206800"/>
            <a:ext cx="431640" cy="359064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82320" y="2774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8160" y="30844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41000" y="3392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2400" y="37018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2320" y="40100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8160" y="43196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2400" y="4627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50240" y="2192400"/>
            <a:ext cx="431640" cy="364968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0480" y="27907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86320" y="3098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29160" y="3408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8760" y="3716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70480" y="4025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86320" y="43340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8760" y="4643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76680" y="3017880"/>
            <a:ext cx="2235240" cy="58104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77000" y="310824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ponsabilida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97400" y="3306600"/>
            <a:ext cx="8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Geren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5200" y="4029120"/>
            <a:ext cx="1806840" cy="69696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12600" y="4154400"/>
            <a:ext cx="109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"/>
              </a:rPr>
              <a:t>Gerencia d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7080" y="437688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4114800"/>
            <a:ext cx="1749240" cy="61920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11000" y="4178160"/>
            <a:ext cx="157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edición, análisi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34240" y="5079960"/>
            <a:ext cx="903240" cy="58104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56280" y="52880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67120" y="4951440"/>
            <a:ext cx="3414600" cy="772920"/>
          </a:xfrm>
          <a:custGeom>
            <a:avLst/>
            <a:gdLst/>
            <a:ahLst/>
            <a:rect l="l" t="t" r="r" b="b"/>
            <a:pathLst>
              <a:path w="4303" h="974">
                <a:moveTo>
                  <a:pt x="3227" y="0"/>
                </a:moveTo>
                <a:lnTo>
                  <a:pt x="0" y="0"/>
                </a:lnTo>
                <a:lnTo>
                  <a:pt x="1076" y="487"/>
                </a:lnTo>
                <a:lnTo>
                  <a:pt x="0" y="974"/>
                </a:lnTo>
                <a:lnTo>
                  <a:pt x="3227" y="974"/>
                </a:lnTo>
                <a:lnTo>
                  <a:pt x="4303" y="487"/>
                </a:lnTo>
                <a:lnTo>
                  <a:pt x="3227" y="0"/>
                </a:lnTo>
                <a:close/>
              </a:path>
            </a:pathLst>
          </a:custGeom>
          <a:solidFill>
            <a:srgbClr val="ffcc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44800" y="5138640"/>
            <a:ext cx="128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alización 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45080" y="5345280"/>
            <a:ext cx="78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8200" y="5345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5345280"/>
            <a:ext cx="67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65320" y="5267160"/>
            <a:ext cx="1631520" cy="144360"/>
            <a:chOff x="2065320" y="5267160"/>
            <a:chExt cx="1631520" cy="144360"/>
          </a:xfrm>
        </p:grpSpPr>
        <p:sp>
          <p:nvSpPr>
            <p:cNvPr id="212" name=""/>
            <p:cNvSpPr/>
            <p:nvPr/>
          </p:nvSpPr>
          <p:spPr>
            <a:xfrm>
              <a:off x="2065320" y="5321160"/>
              <a:ext cx="1490400" cy="33120"/>
            </a:xfrm>
            <a:custGeom>
              <a:avLst/>
              <a:gdLst/>
              <a:ahLst/>
              <a:rect l="l" t="t" r="r" b="b"/>
              <a:pathLst>
                <a:path w="1880" h="42">
                  <a:moveTo>
                    <a:pt x="0" y="0"/>
                  </a:moveTo>
                  <a:lnTo>
                    <a:pt x="0" y="40"/>
                  </a:lnTo>
                  <a:lnTo>
                    <a:pt x="1880" y="42"/>
                  </a:lnTo>
                  <a:lnTo>
                    <a:pt x="188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54280" y="5267160"/>
              <a:ext cx="142560" cy="1443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81"/>
                  </a:moveTo>
                  <a:lnTo>
                    <a:pt x="181" y="91"/>
                  </a:lnTo>
                  <a:lnTo>
                    <a:pt x="0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650000" y="5267160"/>
            <a:ext cx="342720" cy="144360"/>
            <a:chOff x="7650000" y="5267160"/>
            <a:chExt cx="342720" cy="144360"/>
          </a:xfrm>
        </p:grpSpPr>
        <p:sp>
          <p:nvSpPr>
            <p:cNvPr id="215" name=""/>
            <p:cNvSpPr/>
            <p:nvPr/>
          </p:nvSpPr>
          <p:spPr>
            <a:xfrm>
              <a:off x="7650000" y="5321160"/>
              <a:ext cx="201600" cy="3312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0" y="0"/>
                  </a:moveTo>
                  <a:lnTo>
                    <a:pt x="0" y="40"/>
                  </a:lnTo>
                  <a:lnTo>
                    <a:pt x="255" y="42"/>
                  </a:lnTo>
                  <a:lnTo>
                    <a:pt x="25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49800" y="5267160"/>
              <a:ext cx="142920" cy="1443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81"/>
                  </a:moveTo>
                  <a:lnTo>
                    <a:pt x="181" y="91"/>
                  </a:lnTo>
                  <a:lnTo>
                    <a:pt x="0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446880" y="5267160"/>
            <a:ext cx="430200" cy="144360"/>
            <a:chOff x="6446880" y="5267160"/>
            <a:chExt cx="430200" cy="144360"/>
          </a:xfrm>
        </p:grpSpPr>
        <p:sp>
          <p:nvSpPr>
            <p:cNvPr id="218" name=""/>
            <p:cNvSpPr/>
            <p:nvPr/>
          </p:nvSpPr>
          <p:spPr>
            <a:xfrm>
              <a:off x="6446880" y="5321160"/>
              <a:ext cx="289080" cy="33120"/>
            </a:xfrm>
            <a:custGeom>
              <a:avLst/>
              <a:gdLst/>
              <a:ahLst/>
              <a:rect l="l" t="t" r="r" b="b"/>
              <a:pathLst>
                <a:path w="364" h="42">
                  <a:moveTo>
                    <a:pt x="0" y="0"/>
                  </a:moveTo>
                  <a:lnTo>
                    <a:pt x="0" y="40"/>
                  </a:lnTo>
                  <a:lnTo>
                    <a:pt x="364" y="42"/>
                  </a:lnTo>
                  <a:lnTo>
                    <a:pt x="36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32720" y="5267160"/>
              <a:ext cx="144360" cy="1443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81"/>
                  </a:moveTo>
                  <a:lnTo>
                    <a:pt x="181" y="91"/>
                  </a:lnTo>
                  <a:lnTo>
                    <a:pt x="0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372280" y="5249880"/>
            <a:ext cx="515880" cy="233280"/>
          </a:xfrm>
          <a:custGeom>
            <a:avLst/>
            <a:gdLst/>
            <a:ahLst/>
            <a:rect l="l" t="t" r="r" b="b"/>
            <a:pathLst>
              <a:path w="649" h="293">
                <a:moveTo>
                  <a:pt x="487" y="0"/>
                </a:moveTo>
                <a:lnTo>
                  <a:pt x="0" y="0"/>
                </a:lnTo>
                <a:lnTo>
                  <a:pt x="162" y="145"/>
                </a:lnTo>
                <a:lnTo>
                  <a:pt x="0" y="293"/>
                </a:lnTo>
                <a:lnTo>
                  <a:pt x="487" y="293"/>
                </a:lnTo>
                <a:lnTo>
                  <a:pt x="649" y="145"/>
                </a:lnTo>
                <a:lnTo>
                  <a:pt x="487" y="0"/>
                </a:lnTo>
                <a:close/>
              </a:path>
            </a:pathLst>
          </a:custGeom>
          <a:solidFill>
            <a:srgbClr val="ccff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59400" y="5294160"/>
            <a:ext cx="514440" cy="235080"/>
          </a:xfrm>
          <a:custGeom>
            <a:avLst/>
            <a:gdLst/>
            <a:ahLst/>
            <a:rect l="l" t="t" r="r" b="b"/>
            <a:pathLst>
              <a:path w="650" h="294">
                <a:moveTo>
                  <a:pt x="487" y="0"/>
                </a:moveTo>
                <a:lnTo>
                  <a:pt x="0" y="0"/>
                </a:lnTo>
                <a:lnTo>
                  <a:pt x="163" y="147"/>
                </a:lnTo>
                <a:lnTo>
                  <a:pt x="0" y="294"/>
                </a:lnTo>
                <a:lnTo>
                  <a:pt x="487" y="294"/>
                </a:lnTo>
                <a:lnTo>
                  <a:pt x="650" y="147"/>
                </a:lnTo>
                <a:lnTo>
                  <a:pt x="487" y="0"/>
                </a:lnTo>
                <a:close/>
              </a:path>
            </a:pathLst>
          </a:custGeom>
          <a:solidFill>
            <a:srgbClr val="ccff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45080" y="5340240"/>
            <a:ext cx="514440" cy="231840"/>
          </a:xfrm>
          <a:custGeom>
            <a:avLst/>
            <a:gdLst/>
            <a:ahLst/>
            <a:rect l="l" t="t" r="r" b="b"/>
            <a:pathLst>
              <a:path w="650" h="293">
                <a:moveTo>
                  <a:pt x="488" y="0"/>
                </a:moveTo>
                <a:lnTo>
                  <a:pt x="0" y="0"/>
                </a:lnTo>
                <a:lnTo>
                  <a:pt x="163" y="146"/>
                </a:lnTo>
                <a:lnTo>
                  <a:pt x="0" y="293"/>
                </a:lnTo>
                <a:lnTo>
                  <a:pt x="488" y="293"/>
                </a:lnTo>
                <a:lnTo>
                  <a:pt x="650" y="146"/>
                </a:lnTo>
                <a:lnTo>
                  <a:pt x="488" y="0"/>
                </a:lnTo>
                <a:close/>
              </a:path>
            </a:pathLst>
          </a:custGeom>
          <a:solidFill>
            <a:srgbClr val="ccff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26120" y="4363920"/>
            <a:ext cx="515880" cy="144360"/>
            <a:chOff x="7026120" y="4363920"/>
            <a:chExt cx="515880" cy="144360"/>
          </a:xfrm>
        </p:grpSpPr>
        <p:sp>
          <p:nvSpPr>
            <p:cNvPr id="224" name=""/>
            <p:cNvSpPr/>
            <p:nvPr/>
          </p:nvSpPr>
          <p:spPr>
            <a:xfrm>
              <a:off x="7413480" y="441936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88120" y="441936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6120" y="4363920"/>
              <a:ext cx="145800" cy="14436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82" y="0"/>
                  </a:moveTo>
                  <a:lnTo>
                    <a:pt x="0" y="89"/>
                  </a:lnTo>
                  <a:lnTo>
                    <a:pt x="182" y="1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614600" y="3211560"/>
            <a:ext cx="430200" cy="243360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73000" y="3533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86680" y="3713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82720" y="38926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82720" y="40734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06120" y="42530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6680" y="4432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06120" y="4613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03240" y="47926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82720" y="4971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86680" y="5153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42360" y="2567160"/>
            <a:ext cx="388800" cy="245880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84560" y="272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3920" y="290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10480" y="3081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13360" y="3260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3920" y="3441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10480" y="3621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93920" y="3800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93920" y="39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3920" y="4160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13360" y="4340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89960" y="4519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89960" y="47005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7560" y="5359320"/>
            <a:ext cx="892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34240" y="5595840"/>
            <a:ext cx="757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614600" y="3040200"/>
            <a:ext cx="2062080" cy="88920"/>
            <a:chOff x="1614600" y="3040200"/>
            <a:chExt cx="2062080" cy="88920"/>
          </a:xfrm>
        </p:grpSpPr>
        <p:sp>
          <p:nvSpPr>
            <p:cNvPr id="254" name=""/>
            <p:cNvSpPr/>
            <p:nvPr/>
          </p:nvSpPr>
          <p:spPr>
            <a:xfrm>
              <a:off x="3546720" y="3067200"/>
              <a:ext cx="1299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21000" y="3067200"/>
              <a:ext cx="12888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95640" y="306720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70280" y="306720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4920" y="3067200"/>
              <a:ext cx="128520" cy="3312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162" y="41"/>
                  </a:moveTo>
                  <a:lnTo>
                    <a:pt x="162" y="0"/>
                  </a:lnTo>
                  <a:lnTo>
                    <a:pt x="0" y="2"/>
                  </a:lnTo>
                  <a:lnTo>
                    <a:pt x="0" y="43"/>
                  </a:lnTo>
                  <a:lnTo>
                    <a:pt x="16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3067200"/>
              <a:ext cx="12852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94200" y="3067200"/>
              <a:ext cx="12852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68480" y="3067200"/>
              <a:ext cx="12888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43120" y="3067200"/>
              <a:ext cx="12852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14600" y="3040200"/>
              <a:ext cx="90360" cy="88920"/>
            </a:xfrm>
            <a:custGeom>
              <a:avLst/>
              <a:gdLst/>
              <a:ahLst/>
              <a:rect l="l" t="t" r="r" b="b"/>
              <a:pathLst>
                <a:path w="115" h="114">
                  <a:moveTo>
                    <a:pt x="115" y="0"/>
                  </a:moveTo>
                  <a:lnTo>
                    <a:pt x="0" y="58"/>
                  </a:lnTo>
                  <a:lnTo>
                    <a:pt x="115" y="11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62080" y="2206800"/>
            <a:ext cx="431640" cy="359064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82320" y="2774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8160" y="30844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41000" y="3392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2400" y="37018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82320" y="40100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8160" y="43196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2400" y="4627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50240" y="2192400"/>
            <a:ext cx="431640" cy="364968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0480" y="27907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86320" y="3098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29160" y="3408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8760" y="3716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070480" y="40258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86320" y="43340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78760" y="4643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76680" y="3017880"/>
            <a:ext cx="2235240" cy="58104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7000" y="310824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ponsabilida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97400" y="3306600"/>
            <a:ext cx="8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Gerenc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5200" y="4029120"/>
            <a:ext cx="1806840" cy="69696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12600" y="4154400"/>
            <a:ext cx="109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"/>
              </a:rPr>
              <a:t>Gerencia d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7080" y="437688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6960" y="4419720"/>
            <a:ext cx="73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ej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34240" y="5079960"/>
            <a:ext cx="903240" cy="58104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56280" y="52880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67120" y="4951440"/>
            <a:ext cx="3414600" cy="772920"/>
          </a:xfrm>
          <a:custGeom>
            <a:avLst/>
            <a:gdLst/>
            <a:ahLst/>
            <a:rect l="l" t="t" r="r" b="b"/>
            <a:pathLst>
              <a:path w="4303" h="974">
                <a:moveTo>
                  <a:pt x="3227" y="0"/>
                </a:moveTo>
                <a:lnTo>
                  <a:pt x="0" y="0"/>
                </a:lnTo>
                <a:lnTo>
                  <a:pt x="1076" y="487"/>
                </a:lnTo>
                <a:lnTo>
                  <a:pt x="0" y="974"/>
                </a:lnTo>
                <a:lnTo>
                  <a:pt x="3227" y="974"/>
                </a:lnTo>
                <a:lnTo>
                  <a:pt x="4303" y="487"/>
                </a:lnTo>
                <a:lnTo>
                  <a:pt x="3227" y="0"/>
                </a:lnTo>
                <a:close/>
              </a:path>
            </a:pathLst>
          </a:custGeom>
          <a:solidFill>
            <a:srgbClr val="ffcc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2160" y="5138640"/>
            <a:ext cx="128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alización 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62080" y="5345280"/>
            <a:ext cx="83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ducto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99440" y="5345280"/>
            <a:ext cx="67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065320" y="5267160"/>
            <a:ext cx="1631520" cy="144360"/>
            <a:chOff x="2065320" y="5267160"/>
            <a:chExt cx="1631520" cy="144360"/>
          </a:xfrm>
        </p:grpSpPr>
        <p:sp>
          <p:nvSpPr>
            <p:cNvPr id="294" name=""/>
            <p:cNvSpPr/>
            <p:nvPr/>
          </p:nvSpPr>
          <p:spPr>
            <a:xfrm>
              <a:off x="2065320" y="5321160"/>
              <a:ext cx="1490400" cy="33120"/>
            </a:xfrm>
            <a:custGeom>
              <a:avLst/>
              <a:gdLst/>
              <a:ahLst/>
              <a:rect l="l" t="t" r="r" b="b"/>
              <a:pathLst>
                <a:path w="1880" h="42">
                  <a:moveTo>
                    <a:pt x="0" y="0"/>
                  </a:moveTo>
                  <a:lnTo>
                    <a:pt x="0" y="40"/>
                  </a:lnTo>
                  <a:lnTo>
                    <a:pt x="1880" y="42"/>
                  </a:lnTo>
                  <a:lnTo>
                    <a:pt x="188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54280" y="5267160"/>
              <a:ext cx="142560" cy="1443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81"/>
                  </a:moveTo>
                  <a:lnTo>
                    <a:pt x="181" y="91"/>
                  </a:lnTo>
                  <a:lnTo>
                    <a:pt x="0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650000" y="5267160"/>
            <a:ext cx="342720" cy="144360"/>
            <a:chOff x="7650000" y="5267160"/>
            <a:chExt cx="342720" cy="144360"/>
          </a:xfrm>
        </p:grpSpPr>
        <p:sp>
          <p:nvSpPr>
            <p:cNvPr id="297" name=""/>
            <p:cNvSpPr/>
            <p:nvPr/>
          </p:nvSpPr>
          <p:spPr>
            <a:xfrm>
              <a:off x="7650000" y="5321160"/>
              <a:ext cx="201600" cy="3312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0" y="0"/>
                  </a:moveTo>
                  <a:lnTo>
                    <a:pt x="0" y="40"/>
                  </a:lnTo>
                  <a:lnTo>
                    <a:pt x="255" y="42"/>
                  </a:lnTo>
                  <a:lnTo>
                    <a:pt x="25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49800" y="5267160"/>
              <a:ext cx="142920" cy="1443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81"/>
                  </a:moveTo>
                  <a:lnTo>
                    <a:pt x="181" y="91"/>
                  </a:lnTo>
                  <a:lnTo>
                    <a:pt x="0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446880" y="5267160"/>
            <a:ext cx="430200" cy="144360"/>
            <a:chOff x="6446880" y="5267160"/>
            <a:chExt cx="430200" cy="144360"/>
          </a:xfrm>
        </p:grpSpPr>
        <p:sp>
          <p:nvSpPr>
            <p:cNvPr id="300" name=""/>
            <p:cNvSpPr/>
            <p:nvPr/>
          </p:nvSpPr>
          <p:spPr>
            <a:xfrm>
              <a:off x="6446880" y="5321160"/>
              <a:ext cx="289080" cy="33120"/>
            </a:xfrm>
            <a:custGeom>
              <a:avLst/>
              <a:gdLst/>
              <a:ahLst/>
              <a:rect l="l" t="t" r="r" b="b"/>
              <a:pathLst>
                <a:path w="364" h="42">
                  <a:moveTo>
                    <a:pt x="0" y="0"/>
                  </a:moveTo>
                  <a:lnTo>
                    <a:pt x="0" y="40"/>
                  </a:lnTo>
                  <a:lnTo>
                    <a:pt x="364" y="42"/>
                  </a:lnTo>
                  <a:lnTo>
                    <a:pt x="36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32720" y="5267160"/>
              <a:ext cx="144360" cy="1443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81"/>
                  </a:moveTo>
                  <a:lnTo>
                    <a:pt x="181" y="91"/>
                  </a:lnTo>
                  <a:lnTo>
                    <a:pt x="0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590920" y="2162160"/>
            <a:ext cx="3695760" cy="58104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41920" y="2241720"/>
            <a:ext cx="30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joramiento Contínuo del Sistem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28720" y="2448000"/>
            <a:ext cx="187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Gestión de Cal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27320" y="3091680"/>
            <a:ext cx="867600" cy="1006560"/>
            <a:chOff x="5827320" y="3091680"/>
            <a:chExt cx="867600" cy="1006560"/>
          </a:xfrm>
        </p:grpSpPr>
        <p:sp>
          <p:nvSpPr>
            <p:cNvPr id="306" name=""/>
            <p:cNvSpPr/>
            <p:nvPr/>
          </p:nvSpPr>
          <p:spPr>
            <a:xfrm rot="20223000">
              <a:off x="5968800" y="3171600"/>
              <a:ext cx="583920" cy="846000"/>
            </a:xfrm>
            <a:custGeom>
              <a:avLst/>
              <a:gdLst/>
              <a:ahLst/>
              <a:rect l="l" t="t" r="r" b="b"/>
              <a:pathLst>
                <a:path w="737" h="1067">
                  <a:moveTo>
                    <a:pt x="289" y="1067"/>
                  </a:moveTo>
                  <a:lnTo>
                    <a:pt x="347" y="1045"/>
                  </a:lnTo>
                  <a:lnTo>
                    <a:pt x="399" y="1020"/>
                  </a:lnTo>
                  <a:lnTo>
                    <a:pt x="450" y="993"/>
                  </a:lnTo>
                  <a:lnTo>
                    <a:pt x="497" y="963"/>
                  </a:lnTo>
                  <a:lnTo>
                    <a:pt x="541" y="929"/>
                  </a:lnTo>
                  <a:lnTo>
                    <a:pt x="582" y="895"/>
                  </a:lnTo>
                  <a:lnTo>
                    <a:pt x="617" y="859"/>
                  </a:lnTo>
                  <a:lnTo>
                    <a:pt x="650" y="822"/>
                  </a:lnTo>
                  <a:lnTo>
                    <a:pt x="677" y="783"/>
                  </a:lnTo>
                  <a:lnTo>
                    <a:pt x="699" y="744"/>
                  </a:lnTo>
                  <a:lnTo>
                    <a:pt x="715" y="705"/>
                  </a:lnTo>
                  <a:lnTo>
                    <a:pt x="729" y="667"/>
                  </a:lnTo>
                  <a:lnTo>
                    <a:pt x="736" y="626"/>
                  </a:lnTo>
                  <a:lnTo>
                    <a:pt x="737" y="587"/>
                  </a:lnTo>
                  <a:lnTo>
                    <a:pt x="734" y="548"/>
                  </a:lnTo>
                  <a:lnTo>
                    <a:pt x="724" y="511"/>
                  </a:lnTo>
                  <a:lnTo>
                    <a:pt x="651" y="306"/>
                  </a:lnTo>
                  <a:lnTo>
                    <a:pt x="639" y="279"/>
                  </a:lnTo>
                  <a:lnTo>
                    <a:pt x="624" y="254"/>
                  </a:lnTo>
                  <a:lnTo>
                    <a:pt x="606" y="229"/>
                  </a:lnTo>
                  <a:lnTo>
                    <a:pt x="585" y="207"/>
                  </a:lnTo>
                  <a:lnTo>
                    <a:pt x="562" y="186"/>
                  </a:lnTo>
                  <a:lnTo>
                    <a:pt x="535" y="168"/>
                  </a:lnTo>
                  <a:lnTo>
                    <a:pt x="506" y="151"/>
                  </a:lnTo>
                  <a:lnTo>
                    <a:pt x="475" y="137"/>
                  </a:lnTo>
                  <a:lnTo>
                    <a:pt x="441" y="125"/>
                  </a:lnTo>
                  <a:lnTo>
                    <a:pt x="406" y="115"/>
                  </a:lnTo>
                  <a:lnTo>
                    <a:pt x="369" y="107"/>
                  </a:lnTo>
                  <a:lnTo>
                    <a:pt x="328" y="102"/>
                  </a:lnTo>
                  <a:lnTo>
                    <a:pt x="288" y="98"/>
                  </a:lnTo>
                  <a:lnTo>
                    <a:pt x="245" y="97"/>
                  </a:lnTo>
                  <a:lnTo>
                    <a:pt x="203" y="98"/>
                  </a:lnTo>
                  <a:lnTo>
                    <a:pt x="157" y="103"/>
                  </a:lnTo>
                  <a:lnTo>
                    <a:pt x="122" y="0"/>
                  </a:lnTo>
                  <a:lnTo>
                    <a:pt x="0" y="250"/>
                  </a:lnTo>
                  <a:lnTo>
                    <a:pt x="267" y="409"/>
                  </a:lnTo>
                  <a:lnTo>
                    <a:pt x="230" y="306"/>
                  </a:lnTo>
                  <a:lnTo>
                    <a:pt x="298" y="301"/>
                  </a:lnTo>
                  <a:lnTo>
                    <a:pt x="362" y="301"/>
                  </a:lnTo>
                  <a:lnTo>
                    <a:pt x="425" y="308"/>
                  </a:lnTo>
                  <a:lnTo>
                    <a:pt x="482" y="320"/>
                  </a:lnTo>
                  <a:lnTo>
                    <a:pt x="535" y="337"/>
                  </a:lnTo>
                  <a:lnTo>
                    <a:pt x="584" y="359"/>
                  </a:lnTo>
                  <a:lnTo>
                    <a:pt x="628" y="386"/>
                  </a:lnTo>
                  <a:lnTo>
                    <a:pt x="665" y="418"/>
                  </a:lnTo>
                  <a:lnTo>
                    <a:pt x="665" y="418"/>
                  </a:lnTo>
                  <a:lnTo>
                    <a:pt x="660" y="452"/>
                  </a:lnTo>
                  <a:lnTo>
                    <a:pt x="651" y="484"/>
                  </a:lnTo>
                  <a:lnTo>
                    <a:pt x="638" y="518"/>
                  </a:lnTo>
                  <a:lnTo>
                    <a:pt x="622" y="550"/>
                  </a:lnTo>
                  <a:lnTo>
                    <a:pt x="604" y="582"/>
                  </a:lnTo>
                  <a:lnTo>
                    <a:pt x="582" y="614"/>
                  </a:lnTo>
                  <a:lnTo>
                    <a:pt x="556" y="645"/>
                  </a:lnTo>
                  <a:lnTo>
                    <a:pt x="528" y="675"/>
                  </a:lnTo>
                  <a:lnTo>
                    <a:pt x="497" y="704"/>
                  </a:lnTo>
                  <a:lnTo>
                    <a:pt x="463" y="731"/>
                  </a:lnTo>
                  <a:lnTo>
                    <a:pt x="428" y="758"/>
                  </a:lnTo>
                  <a:lnTo>
                    <a:pt x="389" y="782"/>
                  </a:lnTo>
                  <a:lnTo>
                    <a:pt x="348" y="805"/>
                  </a:lnTo>
                  <a:lnTo>
                    <a:pt x="306" y="827"/>
                  </a:lnTo>
                  <a:lnTo>
                    <a:pt x="262" y="848"/>
                  </a:lnTo>
                  <a:lnTo>
                    <a:pt x="217" y="864"/>
                  </a:lnTo>
                  <a:lnTo>
                    <a:pt x="289" y="106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223000">
              <a:off x="6181200" y="3371760"/>
              <a:ext cx="412560" cy="603000"/>
            </a:xfrm>
            <a:custGeom>
              <a:avLst/>
              <a:gdLst/>
              <a:ahLst/>
              <a:rect l="l" t="t" r="r" b="b"/>
              <a:pathLst>
                <a:path w="520" h="761">
                  <a:moveTo>
                    <a:pt x="72" y="761"/>
                  </a:moveTo>
                  <a:lnTo>
                    <a:pt x="130" y="739"/>
                  </a:lnTo>
                  <a:lnTo>
                    <a:pt x="182" y="714"/>
                  </a:lnTo>
                  <a:lnTo>
                    <a:pt x="233" y="687"/>
                  </a:lnTo>
                  <a:lnTo>
                    <a:pt x="280" y="657"/>
                  </a:lnTo>
                  <a:lnTo>
                    <a:pt x="324" y="623"/>
                  </a:lnTo>
                  <a:lnTo>
                    <a:pt x="365" y="589"/>
                  </a:lnTo>
                  <a:lnTo>
                    <a:pt x="400" y="553"/>
                  </a:lnTo>
                  <a:lnTo>
                    <a:pt x="433" y="516"/>
                  </a:lnTo>
                  <a:lnTo>
                    <a:pt x="460" y="477"/>
                  </a:lnTo>
                  <a:lnTo>
                    <a:pt x="482" y="438"/>
                  </a:lnTo>
                  <a:lnTo>
                    <a:pt x="498" y="399"/>
                  </a:lnTo>
                  <a:lnTo>
                    <a:pt x="512" y="361"/>
                  </a:lnTo>
                  <a:lnTo>
                    <a:pt x="519" y="320"/>
                  </a:lnTo>
                  <a:lnTo>
                    <a:pt x="520" y="281"/>
                  </a:lnTo>
                  <a:lnTo>
                    <a:pt x="517" y="242"/>
                  </a:lnTo>
                  <a:lnTo>
                    <a:pt x="507" y="205"/>
                  </a:lnTo>
                  <a:lnTo>
                    <a:pt x="434" y="0"/>
                  </a:lnTo>
                  <a:lnTo>
                    <a:pt x="444" y="38"/>
                  </a:lnTo>
                  <a:lnTo>
                    <a:pt x="449" y="76"/>
                  </a:lnTo>
                  <a:lnTo>
                    <a:pt x="448" y="115"/>
                  </a:lnTo>
                  <a:lnTo>
                    <a:pt x="439" y="156"/>
                  </a:lnTo>
                  <a:lnTo>
                    <a:pt x="427" y="195"/>
                  </a:lnTo>
                  <a:lnTo>
                    <a:pt x="411" y="235"/>
                  </a:lnTo>
                  <a:lnTo>
                    <a:pt x="387" y="274"/>
                  </a:lnTo>
                  <a:lnTo>
                    <a:pt x="360" y="313"/>
                  </a:lnTo>
                  <a:lnTo>
                    <a:pt x="329" y="350"/>
                  </a:lnTo>
                  <a:lnTo>
                    <a:pt x="292" y="386"/>
                  </a:lnTo>
                  <a:lnTo>
                    <a:pt x="253" y="420"/>
                  </a:lnTo>
                  <a:lnTo>
                    <a:pt x="209" y="454"/>
                  </a:lnTo>
                  <a:lnTo>
                    <a:pt x="162" y="482"/>
                  </a:lnTo>
                  <a:lnTo>
                    <a:pt x="111" y="511"/>
                  </a:lnTo>
                  <a:lnTo>
                    <a:pt x="57" y="536"/>
                  </a:lnTo>
                  <a:lnTo>
                    <a:pt x="0" y="558"/>
                  </a:lnTo>
                  <a:lnTo>
                    <a:pt x="72" y="7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223000">
              <a:off x="5968800" y="3171600"/>
              <a:ext cx="583920" cy="846000"/>
            </a:xfrm>
            <a:custGeom>
              <a:avLst/>
              <a:gdLst/>
              <a:ahLst/>
              <a:rect l="l" t="t" r="r" b="b"/>
              <a:pathLst>
                <a:path w="737" h="1067">
                  <a:moveTo>
                    <a:pt x="289" y="1067"/>
                  </a:moveTo>
                  <a:lnTo>
                    <a:pt x="347" y="1045"/>
                  </a:lnTo>
                  <a:lnTo>
                    <a:pt x="399" y="1020"/>
                  </a:lnTo>
                  <a:lnTo>
                    <a:pt x="450" y="993"/>
                  </a:lnTo>
                  <a:lnTo>
                    <a:pt x="497" y="963"/>
                  </a:lnTo>
                  <a:lnTo>
                    <a:pt x="541" y="929"/>
                  </a:lnTo>
                  <a:lnTo>
                    <a:pt x="582" y="895"/>
                  </a:lnTo>
                  <a:lnTo>
                    <a:pt x="617" y="859"/>
                  </a:lnTo>
                  <a:lnTo>
                    <a:pt x="650" y="822"/>
                  </a:lnTo>
                  <a:lnTo>
                    <a:pt x="677" y="783"/>
                  </a:lnTo>
                  <a:lnTo>
                    <a:pt x="699" y="744"/>
                  </a:lnTo>
                  <a:lnTo>
                    <a:pt x="715" y="705"/>
                  </a:lnTo>
                  <a:lnTo>
                    <a:pt x="729" y="667"/>
                  </a:lnTo>
                  <a:lnTo>
                    <a:pt x="736" y="626"/>
                  </a:lnTo>
                  <a:lnTo>
                    <a:pt x="737" y="587"/>
                  </a:lnTo>
                  <a:lnTo>
                    <a:pt x="734" y="548"/>
                  </a:lnTo>
                  <a:lnTo>
                    <a:pt x="724" y="511"/>
                  </a:lnTo>
                  <a:lnTo>
                    <a:pt x="651" y="306"/>
                  </a:lnTo>
                  <a:lnTo>
                    <a:pt x="639" y="279"/>
                  </a:lnTo>
                  <a:lnTo>
                    <a:pt x="624" y="254"/>
                  </a:lnTo>
                  <a:lnTo>
                    <a:pt x="606" y="229"/>
                  </a:lnTo>
                  <a:lnTo>
                    <a:pt x="585" y="207"/>
                  </a:lnTo>
                  <a:lnTo>
                    <a:pt x="562" y="186"/>
                  </a:lnTo>
                  <a:lnTo>
                    <a:pt x="535" y="168"/>
                  </a:lnTo>
                  <a:lnTo>
                    <a:pt x="506" y="151"/>
                  </a:lnTo>
                  <a:lnTo>
                    <a:pt x="475" y="137"/>
                  </a:lnTo>
                  <a:lnTo>
                    <a:pt x="441" y="125"/>
                  </a:lnTo>
                  <a:lnTo>
                    <a:pt x="406" y="115"/>
                  </a:lnTo>
                  <a:lnTo>
                    <a:pt x="369" y="107"/>
                  </a:lnTo>
                  <a:lnTo>
                    <a:pt x="328" y="102"/>
                  </a:lnTo>
                  <a:lnTo>
                    <a:pt x="288" y="98"/>
                  </a:lnTo>
                  <a:lnTo>
                    <a:pt x="245" y="97"/>
                  </a:lnTo>
                  <a:lnTo>
                    <a:pt x="203" y="98"/>
                  </a:lnTo>
                  <a:lnTo>
                    <a:pt x="157" y="103"/>
                  </a:lnTo>
                  <a:lnTo>
                    <a:pt x="122" y="0"/>
                  </a:lnTo>
                  <a:lnTo>
                    <a:pt x="0" y="250"/>
                  </a:lnTo>
                  <a:lnTo>
                    <a:pt x="267" y="409"/>
                  </a:lnTo>
                  <a:lnTo>
                    <a:pt x="230" y="306"/>
                  </a:lnTo>
                  <a:lnTo>
                    <a:pt x="298" y="301"/>
                  </a:lnTo>
                  <a:lnTo>
                    <a:pt x="362" y="301"/>
                  </a:lnTo>
                  <a:lnTo>
                    <a:pt x="425" y="308"/>
                  </a:lnTo>
                  <a:lnTo>
                    <a:pt x="482" y="320"/>
                  </a:lnTo>
                  <a:lnTo>
                    <a:pt x="535" y="337"/>
                  </a:lnTo>
                  <a:lnTo>
                    <a:pt x="584" y="359"/>
                  </a:lnTo>
                  <a:lnTo>
                    <a:pt x="628" y="386"/>
                  </a:lnTo>
                  <a:lnTo>
                    <a:pt x="665" y="418"/>
                  </a:lnTo>
                  <a:lnTo>
                    <a:pt x="665" y="418"/>
                  </a:lnTo>
                  <a:lnTo>
                    <a:pt x="660" y="452"/>
                  </a:lnTo>
                  <a:lnTo>
                    <a:pt x="651" y="484"/>
                  </a:lnTo>
                  <a:lnTo>
                    <a:pt x="638" y="518"/>
                  </a:lnTo>
                  <a:lnTo>
                    <a:pt x="622" y="550"/>
                  </a:lnTo>
                  <a:lnTo>
                    <a:pt x="604" y="582"/>
                  </a:lnTo>
                  <a:lnTo>
                    <a:pt x="582" y="614"/>
                  </a:lnTo>
                  <a:lnTo>
                    <a:pt x="556" y="645"/>
                  </a:lnTo>
                  <a:lnTo>
                    <a:pt x="528" y="675"/>
                  </a:lnTo>
                  <a:lnTo>
                    <a:pt x="497" y="704"/>
                  </a:lnTo>
                  <a:lnTo>
                    <a:pt x="463" y="731"/>
                  </a:lnTo>
                  <a:lnTo>
                    <a:pt x="428" y="758"/>
                  </a:lnTo>
                  <a:lnTo>
                    <a:pt x="389" y="782"/>
                  </a:lnTo>
                  <a:lnTo>
                    <a:pt x="348" y="805"/>
                  </a:lnTo>
                  <a:lnTo>
                    <a:pt x="306" y="827"/>
                  </a:lnTo>
                  <a:lnTo>
                    <a:pt x="262" y="848"/>
                  </a:lnTo>
                  <a:lnTo>
                    <a:pt x="217" y="864"/>
                  </a:lnTo>
                  <a:lnTo>
                    <a:pt x="289" y="1067"/>
                  </a:lnTo>
                  <a:close/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223000">
              <a:off x="6413400" y="3335760"/>
              <a:ext cx="12600" cy="87120"/>
            </a:xfrm>
            <a:custGeom>
              <a:avLst/>
              <a:gdLst/>
              <a:ahLst/>
              <a:rect l="l" t="t" r="r" b="b"/>
              <a:pathLst>
                <a:path w="15" h="112">
                  <a:moveTo>
                    <a:pt x="0" y="0"/>
                  </a:moveTo>
                  <a:lnTo>
                    <a:pt x="9" y="27"/>
                  </a:lnTo>
                  <a:lnTo>
                    <a:pt x="12" y="54"/>
                  </a:lnTo>
                  <a:lnTo>
                    <a:pt x="15" y="83"/>
                  </a:lnTo>
                  <a:lnTo>
                    <a:pt x="14" y="112"/>
                  </a:lnTo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791320" y="4572000"/>
            <a:ext cx="555480" cy="596880"/>
            <a:chOff x="5791320" y="4572000"/>
            <a:chExt cx="555480" cy="596880"/>
          </a:xfrm>
        </p:grpSpPr>
        <p:sp>
          <p:nvSpPr>
            <p:cNvPr id="311" name=""/>
            <p:cNvSpPr/>
            <p:nvPr/>
          </p:nvSpPr>
          <p:spPr>
            <a:xfrm>
              <a:off x="5791320" y="4572000"/>
              <a:ext cx="555480" cy="596880"/>
            </a:xfrm>
            <a:custGeom>
              <a:avLst/>
              <a:gdLst/>
              <a:ahLst/>
              <a:rect l="l" t="t" r="r" b="b"/>
              <a:pathLst>
                <a:path w="701" h="751">
                  <a:moveTo>
                    <a:pt x="0" y="683"/>
                  </a:moveTo>
                  <a:lnTo>
                    <a:pt x="27" y="702"/>
                  </a:lnTo>
                  <a:lnTo>
                    <a:pt x="55" y="719"/>
                  </a:lnTo>
                  <a:lnTo>
                    <a:pt x="83" y="730"/>
                  </a:lnTo>
                  <a:lnTo>
                    <a:pt x="114" y="741"/>
                  </a:lnTo>
                  <a:lnTo>
                    <a:pt x="144" y="747"/>
                  </a:lnTo>
                  <a:lnTo>
                    <a:pt x="175" y="751"/>
                  </a:lnTo>
                  <a:lnTo>
                    <a:pt x="207" y="751"/>
                  </a:lnTo>
                  <a:lnTo>
                    <a:pt x="239" y="747"/>
                  </a:lnTo>
                  <a:lnTo>
                    <a:pt x="269" y="742"/>
                  </a:lnTo>
                  <a:lnTo>
                    <a:pt x="300" y="732"/>
                  </a:lnTo>
                  <a:lnTo>
                    <a:pt x="330" y="720"/>
                  </a:lnTo>
                  <a:lnTo>
                    <a:pt x="361" y="707"/>
                  </a:lnTo>
                  <a:lnTo>
                    <a:pt x="389" y="688"/>
                  </a:lnTo>
                  <a:lnTo>
                    <a:pt x="416" y="668"/>
                  </a:lnTo>
                  <a:lnTo>
                    <a:pt x="442" y="644"/>
                  </a:lnTo>
                  <a:lnTo>
                    <a:pt x="466" y="617"/>
                  </a:lnTo>
                  <a:lnTo>
                    <a:pt x="592" y="465"/>
                  </a:lnTo>
                  <a:lnTo>
                    <a:pt x="609" y="443"/>
                  </a:lnTo>
                  <a:lnTo>
                    <a:pt x="625" y="421"/>
                  </a:lnTo>
                  <a:lnTo>
                    <a:pt x="638" y="397"/>
                  </a:lnTo>
                  <a:lnTo>
                    <a:pt x="648" y="374"/>
                  </a:lnTo>
                  <a:lnTo>
                    <a:pt x="658" y="348"/>
                  </a:lnTo>
                  <a:lnTo>
                    <a:pt x="665" y="325"/>
                  </a:lnTo>
                  <a:lnTo>
                    <a:pt x="672" y="299"/>
                  </a:lnTo>
                  <a:lnTo>
                    <a:pt x="675" y="274"/>
                  </a:lnTo>
                  <a:lnTo>
                    <a:pt x="677" y="248"/>
                  </a:lnTo>
                  <a:lnTo>
                    <a:pt x="677" y="223"/>
                  </a:lnTo>
                  <a:lnTo>
                    <a:pt x="675" y="198"/>
                  </a:lnTo>
                  <a:lnTo>
                    <a:pt x="672" y="172"/>
                  </a:lnTo>
                  <a:lnTo>
                    <a:pt x="667" y="147"/>
                  </a:lnTo>
                  <a:lnTo>
                    <a:pt x="658" y="123"/>
                  </a:lnTo>
                  <a:lnTo>
                    <a:pt x="650" y="100"/>
                  </a:lnTo>
                  <a:lnTo>
                    <a:pt x="638" y="78"/>
                  </a:lnTo>
                  <a:lnTo>
                    <a:pt x="701" y="0"/>
                  </a:lnTo>
                  <a:lnTo>
                    <a:pt x="506" y="71"/>
                  </a:lnTo>
                  <a:lnTo>
                    <a:pt x="449" y="306"/>
                  </a:lnTo>
                  <a:lnTo>
                    <a:pt x="511" y="230"/>
                  </a:lnTo>
                  <a:lnTo>
                    <a:pt x="528" y="265"/>
                  </a:lnTo>
                  <a:lnTo>
                    <a:pt x="540" y="301"/>
                  </a:lnTo>
                  <a:lnTo>
                    <a:pt x="548" y="338"/>
                  </a:lnTo>
                  <a:lnTo>
                    <a:pt x="552" y="377"/>
                  </a:lnTo>
                  <a:lnTo>
                    <a:pt x="550" y="416"/>
                  </a:lnTo>
                  <a:lnTo>
                    <a:pt x="545" y="456"/>
                  </a:lnTo>
                  <a:lnTo>
                    <a:pt x="535" y="495"/>
                  </a:lnTo>
                  <a:lnTo>
                    <a:pt x="520" y="533"/>
                  </a:lnTo>
                  <a:lnTo>
                    <a:pt x="520" y="533"/>
                  </a:lnTo>
                  <a:lnTo>
                    <a:pt x="496" y="548"/>
                  </a:lnTo>
                  <a:lnTo>
                    <a:pt x="471" y="561"/>
                  </a:lnTo>
                  <a:lnTo>
                    <a:pt x="447" y="573"/>
                  </a:lnTo>
                  <a:lnTo>
                    <a:pt x="420" y="582"/>
                  </a:lnTo>
                  <a:lnTo>
                    <a:pt x="394" y="588"/>
                  </a:lnTo>
                  <a:lnTo>
                    <a:pt x="369" y="593"/>
                  </a:lnTo>
                  <a:lnTo>
                    <a:pt x="342" y="597"/>
                  </a:lnTo>
                  <a:lnTo>
                    <a:pt x="317" y="597"/>
                  </a:lnTo>
                  <a:lnTo>
                    <a:pt x="290" y="597"/>
                  </a:lnTo>
                  <a:lnTo>
                    <a:pt x="264" y="593"/>
                  </a:lnTo>
                  <a:lnTo>
                    <a:pt x="241" y="587"/>
                  </a:lnTo>
                  <a:lnTo>
                    <a:pt x="215" y="580"/>
                  </a:lnTo>
                  <a:lnTo>
                    <a:pt x="192" y="570"/>
                  </a:lnTo>
                  <a:lnTo>
                    <a:pt x="168" y="558"/>
                  </a:lnTo>
                  <a:lnTo>
                    <a:pt x="146" y="544"/>
                  </a:lnTo>
                  <a:lnTo>
                    <a:pt x="126" y="529"/>
                  </a:lnTo>
                  <a:lnTo>
                    <a:pt x="0" y="68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4992840"/>
              <a:ext cx="412560" cy="176040"/>
            </a:xfrm>
            <a:custGeom>
              <a:avLst/>
              <a:gdLst/>
              <a:ahLst/>
              <a:rect l="l" t="t" r="r" b="b"/>
              <a:pathLst>
                <a:path w="520" h="222">
                  <a:moveTo>
                    <a:pt x="0" y="154"/>
                  </a:moveTo>
                  <a:lnTo>
                    <a:pt x="27" y="173"/>
                  </a:lnTo>
                  <a:lnTo>
                    <a:pt x="55" y="190"/>
                  </a:lnTo>
                  <a:lnTo>
                    <a:pt x="83" y="201"/>
                  </a:lnTo>
                  <a:lnTo>
                    <a:pt x="114" y="212"/>
                  </a:lnTo>
                  <a:lnTo>
                    <a:pt x="144" y="218"/>
                  </a:lnTo>
                  <a:lnTo>
                    <a:pt x="175" y="222"/>
                  </a:lnTo>
                  <a:lnTo>
                    <a:pt x="207" y="222"/>
                  </a:lnTo>
                  <a:lnTo>
                    <a:pt x="239" y="218"/>
                  </a:lnTo>
                  <a:lnTo>
                    <a:pt x="269" y="213"/>
                  </a:lnTo>
                  <a:lnTo>
                    <a:pt x="300" y="203"/>
                  </a:lnTo>
                  <a:lnTo>
                    <a:pt x="330" y="191"/>
                  </a:lnTo>
                  <a:lnTo>
                    <a:pt x="361" y="178"/>
                  </a:lnTo>
                  <a:lnTo>
                    <a:pt x="389" y="159"/>
                  </a:lnTo>
                  <a:lnTo>
                    <a:pt x="416" y="139"/>
                  </a:lnTo>
                  <a:lnTo>
                    <a:pt x="442" y="115"/>
                  </a:lnTo>
                  <a:lnTo>
                    <a:pt x="466" y="88"/>
                  </a:lnTo>
                  <a:lnTo>
                    <a:pt x="496" y="48"/>
                  </a:lnTo>
                  <a:lnTo>
                    <a:pt x="508" y="26"/>
                  </a:lnTo>
                  <a:lnTo>
                    <a:pt x="520" y="4"/>
                  </a:lnTo>
                  <a:lnTo>
                    <a:pt x="520" y="4"/>
                  </a:lnTo>
                  <a:lnTo>
                    <a:pt x="496" y="19"/>
                  </a:lnTo>
                  <a:lnTo>
                    <a:pt x="471" y="32"/>
                  </a:lnTo>
                  <a:lnTo>
                    <a:pt x="447" y="44"/>
                  </a:lnTo>
                  <a:lnTo>
                    <a:pt x="420" y="53"/>
                  </a:lnTo>
                  <a:lnTo>
                    <a:pt x="394" y="59"/>
                  </a:lnTo>
                  <a:lnTo>
                    <a:pt x="369" y="64"/>
                  </a:lnTo>
                  <a:lnTo>
                    <a:pt x="342" y="68"/>
                  </a:lnTo>
                  <a:lnTo>
                    <a:pt x="317" y="68"/>
                  </a:lnTo>
                  <a:lnTo>
                    <a:pt x="290" y="68"/>
                  </a:lnTo>
                  <a:lnTo>
                    <a:pt x="264" y="64"/>
                  </a:lnTo>
                  <a:lnTo>
                    <a:pt x="241" y="58"/>
                  </a:lnTo>
                  <a:lnTo>
                    <a:pt x="215" y="51"/>
                  </a:lnTo>
                  <a:lnTo>
                    <a:pt x="192" y="41"/>
                  </a:lnTo>
                  <a:lnTo>
                    <a:pt x="168" y="29"/>
                  </a:lnTo>
                  <a:lnTo>
                    <a:pt x="146" y="15"/>
                  </a:lnTo>
                  <a:lnTo>
                    <a:pt x="126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4572000"/>
              <a:ext cx="555480" cy="596880"/>
            </a:xfrm>
            <a:custGeom>
              <a:avLst/>
              <a:gdLst/>
              <a:ahLst/>
              <a:rect l="l" t="t" r="r" b="b"/>
              <a:pathLst>
                <a:path w="701" h="751">
                  <a:moveTo>
                    <a:pt x="0" y="683"/>
                  </a:moveTo>
                  <a:lnTo>
                    <a:pt x="27" y="702"/>
                  </a:lnTo>
                  <a:lnTo>
                    <a:pt x="55" y="719"/>
                  </a:lnTo>
                  <a:lnTo>
                    <a:pt x="83" y="730"/>
                  </a:lnTo>
                  <a:lnTo>
                    <a:pt x="114" y="741"/>
                  </a:lnTo>
                  <a:lnTo>
                    <a:pt x="144" y="747"/>
                  </a:lnTo>
                  <a:lnTo>
                    <a:pt x="175" y="751"/>
                  </a:lnTo>
                  <a:lnTo>
                    <a:pt x="207" y="751"/>
                  </a:lnTo>
                  <a:lnTo>
                    <a:pt x="239" y="747"/>
                  </a:lnTo>
                  <a:lnTo>
                    <a:pt x="269" y="742"/>
                  </a:lnTo>
                  <a:lnTo>
                    <a:pt x="300" y="732"/>
                  </a:lnTo>
                  <a:lnTo>
                    <a:pt x="330" y="720"/>
                  </a:lnTo>
                  <a:lnTo>
                    <a:pt x="361" y="707"/>
                  </a:lnTo>
                  <a:lnTo>
                    <a:pt x="389" y="688"/>
                  </a:lnTo>
                  <a:lnTo>
                    <a:pt x="416" y="668"/>
                  </a:lnTo>
                  <a:lnTo>
                    <a:pt x="442" y="644"/>
                  </a:lnTo>
                  <a:lnTo>
                    <a:pt x="466" y="617"/>
                  </a:lnTo>
                  <a:lnTo>
                    <a:pt x="592" y="465"/>
                  </a:lnTo>
                  <a:lnTo>
                    <a:pt x="609" y="443"/>
                  </a:lnTo>
                  <a:lnTo>
                    <a:pt x="625" y="421"/>
                  </a:lnTo>
                  <a:lnTo>
                    <a:pt x="638" y="397"/>
                  </a:lnTo>
                  <a:lnTo>
                    <a:pt x="648" y="374"/>
                  </a:lnTo>
                  <a:lnTo>
                    <a:pt x="658" y="348"/>
                  </a:lnTo>
                  <a:lnTo>
                    <a:pt x="665" y="325"/>
                  </a:lnTo>
                  <a:lnTo>
                    <a:pt x="672" y="299"/>
                  </a:lnTo>
                  <a:lnTo>
                    <a:pt x="675" y="274"/>
                  </a:lnTo>
                  <a:lnTo>
                    <a:pt x="677" y="248"/>
                  </a:lnTo>
                  <a:lnTo>
                    <a:pt x="677" y="223"/>
                  </a:lnTo>
                  <a:lnTo>
                    <a:pt x="675" y="198"/>
                  </a:lnTo>
                  <a:lnTo>
                    <a:pt x="672" y="172"/>
                  </a:lnTo>
                  <a:lnTo>
                    <a:pt x="667" y="147"/>
                  </a:lnTo>
                  <a:lnTo>
                    <a:pt x="658" y="123"/>
                  </a:lnTo>
                  <a:lnTo>
                    <a:pt x="650" y="100"/>
                  </a:lnTo>
                  <a:lnTo>
                    <a:pt x="638" y="78"/>
                  </a:lnTo>
                  <a:lnTo>
                    <a:pt x="701" y="0"/>
                  </a:lnTo>
                  <a:lnTo>
                    <a:pt x="506" y="71"/>
                  </a:lnTo>
                  <a:lnTo>
                    <a:pt x="449" y="306"/>
                  </a:lnTo>
                  <a:lnTo>
                    <a:pt x="511" y="230"/>
                  </a:lnTo>
                  <a:lnTo>
                    <a:pt x="528" y="265"/>
                  </a:lnTo>
                  <a:lnTo>
                    <a:pt x="540" y="301"/>
                  </a:lnTo>
                  <a:lnTo>
                    <a:pt x="548" y="338"/>
                  </a:lnTo>
                  <a:lnTo>
                    <a:pt x="552" y="377"/>
                  </a:lnTo>
                  <a:lnTo>
                    <a:pt x="550" y="416"/>
                  </a:lnTo>
                  <a:lnTo>
                    <a:pt x="545" y="456"/>
                  </a:lnTo>
                  <a:lnTo>
                    <a:pt x="535" y="495"/>
                  </a:lnTo>
                  <a:lnTo>
                    <a:pt x="520" y="533"/>
                  </a:lnTo>
                  <a:lnTo>
                    <a:pt x="520" y="533"/>
                  </a:lnTo>
                  <a:lnTo>
                    <a:pt x="496" y="548"/>
                  </a:lnTo>
                  <a:lnTo>
                    <a:pt x="471" y="561"/>
                  </a:lnTo>
                  <a:lnTo>
                    <a:pt x="447" y="573"/>
                  </a:lnTo>
                  <a:lnTo>
                    <a:pt x="420" y="582"/>
                  </a:lnTo>
                  <a:lnTo>
                    <a:pt x="394" y="588"/>
                  </a:lnTo>
                  <a:lnTo>
                    <a:pt x="369" y="593"/>
                  </a:lnTo>
                  <a:lnTo>
                    <a:pt x="342" y="597"/>
                  </a:lnTo>
                  <a:lnTo>
                    <a:pt x="317" y="597"/>
                  </a:lnTo>
                  <a:lnTo>
                    <a:pt x="290" y="597"/>
                  </a:lnTo>
                  <a:lnTo>
                    <a:pt x="264" y="593"/>
                  </a:lnTo>
                  <a:lnTo>
                    <a:pt x="241" y="587"/>
                  </a:lnTo>
                  <a:lnTo>
                    <a:pt x="215" y="580"/>
                  </a:lnTo>
                  <a:lnTo>
                    <a:pt x="192" y="570"/>
                  </a:lnTo>
                  <a:lnTo>
                    <a:pt x="168" y="558"/>
                  </a:lnTo>
                  <a:lnTo>
                    <a:pt x="146" y="544"/>
                  </a:lnTo>
                  <a:lnTo>
                    <a:pt x="126" y="529"/>
                  </a:lnTo>
                  <a:lnTo>
                    <a:pt x="0" y="683"/>
                  </a:lnTo>
                  <a:close/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61040" y="4996080"/>
              <a:ext cx="42480" cy="6660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0" y="84"/>
                  </a:moveTo>
                  <a:lnTo>
                    <a:pt x="30" y="44"/>
                  </a:lnTo>
                  <a:lnTo>
                    <a:pt x="42" y="22"/>
                  </a:lnTo>
                  <a:lnTo>
                    <a:pt x="54" y="0"/>
                  </a:lnTo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797200" y="4648320"/>
            <a:ext cx="479520" cy="612720"/>
            <a:chOff x="2797200" y="4648320"/>
            <a:chExt cx="479520" cy="612720"/>
          </a:xfrm>
        </p:grpSpPr>
        <p:sp>
          <p:nvSpPr>
            <p:cNvPr id="316" name=""/>
            <p:cNvSpPr/>
            <p:nvPr/>
          </p:nvSpPr>
          <p:spPr>
            <a:xfrm>
              <a:off x="2797200" y="4648320"/>
              <a:ext cx="479520" cy="612720"/>
            </a:xfrm>
            <a:custGeom>
              <a:avLst/>
              <a:gdLst/>
              <a:ahLst/>
              <a:rect l="l" t="t" r="r" b="b"/>
              <a:pathLst>
                <a:path w="604" h="771">
                  <a:moveTo>
                    <a:pt x="234" y="0"/>
                  </a:moveTo>
                  <a:lnTo>
                    <a:pt x="198" y="25"/>
                  </a:lnTo>
                  <a:lnTo>
                    <a:pt x="164" y="52"/>
                  </a:lnTo>
                  <a:lnTo>
                    <a:pt x="134" y="81"/>
                  </a:lnTo>
                  <a:lnTo>
                    <a:pt x="105" y="112"/>
                  </a:lnTo>
                  <a:lnTo>
                    <a:pt x="81" y="142"/>
                  </a:lnTo>
                  <a:lnTo>
                    <a:pt x="59" y="174"/>
                  </a:lnTo>
                  <a:lnTo>
                    <a:pt x="41" y="206"/>
                  </a:lnTo>
                  <a:lnTo>
                    <a:pt x="26" y="240"/>
                  </a:lnTo>
                  <a:lnTo>
                    <a:pt x="14" y="272"/>
                  </a:lnTo>
                  <a:lnTo>
                    <a:pt x="5" y="304"/>
                  </a:lnTo>
                  <a:lnTo>
                    <a:pt x="0" y="336"/>
                  </a:lnTo>
                  <a:lnTo>
                    <a:pt x="0" y="369"/>
                  </a:lnTo>
                  <a:lnTo>
                    <a:pt x="2" y="399"/>
                  </a:lnTo>
                  <a:lnTo>
                    <a:pt x="9" y="429"/>
                  </a:lnTo>
                  <a:lnTo>
                    <a:pt x="19" y="457"/>
                  </a:lnTo>
                  <a:lnTo>
                    <a:pt x="34" y="484"/>
                  </a:lnTo>
                  <a:lnTo>
                    <a:pt x="127" y="624"/>
                  </a:lnTo>
                  <a:lnTo>
                    <a:pt x="141" y="643"/>
                  </a:lnTo>
                  <a:lnTo>
                    <a:pt x="156" y="659"/>
                  </a:lnTo>
                  <a:lnTo>
                    <a:pt x="174" y="675"/>
                  </a:lnTo>
                  <a:lnTo>
                    <a:pt x="193" y="688"/>
                  </a:lnTo>
                  <a:lnTo>
                    <a:pt x="215" y="700"/>
                  </a:lnTo>
                  <a:lnTo>
                    <a:pt x="237" y="710"/>
                  </a:lnTo>
                  <a:lnTo>
                    <a:pt x="261" y="717"/>
                  </a:lnTo>
                  <a:lnTo>
                    <a:pt x="286" y="724"/>
                  </a:lnTo>
                  <a:lnTo>
                    <a:pt x="313" y="727"/>
                  </a:lnTo>
                  <a:lnTo>
                    <a:pt x="340" y="731"/>
                  </a:lnTo>
                  <a:lnTo>
                    <a:pt x="369" y="731"/>
                  </a:lnTo>
                  <a:lnTo>
                    <a:pt x="398" y="727"/>
                  </a:lnTo>
                  <a:lnTo>
                    <a:pt x="428" y="724"/>
                  </a:lnTo>
                  <a:lnTo>
                    <a:pt x="459" y="719"/>
                  </a:lnTo>
                  <a:lnTo>
                    <a:pt x="489" y="710"/>
                  </a:lnTo>
                  <a:lnTo>
                    <a:pt x="521" y="700"/>
                  </a:lnTo>
                  <a:lnTo>
                    <a:pt x="567" y="771"/>
                  </a:lnTo>
                  <a:lnTo>
                    <a:pt x="604" y="565"/>
                  </a:lnTo>
                  <a:lnTo>
                    <a:pt x="382" y="489"/>
                  </a:lnTo>
                  <a:lnTo>
                    <a:pt x="428" y="558"/>
                  </a:lnTo>
                  <a:lnTo>
                    <a:pt x="381" y="573"/>
                  </a:lnTo>
                  <a:lnTo>
                    <a:pt x="335" y="583"/>
                  </a:lnTo>
                  <a:lnTo>
                    <a:pt x="289" y="588"/>
                  </a:lnTo>
                  <a:lnTo>
                    <a:pt x="245" y="588"/>
                  </a:lnTo>
                  <a:lnTo>
                    <a:pt x="203" y="585"/>
                  </a:lnTo>
                  <a:lnTo>
                    <a:pt x="164" y="577"/>
                  </a:lnTo>
                  <a:lnTo>
                    <a:pt x="127" y="563"/>
                  </a:lnTo>
                  <a:lnTo>
                    <a:pt x="95" y="544"/>
                  </a:lnTo>
                  <a:lnTo>
                    <a:pt x="95" y="544"/>
                  </a:lnTo>
                  <a:lnTo>
                    <a:pt x="91" y="519"/>
                  </a:lnTo>
                  <a:lnTo>
                    <a:pt x="91" y="492"/>
                  </a:lnTo>
                  <a:lnTo>
                    <a:pt x="95" y="467"/>
                  </a:lnTo>
                  <a:lnTo>
                    <a:pt x="100" y="440"/>
                  </a:lnTo>
                  <a:lnTo>
                    <a:pt x="107" y="413"/>
                  </a:lnTo>
                  <a:lnTo>
                    <a:pt x="117" y="385"/>
                  </a:lnTo>
                  <a:lnTo>
                    <a:pt x="129" y="358"/>
                  </a:lnTo>
                  <a:lnTo>
                    <a:pt x="142" y="331"/>
                  </a:lnTo>
                  <a:lnTo>
                    <a:pt x="159" y="304"/>
                  </a:lnTo>
                  <a:lnTo>
                    <a:pt x="178" y="279"/>
                  </a:lnTo>
                  <a:lnTo>
                    <a:pt x="198" y="254"/>
                  </a:lnTo>
                  <a:lnTo>
                    <a:pt x="220" y="228"/>
                  </a:lnTo>
                  <a:lnTo>
                    <a:pt x="244" y="205"/>
                  </a:lnTo>
                  <a:lnTo>
                    <a:pt x="269" y="183"/>
                  </a:lnTo>
                  <a:lnTo>
                    <a:pt x="298" y="161"/>
                  </a:lnTo>
                  <a:lnTo>
                    <a:pt x="327" y="14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7200" y="4648320"/>
              <a:ext cx="258840" cy="432000"/>
            </a:xfrm>
            <a:custGeom>
              <a:avLst/>
              <a:gdLst/>
              <a:ahLst/>
              <a:rect l="l" t="t" r="r" b="b"/>
              <a:pathLst>
                <a:path w="327" h="544">
                  <a:moveTo>
                    <a:pt x="234" y="0"/>
                  </a:moveTo>
                  <a:lnTo>
                    <a:pt x="198" y="25"/>
                  </a:lnTo>
                  <a:lnTo>
                    <a:pt x="164" y="52"/>
                  </a:lnTo>
                  <a:lnTo>
                    <a:pt x="134" y="81"/>
                  </a:lnTo>
                  <a:lnTo>
                    <a:pt x="105" y="112"/>
                  </a:lnTo>
                  <a:lnTo>
                    <a:pt x="81" y="142"/>
                  </a:lnTo>
                  <a:lnTo>
                    <a:pt x="59" y="174"/>
                  </a:lnTo>
                  <a:lnTo>
                    <a:pt x="41" y="206"/>
                  </a:lnTo>
                  <a:lnTo>
                    <a:pt x="26" y="240"/>
                  </a:lnTo>
                  <a:lnTo>
                    <a:pt x="14" y="272"/>
                  </a:lnTo>
                  <a:lnTo>
                    <a:pt x="5" y="304"/>
                  </a:lnTo>
                  <a:lnTo>
                    <a:pt x="0" y="336"/>
                  </a:lnTo>
                  <a:lnTo>
                    <a:pt x="0" y="369"/>
                  </a:lnTo>
                  <a:lnTo>
                    <a:pt x="2" y="399"/>
                  </a:lnTo>
                  <a:lnTo>
                    <a:pt x="9" y="429"/>
                  </a:lnTo>
                  <a:lnTo>
                    <a:pt x="19" y="457"/>
                  </a:lnTo>
                  <a:lnTo>
                    <a:pt x="34" y="484"/>
                  </a:lnTo>
                  <a:lnTo>
                    <a:pt x="46" y="501"/>
                  </a:lnTo>
                  <a:lnTo>
                    <a:pt x="61" y="517"/>
                  </a:lnTo>
                  <a:lnTo>
                    <a:pt x="76" y="531"/>
                  </a:lnTo>
                  <a:lnTo>
                    <a:pt x="95" y="544"/>
                  </a:lnTo>
                  <a:lnTo>
                    <a:pt x="95" y="544"/>
                  </a:lnTo>
                  <a:lnTo>
                    <a:pt x="91" y="519"/>
                  </a:lnTo>
                  <a:lnTo>
                    <a:pt x="91" y="492"/>
                  </a:lnTo>
                  <a:lnTo>
                    <a:pt x="95" y="467"/>
                  </a:lnTo>
                  <a:lnTo>
                    <a:pt x="100" y="440"/>
                  </a:lnTo>
                  <a:lnTo>
                    <a:pt x="107" y="413"/>
                  </a:lnTo>
                  <a:lnTo>
                    <a:pt x="117" y="385"/>
                  </a:lnTo>
                  <a:lnTo>
                    <a:pt x="129" y="358"/>
                  </a:lnTo>
                  <a:lnTo>
                    <a:pt x="142" y="331"/>
                  </a:lnTo>
                  <a:lnTo>
                    <a:pt x="159" y="304"/>
                  </a:lnTo>
                  <a:lnTo>
                    <a:pt x="178" y="279"/>
                  </a:lnTo>
                  <a:lnTo>
                    <a:pt x="198" y="254"/>
                  </a:lnTo>
                  <a:lnTo>
                    <a:pt x="220" y="228"/>
                  </a:lnTo>
                  <a:lnTo>
                    <a:pt x="244" y="205"/>
                  </a:lnTo>
                  <a:lnTo>
                    <a:pt x="269" y="183"/>
                  </a:lnTo>
                  <a:lnTo>
                    <a:pt x="298" y="161"/>
                  </a:lnTo>
                  <a:lnTo>
                    <a:pt x="327" y="14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97200" y="4648320"/>
              <a:ext cx="479520" cy="612720"/>
            </a:xfrm>
            <a:custGeom>
              <a:avLst/>
              <a:gdLst/>
              <a:ahLst/>
              <a:rect l="l" t="t" r="r" b="b"/>
              <a:pathLst>
                <a:path w="604" h="771">
                  <a:moveTo>
                    <a:pt x="234" y="0"/>
                  </a:moveTo>
                  <a:lnTo>
                    <a:pt x="198" y="25"/>
                  </a:lnTo>
                  <a:lnTo>
                    <a:pt x="164" y="52"/>
                  </a:lnTo>
                  <a:lnTo>
                    <a:pt x="134" y="81"/>
                  </a:lnTo>
                  <a:lnTo>
                    <a:pt x="105" y="112"/>
                  </a:lnTo>
                  <a:lnTo>
                    <a:pt x="81" y="142"/>
                  </a:lnTo>
                  <a:lnTo>
                    <a:pt x="59" y="174"/>
                  </a:lnTo>
                  <a:lnTo>
                    <a:pt x="41" y="206"/>
                  </a:lnTo>
                  <a:lnTo>
                    <a:pt x="26" y="240"/>
                  </a:lnTo>
                  <a:lnTo>
                    <a:pt x="14" y="272"/>
                  </a:lnTo>
                  <a:lnTo>
                    <a:pt x="5" y="304"/>
                  </a:lnTo>
                  <a:lnTo>
                    <a:pt x="0" y="336"/>
                  </a:lnTo>
                  <a:lnTo>
                    <a:pt x="0" y="369"/>
                  </a:lnTo>
                  <a:lnTo>
                    <a:pt x="2" y="399"/>
                  </a:lnTo>
                  <a:lnTo>
                    <a:pt x="9" y="429"/>
                  </a:lnTo>
                  <a:lnTo>
                    <a:pt x="19" y="457"/>
                  </a:lnTo>
                  <a:lnTo>
                    <a:pt x="34" y="484"/>
                  </a:lnTo>
                  <a:lnTo>
                    <a:pt x="127" y="624"/>
                  </a:lnTo>
                  <a:lnTo>
                    <a:pt x="141" y="643"/>
                  </a:lnTo>
                  <a:lnTo>
                    <a:pt x="156" y="659"/>
                  </a:lnTo>
                  <a:lnTo>
                    <a:pt x="174" y="675"/>
                  </a:lnTo>
                  <a:lnTo>
                    <a:pt x="193" y="688"/>
                  </a:lnTo>
                  <a:lnTo>
                    <a:pt x="215" y="700"/>
                  </a:lnTo>
                  <a:lnTo>
                    <a:pt x="237" y="710"/>
                  </a:lnTo>
                  <a:lnTo>
                    <a:pt x="261" y="717"/>
                  </a:lnTo>
                  <a:lnTo>
                    <a:pt x="286" y="724"/>
                  </a:lnTo>
                  <a:lnTo>
                    <a:pt x="313" y="727"/>
                  </a:lnTo>
                  <a:lnTo>
                    <a:pt x="340" y="731"/>
                  </a:lnTo>
                  <a:lnTo>
                    <a:pt x="369" y="731"/>
                  </a:lnTo>
                  <a:lnTo>
                    <a:pt x="398" y="727"/>
                  </a:lnTo>
                  <a:lnTo>
                    <a:pt x="428" y="724"/>
                  </a:lnTo>
                  <a:lnTo>
                    <a:pt x="459" y="719"/>
                  </a:lnTo>
                  <a:lnTo>
                    <a:pt x="489" y="710"/>
                  </a:lnTo>
                  <a:lnTo>
                    <a:pt x="521" y="700"/>
                  </a:lnTo>
                  <a:lnTo>
                    <a:pt x="567" y="771"/>
                  </a:lnTo>
                  <a:lnTo>
                    <a:pt x="604" y="565"/>
                  </a:lnTo>
                  <a:lnTo>
                    <a:pt x="382" y="489"/>
                  </a:lnTo>
                  <a:lnTo>
                    <a:pt x="428" y="558"/>
                  </a:lnTo>
                  <a:lnTo>
                    <a:pt x="381" y="573"/>
                  </a:lnTo>
                  <a:lnTo>
                    <a:pt x="335" y="583"/>
                  </a:lnTo>
                  <a:lnTo>
                    <a:pt x="289" y="588"/>
                  </a:lnTo>
                  <a:lnTo>
                    <a:pt x="245" y="588"/>
                  </a:lnTo>
                  <a:lnTo>
                    <a:pt x="203" y="585"/>
                  </a:lnTo>
                  <a:lnTo>
                    <a:pt x="164" y="577"/>
                  </a:lnTo>
                  <a:lnTo>
                    <a:pt x="127" y="563"/>
                  </a:lnTo>
                  <a:lnTo>
                    <a:pt x="95" y="544"/>
                  </a:lnTo>
                  <a:lnTo>
                    <a:pt x="95" y="544"/>
                  </a:lnTo>
                  <a:lnTo>
                    <a:pt x="91" y="519"/>
                  </a:lnTo>
                  <a:lnTo>
                    <a:pt x="91" y="492"/>
                  </a:lnTo>
                  <a:lnTo>
                    <a:pt x="95" y="467"/>
                  </a:lnTo>
                  <a:lnTo>
                    <a:pt x="100" y="440"/>
                  </a:lnTo>
                  <a:lnTo>
                    <a:pt x="107" y="413"/>
                  </a:lnTo>
                  <a:lnTo>
                    <a:pt x="117" y="385"/>
                  </a:lnTo>
                  <a:lnTo>
                    <a:pt x="129" y="358"/>
                  </a:lnTo>
                  <a:lnTo>
                    <a:pt x="142" y="331"/>
                  </a:lnTo>
                  <a:lnTo>
                    <a:pt x="159" y="304"/>
                  </a:lnTo>
                  <a:lnTo>
                    <a:pt x="178" y="279"/>
                  </a:lnTo>
                  <a:lnTo>
                    <a:pt x="198" y="254"/>
                  </a:lnTo>
                  <a:lnTo>
                    <a:pt x="220" y="228"/>
                  </a:lnTo>
                  <a:lnTo>
                    <a:pt x="244" y="205"/>
                  </a:lnTo>
                  <a:lnTo>
                    <a:pt x="269" y="183"/>
                  </a:lnTo>
                  <a:lnTo>
                    <a:pt x="298" y="161"/>
                  </a:lnTo>
                  <a:lnTo>
                    <a:pt x="327" y="14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24200" y="5032440"/>
              <a:ext cx="47880" cy="4788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0" y="0"/>
                  </a:moveTo>
                  <a:lnTo>
                    <a:pt x="12" y="17"/>
                  </a:lnTo>
                  <a:lnTo>
                    <a:pt x="27" y="33"/>
                  </a:lnTo>
                  <a:lnTo>
                    <a:pt x="42" y="47"/>
                  </a:lnTo>
                  <a:lnTo>
                    <a:pt x="61" y="60"/>
                  </a:lnTo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614600" y="3211560"/>
            <a:ext cx="430200" cy="243360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73000" y="3533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86680" y="3713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2720" y="38926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2720" y="40734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06120" y="42530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86680" y="4432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06120" y="46134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3240" y="47926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82720" y="4971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86680" y="5153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42360" y="2567160"/>
            <a:ext cx="388800" cy="245880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4560" y="272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93920" y="290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10480" y="3081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13360" y="3260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93920" y="3441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10480" y="3621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93920" y="3800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93920" y="397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93920" y="4160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13360" y="4340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89960" y="4519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89960" y="47005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57560" y="5359320"/>
            <a:ext cx="892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4200" y="54100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Arial"/>
              </a:rPr>
              <a:t>Entr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34240" y="5595840"/>
            <a:ext cx="757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1800" y="571500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ffff"/>
                </a:solidFill>
                <a:latin typeface="Arial"/>
              </a:rPr>
              <a:t>Sal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14600" y="3040200"/>
            <a:ext cx="2062080" cy="88920"/>
            <a:chOff x="1614600" y="3040200"/>
            <a:chExt cx="2062080" cy="88920"/>
          </a:xfrm>
        </p:grpSpPr>
        <p:sp>
          <p:nvSpPr>
            <p:cNvPr id="349" name=""/>
            <p:cNvSpPr/>
            <p:nvPr/>
          </p:nvSpPr>
          <p:spPr>
            <a:xfrm>
              <a:off x="3546720" y="3067200"/>
              <a:ext cx="1299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21000" y="3067200"/>
              <a:ext cx="12888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5640" y="306720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70280" y="306720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4920" y="3067200"/>
              <a:ext cx="128520" cy="3312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162" y="41"/>
                  </a:moveTo>
                  <a:lnTo>
                    <a:pt x="162" y="0"/>
                  </a:lnTo>
                  <a:lnTo>
                    <a:pt x="0" y="2"/>
                  </a:lnTo>
                  <a:lnTo>
                    <a:pt x="0" y="43"/>
                  </a:lnTo>
                  <a:lnTo>
                    <a:pt x="16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19560" y="3067200"/>
              <a:ext cx="12852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94200" y="3067200"/>
              <a:ext cx="12852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68480" y="3067200"/>
              <a:ext cx="12888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43120" y="3067200"/>
              <a:ext cx="128520" cy="3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4600" y="3040200"/>
              <a:ext cx="90360" cy="88920"/>
            </a:xfrm>
            <a:custGeom>
              <a:avLst/>
              <a:gdLst/>
              <a:ahLst/>
              <a:rect l="l" t="t" r="r" b="b"/>
              <a:pathLst>
                <a:path w="115" h="114">
                  <a:moveTo>
                    <a:pt x="115" y="0"/>
                  </a:moveTo>
                  <a:lnTo>
                    <a:pt x="0" y="58"/>
                  </a:lnTo>
                  <a:lnTo>
                    <a:pt x="115" y="11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777400" y="3164400"/>
            <a:ext cx="1022400" cy="919080"/>
            <a:chOff x="2777400" y="3164400"/>
            <a:chExt cx="1022400" cy="919080"/>
          </a:xfrm>
        </p:grpSpPr>
        <p:sp>
          <p:nvSpPr>
            <p:cNvPr id="360" name=""/>
            <p:cNvSpPr/>
            <p:nvPr/>
          </p:nvSpPr>
          <p:spPr>
            <a:xfrm rot="14474400">
              <a:off x="2996280" y="3200760"/>
              <a:ext cx="583920" cy="846000"/>
            </a:xfrm>
            <a:custGeom>
              <a:avLst/>
              <a:gdLst/>
              <a:ahLst/>
              <a:rect l="l" t="t" r="r" b="b"/>
              <a:pathLst>
                <a:path w="737" h="1067">
                  <a:moveTo>
                    <a:pt x="289" y="1067"/>
                  </a:moveTo>
                  <a:lnTo>
                    <a:pt x="347" y="1045"/>
                  </a:lnTo>
                  <a:lnTo>
                    <a:pt x="399" y="1020"/>
                  </a:lnTo>
                  <a:lnTo>
                    <a:pt x="450" y="993"/>
                  </a:lnTo>
                  <a:lnTo>
                    <a:pt x="497" y="963"/>
                  </a:lnTo>
                  <a:lnTo>
                    <a:pt x="541" y="929"/>
                  </a:lnTo>
                  <a:lnTo>
                    <a:pt x="582" y="895"/>
                  </a:lnTo>
                  <a:lnTo>
                    <a:pt x="617" y="859"/>
                  </a:lnTo>
                  <a:lnTo>
                    <a:pt x="650" y="822"/>
                  </a:lnTo>
                  <a:lnTo>
                    <a:pt x="677" y="783"/>
                  </a:lnTo>
                  <a:lnTo>
                    <a:pt x="699" y="744"/>
                  </a:lnTo>
                  <a:lnTo>
                    <a:pt x="715" y="705"/>
                  </a:lnTo>
                  <a:lnTo>
                    <a:pt x="729" y="667"/>
                  </a:lnTo>
                  <a:lnTo>
                    <a:pt x="736" y="626"/>
                  </a:lnTo>
                  <a:lnTo>
                    <a:pt x="737" y="587"/>
                  </a:lnTo>
                  <a:lnTo>
                    <a:pt x="734" y="548"/>
                  </a:lnTo>
                  <a:lnTo>
                    <a:pt x="724" y="511"/>
                  </a:lnTo>
                  <a:lnTo>
                    <a:pt x="651" y="306"/>
                  </a:lnTo>
                  <a:lnTo>
                    <a:pt x="639" y="279"/>
                  </a:lnTo>
                  <a:lnTo>
                    <a:pt x="624" y="254"/>
                  </a:lnTo>
                  <a:lnTo>
                    <a:pt x="606" y="229"/>
                  </a:lnTo>
                  <a:lnTo>
                    <a:pt x="585" y="207"/>
                  </a:lnTo>
                  <a:lnTo>
                    <a:pt x="562" y="186"/>
                  </a:lnTo>
                  <a:lnTo>
                    <a:pt x="535" y="168"/>
                  </a:lnTo>
                  <a:lnTo>
                    <a:pt x="506" y="151"/>
                  </a:lnTo>
                  <a:lnTo>
                    <a:pt x="475" y="137"/>
                  </a:lnTo>
                  <a:lnTo>
                    <a:pt x="441" y="125"/>
                  </a:lnTo>
                  <a:lnTo>
                    <a:pt x="406" y="115"/>
                  </a:lnTo>
                  <a:lnTo>
                    <a:pt x="369" y="107"/>
                  </a:lnTo>
                  <a:lnTo>
                    <a:pt x="328" y="102"/>
                  </a:lnTo>
                  <a:lnTo>
                    <a:pt x="288" y="98"/>
                  </a:lnTo>
                  <a:lnTo>
                    <a:pt x="245" y="97"/>
                  </a:lnTo>
                  <a:lnTo>
                    <a:pt x="203" y="98"/>
                  </a:lnTo>
                  <a:lnTo>
                    <a:pt x="157" y="103"/>
                  </a:lnTo>
                  <a:lnTo>
                    <a:pt x="122" y="0"/>
                  </a:lnTo>
                  <a:lnTo>
                    <a:pt x="0" y="250"/>
                  </a:lnTo>
                  <a:lnTo>
                    <a:pt x="267" y="409"/>
                  </a:lnTo>
                  <a:lnTo>
                    <a:pt x="230" y="306"/>
                  </a:lnTo>
                  <a:lnTo>
                    <a:pt x="298" y="301"/>
                  </a:lnTo>
                  <a:lnTo>
                    <a:pt x="362" y="301"/>
                  </a:lnTo>
                  <a:lnTo>
                    <a:pt x="425" y="308"/>
                  </a:lnTo>
                  <a:lnTo>
                    <a:pt x="482" y="320"/>
                  </a:lnTo>
                  <a:lnTo>
                    <a:pt x="535" y="337"/>
                  </a:lnTo>
                  <a:lnTo>
                    <a:pt x="584" y="359"/>
                  </a:lnTo>
                  <a:lnTo>
                    <a:pt x="628" y="386"/>
                  </a:lnTo>
                  <a:lnTo>
                    <a:pt x="665" y="418"/>
                  </a:lnTo>
                  <a:lnTo>
                    <a:pt x="665" y="418"/>
                  </a:lnTo>
                  <a:lnTo>
                    <a:pt x="660" y="452"/>
                  </a:lnTo>
                  <a:lnTo>
                    <a:pt x="651" y="484"/>
                  </a:lnTo>
                  <a:lnTo>
                    <a:pt x="638" y="518"/>
                  </a:lnTo>
                  <a:lnTo>
                    <a:pt x="622" y="550"/>
                  </a:lnTo>
                  <a:lnTo>
                    <a:pt x="604" y="582"/>
                  </a:lnTo>
                  <a:lnTo>
                    <a:pt x="582" y="614"/>
                  </a:lnTo>
                  <a:lnTo>
                    <a:pt x="556" y="645"/>
                  </a:lnTo>
                  <a:lnTo>
                    <a:pt x="528" y="675"/>
                  </a:lnTo>
                  <a:lnTo>
                    <a:pt x="497" y="704"/>
                  </a:lnTo>
                  <a:lnTo>
                    <a:pt x="463" y="731"/>
                  </a:lnTo>
                  <a:lnTo>
                    <a:pt x="428" y="758"/>
                  </a:lnTo>
                  <a:lnTo>
                    <a:pt x="389" y="782"/>
                  </a:lnTo>
                  <a:lnTo>
                    <a:pt x="348" y="805"/>
                  </a:lnTo>
                  <a:lnTo>
                    <a:pt x="306" y="827"/>
                  </a:lnTo>
                  <a:lnTo>
                    <a:pt x="262" y="848"/>
                  </a:lnTo>
                  <a:lnTo>
                    <a:pt x="217" y="864"/>
                  </a:lnTo>
                  <a:lnTo>
                    <a:pt x="289" y="106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4474400">
              <a:off x="3147480" y="3188880"/>
              <a:ext cx="412560" cy="603000"/>
            </a:xfrm>
            <a:custGeom>
              <a:avLst/>
              <a:gdLst/>
              <a:ahLst/>
              <a:rect l="l" t="t" r="r" b="b"/>
              <a:pathLst>
                <a:path w="520" h="761">
                  <a:moveTo>
                    <a:pt x="72" y="761"/>
                  </a:moveTo>
                  <a:lnTo>
                    <a:pt x="130" y="739"/>
                  </a:lnTo>
                  <a:lnTo>
                    <a:pt x="182" y="714"/>
                  </a:lnTo>
                  <a:lnTo>
                    <a:pt x="233" y="687"/>
                  </a:lnTo>
                  <a:lnTo>
                    <a:pt x="280" y="657"/>
                  </a:lnTo>
                  <a:lnTo>
                    <a:pt x="324" y="623"/>
                  </a:lnTo>
                  <a:lnTo>
                    <a:pt x="365" y="589"/>
                  </a:lnTo>
                  <a:lnTo>
                    <a:pt x="400" y="553"/>
                  </a:lnTo>
                  <a:lnTo>
                    <a:pt x="433" y="516"/>
                  </a:lnTo>
                  <a:lnTo>
                    <a:pt x="460" y="477"/>
                  </a:lnTo>
                  <a:lnTo>
                    <a:pt x="482" y="438"/>
                  </a:lnTo>
                  <a:lnTo>
                    <a:pt x="498" y="399"/>
                  </a:lnTo>
                  <a:lnTo>
                    <a:pt x="512" y="361"/>
                  </a:lnTo>
                  <a:lnTo>
                    <a:pt x="519" y="320"/>
                  </a:lnTo>
                  <a:lnTo>
                    <a:pt x="520" y="281"/>
                  </a:lnTo>
                  <a:lnTo>
                    <a:pt x="517" y="242"/>
                  </a:lnTo>
                  <a:lnTo>
                    <a:pt x="507" y="205"/>
                  </a:lnTo>
                  <a:lnTo>
                    <a:pt x="434" y="0"/>
                  </a:lnTo>
                  <a:lnTo>
                    <a:pt x="444" y="38"/>
                  </a:lnTo>
                  <a:lnTo>
                    <a:pt x="449" y="76"/>
                  </a:lnTo>
                  <a:lnTo>
                    <a:pt x="448" y="115"/>
                  </a:lnTo>
                  <a:lnTo>
                    <a:pt x="439" y="156"/>
                  </a:lnTo>
                  <a:lnTo>
                    <a:pt x="427" y="195"/>
                  </a:lnTo>
                  <a:lnTo>
                    <a:pt x="411" y="235"/>
                  </a:lnTo>
                  <a:lnTo>
                    <a:pt x="387" y="274"/>
                  </a:lnTo>
                  <a:lnTo>
                    <a:pt x="360" y="313"/>
                  </a:lnTo>
                  <a:lnTo>
                    <a:pt x="329" y="350"/>
                  </a:lnTo>
                  <a:lnTo>
                    <a:pt x="292" y="386"/>
                  </a:lnTo>
                  <a:lnTo>
                    <a:pt x="253" y="420"/>
                  </a:lnTo>
                  <a:lnTo>
                    <a:pt x="209" y="454"/>
                  </a:lnTo>
                  <a:lnTo>
                    <a:pt x="162" y="482"/>
                  </a:lnTo>
                  <a:lnTo>
                    <a:pt x="111" y="511"/>
                  </a:lnTo>
                  <a:lnTo>
                    <a:pt x="57" y="536"/>
                  </a:lnTo>
                  <a:lnTo>
                    <a:pt x="0" y="558"/>
                  </a:lnTo>
                  <a:lnTo>
                    <a:pt x="72" y="7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4474400">
              <a:off x="2996280" y="3200760"/>
              <a:ext cx="583920" cy="846000"/>
            </a:xfrm>
            <a:custGeom>
              <a:avLst/>
              <a:gdLst/>
              <a:ahLst/>
              <a:rect l="l" t="t" r="r" b="b"/>
              <a:pathLst>
                <a:path w="737" h="1067">
                  <a:moveTo>
                    <a:pt x="289" y="1067"/>
                  </a:moveTo>
                  <a:lnTo>
                    <a:pt x="347" y="1045"/>
                  </a:lnTo>
                  <a:lnTo>
                    <a:pt x="399" y="1020"/>
                  </a:lnTo>
                  <a:lnTo>
                    <a:pt x="450" y="993"/>
                  </a:lnTo>
                  <a:lnTo>
                    <a:pt x="497" y="963"/>
                  </a:lnTo>
                  <a:lnTo>
                    <a:pt x="541" y="929"/>
                  </a:lnTo>
                  <a:lnTo>
                    <a:pt x="582" y="895"/>
                  </a:lnTo>
                  <a:lnTo>
                    <a:pt x="617" y="859"/>
                  </a:lnTo>
                  <a:lnTo>
                    <a:pt x="650" y="822"/>
                  </a:lnTo>
                  <a:lnTo>
                    <a:pt x="677" y="783"/>
                  </a:lnTo>
                  <a:lnTo>
                    <a:pt x="699" y="744"/>
                  </a:lnTo>
                  <a:lnTo>
                    <a:pt x="715" y="705"/>
                  </a:lnTo>
                  <a:lnTo>
                    <a:pt x="729" y="667"/>
                  </a:lnTo>
                  <a:lnTo>
                    <a:pt x="736" y="626"/>
                  </a:lnTo>
                  <a:lnTo>
                    <a:pt x="737" y="587"/>
                  </a:lnTo>
                  <a:lnTo>
                    <a:pt x="734" y="548"/>
                  </a:lnTo>
                  <a:lnTo>
                    <a:pt x="724" y="511"/>
                  </a:lnTo>
                  <a:lnTo>
                    <a:pt x="651" y="306"/>
                  </a:lnTo>
                  <a:lnTo>
                    <a:pt x="639" y="279"/>
                  </a:lnTo>
                  <a:lnTo>
                    <a:pt x="624" y="254"/>
                  </a:lnTo>
                  <a:lnTo>
                    <a:pt x="606" y="229"/>
                  </a:lnTo>
                  <a:lnTo>
                    <a:pt x="585" y="207"/>
                  </a:lnTo>
                  <a:lnTo>
                    <a:pt x="562" y="186"/>
                  </a:lnTo>
                  <a:lnTo>
                    <a:pt x="535" y="168"/>
                  </a:lnTo>
                  <a:lnTo>
                    <a:pt x="506" y="151"/>
                  </a:lnTo>
                  <a:lnTo>
                    <a:pt x="475" y="137"/>
                  </a:lnTo>
                  <a:lnTo>
                    <a:pt x="441" y="125"/>
                  </a:lnTo>
                  <a:lnTo>
                    <a:pt x="406" y="115"/>
                  </a:lnTo>
                  <a:lnTo>
                    <a:pt x="369" y="107"/>
                  </a:lnTo>
                  <a:lnTo>
                    <a:pt x="328" y="102"/>
                  </a:lnTo>
                  <a:lnTo>
                    <a:pt x="288" y="98"/>
                  </a:lnTo>
                  <a:lnTo>
                    <a:pt x="245" y="97"/>
                  </a:lnTo>
                  <a:lnTo>
                    <a:pt x="203" y="98"/>
                  </a:lnTo>
                  <a:lnTo>
                    <a:pt x="157" y="103"/>
                  </a:lnTo>
                  <a:lnTo>
                    <a:pt x="122" y="0"/>
                  </a:lnTo>
                  <a:lnTo>
                    <a:pt x="0" y="250"/>
                  </a:lnTo>
                  <a:lnTo>
                    <a:pt x="267" y="409"/>
                  </a:lnTo>
                  <a:lnTo>
                    <a:pt x="230" y="306"/>
                  </a:lnTo>
                  <a:lnTo>
                    <a:pt x="298" y="301"/>
                  </a:lnTo>
                  <a:lnTo>
                    <a:pt x="362" y="301"/>
                  </a:lnTo>
                  <a:lnTo>
                    <a:pt x="425" y="308"/>
                  </a:lnTo>
                  <a:lnTo>
                    <a:pt x="482" y="320"/>
                  </a:lnTo>
                  <a:lnTo>
                    <a:pt x="535" y="337"/>
                  </a:lnTo>
                  <a:lnTo>
                    <a:pt x="584" y="359"/>
                  </a:lnTo>
                  <a:lnTo>
                    <a:pt x="628" y="386"/>
                  </a:lnTo>
                  <a:lnTo>
                    <a:pt x="665" y="418"/>
                  </a:lnTo>
                  <a:lnTo>
                    <a:pt x="665" y="418"/>
                  </a:lnTo>
                  <a:lnTo>
                    <a:pt x="660" y="452"/>
                  </a:lnTo>
                  <a:lnTo>
                    <a:pt x="651" y="484"/>
                  </a:lnTo>
                  <a:lnTo>
                    <a:pt x="638" y="518"/>
                  </a:lnTo>
                  <a:lnTo>
                    <a:pt x="622" y="550"/>
                  </a:lnTo>
                  <a:lnTo>
                    <a:pt x="604" y="582"/>
                  </a:lnTo>
                  <a:lnTo>
                    <a:pt x="582" y="614"/>
                  </a:lnTo>
                  <a:lnTo>
                    <a:pt x="556" y="645"/>
                  </a:lnTo>
                  <a:lnTo>
                    <a:pt x="528" y="675"/>
                  </a:lnTo>
                  <a:lnTo>
                    <a:pt x="497" y="704"/>
                  </a:lnTo>
                  <a:lnTo>
                    <a:pt x="463" y="731"/>
                  </a:lnTo>
                  <a:lnTo>
                    <a:pt x="428" y="758"/>
                  </a:lnTo>
                  <a:lnTo>
                    <a:pt x="389" y="782"/>
                  </a:lnTo>
                  <a:lnTo>
                    <a:pt x="348" y="805"/>
                  </a:lnTo>
                  <a:lnTo>
                    <a:pt x="306" y="827"/>
                  </a:lnTo>
                  <a:lnTo>
                    <a:pt x="262" y="848"/>
                  </a:lnTo>
                  <a:lnTo>
                    <a:pt x="217" y="864"/>
                  </a:lnTo>
                  <a:lnTo>
                    <a:pt x="289" y="1067"/>
                  </a:lnTo>
                  <a:close/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4474400">
              <a:off x="3051720" y="3444120"/>
              <a:ext cx="12600" cy="87120"/>
            </a:xfrm>
            <a:custGeom>
              <a:avLst/>
              <a:gdLst/>
              <a:ahLst/>
              <a:rect l="l" t="t" r="r" b="b"/>
              <a:pathLst>
                <a:path w="15" h="112">
                  <a:moveTo>
                    <a:pt x="0" y="0"/>
                  </a:moveTo>
                  <a:lnTo>
                    <a:pt x="9" y="27"/>
                  </a:lnTo>
                  <a:lnTo>
                    <a:pt x="12" y="54"/>
                  </a:lnTo>
                  <a:lnTo>
                    <a:pt x="15" y="83"/>
                  </a:lnTo>
                  <a:lnTo>
                    <a:pt x="14" y="112"/>
                  </a:lnTo>
                </a:path>
              </a:pathLst>
            </a:custGeom>
            <a:solidFill>
              <a:srgbClr val="00ffff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026120" y="4363920"/>
            <a:ext cx="515880" cy="144360"/>
            <a:chOff x="7026120" y="4363920"/>
            <a:chExt cx="515880" cy="144360"/>
          </a:xfrm>
        </p:grpSpPr>
        <p:sp>
          <p:nvSpPr>
            <p:cNvPr id="365" name=""/>
            <p:cNvSpPr/>
            <p:nvPr/>
          </p:nvSpPr>
          <p:spPr>
            <a:xfrm>
              <a:off x="7413480" y="441936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88120" y="4419360"/>
              <a:ext cx="1285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26120" y="4363920"/>
              <a:ext cx="145800" cy="14436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82" y="0"/>
                  </a:moveTo>
                  <a:lnTo>
                    <a:pt x="0" y="89"/>
                  </a:lnTo>
                  <a:lnTo>
                    <a:pt x="182" y="1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62120" y="4724280"/>
            <a:ext cx="685800" cy="1324080"/>
            <a:chOff x="762120" y="4724280"/>
            <a:chExt cx="685800" cy="1324080"/>
          </a:xfrm>
        </p:grpSpPr>
        <p:sp>
          <p:nvSpPr>
            <p:cNvPr id="369" name=""/>
            <p:cNvSpPr/>
            <p:nvPr/>
          </p:nvSpPr>
          <p:spPr>
            <a:xfrm>
              <a:off x="762120" y="4724280"/>
              <a:ext cx="685800" cy="1324080"/>
            </a:xfrm>
            <a:custGeom>
              <a:avLst/>
              <a:gdLst/>
              <a:ahLst/>
              <a:rect l="l" t="t" r="r" b="b"/>
              <a:pathLst>
                <a:path w="2480" h="3396">
                  <a:moveTo>
                    <a:pt x="2480" y="3396"/>
                  </a:moveTo>
                  <a:lnTo>
                    <a:pt x="2324" y="3396"/>
                  </a:lnTo>
                  <a:lnTo>
                    <a:pt x="2170" y="3396"/>
                  </a:lnTo>
                  <a:lnTo>
                    <a:pt x="2009" y="3396"/>
                  </a:lnTo>
                  <a:lnTo>
                    <a:pt x="1849" y="3396"/>
                  </a:lnTo>
                  <a:lnTo>
                    <a:pt x="1686" y="3396"/>
                  </a:lnTo>
                  <a:lnTo>
                    <a:pt x="1522" y="3396"/>
                  </a:lnTo>
                  <a:lnTo>
                    <a:pt x="1361" y="3396"/>
                  </a:lnTo>
                  <a:lnTo>
                    <a:pt x="1199" y="3396"/>
                  </a:lnTo>
                  <a:lnTo>
                    <a:pt x="1036" y="3396"/>
                  </a:lnTo>
                  <a:lnTo>
                    <a:pt x="876" y="3396"/>
                  </a:lnTo>
                  <a:lnTo>
                    <a:pt x="718" y="3396"/>
                  </a:lnTo>
                  <a:lnTo>
                    <a:pt x="566" y="3396"/>
                  </a:lnTo>
                  <a:lnTo>
                    <a:pt x="416" y="3396"/>
                  </a:lnTo>
                  <a:lnTo>
                    <a:pt x="271" y="3396"/>
                  </a:lnTo>
                  <a:lnTo>
                    <a:pt x="129" y="3396"/>
                  </a:lnTo>
                  <a:lnTo>
                    <a:pt x="0" y="3396"/>
                  </a:lnTo>
                  <a:lnTo>
                    <a:pt x="26" y="3375"/>
                  </a:lnTo>
                  <a:lnTo>
                    <a:pt x="66" y="3301"/>
                  </a:lnTo>
                  <a:lnTo>
                    <a:pt x="108" y="3215"/>
                  </a:lnTo>
                  <a:lnTo>
                    <a:pt x="159" y="3122"/>
                  </a:lnTo>
                  <a:lnTo>
                    <a:pt x="212" y="3016"/>
                  </a:lnTo>
                  <a:lnTo>
                    <a:pt x="271" y="2909"/>
                  </a:lnTo>
                  <a:lnTo>
                    <a:pt x="328" y="2797"/>
                  </a:lnTo>
                  <a:lnTo>
                    <a:pt x="387" y="2687"/>
                  </a:lnTo>
                  <a:lnTo>
                    <a:pt x="442" y="2579"/>
                  </a:lnTo>
                  <a:lnTo>
                    <a:pt x="496" y="2476"/>
                  </a:lnTo>
                  <a:lnTo>
                    <a:pt x="545" y="2381"/>
                  </a:lnTo>
                  <a:lnTo>
                    <a:pt x="591" y="2299"/>
                  </a:lnTo>
                  <a:lnTo>
                    <a:pt x="625" y="2229"/>
                  </a:lnTo>
                  <a:lnTo>
                    <a:pt x="655" y="2178"/>
                  </a:lnTo>
                  <a:lnTo>
                    <a:pt x="672" y="2144"/>
                  </a:lnTo>
                  <a:lnTo>
                    <a:pt x="678" y="2134"/>
                  </a:lnTo>
                  <a:lnTo>
                    <a:pt x="298" y="1868"/>
                  </a:lnTo>
                  <a:lnTo>
                    <a:pt x="397" y="699"/>
                  </a:lnTo>
                  <a:lnTo>
                    <a:pt x="998" y="338"/>
                  </a:lnTo>
                  <a:lnTo>
                    <a:pt x="1226" y="0"/>
                  </a:lnTo>
                  <a:lnTo>
                    <a:pt x="1980" y="482"/>
                  </a:lnTo>
                  <a:lnTo>
                    <a:pt x="2461" y="1060"/>
                  </a:lnTo>
                  <a:lnTo>
                    <a:pt x="2275" y="2153"/>
                  </a:lnTo>
                  <a:lnTo>
                    <a:pt x="2448" y="2358"/>
                  </a:lnTo>
                  <a:lnTo>
                    <a:pt x="2448" y="2368"/>
                  </a:lnTo>
                  <a:lnTo>
                    <a:pt x="2448" y="2398"/>
                  </a:lnTo>
                  <a:lnTo>
                    <a:pt x="2450" y="2442"/>
                  </a:lnTo>
                  <a:lnTo>
                    <a:pt x="2452" y="2505"/>
                  </a:lnTo>
                  <a:lnTo>
                    <a:pt x="2454" y="2575"/>
                  </a:lnTo>
                  <a:lnTo>
                    <a:pt x="2457" y="2657"/>
                  </a:lnTo>
                  <a:lnTo>
                    <a:pt x="2459" y="2744"/>
                  </a:lnTo>
                  <a:lnTo>
                    <a:pt x="2463" y="2837"/>
                  </a:lnTo>
                  <a:lnTo>
                    <a:pt x="2465" y="2930"/>
                  </a:lnTo>
                  <a:lnTo>
                    <a:pt x="2467" y="3022"/>
                  </a:lnTo>
                  <a:lnTo>
                    <a:pt x="2469" y="3113"/>
                  </a:lnTo>
                  <a:lnTo>
                    <a:pt x="2473" y="3198"/>
                  </a:lnTo>
                  <a:lnTo>
                    <a:pt x="2474" y="3274"/>
                  </a:lnTo>
                  <a:lnTo>
                    <a:pt x="2476" y="3341"/>
                  </a:lnTo>
                  <a:lnTo>
                    <a:pt x="2478" y="3394"/>
                  </a:lnTo>
                  <a:lnTo>
                    <a:pt x="2480" y="3396"/>
                  </a:lnTo>
                  <a:lnTo>
                    <a:pt x="2480" y="33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8560" y="4801320"/>
              <a:ext cx="606240" cy="1246680"/>
            </a:xfrm>
            <a:custGeom>
              <a:avLst/>
              <a:gdLst/>
              <a:ahLst/>
              <a:rect l="l" t="t" r="r" b="b"/>
              <a:pathLst>
                <a:path w="2193" h="3199">
                  <a:moveTo>
                    <a:pt x="0" y="3199"/>
                  </a:moveTo>
                  <a:lnTo>
                    <a:pt x="2053" y="3199"/>
                  </a:lnTo>
                  <a:lnTo>
                    <a:pt x="2193" y="2522"/>
                  </a:lnTo>
                  <a:lnTo>
                    <a:pt x="1952" y="1718"/>
                  </a:lnTo>
                  <a:lnTo>
                    <a:pt x="2108" y="1696"/>
                  </a:lnTo>
                  <a:lnTo>
                    <a:pt x="2161" y="768"/>
                  </a:lnTo>
                  <a:lnTo>
                    <a:pt x="1452" y="255"/>
                  </a:lnTo>
                  <a:lnTo>
                    <a:pt x="1494" y="152"/>
                  </a:lnTo>
                  <a:lnTo>
                    <a:pt x="992" y="0"/>
                  </a:lnTo>
                  <a:lnTo>
                    <a:pt x="863" y="350"/>
                  </a:lnTo>
                  <a:lnTo>
                    <a:pt x="283" y="702"/>
                  </a:lnTo>
                  <a:lnTo>
                    <a:pt x="217" y="1346"/>
                  </a:lnTo>
                  <a:lnTo>
                    <a:pt x="329" y="1751"/>
                  </a:lnTo>
                  <a:lnTo>
                    <a:pt x="699" y="1642"/>
                  </a:lnTo>
                  <a:lnTo>
                    <a:pt x="329" y="2625"/>
                  </a:lnTo>
                  <a:lnTo>
                    <a:pt x="131" y="2756"/>
                  </a:lnTo>
                  <a:lnTo>
                    <a:pt x="0" y="3199"/>
                  </a:lnTo>
                  <a:lnTo>
                    <a:pt x="0" y="319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39040" y="5280120"/>
              <a:ext cx="180000" cy="768240"/>
            </a:xfrm>
            <a:custGeom>
              <a:avLst/>
              <a:gdLst/>
              <a:ahLst/>
              <a:rect l="l" t="t" r="r" b="b"/>
              <a:pathLst>
                <a:path w="652" h="1969">
                  <a:moveTo>
                    <a:pt x="105" y="544"/>
                  </a:moveTo>
                  <a:lnTo>
                    <a:pt x="97" y="0"/>
                  </a:lnTo>
                  <a:lnTo>
                    <a:pt x="652" y="1099"/>
                  </a:lnTo>
                  <a:lnTo>
                    <a:pt x="647" y="1106"/>
                  </a:lnTo>
                  <a:lnTo>
                    <a:pt x="633" y="1131"/>
                  </a:lnTo>
                  <a:lnTo>
                    <a:pt x="613" y="1169"/>
                  </a:lnTo>
                  <a:lnTo>
                    <a:pt x="588" y="1222"/>
                  </a:lnTo>
                  <a:lnTo>
                    <a:pt x="556" y="1281"/>
                  </a:lnTo>
                  <a:lnTo>
                    <a:pt x="519" y="1349"/>
                  </a:lnTo>
                  <a:lnTo>
                    <a:pt x="479" y="1422"/>
                  </a:lnTo>
                  <a:lnTo>
                    <a:pt x="441" y="1501"/>
                  </a:lnTo>
                  <a:lnTo>
                    <a:pt x="398" y="1579"/>
                  </a:lnTo>
                  <a:lnTo>
                    <a:pt x="358" y="1657"/>
                  </a:lnTo>
                  <a:lnTo>
                    <a:pt x="316" y="1733"/>
                  </a:lnTo>
                  <a:lnTo>
                    <a:pt x="282" y="1804"/>
                  </a:lnTo>
                  <a:lnTo>
                    <a:pt x="246" y="1868"/>
                  </a:lnTo>
                  <a:lnTo>
                    <a:pt x="219" y="1923"/>
                  </a:lnTo>
                  <a:lnTo>
                    <a:pt x="194" y="1967"/>
                  </a:lnTo>
                  <a:lnTo>
                    <a:pt x="177" y="1969"/>
                  </a:lnTo>
                  <a:lnTo>
                    <a:pt x="166" y="1969"/>
                  </a:lnTo>
                  <a:lnTo>
                    <a:pt x="156" y="1969"/>
                  </a:lnTo>
                  <a:lnTo>
                    <a:pt x="143" y="1969"/>
                  </a:lnTo>
                  <a:lnTo>
                    <a:pt x="134" y="1969"/>
                  </a:lnTo>
                  <a:lnTo>
                    <a:pt x="120" y="1969"/>
                  </a:lnTo>
                  <a:lnTo>
                    <a:pt x="111" y="1969"/>
                  </a:lnTo>
                  <a:lnTo>
                    <a:pt x="99" y="1969"/>
                  </a:lnTo>
                  <a:lnTo>
                    <a:pt x="90" y="1969"/>
                  </a:lnTo>
                  <a:lnTo>
                    <a:pt x="77" y="1969"/>
                  </a:lnTo>
                  <a:lnTo>
                    <a:pt x="65" y="1969"/>
                  </a:lnTo>
                  <a:lnTo>
                    <a:pt x="52" y="1969"/>
                  </a:lnTo>
                  <a:lnTo>
                    <a:pt x="42" y="1969"/>
                  </a:lnTo>
                  <a:lnTo>
                    <a:pt x="31" y="1969"/>
                  </a:lnTo>
                  <a:lnTo>
                    <a:pt x="21" y="1969"/>
                  </a:lnTo>
                  <a:lnTo>
                    <a:pt x="10" y="1969"/>
                  </a:lnTo>
                  <a:lnTo>
                    <a:pt x="0" y="1969"/>
                  </a:lnTo>
                  <a:lnTo>
                    <a:pt x="6" y="1969"/>
                  </a:lnTo>
                  <a:lnTo>
                    <a:pt x="16" y="1939"/>
                  </a:lnTo>
                  <a:lnTo>
                    <a:pt x="29" y="1889"/>
                  </a:lnTo>
                  <a:lnTo>
                    <a:pt x="50" y="1830"/>
                  </a:lnTo>
                  <a:lnTo>
                    <a:pt x="69" y="1762"/>
                  </a:lnTo>
                  <a:lnTo>
                    <a:pt x="92" y="1692"/>
                  </a:lnTo>
                  <a:lnTo>
                    <a:pt x="115" y="1615"/>
                  </a:lnTo>
                  <a:lnTo>
                    <a:pt x="137" y="1541"/>
                  </a:lnTo>
                  <a:lnTo>
                    <a:pt x="158" y="1463"/>
                  </a:lnTo>
                  <a:lnTo>
                    <a:pt x="181" y="1393"/>
                  </a:lnTo>
                  <a:lnTo>
                    <a:pt x="202" y="1325"/>
                  </a:lnTo>
                  <a:lnTo>
                    <a:pt x="221" y="1268"/>
                  </a:lnTo>
                  <a:lnTo>
                    <a:pt x="236" y="1214"/>
                  </a:lnTo>
                  <a:lnTo>
                    <a:pt x="248" y="1176"/>
                  </a:lnTo>
                  <a:lnTo>
                    <a:pt x="257" y="1152"/>
                  </a:lnTo>
                  <a:lnTo>
                    <a:pt x="261" y="1144"/>
                  </a:lnTo>
                  <a:lnTo>
                    <a:pt x="105" y="544"/>
                  </a:lnTo>
                  <a:lnTo>
                    <a:pt x="105" y="54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58120" y="5150520"/>
              <a:ext cx="165600" cy="897480"/>
            </a:xfrm>
            <a:custGeom>
              <a:avLst/>
              <a:gdLst/>
              <a:ahLst/>
              <a:rect l="l" t="t" r="r" b="b"/>
              <a:pathLst>
                <a:path w="600" h="2302">
                  <a:moveTo>
                    <a:pt x="57" y="561"/>
                  </a:moveTo>
                  <a:lnTo>
                    <a:pt x="57" y="0"/>
                  </a:lnTo>
                  <a:lnTo>
                    <a:pt x="568" y="1249"/>
                  </a:lnTo>
                  <a:lnTo>
                    <a:pt x="600" y="1914"/>
                  </a:lnTo>
                  <a:lnTo>
                    <a:pt x="597" y="1918"/>
                  </a:lnTo>
                  <a:lnTo>
                    <a:pt x="589" y="1929"/>
                  </a:lnTo>
                  <a:lnTo>
                    <a:pt x="572" y="1947"/>
                  </a:lnTo>
                  <a:lnTo>
                    <a:pt x="557" y="1971"/>
                  </a:lnTo>
                  <a:lnTo>
                    <a:pt x="534" y="1998"/>
                  </a:lnTo>
                  <a:lnTo>
                    <a:pt x="511" y="2030"/>
                  </a:lnTo>
                  <a:lnTo>
                    <a:pt x="485" y="2066"/>
                  </a:lnTo>
                  <a:lnTo>
                    <a:pt x="462" y="2102"/>
                  </a:lnTo>
                  <a:lnTo>
                    <a:pt x="433" y="2139"/>
                  </a:lnTo>
                  <a:lnTo>
                    <a:pt x="405" y="2177"/>
                  </a:lnTo>
                  <a:lnTo>
                    <a:pt x="380" y="2209"/>
                  </a:lnTo>
                  <a:lnTo>
                    <a:pt x="357" y="2243"/>
                  </a:lnTo>
                  <a:lnTo>
                    <a:pt x="334" y="2272"/>
                  </a:lnTo>
                  <a:lnTo>
                    <a:pt x="315" y="2298"/>
                  </a:lnTo>
                  <a:lnTo>
                    <a:pt x="298" y="2302"/>
                  </a:lnTo>
                  <a:lnTo>
                    <a:pt x="291" y="2302"/>
                  </a:lnTo>
                  <a:lnTo>
                    <a:pt x="272" y="2302"/>
                  </a:lnTo>
                  <a:lnTo>
                    <a:pt x="255" y="2302"/>
                  </a:lnTo>
                  <a:lnTo>
                    <a:pt x="236" y="2302"/>
                  </a:lnTo>
                  <a:lnTo>
                    <a:pt x="220" y="2302"/>
                  </a:lnTo>
                  <a:lnTo>
                    <a:pt x="201" y="2302"/>
                  </a:lnTo>
                  <a:lnTo>
                    <a:pt x="184" y="2302"/>
                  </a:lnTo>
                  <a:lnTo>
                    <a:pt x="167" y="2302"/>
                  </a:lnTo>
                  <a:lnTo>
                    <a:pt x="148" y="2302"/>
                  </a:lnTo>
                  <a:lnTo>
                    <a:pt x="129" y="2302"/>
                  </a:lnTo>
                  <a:lnTo>
                    <a:pt x="110" y="2302"/>
                  </a:lnTo>
                  <a:lnTo>
                    <a:pt x="91" y="2302"/>
                  </a:lnTo>
                  <a:lnTo>
                    <a:pt x="74" y="2302"/>
                  </a:lnTo>
                  <a:lnTo>
                    <a:pt x="55" y="2302"/>
                  </a:lnTo>
                  <a:lnTo>
                    <a:pt x="36" y="2302"/>
                  </a:lnTo>
                  <a:lnTo>
                    <a:pt x="17" y="2302"/>
                  </a:lnTo>
                  <a:lnTo>
                    <a:pt x="0" y="2302"/>
                  </a:lnTo>
                  <a:lnTo>
                    <a:pt x="9" y="2302"/>
                  </a:lnTo>
                  <a:lnTo>
                    <a:pt x="25" y="2272"/>
                  </a:lnTo>
                  <a:lnTo>
                    <a:pt x="44" y="2230"/>
                  </a:lnTo>
                  <a:lnTo>
                    <a:pt x="66" y="2182"/>
                  </a:lnTo>
                  <a:lnTo>
                    <a:pt x="89" y="2131"/>
                  </a:lnTo>
                  <a:lnTo>
                    <a:pt x="116" y="2074"/>
                  </a:lnTo>
                  <a:lnTo>
                    <a:pt x="142" y="2017"/>
                  </a:lnTo>
                  <a:lnTo>
                    <a:pt x="169" y="1962"/>
                  </a:lnTo>
                  <a:lnTo>
                    <a:pt x="194" y="1903"/>
                  </a:lnTo>
                  <a:lnTo>
                    <a:pt x="220" y="1852"/>
                  </a:lnTo>
                  <a:lnTo>
                    <a:pt x="243" y="1802"/>
                  </a:lnTo>
                  <a:lnTo>
                    <a:pt x="264" y="1760"/>
                  </a:lnTo>
                  <a:lnTo>
                    <a:pt x="279" y="1722"/>
                  </a:lnTo>
                  <a:lnTo>
                    <a:pt x="294" y="1696"/>
                  </a:lnTo>
                  <a:lnTo>
                    <a:pt x="302" y="1679"/>
                  </a:lnTo>
                  <a:lnTo>
                    <a:pt x="306" y="1673"/>
                  </a:lnTo>
                  <a:lnTo>
                    <a:pt x="306" y="1304"/>
                  </a:lnTo>
                  <a:lnTo>
                    <a:pt x="57" y="561"/>
                  </a:lnTo>
                  <a:lnTo>
                    <a:pt x="57" y="561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95200" y="5203080"/>
              <a:ext cx="150120" cy="845280"/>
            </a:xfrm>
            <a:custGeom>
              <a:avLst/>
              <a:gdLst/>
              <a:ahLst/>
              <a:rect l="l" t="t" r="r" b="b"/>
              <a:pathLst>
                <a:path w="543" h="2169">
                  <a:moveTo>
                    <a:pt x="0" y="80"/>
                  </a:moveTo>
                  <a:lnTo>
                    <a:pt x="97" y="0"/>
                  </a:lnTo>
                  <a:lnTo>
                    <a:pt x="338" y="502"/>
                  </a:lnTo>
                  <a:lnTo>
                    <a:pt x="543" y="1126"/>
                  </a:lnTo>
                  <a:lnTo>
                    <a:pt x="532" y="1563"/>
                  </a:lnTo>
                  <a:lnTo>
                    <a:pt x="528" y="1568"/>
                  </a:lnTo>
                  <a:lnTo>
                    <a:pt x="521" y="1586"/>
                  </a:lnTo>
                  <a:lnTo>
                    <a:pt x="511" y="1610"/>
                  </a:lnTo>
                  <a:lnTo>
                    <a:pt x="498" y="1646"/>
                  </a:lnTo>
                  <a:lnTo>
                    <a:pt x="481" y="1688"/>
                  </a:lnTo>
                  <a:lnTo>
                    <a:pt x="464" y="1736"/>
                  </a:lnTo>
                  <a:lnTo>
                    <a:pt x="445" y="1787"/>
                  </a:lnTo>
                  <a:lnTo>
                    <a:pt x="426" y="1842"/>
                  </a:lnTo>
                  <a:lnTo>
                    <a:pt x="403" y="1895"/>
                  </a:lnTo>
                  <a:lnTo>
                    <a:pt x="382" y="1950"/>
                  </a:lnTo>
                  <a:lnTo>
                    <a:pt x="361" y="2004"/>
                  </a:lnTo>
                  <a:lnTo>
                    <a:pt x="344" y="2055"/>
                  </a:lnTo>
                  <a:lnTo>
                    <a:pt x="325" y="2101"/>
                  </a:lnTo>
                  <a:lnTo>
                    <a:pt x="310" y="2140"/>
                  </a:lnTo>
                  <a:lnTo>
                    <a:pt x="298" y="2169"/>
                  </a:lnTo>
                  <a:lnTo>
                    <a:pt x="291" y="2169"/>
                  </a:lnTo>
                  <a:lnTo>
                    <a:pt x="277" y="2169"/>
                  </a:lnTo>
                  <a:lnTo>
                    <a:pt x="264" y="2169"/>
                  </a:lnTo>
                  <a:lnTo>
                    <a:pt x="249" y="2169"/>
                  </a:lnTo>
                  <a:lnTo>
                    <a:pt x="237" y="2169"/>
                  </a:lnTo>
                  <a:lnTo>
                    <a:pt x="224" y="2169"/>
                  </a:lnTo>
                  <a:lnTo>
                    <a:pt x="209" y="2169"/>
                  </a:lnTo>
                  <a:lnTo>
                    <a:pt x="196" y="2169"/>
                  </a:lnTo>
                  <a:lnTo>
                    <a:pt x="182" y="2169"/>
                  </a:lnTo>
                  <a:lnTo>
                    <a:pt x="167" y="2169"/>
                  </a:lnTo>
                  <a:lnTo>
                    <a:pt x="154" y="2169"/>
                  </a:lnTo>
                  <a:lnTo>
                    <a:pt x="139" y="2169"/>
                  </a:lnTo>
                  <a:lnTo>
                    <a:pt x="123" y="2169"/>
                  </a:lnTo>
                  <a:lnTo>
                    <a:pt x="108" y="2169"/>
                  </a:lnTo>
                  <a:lnTo>
                    <a:pt x="95" y="2169"/>
                  </a:lnTo>
                  <a:lnTo>
                    <a:pt x="80" y="2169"/>
                  </a:lnTo>
                  <a:lnTo>
                    <a:pt x="66" y="2169"/>
                  </a:lnTo>
                  <a:lnTo>
                    <a:pt x="68" y="2169"/>
                  </a:lnTo>
                  <a:lnTo>
                    <a:pt x="72" y="2163"/>
                  </a:lnTo>
                  <a:lnTo>
                    <a:pt x="76" y="2139"/>
                  </a:lnTo>
                  <a:lnTo>
                    <a:pt x="83" y="2114"/>
                  </a:lnTo>
                  <a:lnTo>
                    <a:pt x="89" y="2087"/>
                  </a:lnTo>
                  <a:lnTo>
                    <a:pt x="95" y="2059"/>
                  </a:lnTo>
                  <a:lnTo>
                    <a:pt x="101" y="2028"/>
                  </a:lnTo>
                  <a:lnTo>
                    <a:pt x="108" y="2002"/>
                  </a:lnTo>
                  <a:lnTo>
                    <a:pt x="114" y="1971"/>
                  </a:lnTo>
                  <a:lnTo>
                    <a:pt x="120" y="1945"/>
                  </a:lnTo>
                  <a:lnTo>
                    <a:pt x="123" y="1918"/>
                  </a:lnTo>
                  <a:lnTo>
                    <a:pt x="129" y="1899"/>
                  </a:lnTo>
                  <a:lnTo>
                    <a:pt x="133" y="1880"/>
                  </a:lnTo>
                  <a:lnTo>
                    <a:pt x="137" y="1869"/>
                  </a:lnTo>
                  <a:lnTo>
                    <a:pt x="139" y="1859"/>
                  </a:lnTo>
                  <a:lnTo>
                    <a:pt x="140" y="1857"/>
                  </a:lnTo>
                  <a:lnTo>
                    <a:pt x="247" y="1871"/>
                  </a:lnTo>
                  <a:lnTo>
                    <a:pt x="370" y="1255"/>
                  </a:lnTo>
                  <a:lnTo>
                    <a:pt x="194" y="108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10680" y="5228640"/>
              <a:ext cx="151200" cy="819360"/>
            </a:xfrm>
            <a:custGeom>
              <a:avLst/>
              <a:gdLst/>
              <a:ahLst/>
              <a:rect l="l" t="t" r="r" b="b"/>
              <a:pathLst>
                <a:path w="547" h="2102">
                  <a:moveTo>
                    <a:pt x="72" y="0"/>
                  </a:moveTo>
                  <a:lnTo>
                    <a:pt x="76" y="6"/>
                  </a:lnTo>
                  <a:lnTo>
                    <a:pt x="89" y="27"/>
                  </a:lnTo>
                  <a:lnTo>
                    <a:pt x="110" y="59"/>
                  </a:lnTo>
                  <a:lnTo>
                    <a:pt x="141" y="104"/>
                  </a:lnTo>
                  <a:lnTo>
                    <a:pt x="173" y="160"/>
                  </a:lnTo>
                  <a:lnTo>
                    <a:pt x="213" y="224"/>
                  </a:lnTo>
                  <a:lnTo>
                    <a:pt x="253" y="295"/>
                  </a:lnTo>
                  <a:lnTo>
                    <a:pt x="295" y="378"/>
                  </a:lnTo>
                  <a:lnTo>
                    <a:pt x="336" y="464"/>
                  </a:lnTo>
                  <a:lnTo>
                    <a:pt x="378" y="559"/>
                  </a:lnTo>
                  <a:lnTo>
                    <a:pt x="418" y="656"/>
                  </a:lnTo>
                  <a:lnTo>
                    <a:pt x="456" y="760"/>
                  </a:lnTo>
                  <a:lnTo>
                    <a:pt x="485" y="863"/>
                  </a:lnTo>
                  <a:lnTo>
                    <a:pt x="511" y="971"/>
                  </a:lnTo>
                  <a:lnTo>
                    <a:pt x="530" y="1079"/>
                  </a:lnTo>
                  <a:lnTo>
                    <a:pt x="544" y="1188"/>
                  </a:lnTo>
                  <a:lnTo>
                    <a:pt x="545" y="1285"/>
                  </a:lnTo>
                  <a:lnTo>
                    <a:pt x="547" y="1380"/>
                  </a:lnTo>
                  <a:lnTo>
                    <a:pt x="544" y="1467"/>
                  </a:lnTo>
                  <a:lnTo>
                    <a:pt x="540" y="1553"/>
                  </a:lnTo>
                  <a:lnTo>
                    <a:pt x="532" y="1631"/>
                  </a:lnTo>
                  <a:lnTo>
                    <a:pt x="525" y="1705"/>
                  </a:lnTo>
                  <a:lnTo>
                    <a:pt x="513" y="1775"/>
                  </a:lnTo>
                  <a:lnTo>
                    <a:pt x="506" y="1840"/>
                  </a:lnTo>
                  <a:lnTo>
                    <a:pt x="490" y="1895"/>
                  </a:lnTo>
                  <a:lnTo>
                    <a:pt x="481" y="1948"/>
                  </a:lnTo>
                  <a:lnTo>
                    <a:pt x="468" y="1994"/>
                  </a:lnTo>
                  <a:lnTo>
                    <a:pt x="458" y="2035"/>
                  </a:lnTo>
                  <a:lnTo>
                    <a:pt x="445" y="2068"/>
                  </a:lnTo>
                  <a:lnTo>
                    <a:pt x="437" y="2096"/>
                  </a:lnTo>
                  <a:lnTo>
                    <a:pt x="429" y="2102"/>
                  </a:lnTo>
                  <a:lnTo>
                    <a:pt x="426" y="2102"/>
                  </a:lnTo>
                  <a:lnTo>
                    <a:pt x="409" y="2102"/>
                  </a:lnTo>
                  <a:lnTo>
                    <a:pt x="391" y="2102"/>
                  </a:lnTo>
                  <a:lnTo>
                    <a:pt x="374" y="2102"/>
                  </a:lnTo>
                  <a:lnTo>
                    <a:pt x="357" y="2102"/>
                  </a:lnTo>
                  <a:lnTo>
                    <a:pt x="338" y="2102"/>
                  </a:lnTo>
                  <a:lnTo>
                    <a:pt x="321" y="2102"/>
                  </a:lnTo>
                  <a:lnTo>
                    <a:pt x="304" y="2102"/>
                  </a:lnTo>
                  <a:lnTo>
                    <a:pt x="287" y="2102"/>
                  </a:lnTo>
                  <a:lnTo>
                    <a:pt x="268" y="2102"/>
                  </a:lnTo>
                  <a:lnTo>
                    <a:pt x="249" y="2102"/>
                  </a:lnTo>
                  <a:lnTo>
                    <a:pt x="230" y="2102"/>
                  </a:lnTo>
                  <a:lnTo>
                    <a:pt x="211" y="2102"/>
                  </a:lnTo>
                  <a:lnTo>
                    <a:pt x="190" y="2102"/>
                  </a:lnTo>
                  <a:lnTo>
                    <a:pt x="169" y="2102"/>
                  </a:lnTo>
                  <a:lnTo>
                    <a:pt x="150" y="2102"/>
                  </a:lnTo>
                  <a:lnTo>
                    <a:pt x="131" y="2102"/>
                  </a:lnTo>
                  <a:lnTo>
                    <a:pt x="139" y="2102"/>
                  </a:lnTo>
                  <a:lnTo>
                    <a:pt x="152" y="2085"/>
                  </a:lnTo>
                  <a:lnTo>
                    <a:pt x="169" y="2047"/>
                  </a:lnTo>
                  <a:lnTo>
                    <a:pt x="190" y="2005"/>
                  </a:lnTo>
                  <a:lnTo>
                    <a:pt x="213" y="1958"/>
                  </a:lnTo>
                  <a:lnTo>
                    <a:pt x="238" y="1904"/>
                  </a:lnTo>
                  <a:lnTo>
                    <a:pt x="262" y="1851"/>
                  </a:lnTo>
                  <a:lnTo>
                    <a:pt x="291" y="1798"/>
                  </a:lnTo>
                  <a:lnTo>
                    <a:pt x="314" y="1745"/>
                  </a:lnTo>
                  <a:lnTo>
                    <a:pt x="336" y="1693"/>
                  </a:lnTo>
                  <a:lnTo>
                    <a:pt x="359" y="1646"/>
                  </a:lnTo>
                  <a:lnTo>
                    <a:pt x="380" y="1604"/>
                  </a:lnTo>
                  <a:lnTo>
                    <a:pt x="397" y="1568"/>
                  </a:lnTo>
                  <a:lnTo>
                    <a:pt x="410" y="1543"/>
                  </a:lnTo>
                  <a:lnTo>
                    <a:pt x="420" y="1526"/>
                  </a:lnTo>
                  <a:lnTo>
                    <a:pt x="422" y="1520"/>
                  </a:lnTo>
                  <a:lnTo>
                    <a:pt x="325" y="1461"/>
                  </a:lnTo>
                  <a:lnTo>
                    <a:pt x="445" y="1188"/>
                  </a:lnTo>
                  <a:lnTo>
                    <a:pt x="150" y="677"/>
                  </a:lnTo>
                  <a:lnTo>
                    <a:pt x="272" y="555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2760" y="5325480"/>
              <a:ext cx="253080" cy="722880"/>
            </a:xfrm>
            <a:custGeom>
              <a:avLst/>
              <a:gdLst/>
              <a:ahLst/>
              <a:rect l="l" t="t" r="r" b="b"/>
              <a:pathLst>
                <a:path w="917" h="1853">
                  <a:moveTo>
                    <a:pt x="677" y="175"/>
                  </a:moveTo>
                  <a:lnTo>
                    <a:pt x="917" y="0"/>
                  </a:lnTo>
                  <a:lnTo>
                    <a:pt x="863" y="1028"/>
                  </a:lnTo>
                  <a:lnTo>
                    <a:pt x="856" y="1036"/>
                  </a:lnTo>
                  <a:lnTo>
                    <a:pt x="839" y="1059"/>
                  </a:lnTo>
                  <a:lnTo>
                    <a:pt x="812" y="1093"/>
                  </a:lnTo>
                  <a:lnTo>
                    <a:pt x="780" y="1140"/>
                  </a:lnTo>
                  <a:lnTo>
                    <a:pt x="738" y="1195"/>
                  </a:lnTo>
                  <a:lnTo>
                    <a:pt x="692" y="1258"/>
                  </a:lnTo>
                  <a:lnTo>
                    <a:pt x="641" y="1325"/>
                  </a:lnTo>
                  <a:lnTo>
                    <a:pt x="592" y="1399"/>
                  </a:lnTo>
                  <a:lnTo>
                    <a:pt x="535" y="1473"/>
                  </a:lnTo>
                  <a:lnTo>
                    <a:pt x="483" y="1545"/>
                  </a:lnTo>
                  <a:lnTo>
                    <a:pt x="428" y="1617"/>
                  </a:lnTo>
                  <a:lnTo>
                    <a:pt x="382" y="1686"/>
                  </a:lnTo>
                  <a:lnTo>
                    <a:pt x="335" y="1747"/>
                  </a:lnTo>
                  <a:lnTo>
                    <a:pt x="295" y="1802"/>
                  </a:lnTo>
                  <a:lnTo>
                    <a:pt x="261" y="1847"/>
                  </a:lnTo>
                  <a:lnTo>
                    <a:pt x="238" y="1853"/>
                  </a:lnTo>
                  <a:lnTo>
                    <a:pt x="217" y="1853"/>
                  </a:lnTo>
                  <a:lnTo>
                    <a:pt x="200" y="1853"/>
                  </a:lnTo>
                  <a:lnTo>
                    <a:pt x="183" y="1853"/>
                  </a:lnTo>
                  <a:lnTo>
                    <a:pt x="168" y="1853"/>
                  </a:lnTo>
                  <a:lnTo>
                    <a:pt x="151" y="1853"/>
                  </a:lnTo>
                  <a:lnTo>
                    <a:pt x="133" y="1853"/>
                  </a:lnTo>
                  <a:lnTo>
                    <a:pt x="118" y="1853"/>
                  </a:lnTo>
                  <a:lnTo>
                    <a:pt x="105" y="1853"/>
                  </a:lnTo>
                  <a:lnTo>
                    <a:pt x="90" y="1853"/>
                  </a:lnTo>
                  <a:lnTo>
                    <a:pt x="73" y="1853"/>
                  </a:lnTo>
                  <a:lnTo>
                    <a:pt x="59" y="1853"/>
                  </a:lnTo>
                  <a:lnTo>
                    <a:pt x="48" y="1853"/>
                  </a:lnTo>
                  <a:lnTo>
                    <a:pt x="33" y="1853"/>
                  </a:lnTo>
                  <a:lnTo>
                    <a:pt x="21" y="1853"/>
                  </a:lnTo>
                  <a:lnTo>
                    <a:pt x="10" y="1853"/>
                  </a:lnTo>
                  <a:lnTo>
                    <a:pt x="0" y="1853"/>
                  </a:lnTo>
                  <a:lnTo>
                    <a:pt x="12" y="1781"/>
                  </a:lnTo>
                  <a:lnTo>
                    <a:pt x="35" y="1688"/>
                  </a:lnTo>
                  <a:lnTo>
                    <a:pt x="65" y="1595"/>
                  </a:lnTo>
                  <a:lnTo>
                    <a:pt x="103" y="1511"/>
                  </a:lnTo>
                  <a:lnTo>
                    <a:pt x="143" y="1433"/>
                  </a:lnTo>
                  <a:lnTo>
                    <a:pt x="189" y="1359"/>
                  </a:lnTo>
                  <a:lnTo>
                    <a:pt x="236" y="1290"/>
                  </a:lnTo>
                  <a:lnTo>
                    <a:pt x="286" y="1232"/>
                  </a:lnTo>
                  <a:lnTo>
                    <a:pt x="331" y="1174"/>
                  </a:lnTo>
                  <a:lnTo>
                    <a:pt x="377" y="1129"/>
                  </a:lnTo>
                  <a:lnTo>
                    <a:pt x="419" y="1087"/>
                  </a:lnTo>
                  <a:lnTo>
                    <a:pt x="458" y="1055"/>
                  </a:lnTo>
                  <a:lnTo>
                    <a:pt x="489" y="1026"/>
                  </a:lnTo>
                  <a:lnTo>
                    <a:pt x="514" y="1007"/>
                  </a:lnTo>
                  <a:lnTo>
                    <a:pt x="531" y="998"/>
                  </a:lnTo>
                  <a:lnTo>
                    <a:pt x="536" y="994"/>
                  </a:lnTo>
                  <a:lnTo>
                    <a:pt x="677" y="175"/>
                  </a:lnTo>
                  <a:lnTo>
                    <a:pt x="677" y="175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5440" y="5330160"/>
              <a:ext cx="284040" cy="718200"/>
            </a:xfrm>
            <a:custGeom>
              <a:avLst/>
              <a:gdLst/>
              <a:ahLst/>
              <a:rect l="l" t="t" r="r" b="b"/>
              <a:pathLst>
                <a:path w="1028" h="1842">
                  <a:moveTo>
                    <a:pt x="791" y="67"/>
                  </a:moveTo>
                  <a:lnTo>
                    <a:pt x="1028" y="0"/>
                  </a:lnTo>
                  <a:lnTo>
                    <a:pt x="867" y="1236"/>
                  </a:lnTo>
                  <a:lnTo>
                    <a:pt x="859" y="1241"/>
                  </a:lnTo>
                  <a:lnTo>
                    <a:pt x="844" y="1257"/>
                  </a:lnTo>
                  <a:lnTo>
                    <a:pt x="817" y="1281"/>
                  </a:lnTo>
                  <a:lnTo>
                    <a:pt x="787" y="1316"/>
                  </a:lnTo>
                  <a:lnTo>
                    <a:pt x="749" y="1355"/>
                  </a:lnTo>
                  <a:lnTo>
                    <a:pt x="707" y="1403"/>
                  </a:lnTo>
                  <a:lnTo>
                    <a:pt x="660" y="1452"/>
                  </a:lnTo>
                  <a:lnTo>
                    <a:pt x="612" y="1506"/>
                  </a:lnTo>
                  <a:lnTo>
                    <a:pt x="559" y="1559"/>
                  </a:lnTo>
                  <a:lnTo>
                    <a:pt x="510" y="1614"/>
                  </a:lnTo>
                  <a:lnTo>
                    <a:pt x="458" y="1667"/>
                  </a:lnTo>
                  <a:lnTo>
                    <a:pt x="413" y="1720"/>
                  </a:lnTo>
                  <a:lnTo>
                    <a:pt x="367" y="1766"/>
                  </a:lnTo>
                  <a:lnTo>
                    <a:pt x="329" y="1808"/>
                  </a:lnTo>
                  <a:lnTo>
                    <a:pt x="297" y="1842"/>
                  </a:lnTo>
                  <a:lnTo>
                    <a:pt x="272" y="1842"/>
                  </a:lnTo>
                  <a:lnTo>
                    <a:pt x="251" y="1842"/>
                  </a:lnTo>
                  <a:lnTo>
                    <a:pt x="232" y="1842"/>
                  </a:lnTo>
                  <a:lnTo>
                    <a:pt x="213" y="1842"/>
                  </a:lnTo>
                  <a:lnTo>
                    <a:pt x="196" y="1842"/>
                  </a:lnTo>
                  <a:lnTo>
                    <a:pt x="175" y="1842"/>
                  </a:lnTo>
                  <a:lnTo>
                    <a:pt x="158" y="1842"/>
                  </a:lnTo>
                  <a:lnTo>
                    <a:pt x="139" y="1842"/>
                  </a:lnTo>
                  <a:lnTo>
                    <a:pt x="124" y="1842"/>
                  </a:lnTo>
                  <a:lnTo>
                    <a:pt x="107" y="1842"/>
                  </a:lnTo>
                  <a:lnTo>
                    <a:pt x="89" y="1842"/>
                  </a:lnTo>
                  <a:lnTo>
                    <a:pt x="72" y="1842"/>
                  </a:lnTo>
                  <a:lnTo>
                    <a:pt x="57" y="1842"/>
                  </a:lnTo>
                  <a:lnTo>
                    <a:pt x="42" y="1842"/>
                  </a:lnTo>
                  <a:lnTo>
                    <a:pt x="27" y="1842"/>
                  </a:lnTo>
                  <a:lnTo>
                    <a:pt x="12" y="1842"/>
                  </a:lnTo>
                  <a:lnTo>
                    <a:pt x="0" y="1842"/>
                  </a:lnTo>
                  <a:lnTo>
                    <a:pt x="4" y="1842"/>
                  </a:lnTo>
                  <a:lnTo>
                    <a:pt x="10" y="1838"/>
                  </a:lnTo>
                  <a:lnTo>
                    <a:pt x="17" y="1817"/>
                  </a:lnTo>
                  <a:lnTo>
                    <a:pt x="27" y="1794"/>
                  </a:lnTo>
                  <a:lnTo>
                    <a:pt x="32" y="1766"/>
                  </a:lnTo>
                  <a:lnTo>
                    <a:pt x="42" y="1741"/>
                  </a:lnTo>
                  <a:lnTo>
                    <a:pt x="51" y="1715"/>
                  </a:lnTo>
                  <a:lnTo>
                    <a:pt x="61" y="1688"/>
                  </a:lnTo>
                  <a:lnTo>
                    <a:pt x="69" y="1661"/>
                  </a:lnTo>
                  <a:lnTo>
                    <a:pt x="74" y="1637"/>
                  </a:lnTo>
                  <a:lnTo>
                    <a:pt x="82" y="1614"/>
                  </a:lnTo>
                  <a:lnTo>
                    <a:pt x="91" y="1595"/>
                  </a:lnTo>
                  <a:lnTo>
                    <a:pt x="93" y="1578"/>
                  </a:lnTo>
                  <a:lnTo>
                    <a:pt x="99" y="1566"/>
                  </a:lnTo>
                  <a:lnTo>
                    <a:pt x="103" y="1557"/>
                  </a:lnTo>
                  <a:lnTo>
                    <a:pt x="105" y="1555"/>
                  </a:lnTo>
                  <a:lnTo>
                    <a:pt x="300" y="1430"/>
                  </a:lnTo>
                  <a:lnTo>
                    <a:pt x="268" y="1380"/>
                  </a:lnTo>
                  <a:lnTo>
                    <a:pt x="576" y="1093"/>
                  </a:lnTo>
                  <a:lnTo>
                    <a:pt x="715" y="603"/>
                  </a:lnTo>
                  <a:lnTo>
                    <a:pt x="637" y="548"/>
                  </a:lnTo>
                  <a:lnTo>
                    <a:pt x="791" y="67"/>
                  </a:lnTo>
                  <a:lnTo>
                    <a:pt x="791" y="67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11160" y="5220000"/>
              <a:ext cx="269640" cy="828000"/>
            </a:xfrm>
            <a:custGeom>
              <a:avLst/>
              <a:gdLst/>
              <a:ahLst/>
              <a:rect l="l" t="t" r="r" b="b"/>
              <a:pathLst>
                <a:path w="976" h="2125">
                  <a:moveTo>
                    <a:pt x="789" y="0"/>
                  </a:moveTo>
                  <a:lnTo>
                    <a:pt x="976" y="0"/>
                  </a:lnTo>
                  <a:lnTo>
                    <a:pt x="842" y="1443"/>
                  </a:lnTo>
                  <a:lnTo>
                    <a:pt x="837" y="1446"/>
                  </a:lnTo>
                  <a:lnTo>
                    <a:pt x="825" y="1467"/>
                  </a:lnTo>
                  <a:lnTo>
                    <a:pt x="806" y="1494"/>
                  </a:lnTo>
                  <a:lnTo>
                    <a:pt x="784" y="1534"/>
                  </a:lnTo>
                  <a:lnTo>
                    <a:pt x="751" y="1580"/>
                  </a:lnTo>
                  <a:lnTo>
                    <a:pt x="721" y="1631"/>
                  </a:lnTo>
                  <a:lnTo>
                    <a:pt x="685" y="1686"/>
                  </a:lnTo>
                  <a:lnTo>
                    <a:pt x="649" y="1749"/>
                  </a:lnTo>
                  <a:lnTo>
                    <a:pt x="609" y="1809"/>
                  </a:lnTo>
                  <a:lnTo>
                    <a:pt x="571" y="1872"/>
                  </a:lnTo>
                  <a:lnTo>
                    <a:pt x="533" y="1931"/>
                  </a:lnTo>
                  <a:lnTo>
                    <a:pt x="497" y="1988"/>
                  </a:lnTo>
                  <a:lnTo>
                    <a:pt x="464" y="2039"/>
                  </a:lnTo>
                  <a:lnTo>
                    <a:pt x="434" y="2087"/>
                  </a:lnTo>
                  <a:lnTo>
                    <a:pt x="411" y="2125"/>
                  </a:lnTo>
                  <a:lnTo>
                    <a:pt x="392" y="2125"/>
                  </a:lnTo>
                  <a:lnTo>
                    <a:pt x="365" y="2125"/>
                  </a:lnTo>
                  <a:lnTo>
                    <a:pt x="337" y="2125"/>
                  </a:lnTo>
                  <a:lnTo>
                    <a:pt x="310" y="2125"/>
                  </a:lnTo>
                  <a:lnTo>
                    <a:pt x="286" y="2125"/>
                  </a:lnTo>
                  <a:lnTo>
                    <a:pt x="261" y="2125"/>
                  </a:lnTo>
                  <a:lnTo>
                    <a:pt x="234" y="2125"/>
                  </a:lnTo>
                  <a:lnTo>
                    <a:pt x="209" y="2125"/>
                  </a:lnTo>
                  <a:lnTo>
                    <a:pt x="185" y="2125"/>
                  </a:lnTo>
                  <a:lnTo>
                    <a:pt x="158" y="2125"/>
                  </a:lnTo>
                  <a:lnTo>
                    <a:pt x="135" y="2125"/>
                  </a:lnTo>
                  <a:lnTo>
                    <a:pt x="113" y="2125"/>
                  </a:lnTo>
                  <a:lnTo>
                    <a:pt x="90" y="2125"/>
                  </a:lnTo>
                  <a:lnTo>
                    <a:pt x="65" y="2125"/>
                  </a:lnTo>
                  <a:lnTo>
                    <a:pt x="42" y="2125"/>
                  </a:lnTo>
                  <a:lnTo>
                    <a:pt x="21" y="2125"/>
                  </a:lnTo>
                  <a:lnTo>
                    <a:pt x="0" y="2125"/>
                  </a:lnTo>
                  <a:lnTo>
                    <a:pt x="6" y="2125"/>
                  </a:lnTo>
                  <a:lnTo>
                    <a:pt x="10" y="2125"/>
                  </a:lnTo>
                  <a:lnTo>
                    <a:pt x="18" y="2106"/>
                  </a:lnTo>
                  <a:lnTo>
                    <a:pt x="25" y="2087"/>
                  </a:lnTo>
                  <a:lnTo>
                    <a:pt x="31" y="2066"/>
                  </a:lnTo>
                  <a:lnTo>
                    <a:pt x="38" y="2047"/>
                  </a:lnTo>
                  <a:lnTo>
                    <a:pt x="46" y="2026"/>
                  </a:lnTo>
                  <a:lnTo>
                    <a:pt x="54" y="2007"/>
                  </a:lnTo>
                  <a:lnTo>
                    <a:pt x="59" y="1986"/>
                  </a:lnTo>
                  <a:lnTo>
                    <a:pt x="67" y="1969"/>
                  </a:lnTo>
                  <a:lnTo>
                    <a:pt x="73" y="1954"/>
                  </a:lnTo>
                  <a:lnTo>
                    <a:pt x="78" y="1939"/>
                  </a:lnTo>
                  <a:lnTo>
                    <a:pt x="82" y="1927"/>
                  </a:lnTo>
                  <a:lnTo>
                    <a:pt x="86" y="1918"/>
                  </a:lnTo>
                  <a:lnTo>
                    <a:pt x="88" y="1912"/>
                  </a:lnTo>
                  <a:lnTo>
                    <a:pt x="90" y="1912"/>
                  </a:lnTo>
                  <a:lnTo>
                    <a:pt x="187" y="1924"/>
                  </a:lnTo>
                  <a:lnTo>
                    <a:pt x="295" y="1629"/>
                  </a:lnTo>
                  <a:lnTo>
                    <a:pt x="571" y="1452"/>
                  </a:lnTo>
                  <a:lnTo>
                    <a:pt x="645" y="1038"/>
                  </a:lnTo>
                  <a:lnTo>
                    <a:pt x="789" y="0"/>
                  </a:lnTo>
                  <a:lnTo>
                    <a:pt x="78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66960" y="5234040"/>
              <a:ext cx="225360" cy="813960"/>
            </a:xfrm>
            <a:custGeom>
              <a:avLst/>
              <a:gdLst/>
              <a:ahLst/>
              <a:rect l="l" t="t" r="r" b="b"/>
              <a:pathLst>
                <a:path w="815" h="2089">
                  <a:moveTo>
                    <a:pt x="815" y="15"/>
                  </a:moveTo>
                  <a:lnTo>
                    <a:pt x="718" y="1363"/>
                  </a:lnTo>
                  <a:lnTo>
                    <a:pt x="715" y="1367"/>
                  </a:lnTo>
                  <a:lnTo>
                    <a:pt x="703" y="1388"/>
                  </a:lnTo>
                  <a:lnTo>
                    <a:pt x="688" y="1416"/>
                  </a:lnTo>
                  <a:lnTo>
                    <a:pt x="667" y="1456"/>
                  </a:lnTo>
                  <a:lnTo>
                    <a:pt x="639" y="1504"/>
                  </a:lnTo>
                  <a:lnTo>
                    <a:pt x="610" y="1559"/>
                  </a:lnTo>
                  <a:lnTo>
                    <a:pt x="578" y="1616"/>
                  </a:lnTo>
                  <a:lnTo>
                    <a:pt x="545" y="1680"/>
                  </a:lnTo>
                  <a:lnTo>
                    <a:pt x="511" y="1743"/>
                  </a:lnTo>
                  <a:lnTo>
                    <a:pt x="477" y="1810"/>
                  </a:lnTo>
                  <a:lnTo>
                    <a:pt x="441" y="1870"/>
                  </a:lnTo>
                  <a:lnTo>
                    <a:pt x="410" y="1933"/>
                  </a:lnTo>
                  <a:lnTo>
                    <a:pt x="378" y="1988"/>
                  </a:lnTo>
                  <a:lnTo>
                    <a:pt x="352" y="2040"/>
                  </a:lnTo>
                  <a:lnTo>
                    <a:pt x="329" y="2083"/>
                  </a:lnTo>
                  <a:lnTo>
                    <a:pt x="312" y="2089"/>
                  </a:lnTo>
                  <a:lnTo>
                    <a:pt x="291" y="2089"/>
                  </a:lnTo>
                  <a:lnTo>
                    <a:pt x="272" y="2089"/>
                  </a:lnTo>
                  <a:lnTo>
                    <a:pt x="251" y="2089"/>
                  </a:lnTo>
                  <a:lnTo>
                    <a:pt x="230" y="2089"/>
                  </a:lnTo>
                  <a:lnTo>
                    <a:pt x="209" y="2089"/>
                  </a:lnTo>
                  <a:lnTo>
                    <a:pt x="190" y="2089"/>
                  </a:lnTo>
                  <a:lnTo>
                    <a:pt x="171" y="2089"/>
                  </a:lnTo>
                  <a:lnTo>
                    <a:pt x="152" y="2089"/>
                  </a:lnTo>
                  <a:lnTo>
                    <a:pt x="131" y="2089"/>
                  </a:lnTo>
                  <a:lnTo>
                    <a:pt x="112" y="2089"/>
                  </a:lnTo>
                  <a:lnTo>
                    <a:pt x="93" y="2089"/>
                  </a:lnTo>
                  <a:lnTo>
                    <a:pt x="74" y="2089"/>
                  </a:lnTo>
                  <a:lnTo>
                    <a:pt x="53" y="2089"/>
                  </a:lnTo>
                  <a:lnTo>
                    <a:pt x="36" y="2089"/>
                  </a:lnTo>
                  <a:lnTo>
                    <a:pt x="17" y="2089"/>
                  </a:lnTo>
                  <a:lnTo>
                    <a:pt x="0" y="2089"/>
                  </a:lnTo>
                  <a:lnTo>
                    <a:pt x="7" y="2089"/>
                  </a:lnTo>
                  <a:lnTo>
                    <a:pt x="19" y="2070"/>
                  </a:lnTo>
                  <a:lnTo>
                    <a:pt x="30" y="2038"/>
                  </a:lnTo>
                  <a:lnTo>
                    <a:pt x="46" y="2009"/>
                  </a:lnTo>
                  <a:lnTo>
                    <a:pt x="59" y="1973"/>
                  </a:lnTo>
                  <a:lnTo>
                    <a:pt x="72" y="1939"/>
                  </a:lnTo>
                  <a:lnTo>
                    <a:pt x="85" y="1903"/>
                  </a:lnTo>
                  <a:lnTo>
                    <a:pt x="103" y="1869"/>
                  </a:lnTo>
                  <a:lnTo>
                    <a:pt x="114" y="1834"/>
                  </a:lnTo>
                  <a:lnTo>
                    <a:pt x="127" y="1804"/>
                  </a:lnTo>
                  <a:lnTo>
                    <a:pt x="139" y="1775"/>
                  </a:lnTo>
                  <a:lnTo>
                    <a:pt x="150" y="1751"/>
                  </a:lnTo>
                  <a:lnTo>
                    <a:pt x="158" y="1730"/>
                  </a:lnTo>
                  <a:lnTo>
                    <a:pt x="165" y="1713"/>
                  </a:lnTo>
                  <a:lnTo>
                    <a:pt x="167" y="1703"/>
                  </a:lnTo>
                  <a:lnTo>
                    <a:pt x="171" y="1701"/>
                  </a:lnTo>
                  <a:lnTo>
                    <a:pt x="226" y="1863"/>
                  </a:lnTo>
                  <a:lnTo>
                    <a:pt x="357" y="1526"/>
                  </a:lnTo>
                  <a:lnTo>
                    <a:pt x="574" y="1429"/>
                  </a:lnTo>
                  <a:lnTo>
                    <a:pt x="555" y="924"/>
                  </a:lnTo>
                  <a:lnTo>
                    <a:pt x="640" y="719"/>
                  </a:lnTo>
                  <a:lnTo>
                    <a:pt x="707" y="0"/>
                  </a:lnTo>
                  <a:lnTo>
                    <a:pt x="815" y="15"/>
                  </a:lnTo>
                  <a:lnTo>
                    <a:pt x="815" y="15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2040" y="5358960"/>
              <a:ext cx="67680" cy="99000"/>
            </a:xfrm>
            <a:custGeom>
              <a:avLst/>
              <a:gdLst/>
              <a:ahLst/>
              <a:rect l="l" t="t" r="r" b="b"/>
              <a:pathLst>
                <a:path w="245" h="253">
                  <a:moveTo>
                    <a:pt x="83" y="8"/>
                  </a:moveTo>
                  <a:lnTo>
                    <a:pt x="0" y="65"/>
                  </a:lnTo>
                  <a:lnTo>
                    <a:pt x="20" y="179"/>
                  </a:lnTo>
                  <a:lnTo>
                    <a:pt x="49" y="179"/>
                  </a:lnTo>
                  <a:lnTo>
                    <a:pt x="49" y="120"/>
                  </a:lnTo>
                  <a:lnTo>
                    <a:pt x="74" y="126"/>
                  </a:lnTo>
                  <a:lnTo>
                    <a:pt x="93" y="253"/>
                  </a:lnTo>
                  <a:lnTo>
                    <a:pt x="127" y="246"/>
                  </a:lnTo>
                  <a:lnTo>
                    <a:pt x="127" y="202"/>
                  </a:lnTo>
                  <a:lnTo>
                    <a:pt x="144" y="194"/>
                  </a:lnTo>
                  <a:lnTo>
                    <a:pt x="154" y="236"/>
                  </a:lnTo>
                  <a:lnTo>
                    <a:pt x="190" y="217"/>
                  </a:lnTo>
                  <a:lnTo>
                    <a:pt x="197" y="175"/>
                  </a:lnTo>
                  <a:lnTo>
                    <a:pt x="245" y="145"/>
                  </a:lnTo>
                  <a:lnTo>
                    <a:pt x="239" y="0"/>
                  </a:lnTo>
                  <a:lnTo>
                    <a:pt x="83" y="8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44880" y="5000040"/>
              <a:ext cx="135720" cy="374040"/>
            </a:xfrm>
            <a:custGeom>
              <a:avLst/>
              <a:gdLst/>
              <a:ahLst/>
              <a:rect l="l" t="t" r="r" b="b"/>
              <a:pathLst>
                <a:path w="493" h="959">
                  <a:moveTo>
                    <a:pt x="78" y="0"/>
                  </a:moveTo>
                  <a:lnTo>
                    <a:pt x="0" y="376"/>
                  </a:lnTo>
                  <a:lnTo>
                    <a:pt x="312" y="503"/>
                  </a:lnTo>
                  <a:lnTo>
                    <a:pt x="306" y="959"/>
                  </a:lnTo>
                  <a:lnTo>
                    <a:pt x="383" y="959"/>
                  </a:lnTo>
                  <a:lnTo>
                    <a:pt x="493" y="442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6040" y="4977000"/>
              <a:ext cx="136800" cy="397440"/>
            </a:xfrm>
            <a:custGeom>
              <a:avLst/>
              <a:gdLst/>
              <a:ahLst/>
              <a:rect l="l" t="t" r="r" b="b"/>
              <a:pathLst>
                <a:path w="496" h="1020">
                  <a:moveTo>
                    <a:pt x="80" y="0"/>
                  </a:moveTo>
                  <a:lnTo>
                    <a:pt x="496" y="475"/>
                  </a:lnTo>
                  <a:lnTo>
                    <a:pt x="371" y="1020"/>
                  </a:lnTo>
                  <a:lnTo>
                    <a:pt x="322" y="1011"/>
                  </a:lnTo>
                  <a:lnTo>
                    <a:pt x="362" y="650"/>
                  </a:lnTo>
                  <a:lnTo>
                    <a:pt x="386" y="661"/>
                  </a:lnTo>
                  <a:lnTo>
                    <a:pt x="403" y="513"/>
                  </a:lnTo>
                  <a:lnTo>
                    <a:pt x="228" y="403"/>
                  </a:lnTo>
                  <a:lnTo>
                    <a:pt x="280" y="340"/>
                  </a:lnTo>
                  <a:lnTo>
                    <a:pt x="0" y="13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44880" y="5114160"/>
              <a:ext cx="99360" cy="262080"/>
            </a:xfrm>
            <a:custGeom>
              <a:avLst/>
              <a:gdLst/>
              <a:ahLst/>
              <a:rect l="l" t="t" r="r" b="b"/>
              <a:pathLst>
                <a:path w="362" h="673">
                  <a:moveTo>
                    <a:pt x="0" y="0"/>
                  </a:moveTo>
                  <a:lnTo>
                    <a:pt x="362" y="175"/>
                  </a:lnTo>
                  <a:lnTo>
                    <a:pt x="322" y="673"/>
                  </a:lnTo>
                  <a:lnTo>
                    <a:pt x="272" y="660"/>
                  </a:lnTo>
                  <a:lnTo>
                    <a:pt x="255" y="284"/>
                  </a:lnTo>
                  <a:lnTo>
                    <a:pt x="0" y="1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8400" y="5150520"/>
              <a:ext cx="92880" cy="219960"/>
            </a:xfrm>
            <a:custGeom>
              <a:avLst/>
              <a:gdLst/>
              <a:ahLst/>
              <a:rect l="l" t="t" r="r" b="b"/>
              <a:pathLst>
                <a:path w="334" h="565">
                  <a:moveTo>
                    <a:pt x="0" y="71"/>
                  </a:moveTo>
                  <a:lnTo>
                    <a:pt x="3" y="71"/>
                  </a:lnTo>
                  <a:lnTo>
                    <a:pt x="13" y="73"/>
                  </a:lnTo>
                  <a:lnTo>
                    <a:pt x="30" y="75"/>
                  </a:lnTo>
                  <a:lnTo>
                    <a:pt x="55" y="82"/>
                  </a:lnTo>
                  <a:lnTo>
                    <a:pt x="79" y="90"/>
                  </a:lnTo>
                  <a:lnTo>
                    <a:pt x="110" y="103"/>
                  </a:lnTo>
                  <a:lnTo>
                    <a:pt x="138" y="120"/>
                  </a:lnTo>
                  <a:lnTo>
                    <a:pt x="169" y="143"/>
                  </a:lnTo>
                  <a:lnTo>
                    <a:pt x="194" y="170"/>
                  </a:lnTo>
                  <a:lnTo>
                    <a:pt x="222" y="202"/>
                  </a:lnTo>
                  <a:lnTo>
                    <a:pt x="243" y="242"/>
                  </a:lnTo>
                  <a:lnTo>
                    <a:pt x="260" y="289"/>
                  </a:lnTo>
                  <a:lnTo>
                    <a:pt x="270" y="342"/>
                  </a:lnTo>
                  <a:lnTo>
                    <a:pt x="275" y="405"/>
                  </a:lnTo>
                  <a:lnTo>
                    <a:pt x="270" y="477"/>
                  </a:lnTo>
                  <a:lnTo>
                    <a:pt x="256" y="561"/>
                  </a:lnTo>
                  <a:lnTo>
                    <a:pt x="302" y="565"/>
                  </a:lnTo>
                  <a:lnTo>
                    <a:pt x="334" y="386"/>
                  </a:lnTo>
                  <a:lnTo>
                    <a:pt x="306" y="301"/>
                  </a:lnTo>
                  <a:lnTo>
                    <a:pt x="334" y="137"/>
                  </a:lnTo>
                  <a:lnTo>
                    <a:pt x="0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93760" y="4957200"/>
              <a:ext cx="83160" cy="293040"/>
            </a:xfrm>
            <a:custGeom>
              <a:avLst/>
              <a:gdLst/>
              <a:ahLst/>
              <a:rect l="l" t="t" r="r" b="b"/>
              <a:pathLst>
                <a:path w="302" h="753">
                  <a:moveTo>
                    <a:pt x="116" y="0"/>
                  </a:moveTo>
                  <a:lnTo>
                    <a:pt x="302" y="50"/>
                  </a:lnTo>
                  <a:lnTo>
                    <a:pt x="245" y="369"/>
                  </a:lnTo>
                  <a:lnTo>
                    <a:pt x="198" y="591"/>
                  </a:lnTo>
                  <a:lnTo>
                    <a:pt x="179" y="753"/>
                  </a:lnTo>
                  <a:lnTo>
                    <a:pt x="0" y="751"/>
                  </a:lnTo>
                  <a:lnTo>
                    <a:pt x="50" y="221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17440" y="4955760"/>
              <a:ext cx="117000" cy="294480"/>
            </a:xfrm>
            <a:custGeom>
              <a:avLst/>
              <a:gdLst/>
              <a:ahLst/>
              <a:rect l="l" t="t" r="r" b="b"/>
              <a:pathLst>
                <a:path w="423" h="756">
                  <a:moveTo>
                    <a:pt x="49" y="0"/>
                  </a:moveTo>
                  <a:lnTo>
                    <a:pt x="391" y="11"/>
                  </a:lnTo>
                  <a:lnTo>
                    <a:pt x="384" y="285"/>
                  </a:lnTo>
                  <a:lnTo>
                    <a:pt x="340" y="309"/>
                  </a:lnTo>
                  <a:lnTo>
                    <a:pt x="423" y="499"/>
                  </a:lnTo>
                  <a:lnTo>
                    <a:pt x="365" y="756"/>
                  </a:lnTo>
                  <a:lnTo>
                    <a:pt x="249" y="756"/>
                  </a:lnTo>
                  <a:lnTo>
                    <a:pt x="0" y="18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68840" y="4960440"/>
              <a:ext cx="128520" cy="292320"/>
            </a:xfrm>
            <a:custGeom>
              <a:avLst/>
              <a:gdLst/>
              <a:ahLst/>
              <a:rect l="l" t="t" r="r" b="b"/>
              <a:pathLst>
                <a:path w="465" h="751">
                  <a:moveTo>
                    <a:pt x="40" y="0"/>
                  </a:moveTo>
                  <a:lnTo>
                    <a:pt x="218" y="0"/>
                  </a:lnTo>
                  <a:lnTo>
                    <a:pt x="325" y="378"/>
                  </a:lnTo>
                  <a:lnTo>
                    <a:pt x="450" y="530"/>
                  </a:lnTo>
                  <a:lnTo>
                    <a:pt x="465" y="751"/>
                  </a:lnTo>
                  <a:lnTo>
                    <a:pt x="233" y="745"/>
                  </a:lnTo>
                  <a:lnTo>
                    <a:pt x="0" y="125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38960" y="4960440"/>
              <a:ext cx="119880" cy="290160"/>
            </a:xfrm>
            <a:custGeom>
              <a:avLst/>
              <a:gdLst/>
              <a:ahLst/>
              <a:rect l="l" t="t" r="r" b="b"/>
              <a:pathLst>
                <a:path w="434" h="745">
                  <a:moveTo>
                    <a:pt x="0" y="19"/>
                  </a:moveTo>
                  <a:lnTo>
                    <a:pt x="152" y="0"/>
                  </a:lnTo>
                  <a:lnTo>
                    <a:pt x="238" y="331"/>
                  </a:lnTo>
                  <a:lnTo>
                    <a:pt x="318" y="338"/>
                  </a:lnTo>
                  <a:lnTo>
                    <a:pt x="434" y="745"/>
                  </a:lnTo>
                  <a:lnTo>
                    <a:pt x="29" y="74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8920" y="5161680"/>
              <a:ext cx="241920" cy="268200"/>
            </a:xfrm>
            <a:custGeom>
              <a:avLst/>
              <a:gdLst/>
              <a:ahLst/>
              <a:rect l="l" t="t" r="r" b="b"/>
              <a:pathLst>
                <a:path w="874" h="688">
                  <a:moveTo>
                    <a:pt x="0" y="137"/>
                  </a:moveTo>
                  <a:lnTo>
                    <a:pt x="749" y="0"/>
                  </a:lnTo>
                  <a:lnTo>
                    <a:pt x="785" y="42"/>
                  </a:lnTo>
                  <a:lnTo>
                    <a:pt x="834" y="13"/>
                  </a:lnTo>
                  <a:lnTo>
                    <a:pt x="874" y="555"/>
                  </a:lnTo>
                  <a:lnTo>
                    <a:pt x="110" y="688"/>
                  </a:lnTo>
                  <a:lnTo>
                    <a:pt x="0" y="646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7840" y="5343120"/>
              <a:ext cx="236520" cy="86400"/>
            </a:xfrm>
            <a:custGeom>
              <a:avLst/>
              <a:gdLst/>
              <a:ahLst/>
              <a:rect l="l" t="t" r="r" b="b"/>
              <a:pathLst>
                <a:path w="855" h="222">
                  <a:moveTo>
                    <a:pt x="0" y="180"/>
                  </a:moveTo>
                  <a:lnTo>
                    <a:pt x="557" y="79"/>
                  </a:lnTo>
                  <a:lnTo>
                    <a:pt x="576" y="0"/>
                  </a:lnTo>
                  <a:lnTo>
                    <a:pt x="658" y="43"/>
                  </a:lnTo>
                  <a:lnTo>
                    <a:pt x="743" y="28"/>
                  </a:lnTo>
                  <a:lnTo>
                    <a:pt x="855" y="98"/>
                  </a:lnTo>
                  <a:lnTo>
                    <a:pt x="114" y="22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13040" y="5333760"/>
              <a:ext cx="78120" cy="80280"/>
            </a:xfrm>
            <a:custGeom>
              <a:avLst/>
              <a:gdLst/>
              <a:ahLst/>
              <a:rect l="l" t="t" r="r" b="b"/>
              <a:pathLst>
                <a:path w="285" h="205">
                  <a:moveTo>
                    <a:pt x="95" y="28"/>
                  </a:moveTo>
                  <a:lnTo>
                    <a:pt x="185" y="0"/>
                  </a:lnTo>
                  <a:lnTo>
                    <a:pt x="247" y="57"/>
                  </a:lnTo>
                  <a:lnTo>
                    <a:pt x="234" y="80"/>
                  </a:lnTo>
                  <a:lnTo>
                    <a:pt x="192" y="53"/>
                  </a:lnTo>
                  <a:lnTo>
                    <a:pt x="169" y="64"/>
                  </a:lnTo>
                  <a:lnTo>
                    <a:pt x="285" y="150"/>
                  </a:lnTo>
                  <a:lnTo>
                    <a:pt x="263" y="184"/>
                  </a:lnTo>
                  <a:lnTo>
                    <a:pt x="215" y="139"/>
                  </a:lnTo>
                  <a:lnTo>
                    <a:pt x="192" y="150"/>
                  </a:lnTo>
                  <a:lnTo>
                    <a:pt x="238" y="196"/>
                  </a:lnTo>
                  <a:lnTo>
                    <a:pt x="196" y="205"/>
                  </a:lnTo>
                  <a:lnTo>
                    <a:pt x="162" y="177"/>
                  </a:lnTo>
                  <a:lnTo>
                    <a:pt x="111" y="194"/>
                  </a:lnTo>
                  <a:lnTo>
                    <a:pt x="0" y="123"/>
                  </a:lnTo>
                  <a:lnTo>
                    <a:pt x="95" y="28"/>
                  </a:lnTo>
                  <a:lnTo>
                    <a:pt x="95" y="28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77040" y="5102280"/>
              <a:ext cx="100440" cy="242280"/>
            </a:xfrm>
            <a:custGeom>
              <a:avLst/>
              <a:gdLst/>
              <a:ahLst/>
              <a:rect l="l" t="t" r="r" b="b"/>
              <a:pathLst>
                <a:path w="363" h="621">
                  <a:moveTo>
                    <a:pt x="363" y="0"/>
                  </a:moveTo>
                  <a:lnTo>
                    <a:pt x="321" y="171"/>
                  </a:lnTo>
                  <a:lnTo>
                    <a:pt x="124" y="230"/>
                  </a:lnTo>
                  <a:lnTo>
                    <a:pt x="240" y="621"/>
                  </a:lnTo>
                  <a:lnTo>
                    <a:pt x="25" y="564"/>
                  </a:lnTo>
                  <a:lnTo>
                    <a:pt x="0" y="66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37080" y="5011920"/>
              <a:ext cx="140040" cy="355320"/>
            </a:xfrm>
            <a:custGeom>
              <a:avLst/>
              <a:gdLst/>
              <a:ahLst/>
              <a:rect l="l" t="t" r="r" b="b"/>
              <a:pathLst>
                <a:path w="507" h="910">
                  <a:moveTo>
                    <a:pt x="496" y="42"/>
                  </a:moveTo>
                  <a:lnTo>
                    <a:pt x="507" y="232"/>
                  </a:lnTo>
                  <a:lnTo>
                    <a:pt x="182" y="353"/>
                  </a:lnTo>
                  <a:lnTo>
                    <a:pt x="249" y="688"/>
                  </a:lnTo>
                  <a:lnTo>
                    <a:pt x="384" y="867"/>
                  </a:lnTo>
                  <a:lnTo>
                    <a:pt x="357" y="910"/>
                  </a:lnTo>
                  <a:lnTo>
                    <a:pt x="49" y="760"/>
                  </a:lnTo>
                  <a:lnTo>
                    <a:pt x="0" y="384"/>
                  </a:lnTo>
                  <a:lnTo>
                    <a:pt x="226" y="0"/>
                  </a:lnTo>
                  <a:lnTo>
                    <a:pt x="496" y="42"/>
                  </a:lnTo>
                  <a:lnTo>
                    <a:pt x="496" y="4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9440" y="4987440"/>
              <a:ext cx="154800" cy="388440"/>
            </a:xfrm>
            <a:custGeom>
              <a:avLst/>
              <a:gdLst/>
              <a:ahLst/>
              <a:rect l="l" t="t" r="r" b="b"/>
              <a:pathLst>
                <a:path w="559" h="996">
                  <a:moveTo>
                    <a:pt x="528" y="0"/>
                  </a:moveTo>
                  <a:lnTo>
                    <a:pt x="559" y="109"/>
                  </a:lnTo>
                  <a:lnTo>
                    <a:pt x="293" y="206"/>
                  </a:lnTo>
                  <a:lnTo>
                    <a:pt x="118" y="489"/>
                  </a:lnTo>
                  <a:lnTo>
                    <a:pt x="207" y="489"/>
                  </a:lnTo>
                  <a:lnTo>
                    <a:pt x="264" y="837"/>
                  </a:lnTo>
                  <a:lnTo>
                    <a:pt x="327" y="808"/>
                  </a:lnTo>
                  <a:lnTo>
                    <a:pt x="420" y="973"/>
                  </a:lnTo>
                  <a:lnTo>
                    <a:pt x="393" y="996"/>
                  </a:lnTo>
                  <a:lnTo>
                    <a:pt x="190" y="926"/>
                  </a:lnTo>
                  <a:lnTo>
                    <a:pt x="0" y="673"/>
                  </a:lnTo>
                  <a:lnTo>
                    <a:pt x="26" y="299"/>
                  </a:lnTo>
                  <a:lnTo>
                    <a:pt x="315" y="15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6880" y="5000040"/>
              <a:ext cx="47880" cy="262080"/>
            </a:xfrm>
            <a:custGeom>
              <a:avLst/>
              <a:gdLst/>
              <a:ahLst/>
              <a:rect l="l" t="t" r="r" b="b"/>
              <a:pathLst>
                <a:path w="175" h="670">
                  <a:moveTo>
                    <a:pt x="0" y="104"/>
                  </a:moveTo>
                  <a:lnTo>
                    <a:pt x="42" y="157"/>
                  </a:lnTo>
                  <a:lnTo>
                    <a:pt x="19" y="598"/>
                  </a:lnTo>
                  <a:lnTo>
                    <a:pt x="122" y="670"/>
                  </a:lnTo>
                  <a:lnTo>
                    <a:pt x="175" y="581"/>
                  </a:lnTo>
                  <a:lnTo>
                    <a:pt x="93" y="154"/>
                  </a:lnTo>
                  <a:lnTo>
                    <a:pt x="135" y="87"/>
                  </a:lnTo>
                  <a:lnTo>
                    <a:pt x="45" y="0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95840" y="4942440"/>
              <a:ext cx="104760" cy="128520"/>
            </a:xfrm>
            <a:custGeom>
              <a:avLst/>
              <a:gdLst/>
              <a:ahLst/>
              <a:rect l="l" t="t" r="r" b="b"/>
              <a:pathLst>
                <a:path w="380" h="329">
                  <a:moveTo>
                    <a:pt x="0" y="38"/>
                  </a:moveTo>
                  <a:lnTo>
                    <a:pt x="55" y="295"/>
                  </a:lnTo>
                  <a:lnTo>
                    <a:pt x="205" y="202"/>
                  </a:lnTo>
                  <a:lnTo>
                    <a:pt x="332" y="329"/>
                  </a:lnTo>
                  <a:lnTo>
                    <a:pt x="380" y="65"/>
                  </a:lnTo>
                  <a:lnTo>
                    <a:pt x="342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81800" y="4843440"/>
              <a:ext cx="111600" cy="171360"/>
            </a:xfrm>
            <a:custGeom>
              <a:avLst/>
              <a:gdLst/>
              <a:ahLst/>
              <a:rect l="l" t="t" r="r" b="b"/>
              <a:pathLst>
                <a:path w="403" h="441">
                  <a:moveTo>
                    <a:pt x="263" y="9"/>
                  </a:moveTo>
                  <a:lnTo>
                    <a:pt x="264" y="11"/>
                  </a:lnTo>
                  <a:lnTo>
                    <a:pt x="274" y="19"/>
                  </a:lnTo>
                  <a:lnTo>
                    <a:pt x="285" y="28"/>
                  </a:lnTo>
                  <a:lnTo>
                    <a:pt x="302" y="43"/>
                  </a:lnTo>
                  <a:lnTo>
                    <a:pt x="310" y="51"/>
                  </a:lnTo>
                  <a:lnTo>
                    <a:pt x="320" y="60"/>
                  </a:lnTo>
                  <a:lnTo>
                    <a:pt x="329" y="68"/>
                  </a:lnTo>
                  <a:lnTo>
                    <a:pt x="339" y="79"/>
                  </a:lnTo>
                  <a:lnTo>
                    <a:pt x="348" y="89"/>
                  </a:lnTo>
                  <a:lnTo>
                    <a:pt x="359" y="100"/>
                  </a:lnTo>
                  <a:lnTo>
                    <a:pt x="369" y="110"/>
                  </a:lnTo>
                  <a:lnTo>
                    <a:pt x="380" y="121"/>
                  </a:lnTo>
                  <a:lnTo>
                    <a:pt x="344" y="142"/>
                  </a:lnTo>
                  <a:lnTo>
                    <a:pt x="403" y="270"/>
                  </a:lnTo>
                  <a:lnTo>
                    <a:pt x="339" y="433"/>
                  </a:lnTo>
                  <a:lnTo>
                    <a:pt x="186" y="441"/>
                  </a:lnTo>
                  <a:lnTo>
                    <a:pt x="38" y="270"/>
                  </a:lnTo>
                  <a:lnTo>
                    <a:pt x="0" y="117"/>
                  </a:lnTo>
                  <a:lnTo>
                    <a:pt x="162" y="0"/>
                  </a:lnTo>
                  <a:lnTo>
                    <a:pt x="263" y="9"/>
                  </a:lnTo>
                  <a:lnTo>
                    <a:pt x="263" y="9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0760" y="4870800"/>
              <a:ext cx="50040" cy="29520"/>
            </a:xfrm>
            <a:custGeom>
              <a:avLst/>
              <a:gdLst/>
              <a:ahLst/>
              <a:rect l="l" t="t" r="r" b="b"/>
              <a:pathLst>
                <a:path w="181" h="76">
                  <a:moveTo>
                    <a:pt x="152" y="0"/>
                  </a:moveTo>
                  <a:lnTo>
                    <a:pt x="0" y="28"/>
                  </a:lnTo>
                  <a:lnTo>
                    <a:pt x="13" y="76"/>
                  </a:lnTo>
                  <a:lnTo>
                    <a:pt x="181" y="28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b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09520" y="4906440"/>
              <a:ext cx="83880" cy="108360"/>
            </a:xfrm>
            <a:custGeom>
              <a:avLst/>
              <a:gdLst/>
              <a:ahLst/>
              <a:rect l="l" t="t" r="r" b="b"/>
              <a:pathLst>
                <a:path w="302" h="280">
                  <a:moveTo>
                    <a:pt x="0" y="0"/>
                  </a:moveTo>
                  <a:lnTo>
                    <a:pt x="97" y="50"/>
                  </a:lnTo>
                  <a:lnTo>
                    <a:pt x="116" y="131"/>
                  </a:lnTo>
                  <a:lnTo>
                    <a:pt x="302" y="112"/>
                  </a:lnTo>
                  <a:lnTo>
                    <a:pt x="291" y="139"/>
                  </a:lnTo>
                  <a:lnTo>
                    <a:pt x="104" y="179"/>
                  </a:lnTo>
                  <a:lnTo>
                    <a:pt x="167" y="272"/>
                  </a:lnTo>
                  <a:lnTo>
                    <a:pt x="123" y="280"/>
                  </a:lnTo>
                  <a:lnTo>
                    <a:pt x="11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7200" y="4967280"/>
              <a:ext cx="156240" cy="423360"/>
            </a:xfrm>
            <a:custGeom>
              <a:avLst/>
              <a:gdLst/>
              <a:ahLst/>
              <a:rect l="l" t="t" r="r" b="b"/>
              <a:pathLst>
                <a:path w="567" h="1085">
                  <a:moveTo>
                    <a:pt x="481" y="0"/>
                  </a:moveTo>
                  <a:lnTo>
                    <a:pt x="474" y="0"/>
                  </a:lnTo>
                  <a:lnTo>
                    <a:pt x="460" y="6"/>
                  </a:lnTo>
                  <a:lnTo>
                    <a:pt x="435" y="13"/>
                  </a:lnTo>
                  <a:lnTo>
                    <a:pt x="405" y="27"/>
                  </a:lnTo>
                  <a:lnTo>
                    <a:pt x="369" y="42"/>
                  </a:lnTo>
                  <a:lnTo>
                    <a:pt x="329" y="65"/>
                  </a:lnTo>
                  <a:lnTo>
                    <a:pt x="285" y="91"/>
                  </a:lnTo>
                  <a:lnTo>
                    <a:pt x="242" y="123"/>
                  </a:lnTo>
                  <a:lnTo>
                    <a:pt x="196" y="158"/>
                  </a:lnTo>
                  <a:lnTo>
                    <a:pt x="152" y="200"/>
                  </a:lnTo>
                  <a:lnTo>
                    <a:pt x="110" y="247"/>
                  </a:lnTo>
                  <a:lnTo>
                    <a:pt x="76" y="300"/>
                  </a:lnTo>
                  <a:lnTo>
                    <a:pt x="46" y="361"/>
                  </a:lnTo>
                  <a:lnTo>
                    <a:pt x="21" y="426"/>
                  </a:lnTo>
                  <a:lnTo>
                    <a:pt x="6" y="500"/>
                  </a:lnTo>
                  <a:lnTo>
                    <a:pt x="0" y="580"/>
                  </a:lnTo>
                  <a:lnTo>
                    <a:pt x="2" y="658"/>
                  </a:lnTo>
                  <a:lnTo>
                    <a:pt x="15" y="728"/>
                  </a:lnTo>
                  <a:lnTo>
                    <a:pt x="34" y="791"/>
                  </a:lnTo>
                  <a:lnTo>
                    <a:pt x="63" y="846"/>
                  </a:lnTo>
                  <a:lnTo>
                    <a:pt x="93" y="891"/>
                  </a:lnTo>
                  <a:lnTo>
                    <a:pt x="131" y="933"/>
                  </a:lnTo>
                  <a:lnTo>
                    <a:pt x="167" y="967"/>
                  </a:lnTo>
                  <a:lnTo>
                    <a:pt x="209" y="998"/>
                  </a:lnTo>
                  <a:lnTo>
                    <a:pt x="247" y="1021"/>
                  </a:lnTo>
                  <a:lnTo>
                    <a:pt x="285" y="1040"/>
                  </a:lnTo>
                  <a:lnTo>
                    <a:pt x="321" y="1055"/>
                  </a:lnTo>
                  <a:lnTo>
                    <a:pt x="356" y="1066"/>
                  </a:lnTo>
                  <a:lnTo>
                    <a:pt x="382" y="1074"/>
                  </a:lnTo>
                  <a:lnTo>
                    <a:pt x="403" y="1079"/>
                  </a:lnTo>
                  <a:lnTo>
                    <a:pt x="418" y="1083"/>
                  </a:lnTo>
                  <a:lnTo>
                    <a:pt x="424" y="1085"/>
                  </a:lnTo>
                  <a:lnTo>
                    <a:pt x="439" y="1043"/>
                  </a:lnTo>
                  <a:lnTo>
                    <a:pt x="339" y="918"/>
                  </a:lnTo>
                  <a:lnTo>
                    <a:pt x="302" y="967"/>
                  </a:lnTo>
                  <a:lnTo>
                    <a:pt x="72" y="707"/>
                  </a:lnTo>
                  <a:lnTo>
                    <a:pt x="105" y="369"/>
                  </a:lnTo>
                  <a:lnTo>
                    <a:pt x="173" y="390"/>
                  </a:lnTo>
                  <a:lnTo>
                    <a:pt x="361" y="93"/>
                  </a:lnTo>
                  <a:lnTo>
                    <a:pt x="415" y="137"/>
                  </a:lnTo>
                  <a:lnTo>
                    <a:pt x="567" y="51"/>
                  </a:lnTo>
                  <a:lnTo>
                    <a:pt x="481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07360" y="5161680"/>
              <a:ext cx="19080" cy="200160"/>
            </a:xfrm>
            <a:custGeom>
              <a:avLst/>
              <a:gdLst/>
              <a:ahLst/>
              <a:rect l="l" t="t" r="r" b="b"/>
              <a:pathLst>
                <a:path w="71" h="513">
                  <a:moveTo>
                    <a:pt x="0" y="0"/>
                  </a:moveTo>
                  <a:lnTo>
                    <a:pt x="14" y="479"/>
                  </a:lnTo>
                  <a:lnTo>
                    <a:pt x="71" y="513"/>
                  </a:lnTo>
                  <a:lnTo>
                    <a:pt x="57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76040" y="4824000"/>
              <a:ext cx="85320" cy="131760"/>
            </a:xfrm>
            <a:custGeom>
              <a:avLst/>
              <a:gdLst/>
              <a:ahLst/>
              <a:rect l="l" t="t" r="r" b="b"/>
              <a:pathLst>
                <a:path w="310" h="339">
                  <a:moveTo>
                    <a:pt x="310" y="55"/>
                  </a:moveTo>
                  <a:lnTo>
                    <a:pt x="124" y="129"/>
                  </a:lnTo>
                  <a:lnTo>
                    <a:pt x="124" y="211"/>
                  </a:lnTo>
                  <a:lnTo>
                    <a:pt x="65" y="196"/>
                  </a:lnTo>
                  <a:lnTo>
                    <a:pt x="61" y="198"/>
                  </a:lnTo>
                  <a:lnTo>
                    <a:pt x="57" y="206"/>
                  </a:lnTo>
                  <a:lnTo>
                    <a:pt x="54" y="219"/>
                  </a:lnTo>
                  <a:lnTo>
                    <a:pt x="52" y="234"/>
                  </a:lnTo>
                  <a:lnTo>
                    <a:pt x="52" y="249"/>
                  </a:lnTo>
                  <a:lnTo>
                    <a:pt x="57" y="264"/>
                  </a:lnTo>
                  <a:lnTo>
                    <a:pt x="63" y="272"/>
                  </a:lnTo>
                  <a:lnTo>
                    <a:pt x="69" y="280"/>
                  </a:lnTo>
                  <a:lnTo>
                    <a:pt x="80" y="283"/>
                  </a:lnTo>
                  <a:lnTo>
                    <a:pt x="92" y="291"/>
                  </a:lnTo>
                  <a:lnTo>
                    <a:pt x="73" y="339"/>
                  </a:lnTo>
                  <a:lnTo>
                    <a:pt x="69" y="335"/>
                  </a:lnTo>
                  <a:lnTo>
                    <a:pt x="57" y="327"/>
                  </a:lnTo>
                  <a:lnTo>
                    <a:pt x="48" y="320"/>
                  </a:lnTo>
                  <a:lnTo>
                    <a:pt x="44" y="310"/>
                  </a:lnTo>
                  <a:lnTo>
                    <a:pt x="35" y="301"/>
                  </a:lnTo>
                  <a:lnTo>
                    <a:pt x="29" y="291"/>
                  </a:lnTo>
                  <a:lnTo>
                    <a:pt x="21" y="278"/>
                  </a:lnTo>
                  <a:lnTo>
                    <a:pt x="14" y="263"/>
                  </a:lnTo>
                  <a:lnTo>
                    <a:pt x="8" y="245"/>
                  </a:lnTo>
                  <a:lnTo>
                    <a:pt x="4" y="228"/>
                  </a:lnTo>
                  <a:lnTo>
                    <a:pt x="0" y="206"/>
                  </a:lnTo>
                  <a:lnTo>
                    <a:pt x="0" y="185"/>
                  </a:lnTo>
                  <a:lnTo>
                    <a:pt x="2" y="160"/>
                  </a:lnTo>
                  <a:lnTo>
                    <a:pt x="6" y="135"/>
                  </a:lnTo>
                  <a:lnTo>
                    <a:pt x="247" y="0"/>
                  </a:lnTo>
                  <a:lnTo>
                    <a:pt x="310" y="55"/>
                  </a:lnTo>
                  <a:lnTo>
                    <a:pt x="310" y="55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410080" y="5181480"/>
            <a:ext cx="1218960" cy="609840"/>
            <a:chOff x="5410080" y="5181480"/>
            <a:chExt cx="1218960" cy="609840"/>
          </a:xfrm>
        </p:grpSpPr>
        <p:pic>
          <p:nvPicPr>
            <p:cNvPr id="403" name="FD01084_" descr=""/>
            <p:cNvPicPr/>
            <p:nvPr/>
          </p:nvPicPr>
          <p:blipFill>
            <a:blip r:embed="rId1"/>
            <a:stretch/>
          </p:blipFill>
          <p:spPr>
            <a:xfrm>
              <a:off x="6083640" y="5319720"/>
              <a:ext cx="54540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BD08911_" descr=""/>
            <p:cNvPicPr/>
            <p:nvPr/>
          </p:nvPicPr>
          <p:blipFill>
            <a:blip r:embed="rId2"/>
            <a:stretch/>
          </p:blipFill>
          <p:spPr>
            <a:xfrm>
              <a:off x="5410080" y="5292360"/>
              <a:ext cx="5742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 flipH="1">
              <a:off x="5859360" y="5181480"/>
              <a:ext cx="352800" cy="60984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167880" y="2224080"/>
            <a:ext cx="1123200" cy="1772280"/>
            <a:chOff x="6167880" y="2224080"/>
            <a:chExt cx="1123200" cy="1772280"/>
          </a:xfrm>
        </p:grpSpPr>
        <p:sp>
          <p:nvSpPr>
            <p:cNvPr id="407" name=""/>
            <p:cNvSpPr/>
            <p:nvPr/>
          </p:nvSpPr>
          <p:spPr>
            <a:xfrm rot="20550000">
              <a:off x="6400800" y="2284560"/>
              <a:ext cx="657000" cy="1650960"/>
            </a:xfrm>
            <a:custGeom>
              <a:avLst/>
              <a:gdLst/>
              <a:ahLst/>
              <a:rect l="l" t="t" r="r" b="b"/>
              <a:pathLst>
                <a:path w="829" h="2081">
                  <a:moveTo>
                    <a:pt x="88" y="2081"/>
                  </a:moveTo>
                  <a:lnTo>
                    <a:pt x="129" y="2077"/>
                  </a:lnTo>
                  <a:lnTo>
                    <a:pt x="168" y="2072"/>
                  </a:lnTo>
                  <a:lnTo>
                    <a:pt x="207" y="2065"/>
                  </a:lnTo>
                  <a:lnTo>
                    <a:pt x="244" y="2057"/>
                  </a:lnTo>
                  <a:lnTo>
                    <a:pt x="281" y="2047"/>
                  </a:lnTo>
                  <a:lnTo>
                    <a:pt x="318" y="2035"/>
                  </a:lnTo>
                  <a:lnTo>
                    <a:pt x="388" y="2008"/>
                  </a:lnTo>
                  <a:lnTo>
                    <a:pt x="454" y="1972"/>
                  </a:lnTo>
                  <a:lnTo>
                    <a:pt x="516" y="1932"/>
                  </a:lnTo>
                  <a:lnTo>
                    <a:pt x="574" y="1886"/>
                  </a:lnTo>
                  <a:lnTo>
                    <a:pt x="626" y="1837"/>
                  </a:lnTo>
                  <a:lnTo>
                    <a:pt x="673" y="1781"/>
                  </a:lnTo>
                  <a:lnTo>
                    <a:pt x="716" y="1722"/>
                  </a:lnTo>
                  <a:lnTo>
                    <a:pt x="751" y="1659"/>
                  </a:lnTo>
                  <a:lnTo>
                    <a:pt x="782" y="1593"/>
                  </a:lnTo>
                  <a:lnTo>
                    <a:pt x="794" y="1560"/>
                  </a:lnTo>
                  <a:lnTo>
                    <a:pt x="804" y="1524"/>
                  </a:lnTo>
                  <a:lnTo>
                    <a:pt x="812" y="1489"/>
                  </a:lnTo>
                  <a:lnTo>
                    <a:pt x="819" y="1451"/>
                  </a:lnTo>
                  <a:lnTo>
                    <a:pt x="824" y="1416"/>
                  </a:lnTo>
                  <a:lnTo>
                    <a:pt x="827" y="1379"/>
                  </a:lnTo>
                  <a:lnTo>
                    <a:pt x="829" y="1341"/>
                  </a:lnTo>
                  <a:lnTo>
                    <a:pt x="827" y="1303"/>
                  </a:lnTo>
                  <a:lnTo>
                    <a:pt x="804" y="880"/>
                  </a:lnTo>
                  <a:lnTo>
                    <a:pt x="799" y="822"/>
                  </a:lnTo>
                  <a:lnTo>
                    <a:pt x="788" y="765"/>
                  </a:lnTo>
                  <a:lnTo>
                    <a:pt x="773" y="709"/>
                  </a:lnTo>
                  <a:lnTo>
                    <a:pt x="755" y="656"/>
                  </a:lnTo>
                  <a:lnTo>
                    <a:pt x="733" y="604"/>
                  </a:lnTo>
                  <a:lnTo>
                    <a:pt x="706" y="553"/>
                  </a:lnTo>
                  <a:lnTo>
                    <a:pt x="673" y="506"/>
                  </a:lnTo>
                  <a:lnTo>
                    <a:pt x="640" y="462"/>
                  </a:lnTo>
                  <a:lnTo>
                    <a:pt x="601" y="420"/>
                  </a:lnTo>
                  <a:lnTo>
                    <a:pt x="560" y="379"/>
                  </a:lnTo>
                  <a:lnTo>
                    <a:pt x="514" y="342"/>
                  </a:lnTo>
                  <a:lnTo>
                    <a:pt x="467" y="310"/>
                  </a:lnTo>
                  <a:lnTo>
                    <a:pt x="416" y="279"/>
                  </a:lnTo>
                  <a:lnTo>
                    <a:pt x="362" y="252"/>
                  </a:lnTo>
                  <a:lnTo>
                    <a:pt x="306" y="230"/>
                  </a:lnTo>
                  <a:lnTo>
                    <a:pt x="249" y="212"/>
                  </a:lnTo>
                  <a:lnTo>
                    <a:pt x="239" y="0"/>
                  </a:lnTo>
                  <a:lnTo>
                    <a:pt x="0" y="393"/>
                  </a:lnTo>
                  <a:lnTo>
                    <a:pt x="283" y="844"/>
                  </a:lnTo>
                  <a:lnTo>
                    <a:pt x="273" y="633"/>
                  </a:lnTo>
                  <a:lnTo>
                    <a:pt x="317" y="646"/>
                  </a:lnTo>
                  <a:lnTo>
                    <a:pt x="359" y="663"/>
                  </a:lnTo>
                  <a:lnTo>
                    <a:pt x="401" y="680"/>
                  </a:lnTo>
                  <a:lnTo>
                    <a:pt x="440" y="700"/>
                  </a:lnTo>
                  <a:lnTo>
                    <a:pt x="479" y="724"/>
                  </a:lnTo>
                  <a:lnTo>
                    <a:pt x="516" y="748"/>
                  </a:lnTo>
                  <a:lnTo>
                    <a:pt x="552" y="775"/>
                  </a:lnTo>
                  <a:lnTo>
                    <a:pt x="586" y="804"/>
                  </a:lnTo>
                  <a:lnTo>
                    <a:pt x="618" y="834"/>
                  </a:lnTo>
                  <a:lnTo>
                    <a:pt x="648" y="866"/>
                  </a:lnTo>
                  <a:lnTo>
                    <a:pt x="675" y="900"/>
                  </a:lnTo>
                  <a:lnTo>
                    <a:pt x="702" y="936"/>
                  </a:lnTo>
                  <a:lnTo>
                    <a:pt x="726" y="973"/>
                  </a:lnTo>
                  <a:lnTo>
                    <a:pt x="748" y="1012"/>
                  </a:lnTo>
                  <a:lnTo>
                    <a:pt x="767" y="1052"/>
                  </a:lnTo>
                  <a:lnTo>
                    <a:pt x="783" y="1093"/>
                  </a:lnTo>
                  <a:lnTo>
                    <a:pt x="783" y="1093"/>
                  </a:lnTo>
                  <a:lnTo>
                    <a:pt x="767" y="1152"/>
                  </a:lnTo>
                  <a:lnTo>
                    <a:pt x="743" y="1208"/>
                  </a:lnTo>
                  <a:lnTo>
                    <a:pt x="716" y="1262"/>
                  </a:lnTo>
                  <a:lnTo>
                    <a:pt x="685" y="1313"/>
                  </a:lnTo>
                  <a:lnTo>
                    <a:pt x="650" y="1362"/>
                  </a:lnTo>
                  <a:lnTo>
                    <a:pt x="611" y="1407"/>
                  </a:lnTo>
                  <a:lnTo>
                    <a:pt x="569" y="1450"/>
                  </a:lnTo>
                  <a:lnTo>
                    <a:pt x="523" y="1489"/>
                  </a:lnTo>
                  <a:lnTo>
                    <a:pt x="474" y="1524"/>
                  </a:lnTo>
                  <a:lnTo>
                    <a:pt x="423" y="1556"/>
                  </a:lnTo>
                  <a:lnTo>
                    <a:pt x="369" y="1583"/>
                  </a:lnTo>
                  <a:lnTo>
                    <a:pt x="312" y="1607"/>
                  </a:lnTo>
                  <a:lnTo>
                    <a:pt x="252" y="1627"/>
                  </a:lnTo>
                  <a:lnTo>
                    <a:pt x="193" y="1642"/>
                  </a:lnTo>
                  <a:lnTo>
                    <a:pt x="131" y="1654"/>
                  </a:lnTo>
                  <a:lnTo>
                    <a:pt x="66" y="1659"/>
                  </a:lnTo>
                  <a:lnTo>
                    <a:pt x="88" y="2081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550000">
              <a:off x="6556320" y="2957400"/>
              <a:ext cx="604800" cy="954000"/>
            </a:xfrm>
            <a:custGeom>
              <a:avLst/>
              <a:gdLst/>
              <a:ahLst/>
              <a:rect l="l" t="t" r="r" b="b"/>
              <a:pathLst>
                <a:path w="763" h="1201">
                  <a:moveTo>
                    <a:pt x="22" y="1201"/>
                  </a:moveTo>
                  <a:lnTo>
                    <a:pt x="63" y="1197"/>
                  </a:lnTo>
                  <a:lnTo>
                    <a:pt x="102" y="1192"/>
                  </a:lnTo>
                  <a:lnTo>
                    <a:pt x="141" y="1185"/>
                  </a:lnTo>
                  <a:lnTo>
                    <a:pt x="178" y="1177"/>
                  </a:lnTo>
                  <a:lnTo>
                    <a:pt x="215" y="1167"/>
                  </a:lnTo>
                  <a:lnTo>
                    <a:pt x="252" y="1155"/>
                  </a:lnTo>
                  <a:lnTo>
                    <a:pt x="322" y="1128"/>
                  </a:lnTo>
                  <a:lnTo>
                    <a:pt x="388" y="1092"/>
                  </a:lnTo>
                  <a:lnTo>
                    <a:pt x="450" y="1052"/>
                  </a:lnTo>
                  <a:lnTo>
                    <a:pt x="508" y="1006"/>
                  </a:lnTo>
                  <a:lnTo>
                    <a:pt x="560" y="957"/>
                  </a:lnTo>
                  <a:lnTo>
                    <a:pt x="607" y="901"/>
                  </a:lnTo>
                  <a:lnTo>
                    <a:pt x="650" y="842"/>
                  </a:lnTo>
                  <a:lnTo>
                    <a:pt x="685" y="779"/>
                  </a:lnTo>
                  <a:lnTo>
                    <a:pt x="716" y="713"/>
                  </a:lnTo>
                  <a:lnTo>
                    <a:pt x="728" y="680"/>
                  </a:lnTo>
                  <a:lnTo>
                    <a:pt x="738" y="644"/>
                  </a:lnTo>
                  <a:lnTo>
                    <a:pt x="746" y="609"/>
                  </a:lnTo>
                  <a:lnTo>
                    <a:pt x="753" y="571"/>
                  </a:lnTo>
                  <a:lnTo>
                    <a:pt x="758" y="536"/>
                  </a:lnTo>
                  <a:lnTo>
                    <a:pt x="761" y="499"/>
                  </a:lnTo>
                  <a:lnTo>
                    <a:pt x="763" y="461"/>
                  </a:lnTo>
                  <a:lnTo>
                    <a:pt x="761" y="423"/>
                  </a:lnTo>
                  <a:lnTo>
                    <a:pt x="738" y="0"/>
                  </a:lnTo>
                  <a:lnTo>
                    <a:pt x="739" y="39"/>
                  </a:lnTo>
                  <a:lnTo>
                    <a:pt x="738" y="76"/>
                  </a:lnTo>
                  <a:lnTo>
                    <a:pt x="734" y="113"/>
                  </a:lnTo>
                  <a:lnTo>
                    <a:pt x="729" y="149"/>
                  </a:lnTo>
                  <a:lnTo>
                    <a:pt x="722" y="186"/>
                  </a:lnTo>
                  <a:lnTo>
                    <a:pt x="714" y="221"/>
                  </a:lnTo>
                  <a:lnTo>
                    <a:pt x="704" y="257"/>
                  </a:lnTo>
                  <a:lnTo>
                    <a:pt x="692" y="291"/>
                  </a:lnTo>
                  <a:lnTo>
                    <a:pt x="679" y="324"/>
                  </a:lnTo>
                  <a:lnTo>
                    <a:pt x="663" y="357"/>
                  </a:lnTo>
                  <a:lnTo>
                    <a:pt x="628" y="419"/>
                  </a:lnTo>
                  <a:lnTo>
                    <a:pt x="585" y="478"/>
                  </a:lnTo>
                  <a:lnTo>
                    <a:pt x="538" y="534"/>
                  </a:lnTo>
                  <a:lnTo>
                    <a:pt x="486" y="585"/>
                  </a:lnTo>
                  <a:lnTo>
                    <a:pt x="428" y="631"/>
                  </a:lnTo>
                  <a:lnTo>
                    <a:pt x="366" y="669"/>
                  </a:lnTo>
                  <a:lnTo>
                    <a:pt x="300" y="705"/>
                  </a:lnTo>
                  <a:lnTo>
                    <a:pt x="230" y="734"/>
                  </a:lnTo>
                  <a:lnTo>
                    <a:pt x="193" y="746"/>
                  </a:lnTo>
                  <a:lnTo>
                    <a:pt x="156" y="756"/>
                  </a:lnTo>
                  <a:lnTo>
                    <a:pt x="119" y="764"/>
                  </a:lnTo>
                  <a:lnTo>
                    <a:pt x="80" y="771"/>
                  </a:lnTo>
                  <a:lnTo>
                    <a:pt x="41" y="776"/>
                  </a:lnTo>
                  <a:lnTo>
                    <a:pt x="0" y="779"/>
                  </a:lnTo>
                  <a:lnTo>
                    <a:pt x="22" y="1201"/>
                  </a:lnTo>
                  <a:close/>
                </a:path>
              </a:pathLst>
            </a:custGeom>
            <a:solidFill>
              <a:srgbClr val="cdcd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0550000">
              <a:off x="6400800" y="2284560"/>
              <a:ext cx="657000" cy="1650960"/>
            </a:xfrm>
            <a:custGeom>
              <a:avLst/>
              <a:gdLst/>
              <a:ahLst/>
              <a:rect l="l" t="t" r="r" b="b"/>
              <a:pathLst>
                <a:path w="829" h="2081">
                  <a:moveTo>
                    <a:pt x="88" y="2081"/>
                  </a:moveTo>
                  <a:lnTo>
                    <a:pt x="129" y="2077"/>
                  </a:lnTo>
                  <a:lnTo>
                    <a:pt x="168" y="2072"/>
                  </a:lnTo>
                  <a:lnTo>
                    <a:pt x="207" y="2065"/>
                  </a:lnTo>
                  <a:lnTo>
                    <a:pt x="244" y="2057"/>
                  </a:lnTo>
                  <a:lnTo>
                    <a:pt x="281" y="2047"/>
                  </a:lnTo>
                  <a:lnTo>
                    <a:pt x="318" y="2035"/>
                  </a:lnTo>
                  <a:lnTo>
                    <a:pt x="388" y="2008"/>
                  </a:lnTo>
                  <a:lnTo>
                    <a:pt x="454" y="1972"/>
                  </a:lnTo>
                  <a:lnTo>
                    <a:pt x="516" y="1932"/>
                  </a:lnTo>
                  <a:lnTo>
                    <a:pt x="574" y="1886"/>
                  </a:lnTo>
                  <a:lnTo>
                    <a:pt x="626" y="1837"/>
                  </a:lnTo>
                  <a:lnTo>
                    <a:pt x="673" y="1781"/>
                  </a:lnTo>
                  <a:lnTo>
                    <a:pt x="716" y="1722"/>
                  </a:lnTo>
                  <a:lnTo>
                    <a:pt x="751" y="1659"/>
                  </a:lnTo>
                  <a:lnTo>
                    <a:pt x="782" y="1593"/>
                  </a:lnTo>
                  <a:lnTo>
                    <a:pt x="794" y="1560"/>
                  </a:lnTo>
                  <a:lnTo>
                    <a:pt x="804" y="1524"/>
                  </a:lnTo>
                  <a:lnTo>
                    <a:pt x="812" y="1489"/>
                  </a:lnTo>
                  <a:lnTo>
                    <a:pt x="819" y="1451"/>
                  </a:lnTo>
                  <a:lnTo>
                    <a:pt x="824" y="1416"/>
                  </a:lnTo>
                  <a:lnTo>
                    <a:pt x="827" y="1379"/>
                  </a:lnTo>
                  <a:lnTo>
                    <a:pt x="829" y="1341"/>
                  </a:lnTo>
                  <a:lnTo>
                    <a:pt x="827" y="1303"/>
                  </a:lnTo>
                  <a:lnTo>
                    <a:pt x="804" y="880"/>
                  </a:lnTo>
                  <a:lnTo>
                    <a:pt x="799" y="822"/>
                  </a:lnTo>
                  <a:lnTo>
                    <a:pt x="788" y="765"/>
                  </a:lnTo>
                  <a:lnTo>
                    <a:pt x="773" y="709"/>
                  </a:lnTo>
                  <a:lnTo>
                    <a:pt x="755" y="656"/>
                  </a:lnTo>
                  <a:lnTo>
                    <a:pt x="733" y="604"/>
                  </a:lnTo>
                  <a:lnTo>
                    <a:pt x="706" y="553"/>
                  </a:lnTo>
                  <a:lnTo>
                    <a:pt x="673" y="506"/>
                  </a:lnTo>
                  <a:lnTo>
                    <a:pt x="640" y="462"/>
                  </a:lnTo>
                  <a:lnTo>
                    <a:pt x="601" y="420"/>
                  </a:lnTo>
                  <a:lnTo>
                    <a:pt x="560" y="379"/>
                  </a:lnTo>
                  <a:lnTo>
                    <a:pt x="514" y="342"/>
                  </a:lnTo>
                  <a:lnTo>
                    <a:pt x="467" y="310"/>
                  </a:lnTo>
                  <a:lnTo>
                    <a:pt x="416" y="279"/>
                  </a:lnTo>
                  <a:lnTo>
                    <a:pt x="362" y="252"/>
                  </a:lnTo>
                  <a:lnTo>
                    <a:pt x="306" y="230"/>
                  </a:lnTo>
                  <a:lnTo>
                    <a:pt x="249" y="212"/>
                  </a:lnTo>
                  <a:lnTo>
                    <a:pt x="239" y="0"/>
                  </a:lnTo>
                  <a:lnTo>
                    <a:pt x="0" y="393"/>
                  </a:lnTo>
                  <a:lnTo>
                    <a:pt x="283" y="844"/>
                  </a:lnTo>
                  <a:lnTo>
                    <a:pt x="273" y="633"/>
                  </a:lnTo>
                  <a:lnTo>
                    <a:pt x="317" y="646"/>
                  </a:lnTo>
                  <a:lnTo>
                    <a:pt x="359" y="663"/>
                  </a:lnTo>
                  <a:lnTo>
                    <a:pt x="401" y="680"/>
                  </a:lnTo>
                  <a:lnTo>
                    <a:pt x="440" y="700"/>
                  </a:lnTo>
                  <a:lnTo>
                    <a:pt x="479" y="724"/>
                  </a:lnTo>
                  <a:lnTo>
                    <a:pt x="516" y="748"/>
                  </a:lnTo>
                  <a:lnTo>
                    <a:pt x="552" y="775"/>
                  </a:lnTo>
                  <a:lnTo>
                    <a:pt x="586" y="804"/>
                  </a:lnTo>
                  <a:lnTo>
                    <a:pt x="618" y="834"/>
                  </a:lnTo>
                  <a:lnTo>
                    <a:pt x="648" y="866"/>
                  </a:lnTo>
                  <a:lnTo>
                    <a:pt x="675" y="900"/>
                  </a:lnTo>
                  <a:lnTo>
                    <a:pt x="702" y="936"/>
                  </a:lnTo>
                  <a:lnTo>
                    <a:pt x="726" y="973"/>
                  </a:lnTo>
                  <a:lnTo>
                    <a:pt x="748" y="1012"/>
                  </a:lnTo>
                  <a:lnTo>
                    <a:pt x="767" y="1052"/>
                  </a:lnTo>
                  <a:lnTo>
                    <a:pt x="783" y="1093"/>
                  </a:lnTo>
                  <a:lnTo>
                    <a:pt x="783" y="1093"/>
                  </a:lnTo>
                  <a:lnTo>
                    <a:pt x="767" y="1152"/>
                  </a:lnTo>
                  <a:lnTo>
                    <a:pt x="743" y="1208"/>
                  </a:lnTo>
                  <a:lnTo>
                    <a:pt x="716" y="1262"/>
                  </a:lnTo>
                  <a:lnTo>
                    <a:pt x="685" y="1313"/>
                  </a:lnTo>
                  <a:lnTo>
                    <a:pt x="650" y="1362"/>
                  </a:lnTo>
                  <a:lnTo>
                    <a:pt x="611" y="1407"/>
                  </a:lnTo>
                  <a:lnTo>
                    <a:pt x="569" y="1450"/>
                  </a:lnTo>
                  <a:lnTo>
                    <a:pt x="523" y="1489"/>
                  </a:lnTo>
                  <a:lnTo>
                    <a:pt x="474" y="1524"/>
                  </a:lnTo>
                  <a:lnTo>
                    <a:pt x="423" y="1556"/>
                  </a:lnTo>
                  <a:lnTo>
                    <a:pt x="369" y="1583"/>
                  </a:lnTo>
                  <a:lnTo>
                    <a:pt x="312" y="1607"/>
                  </a:lnTo>
                  <a:lnTo>
                    <a:pt x="252" y="1627"/>
                  </a:lnTo>
                  <a:lnTo>
                    <a:pt x="193" y="1642"/>
                  </a:lnTo>
                  <a:lnTo>
                    <a:pt x="131" y="1654"/>
                  </a:lnTo>
                  <a:lnTo>
                    <a:pt x="66" y="1659"/>
                  </a:lnTo>
                  <a:lnTo>
                    <a:pt x="88" y="20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550000">
              <a:off x="6994080" y="2892960"/>
              <a:ext cx="17280" cy="169920"/>
            </a:xfrm>
            <a:custGeom>
              <a:avLst/>
              <a:gdLst/>
              <a:ahLst/>
              <a:rect l="l" t="t" r="r" b="b"/>
              <a:pathLst>
                <a:path w="22" h="213">
                  <a:moveTo>
                    <a:pt x="21" y="0"/>
                  </a:moveTo>
                  <a:lnTo>
                    <a:pt x="22" y="54"/>
                  </a:lnTo>
                  <a:lnTo>
                    <a:pt x="19" y="106"/>
                  </a:lnTo>
                  <a:lnTo>
                    <a:pt x="12" y="160"/>
                  </a:lnTo>
                  <a:lnTo>
                    <a:pt x="0" y="21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477120" y="2057400"/>
            <a:ext cx="1371600" cy="2285640"/>
            <a:chOff x="6477120" y="2057400"/>
            <a:chExt cx="1371600" cy="2285640"/>
          </a:xfrm>
        </p:grpSpPr>
        <p:grpSp>
          <p:nvGrpSpPr>
            <p:cNvPr id="412" name=""/>
            <p:cNvGrpSpPr/>
            <p:nvPr/>
          </p:nvGrpSpPr>
          <p:grpSpPr>
            <a:xfrm>
              <a:off x="6477120" y="2057400"/>
              <a:ext cx="1371600" cy="574560"/>
              <a:chOff x="6477120" y="2057400"/>
              <a:chExt cx="1371600" cy="574560"/>
            </a:xfrm>
          </p:grpSpPr>
          <p:sp>
            <p:nvSpPr>
              <p:cNvPr id="413" name=""/>
              <p:cNvSpPr/>
              <p:nvPr/>
            </p:nvSpPr>
            <p:spPr>
              <a:xfrm>
                <a:off x="6477120" y="2057400"/>
                <a:ext cx="1371600" cy="480960"/>
              </a:xfrm>
              <a:prstGeom prst="cloudCallout">
                <a:avLst>
                  <a:gd name="adj1" fmla="val 4277"/>
                  <a:gd name="adj2" fmla="val 134953"/>
                </a:avLst>
              </a:prstGeom>
              <a:solidFill>
                <a:srgbClr val="00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21480" y="2111760"/>
                <a:ext cx="1084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33cc"/>
                    </a:solidFill>
                    <a:latin typeface="Comic Sans MS"/>
                  </a:rPr>
                  <a:t>Percep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851160" y="2963160"/>
              <a:ext cx="706680" cy="1379880"/>
              <a:chOff x="6851160" y="2963160"/>
              <a:chExt cx="706680" cy="1379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51160" y="2963160"/>
                <a:ext cx="706680" cy="1379880"/>
              </a:xfrm>
              <a:custGeom>
                <a:avLst/>
                <a:gdLst/>
                <a:ahLst/>
                <a:rect l="l" t="t" r="r" b="b"/>
                <a:pathLst>
                  <a:path w="2480" h="3396">
                    <a:moveTo>
                      <a:pt x="2480" y="3396"/>
                    </a:moveTo>
                    <a:lnTo>
                      <a:pt x="2324" y="3396"/>
                    </a:lnTo>
                    <a:lnTo>
                      <a:pt x="2170" y="3396"/>
                    </a:lnTo>
                    <a:lnTo>
                      <a:pt x="2009" y="3396"/>
                    </a:lnTo>
                    <a:lnTo>
                      <a:pt x="1849" y="3396"/>
                    </a:lnTo>
                    <a:lnTo>
                      <a:pt x="1686" y="3396"/>
                    </a:lnTo>
                    <a:lnTo>
                      <a:pt x="1522" y="3396"/>
                    </a:lnTo>
                    <a:lnTo>
                      <a:pt x="1361" y="3396"/>
                    </a:lnTo>
                    <a:lnTo>
                      <a:pt x="1199" y="3396"/>
                    </a:lnTo>
                    <a:lnTo>
                      <a:pt x="1036" y="3396"/>
                    </a:lnTo>
                    <a:lnTo>
                      <a:pt x="876" y="3396"/>
                    </a:lnTo>
                    <a:lnTo>
                      <a:pt x="718" y="3396"/>
                    </a:lnTo>
                    <a:lnTo>
                      <a:pt x="566" y="3396"/>
                    </a:lnTo>
                    <a:lnTo>
                      <a:pt x="416" y="3396"/>
                    </a:lnTo>
                    <a:lnTo>
                      <a:pt x="271" y="3396"/>
                    </a:lnTo>
                    <a:lnTo>
                      <a:pt x="129" y="3396"/>
                    </a:lnTo>
                    <a:lnTo>
                      <a:pt x="0" y="3396"/>
                    </a:lnTo>
                    <a:lnTo>
                      <a:pt x="26" y="3375"/>
                    </a:lnTo>
                    <a:lnTo>
                      <a:pt x="66" y="3301"/>
                    </a:lnTo>
                    <a:lnTo>
                      <a:pt x="108" y="3215"/>
                    </a:lnTo>
                    <a:lnTo>
                      <a:pt x="159" y="3122"/>
                    </a:lnTo>
                    <a:lnTo>
                      <a:pt x="212" y="3016"/>
                    </a:lnTo>
                    <a:lnTo>
                      <a:pt x="271" y="2909"/>
                    </a:lnTo>
                    <a:lnTo>
                      <a:pt x="328" y="2797"/>
                    </a:lnTo>
                    <a:lnTo>
                      <a:pt x="387" y="2687"/>
                    </a:lnTo>
                    <a:lnTo>
                      <a:pt x="442" y="2579"/>
                    </a:lnTo>
                    <a:lnTo>
                      <a:pt x="496" y="2476"/>
                    </a:lnTo>
                    <a:lnTo>
                      <a:pt x="545" y="2381"/>
                    </a:lnTo>
                    <a:lnTo>
                      <a:pt x="591" y="2299"/>
                    </a:lnTo>
                    <a:lnTo>
                      <a:pt x="625" y="2229"/>
                    </a:lnTo>
                    <a:lnTo>
                      <a:pt x="655" y="2178"/>
                    </a:lnTo>
                    <a:lnTo>
                      <a:pt x="672" y="2144"/>
                    </a:lnTo>
                    <a:lnTo>
                      <a:pt x="678" y="2134"/>
                    </a:lnTo>
                    <a:lnTo>
                      <a:pt x="298" y="1868"/>
                    </a:lnTo>
                    <a:lnTo>
                      <a:pt x="397" y="699"/>
                    </a:lnTo>
                    <a:lnTo>
                      <a:pt x="998" y="338"/>
                    </a:lnTo>
                    <a:lnTo>
                      <a:pt x="1226" y="0"/>
                    </a:lnTo>
                    <a:lnTo>
                      <a:pt x="1980" y="482"/>
                    </a:lnTo>
                    <a:lnTo>
                      <a:pt x="2461" y="1060"/>
                    </a:lnTo>
                    <a:lnTo>
                      <a:pt x="2275" y="2153"/>
                    </a:lnTo>
                    <a:lnTo>
                      <a:pt x="2448" y="2358"/>
                    </a:lnTo>
                    <a:lnTo>
                      <a:pt x="2448" y="2368"/>
                    </a:lnTo>
                    <a:lnTo>
                      <a:pt x="2448" y="2398"/>
                    </a:lnTo>
                    <a:lnTo>
                      <a:pt x="2450" y="2442"/>
                    </a:lnTo>
                    <a:lnTo>
                      <a:pt x="2452" y="2505"/>
                    </a:lnTo>
                    <a:lnTo>
                      <a:pt x="2454" y="2575"/>
                    </a:lnTo>
                    <a:lnTo>
                      <a:pt x="2457" y="2657"/>
                    </a:lnTo>
                    <a:lnTo>
                      <a:pt x="2459" y="2744"/>
                    </a:lnTo>
                    <a:lnTo>
                      <a:pt x="2463" y="2837"/>
                    </a:lnTo>
                    <a:lnTo>
                      <a:pt x="2465" y="2930"/>
                    </a:lnTo>
                    <a:lnTo>
                      <a:pt x="2467" y="3022"/>
                    </a:lnTo>
                    <a:lnTo>
                      <a:pt x="2469" y="3113"/>
                    </a:lnTo>
                    <a:lnTo>
                      <a:pt x="2473" y="3198"/>
                    </a:lnTo>
                    <a:lnTo>
                      <a:pt x="2474" y="3274"/>
                    </a:lnTo>
                    <a:lnTo>
                      <a:pt x="2476" y="3341"/>
                    </a:lnTo>
                    <a:lnTo>
                      <a:pt x="2478" y="3394"/>
                    </a:lnTo>
                    <a:lnTo>
                      <a:pt x="2480" y="3396"/>
                    </a:lnTo>
                    <a:lnTo>
                      <a:pt x="2480" y="339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899040" y="3043440"/>
                <a:ext cx="624600" cy="1299240"/>
              </a:xfrm>
              <a:custGeom>
                <a:avLst/>
                <a:gdLst/>
                <a:ahLst/>
                <a:rect l="l" t="t" r="r" b="b"/>
                <a:pathLst>
                  <a:path w="2193" h="3199">
                    <a:moveTo>
                      <a:pt x="0" y="3199"/>
                    </a:moveTo>
                    <a:lnTo>
                      <a:pt x="2053" y="3199"/>
                    </a:lnTo>
                    <a:lnTo>
                      <a:pt x="2193" y="2522"/>
                    </a:lnTo>
                    <a:lnTo>
                      <a:pt x="1952" y="1718"/>
                    </a:lnTo>
                    <a:lnTo>
                      <a:pt x="2108" y="1696"/>
                    </a:lnTo>
                    <a:lnTo>
                      <a:pt x="2161" y="768"/>
                    </a:lnTo>
                    <a:lnTo>
                      <a:pt x="1452" y="255"/>
                    </a:lnTo>
                    <a:lnTo>
                      <a:pt x="1494" y="152"/>
                    </a:lnTo>
                    <a:lnTo>
                      <a:pt x="992" y="0"/>
                    </a:lnTo>
                    <a:lnTo>
                      <a:pt x="863" y="350"/>
                    </a:lnTo>
                    <a:lnTo>
                      <a:pt x="283" y="702"/>
                    </a:lnTo>
                    <a:lnTo>
                      <a:pt x="217" y="1346"/>
                    </a:lnTo>
                    <a:lnTo>
                      <a:pt x="329" y="1751"/>
                    </a:lnTo>
                    <a:lnTo>
                      <a:pt x="699" y="1642"/>
                    </a:lnTo>
                    <a:lnTo>
                      <a:pt x="329" y="2625"/>
                    </a:lnTo>
                    <a:lnTo>
                      <a:pt x="131" y="2756"/>
                    </a:lnTo>
                    <a:lnTo>
                      <a:pt x="0" y="3199"/>
                    </a:lnTo>
                    <a:lnTo>
                      <a:pt x="0" y="319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239600" y="3542400"/>
                <a:ext cx="185400" cy="800280"/>
              </a:xfrm>
              <a:custGeom>
                <a:avLst/>
                <a:gdLst/>
                <a:ahLst/>
                <a:rect l="l" t="t" r="r" b="b"/>
                <a:pathLst>
                  <a:path w="652" h="1969">
                    <a:moveTo>
                      <a:pt x="105" y="544"/>
                    </a:moveTo>
                    <a:lnTo>
                      <a:pt x="97" y="0"/>
                    </a:lnTo>
                    <a:lnTo>
                      <a:pt x="652" y="1099"/>
                    </a:lnTo>
                    <a:lnTo>
                      <a:pt x="647" y="1106"/>
                    </a:lnTo>
                    <a:lnTo>
                      <a:pt x="633" y="1131"/>
                    </a:lnTo>
                    <a:lnTo>
                      <a:pt x="613" y="1169"/>
                    </a:lnTo>
                    <a:lnTo>
                      <a:pt x="588" y="1222"/>
                    </a:lnTo>
                    <a:lnTo>
                      <a:pt x="556" y="1281"/>
                    </a:lnTo>
                    <a:lnTo>
                      <a:pt x="519" y="1349"/>
                    </a:lnTo>
                    <a:lnTo>
                      <a:pt x="479" y="1422"/>
                    </a:lnTo>
                    <a:lnTo>
                      <a:pt x="441" y="1501"/>
                    </a:lnTo>
                    <a:lnTo>
                      <a:pt x="398" y="1579"/>
                    </a:lnTo>
                    <a:lnTo>
                      <a:pt x="358" y="1657"/>
                    </a:lnTo>
                    <a:lnTo>
                      <a:pt x="316" y="1733"/>
                    </a:lnTo>
                    <a:lnTo>
                      <a:pt x="282" y="1804"/>
                    </a:lnTo>
                    <a:lnTo>
                      <a:pt x="246" y="1868"/>
                    </a:lnTo>
                    <a:lnTo>
                      <a:pt x="219" y="1923"/>
                    </a:lnTo>
                    <a:lnTo>
                      <a:pt x="194" y="1967"/>
                    </a:lnTo>
                    <a:lnTo>
                      <a:pt x="177" y="1969"/>
                    </a:lnTo>
                    <a:lnTo>
                      <a:pt x="166" y="1969"/>
                    </a:lnTo>
                    <a:lnTo>
                      <a:pt x="156" y="1969"/>
                    </a:lnTo>
                    <a:lnTo>
                      <a:pt x="143" y="1969"/>
                    </a:lnTo>
                    <a:lnTo>
                      <a:pt x="134" y="1969"/>
                    </a:lnTo>
                    <a:lnTo>
                      <a:pt x="120" y="1969"/>
                    </a:lnTo>
                    <a:lnTo>
                      <a:pt x="111" y="1969"/>
                    </a:lnTo>
                    <a:lnTo>
                      <a:pt x="99" y="1969"/>
                    </a:lnTo>
                    <a:lnTo>
                      <a:pt x="90" y="1969"/>
                    </a:lnTo>
                    <a:lnTo>
                      <a:pt x="77" y="1969"/>
                    </a:lnTo>
                    <a:lnTo>
                      <a:pt x="65" y="1969"/>
                    </a:lnTo>
                    <a:lnTo>
                      <a:pt x="52" y="1969"/>
                    </a:lnTo>
                    <a:lnTo>
                      <a:pt x="42" y="1969"/>
                    </a:lnTo>
                    <a:lnTo>
                      <a:pt x="31" y="1969"/>
                    </a:lnTo>
                    <a:lnTo>
                      <a:pt x="21" y="1969"/>
                    </a:lnTo>
                    <a:lnTo>
                      <a:pt x="10" y="1969"/>
                    </a:lnTo>
                    <a:lnTo>
                      <a:pt x="0" y="1969"/>
                    </a:lnTo>
                    <a:lnTo>
                      <a:pt x="6" y="1969"/>
                    </a:lnTo>
                    <a:lnTo>
                      <a:pt x="16" y="1939"/>
                    </a:lnTo>
                    <a:lnTo>
                      <a:pt x="29" y="1889"/>
                    </a:lnTo>
                    <a:lnTo>
                      <a:pt x="50" y="1830"/>
                    </a:lnTo>
                    <a:lnTo>
                      <a:pt x="69" y="1762"/>
                    </a:lnTo>
                    <a:lnTo>
                      <a:pt x="92" y="1692"/>
                    </a:lnTo>
                    <a:lnTo>
                      <a:pt x="115" y="1615"/>
                    </a:lnTo>
                    <a:lnTo>
                      <a:pt x="137" y="1541"/>
                    </a:lnTo>
                    <a:lnTo>
                      <a:pt x="158" y="1463"/>
                    </a:lnTo>
                    <a:lnTo>
                      <a:pt x="181" y="1393"/>
                    </a:lnTo>
                    <a:lnTo>
                      <a:pt x="202" y="1325"/>
                    </a:lnTo>
                    <a:lnTo>
                      <a:pt x="221" y="1268"/>
                    </a:lnTo>
                    <a:lnTo>
                      <a:pt x="236" y="1214"/>
                    </a:lnTo>
                    <a:lnTo>
                      <a:pt x="248" y="1176"/>
                    </a:lnTo>
                    <a:lnTo>
                      <a:pt x="257" y="1152"/>
                    </a:lnTo>
                    <a:lnTo>
                      <a:pt x="261" y="1144"/>
                    </a:lnTo>
                    <a:lnTo>
                      <a:pt x="105" y="544"/>
                    </a:lnTo>
                    <a:lnTo>
                      <a:pt x="105" y="5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59400" y="3407400"/>
                <a:ext cx="170640" cy="935280"/>
              </a:xfrm>
              <a:custGeom>
                <a:avLst/>
                <a:gdLst/>
                <a:ahLst/>
                <a:rect l="l" t="t" r="r" b="b"/>
                <a:pathLst>
                  <a:path w="600" h="2302">
                    <a:moveTo>
                      <a:pt x="57" y="561"/>
                    </a:moveTo>
                    <a:lnTo>
                      <a:pt x="57" y="0"/>
                    </a:lnTo>
                    <a:lnTo>
                      <a:pt x="568" y="1249"/>
                    </a:lnTo>
                    <a:lnTo>
                      <a:pt x="600" y="1914"/>
                    </a:lnTo>
                    <a:lnTo>
                      <a:pt x="597" y="1918"/>
                    </a:lnTo>
                    <a:lnTo>
                      <a:pt x="589" y="1929"/>
                    </a:lnTo>
                    <a:lnTo>
                      <a:pt x="572" y="1947"/>
                    </a:lnTo>
                    <a:lnTo>
                      <a:pt x="557" y="1971"/>
                    </a:lnTo>
                    <a:lnTo>
                      <a:pt x="534" y="1998"/>
                    </a:lnTo>
                    <a:lnTo>
                      <a:pt x="511" y="2030"/>
                    </a:lnTo>
                    <a:lnTo>
                      <a:pt x="485" y="2066"/>
                    </a:lnTo>
                    <a:lnTo>
                      <a:pt x="462" y="2102"/>
                    </a:lnTo>
                    <a:lnTo>
                      <a:pt x="433" y="2139"/>
                    </a:lnTo>
                    <a:lnTo>
                      <a:pt x="405" y="2177"/>
                    </a:lnTo>
                    <a:lnTo>
                      <a:pt x="380" y="2209"/>
                    </a:lnTo>
                    <a:lnTo>
                      <a:pt x="357" y="2243"/>
                    </a:lnTo>
                    <a:lnTo>
                      <a:pt x="334" y="2272"/>
                    </a:lnTo>
                    <a:lnTo>
                      <a:pt x="315" y="2298"/>
                    </a:lnTo>
                    <a:lnTo>
                      <a:pt x="298" y="2302"/>
                    </a:lnTo>
                    <a:lnTo>
                      <a:pt x="291" y="2302"/>
                    </a:lnTo>
                    <a:lnTo>
                      <a:pt x="272" y="2302"/>
                    </a:lnTo>
                    <a:lnTo>
                      <a:pt x="255" y="2302"/>
                    </a:lnTo>
                    <a:lnTo>
                      <a:pt x="236" y="2302"/>
                    </a:lnTo>
                    <a:lnTo>
                      <a:pt x="220" y="2302"/>
                    </a:lnTo>
                    <a:lnTo>
                      <a:pt x="201" y="2302"/>
                    </a:lnTo>
                    <a:lnTo>
                      <a:pt x="184" y="2302"/>
                    </a:lnTo>
                    <a:lnTo>
                      <a:pt x="167" y="2302"/>
                    </a:lnTo>
                    <a:lnTo>
                      <a:pt x="148" y="2302"/>
                    </a:lnTo>
                    <a:lnTo>
                      <a:pt x="129" y="2302"/>
                    </a:lnTo>
                    <a:lnTo>
                      <a:pt x="110" y="2302"/>
                    </a:lnTo>
                    <a:lnTo>
                      <a:pt x="91" y="2302"/>
                    </a:lnTo>
                    <a:lnTo>
                      <a:pt x="74" y="2302"/>
                    </a:lnTo>
                    <a:lnTo>
                      <a:pt x="55" y="2302"/>
                    </a:lnTo>
                    <a:lnTo>
                      <a:pt x="36" y="2302"/>
                    </a:lnTo>
                    <a:lnTo>
                      <a:pt x="17" y="2302"/>
                    </a:lnTo>
                    <a:lnTo>
                      <a:pt x="0" y="2302"/>
                    </a:lnTo>
                    <a:lnTo>
                      <a:pt x="9" y="2302"/>
                    </a:lnTo>
                    <a:lnTo>
                      <a:pt x="25" y="2272"/>
                    </a:lnTo>
                    <a:lnTo>
                      <a:pt x="44" y="2230"/>
                    </a:lnTo>
                    <a:lnTo>
                      <a:pt x="66" y="2182"/>
                    </a:lnTo>
                    <a:lnTo>
                      <a:pt x="89" y="2131"/>
                    </a:lnTo>
                    <a:lnTo>
                      <a:pt x="116" y="2074"/>
                    </a:lnTo>
                    <a:lnTo>
                      <a:pt x="142" y="2017"/>
                    </a:lnTo>
                    <a:lnTo>
                      <a:pt x="169" y="1962"/>
                    </a:lnTo>
                    <a:lnTo>
                      <a:pt x="194" y="1903"/>
                    </a:lnTo>
                    <a:lnTo>
                      <a:pt x="220" y="1852"/>
                    </a:lnTo>
                    <a:lnTo>
                      <a:pt x="243" y="1802"/>
                    </a:lnTo>
                    <a:lnTo>
                      <a:pt x="264" y="1760"/>
                    </a:lnTo>
                    <a:lnTo>
                      <a:pt x="279" y="1722"/>
                    </a:lnTo>
                    <a:lnTo>
                      <a:pt x="294" y="1696"/>
                    </a:lnTo>
                    <a:lnTo>
                      <a:pt x="302" y="1679"/>
                    </a:lnTo>
                    <a:lnTo>
                      <a:pt x="306" y="1673"/>
                    </a:lnTo>
                    <a:lnTo>
                      <a:pt x="306" y="1304"/>
                    </a:lnTo>
                    <a:lnTo>
                      <a:pt x="57" y="561"/>
                    </a:lnTo>
                    <a:lnTo>
                      <a:pt x="57" y="561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97560" y="3462120"/>
                <a:ext cx="154800" cy="880920"/>
              </a:xfrm>
              <a:custGeom>
                <a:avLst/>
                <a:gdLst/>
                <a:ahLst/>
                <a:rect l="l" t="t" r="r" b="b"/>
                <a:pathLst>
                  <a:path w="543" h="2169">
                    <a:moveTo>
                      <a:pt x="0" y="80"/>
                    </a:moveTo>
                    <a:lnTo>
                      <a:pt x="97" y="0"/>
                    </a:lnTo>
                    <a:lnTo>
                      <a:pt x="338" y="502"/>
                    </a:lnTo>
                    <a:lnTo>
                      <a:pt x="543" y="1126"/>
                    </a:lnTo>
                    <a:lnTo>
                      <a:pt x="532" y="1563"/>
                    </a:lnTo>
                    <a:lnTo>
                      <a:pt x="528" y="1568"/>
                    </a:lnTo>
                    <a:lnTo>
                      <a:pt x="521" y="1586"/>
                    </a:lnTo>
                    <a:lnTo>
                      <a:pt x="511" y="1610"/>
                    </a:lnTo>
                    <a:lnTo>
                      <a:pt x="498" y="1646"/>
                    </a:lnTo>
                    <a:lnTo>
                      <a:pt x="481" y="1688"/>
                    </a:lnTo>
                    <a:lnTo>
                      <a:pt x="464" y="1736"/>
                    </a:lnTo>
                    <a:lnTo>
                      <a:pt x="445" y="1787"/>
                    </a:lnTo>
                    <a:lnTo>
                      <a:pt x="426" y="1842"/>
                    </a:lnTo>
                    <a:lnTo>
                      <a:pt x="403" y="1895"/>
                    </a:lnTo>
                    <a:lnTo>
                      <a:pt x="382" y="1950"/>
                    </a:lnTo>
                    <a:lnTo>
                      <a:pt x="361" y="2004"/>
                    </a:lnTo>
                    <a:lnTo>
                      <a:pt x="344" y="2055"/>
                    </a:lnTo>
                    <a:lnTo>
                      <a:pt x="325" y="2101"/>
                    </a:lnTo>
                    <a:lnTo>
                      <a:pt x="310" y="2140"/>
                    </a:lnTo>
                    <a:lnTo>
                      <a:pt x="298" y="2169"/>
                    </a:lnTo>
                    <a:lnTo>
                      <a:pt x="291" y="2169"/>
                    </a:lnTo>
                    <a:lnTo>
                      <a:pt x="277" y="2169"/>
                    </a:lnTo>
                    <a:lnTo>
                      <a:pt x="264" y="2169"/>
                    </a:lnTo>
                    <a:lnTo>
                      <a:pt x="249" y="2169"/>
                    </a:lnTo>
                    <a:lnTo>
                      <a:pt x="237" y="2169"/>
                    </a:lnTo>
                    <a:lnTo>
                      <a:pt x="224" y="2169"/>
                    </a:lnTo>
                    <a:lnTo>
                      <a:pt x="209" y="2169"/>
                    </a:lnTo>
                    <a:lnTo>
                      <a:pt x="196" y="2169"/>
                    </a:lnTo>
                    <a:lnTo>
                      <a:pt x="182" y="2169"/>
                    </a:lnTo>
                    <a:lnTo>
                      <a:pt x="167" y="2169"/>
                    </a:lnTo>
                    <a:lnTo>
                      <a:pt x="154" y="2169"/>
                    </a:lnTo>
                    <a:lnTo>
                      <a:pt x="139" y="2169"/>
                    </a:lnTo>
                    <a:lnTo>
                      <a:pt x="123" y="2169"/>
                    </a:lnTo>
                    <a:lnTo>
                      <a:pt x="108" y="2169"/>
                    </a:lnTo>
                    <a:lnTo>
                      <a:pt x="95" y="2169"/>
                    </a:lnTo>
                    <a:lnTo>
                      <a:pt x="80" y="2169"/>
                    </a:lnTo>
                    <a:lnTo>
                      <a:pt x="66" y="2169"/>
                    </a:lnTo>
                    <a:lnTo>
                      <a:pt x="68" y="2169"/>
                    </a:lnTo>
                    <a:lnTo>
                      <a:pt x="72" y="2163"/>
                    </a:lnTo>
                    <a:lnTo>
                      <a:pt x="76" y="2139"/>
                    </a:lnTo>
                    <a:lnTo>
                      <a:pt x="83" y="2114"/>
                    </a:lnTo>
                    <a:lnTo>
                      <a:pt x="89" y="2087"/>
                    </a:lnTo>
                    <a:lnTo>
                      <a:pt x="95" y="2059"/>
                    </a:lnTo>
                    <a:lnTo>
                      <a:pt x="101" y="2028"/>
                    </a:lnTo>
                    <a:lnTo>
                      <a:pt x="108" y="2002"/>
                    </a:lnTo>
                    <a:lnTo>
                      <a:pt x="114" y="1971"/>
                    </a:lnTo>
                    <a:lnTo>
                      <a:pt x="120" y="1945"/>
                    </a:lnTo>
                    <a:lnTo>
                      <a:pt x="123" y="1918"/>
                    </a:lnTo>
                    <a:lnTo>
                      <a:pt x="129" y="1899"/>
                    </a:lnTo>
                    <a:lnTo>
                      <a:pt x="133" y="1880"/>
                    </a:lnTo>
                    <a:lnTo>
                      <a:pt x="137" y="1869"/>
                    </a:lnTo>
                    <a:lnTo>
                      <a:pt x="139" y="1859"/>
                    </a:lnTo>
                    <a:lnTo>
                      <a:pt x="140" y="1857"/>
                    </a:lnTo>
                    <a:lnTo>
                      <a:pt x="247" y="1871"/>
                    </a:lnTo>
                    <a:lnTo>
                      <a:pt x="370" y="1255"/>
                    </a:lnTo>
                    <a:lnTo>
                      <a:pt x="194" y="108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3400" y="3488760"/>
                <a:ext cx="155880" cy="853920"/>
              </a:xfrm>
              <a:custGeom>
                <a:avLst/>
                <a:gdLst/>
                <a:ahLst/>
                <a:rect l="l" t="t" r="r" b="b"/>
                <a:pathLst>
                  <a:path w="547" h="2102">
                    <a:moveTo>
                      <a:pt x="72" y="0"/>
                    </a:moveTo>
                    <a:lnTo>
                      <a:pt x="76" y="6"/>
                    </a:lnTo>
                    <a:lnTo>
                      <a:pt x="89" y="27"/>
                    </a:lnTo>
                    <a:lnTo>
                      <a:pt x="110" y="59"/>
                    </a:lnTo>
                    <a:lnTo>
                      <a:pt x="141" y="104"/>
                    </a:lnTo>
                    <a:lnTo>
                      <a:pt x="173" y="160"/>
                    </a:lnTo>
                    <a:lnTo>
                      <a:pt x="213" y="224"/>
                    </a:lnTo>
                    <a:lnTo>
                      <a:pt x="253" y="295"/>
                    </a:lnTo>
                    <a:lnTo>
                      <a:pt x="295" y="378"/>
                    </a:lnTo>
                    <a:lnTo>
                      <a:pt x="336" y="464"/>
                    </a:lnTo>
                    <a:lnTo>
                      <a:pt x="378" y="559"/>
                    </a:lnTo>
                    <a:lnTo>
                      <a:pt x="418" y="656"/>
                    </a:lnTo>
                    <a:lnTo>
                      <a:pt x="456" y="760"/>
                    </a:lnTo>
                    <a:lnTo>
                      <a:pt x="485" y="863"/>
                    </a:lnTo>
                    <a:lnTo>
                      <a:pt x="511" y="971"/>
                    </a:lnTo>
                    <a:lnTo>
                      <a:pt x="530" y="1079"/>
                    </a:lnTo>
                    <a:lnTo>
                      <a:pt x="544" y="1188"/>
                    </a:lnTo>
                    <a:lnTo>
                      <a:pt x="545" y="1285"/>
                    </a:lnTo>
                    <a:lnTo>
                      <a:pt x="547" y="1380"/>
                    </a:lnTo>
                    <a:lnTo>
                      <a:pt x="544" y="1467"/>
                    </a:lnTo>
                    <a:lnTo>
                      <a:pt x="540" y="1553"/>
                    </a:lnTo>
                    <a:lnTo>
                      <a:pt x="532" y="1631"/>
                    </a:lnTo>
                    <a:lnTo>
                      <a:pt x="525" y="1705"/>
                    </a:lnTo>
                    <a:lnTo>
                      <a:pt x="513" y="1775"/>
                    </a:lnTo>
                    <a:lnTo>
                      <a:pt x="506" y="1840"/>
                    </a:lnTo>
                    <a:lnTo>
                      <a:pt x="490" y="1895"/>
                    </a:lnTo>
                    <a:lnTo>
                      <a:pt x="481" y="1948"/>
                    </a:lnTo>
                    <a:lnTo>
                      <a:pt x="468" y="1994"/>
                    </a:lnTo>
                    <a:lnTo>
                      <a:pt x="458" y="2035"/>
                    </a:lnTo>
                    <a:lnTo>
                      <a:pt x="445" y="2068"/>
                    </a:lnTo>
                    <a:lnTo>
                      <a:pt x="437" y="2096"/>
                    </a:lnTo>
                    <a:lnTo>
                      <a:pt x="429" y="2102"/>
                    </a:lnTo>
                    <a:lnTo>
                      <a:pt x="426" y="2102"/>
                    </a:lnTo>
                    <a:lnTo>
                      <a:pt x="409" y="2102"/>
                    </a:lnTo>
                    <a:lnTo>
                      <a:pt x="391" y="2102"/>
                    </a:lnTo>
                    <a:lnTo>
                      <a:pt x="374" y="2102"/>
                    </a:lnTo>
                    <a:lnTo>
                      <a:pt x="357" y="2102"/>
                    </a:lnTo>
                    <a:lnTo>
                      <a:pt x="338" y="2102"/>
                    </a:lnTo>
                    <a:lnTo>
                      <a:pt x="321" y="2102"/>
                    </a:lnTo>
                    <a:lnTo>
                      <a:pt x="304" y="2102"/>
                    </a:lnTo>
                    <a:lnTo>
                      <a:pt x="287" y="2102"/>
                    </a:lnTo>
                    <a:lnTo>
                      <a:pt x="268" y="2102"/>
                    </a:lnTo>
                    <a:lnTo>
                      <a:pt x="249" y="2102"/>
                    </a:lnTo>
                    <a:lnTo>
                      <a:pt x="230" y="2102"/>
                    </a:lnTo>
                    <a:lnTo>
                      <a:pt x="211" y="2102"/>
                    </a:lnTo>
                    <a:lnTo>
                      <a:pt x="190" y="2102"/>
                    </a:lnTo>
                    <a:lnTo>
                      <a:pt x="169" y="2102"/>
                    </a:lnTo>
                    <a:lnTo>
                      <a:pt x="150" y="2102"/>
                    </a:lnTo>
                    <a:lnTo>
                      <a:pt x="131" y="2102"/>
                    </a:lnTo>
                    <a:lnTo>
                      <a:pt x="139" y="2102"/>
                    </a:lnTo>
                    <a:lnTo>
                      <a:pt x="152" y="2085"/>
                    </a:lnTo>
                    <a:lnTo>
                      <a:pt x="169" y="2047"/>
                    </a:lnTo>
                    <a:lnTo>
                      <a:pt x="190" y="2005"/>
                    </a:lnTo>
                    <a:lnTo>
                      <a:pt x="213" y="1958"/>
                    </a:lnTo>
                    <a:lnTo>
                      <a:pt x="238" y="1904"/>
                    </a:lnTo>
                    <a:lnTo>
                      <a:pt x="262" y="1851"/>
                    </a:lnTo>
                    <a:lnTo>
                      <a:pt x="291" y="1798"/>
                    </a:lnTo>
                    <a:lnTo>
                      <a:pt x="314" y="1745"/>
                    </a:lnTo>
                    <a:lnTo>
                      <a:pt x="336" y="1693"/>
                    </a:lnTo>
                    <a:lnTo>
                      <a:pt x="359" y="1646"/>
                    </a:lnTo>
                    <a:lnTo>
                      <a:pt x="380" y="1604"/>
                    </a:lnTo>
                    <a:lnTo>
                      <a:pt x="397" y="1568"/>
                    </a:lnTo>
                    <a:lnTo>
                      <a:pt x="410" y="1543"/>
                    </a:lnTo>
                    <a:lnTo>
                      <a:pt x="420" y="1526"/>
                    </a:lnTo>
                    <a:lnTo>
                      <a:pt x="422" y="1520"/>
                    </a:lnTo>
                    <a:lnTo>
                      <a:pt x="325" y="1461"/>
                    </a:lnTo>
                    <a:lnTo>
                      <a:pt x="445" y="1188"/>
                    </a:lnTo>
                    <a:lnTo>
                      <a:pt x="150" y="677"/>
                    </a:lnTo>
                    <a:lnTo>
                      <a:pt x="272" y="555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34320" y="3589560"/>
                <a:ext cx="260640" cy="753120"/>
              </a:xfrm>
              <a:custGeom>
                <a:avLst/>
                <a:gdLst/>
                <a:ahLst/>
                <a:rect l="l" t="t" r="r" b="b"/>
                <a:pathLst>
                  <a:path w="917" h="1853">
                    <a:moveTo>
                      <a:pt x="677" y="175"/>
                    </a:moveTo>
                    <a:lnTo>
                      <a:pt x="917" y="0"/>
                    </a:lnTo>
                    <a:lnTo>
                      <a:pt x="863" y="1028"/>
                    </a:lnTo>
                    <a:lnTo>
                      <a:pt x="856" y="1036"/>
                    </a:lnTo>
                    <a:lnTo>
                      <a:pt x="839" y="1059"/>
                    </a:lnTo>
                    <a:lnTo>
                      <a:pt x="812" y="1093"/>
                    </a:lnTo>
                    <a:lnTo>
                      <a:pt x="780" y="1140"/>
                    </a:lnTo>
                    <a:lnTo>
                      <a:pt x="738" y="1195"/>
                    </a:lnTo>
                    <a:lnTo>
                      <a:pt x="692" y="1258"/>
                    </a:lnTo>
                    <a:lnTo>
                      <a:pt x="641" y="1325"/>
                    </a:lnTo>
                    <a:lnTo>
                      <a:pt x="592" y="1399"/>
                    </a:lnTo>
                    <a:lnTo>
                      <a:pt x="535" y="1473"/>
                    </a:lnTo>
                    <a:lnTo>
                      <a:pt x="483" y="1545"/>
                    </a:lnTo>
                    <a:lnTo>
                      <a:pt x="428" y="1617"/>
                    </a:lnTo>
                    <a:lnTo>
                      <a:pt x="382" y="1686"/>
                    </a:lnTo>
                    <a:lnTo>
                      <a:pt x="335" y="1747"/>
                    </a:lnTo>
                    <a:lnTo>
                      <a:pt x="295" y="1802"/>
                    </a:lnTo>
                    <a:lnTo>
                      <a:pt x="261" y="1847"/>
                    </a:lnTo>
                    <a:lnTo>
                      <a:pt x="238" y="1853"/>
                    </a:lnTo>
                    <a:lnTo>
                      <a:pt x="217" y="1853"/>
                    </a:lnTo>
                    <a:lnTo>
                      <a:pt x="200" y="1853"/>
                    </a:lnTo>
                    <a:lnTo>
                      <a:pt x="183" y="1853"/>
                    </a:lnTo>
                    <a:lnTo>
                      <a:pt x="168" y="1853"/>
                    </a:lnTo>
                    <a:lnTo>
                      <a:pt x="151" y="1853"/>
                    </a:lnTo>
                    <a:lnTo>
                      <a:pt x="133" y="1853"/>
                    </a:lnTo>
                    <a:lnTo>
                      <a:pt x="118" y="1853"/>
                    </a:lnTo>
                    <a:lnTo>
                      <a:pt x="105" y="1853"/>
                    </a:lnTo>
                    <a:lnTo>
                      <a:pt x="90" y="1853"/>
                    </a:lnTo>
                    <a:lnTo>
                      <a:pt x="73" y="1853"/>
                    </a:lnTo>
                    <a:lnTo>
                      <a:pt x="59" y="1853"/>
                    </a:lnTo>
                    <a:lnTo>
                      <a:pt x="48" y="1853"/>
                    </a:lnTo>
                    <a:lnTo>
                      <a:pt x="33" y="1853"/>
                    </a:lnTo>
                    <a:lnTo>
                      <a:pt x="21" y="1853"/>
                    </a:lnTo>
                    <a:lnTo>
                      <a:pt x="10" y="1853"/>
                    </a:lnTo>
                    <a:lnTo>
                      <a:pt x="0" y="1853"/>
                    </a:lnTo>
                    <a:lnTo>
                      <a:pt x="12" y="1781"/>
                    </a:lnTo>
                    <a:lnTo>
                      <a:pt x="35" y="1688"/>
                    </a:lnTo>
                    <a:lnTo>
                      <a:pt x="65" y="1595"/>
                    </a:lnTo>
                    <a:lnTo>
                      <a:pt x="103" y="1511"/>
                    </a:lnTo>
                    <a:lnTo>
                      <a:pt x="143" y="1433"/>
                    </a:lnTo>
                    <a:lnTo>
                      <a:pt x="189" y="1359"/>
                    </a:lnTo>
                    <a:lnTo>
                      <a:pt x="236" y="1290"/>
                    </a:lnTo>
                    <a:lnTo>
                      <a:pt x="286" y="1232"/>
                    </a:lnTo>
                    <a:lnTo>
                      <a:pt x="331" y="1174"/>
                    </a:lnTo>
                    <a:lnTo>
                      <a:pt x="377" y="1129"/>
                    </a:lnTo>
                    <a:lnTo>
                      <a:pt x="419" y="1087"/>
                    </a:lnTo>
                    <a:lnTo>
                      <a:pt x="458" y="1055"/>
                    </a:lnTo>
                    <a:lnTo>
                      <a:pt x="489" y="1026"/>
                    </a:lnTo>
                    <a:lnTo>
                      <a:pt x="514" y="1007"/>
                    </a:lnTo>
                    <a:lnTo>
                      <a:pt x="531" y="998"/>
                    </a:lnTo>
                    <a:lnTo>
                      <a:pt x="536" y="994"/>
                    </a:lnTo>
                    <a:lnTo>
                      <a:pt x="677" y="175"/>
                    </a:lnTo>
                    <a:lnTo>
                      <a:pt x="677" y="175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57360" y="3594240"/>
                <a:ext cx="292680" cy="748440"/>
              </a:xfrm>
              <a:custGeom>
                <a:avLst/>
                <a:gdLst/>
                <a:ahLst/>
                <a:rect l="l" t="t" r="r" b="b"/>
                <a:pathLst>
                  <a:path w="1028" h="1842">
                    <a:moveTo>
                      <a:pt x="791" y="67"/>
                    </a:moveTo>
                    <a:lnTo>
                      <a:pt x="1028" y="0"/>
                    </a:lnTo>
                    <a:lnTo>
                      <a:pt x="867" y="1236"/>
                    </a:lnTo>
                    <a:lnTo>
                      <a:pt x="859" y="1241"/>
                    </a:lnTo>
                    <a:lnTo>
                      <a:pt x="844" y="1257"/>
                    </a:lnTo>
                    <a:lnTo>
                      <a:pt x="817" y="1281"/>
                    </a:lnTo>
                    <a:lnTo>
                      <a:pt x="787" y="1316"/>
                    </a:lnTo>
                    <a:lnTo>
                      <a:pt x="749" y="1355"/>
                    </a:lnTo>
                    <a:lnTo>
                      <a:pt x="707" y="1403"/>
                    </a:lnTo>
                    <a:lnTo>
                      <a:pt x="660" y="1452"/>
                    </a:lnTo>
                    <a:lnTo>
                      <a:pt x="612" y="1506"/>
                    </a:lnTo>
                    <a:lnTo>
                      <a:pt x="559" y="1559"/>
                    </a:lnTo>
                    <a:lnTo>
                      <a:pt x="510" y="1614"/>
                    </a:lnTo>
                    <a:lnTo>
                      <a:pt x="458" y="1667"/>
                    </a:lnTo>
                    <a:lnTo>
                      <a:pt x="413" y="1720"/>
                    </a:lnTo>
                    <a:lnTo>
                      <a:pt x="367" y="1766"/>
                    </a:lnTo>
                    <a:lnTo>
                      <a:pt x="329" y="1808"/>
                    </a:lnTo>
                    <a:lnTo>
                      <a:pt x="297" y="1842"/>
                    </a:lnTo>
                    <a:lnTo>
                      <a:pt x="272" y="1842"/>
                    </a:lnTo>
                    <a:lnTo>
                      <a:pt x="251" y="1842"/>
                    </a:lnTo>
                    <a:lnTo>
                      <a:pt x="232" y="1842"/>
                    </a:lnTo>
                    <a:lnTo>
                      <a:pt x="213" y="1842"/>
                    </a:lnTo>
                    <a:lnTo>
                      <a:pt x="196" y="1842"/>
                    </a:lnTo>
                    <a:lnTo>
                      <a:pt x="175" y="1842"/>
                    </a:lnTo>
                    <a:lnTo>
                      <a:pt x="158" y="1842"/>
                    </a:lnTo>
                    <a:lnTo>
                      <a:pt x="139" y="1842"/>
                    </a:lnTo>
                    <a:lnTo>
                      <a:pt x="124" y="1842"/>
                    </a:lnTo>
                    <a:lnTo>
                      <a:pt x="107" y="1842"/>
                    </a:lnTo>
                    <a:lnTo>
                      <a:pt x="89" y="1842"/>
                    </a:lnTo>
                    <a:lnTo>
                      <a:pt x="72" y="1842"/>
                    </a:lnTo>
                    <a:lnTo>
                      <a:pt x="57" y="1842"/>
                    </a:lnTo>
                    <a:lnTo>
                      <a:pt x="42" y="1842"/>
                    </a:lnTo>
                    <a:lnTo>
                      <a:pt x="27" y="1842"/>
                    </a:lnTo>
                    <a:lnTo>
                      <a:pt x="12" y="1842"/>
                    </a:lnTo>
                    <a:lnTo>
                      <a:pt x="0" y="1842"/>
                    </a:lnTo>
                    <a:lnTo>
                      <a:pt x="4" y="1842"/>
                    </a:lnTo>
                    <a:lnTo>
                      <a:pt x="10" y="1838"/>
                    </a:lnTo>
                    <a:lnTo>
                      <a:pt x="17" y="1817"/>
                    </a:lnTo>
                    <a:lnTo>
                      <a:pt x="27" y="1794"/>
                    </a:lnTo>
                    <a:lnTo>
                      <a:pt x="32" y="1766"/>
                    </a:lnTo>
                    <a:lnTo>
                      <a:pt x="42" y="1741"/>
                    </a:lnTo>
                    <a:lnTo>
                      <a:pt x="51" y="1715"/>
                    </a:lnTo>
                    <a:lnTo>
                      <a:pt x="61" y="1688"/>
                    </a:lnTo>
                    <a:lnTo>
                      <a:pt x="69" y="1661"/>
                    </a:lnTo>
                    <a:lnTo>
                      <a:pt x="74" y="1637"/>
                    </a:lnTo>
                    <a:lnTo>
                      <a:pt x="82" y="1614"/>
                    </a:lnTo>
                    <a:lnTo>
                      <a:pt x="91" y="1595"/>
                    </a:lnTo>
                    <a:lnTo>
                      <a:pt x="93" y="1578"/>
                    </a:lnTo>
                    <a:lnTo>
                      <a:pt x="99" y="1566"/>
                    </a:lnTo>
                    <a:lnTo>
                      <a:pt x="103" y="1557"/>
                    </a:lnTo>
                    <a:lnTo>
                      <a:pt x="105" y="1555"/>
                    </a:lnTo>
                    <a:lnTo>
                      <a:pt x="300" y="1430"/>
                    </a:lnTo>
                    <a:lnTo>
                      <a:pt x="268" y="1380"/>
                    </a:lnTo>
                    <a:lnTo>
                      <a:pt x="576" y="1093"/>
                    </a:lnTo>
                    <a:lnTo>
                      <a:pt x="715" y="603"/>
                    </a:lnTo>
                    <a:lnTo>
                      <a:pt x="637" y="548"/>
                    </a:lnTo>
                    <a:lnTo>
                      <a:pt x="791" y="67"/>
                    </a:lnTo>
                    <a:lnTo>
                      <a:pt x="791" y="67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004880" y="3480120"/>
                <a:ext cx="277920" cy="862920"/>
              </a:xfrm>
              <a:custGeom>
                <a:avLst/>
                <a:gdLst/>
                <a:ahLst/>
                <a:rect l="l" t="t" r="r" b="b"/>
                <a:pathLst>
                  <a:path w="976" h="2125">
                    <a:moveTo>
                      <a:pt x="789" y="0"/>
                    </a:moveTo>
                    <a:lnTo>
                      <a:pt x="976" y="0"/>
                    </a:lnTo>
                    <a:lnTo>
                      <a:pt x="842" y="1443"/>
                    </a:lnTo>
                    <a:lnTo>
                      <a:pt x="837" y="1446"/>
                    </a:lnTo>
                    <a:lnTo>
                      <a:pt x="825" y="1467"/>
                    </a:lnTo>
                    <a:lnTo>
                      <a:pt x="806" y="1494"/>
                    </a:lnTo>
                    <a:lnTo>
                      <a:pt x="784" y="1534"/>
                    </a:lnTo>
                    <a:lnTo>
                      <a:pt x="751" y="1580"/>
                    </a:lnTo>
                    <a:lnTo>
                      <a:pt x="721" y="1631"/>
                    </a:lnTo>
                    <a:lnTo>
                      <a:pt x="685" y="1686"/>
                    </a:lnTo>
                    <a:lnTo>
                      <a:pt x="649" y="1749"/>
                    </a:lnTo>
                    <a:lnTo>
                      <a:pt x="609" y="1809"/>
                    </a:lnTo>
                    <a:lnTo>
                      <a:pt x="571" y="1872"/>
                    </a:lnTo>
                    <a:lnTo>
                      <a:pt x="533" y="1931"/>
                    </a:lnTo>
                    <a:lnTo>
                      <a:pt x="497" y="1988"/>
                    </a:lnTo>
                    <a:lnTo>
                      <a:pt x="464" y="2039"/>
                    </a:lnTo>
                    <a:lnTo>
                      <a:pt x="434" y="2087"/>
                    </a:lnTo>
                    <a:lnTo>
                      <a:pt x="411" y="2125"/>
                    </a:lnTo>
                    <a:lnTo>
                      <a:pt x="392" y="2125"/>
                    </a:lnTo>
                    <a:lnTo>
                      <a:pt x="365" y="2125"/>
                    </a:lnTo>
                    <a:lnTo>
                      <a:pt x="337" y="2125"/>
                    </a:lnTo>
                    <a:lnTo>
                      <a:pt x="310" y="2125"/>
                    </a:lnTo>
                    <a:lnTo>
                      <a:pt x="286" y="2125"/>
                    </a:lnTo>
                    <a:lnTo>
                      <a:pt x="261" y="2125"/>
                    </a:lnTo>
                    <a:lnTo>
                      <a:pt x="234" y="2125"/>
                    </a:lnTo>
                    <a:lnTo>
                      <a:pt x="209" y="2125"/>
                    </a:lnTo>
                    <a:lnTo>
                      <a:pt x="185" y="2125"/>
                    </a:lnTo>
                    <a:lnTo>
                      <a:pt x="158" y="2125"/>
                    </a:lnTo>
                    <a:lnTo>
                      <a:pt x="135" y="2125"/>
                    </a:lnTo>
                    <a:lnTo>
                      <a:pt x="113" y="2125"/>
                    </a:lnTo>
                    <a:lnTo>
                      <a:pt x="90" y="2125"/>
                    </a:lnTo>
                    <a:lnTo>
                      <a:pt x="65" y="2125"/>
                    </a:lnTo>
                    <a:lnTo>
                      <a:pt x="42" y="2125"/>
                    </a:lnTo>
                    <a:lnTo>
                      <a:pt x="21" y="2125"/>
                    </a:lnTo>
                    <a:lnTo>
                      <a:pt x="0" y="2125"/>
                    </a:lnTo>
                    <a:lnTo>
                      <a:pt x="6" y="2125"/>
                    </a:lnTo>
                    <a:lnTo>
                      <a:pt x="10" y="2125"/>
                    </a:lnTo>
                    <a:lnTo>
                      <a:pt x="18" y="2106"/>
                    </a:lnTo>
                    <a:lnTo>
                      <a:pt x="25" y="2087"/>
                    </a:lnTo>
                    <a:lnTo>
                      <a:pt x="31" y="2066"/>
                    </a:lnTo>
                    <a:lnTo>
                      <a:pt x="38" y="2047"/>
                    </a:lnTo>
                    <a:lnTo>
                      <a:pt x="46" y="2026"/>
                    </a:lnTo>
                    <a:lnTo>
                      <a:pt x="54" y="2007"/>
                    </a:lnTo>
                    <a:lnTo>
                      <a:pt x="59" y="1986"/>
                    </a:lnTo>
                    <a:lnTo>
                      <a:pt x="67" y="1969"/>
                    </a:lnTo>
                    <a:lnTo>
                      <a:pt x="73" y="1954"/>
                    </a:lnTo>
                    <a:lnTo>
                      <a:pt x="78" y="1939"/>
                    </a:lnTo>
                    <a:lnTo>
                      <a:pt x="82" y="1927"/>
                    </a:lnTo>
                    <a:lnTo>
                      <a:pt x="86" y="1918"/>
                    </a:lnTo>
                    <a:lnTo>
                      <a:pt x="88" y="1912"/>
                    </a:lnTo>
                    <a:lnTo>
                      <a:pt x="90" y="1912"/>
                    </a:lnTo>
                    <a:lnTo>
                      <a:pt x="187" y="1924"/>
                    </a:lnTo>
                    <a:lnTo>
                      <a:pt x="295" y="1629"/>
                    </a:lnTo>
                    <a:lnTo>
                      <a:pt x="571" y="1452"/>
                    </a:lnTo>
                    <a:lnTo>
                      <a:pt x="645" y="1038"/>
                    </a:lnTo>
                    <a:lnTo>
                      <a:pt x="789" y="0"/>
                    </a:lnTo>
                    <a:lnTo>
                      <a:pt x="78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62120" y="3494520"/>
                <a:ext cx="232200" cy="848520"/>
              </a:xfrm>
              <a:custGeom>
                <a:avLst/>
                <a:gdLst/>
                <a:ahLst/>
                <a:rect l="l" t="t" r="r" b="b"/>
                <a:pathLst>
                  <a:path w="815" h="2089">
                    <a:moveTo>
                      <a:pt x="815" y="15"/>
                    </a:moveTo>
                    <a:lnTo>
                      <a:pt x="718" y="1363"/>
                    </a:lnTo>
                    <a:lnTo>
                      <a:pt x="715" y="1367"/>
                    </a:lnTo>
                    <a:lnTo>
                      <a:pt x="703" y="1388"/>
                    </a:lnTo>
                    <a:lnTo>
                      <a:pt x="688" y="1416"/>
                    </a:lnTo>
                    <a:lnTo>
                      <a:pt x="667" y="1456"/>
                    </a:lnTo>
                    <a:lnTo>
                      <a:pt x="639" y="1504"/>
                    </a:lnTo>
                    <a:lnTo>
                      <a:pt x="610" y="1559"/>
                    </a:lnTo>
                    <a:lnTo>
                      <a:pt x="578" y="1616"/>
                    </a:lnTo>
                    <a:lnTo>
                      <a:pt x="545" y="1680"/>
                    </a:lnTo>
                    <a:lnTo>
                      <a:pt x="511" y="1743"/>
                    </a:lnTo>
                    <a:lnTo>
                      <a:pt x="477" y="1810"/>
                    </a:lnTo>
                    <a:lnTo>
                      <a:pt x="441" y="1870"/>
                    </a:lnTo>
                    <a:lnTo>
                      <a:pt x="410" y="1933"/>
                    </a:lnTo>
                    <a:lnTo>
                      <a:pt x="378" y="1988"/>
                    </a:lnTo>
                    <a:lnTo>
                      <a:pt x="352" y="2040"/>
                    </a:lnTo>
                    <a:lnTo>
                      <a:pt x="329" y="2083"/>
                    </a:lnTo>
                    <a:lnTo>
                      <a:pt x="312" y="2089"/>
                    </a:lnTo>
                    <a:lnTo>
                      <a:pt x="291" y="2089"/>
                    </a:lnTo>
                    <a:lnTo>
                      <a:pt x="272" y="2089"/>
                    </a:lnTo>
                    <a:lnTo>
                      <a:pt x="251" y="2089"/>
                    </a:lnTo>
                    <a:lnTo>
                      <a:pt x="230" y="2089"/>
                    </a:lnTo>
                    <a:lnTo>
                      <a:pt x="209" y="2089"/>
                    </a:lnTo>
                    <a:lnTo>
                      <a:pt x="190" y="2089"/>
                    </a:lnTo>
                    <a:lnTo>
                      <a:pt x="171" y="2089"/>
                    </a:lnTo>
                    <a:lnTo>
                      <a:pt x="152" y="2089"/>
                    </a:lnTo>
                    <a:lnTo>
                      <a:pt x="131" y="2089"/>
                    </a:lnTo>
                    <a:lnTo>
                      <a:pt x="112" y="2089"/>
                    </a:lnTo>
                    <a:lnTo>
                      <a:pt x="93" y="2089"/>
                    </a:lnTo>
                    <a:lnTo>
                      <a:pt x="74" y="2089"/>
                    </a:lnTo>
                    <a:lnTo>
                      <a:pt x="53" y="2089"/>
                    </a:lnTo>
                    <a:lnTo>
                      <a:pt x="36" y="2089"/>
                    </a:lnTo>
                    <a:lnTo>
                      <a:pt x="17" y="2089"/>
                    </a:lnTo>
                    <a:lnTo>
                      <a:pt x="0" y="2089"/>
                    </a:lnTo>
                    <a:lnTo>
                      <a:pt x="7" y="2089"/>
                    </a:lnTo>
                    <a:lnTo>
                      <a:pt x="19" y="2070"/>
                    </a:lnTo>
                    <a:lnTo>
                      <a:pt x="30" y="2038"/>
                    </a:lnTo>
                    <a:lnTo>
                      <a:pt x="46" y="2009"/>
                    </a:lnTo>
                    <a:lnTo>
                      <a:pt x="59" y="1973"/>
                    </a:lnTo>
                    <a:lnTo>
                      <a:pt x="72" y="1939"/>
                    </a:lnTo>
                    <a:lnTo>
                      <a:pt x="85" y="1903"/>
                    </a:lnTo>
                    <a:lnTo>
                      <a:pt x="103" y="1869"/>
                    </a:lnTo>
                    <a:lnTo>
                      <a:pt x="114" y="1834"/>
                    </a:lnTo>
                    <a:lnTo>
                      <a:pt x="127" y="1804"/>
                    </a:lnTo>
                    <a:lnTo>
                      <a:pt x="139" y="1775"/>
                    </a:lnTo>
                    <a:lnTo>
                      <a:pt x="150" y="1751"/>
                    </a:lnTo>
                    <a:lnTo>
                      <a:pt x="158" y="1730"/>
                    </a:lnTo>
                    <a:lnTo>
                      <a:pt x="165" y="1713"/>
                    </a:lnTo>
                    <a:lnTo>
                      <a:pt x="167" y="1703"/>
                    </a:lnTo>
                    <a:lnTo>
                      <a:pt x="171" y="1701"/>
                    </a:lnTo>
                    <a:lnTo>
                      <a:pt x="226" y="1863"/>
                    </a:lnTo>
                    <a:lnTo>
                      <a:pt x="357" y="1526"/>
                    </a:lnTo>
                    <a:lnTo>
                      <a:pt x="574" y="1429"/>
                    </a:lnTo>
                    <a:lnTo>
                      <a:pt x="555" y="924"/>
                    </a:lnTo>
                    <a:lnTo>
                      <a:pt x="640" y="719"/>
                    </a:lnTo>
                    <a:lnTo>
                      <a:pt x="707" y="0"/>
                    </a:lnTo>
                    <a:lnTo>
                      <a:pt x="815" y="15"/>
                    </a:lnTo>
                    <a:lnTo>
                      <a:pt x="815" y="15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97280" y="3624480"/>
                <a:ext cx="69840" cy="102960"/>
              </a:xfrm>
              <a:custGeom>
                <a:avLst/>
                <a:gdLst/>
                <a:ahLst/>
                <a:rect l="l" t="t" r="r" b="b"/>
                <a:pathLst>
                  <a:path w="245" h="253">
                    <a:moveTo>
                      <a:pt x="83" y="8"/>
                    </a:moveTo>
                    <a:lnTo>
                      <a:pt x="0" y="65"/>
                    </a:lnTo>
                    <a:lnTo>
                      <a:pt x="20" y="179"/>
                    </a:lnTo>
                    <a:lnTo>
                      <a:pt x="49" y="179"/>
                    </a:lnTo>
                    <a:lnTo>
                      <a:pt x="49" y="120"/>
                    </a:lnTo>
                    <a:lnTo>
                      <a:pt x="74" y="126"/>
                    </a:lnTo>
                    <a:lnTo>
                      <a:pt x="93" y="253"/>
                    </a:lnTo>
                    <a:lnTo>
                      <a:pt x="127" y="246"/>
                    </a:lnTo>
                    <a:lnTo>
                      <a:pt x="127" y="202"/>
                    </a:lnTo>
                    <a:lnTo>
                      <a:pt x="144" y="194"/>
                    </a:lnTo>
                    <a:lnTo>
                      <a:pt x="154" y="236"/>
                    </a:lnTo>
                    <a:lnTo>
                      <a:pt x="190" y="217"/>
                    </a:lnTo>
                    <a:lnTo>
                      <a:pt x="197" y="175"/>
                    </a:lnTo>
                    <a:lnTo>
                      <a:pt x="245" y="145"/>
                    </a:lnTo>
                    <a:lnTo>
                      <a:pt x="239" y="0"/>
                    </a:lnTo>
                    <a:lnTo>
                      <a:pt x="83" y="8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48680" y="3250800"/>
                <a:ext cx="140040" cy="389880"/>
              </a:xfrm>
              <a:custGeom>
                <a:avLst/>
                <a:gdLst/>
                <a:ahLst/>
                <a:rect l="l" t="t" r="r" b="b"/>
                <a:pathLst>
                  <a:path w="493" h="959">
                    <a:moveTo>
                      <a:pt x="78" y="0"/>
                    </a:moveTo>
                    <a:lnTo>
                      <a:pt x="0" y="376"/>
                    </a:lnTo>
                    <a:lnTo>
                      <a:pt x="312" y="503"/>
                    </a:lnTo>
                    <a:lnTo>
                      <a:pt x="306" y="959"/>
                    </a:lnTo>
                    <a:lnTo>
                      <a:pt x="383" y="959"/>
                    </a:lnTo>
                    <a:lnTo>
                      <a:pt x="493" y="44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60200" y="3226320"/>
                <a:ext cx="141120" cy="414360"/>
              </a:xfrm>
              <a:custGeom>
                <a:avLst/>
                <a:gdLst/>
                <a:ahLst/>
                <a:rect l="l" t="t" r="r" b="b"/>
                <a:pathLst>
                  <a:path w="496" h="1020">
                    <a:moveTo>
                      <a:pt x="80" y="0"/>
                    </a:moveTo>
                    <a:lnTo>
                      <a:pt x="496" y="475"/>
                    </a:lnTo>
                    <a:lnTo>
                      <a:pt x="371" y="1020"/>
                    </a:lnTo>
                    <a:lnTo>
                      <a:pt x="322" y="1011"/>
                    </a:lnTo>
                    <a:lnTo>
                      <a:pt x="362" y="650"/>
                    </a:lnTo>
                    <a:lnTo>
                      <a:pt x="386" y="661"/>
                    </a:lnTo>
                    <a:lnTo>
                      <a:pt x="403" y="513"/>
                    </a:lnTo>
                    <a:lnTo>
                      <a:pt x="228" y="403"/>
                    </a:lnTo>
                    <a:lnTo>
                      <a:pt x="280" y="340"/>
                    </a:lnTo>
                    <a:lnTo>
                      <a:pt x="0" y="133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48680" y="3369240"/>
                <a:ext cx="102240" cy="272880"/>
              </a:xfrm>
              <a:custGeom>
                <a:avLst/>
                <a:gdLst/>
                <a:ahLst/>
                <a:rect l="l" t="t" r="r" b="b"/>
                <a:pathLst>
                  <a:path w="362" h="673">
                    <a:moveTo>
                      <a:pt x="0" y="0"/>
                    </a:moveTo>
                    <a:lnTo>
                      <a:pt x="362" y="175"/>
                    </a:lnTo>
                    <a:lnTo>
                      <a:pt x="322" y="673"/>
                    </a:lnTo>
                    <a:lnTo>
                      <a:pt x="272" y="660"/>
                    </a:lnTo>
                    <a:lnTo>
                      <a:pt x="255" y="284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1840" y="3407400"/>
                <a:ext cx="95400" cy="228960"/>
              </a:xfrm>
              <a:custGeom>
                <a:avLst/>
                <a:gdLst/>
                <a:ahLst/>
                <a:rect l="l" t="t" r="r" b="b"/>
                <a:pathLst>
                  <a:path w="334" h="565">
                    <a:moveTo>
                      <a:pt x="0" y="71"/>
                    </a:moveTo>
                    <a:lnTo>
                      <a:pt x="3" y="71"/>
                    </a:lnTo>
                    <a:lnTo>
                      <a:pt x="13" y="73"/>
                    </a:lnTo>
                    <a:lnTo>
                      <a:pt x="30" y="75"/>
                    </a:lnTo>
                    <a:lnTo>
                      <a:pt x="55" y="82"/>
                    </a:lnTo>
                    <a:lnTo>
                      <a:pt x="79" y="90"/>
                    </a:lnTo>
                    <a:lnTo>
                      <a:pt x="110" y="103"/>
                    </a:lnTo>
                    <a:lnTo>
                      <a:pt x="138" y="120"/>
                    </a:lnTo>
                    <a:lnTo>
                      <a:pt x="169" y="143"/>
                    </a:lnTo>
                    <a:lnTo>
                      <a:pt x="194" y="170"/>
                    </a:lnTo>
                    <a:lnTo>
                      <a:pt x="222" y="202"/>
                    </a:lnTo>
                    <a:lnTo>
                      <a:pt x="243" y="242"/>
                    </a:lnTo>
                    <a:lnTo>
                      <a:pt x="260" y="289"/>
                    </a:lnTo>
                    <a:lnTo>
                      <a:pt x="270" y="342"/>
                    </a:lnTo>
                    <a:lnTo>
                      <a:pt x="275" y="405"/>
                    </a:lnTo>
                    <a:lnTo>
                      <a:pt x="270" y="477"/>
                    </a:lnTo>
                    <a:lnTo>
                      <a:pt x="256" y="561"/>
                    </a:lnTo>
                    <a:lnTo>
                      <a:pt x="302" y="565"/>
                    </a:lnTo>
                    <a:lnTo>
                      <a:pt x="334" y="386"/>
                    </a:lnTo>
                    <a:lnTo>
                      <a:pt x="306" y="301"/>
                    </a:lnTo>
                    <a:lnTo>
                      <a:pt x="334" y="137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95760" y="3206160"/>
                <a:ext cx="85680" cy="305280"/>
              </a:xfrm>
              <a:custGeom>
                <a:avLst/>
                <a:gdLst/>
                <a:ahLst/>
                <a:rect l="l" t="t" r="r" b="b"/>
                <a:pathLst>
                  <a:path w="302" h="753">
                    <a:moveTo>
                      <a:pt x="116" y="0"/>
                    </a:moveTo>
                    <a:lnTo>
                      <a:pt x="302" y="50"/>
                    </a:lnTo>
                    <a:lnTo>
                      <a:pt x="245" y="369"/>
                    </a:lnTo>
                    <a:lnTo>
                      <a:pt x="198" y="591"/>
                    </a:lnTo>
                    <a:lnTo>
                      <a:pt x="179" y="753"/>
                    </a:lnTo>
                    <a:lnTo>
                      <a:pt x="0" y="751"/>
                    </a:lnTo>
                    <a:lnTo>
                      <a:pt x="50" y="221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17280" y="3204360"/>
                <a:ext cx="120600" cy="307080"/>
              </a:xfrm>
              <a:custGeom>
                <a:avLst/>
                <a:gdLst/>
                <a:ahLst/>
                <a:rect l="l" t="t" r="r" b="b"/>
                <a:pathLst>
                  <a:path w="423" h="756">
                    <a:moveTo>
                      <a:pt x="49" y="0"/>
                    </a:moveTo>
                    <a:lnTo>
                      <a:pt x="391" y="11"/>
                    </a:lnTo>
                    <a:lnTo>
                      <a:pt x="384" y="285"/>
                    </a:lnTo>
                    <a:lnTo>
                      <a:pt x="340" y="309"/>
                    </a:lnTo>
                    <a:lnTo>
                      <a:pt x="423" y="499"/>
                    </a:lnTo>
                    <a:lnTo>
                      <a:pt x="365" y="756"/>
                    </a:lnTo>
                    <a:lnTo>
                      <a:pt x="249" y="756"/>
                    </a:lnTo>
                    <a:lnTo>
                      <a:pt x="0" y="186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167240" y="3209040"/>
                <a:ext cx="132480" cy="304560"/>
              </a:xfrm>
              <a:custGeom>
                <a:avLst/>
                <a:gdLst/>
                <a:ahLst/>
                <a:rect l="l" t="t" r="r" b="b"/>
                <a:pathLst>
                  <a:path w="465" h="751">
                    <a:moveTo>
                      <a:pt x="40" y="0"/>
                    </a:moveTo>
                    <a:lnTo>
                      <a:pt x="218" y="0"/>
                    </a:lnTo>
                    <a:lnTo>
                      <a:pt x="325" y="378"/>
                    </a:lnTo>
                    <a:lnTo>
                      <a:pt x="450" y="530"/>
                    </a:lnTo>
                    <a:lnTo>
                      <a:pt x="465" y="751"/>
                    </a:lnTo>
                    <a:lnTo>
                      <a:pt x="233" y="745"/>
                    </a:lnTo>
                    <a:lnTo>
                      <a:pt x="0" y="125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36280" y="3209040"/>
                <a:ext cx="123480" cy="302400"/>
              </a:xfrm>
              <a:custGeom>
                <a:avLst/>
                <a:gdLst/>
                <a:ahLst/>
                <a:rect l="l" t="t" r="r" b="b"/>
                <a:pathLst>
                  <a:path w="434" h="745">
                    <a:moveTo>
                      <a:pt x="0" y="19"/>
                    </a:moveTo>
                    <a:lnTo>
                      <a:pt x="152" y="0"/>
                    </a:lnTo>
                    <a:lnTo>
                      <a:pt x="238" y="331"/>
                    </a:lnTo>
                    <a:lnTo>
                      <a:pt x="318" y="338"/>
                    </a:lnTo>
                    <a:lnTo>
                      <a:pt x="434" y="745"/>
                    </a:lnTo>
                    <a:lnTo>
                      <a:pt x="29" y="74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992280" y="3418920"/>
                <a:ext cx="249120" cy="279360"/>
              </a:xfrm>
              <a:custGeom>
                <a:avLst/>
                <a:gdLst/>
                <a:ahLst/>
                <a:rect l="l" t="t" r="r" b="b"/>
                <a:pathLst>
                  <a:path w="874" h="688">
                    <a:moveTo>
                      <a:pt x="0" y="137"/>
                    </a:moveTo>
                    <a:lnTo>
                      <a:pt x="749" y="0"/>
                    </a:lnTo>
                    <a:lnTo>
                      <a:pt x="785" y="42"/>
                    </a:lnTo>
                    <a:lnTo>
                      <a:pt x="834" y="13"/>
                    </a:lnTo>
                    <a:lnTo>
                      <a:pt x="874" y="555"/>
                    </a:lnTo>
                    <a:lnTo>
                      <a:pt x="110" y="688"/>
                    </a:lnTo>
                    <a:lnTo>
                      <a:pt x="0" y="646"/>
                    </a:lnTo>
                    <a:lnTo>
                      <a:pt x="0" y="137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9cb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91200" y="3608280"/>
                <a:ext cx="243720" cy="90000"/>
              </a:xfrm>
              <a:custGeom>
                <a:avLst/>
                <a:gdLst/>
                <a:ahLst/>
                <a:rect l="l" t="t" r="r" b="b"/>
                <a:pathLst>
                  <a:path w="855" h="222">
                    <a:moveTo>
                      <a:pt x="0" y="180"/>
                    </a:moveTo>
                    <a:lnTo>
                      <a:pt x="557" y="79"/>
                    </a:lnTo>
                    <a:lnTo>
                      <a:pt x="576" y="0"/>
                    </a:lnTo>
                    <a:lnTo>
                      <a:pt x="658" y="43"/>
                    </a:lnTo>
                    <a:lnTo>
                      <a:pt x="743" y="28"/>
                    </a:lnTo>
                    <a:lnTo>
                      <a:pt x="855" y="98"/>
                    </a:lnTo>
                    <a:lnTo>
                      <a:pt x="114" y="222"/>
                    </a:lnTo>
                    <a:lnTo>
                      <a:pt x="0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757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09640" y="3598560"/>
                <a:ext cx="80640" cy="8352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95" y="28"/>
                    </a:moveTo>
                    <a:lnTo>
                      <a:pt x="185" y="0"/>
                    </a:lnTo>
                    <a:lnTo>
                      <a:pt x="247" y="57"/>
                    </a:lnTo>
                    <a:lnTo>
                      <a:pt x="234" y="80"/>
                    </a:lnTo>
                    <a:lnTo>
                      <a:pt x="192" y="53"/>
                    </a:lnTo>
                    <a:lnTo>
                      <a:pt x="169" y="64"/>
                    </a:lnTo>
                    <a:lnTo>
                      <a:pt x="285" y="150"/>
                    </a:lnTo>
                    <a:lnTo>
                      <a:pt x="263" y="184"/>
                    </a:lnTo>
                    <a:lnTo>
                      <a:pt x="215" y="139"/>
                    </a:lnTo>
                    <a:lnTo>
                      <a:pt x="192" y="150"/>
                    </a:lnTo>
                    <a:lnTo>
                      <a:pt x="238" y="196"/>
                    </a:lnTo>
                    <a:lnTo>
                      <a:pt x="196" y="205"/>
                    </a:lnTo>
                    <a:lnTo>
                      <a:pt x="162" y="177"/>
                    </a:lnTo>
                    <a:lnTo>
                      <a:pt x="111" y="194"/>
                    </a:lnTo>
                    <a:lnTo>
                      <a:pt x="0" y="123"/>
                    </a:lnTo>
                    <a:lnTo>
                      <a:pt x="95" y="28"/>
                    </a:lnTo>
                    <a:lnTo>
                      <a:pt x="95" y="28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72560" y="3357360"/>
                <a:ext cx="103680" cy="252360"/>
              </a:xfrm>
              <a:custGeom>
                <a:avLst/>
                <a:gdLst/>
                <a:ahLst/>
                <a:rect l="l" t="t" r="r" b="b"/>
                <a:pathLst>
                  <a:path w="363" h="621">
                    <a:moveTo>
                      <a:pt x="363" y="0"/>
                    </a:moveTo>
                    <a:lnTo>
                      <a:pt x="321" y="171"/>
                    </a:lnTo>
                    <a:lnTo>
                      <a:pt x="124" y="230"/>
                    </a:lnTo>
                    <a:lnTo>
                      <a:pt x="240" y="621"/>
                    </a:lnTo>
                    <a:lnTo>
                      <a:pt x="25" y="564"/>
                    </a:lnTo>
                    <a:lnTo>
                      <a:pt x="0" y="66"/>
                    </a:lnTo>
                    <a:lnTo>
                      <a:pt x="363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31520" y="3262680"/>
                <a:ext cx="144360" cy="370440"/>
              </a:xfrm>
              <a:custGeom>
                <a:avLst/>
                <a:gdLst/>
                <a:ahLst/>
                <a:rect l="l" t="t" r="r" b="b"/>
                <a:pathLst>
                  <a:path w="507" h="910">
                    <a:moveTo>
                      <a:pt x="496" y="42"/>
                    </a:moveTo>
                    <a:lnTo>
                      <a:pt x="507" y="232"/>
                    </a:lnTo>
                    <a:lnTo>
                      <a:pt x="182" y="353"/>
                    </a:lnTo>
                    <a:lnTo>
                      <a:pt x="249" y="688"/>
                    </a:lnTo>
                    <a:lnTo>
                      <a:pt x="384" y="867"/>
                    </a:lnTo>
                    <a:lnTo>
                      <a:pt x="357" y="910"/>
                    </a:lnTo>
                    <a:lnTo>
                      <a:pt x="49" y="760"/>
                    </a:lnTo>
                    <a:lnTo>
                      <a:pt x="0" y="384"/>
                    </a:lnTo>
                    <a:lnTo>
                      <a:pt x="226" y="0"/>
                    </a:lnTo>
                    <a:lnTo>
                      <a:pt x="496" y="42"/>
                    </a:lnTo>
                    <a:lnTo>
                      <a:pt x="496" y="4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013160" y="3237480"/>
                <a:ext cx="159480" cy="404640"/>
              </a:xfrm>
              <a:custGeom>
                <a:avLst/>
                <a:gdLst/>
                <a:ahLst/>
                <a:rect l="l" t="t" r="r" b="b"/>
                <a:pathLst>
                  <a:path w="559" h="996">
                    <a:moveTo>
                      <a:pt x="528" y="0"/>
                    </a:moveTo>
                    <a:lnTo>
                      <a:pt x="559" y="109"/>
                    </a:lnTo>
                    <a:lnTo>
                      <a:pt x="293" y="206"/>
                    </a:lnTo>
                    <a:lnTo>
                      <a:pt x="118" y="489"/>
                    </a:lnTo>
                    <a:lnTo>
                      <a:pt x="207" y="489"/>
                    </a:lnTo>
                    <a:lnTo>
                      <a:pt x="264" y="837"/>
                    </a:lnTo>
                    <a:lnTo>
                      <a:pt x="327" y="808"/>
                    </a:lnTo>
                    <a:lnTo>
                      <a:pt x="420" y="973"/>
                    </a:lnTo>
                    <a:lnTo>
                      <a:pt x="393" y="996"/>
                    </a:lnTo>
                    <a:lnTo>
                      <a:pt x="190" y="926"/>
                    </a:lnTo>
                    <a:lnTo>
                      <a:pt x="0" y="673"/>
                    </a:lnTo>
                    <a:lnTo>
                      <a:pt x="26" y="299"/>
                    </a:lnTo>
                    <a:lnTo>
                      <a:pt x="315" y="15"/>
                    </a:lnTo>
                    <a:lnTo>
                      <a:pt x="528" y="0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37080" y="3250800"/>
                <a:ext cx="49320" cy="272880"/>
              </a:xfrm>
              <a:custGeom>
                <a:avLst/>
                <a:gdLst/>
                <a:ahLst/>
                <a:rect l="l" t="t" r="r" b="b"/>
                <a:pathLst>
                  <a:path w="175" h="670">
                    <a:moveTo>
                      <a:pt x="0" y="104"/>
                    </a:moveTo>
                    <a:lnTo>
                      <a:pt x="42" y="157"/>
                    </a:lnTo>
                    <a:lnTo>
                      <a:pt x="19" y="598"/>
                    </a:lnTo>
                    <a:lnTo>
                      <a:pt x="122" y="670"/>
                    </a:lnTo>
                    <a:lnTo>
                      <a:pt x="175" y="581"/>
                    </a:lnTo>
                    <a:lnTo>
                      <a:pt x="93" y="154"/>
                    </a:lnTo>
                    <a:lnTo>
                      <a:pt x="135" y="87"/>
                    </a:lnTo>
                    <a:lnTo>
                      <a:pt x="45" y="0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94960" y="3190680"/>
                <a:ext cx="108000" cy="133920"/>
              </a:xfrm>
              <a:custGeom>
                <a:avLst/>
                <a:gdLst/>
                <a:ahLst/>
                <a:rect l="l" t="t" r="r" b="b"/>
                <a:pathLst>
                  <a:path w="380" h="329">
                    <a:moveTo>
                      <a:pt x="0" y="38"/>
                    </a:moveTo>
                    <a:lnTo>
                      <a:pt x="55" y="295"/>
                    </a:lnTo>
                    <a:lnTo>
                      <a:pt x="205" y="202"/>
                    </a:lnTo>
                    <a:lnTo>
                      <a:pt x="332" y="329"/>
                    </a:lnTo>
                    <a:lnTo>
                      <a:pt x="380" y="65"/>
                    </a:lnTo>
                    <a:lnTo>
                      <a:pt x="342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180560" y="3087360"/>
                <a:ext cx="114840" cy="178560"/>
              </a:xfrm>
              <a:custGeom>
                <a:avLst/>
                <a:gdLst/>
                <a:ahLst/>
                <a:rect l="l" t="t" r="r" b="b"/>
                <a:pathLst>
                  <a:path w="403" h="441">
                    <a:moveTo>
                      <a:pt x="263" y="9"/>
                    </a:moveTo>
                    <a:lnTo>
                      <a:pt x="264" y="11"/>
                    </a:lnTo>
                    <a:lnTo>
                      <a:pt x="274" y="19"/>
                    </a:lnTo>
                    <a:lnTo>
                      <a:pt x="285" y="28"/>
                    </a:lnTo>
                    <a:lnTo>
                      <a:pt x="302" y="43"/>
                    </a:lnTo>
                    <a:lnTo>
                      <a:pt x="310" y="51"/>
                    </a:lnTo>
                    <a:lnTo>
                      <a:pt x="320" y="60"/>
                    </a:lnTo>
                    <a:lnTo>
                      <a:pt x="329" y="68"/>
                    </a:lnTo>
                    <a:lnTo>
                      <a:pt x="339" y="79"/>
                    </a:lnTo>
                    <a:lnTo>
                      <a:pt x="348" y="89"/>
                    </a:lnTo>
                    <a:lnTo>
                      <a:pt x="359" y="100"/>
                    </a:lnTo>
                    <a:lnTo>
                      <a:pt x="369" y="110"/>
                    </a:lnTo>
                    <a:lnTo>
                      <a:pt x="380" y="121"/>
                    </a:lnTo>
                    <a:lnTo>
                      <a:pt x="344" y="142"/>
                    </a:lnTo>
                    <a:lnTo>
                      <a:pt x="403" y="270"/>
                    </a:lnTo>
                    <a:lnTo>
                      <a:pt x="339" y="433"/>
                    </a:lnTo>
                    <a:lnTo>
                      <a:pt x="186" y="441"/>
                    </a:lnTo>
                    <a:lnTo>
                      <a:pt x="38" y="270"/>
                    </a:lnTo>
                    <a:lnTo>
                      <a:pt x="0" y="117"/>
                    </a:lnTo>
                    <a:lnTo>
                      <a:pt x="162" y="0"/>
                    </a:lnTo>
                    <a:lnTo>
                      <a:pt x="263" y="9"/>
                    </a:lnTo>
                    <a:lnTo>
                      <a:pt x="263" y="9"/>
                    </a:lnTo>
                    <a:close/>
                  </a:path>
                </a:pathLst>
              </a:custGeom>
              <a:solidFill>
                <a:srgbClr val="ffc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30960" y="3115800"/>
                <a:ext cx="51840" cy="30960"/>
              </a:xfrm>
              <a:custGeom>
                <a:avLst/>
                <a:gdLst/>
                <a:ahLst/>
                <a:rect l="l" t="t" r="r" b="b"/>
                <a:pathLst>
                  <a:path w="181" h="76">
                    <a:moveTo>
                      <a:pt x="152" y="0"/>
                    </a:moveTo>
                    <a:lnTo>
                      <a:pt x="0" y="28"/>
                    </a:lnTo>
                    <a:lnTo>
                      <a:pt x="13" y="76"/>
                    </a:lnTo>
                    <a:lnTo>
                      <a:pt x="181" y="28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b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09360" y="3153240"/>
                <a:ext cx="86400" cy="112680"/>
              </a:xfrm>
              <a:custGeom>
                <a:avLst/>
                <a:gdLst/>
                <a:ahLst/>
                <a:rect l="l" t="t" r="r" b="b"/>
                <a:pathLst>
                  <a:path w="302" h="280">
                    <a:moveTo>
                      <a:pt x="0" y="0"/>
                    </a:moveTo>
                    <a:lnTo>
                      <a:pt x="97" y="50"/>
                    </a:lnTo>
                    <a:lnTo>
                      <a:pt x="116" y="131"/>
                    </a:lnTo>
                    <a:lnTo>
                      <a:pt x="302" y="112"/>
                    </a:lnTo>
                    <a:lnTo>
                      <a:pt x="291" y="139"/>
                    </a:lnTo>
                    <a:lnTo>
                      <a:pt x="104" y="179"/>
                    </a:lnTo>
                    <a:lnTo>
                      <a:pt x="167" y="272"/>
                    </a:lnTo>
                    <a:lnTo>
                      <a:pt x="123" y="280"/>
                    </a:lnTo>
                    <a:lnTo>
                      <a:pt x="11" y="1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000920" y="3216600"/>
                <a:ext cx="160920" cy="441000"/>
              </a:xfrm>
              <a:custGeom>
                <a:avLst/>
                <a:gdLst/>
                <a:ahLst/>
                <a:rect l="l" t="t" r="r" b="b"/>
                <a:pathLst>
                  <a:path w="567" h="1085">
                    <a:moveTo>
                      <a:pt x="481" y="0"/>
                    </a:moveTo>
                    <a:lnTo>
                      <a:pt x="474" y="0"/>
                    </a:lnTo>
                    <a:lnTo>
                      <a:pt x="460" y="6"/>
                    </a:lnTo>
                    <a:lnTo>
                      <a:pt x="435" y="13"/>
                    </a:lnTo>
                    <a:lnTo>
                      <a:pt x="405" y="27"/>
                    </a:lnTo>
                    <a:lnTo>
                      <a:pt x="369" y="42"/>
                    </a:lnTo>
                    <a:lnTo>
                      <a:pt x="329" y="65"/>
                    </a:lnTo>
                    <a:lnTo>
                      <a:pt x="285" y="91"/>
                    </a:lnTo>
                    <a:lnTo>
                      <a:pt x="242" y="123"/>
                    </a:lnTo>
                    <a:lnTo>
                      <a:pt x="196" y="158"/>
                    </a:lnTo>
                    <a:lnTo>
                      <a:pt x="152" y="200"/>
                    </a:lnTo>
                    <a:lnTo>
                      <a:pt x="110" y="247"/>
                    </a:lnTo>
                    <a:lnTo>
                      <a:pt x="76" y="300"/>
                    </a:lnTo>
                    <a:lnTo>
                      <a:pt x="46" y="361"/>
                    </a:lnTo>
                    <a:lnTo>
                      <a:pt x="21" y="426"/>
                    </a:lnTo>
                    <a:lnTo>
                      <a:pt x="6" y="500"/>
                    </a:lnTo>
                    <a:lnTo>
                      <a:pt x="0" y="580"/>
                    </a:lnTo>
                    <a:lnTo>
                      <a:pt x="2" y="658"/>
                    </a:lnTo>
                    <a:lnTo>
                      <a:pt x="15" y="728"/>
                    </a:lnTo>
                    <a:lnTo>
                      <a:pt x="34" y="791"/>
                    </a:lnTo>
                    <a:lnTo>
                      <a:pt x="63" y="846"/>
                    </a:lnTo>
                    <a:lnTo>
                      <a:pt x="93" y="891"/>
                    </a:lnTo>
                    <a:lnTo>
                      <a:pt x="131" y="933"/>
                    </a:lnTo>
                    <a:lnTo>
                      <a:pt x="167" y="967"/>
                    </a:lnTo>
                    <a:lnTo>
                      <a:pt x="209" y="998"/>
                    </a:lnTo>
                    <a:lnTo>
                      <a:pt x="247" y="1021"/>
                    </a:lnTo>
                    <a:lnTo>
                      <a:pt x="285" y="1040"/>
                    </a:lnTo>
                    <a:lnTo>
                      <a:pt x="321" y="1055"/>
                    </a:lnTo>
                    <a:lnTo>
                      <a:pt x="356" y="1066"/>
                    </a:lnTo>
                    <a:lnTo>
                      <a:pt x="382" y="1074"/>
                    </a:lnTo>
                    <a:lnTo>
                      <a:pt x="403" y="1079"/>
                    </a:lnTo>
                    <a:lnTo>
                      <a:pt x="418" y="1083"/>
                    </a:lnTo>
                    <a:lnTo>
                      <a:pt x="424" y="1085"/>
                    </a:lnTo>
                    <a:lnTo>
                      <a:pt x="439" y="1043"/>
                    </a:lnTo>
                    <a:lnTo>
                      <a:pt x="339" y="918"/>
                    </a:lnTo>
                    <a:lnTo>
                      <a:pt x="302" y="967"/>
                    </a:lnTo>
                    <a:lnTo>
                      <a:pt x="72" y="707"/>
                    </a:lnTo>
                    <a:lnTo>
                      <a:pt x="105" y="369"/>
                    </a:lnTo>
                    <a:lnTo>
                      <a:pt x="173" y="390"/>
                    </a:lnTo>
                    <a:lnTo>
                      <a:pt x="361" y="93"/>
                    </a:lnTo>
                    <a:lnTo>
                      <a:pt x="415" y="137"/>
                    </a:lnTo>
                    <a:lnTo>
                      <a:pt x="567" y="51"/>
                    </a:lnTo>
                    <a:lnTo>
                      <a:pt x="481" y="0"/>
                    </a:lnTo>
                    <a:lnTo>
                      <a:pt x="481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206840" y="3418920"/>
                <a:ext cx="19800" cy="208800"/>
              </a:xfrm>
              <a:custGeom>
                <a:avLst/>
                <a:gdLst/>
                <a:ahLst/>
                <a:rect l="l" t="t" r="r" b="b"/>
                <a:pathLst>
                  <a:path w="71" h="513">
                    <a:moveTo>
                      <a:pt x="0" y="0"/>
                    </a:moveTo>
                    <a:lnTo>
                      <a:pt x="14" y="479"/>
                    </a:lnTo>
                    <a:lnTo>
                      <a:pt x="71" y="513"/>
                    </a:lnTo>
                    <a:lnTo>
                      <a:pt x="57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74440" y="3066840"/>
                <a:ext cx="88200" cy="137160"/>
              </a:xfrm>
              <a:custGeom>
                <a:avLst/>
                <a:gdLst/>
                <a:ahLst/>
                <a:rect l="l" t="t" r="r" b="b"/>
                <a:pathLst>
                  <a:path w="310" h="339">
                    <a:moveTo>
                      <a:pt x="310" y="55"/>
                    </a:moveTo>
                    <a:lnTo>
                      <a:pt x="124" y="129"/>
                    </a:lnTo>
                    <a:lnTo>
                      <a:pt x="124" y="211"/>
                    </a:lnTo>
                    <a:lnTo>
                      <a:pt x="65" y="196"/>
                    </a:lnTo>
                    <a:lnTo>
                      <a:pt x="61" y="198"/>
                    </a:lnTo>
                    <a:lnTo>
                      <a:pt x="57" y="206"/>
                    </a:lnTo>
                    <a:lnTo>
                      <a:pt x="54" y="219"/>
                    </a:lnTo>
                    <a:lnTo>
                      <a:pt x="52" y="234"/>
                    </a:lnTo>
                    <a:lnTo>
                      <a:pt x="52" y="249"/>
                    </a:lnTo>
                    <a:lnTo>
                      <a:pt x="57" y="264"/>
                    </a:lnTo>
                    <a:lnTo>
                      <a:pt x="63" y="272"/>
                    </a:lnTo>
                    <a:lnTo>
                      <a:pt x="69" y="280"/>
                    </a:lnTo>
                    <a:lnTo>
                      <a:pt x="80" y="283"/>
                    </a:lnTo>
                    <a:lnTo>
                      <a:pt x="92" y="291"/>
                    </a:lnTo>
                    <a:lnTo>
                      <a:pt x="73" y="339"/>
                    </a:lnTo>
                    <a:lnTo>
                      <a:pt x="69" y="335"/>
                    </a:lnTo>
                    <a:lnTo>
                      <a:pt x="57" y="327"/>
                    </a:lnTo>
                    <a:lnTo>
                      <a:pt x="48" y="320"/>
                    </a:lnTo>
                    <a:lnTo>
                      <a:pt x="44" y="310"/>
                    </a:lnTo>
                    <a:lnTo>
                      <a:pt x="35" y="301"/>
                    </a:lnTo>
                    <a:lnTo>
                      <a:pt x="29" y="291"/>
                    </a:lnTo>
                    <a:lnTo>
                      <a:pt x="21" y="278"/>
                    </a:lnTo>
                    <a:lnTo>
                      <a:pt x="14" y="263"/>
                    </a:lnTo>
                    <a:lnTo>
                      <a:pt x="8" y="245"/>
                    </a:lnTo>
                    <a:lnTo>
                      <a:pt x="4" y="228"/>
                    </a:lnTo>
                    <a:lnTo>
                      <a:pt x="0" y="206"/>
                    </a:lnTo>
                    <a:lnTo>
                      <a:pt x="0" y="185"/>
                    </a:lnTo>
                    <a:lnTo>
                      <a:pt x="2" y="160"/>
                    </a:lnTo>
                    <a:lnTo>
                      <a:pt x="6" y="135"/>
                    </a:lnTo>
                    <a:lnTo>
                      <a:pt x="247" y="0"/>
                    </a:lnTo>
                    <a:lnTo>
                      <a:pt x="310" y="55"/>
                    </a:lnTo>
                    <a:lnTo>
                      <a:pt x="310" y="55"/>
                    </a:lnTo>
                    <a:close/>
                  </a:path>
                </a:pathLst>
              </a:custGeom>
              <a:solidFill>
                <a:srgbClr val="b3b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4114800" y="3657600"/>
            <a:ext cx="1219320" cy="1143000"/>
            <a:chOff x="4114800" y="3657600"/>
            <a:chExt cx="1219320" cy="1143000"/>
          </a:xfrm>
        </p:grpSpPr>
        <p:sp>
          <p:nvSpPr>
            <p:cNvPr id="450" name=""/>
            <p:cNvSpPr/>
            <p:nvPr/>
          </p:nvSpPr>
          <p:spPr>
            <a:xfrm>
              <a:off x="4114800" y="3657600"/>
              <a:ext cx="1219320" cy="1143000"/>
            </a:xfrm>
            <a:prstGeom prst="ellipse">
              <a:avLst/>
            </a:prstGeom>
            <a:noFill/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24280" y="3657600"/>
              <a:ext cx="0" cy="114300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14800" y="4229280"/>
              <a:ext cx="1219320" cy="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1880" y="3751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2840" y="426708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70040" y="42670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35840" y="380988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458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59" name="logo%20UNC" descr=""/>
            <p:cNvPicPr/>
            <p:nvPr/>
          </p:nvPicPr>
          <p:blipFill>
            <a:blip r:embed="rId3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371600" y="4114800"/>
            <a:ext cx="64008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66ff"/>
                </a:solidFill>
                <a:latin typeface="Comic Sans MS"/>
              </a:rPr>
              <a:t>Ciclo diseñado para ayudar en el mejoramiento de un proc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2743200"/>
            <a:ext cx="7543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66ff"/>
                </a:solidFill>
                <a:latin typeface="Comic Sans MS"/>
              </a:rPr>
              <a:t>Planear – Hacer – Verificar - Actu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78480" y="1752480"/>
            <a:ext cx="306720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Comic Sans MS"/>
              </a:rPr>
              <a:t>El ciclo PHVA (PD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9960" y="83808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stión por PROCESOS: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una visión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335268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471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2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145680" y="3276720"/>
            <a:ext cx="383832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Comic Sans MS"/>
              </a:rPr>
              <a:t>Principio-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Comic Sans MS"/>
              </a:rPr>
              <a:t>Ac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Comic Sans MS"/>
              </a:rPr>
              <a:t>Procesos relacio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Comic Sans MS"/>
              </a:rPr>
              <a:t>Asignación y uso de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25920" y="5181480"/>
            <a:ext cx="46400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ción y control de 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86440" y="1828800"/>
            <a:ext cx="42984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ción y Clas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procesos por import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3544200">
            <a:off x="6308640" y="2682720"/>
            <a:ext cx="2469960" cy="1371600"/>
          </a:xfrm>
          <a:custGeom>
            <a:avLst/>
            <a:gdLst>
              <a:gd name="textAreaLeft" fmla="*/ 0 w 2469960"/>
              <a:gd name="textAreaRight" fmla="*/ 2470320 w 24699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5801" y="4425"/>
                </a:moveTo>
                <a:arcTo wR="-8101" hR="-8101" stAng="-7686121" swAng="-10638374"/>
                <a:lnTo>
                  <a:pt x="4542" y="1998"/>
                </a:lnTo>
                <a:arcTo wR="10800" hR="10800" stAng="-7524495" swAng="10638374"/>
                <a:lnTo>
                  <a:pt x="19130" y="21423"/>
                </a:lnTo>
                <a:lnTo>
                  <a:pt x="13445" y="20736"/>
                </a:lnTo>
                <a:lnTo>
                  <a:pt x="14133" y="1505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88560" y="91440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stión por PROCESOS: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una visión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1981080"/>
            <a:ext cx="320400" cy="37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Comic Sans MS"/>
              </a:rPr>
              <a:t>Dificult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485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6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800600" y="20574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82080" y="2743200"/>
            <a:ext cx="68695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terminar objetivos para cada proc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08000" y="3429000"/>
            <a:ext cx="29847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signar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71800" y="5105520"/>
            <a:ext cx="541008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legación de auto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uevos mecanismos de integ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1676520"/>
            <a:ext cx="5486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Comic Sans MS"/>
              </a:rPr>
              <a:t>Salvar dificult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36280" y="91440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stión por PROCESOS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una visión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46800" y="4191120"/>
            <a:ext cx="39967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ignar respons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0374200">
            <a:off x="914040" y="2742840"/>
            <a:ext cx="533520" cy="2133720"/>
          </a:xfrm>
          <a:custGeom>
            <a:avLst/>
            <a:gdLst>
              <a:gd name="textAreaLeft" fmla="*/ 71280 w 533520"/>
              <a:gd name="textAreaRight" fmla="*/ 462240 w 533520"/>
              <a:gd name="textAreaTop" fmla="*/ 397440 h 2133720"/>
              <a:gd name="textAreaBottom" fmla="*/ 15728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48" stAng="-5400000" swAng="-5400000"/>
                <a:lnTo>
                  <a:pt x="0" y="11899"/>
                </a:lnTo>
                <a:arcTo wR="21600" hR="8048" stAng="10800000" swAng="-2003369"/>
                <a:lnTo>
                  <a:pt x="10971" y="20558"/>
                </a:lnTo>
                <a:lnTo>
                  <a:pt x="21600" y="18021"/>
                </a:lnTo>
                <a:lnTo>
                  <a:pt x="10971" y="13399"/>
                </a:lnTo>
                <a:lnTo>
                  <a:pt x="10971" y="15053"/>
                </a:lnTo>
                <a:arcTo wR="21600" hR="8048" stAng="8796631" swAng="1688631"/>
                <a:lnTo>
                  <a:pt x="627" y="9973"/>
                </a:lnTo>
                <a:arcTo wR="21600" hR="8048" stAng="-10485262" swAng="5085262"/>
                <a:close/>
              </a:path>
              <a:path fill="darkenLess" w="21600" h="21600">
                <a:moveTo>
                  <a:pt x="21600" y="0"/>
                </a:moveTo>
                <a:arcTo wR="21600" hR="8048" stAng="-5400000" swAng="-5400000"/>
                <a:lnTo>
                  <a:pt x="0" y="8048"/>
                </a:lnTo>
                <a:arcTo wR="21600" hR="8048" stAng="10800000" swAng="-314738"/>
                <a:lnTo>
                  <a:pt x="627" y="9973"/>
                </a:lnTo>
                <a:arcTo wR="21600" hR="8048" stAng="-10485262" swAng="5085262"/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501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2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371600" y="2606760"/>
            <a:ext cx="7346880" cy="82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uencia de actividades cuyo producto crea un valor intrínseco para su usuario o client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160020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Comic Sans MS"/>
              </a:rPr>
              <a:t>Proce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533412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3429000"/>
            <a:ext cx="609840" cy="1752480"/>
          </a:xfrm>
          <a:prstGeom prst="downArrow">
            <a:avLst>
              <a:gd name="adj1" fmla="val 50000"/>
              <a:gd name="adj2" fmla="val 7184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12240" y="91440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stión por PROCESOS: 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una visión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86400" y="3519360"/>
            <a:ext cx="3200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érez-Fernandez de Velas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04920" y="304920"/>
            <a:ext cx="8534160" cy="6373800"/>
            <a:chOff x="304920" y="304920"/>
            <a:chExt cx="8534160" cy="6373800"/>
          </a:xfrm>
        </p:grpSpPr>
        <p:sp>
          <p:nvSpPr>
            <p:cNvPr id="515" name=""/>
            <p:cNvSpPr/>
            <p:nvPr/>
          </p:nvSpPr>
          <p:spPr>
            <a:xfrm>
              <a:off x="685800" y="6280200"/>
              <a:ext cx="3581280" cy="3985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U.N.C.P.B.A.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d9d9d9"/>
                  </a:solidFill>
                  <a:latin typeface="Tahoma"/>
                </a:rPr>
                <a:t>Tandil - Buenos Aires - ARGENT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6" name="logo%20UNC" descr=""/>
            <p:cNvPicPr/>
            <p:nvPr/>
          </p:nvPicPr>
          <p:blipFill>
            <a:blip r:embed="rId1"/>
            <a:stretch/>
          </p:blipFill>
          <p:spPr>
            <a:xfrm>
              <a:off x="747720" y="6248520"/>
              <a:ext cx="547560" cy="4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0492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4920" y="6553080"/>
              <a:ext cx="759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19720" y="6553080"/>
              <a:ext cx="44193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839080" y="304920"/>
              <a:ext cx="0" cy="6248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18:10:14Z</dcterms:created>
  <dc:creator>GRT - LAP</dc:creator>
  <dc:description/>
  <dc:language>en-US</dc:language>
  <cp:lastModifiedBy>C.P.C.E.C.A.B.A.</cp:lastModifiedBy>
  <dcterms:modified xsi:type="dcterms:W3CDTF">2006-11-06T22:07:08Z</dcterms:modified>
  <cp:revision>176</cp:revision>
  <dc:subject/>
  <dc:title>Gestión por Procesos</dc:title>
</cp:coreProperties>
</file>