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7B7-A4B3-4AA5-8AC9-99AF712F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3FD-879B-4104-8E47-F129030A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CDE-BF89-498B-B47E-592059AB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01F-8D85-411B-B850-6FFCEDC7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C3EF-E104-4A64-997E-6E137A72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D79-56B5-48E3-A6D3-7BF4B38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66CA-40FB-427E-864A-E4AE037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CC8A-C49D-4465-934E-0580FE3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EA0-ADA2-471A-A4B2-C54354E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767-1079-4C84-9C29-0A615ABE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B7FF-FA5B-43ED-9169-5C932E1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A47-9108-4A66-8AC4-EE1B80D3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0311-3C87-43EB-ACFA-B3D77652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05C-8978-4CE1-98FC-8576E87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FDE-48AD-498E-A1FA-BB61E96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763-69C1-4F37-9E20-93E7D8F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CE0-0079-446A-9BAA-ADA8EFAF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07E-CBDB-4C86-A54E-AAB77C4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BB1-A229-4C05-9865-C7E377A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364-F11C-4CF1-A990-5D91C77C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D22-228A-4A06-B363-D2E8DB1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61D-B9E1-4536-99BB-9787D76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CB6-AF14-4CEB-83BE-12BA232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A62-4445-4210-9451-F36A0A8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DB7-EAC7-43B8-AC26-F463651BE6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1F0-F64D-44FC-86DF-9607AE76D8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CONSEJO</a:t>
            </a: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PROFESIONAL DE CIENCIAS ECONÓMIC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eec94"/>
                </a:solidFill>
                <a:latin typeface="Arial"/>
              </a:rPr>
              <a:t>IXº CONGRESO PY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eec94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eec94"/>
                </a:solidFill>
                <a:latin typeface="Arial"/>
              </a:rPr>
              <a:t>Problemática de la Empresa Familiar y su adaptación al 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eec94"/>
                </a:solidFill>
                <a:latin typeface="Arial"/>
              </a:rPr>
              <a:t>Dra. Amanda Tartab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CONSEJO DE FAMIL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ncili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Legis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PROTOCOLO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Es un documento que define las líneas maestras para que la familia trabaje junta, incluyendo acuerdos específicos sobre empleo, retribuciones, propiedad de las acciones, herencia y otros factores que hacen a la integración y coordinación del negoc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PROTOCOLO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Misión y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Valores, normas y expect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Principio rectores del Consejo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Acuerdos de Familia y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PROTOCOLO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Times New Roman"/>
              </a:rPr>
              <a:t>Acuer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Compromiso de la familia con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Prioridades, recursos y puntos fuertes de la fami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Contribución de la familia a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Contribución de la empresa a la fami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Reglas para la participación de la familia en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Distribución de utilidad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Pautas para la sucesión y la h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Pautas para la incorporación de familiares a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RECOMENDACIONES</a:t>
            </a:r>
            <a:br>
              <a:rPr sz="3600"/>
            </a:b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PARA SU ADAPTACIÓ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eec94"/>
                </a:solidFill>
                <a:latin typeface="Arial"/>
              </a:rPr>
              <a:t>Análisis de su situación act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eec94"/>
                </a:solidFill>
                <a:latin typeface="Arial"/>
              </a:rPr>
              <a:t>Orientación hacia el aprendiza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RECOMENDACIONES PARA SU ADAPTACIÓ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PART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Estructura famili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Organización empres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eec94"/>
                </a:solidFill>
                <a:latin typeface="Arial"/>
              </a:rPr>
              <a:t>Organización de la propi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ec94"/>
                </a:solidFill>
                <a:latin typeface="Times New Roman"/>
              </a:rPr>
              <a:t>Amanda M. Tarta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Times New Roman"/>
              </a:rPr>
              <a:t>amandatartabini@ciudad.com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EMPRESA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Desventa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ncentración de poder y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Suc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riterios intu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nfli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Debilitamiento del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Poco inclinadas a los desafí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EMPRESA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Venta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Flexibi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Rapidez en la toma de deci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Orgu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Es un grupo primario unido por lazos de consanguinidad, afecto, constituido con una integración y orientación netamente emocion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FAMIL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EMPRE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Es un grupo secundario de personas que se unen con el objeto de explotar un negocio o servicio que le reditúe lucr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EMPRESA FAMILI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eec94"/>
                </a:solidFill>
                <a:latin typeface="Arial"/>
              </a:rPr>
              <a:t>FAMI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Cría Adul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Cuida de su 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Vehículo emo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Lazos de 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Relación inf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Continu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eec94"/>
                </a:solidFill>
                <a:latin typeface="Arial"/>
              </a:rPr>
              <a:t>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Obtiene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Producir para la 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Buen 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Vehículo 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Relación tempo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Relación f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eec94"/>
                </a:solidFill>
                <a:latin typeface="Arial"/>
              </a:rPr>
              <a:t>Temporalidad limit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VISION ESTRUCTUR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CONFLICT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Tip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Genera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de Gén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de Relación entre p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eec94"/>
                </a:solidFill>
                <a:latin typeface="Arial"/>
              </a:rPr>
              <a:t>de Comun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CONSEJO DE FAMIL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eec94"/>
                </a:solidFill>
                <a:latin typeface="Arial"/>
              </a:rPr>
              <a:t>Es un órgano de gobierno familiar que trata de establecer una forma ordenada de toma de decisiones que afectan a todos los miembros de la familia. Constituye una instancia formal que ayuda a clarificar los límites de los tres círculos de la visión estruct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9:42:25Z</dcterms:created>
  <dc:creator>x</dc:creator>
  <dc:description/>
  <dc:language>en-US</dc:language>
  <cp:lastModifiedBy>x</cp:lastModifiedBy>
  <dcterms:modified xsi:type="dcterms:W3CDTF">2006-11-02T19:54:44Z</dcterms:modified>
  <cp:revision>5</cp:revision>
  <dc:subject/>
  <dc:title>CONSEJO PROFESIONAL DE CIENCIAS ECONÓMICAS</dc:title>
</cp:coreProperties>
</file>