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7784-2917-49D5-9D3E-0A4ED575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7B9D-589E-4CD4-819A-1B7503BE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4C2-E3DA-4B20-8ECF-6B9479F7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527-54EE-43C4-9947-EEA0C6C1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D2BF-04A1-4622-A1E9-1970CBF6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5D8-5A97-43F2-8E49-3D3D9780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D96A-F4B9-4C28-B910-C19D705B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301D-5FE4-47E9-A949-32776EC7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AA7B-BF1F-4552-92DB-32E89CF5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AE6-183A-479D-A742-C9EA85C6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7579-4EBA-4DF1-AAFF-34F7AA54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4BA4-D562-44E1-BDBD-E8E1F42F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7DF4-17D2-407E-B68B-009AAC9BC09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19840" y="1425600"/>
            <a:ext cx="66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Arial"/>
              </a:rPr>
              <a:t>LA BRECHA EN LA CÚSPI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50524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b30152"/>
                </a:solidFill>
                <a:latin typeface="Arial"/>
              </a:rPr>
              <a:t>El vacío en la gerencia media como límite al crecimiento de las Py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3913200"/>
            <a:ext cx="60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Harald Sola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Harald Solaas y Aso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457200"/>
            <a:ext cx="807732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Síntomas típicos</a:t>
            </a:r>
            <a:r>
              <a:rPr b="0" lang="es-ES_tradnl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El fundador se ve forzado a trabajar por debajo de su nive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Algunas cuestiones no reciben toda la atención necesari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La gente se siente “perdida”</a:t>
            </a:r>
            <a:r>
              <a:rPr b="0" lang="es-ES_tradnl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Se comenten errores</a:t>
            </a:r>
            <a:r>
              <a:rPr b="0" lang="es-ES_tradnl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Se pierden oportunidades</a:t>
            </a:r>
            <a:r>
              <a:rPr b="0" lang="es-ES_tradnl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El crecimiento se hace difícil</a:t>
            </a:r>
            <a:r>
              <a:rPr b="0" lang="es-ES_tradnl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.</a:t>
            </a: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1040" y="6253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1. </a:t>
            </a:r>
            <a:r>
              <a:rPr b="1" lang="es-E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Diagnós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457200"/>
            <a:ext cx="8077320" cy="42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Análisis de la Organizació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Identificar y explicitar las tareas de estrato III requerid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Identificar responsabilidades actuales por estas tare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Identificar vacíos de responsabilidad.</a:t>
            </a: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1040" y="6253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1. </a:t>
            </a:r>
            <a:r>
              <a:rPr b="1" lang="es-E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Diagnós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12840" y="144360"/>
            <a:ext cx="761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2. Estructura requerida en Estrato II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03240" y="1219320"/>
            <a:ext cx="51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b30152"/>
                </a:solidFill>
                <a:latin typeface="Arial"/>
              </a:rPr>
              <a:t>Función             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32080" y="2590920"/>
            <a:ext cx="6035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5120" indent="-19051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Arial"/>
              </a:rPr>
              <a:t>Función:</a:t>
            </a:r>
            <a:r>
              <a:rPr b="0" lang="es-ES_tradnl" sz="3200" spc="-1" strike="noStrike">
                <a:solidFill>
                  <a:srgbClr val="000066"/>
                </a:solidFill>
                <a:latin typeface="Arial"/>
              </a:rPr>
              <a:t> Tipo de actividad laboral que comprende grupos de responsab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-19051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-19051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s-ES_tradnl" sz="3200" spc="-1" strike="noStrike">
                <a:solidFill>
                  <a:srgbClr val="000066"/>
                </a:solidFill>
                <a:latin typeface="Arial"/>
              </a:rPr>
              <a:t>Puesto: </a:t>
            </a:r>
            <a:r>
              <a:rPr b="0" lang="es-ES_tradnl" sz="3200" spc="-1" strike="noStrike">
                <a:solidFill>
                  <a:srgbClr val="000066"/>
                </a:solidFill>
                <a:latin typeface="Arial"/>
              </a:rPr>
              <a:t> Posición en un sistema labo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119480" y="1247400"/>
            <a:ext cx="714600" cy="602280"/>
            <a:chOff x="4119480" y="1247400"/>
            <a:chExt cx="714600" cy="602280"/>
          </a:xfrm>
        </p:grpSpPr>
        <p:sp>
          <p:nvSpPr>
            <p:cNvPr id="270" name=""/>
            <p:cNvSpPr/>
            <p:nvPr/>
          </p:nvSpPr>
          <p:spPr>
            <a:xfrm>
              <a:off x="4121280" y="1425600"/>
              <a:ext cx="712800" cy="95400"/>
            </a:xfrm>
            <a:prstGeom prst="rect">
              <a:avLst/>
            </a:prstGeom>
            <a:solidFill>
              <a:srgbClr val="b30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19480" y="1565280"/>
              <a:ext cx="712800" cy="95400"/>
            </a:xfrm>
            <a:prstGeom prst="rect">
              <a:avLst/>
            </a:prstGeom>
            <a:solidFill>
              <a:srgbClr val="b30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643200">
              <a:off x="4110480" y="1500840"/>
              <a:ext cx="712800" cy="95040"/>
            </a:xfrm>
            <a:prstGeom prst="rect">
              <a:avLst/>
            </a:prstGeom>
            <a:solidFill>
              <a:srgbClr val="b30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2438280" y="2143080"/>
            <a:ext cx="6629400" cy="6010200"/>
            <a:chOff x="2438280" y="2143080"/>
            <a:chExt cx="6629400" cy="6010200"/>
          </a:xfrm>
        </p:grpSpPr>
        <p:sp>
          <p:nvSpPr>
            <p:cNvPr id="274" name=""/>
            <p:cNvSpPr/>
            <p:nvPr/>
          </p:nvSpPr>
          <p:spPr>
            <a:xfrm flipV="1">
              <a:off x="3276360" y="6643440"/>
              <a:ext cx="4940280" cy="1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38280" y="2143080"/>
              <a:ext cx="6629400" cy="601020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86000" y="5143320"/>
              <a:ext cx="33433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63852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12840" y="144360"/>
            <a:ext cx="761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2. Estructura requerida en Estrato II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07080" y="2581200"/>
            <a:ext cx="775080" cy="5151600"/>
            <a:chOff x="307080" y="2581200"/>
            <a:chExt cx="775080" cy="5151600"/>
          </a:xfrm>
        </p:grpSpPr>
        <p:sp>
          <p:nvSpPr>
            <p:cNvPr id="280" name=""/>
            <p:cNvSpPr/>
            <p:nvPr/>
          </p:nvSpPr>
          <p:spPr>
            <a:xfrm>
              <a:off x="503280" y="7029360"/>
              <a:ext cx="37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5000" y="5546520"/>
              <a:ext cx="57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7080" y="4063680"/>
              <a:ext cx="77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1480" y="258120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IV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067360" y="4111560"/>
            <a:ext cx="534960" cy="5349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72000" y="2981160"/>
            <a:ext cx="534960" cy="535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295280" y="3027240"/>
            <a:ext cx="1146240" cy="411120"/>
            <a:chOff x="1295280" y="3027240"/>
            <a:chExt cx="1146240" cy="411120"/>
          </a:xfrm>
        </p:grpSpPr>
        <p:grpSp>
          <p:nvGrpSpPr>
            <p:cNvPr id="287" name=""/>
            <p:cNvGrpSpPr/>
            <p:nvPr/>
          </p:nvGrpSpPr>
          <p:grpSpPr>
            <a:xfrm>
              <a:off x="1295280" y="3027240"/>
              <a:ext cx="1146240" cy="106200"/>
              <a:chOff x="1295280" y="3027240"/>
              <a:chExt cx="1146240" cy="106200"/>
            </a:xfrm>
          </p:grpSpPr>
          <p:sp>
            <p:nvSpPr>
              <p:cNvPr id="288" name=""/>
              <p:cNvSpPr/>
              <p:nvPr/>
            </p:nvSpPr>
            <p:spPr>
              <a:xfrm>
                <a:off x="1295280" y="3027240"/>
                <a:ext cx="106200" cy="106200"/>
              </a:xfrm>
              <a:prstGeom prst="ellipse">
                <a:avLst/>
              </a:prstGeom>
              <a:solidFill>
                <a:srgbClr val="b30152"/>
              </a:solidFill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463400" y="3036600"/>
                <a:ext cx="978120" cy="87480"/>
              </a:xfrm>
              <a:prstGeom prst="rect">
                <a:avLst/>
              </a:prstGeom>
              <a:solidFill>
                <a:srgbClr val="b30152"/>
              </a:solidFill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1295280" y="3179520"/>
              <a:ext cx="1146240" cy="106200"/>
              <a:chOff x="1295280" y="3179520"/>
              <a:chExt cx="1146240" cy="106200"/>
            </a:xfrm>
          </p:grpSpPr>
          <p:sp>
            <p:nvSpPr>
              <p:cNvPr id="291" name=""/>
              <p:cNvSpPr/>
              <p:nvPr/>
            </p:nvSpPr>
            <p:spPr>
              <a:xfrm>
                <a:off x="1295280" y="3179520"/>
                <a:ext cx="106200" cy="106200"/>
              </a:xfrm>
              <a:prstGeom prst="ellipse">
                <a:avLst/>
              </a:prstGeom>
              <a:solidFill>
                <a:srgbClr val="b30152"/>
              </a:solidFill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463400" y="3188880"/>
                <a:ext cx="978120" cy="87480"/>
              </a:xfrm>
              <a:prstGeom prst="rect">
                <a:avLst/>
              </a:prstGeom>
              <a:solidFill>
                <a:srgbClr val="b30152"/>
              </a:solidFill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1295280" y="3332160"/>
              <a:ext cx="1146240" cy="106200"/>
              <a:chOff x="1295280" y="3332160"/>
              <a:chExt cx="1146240" cy="106200"/>
            </a:xfrm>
          </p:grpSpPr>
          <p:sp>
            <p:nvSpPr>
              <p:cNvPr id="294" name=""/>
              <p:cNvSpPr/>
              <p:nvPr/>
            </p:nvSpPr>
            <p:spPr>
              <a:xfrm>
                <a:off x="1295280" y="3332160"/>
                <a:ext cx="106200" cy="106200"/>
              </a:xfrm>
              <a:prstGeom prst="ellipse">
                <a:avLst/>
              </a:prstGeom>
              <a:solidFill>
                <a:srgbClr val="b30152"/>
              </a:solidFill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463400" y="3341520"/>
                <a:ext cx="978120" cy="87480"/>
              </a:xfrm>
              <a:prstGeom prst="rect">
                <a:avLst/>
              </a:prstGeom>
              <a:solidFill>
                <a:srgbClr val="b30152"/>
              </a:solidFill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6" name=""/>
          <p:cNvSpPr/>
          <p:nvPr/>
        </p:nvSpPr>
        <p:spPr>
          <a:xfrm>
            <a:off x="1206360" y="2168640"/>
            <a:ext cx="168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reas de Estrato II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r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8560" y="2828880"/>
            <a:ext cx="1162080" cy="774720"/>
          </a:xfrm>
          <a:prstGeom prst="flowChartDecis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00280" y="216864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persona a tiempo comple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94160" y="3216240"/>
            <a:ext cx="10396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2840" y="3613320"/>
            <a:ext cx="1212840" cy="749160"/>
          </a:xfrm>
          <a:custGeom>
            <a:avLst/>
            <a:gdLst/>
            <a:ahLst/>
            <a:rect l="l" t="t" r="r" b="b"/>
            <a:pathLst>
              <a:path w="944" h="472">
                <a:moveTo>
                  <a:pt x="0" y="0"/>
                </a:moveTo>
                <a:lnTo>
                  <a:pt x="0" y="472"/>
                </a:lnTo>
                <a:lnTo>
                  <a:pt x="944" y="4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05240" y="2873520"/>
            <a:ext cx="7621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19440" y="3819600"/>
            <a:ext cx="7621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612520" y="3216240"/>
            <a:ext cx="622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901800"/>
            <a:ext cx="70264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30152"/>
                </a:solidFill>
                <a:latin typeface="Arial"/>
              </a:rPr>
              <a:t>Pregunta: </a:t>
            </a:r>
            <a:r>
              <a:rPr b="0" lang="es-ES_tradnl" sz="2800" spc="-1" strike="noStrike">
                <a:solidFill>
                  <a:srgbClr val="b30152"/>
                </a:solidFill>
                <a:latin typeface="Arial"/>
              </a:rPr>
              <a:t>¿justifican las tareas de una función crear un puesto nuev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28600" y="380880"/>
            <a:ext cx="8458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2120" indent="-492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3. </a:t>
            </a:r>
            <a:r>
              <a:rPr b="1" lang="es-ES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Búsqueda y designación del nuevo ocupante u ocupan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160" y="1549440"/>
            <a:ext cx="81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66"/>
                </a:solidFill>
                <a:uFillTx/>
                <a:latin typeface="Arial"/>
                <a:ea typeface="Times New Roman"/>
              </a:rPr>
              <a:t>La disponibilidad de talento en la organización</a:t>
            </a:r>
            <a:r>
              <a:rPr b="1" lang="es-ES_tradnl" sz="2800" spc="-1" strike="noStrike" u="sng">
                <a:solidFill>
                  <a:srgbClr val="000066"/>
                </a:solidFill>
                <a:uFillTx/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58600" y="2514600"/>
            <a:ext cx="19591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Pregunt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27360" y="2492280"/>
            <a:ext cx="595944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¿Existen candidatos internos para el nuevo puesto o puestos de estrato III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4280" y="3706920"/>
            <a:ext cx="22352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Respuest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20520" y="3706920"/>
            <a:ext cx="60922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Evaluación del potencial individu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28600" y="380880"/>
            <a:ext cx="8458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2120" indent="-492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3. </a:t>
            </a:r>
            <a:r>
              <a:rPr b="1" lang="es-ES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Búsqueda y designación del nuevo ocupante u ocupan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6160" y="1549440"/>
            <a:ext cx="81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66"/>
                </a:solidFill>
                <a:uFillTx/>
                <a:latin typeface="Arial"/>
                <a:ea typeface="Times New Roman"/>
              </a:rPr>
              <a:t>La disponibilidad de talento en la organización</a:t>
            </a:r>
            <a:r>
              <a:rPr b="1" lang="es-ES_tradnl" sz="2800" spc="-1" strike="noStrike" u="sng">
                <a:solidFill>
                  <a:srgbClr val="000066"/>
                </a:solidFill>
                <a:uFillTx/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58600" y="2514600"/>
            <a:ext cx="19591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Pregunt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727360" y="2492280"/>
            <a:ext cx="595944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¿Existen candidatos internos para el nuevo puesto o puestos de estrato III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4280" y="3706920"/>
            <a:ext cx="22352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Respuest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20520" y="3706920"/>
            <a:ext cx="60922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Evaluación del potencial individu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32600" y="4732200"/>
            <a:ext cx="20840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Si existe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24120" y="4732200"/>
            <a:ext cx="53895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P</a:t>
            </a: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lan de desarrollo e inducción</a:t>
            </a:r>
            <a:r>
              <a:rPr b="0" lang="es-ES_tradnl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560" y="5234040"/>
            <a:ext cx="26557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Si no existe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27360" y="5232240"/>
            <a:ext cx="33764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B</a:t>
            </a: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úsqueda extern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28600" y="228600"/>
            <a:ext cx="8458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2120" indent="-492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3. </a:t>
            </a:r>
            <a:r>
              <a:rPr b="1" lang="es-ES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Búsqueda</a:t>
            </a:r>
            <a:r>
              <a:rPr b="1" lang="es-ES_tradnl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 externa</a:t>
            </a:r>
            <a:r>
              <a:rPr b="1" lang="es-ES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 y designación del nuevo ocupante u ocupan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7880" y="1523880"/>
            <a:ext cx="34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30152"/>
                </a:solidFill>
                <a:latin typeface="Arial"/>
                <a:ea typeface="Times New Roman"/>
              </a:rPr>
              <a:t>Recomend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2106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30152"/>
                </a:solidFill>
                <a:latin typeface="Arial"/>
                <a:ea typeface="Times New Roman"/>
              </a:rPr>
              <a:t>Base de reclutamiento amplia (muchos postulantes por cada puest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28600" y="228600"/>
            <a:ext cx="8458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2120" indent="-492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3. </a:t>
            </a:r>
            <a:r>
              <a:rPr b="1" lang="es-ES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Búsqueda</a:t>
            </a:r>
            <a:r>
              <a:rPr b="1" lang="es-ES_tradnl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 externa</a:t>
            </a:r>
            <a:r>
              <a:rPr b="1" lang="es-ES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 y designación del nuevo ocupante u ocupan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7880" y="1523880"/>
            <a:ext cx="34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30152"/>
                </a:solidFill>
                <a:latin typeface="Arial"/>
                <a:ea typeface="Times New Roman"/>
              </a:rPr>
              <a:t>Recomend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90720" y="37180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8280" indent="-368280">
              <a:lnSpc>
                <a:spcPct val="100000"/>
              </a:lnSpc>
              <a:buClr>
                <a:srgbClr val="b301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0152"/>
                </a:solidFill>
                <a:latin typeface="Arial"/>
                <a:ea typeface="Times New Roman"/>
              </a:rPr>
              <a:t>Potencial prim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00000"/>
              </a:lnSpc>
              <a:buClr>
                <a:srgbClr val="b301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0152"/>
                </a:solidFill>
                <a:latin typeface="Arial"/>
                <a:ea typeface="Times New Roman"/>
              </a:rPr>
              <a:t>Experiencia, formación y conocimien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00000"/>
              </a:lnSpc>
              <a:buClr>
                <a:srgbClr val="b301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0152"/>
                </a:solidFill>
                <a:latin typeface="Arial"/>
                <a:ea typeface="Times New Roman"/>
              </a:rPr>
              <a:t>Compromiso de los candidatos con la oportunidad labo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2106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30152"/>
                </a:solidFill>
                <a:latin typeface="Arial"/>
                <a:ea typeface="Times New Roman"/>
              </a:rPr>
              <a:t>Base de reclutamiento amplia (muchos postulantes por cada puest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3156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30152"/>
                </a:solidFill>
                <a:latin typeface="Arial"/>
                <a:ea typeface="Times New Roman"/>
              </a:rPr>
              <a:t>Evalu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28600" y="228600"/>
            <a:ext cx="8458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2120" indent="-492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3. </a:t>
            </a:r>
            <a:r>
              <a:rPr b="1" lang="es-ES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Búsqueda</a:t>
            </a:r>
            <a:r>
              <a:rPr b="1" lang="es-ES_tradnl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 externa</a:t>
            </a:r>
            <a:r>
              <a:rPr b="1" lang="es-ES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 y designación del nuevo ocupante u ocupan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7880" y="1523880"/>
            <a:ext cx="34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30152"/>
                </a:solidFill>
                <a:latin typeface="Arial"/>
                <a:ea typeface="Times New Roman"/>
              </a:rPr>
              <a:t>Recomend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90720" y="37180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8280" indent="-368280">
              <a:lnSpc>
                <a:spcPct val="100000"/>
              </a:lnSpc>
              <a:buClr>
                <a:srgbClr val="b301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0152"/>
                </a:solidFill>
                <a:latin typeface="Arial"/>
                <a:ea typeface="Times New Roman"/>
              </a:rPr>
              <a:t>Potencial prim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00000"/>
              </a:lnSpc>
              <a:buClr>
                <a:srgbClr val="b301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0152"/>
                </a:solidFill>
                <a:latin typeface="Arial"/>
                <a:ea typeface="Times New Roman"/>
              </a:rPr>
              <a:t>Experiencia, formación y conocimien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00000"/>
              </a:lnSpc>
              <a:buClr>
                <a:srgbClr val="b301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0152"/>
                </a:solidFill>
                <a:latin typeface="Arial"/>
                <a:ea typeface="Times New Roman"/>
              </a:rPr>
              <a:t>Compromiso de los candidatos con la oportunidad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2120" y="2106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30152"/>
                </a:solidFill>
                <a:latin typeface="Arial"/>
                <a:ea typeface="Times New Roman"/>
              </a:rPr>
              <a:t>Base de reclutamiento amplia (muchos postulantes por cada puest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55641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30152"/>
                </a:solidFill>
                <a:latin typeface="Arial"/>
                <a:ea typeface="Times New Roman"/>
              </a:rPr>
              <a:t>Fijar edad deseada según posibilidades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" y="3156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30152"/>
                </a:solidFill>
                <a:latin typeface="Arial"/>
                <a:ea typeface="Times New Roman"/>
              </a:rPr>
              <a:t>Evalu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 flipV="1">
            <a:off x="2424240" y="949320"/>
            <a:ext cx="3666960" cy="79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21000" y="1314360"/>
            <a:ext cx="3672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24240" y="1670040"/>
            <a:ext cx="366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22440" y="2025720"/>
            <a:ext cx="36687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21000" y="2382840"/>
            <a:ext cx="3672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17760" y="3119400"/>
            <a:ext cx="367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19200" y="3463920"/>
            <a:ext cx="3676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21000" y="4175280"/>
            <a:ext cx="3673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19200" y="4519440"/>
            <a:ext cx="36608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19200" y="4876920"/>
            <a:ext cx="366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19200" y="5113440"/>
            <a:ext cx="367056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417760" y="5349600"/>
            <a:ext cx="3673440" cy="3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16320" y="5591160"/>
            <a:ext cx="367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16320" y="5830920"/>
            <a:ext cx="36781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16320" y="6070680"/>
            <a:ext cx="36781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16320" y="6308640"/>
            <a:ext cx="367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17760" y="600120"/>
            <a:ext cx="3676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4876920"/>
            <a:ext cx="3736800" cy="1420560"/>
          </a:xfrm>
          <a:custGeom>
            <a:avLst/>
            <a:gdLst/>
            <a:ahLst/>
            <a:rect l="l" t="t" r="r" b="b"/>
            <a:pathLst>
              <a:path w="7869" h="2077">
                <a:moveTo>
                  <a:pt x="0" y="2077"/>
                </a:moveTo>
                <a:cubicBezTo>
                  <a:pt x="252" y="1935"/>
                  <a:pt x="1011" y="1479"/>
                  <a:pt x="1513" y="1224"/>
                </a:cubicBezTo>
                <a:cubicBezTo>
                  <a:pt x="2015" y="969"/>
                  <a:pt x="2504" y="723"/>
                  <a:pt x="3009" y="548"/>
                </a:cubicBezTo>
                <a:cubicBezTo>
                  <a:pt x="3514" y="373"/>
                  <a:pt x="3913" y="264"/>
                  <a:pt x="4545" y="176"/>
                </a:cubicBezTo>
                <a:cubicBezTo>
                  <a:pt x="5177" y="88"/>
                  <a:pt x="6247" y="44"/>
                  <a:pt x="6801" y="22"/>
                </a:cubicBezTo>
                <a:cubicBezTo>
                  <a:pt x="7355" y="0"/>
                  <a:pt x="7613" y="8"/>
                  <a:pt x="7869" y="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13160" y="3828960"/>
            <a:ext cx="3716280" cy="2003400"/>
          </a:xfrm>
          <a:custGeom>
            <a:avLst/>
            <a:gdLst/>
            <a:ahLst/>
            <a:rect l="l" t="t" r="r" b="b"/>
            <a:pathLst>
              <a:path w="7824" h="2926">
                <a:moveTo>
                  <a:pt x="0" y="2926"/>
                </a:moveTo>
                <a:cubicBezTo>
                  <a:pt x="253" y="2750"/>
                  <a:pt x="1014" y="2169"/>
                  <a:pt x="1519" y="1872"/>
                </a:cubicBezTo>
                <a:cubicBezTo>
                  <a:pt x="2024" y="1575"/>
                  <a:pt x="2526" y="1366"/>
                  <a:pt x="3029" y="1145"/>
                </a:cubicBezTo>
                <a:cubicBezTo>
                  <a:pt x="3532" y="924"/>
                  <a:pt x="4040" y="716"/>
                  <a:pt x="4538" y="545"/>
                </a:cubicBezTo>
                <a:cubicBezTo>
                  <a:pt x="5036" y="374"/>
                  <a:pt x="5637" y="207"/>
                  <a:pt x="6016" y="119"/>
                </a:cubicBezTo>
                <a:cubicBezTo>
                  <a:pt x="6395" y="31"/>
                  <a:pt x="6510" y="36"/>
                  <a:pt x="6811" y="18"/>
                </a:cubicBezTo>
                <a:cubicBezTo>
                  <a:pt x="7112" y="0"/>
                  <a:pt x="7613" y="10"/>
                  <a:pt x="7824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13160" y="2738520"/>
            <a:ext cx="3709800" cy="2636640"/>
          </a:xfrm>
          <a:custGeom>
            <a:avLst/>
            <a:gdLst/>
            <a:ahLst/>
            <a:rect l="l" t="t" r="r" b="b"/>
            <a:pathLst>
              <a:path w="7812" h="3847">
                <a:moveTo>
                  <a:pt x="0" y="3847"/>
                </a:moveTo>
                <a:cubicBezTo>
                  <a:pt x="253" y="3671"/>
                  <a:pt x="1016" y="3130"/>
                  <a:pt x="1521" y="2790"/>
                </a:cubicBezTo>
                <a:cubicBezTo>
                  <a:pt x="2026" y="2450"/>
                  <a:pt x="2528" y="2105"/>
                  <a:pt x="3031" y="1808"/>
                </a:cubicBezTo>
                <a:cubicBezTo>
                  <a:pt x="3534" y="1511"/>
                  <a:pt x="4034" y="1241"/>
                  <a:pt x="4540" y="1008"/>
                </a:cubicBezTo>
                <a:cubicBezTo>
                  <a:pt x="5046" y="775"/>
                  <a:pt x="5688" y="541"/>
                  <a:pt x="6067" y="408"/>
                </a:cubicBezTo>
                <a:cubicBezTo>
                  <a:pt x="6446" y="275"/>
                  <a:pt x="6522" y="276"/>
                  <a:pt x="6813" y="208"/>
                </a:cubicBezTo>
                <a:cubicBezTo>
                  <a:pt x="7104" y="140"/>
                  <a:pt x="7604" y="43"/>
                  <a:pt x="78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14600" y="1673280"/>
            <a:ext cx="3743280" cy="3338280"/>
          </a:xfrm>
          <a:custGeom>
            <a:avLst/>
            <a:gdLst/>
            <a:ahLst/>
            <a:rect l="l" t="t" r="r" b="b"/>
            <a:pathLst>
              <a:path w="7883" h="4875">
                <a:moveTo>
                  <a:pt x="0" y="4875"/>
                </a:moveTo>
                <a:cubicBezTo>
                  <a:pt x="250" y="4665"/>
                  <a:pt x="995" y="4030"/>
                  <a:pt x="1500" y="3618"/>
                </a:cubicBezTo>
                <a:cubicBezTo>
                  <a:pt x="2005" y="3206"/>
                  <a:pt x="2264" y="2906"/>
                  <a:pt x="3028" y="2400"/>
                </a:cubicBezTo>
                <a:cubicBezTo>
                  <a:pt x="3792" y="1894"/>
                  <a:pt x="5274" y="982"/>
                  <a:pt x="6083" y="582"/>
                </a:cubicBezTo>
                <a:cubicBezTo>
                  <a:pt x="6892" y="182"/>
                  <a:pt x="7508" y="121"/>
                  <a:pt x="7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14600" y="689040"/>
            <a:ext cx="3733920" cy="3914640"/>
          </a:xfrm>
          <a:custGeom>
            <a:avLst/>
            <a:gdLst/>
            <a:ahLst/>
            <a:rect l="l" t="t" r="r" b="b"/>
            <a:pathLst>
              <a:path w="3753" h="2418">
                <a:moveTo>
                  <a:pt x="0" y="2418"/>
                </a:moveTo>
                <a:cubicBezTo>
                  <a:pt x="120" y="2320"/>
                  <a:pt x="542" y="1976"/>
                  <a:pt x="723" y="1827"/>
                </a:cubicBezTo>
                <a:cubicBezTo>
                  <a:pt x="904" y="1678"/>
                  <a:pt x="963" y="1625"/>
                  <a:pt x="1083" y="1527"/>
                </a:cubicBezTo>
                <a:cubicBezTo>
                  <a:pt x="1203" y="1429"/>
                  <a:pt x="1263" y="1366"/>
                  <a:pt x="1443" y="1239"/>
                </a:cubicBezTo>
                <a:cubicBezTo>
                  <a:pt x="1623" y="1112"/>
                  <a:pt x="1922" y="916"/>
                  <a:pt x="2163" y="768"/>
                </a:cubicBezTo>
                <a:cubicBezTo>
                  <a:pt x="2404" y="620"/>
                  <a:pt x="2624" y="482"/>
                  <a:pt x="2889" y="354"/>
                </a:cubicBezTo>
                <a:cubicBezTo>
                  <a:pt x="3154" y="226"/>
                  <a:pt x="3573" y="74"/>
                  <a:pt x="375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421000" y="2762280"/>
            <a:ext cx="367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409840" y="583920"/>
            <a:ext cx="3679920" cy="5959800"/>
            <a:chOff x="2409840" y="583920"/>
            <a:chExt cx="3679920" cy="5959800"/>
          </a:xfrm>
        </p:grpSpPr>
        <p:sp>
          <p:nvSpPr>
            <p:cNvPr id="359" name=""/>
            <p:cNvSpPr/>
            <p:nvPr/>
          </p:nvSpPr>
          <p:spPr>
            <a:xfrm flipV="1">
              <a:off x="2510280" y="588960"/>
              <a:ext cx="0" cy="5953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58120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265356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72412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79756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870640" y="588960"/>
              <a:ext cx="0" cy="5953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94048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01248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08448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15540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228480" y="588960"/>
              <a:ext cx="0" cy="5953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30048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337140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44340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351576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586320" y="588960"/>
              <a:ext cx="0" cy="5953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365976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373032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80268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87360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945600" y="588960"/>
              <a:ext cx="0" cy="5953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01652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08960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416160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23252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4305600" y="588960"/>
              <a:ext cx="0" cy="5953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37652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444888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451944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459252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4664880" y="588960"/>
              <a:ext cx="0" cy="5953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73580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480744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487980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495072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023800" y="588960"/>
              <a:ext cx="0" cy="5953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509472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16672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523872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530964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381640" y="588960"/>
              <a:ext cx="0" cy="5953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552564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559800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66892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5740560" y="588960"/>
              <a:ext cx="0" cy="5953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581292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588924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96124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032160" y="58896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089760" y="583920"/>
              <a:ext cx="0" cy="59583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2409840" y="585360"/>
              <a:ext cx="0" cy="59536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455080" y="590040"/>
              <a:ext cx="0" cy="5953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2417760" y="3825720"/>
            <a:ext cx="3821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14600" y="593640"/>
            <a:ext cx="1130400" cy="2141640"/>
          </a:xfrm>
          <a:custGeom>
            <a:avLst/>
            <a:gdLst/>
            <a:ahLst/>
            <a:rect l="l" t="t" r="r" b="b"/>
            <a:pathLst>
              <a:path w="1020" h="1362">
                <a:moveTo>
                  <a:pt x="0" y="1362"/>
                </a:moveTo>
                <a:cubicBezTo>
                  <a:pt x="64" y="1273"/>
                  <a:pt x="128" y="1185"/>
                  <a:pt x="210" y="1074"/>
                </a:cubicBezTo>
                <a:cubicBezTo>
                  <a:pt x="292" y="963"/>
                  <a:pt x="400" y="820"/>
                  <a:pt x="492" y="696"/>
                </a:cubicBezTo>
                <a:cubicBezTo>
                  <a:pt x="584" y="572"/>
                  <a:pt x="674" y="446"/>
                  <a:pt x="762" y="330"/>
                </a:cubicBezTo>
                <a:cubicBezTo>
                  <a:pt x="850" y="214"/>
                  <a:pt x="979" y="52"/>
                  <a:pt x="102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14600" y="603360"/>
            <a:ext cx="1928880" cy="3189240"/>
          </a:xfrm>
          <a:custGeom>
            <a:avLst/>
            <a:gdLst/>
            <a:ahLst/>
            <a:rect l="l" t="t" r="r" b="b"/>
            <a:pathLst>
              <a:path w="1740" h="2028">
                <a:moveTo>
                  <a:pt x="0" y="2028"/>
                </a:moveTo>
                <a:cubicBezTo>
                  <a:pt x="33" y="1983"/>
                  <a:pt x="133" y="1849"/>
                  <a:pt x="201" y="1758"/>
                </a:cubicBezTo>
                <a:cubicBezTo>
                  <a:pt x="269" y="1667"/>
                  <a:pt x="325" y="1588"/>
                  <a:pt x="408" y="1482"/>
                </a:cubicBezTo>
                <a:cubicBezTo>
                  <a:pt x="491" y="1376"/>
                  <a:pt x="610" y="1228"/>
                  <a:pt x="696" y="1122"/>
                </a:cubicBezTo>
                <a:cubicBezTo>
                  <a:pt x="782" y="1016"/>
                  <a:pt x="849" y="933"/>
                  <a:pt x="924" y="846"/>
                </a:cubicBezTo>
                <a:cubicBezTo>
                  <a:pt x="999" y="759"/>
                  <a:pt x="1064" y="689"/>
                  <a:pt x="1146" y="600"/>
                </a:cubicBezTo>
                <a:cubicBezTo>
                  <a:pt x="1228" y="511"/>
                  <a:pt x="1340" y="391"/>
                  <a:pt x="1416" y="312"/>
                </a:cubicBezTo>
                <a:cubicBezTo>
                  <a:pt x="1492" y="233"/>
                  <a:pt x="1548" y="178"/>
                  <a:pt x="1602" y="126"/>
                </a:cubicBezTo>
                <a:cubicBezTo>
                  <a:pt x="1656" y="74"/>
                  <a:pt x="1698" y="37"/>
                  <a:pt x="17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593640"/>
            <a:ext cx="1449360" cy="2594160"/>
          </a:xfrm>
          <a:custGeom>
            <a:avLst/>
            <a:gdLst/>
            <a:ahLst/>
            <a:rect l="l" t="t" r="r" b="b"/>
            <a:pathLst>
              <a:path w="1308" h="1650">
                <a:moveTo>
                  <a:pt x="0" y="1650"/>
                </a:moveTo>
                <a:cubicBezTo>
                  <a:pt x="93" y="1538"/>
                  <a:pt x="187" y="1426"/>
                  <a:pt x="288" y="1302"/>
                </a:cubicBezTo>
                <a:cubicBezTo>
                  <a:pt x="389" y="1178"/>
                  <a:pt x="501" y="1040"/>
                  <a:pt x="606" y="906"/>
                </a:cubicBezTo>
                <a:cubicBezTo>
                  <a:pt x="711" y="772"/>
                  <a:pt x="801" y="649"/>
                  <a:pt x="918" y="498"/>
                </a:cubicBezTo>
                <a:cubicBezTo>
                  <a:pt x="1035" y="347"/>
                  <a:pt x="1171" y="173"/>
                  <a:pt x="130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14600" y="593640"/>
            <a:ext cx="2612880" cy="3576600"/>
          </a:xfrm>
          <a:custGeom>
            <a:avLst/>
            <a:gdLst/>
            <a:ahLst/>
            <a:rect l="l" t="t" r="r" b="b"/>
            <a:pathLst>
              <a:path w="2358" h="2274">
                <a:moveTo>
                  <a:pt x="0" y="2274"/>
                </a:moveTo>
                <a:cubicBezTo>
                  <a:pt x="85" y="2173"/>
                  <a:pt x="171" y="2073"/>
                  <a:pt x="252" y="1980"/>
                </a:cubicBezTo>
                <a:cubicBezTo>
                  <a:pt x="333" y="1887"/>
                  <a:pt x="383" y="1825"/>
                  <a:pt x="486" y="1716"/>
                </a:cubicBezTo>
                <a:cubicBezTo>
                  <a:pt x="589" y="1607"/>
                  <a:pt x="744" y="1451"/>
                  <a:pt x="870" y="1326"/>
                </a:cubicBezTo>
                <a:cubicBezTo>
                  <a:pt x="996" y="1201"/>
                  <a:pt x="1110" y="1090"/>
                  <a:pt x="1242" y="966"/>
                </a:cubicBezTo>
                <a:cubicBezTo>
                  <a:pt x="1374" y="842"/>
                  <a:pt x="1530" y="699"/>
                  <a:pt x="1662" y="582"/>
                </a:cubicBezTo>
                <a:cubicBezTo>
                  <a:pt x="1794" y="465"/>
                  <a:pt x="1918" y="361"/>
                  <a:pt x="2034" y="264"/>
                </a:cubicBezTo>
                <a:cubicBezTo>
                  <a:pt x="2150" y="167"/>
                  <a:pt x="2305" y="49"/>
                  <a:pt x="235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87720" y="6324480"/>
            <a:ext cx="3160800" cy="219240"/>
          </a:xfrm>
          <a:custGeom>
            <a:avLst/>
            <a:gdLst/>
            <a:ahLst/>
            <a:rect l="l" t="t" r="r" b="b"/>
            <a:pathLst>
              <a:path w="6652" h="319">
                <a:moveTo>
                  <a:pt x="0" y="319"/>
                </a:moveTo>
                <a:cubicBezTo>
                  <a:pt x="176" y="303"/>
                  <a:pt x="630" y="265"/>
                  <a:pt x="1058" y="222"/>
                </a:cubicBezTo>
                <a:cubicBezTo>
                  <a:pt x="1486" y="179"/>
                  <a:pt x="2063" y="99"/>
                  <a:pt x="2566" y="64"/>
                </a:cubicBezTo>
                <a:cubicBezTo>
                  <a:pt x="3069" y="28"/>
                  <a:pt x="3570" y="5"/>
                  <a:pt x="4075" y="2"/>
                </a:cubicBezTo>
                <a:cubicBezTo>
                  <a:pt x="4580" y="0"/>
                  <a:pt x="5166" y="36"/>
                  <a:pt x="5596" y="49"/>
                </a:cubicBezTo>
                <a:cubicBezTo>
                  <a:pt x="6026" y="63"/>
                  <a:pt x="6432" y="76"/>
                  <a:pt x="6652" y="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14600" y="5605560"/>
            <a:ext cx="3726000" cy="930240"/>
          </a:xfrm>
          <a:custGeom>
            <a:avLst/>
            <a:gdLst/>
            <a:ahLst/>
            <a:rect l="l" t="t" r="r" b="b"/>
            <a:pathLst>
              <a:path w="7847" h="1361">
                <a:moveTo>
                  <a:pt x="0" y="1361"/>
                </a:moveTo>
                <a:cubicBezTo>
                  <a:pt x="248" y="1277"/>
                  <a:pt x="1116" y="975"/>
                  <a:pt x="1490" y="858"/>
                </a:cubicBezTo>
                <a:cubicBezTo>
                  <a:pt x="1865" y="740"/>
                  <a:pt x="1863" y="757"/>
                  <a:pt x="2244" y="655"/>
                </a:cubicBezTo>
                <a:cubicBezTo>
                  <a:pt x="2625" y="553"/>
                  <a:pt x="3271" y="347"/>
                  <a:pt x="3775" y="247"/>
                </a:cubicBezTo>
                <a:cubicBezTo>
                  <a:pt x="4279" y="147"/>
                  <a:pt x="4919" y="95"/>
                  <a:pt x="5271" y="55"/>
                </a:cubicBezTo>
                <a:cubicBezTo>
                  <a:pt x="5623" y="15"/>
                  <a:pt x="5635" y="14"/>
                  <a:pt x="5887" y="7"/>
                </a:cubicBezTo>
                <a:cubicBezTo>
                  <a:pt x="6139" y="0"/>
                  <a:pt x="6456" y="6"/>
                  <a:pt x="6783" y="15"/>
                </a:cubicBezTo>
                <a:cubicBezTo>
                  <a:pt x="7110" y="24"/>
                  <a:pt x="7625" y="53"/>
                  <a:pt x="7847" y="6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6245280" y="393480"/>
            <a:ext cx="7920" cy="614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832760" y="6532560"/>
            <a:ext cx="4407480" cy="184320"/>
            <a:chOff x="1832760" y="6532560"/>
            <a:chExt cx="4407480" cy="184320"/>
          </a:xfrm>
        </p:grpSpPr>
        <p:sp>
          <p:nvSpPr>
            <p:cNvPr id="420" name=""/>
            <p:cNvSpPr/>
            <p:nvPr/>
          </p:nvSpPr>
          <p:spPr>
            <a:xfrm>
              <a:off x="2417760" y="6534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76320" y="6534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35240" y="6534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492360" y="6534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852720" y="6534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211640" y="6534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72000" y="6534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29120" y="6534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88040" y="6534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46600" y="6534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06960" y="6534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2408040" y="6539040"/>
              <a:ext cx="3832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32760" y="653256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2407680" y="679320"/>
            <a:ext cx="982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409120" y="1030320"/>
            <a:ext cx="982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407680" y="1398600"/>
            <a:ext cx="982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425320" y="1739880"/>
            <a:ext cx="738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15240" y="2111400"/>
            <a:ext cx="8604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25320" y="2460600"/>
            <a:ext cx="738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410560" y="2882880"/>
            <a:ext cx="982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10560" y="3205080"/>
            <a:ext cx="982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10560" y="3565440"/>
            <a:ext cx="982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17040" y="3941640"/>
            <a:ext cx="874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17040" y="4278240"/>
            <a:ext cx="874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17040" y="4637160"/>
            <a:ext cx="874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418840" y="4932360"/>
            <a:ext cx="738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413800" y="5176800"/>
            <a:ext cx="8604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420640" y="5386320"/>
            <a:ext cx="738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18840" y="5634000"/>
            <a:ext cx="738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18840" y="6103800"/>
            <a:ext cx="738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89080" y="6221520"/>
            <a:ext cx="3236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9800" bIns="19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1 Dí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743120" y="6016680"/>
            <a:ext cx="6634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1 Sem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049480" y="5748480"/>
            <a:ext cx="3632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9800" bIns="19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1 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32840" y="5508720"/>
            <a:ext cx="47628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9800" bIns="19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3 Mes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29600" y="5265720"/>
            <a:ext cx="47628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9800" bIns="19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6 Mes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26360" y="5027760"/>
            <a:ext cx="47628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9800" bIns="19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9 Mes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042640" y="4789440"/>
            <a:ext cx="3632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9800" bIns="19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1 A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875960" y="4437000"/>
            <a:ext cx="5324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9800" bIns="19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16 Mes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75960" y="4092480"/>
            <a:ext cx="5324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9800" bIns="19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20 Mes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9000" y="3736800"/>
            <a:ext cx="4197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9800" bIns="19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2 A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9000" y="3378240"/>
            <a:ext cx="4197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9800" bIns="19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3 A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89000" y="3035160"/>
            <a:ext cx="4197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9800" bIns="19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4 A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990440" y="2678040"/>
            <a:ext cx="4197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9800" bIns="19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5 A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89000" y="2297160"/>
            <a:ext cx="4197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9800" bIns="19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7 A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0040" y="1974960"/>
            <a:ext cx="7365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8,5 A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55880" y="1587600"/>
            <a:ext cx="44712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9800" bIns="19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10A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932120" y="1230480"/>
            <a:ext cx="47628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9800" bIns="19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14 A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27080" y="879480"/>
            <a:ext cx="47628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9800" bIns="19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17 A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30320" y="546120"/>
            <a:ext cx="47628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9800" bIns="19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20 A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520" y="3200400"/>
            <a:ext cx="1469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ORIZONTE TEMPO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3753360" y="412920"/>
            <a:ext cx="2496240" cy="5773320"/>
            <a:chOff x="3753360" y="412920"/>
            <a:chExt cx="2496240" cy="5773320"/>
          </a:xfrm>
        </p:grpSpPr>
        <p:sp>
          <p:nvSpPr>
            <p:cNvPr id="471" name=""/>
            <p:cNvSpPr/>
            <p:nvPr/>
          </p:nvSpPr>
          <p:spPr>
            <a:xfrm flipH="1" rot="5400000">
              <a:off x="5959080" y="590508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odo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rot="5400000">
              <a:off x="5913000" y="5135400"/>
              <a:ext cx="52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odo 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rot="5400000">
              <a:off x="5933520" y="430812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odo 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rot="5400000">
              <a:off x="5914440" y="3207240"/>
              <a:ext cx="492840" cy="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odo I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5400000">
              <a:off x="5944320" y="226872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odo 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rot="5400000">
              <a:off x="5922000" y="1143360"/>
              <a:ext cx="49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odo V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346360" y="41292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odo V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4594680" y="412920"/>
              <a:ext cx="56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odo V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4024080" y="412920"/>
              <a:ext cx="49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odo I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3753360" y="41292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 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 flipH="1" flipV="1">
            <a:off x="3760920" y="393840"/>
            <a:ext cx="2489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441680" y="398520"/>
            <a:ext cx="1526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951360" y="398520"/>
            <a:ext cx="149040" cy="223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127480" y="393480"/>
            <a:ext cx="16524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645000" y="394920"/>
            <a:ext cx="112680" cy="198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551680" y="609480"/>
            <a:ext cx="23767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AFICO DE PROGR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L POTEN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073320" y="4260960"/>
            <a:ext cx="327240" cy="495360"/>
            <a:chOff x="3073320" y="4260960"/>
            <a:chExt cx="327240" cy="495360"/>
          </a:xfrm>
        </p:grpSpPr>
        <p:sp>
          <p:nvSpPr>
            <p:cNvPr id="488" name=""/>
            <p:cNvSpPr/>
            <p:nvPr/>
          </p:nvSpPr>
          <p:spPr>
            <a:xfrm flipV="1">
              <a:off x="3073320" y="4335480"/>
              <a:ext cx="203040" cy="420480"/>
            </a:xfrm>
            <a:prstGeom prst="line">
              <a:avLst/>
            </a:prstGeom>
            <a:ln w="507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29120" y="4386240"/>
              <a:ext cx="126720" cy="126360"/>
            </a:xfrm>
            <a:custGeom>
              <a:avLst/>
              <a:gdLst/>
              <a:ahLst/>
              <a:rect l="l" t="t" r="r" b="b"/>
              <a:pathLst>
                <a:path w="1200" h="1488">
                  <a:moveTo>
                    <a:pt x="1200" y="0"/>
                  </a:moveTo>
                  <a:lnTo>
                    <a:pt x="192" y="144"/>
                  </a:lnTo>
                  <a:lnTo>
                    <a:pt x="0" y="1488"/>
                  </a:lnTo>
                </a:path>
              </a:pathLst>
            </a:custGeom>
            <a:noFill/>
            <a:ln w="507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50800" y="4391280"/>
              <a:ext cx="149760" cy="101160"/>
            </a:xfrm>
            <a:custGeom>
              <a:avLst/>
              <a:gdLst/>
              <a:ahLst/>
              <a:rect l="l" t="t" r="r" b="b"/>
              <a:pathLst>
                <a:path w="1584" h="960">
                  <a:moveTo>
                    <a:pt x="0" y="0"/>
                  </a:moveTo>
                  <a:lnTo>
                    <a:pt x="240" y="960"/>
                  </a:lnTo>
                  <a:lnTo>
                    <a:pt x="1584" y="624"/>
                  </a:lnTo>
                </a:path>
              </a:pathLst>
            </a:custGeom>
            <a:noFill/>
            <a:ln w="507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79880" y="4538520"/>
              <a:ext cx="86040" cy="217800"/>
            </a:xfrm>
            <a:custGeom>
              <a:avLst/>
              <a:gdLst/>
              <a:ahLst/>
              <a:rect l="l" t="t" r="r" b="b"/>
              <a:pathLst>
                <a:path w="816" h="2064">
                  <a:moveTo>
                    <a:pt x="0" y="0"/>
                  </a:moveTo>
                  <a:lnTo>
                    <a:pt x="816" y="672"/>
                  </a:lnTo>
                  <a:lnTo>
                    <a:pt x="240" y="2064"/>
                  </a:lnTo>
                </a:path>
              </a:pathLst>
            </a:custGeom>
            <a:noFill/>
            <a:ln w="507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48640" y="4260960"/>
              <a:ext cx="81000" cy="86040"/>
            </a:xfrm>
            <a:prstGeom prst="ellipse">
              <a:avLst/>
            </a:prstGeom>
            <a:noFill/>
            <a:ln w="507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4168800" y="4267080"/>
            <a:ext cx="326880" cy="495360"/>
            <a:chOff x="4168800" y="4267080"/>
            <a:chExt cx="326880" cy="495360"/>
          </a:xfrm>
        </p:grpSpPr>
        <p:sp>
          <p:nvSpPr>
            <p:cNvPr id="494" name=""/>
            <p:cNvSpPr/>
            <p:nvPr/>
          </p:nvSpPr>
          <p:spPr>
            <a:xfrm flipV="1">
              <a:off x="4168800" y="4341600"/>
              <a:ext cx="202680" cy="420480"/>
            </a:xfrm>
            <a:prstGeom prst="line">
              <a:avLst/>
            </a:prstGeom>
            <a:ln w="507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24240" y="4392360"/>
              <a:ext cx="126720" cy="126360"/>
            </a:xfrm>
            <a:custGeom>
              <a:avLst/>
              <a:gdLst/>
              <a:ahLst/>
              <a:rect l="l" t="t" r="r" b="b"/>
              <a:pathLst>
                <a:path w="1200" h="1488">
                  <a:moveTo>
                    <a:pt x="1200" y="0"/>
                  </a:moveTo>
                  <a:lnTo>
                    <a:pt x="192" y="144"/>
                  </a:lnTo>
                  <a:lnTo>
                    <a:pt x="0" y="1488"/>
                  </a:lnTo>
                </a:path>
              </a:pathLst>
            </a:custGeom>
            <a:noFill/>
            <a:ln w="507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46280" y="4397400"/>
              <a:ext cx="149400" cy="101160"/>
            </a:xfrm>
            <a:custGeom>
              <a:avLst/>
              <a:gdLst/>
              <a:ahLst/>
              <a:rect l="l" t="t" r="r" b="b"/>
              <a:pathLst>
                <a:path w="1584" h="960">
                  <a:moveTo>
                    <a:pt x="0" y="0"/>
                  </a:moveTo>
                  <a:lnTo>
                    <a:pt x="240" y="960"/>
                  </a:lnTo>
                  <a:lnTo>
                    <a:pt x="1584" y="624"/>
                  </a:lnTo>
                </a:path>
              </a:pathLst>
            </a:custGeom>
            <a:noFill/>
            <a:ln w="507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75000" y="4544640"/>
              <a:ext cx="86040" cy="217800"/>
            </a:xfrm>
            <a:custGeom>
              <a:avLst/>
              <a:gdLst/>
              <a:ahLst/>
              <a:rect l="l" t="t" r="r" b="b"/>
              <a:pathLst>
                <a:path w="816" h="2064">
                  <a:moveTo>
                    <a:pt x="0" y="0"/>
                  </a:moveTo>
                  <a:lnTo>
                    <a:pt x="816" y="672"/>
                  </a:lnTo>
                  <a:lnTo>
                    <a:pt x="240" y="2064"/>
                  </a:lnTo>
                </a:path>
              </a:pathLst>
            </a:custGeom>
            <a:noFill/>
            <a:ln w="507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343760" y="4267080"/>
              <a:ext cx="81000" cy="86040"/>
            </a:xfrm>
            <a:prstGeom prst="ellipse">
              <a:avLst/>
            </a:prstGeom>
            <a:noFill/>
            <a:ln w="507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307080" y="51055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30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07080" y="55627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45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224400" y="380988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Estrato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226200" y="22860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Estrato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00200" y="4800600"/>
            <a:ext cx="1371600" cy="60948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384"/>
                </a:moveTo>
                <a:cubicBezTo>
                  <a:pt x="78" y="365"/>
                  <a:pt x="327" y="331"/>
                  <a:pt x="471" y="267"/>
                </a:cubicBezTo>
                <a:cubicBezTo>
                  <a:pt x="615" y="203"/>
                  <a:pt x="782" y="56"/>
                  <a:pt x="86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505320" y="2514600"/>
            <a:ext cx="2514600" cy="1752480"/>
          </a:xfrm>
          <a:custGeom>
            <a:avLst/>
            <a:gdLst/>
            <a:ahLst/>
            <a:rect l="l" t="t" r="r" b="b"/>
            <a:pathLst>
              <a:path w="1584" h="1104">
                <a:moveTo>
                  <a:pt x="0" y="1104"/>
                </a:moveTo>
                <a:cubicBezTo>
                  <a:pt x="84" y="1020"/>
                  <a:pt x="168" y="936"/>
                  <a:pt x="240" y="864"/>
                </a:cubicBezTo>
                <a:cubicBezTo>
                  <a:pt x="312" y="792"/>
                  <a:pt x="352" y="744"/>
                  <a:pt x="432" y="672"/>
                </a:cubicBezTo>
                <a:cubicBezTo>
                  <a:pt x="512" y="600"/>
                  <a:pt x="600" y="520"/>
                  <a:pt x="720" y="432"/>
                </a:cubicBezTo>
                <a:cubicBezTo>
                  <a:pt x="840" y="344"/>
                  <a:pt x="1008" y="216"/>
                  <a:pt x="1152" y="144"/>
                </a:cubicBezTo>
                <a:cubicBezTo>
                  <a:pt x="1296" y="72"/>
                  <a:pt x="1440" y="36"/>
                  <a:pt x="1584" y="0"/>
                </a:cubicBezTo>
              </a:path>
            </a:pathLst>
          </a:custGeom>
          <a:noFill/>
          <a:ln w="7632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4017960"/>
            <a:ext cx="1447560" cy="401760"/>
          </a:xfrm>
          <a:custGeom>
            <a:avLst/>
            <a:gdLst/>
            <a:ahLst/>
            <a:rect l="l" t="t" r="r" b="b"/>
            <a:pathLst>
              <a:path w="912" h="253">
                <a:moveTo>
                  <a:pt x="0" y="253"/>
                </a:moveTo>
                <a:cubicBezTo>
                  <a:pt x="55" y="226"/>
                  <a:pt x="224" y="133"/>
                  <a:pt x="328" y="93"/>
                </a:cubicBezTo>
                <a:cubicBezTo>
                  <a:pt x="432" y="53"/>
                  <a:pt x="527" y="26"/>
                  <a:pt x="624" y="13"/>
                </a:cubicBezTo>
                <a:cubicBezTo>
                  <a:pt x="721" y="0"/>
                  <a:pt x="864" y="21"/>
                  <a:pt x="912" y="13"/>
                </a:cubicBezTo>
              </a:path>
            </a:pathLst>
          </a:custGeom>
          <a:noFill/>
          <a:ln w="7632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4800600"/>
            <a:ext cx="2361960" cy="1066680"/>
          </a:xfrm>
          <a:custGeom>
            <a:avLst/>
            <a:gdLst/>
            <a:ahLst/>
            <a:rect l="l" t="t" r="r" b="b"/>
            <a:pathLst>
              <a:path w="1488" h="672">
                <a:moveTo>
                  <a:pt x="0" y="672"/>
                </a:moveTo>
                <a:cubicBezTo>
                  <a:pt x="84" y="657"/>
                  <a:pt x="320" y="646"/>
                  <a:pt x="504" y="582"/>
                </a:cubicBezTo>
                <a:cubicBezTo>
                  <a:pt x="688" y="518"/>
                  <a:pt x="940" y="385"/>
                  <a:pt x="1104" y="288"/>
                </a:cubicBezTo>
                <a:cubicBezTo>
                  <a:pt x="1268" y="191"/>
                  <a:pt x="1416" y="48"/>
                  <a:pt x="1488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411280" y="5884920"/>
            <a:ext cx="9684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29400" y="518148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30152"/>
                </a:solidFill>
                <a:latin typeface="Arial"/>
              </a:rPr>
              <a:t>Fu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30152"/>
                </a:solidFill>
                <a:latin typeface="Arial"/>
              </a:rPr>
              <a:t>Elliott Ja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30152"/>
                </a:solidFill>
                <a:latin typeface="Arial"/>
              </a:rPr>
              <a:t>“</a:t>
            </a:r>
            <a:r>
              <a:rPr b="1" lang="es-ES_tradnl" sz="1600" spc="-1" strike="noStrike">
                <a:solidFill>
                  <a:srgbClr val="b30152"/>
                </a:solidFill>
                <a:latin typeface="Arial"/>
              </a:rPr>
              <a:t>La organización requerid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370240" y="66600"/>
            <a:ext cx="47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Arial"/>
              </a:rPr>
              <a:t>La brecha en la cúsp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89080" y="564840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b30152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90800" y="4165560"/>
            <a:ext cx="5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b30152"/>
                </a:solidFill>
                <a:latin typeface="Times New Roman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2880" y="2682720"/>
            <a:ext cx="7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b30152"/>
                </a:solidFill>
                <a:latin typeface="Times New Roman"/>
              </a:rPr>
              <a:t>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07280" y="12002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b30152"/>
                </a:solidFill>
                <a:latin typeface="Times New Roman"/>
              </a:rPr>
              <a:t>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476360" y="762120"/>
            <a:ext cx="6629400" cy="6010200"/>
            <a:chOff x="1476360" y="762120"/>
            <a:chExt cx="6629400" cy="6010200"/>
          </a:xfrm>
        </p:grpSpPr>
        <p:grpSp>
          <p:nvGrpSpPr>
            <p:cNvPr id="50" name=""/>
            <p:cNvGrpSpPr/>
            <p:nvPr/>
          </p:nvGrpSpPr>
          <p:grpSpPr>
            <a:xfrm>
              <a:off x="1476360" y="762120"/>
              <a:ext cx="6629400" cy="6010200"/>
              <a:chOff x="1476360" y="762120"/>
              <a:chExt cx="6629400" cy="6010200"/>
            </a:xfrm>
          </p:grpSpPr>
          <p:sp>
            <p:nvSpPr>
              <p:cNvPr id="51" name=""/>
              <p:cNvSpPr/>
              <p:nvPr/>
            </p:nvSpPr>
            <p:spPr>
              <a:xfrm flipV="1">
                <a:off x="2286000" y="5262480"/>
                <a:ext cx="4940280" cy="12960"/>
              </a:xfrm>
              <a:prstGeom prst="line">
                <a:avLst/>
              </a:prstGeom>
              <a:ln w="381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1476360" y="762120"/>
                <a:ext cx="6629400" cy="6010200"/>
                <a:chOff x="1476360" y="762120"/>
                <a:chExt cx="6629400" cy="6010200"/>
              </a:xfrm>
            </p:grpSpPr>
            <p:grpSp>
              <p:nvGrpSpPr>
                <p:cNvPr id="53" name=""/>
                <p:cNvGrpSpPr/>
                <p:nvPr/>
              </p:nvGrpSpPr>
              <p:grpSpPr>
                <a:xfrm>
                  <a:off x="1476360" y="762120"/>
                  <a:ext cx="6629400" cy="6010200"/>
                  <a:chOff x="1476360" y="762120"/>
                  <a:chExt cx="6629400" cy="6010200"/>
                </a:xfrm>
              </p:grpSpPr>
              <p:sp>
                <p:nvSpPr>
                  <p:cNvPr id="54" name=""/>
                  <p:cNvSpPr/>
                  <p:nvPr/>
                </p:nvSpPr>
                <p:spPr>
                  <a:xfrm>
                    <a:off x="1476360" y="762120"/>
                    <a:ext cx="6629400" cy="601020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57240">
                    <a:solidFill>
                      <a:srgbClr val="b3015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3124080" y="3762360"/>
                    <a:ext cx="3343320" cy="1440"/>
                  </a:xfrm>
                  <a:prstGeom prst="line">
                    <a:avLst/>
                  </a:prstGeom>
                  <a:ln w="38160">
                    <a:solidFill>
                      <a:srgbClr val="b3015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3990960" y="2257560"/>
                    <a:ext cx="1619280" cy="0"/>
                  </a:xfrm>
                  <a:prstGeom prst="line">
                    <a:avLst/>
                  </a:prstGeom>
                  <a:ln w="38160">
                    <a:solidFill>
                      <a:srgbClr val="b3015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" name=""/>
                <p:cNvSpPr/>
                <p:nvPr/>
              </p:nvSpPr>
              <p:spPr>
                <a:xfrm>
                  <a:off x="2971800" y="2279520"/>
                  <a:ext cx="3657600" cy="1471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" name=""/>
            <p:cNvSpPr/>
            <p:nvPr/>
          </p:nvSpPr>
          <p:spPr>
            <a:xfrm flipH="1" flipV="1">
              <a:off x="4667040" y="1545480"/>
              <a:ext cx="262080" cy="528480"/>
            </a:xfrm>
            <a:prstGeom prst="line">
              <a:avLst/>
            </a:prstGeom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14720" y="2030760"/>
              <a:ext cx="83880" cy="606240"/>
            </a:xfrm>
            <a:prstGeom prst="line">
              <a:avLst/>
            </a:prstGeom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908600" y="2033640"/>
              <a:ext cx="414360" cy="450360"/>
            </a:xfrm>
            <a:prstGeom prst="line">
              <a:avLst/>
            </a:prstGeom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779360" y="1064520"/>
              <a:ext cx="212400" cy="693360"/>
            </a:xfrm>
            <a:prstGeom prst="line">
              <a:avLst/>
            </a:prstGeom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4088880" y="1489680"/>
              <a:ext cx="669600" cy="277560"/>
            </a:xfrm>
            <a:prstGeom prst="line">
              <a:avLst/>
            </a:prstGeom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4734000" y="2889360"/>
              <a:ext cx="331560" cy="549000"/>
              <a:chOff x="4734000" y="2889360"/>
              <a:chExt cx="331560" cy="549000"/>
            </a:xfrm>
          </p:grpSpPr>
          <p:sp>
            <p:nvSpPr>
              <p:cNvPr id="64" name=""/>
              <p:cNvSpPr/>
              <p:nvPr/>
            </p:nvSpPr>
            <p:spPr>
              <a:xfrm>
                <a:off x="4734000" y="3108240"/>
                <a:ext cx="331560" cy="330120"/>
              </a:xfrm>
              <a:prstGeom prst="rect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741560" y="2889360"/>
                <a:ext cx="320400" cy="17280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863960" y="3046320"/>
                <a:ext cx="80640" cy="82800"/>
              </a:xfrm>
              <a:prstGeom prst="rect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 flipV="1">
              <a:off x="4905360" y="2309760"/>
              <a:ext cx="1440" cy="1038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20120400">
              <a:off x="3016080" y="4220640"/>
              <a:ext cx="401760" cy="271800"/>
            </a:xfrm>
            <a:custGeom>
              <a:avLst/>
              <a:gdLst/>
              <a:ahLst/>
              <a:rect l="l" t="t" r="r" b="b"/>
              <a:pathLst>
                <a:path w="1584" h="960">
                  <a:moveTo>
                    <a:pt x="0" y="0"/>
                  </a:moveTo>
                  <a:lnTo>
                    <a:pt x="240" y="960"/>
                  </a:lnTo>
                  <a:lnTo>
                    <a:pt x="1584" y="624"/>
                  </a:lnTo>
                </a:path>
              </a:pathLst>
            </a:custGeom>
            <a:noFill/>
            <a:ln w="1144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3432600" y="4175280"/>
              <a:ext cx="10440" cy="575640"/>
            </a:xfrm>
            <a:prstGeom prst="line">
              <a:avLst/>
            </a:prstGeom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0040600">
              <a:off x="3315960" y="3967200"/>
              <a:ext cx="217440" cy="231840"/>
            </a:xfrm>
            <a:prstGeom prst="ellipse">
              <a:avLst/>
            </a:prstGeom>
            <a:noFill/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479600">
              <a:off x="3420360" y="4225680"/>
              <a:ext cx="401760" cy="271800"/>
            </a:xfrm>
            <a:custGeom>
              <a:avLst/>
              <a:gdLst/>
              <a:ahLst/>
              <a:rect l="l" t="t" r="r" b="b"/>
              <a:pathLst>
                <a:path w="1584" h="960">
                  <a:moveTo>
                    <a:pt x="0" y="0"/>
                  </a:moveTo>
                  <a:lnTo>
                    <a:pt x="240" y="960"/>
                  </a:lnTo>
                  <a:lnTo>
                    <a:pt x="1584" y="624"/>
                  </a:lnTo>
                </a:path>
              </a:pathLst>
            </a:custGeom>
            <a:noFill/>
            <a:ln w="1144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270240" y="4660920"/>
              <a:ext cx="177840" cy="569880"/>
            </a:xfrm>
            <a:prstGeom prst="line">
              <a:avLst/>
            </a:prstGeom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43400" y="4660920"/>
              <a:ext cx="177840" cy="569880"/>
            </a:xfrm>
            <a:prstGeom prst="line">
              <a:avLst/>
            </a:prstGeom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96400" y="3641760"/>
              <a:ext cx="447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66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09520" y="3657600"/>
              <a:ext cx="447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66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0120400">
              <a:off x="5029200" y="4228920"/>
              <a:ext cx="401760" cy="271440"/>
            </a:xfrm>
            <a:custGeom>
              <a:avLst/>
              <a:gdLst/>
              <a:ahLst/>
              <a:rect l="l" t="t" r="r" b="b"/>
              <a:pathLst>
                <a:path w="1584" h="960">
                  <a:moveTo>
                    <a:pt x="0" y="0"/>
                  </a:moveTo>
                  <a:lnTo>
                    <a:pt x="240" y="960"/>
                  </a:lnTo>
                  <a:lnTo>
                    <a:pt x="1584" y="624"/>
                  </a:lnTo>
                </a:path>
              </a:pathLst>
            </a:custGeom>
            <a:noFill/>
            <a:ln w="1144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5445360" y="4138920"/>
              <a:ext cx="10440" cy="576000"/>
            </a:xfrm>
            <a:prstGeom prst="line">
              <a:avLst/>
            </a:prstGeom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20040600">
              <a:off x="5328720" y="3930120"/>
              <a:ext cx="217800" cy="231840"/>
            </a:xfrm>
            <a:prstGeom prst="ellipse">
              <a:avLst/>
            </a:prstGeom>
            <a:noFill/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1479600">
              <a:off x="5433120" y="4208040"/>
              <a:ext cx="401760" cy="271800"/>
            </a:xfrm>
            <a:custGeom>
              <a:avLst/>
              <a:gdLst/>
              <a:ahLst/>
              <a:rect l="l" t="t" r="r" b="b"/>
              <a:pathLst>
                <a:path w="1584" h="960">
                  <a:moveTo>
                    <a:pt x="0" y="0"/>
                  </a:moveTo>
                  <a:lnTo>
                    <a:pt x="240" y="960"/>
                  </a:lnTo>
                  <a:lnTo>
                    <a:pt x="1584" y="624"/>
                  </a:lnTo>
                </a:path>
              </a:pathLst>
            </a:custGeom>
            <a:noFill/>
            <a:ln w="1144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5283000" y="4624560"/>
              <a:ext cx="177480" cy="569880"/>
            </a:xfrm>
            <a:prstGeom prst="line">
              <a:avLst/>
            </a:prstGeom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56160" y="4624560"/>
              <a:ext cx="177840" cy="569880"/>
            </a:xfrm>
            <a:prstGeom prst="line">
              <a:avLst/>
            </a:prstGeom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040600">
              <a:off x="4519080" y="1314000"/>
              <a:ext cx="217800" cy="231840"/>
            </a:xfrm>
            <a:prstGeom prst="ellipse">
              <a:avLst/>
            </a:prstGeom>
            <a:noFill/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457200" y="352440"/>
            <a:ext cx="84582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0680" indent="-490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4.</a:t>
            </a:r>
            <a:r>
              <a:rPr b="1" lang="es-ES_tradnl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s-ES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Definición del nivel de remuneración de las nuevas posicion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676520"/>
            <a:ext cx="77122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Criterio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Sentido como razonable por el ocupan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Alineado con el mercad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457200" y="352440"/>
            <a:ext cx="84582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0680" indent="-490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4.</a:t>
            </a:r>
            <a:r>
              <a:rPr b="1" lang="es-ES_tradnl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s-ES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Definición del nivel de remuneración de las nuevas posicion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1676520"/>
            <a:ext cx="77122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Criterio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Sentido como razonable por el ocupan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Alineado con el mercad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Prevencion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“</a:t>
            </a: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Es muy caro”</a:t>
            </a:r>
            <a:r>
              <a:rPr b="0" lang="es-ES_tradnl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“</a:t>
            </a:r>
            <a:r>
              <a:rPr b="0" lang="es-ES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Los demás lo van a sentir como injusto”</a:t>
            </a:r>
            <a:r>
              <a:rPr b="0" lang="es-ES_tradnl" sz="3000" spc="-1" strike="noStrike">
                <a:solidFill>
                  <a:srgbClr val="b30152"/>
                </a:solidFill>
                <a:latin typeface="Arial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36160" y="380880"/>
            <a:ext cx="8687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5.</a:t>
            </a:r>
            <a:r>
              <a:rPr b="1" lang="es-ES_tradnl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s-ES" sz="3400" spc="-1" strike="noStrike">
                <a:solidFill>
                  <a:srgbClr val="000066"/>
                </a:solidFill>
                <a:latin typeface="Arial"/>
                <a:ea typeface="Times New Roman"/>
              </a:rPr>
              <a:t>Gerenciamiento de los nuevos puest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4920" y="1130400"/>
            <a:ext cx="86104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b30152"/>
                </a:solidFill>
                <a:latin typeface="Arial"/>
                <a:ea typeface="Times New Roman"/>
              </a:rPr>
              <a:t>Inducción del nuevo ocupante</a:t>
            </a:r>
            <a:r>
              <a:rPr b="0" lang="es-ES_tradnl" sz="3200" spc="-1" strike="noStrike">
                <a:solidFill>
                  <a:srgbClr val="b30152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b30152"/>
                </a:solidFill>
                <a:latin typeface="Arial"/>
                <a:ea typeface="Times New Roman"/>
              </a:rPr>
              <a:t>Asignaciones claras de tareas</a:t>
            </a:r>
            <a:r>
              <a:rPr b="0" lang="es-ES_tradnl" sz="3200" spc="-1" strike="noStrike">
                <a:solidFill>
                  <a:srgbClr val="b30152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b30152"/>
                </a:solidFill>
                <a:latin typeface="Arial"/>
                <a:ea typeface="Times New Roman"/>
              </a:rPr>
              <a:t>Revisión y evaluación en tiempos apropiados</a:t>
            </a:r>
            <a:r>
              <a:rPr b="0" lang="es-ES_tradnl" sz="3200" spc="-1" strike="noStrike">
                <a:solidFill>
                  <a:srgbClr val="b30152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b30152"/>
                </a:solidFill>
                <a:latin typeface="Arial"/>
                <a:ea typeface="Times New Roman"/>
              </a:rPr>
              <a:t>Entrenamiento individualizado </a:t>
            </a:r>
            <a:r>
              <a:rPr b="0" i="1" lang="es-ES" sz="3200" spc="-1" strike="noStrike">
                <a:solidFill>
                  <a:srgbClr val="b30152"/>
                </a:solidFill>
                <a:latin typeface="Arial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b30152"/>
                </a:solidFill>
                <a:latin typeface="Arial"/>
                <a:ea typeface="Times New Roman"/>
              </a:rPr>
              <a:t>coaching</a:t>
            </a:r>
            <a:r>
              <a:rPr b="0" i="1" lang="es-ES" sz="3200" spc="-1" strike="noStrike">
                <a:solidFill>
                  <a:srgbClr val="b30152"/>
                </a:solidFill>
                <a:latin typeface="Arial"/>
                <a:ea typeface="Times New Roman"/>
              </a:rPr>
              <a:t>)</a:t>
            </a:r>
            <a:r>
              <a:rPr b="0" i="1" lang="es-ES_tradnl" sz="3200" spc="-1" strike="noStrike">
                <a:solidFill>
                  <a:srgbClr val="b30152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b3015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 flipV="1">
            <a:off x="2286000" y="5262480"/>
            <a:ext cx="4940280" cy="12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447920" y="762120"/>
            <a:ext cx="6629400" cy="60102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095640" y="3762360"/>
            <a:ext cx="3343320" cy="14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962520" y="2257560"/>
            <a:ext cx="16192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79440" y="66600"/>
            <a:ext cx="69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Arial"/>
              </a:rPr>
              <a:t>El cierre de la brecha en la cúsp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89080" y="564840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090800" y="4165560"/>
            <a:ext cx="5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Times New Roman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92880" y="2682720"/>
            <a:ext cx="7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Times New Roman"/>
              </a:rPr>
              <a:t>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07280" y="12002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Times New Roman"/>
              </a:rPr>
              <a:t>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4363920" y="1141560"/>
            <a:ext cx="671760" cy="1017360"/>
            <a:chOff x="4363920" y="1141560"/>
            <a:chExt cx="671760" cy="1017360"/>
          </a:xfrm>
        </p:grpSpPr>
        <p:sp>
          <p:nvSpPr>
            <p:cNvPr id="525" name=""/>
            <p:cNvSpPr/>
            <p:nvPr/>
          </p:nvSpPr>
          <p:spPr>
            <a:xfrm flipV="1">
              <a:off x="4363920" y="1294560"/>
              <a:ext cx="416520" cy="863640"/>
            </a:xfrm>
            <a:prstGeom prst="line">
              <a:avLst/>
            </a:prstGeom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78400" y="1399320"/>
              <a:ext cx="260280" cy="259560"/>
            </a:xfrm>
            <a:custGeom>
              <a:avLst/>
              <a:gdLst/>
              <a:ahLst/>
              <a:rect l="l" t="t" r="r" b="b"/>
              <a:pathLst>
                <a:path w="1200" h="1488">
                  <a:moveTo>
                    <a:pt x="1200" y="0"/>
                  </a:moveTo>
                  <a:lnTo>
                    <a:pt x="192" y="144"/>
                  </a:lnTo>
                  <a:lnTo>
                    <a:pt x="0" y="1488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28240" y="1409400"/>
              <a:ext cx="307440" cy="208080"/>
            </a:xfrm>
            <a:custGeom>
              <a:avLst/>
              <a:gdLst/>
              <a:ahLst/>
              <a:rect l="l" t="t" r="r" b="b"/>
              <a:pathLst>
                <a:path w="1584" h="960">
                  <a:moveTo>
                    <a:pt x="0" y="0"/>
                  </a:moveTo>
                  <a:lnTo>
                    <a:pt x="240" y="960"/>
                  </a:lnTo>
                  <a:lnTo>
                    <a:pt x="1584" y="62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82440" y="1711440"/>
              <a:ext cx="177120" cy="447480"/>
            </a:xfrm>
            <a:custGeom>
              <a:avLst/>
              <a:gdLst/>
              <a:ahLst/>
              <a:rect l="l" t="t" r="r" b="b"/>
              <a:pathLst>
                <a:path w="816" h="2064">
                  <a:moveTo>
                    <a:pt x="0" y="0"/>
                  </a:moveTo>
                  <a:lnTo>
                    <a:pt x="816" y="672"/>
                  </a:lnTo>
                  <a:lnTo>
                    <a:pt x="240" y="206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23560" y="1141560"/>
              <a:ext cx="166320" cy="176760"/>
            </a:xfrm>
            <a:prstGeom prst="ellipse">
              <a:avLst/>
            </a:prstGeom>
            <a:noFill/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809880" y="2487600"/>
            <a:ext cx="671760" cy="1017720"/>
            <a:chOff x="3809880" y="2487600"/>
            <a:chExt cx="671760" cy="1017720"/>
          </a:xfrm>
        </p:grpSpPr>
        <p:sp>
          <p:nvSpPr>
            <p:cNvPr id="531" name=""/>
            <p:cNvSpPr/>
            <p:nvPr/>
          </p:nvSpPr>
          <p:spPr>
            <a:xfrm flipV="1">
              <a:off x="3809880" y="2641320"/>
              <a:ext cx="416520" cy="864000"/>
            </a:xfrm>
            <a:prstGeom prst="line">
              <a:avLst/>
            </a:prstGeom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24360" y="2745360"/>
              <a:ext cx="260280" cy="259560"/>
            </a:xfrm>
            <a:custGeom>
              <a:avLst/>
              <a:gdLst/>
              <a:ahLst/>
              <a:rect l="l" t="t" r="r" b="b"/>
              <a:pathLst>
                <a:path w="1200" h="1488">
                  <a:moveTo>
                    <a:pt x="1200" y="0"/>
                  </a:moveTo>
                  <a:lnTo>
                    <a:pt x="192" y="144"/>
                  </a:lnTo>
                  <a:lnTo>
                    <a:pt x="0" y="1488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74200" y="2755800"/>
              <a:ext cx="307440" cy="208080"/>
            </a:xfrm>
            <a:custGeom>
              <a:avLst/>
              <a:gdLst/>
              <a:ahLst/>
              <a:rect l="l" t="t" r="r" b="b"/>
              <a:pathLst>
                <a:path w="1584" h="960">
                  <a:moveTo>
                    <a:pt x="0" y="0"/>
                  </a:moveTo>
                  <a:lnTo>
                    <a:pt x="240" y="960"/>
                  </a:lnTo>
                  <a:lnTo>
                    <a:pt x="1584" y="62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28400" y="3057840"/>
              <a:ext cx="177120" cy="447480"/>
            </a:xfrm>
            <a:custGeom>
              <a:avLst/>
              <a:gdLst/>
              <a:ahLst/>
              <a:rect l="l" t="t" r="r" b="b"/>
              <a:pathLst>
                <a:path w="816" h="2064">
                  <a:moveTo>
                    <a:pt x="0" y="0"/>
                  </a:moveTo>
                  <a:lnTo>
                    <a:pt x="816" y="672"/>
                  </a:lnTo>
                  <a:lnTo>
                    <a:pt x="240" y="206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69520" y="2487600"/>
              <a:ext cx="166320" cy="176760"/>
            </a:xfrm>
            <a:prstGeom prst="ellipse">
              <a:avLst/>
            </a:prstGeom>
            <a:noFill/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4738680" y="2487600"/>
            <a:ext cx="671400" cy="1017720"/>
            <a:chOff x="4738680" y="2487600"/>
            <a:chExt cx="671400" cy="1017720"/>
          </a:xfrm>
        </p:grpSpPr>
        <p:sp>
          <p:nvSpPr>
            <p:cNvPr id="537" name=""/>
            <p:cNvSpPr/>
            <p:nvPr/>
          </p:nvSpPr>
          <p:spPr>
            <a:xfrm flipV="1">
              <a:off x="4738680" y="2641320"/>
              <a:ext cx="416520" cy="864000"/>
            </a:xfrm>
            <a:prstGeom prst="line">
              <a:avLst/>
            </a:prstGeom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53160" y="2745360"/>
              <a:ext cx="259920" cy="259560"/>
            </a:xfrm>
            <a:custGeom>
              <a:avLst/>
              <a:gdLst/>
              <a:ahLst/>
              <a:rect l="l" t="t" r="r" b="b"/>
              <a:pathLst>
                <a:path w="1200" h="1488">
                  <a:moveTo>
                    <a:pt x="1200" y="0"/>
                  </a:moveTo>
                  <a:lnTo>
                    <a:pt x="192" y="144"/>
                  </a:lnTo>
                  <a:lnTo>
                    <a:pt x="0" y="1488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03000" y="2755800"/>
              <a:ext cx="307080" cy="208080"/>
            </a:xfrm>
            <a:custGeom>
              <a:avLst/>
              <a:gdLst/>
              <a:ahLst/>
              <a:rect l="l" t="t" r="r" b="b"/>
              <a:pathLst>
                <a:path w="1584" h="960">
                  <a:moveTo>
                    <a:pt x="0" y="0"/>
                  </a:moveTo>
                  <a:lnTo>
                    <a:pt x="240" y="960"/>
                  </a:lnTo>
                  <a:lnTo>
                    <a:pt x="1584" y="62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57200" y="3057840"/>
              <a:ext cx="176760" cy="447480"/>
            </a:xfrm>
            <a:custGeom>
              <a:avLst/>
              <a:gdLst/>
              <a:ahLst/>
              <a:rect l="l" t="t" r="r" b="b"/>
              <a:pathLst>
                <a:path w="816" h="2064">
                  <a:moveTo>
                    <a:pt x="0" y="0"/>
                  </a:moveTo>
                  <a:lnTo>
                    <a:pt x="816" y="672"/>
                  </a:lnTo>
                  <a:lnTo>
                    <a:pt x="240" y="206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098320" y="2487600"/>
              <a:ext cx="166320" cy="176760"/>
            </a:xfrm>
            <a:prstGeom prst="ellipse">
              <a:avLst/>
            </a:prstGeom>
            <a:noFill/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971800" y="3962520"/>
            <a:ext cx="671400" cy="1017360"/>
            <a:chOff x="2971800" y="3962520"/>
            <a:chExt cx="671400" cy="1017360"/>
          </a:xfrm>
        </p:grpSpPr>
        <p:sp>
          <p:nvSpPr>
            <p:cNvPr id="543" name=""/>
            <p:cNvSpPr/>
            <p:nvPr/>
          </p:nvSpPr>
          <p:spPr>
            <a:xfrm flipV="1">
              <a:off x="2971800" y="4115520"/>
              <a:ext cx="416520" cy="863640"/>
            </a:xfrm>
            <a:prstGeom prst="line">
              <a:avLst/>
            </a:prstGeom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086280" y="4220280"/>
              <a:ext cx="259920" cy="259560"/>
            </a:xfrm>
            <a:custGeom>
              <a:avLst/>
              <a:gdLst/>
              <a:ahLst/>
              <a:rect l="l" t="t" r="r" b="b"/>
              <a:pathLst>
                <a:path w="1200" h="1488">
                  <a:moveTo>
                    <a:pt x="1200" y="0"/>
                  </a:moveTo>
                  <a:lnTo>
                    <a:pt x="192" y="144"/>
                  </a:lnTo>
                  <a:lnTo>
                    <a:pt x="0" y="1488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36120" y="4230360"/>
              <a:ext cx="307080" cy="208080"/>
            </a:xfrm>
            <a:custGeom>
              <a:avLst/>
              <a:gdLst/>
              <a:ahLst/>
              <a:rect l="l" t="t" r="r" b="b"/>
              <a:pathLst>
                <a:path w="1584" h="960">
                  <a:moveTo>
                    <a:pt x="0" y="0"/>
                  </a:moveTo>
                  <a:lnTo>
                    <a:pt x="240" y="960"/>
                  </a:lnTo>
                  <a:lnTo>
                    <a:pt x="1584" y="62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90320" y="4532400"/>
              <a:ext cx="176760" cy="447480"/>
            </a:xfrm>
            <a:custGeom>
              <a:avLst/>
              <a:gdLst/>
              <a:ahLst/>
              <a:rect l="l" t="t" r="r" b="b"/>
              <a:pathLst>
                <a:path w="816" h="2064">
                  <a:moveTo>
                    <a:pt x="0" y="0"/>
                  </a:moveTo>
                  <a:lnTo>
                    <a:pt x="816" y="672"/>
                  </a:lnTo>
                  <a:lnTo>
                    <a:pt x="240" y="206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331440" y="3962520"/>
              <a:ext cx="166320" cy="176760"/>
            </a:xfrm>
            <a:prstGeom prst="ellipse">
              <a:avLst/>
            </a:prstGeom>
            <a:noFill/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4273560" y="3962520"/>
            <a:ext cx="671400" cy="1017360"/>
            <a:chOff x="4273560" y="3962520"/>
            <a:chExt cx="671400" cy="1017360"/>
          </a:xfrm>
        </p:grpSpPr>
        <p:sp>
          <p:nvSpPr>
            <p:cNvPr id="549" name=""/>
            <p:cNvSpPr/>
            <p:nvPr/>
          </p:nvSpPr>
          <p:spPr>
            <a:xfrm flipV="1">
              <a:off x="4273560" y="4115520"/>
              <a:ext cx="416520" cy="863640"/>
            </a:xfrm>
            <a:prstGeom prst="line">
              <a:avLst/>
            </a:prstGeom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88040" y="4220280"/>
              <a:ext cx="259920" cy="259560"/>
            </a:xfrm>
            <a:custGeom>
              <a:avLst/>
              <a:gdLst/>
              <a:ahLst/>
              <a:rect l="l" t="t" r="r" b="b"/>
              <a:pathLst>
                <a:path w="1200" h="1488">
                  <a:moveTo>
                    <a:pt x="1200" y="0"/>
                  </a:moveTo>
                  <a:lnTo>
                    <a:pt x="192" y="144"/>
                  </a:lnTo>
                  <a:lnTo>
                    <a:pt x="0" y="1488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37880" y="4230360"/>
              <a:ext cx="307080" cy="208080"/>
            </a:xfrm>
            <a:custGeom>
              <a:avLst/>
              <a:gdLst/>
              <a:ahLst/>
              <a:rect l="l" t="t" r="r" b="b"/>
              <a:pathLst>
                <a:path w="1584" h="960">
                  <a:moveTo>
                    <a:pt x="0" y="0"/>
                  </a:moveTo>
                  <a:lnTo>
                    <a:pt x="240" y="960"/>
                  </a:lnTo>
                  <a:lnTo>
                    <a:pt x="1584" y="62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92080" y="4532400"/>
              <a:ext cx="176760" cy="447480"/>
            </a:xfrm>
            <a:custGeom>
              <a:avLst/>
              <a:gdLst/>
              <a:ahLst/>
              <a:rect l="l" t="t" r="r" b="b"/>
              <a:pathLst>
                <a:path w="816" h="2064">
                  <a:moveTo>
                    <a:pt x="0" y="0"/>
                  </a:moveTo>
                  <a:lnTo>
                    <a:pt x="816" y="672"/>
                  </a:lnTo>
                  <a:lnTo>
                    <a:pt x="240" y="206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633200" y="3962520"/>
              <a:ext cx="166320" cy="176760"/>
            </a:xfrm>
            <a:prstGeom prst="ellipse">
              <a:avLst/>
            </a:prstGeom>
            <a:noFill/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5576760" y="3962520"/>
            <a:ext cx="671760" cy="1017360"/>
            <a:chOff x="5576760" y="3962520"/>
            <a:chExt cx="671760" cy="1017360"/>
          </a:xfrm>
        </p:grpSpPr>
        <p:sp>
          <p:nvSpPr>
            <p:cNvPr id="555" name=""/>
            <p:cNvSpPr/>
            <p:nvPr/>
          </p:nvSpPr>
          <p:spPr>
            <a:xfrm flipV="1">
              <a:off x="5576760" y="4115520"/>
              <a:ext cx="416520" cy="863640"/>
            </a:xfrm>
            <a:prstGeom prst="line">
              <a:avLst/>
            </a:prstGeom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691240" y="4220280"/>
              <a:ext cx="260280" cy="259560"/>
            </a:xfrm>
            <a:custGeom>
              <a:avLst/>
              <a:gdLst/>
              <a:ahLst/>
              <a:rect l="l" t="t" r="r" b="b"/>
              <a:pathLst>
                <a:path w="1200" h="1488">
                  <a:moveTo>
                    <a:pt x="1200" y="0"/>
                  </a:moveTo>
                  <a:lnTo>
                    <a:pt x="192" y="144"/>
                  </a:lnTo>
                  <a:lnTo>
                    <a:pt x="0" y="1488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1080" y="4230360"/>
              <a:ext cx="307440" cy="208080"/>
            </a:xfrm>
            <a:custGeom>
              <a:avLst/>
              <a:gdLst/>
              <a:ahLst/>
              <a:rect l="l" t="t" r="r" b="b"/>
              <a:pathLst>
                <a:path w="1584" h="960">
                  <a:moveTo>
                    <a:pt x="0" y="0"/>
                  </a:moveTo>
                  <a:lnTo>
                    <a:pt x="240" y="960"/>
                  </a:lnTo>
                  <a:lnTo>
                    <a:pt x="1584" y="62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795280" y="4532400"/>
              <a:ext cx="177120" cy="447480"/>
            </a:xfrm>
            <a:custGeom>
              <a:avLst/>
              <a:gdLst/>
              <a:ahLst/>
              <a:rect l="l" t="t" r="r" b="b"/>
              <a:pathLst>
                <a:path w="816" h="2064">
                  <a:moveTo>
                    <a:pt x="0" y="0"/>
                  </a:moveTo>
                  <a:lnTo>
                    <a:pt x="816" y="672"/>
                  </a:lnTo>
                  <a:lnTo>
                    <a:pt x="240" y="206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936400" y="3962520"/>
              <a:ext cx="166320" cy="176760"/>
            </a:xfrm>
            <a:prstGeom prst="ellipse">
              <a:avLst/>
            </a:prstGeom>
            <a:noFill/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057400" y="5511960"/>
            <a:ext cx="671400" cy="1017360"/>
            <a:chOff x="2057400" y="5511960"/>
            <a:chExt cx="671400" cy="1017360"/>
          </a:xfrm>
        </p:grpSpPr>
        <p:sp>
          <p:nvSpPr>
            <p:cNvPr id="561" name=""/>
            <p:cNvSpPr/>
            <p:nvPr/>
          </p:nvSpPr>
          <p:spPr>
            <a:xfrm flipV="1">
              <a:off x="2057400" y="5664960"/>
              <a:ext cx="416520" cy="863640"/>
            </a:xfrm>
            <a:prstGeom prst="line">
              <a:avLst/>
            </a:prstGeom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71880" y="5769720"/>
              <a:ext cx="259920" cy="259560"/>
            </a:xfrm>
            <a:custGeom>
              <a:avLst/>
              <a:gdLst/>
              <a:ahLst/>
              <a:rect l="l" t="t" r="r" b="b"/>
              <a:pathLst>
                <a:path w="1200" h="1488">
                  <a:moveTo>
                    <a:pt x="1200" y="0"/>
                  </a:moveTo>
                  <a:lnTo>
                    <a:pt x="192" y="144"/>
                  </a:lnTo>
                  <a:lnTo>
                    <a:pt x="0" y="1488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421720" y="5779800"/>
              <a:ext cx="307080" cy="208080"/>
            </a:xfrm>
            <a:custGeom>
              <a:avLst/>
              <a:gdLst/>
              <a:ahLst/>
              <a:rect l="l" t="t" r="r" b="b"/>
              <a:pathLst>
                <a:path w="1584" h="960">
                  <a:moveTo>
                    <a:pt x="0" y="0"/>
                  </a:moveTo>
                  <a:lnTo>
                    <a:pt x="240" y="960"/>
                  </a:lnTo>
                  <a:lnTo>
                    <a:pt x="1584" y="62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75920" y="6081840"/>
              <a:ext cx="176760" cy="447480"/>
            </a:xfrm>
            <a:custGeom>
              <a:avLst/>
              <a:gdLst/>
              <a:ahLst/>
              <a:rect l="l" t="t" r="r" b="b"/>
              <a:pathLst>
                <a:path w="816" h="2064">
                  <a:moveTo>
                    <a:pt x="0" y="0"/>
                  </a:moveTo>
                  <a:lnTo>
                    <a:pt x="816" y="672"/>
                  </a:lnTo>
                  <a:lnTo>
                    <a:pt x="240" y="206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417040" y="5511960"/>
              <a:ext cx="166320" cy="176760"/>
            </a:xfrm>
            <a:prstGeom prst="ellipse">
              <a:avLst/>
            </a:prstGeom>
            <a:noFill/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2959200" y="5511960"/>
            <a:ext cx="671400" cy="1017360"/>
            <a:chOff x="2959200" y="5511960"/>
            <a:chExt cx="671400" cy="1017360"/>
          </a:xfrm>
        </p:grpSpPr>
        <p:sp>
          <p:nvSpPr>
            <p:cNvPr id="567" name=""/>
            <p:cNvSpPr/>
            <p:nvPr/>
          </p:nvSpPr>
          <p:spPr>
            <a:xfrm flipV="1">
              <a:off x="2959200" y="5664960"/>
              <a:ext cx="416520" cy="863640"/>
            </a:xfrm>
            <a:prstGeom prst="line">
              <a:avLst/>
            </a:prstGeom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073680" y="5769720"/>
              <a:ext cx="259920" cy="259560"/>
            </a:xfrm>
            <a:custGeom>
              <a:avLst/>
              <a:gdLst/>
              <a:ahLst/>
              <a:rect l="l" t="t" r="r" b="b"/>
              <a:pathLst>
                <a:path w="1200" h="1488">
                  <a:moveTo>
                    <a:pt x="1200" y="0"/>
                  </a:moveTo>
                  <a:lnTo>
                    <a:pt x="192" y="144"/>
                  </a:lnTo>
                  <a:lnTo>
                    <a:pt x="0" y="1488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23520" y="5779800"/>
              <a:ext cx="307080" cy="208080"/>
            </a:xfrm>
            <a:custGeom>
              <a:avLst/>
              <a:gdLst/>
              <a:ahLst/>
              <a:rect l="l" t="t" r="r" b="b"/>
              <a:pathLst>
                <a:path w="1584" h="960">
                  <a:moveTo>
                    <a:pt x="0" y="0"/>
                  </a:moveTo>
                  <a:lnTo>
                    <a:pt x="240" y="960"/>
                  </a:lnTo>
                  <a:lnTo>
                    <a:pt x="1584" y="62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177720" y="6081840"/>
              <a:ext cx="176760" cy="447480"/>
            </a:xfrm>
            <a:custGeom>
              <a:avLst/>
              <a:gdLst/>
              <a:ahLst/>
              <a:rect l="l" t="t" r="r" b="b"/>
              <a:pathLst>
                <a:path w="816" h="2064">
                  <a:moveTo>
                    <a:pt x="0" y="0"/>
                  </a:moveTo>
                  <a:lnTo>
                    <a:pt x="816" y="672"/>
                  </a:lnTo>
                  <a:lnTo>
                    <a:pt x="240" y="206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18840" y="5511960"/>
              <a:ext cx="166320" cy="176760"/>
            </a:xfrm>
            <a:prstGeom prst="ellipse">
              <a:avLst/>
            </a:prstGeom>
            <a:noFill/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3860640" y="5511960"/>
            <a:ext cx="671760" cy="1017360"/>
            <a:chOff x="3860640" y="5511960"/>
            <a:chExt cx="671760" cy="1017360"/>
          </a:xfrm>
        </p:grpSpPr>
        <p:sp>
          <p:nvSpPr>
            <p:cNvPr id="573" name=""/>
            <p:cNvSpPr/>
            <p:nvPr/>
          </p:nvSpPr>
          <p:spPr>
            <a:xfrm flipV="1">
              <a:off x="3860640" y="5664960"/>
              <a:ext cx="416520" cy="863640"/>
            </a:xfrm>
            <a:prstGeom prst="line">
              <a:avLst/>
            </a:prstGeom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975120" y="5769720"/>
              <a:ext cx="260280" cy="259560"/>
            </a:xfrm>
            <a:custGeom>
              <a:avLst/>
              <a:gdLst/>
              <a:ahLst/>
              <a:rect l="l" t="t" r="r" b="b"/>
              <a:pathLst>
                <a:path w="1200" h="1488">
                  <a:moveTo>
                    <a:pt x="1200" y="0"/>
                  </a:moveTo>
                  <a:lnTo>
                    <a:pt x="192" y="144"/>
                  </a:lnTo>
                  <a:lnTo>
                    <a:pt x="0" y="1488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224960" y="5779800"/>
              <a:ext cx="307440" cy="208080"/>
            </a:xfrm>
            <a:custGeom>
              <a:avLst/>
              <a:gdLst/>
              <a:ahLst/>
              <a:rect l="l" t="t" r="r" b="b"/>
              <a:pathLst>
                <a:path w="1584" h="960">
                  <a:moveTo>
                    <a:pt x="0" y="0"/>
                  </a:moveTo>
                  <a:lnTo>
                    <a:pt x="240" y="960"/>
                  </a:lnTo>
                  <a:lnTo>
                    <a:pt x="1584" y="62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79160" y="6081840"/>
              <a:ext cx="177120" cy="447480"/>
            </a:xfrm>
            <a:custGeom>
              <a:avLst/>
              <a:gdLst/>
              <a:ahLst/>
              <a:rect l="l" t="t" r="r" b="b"/>
              <a:pathLst>
                <a:path w="816" h="2064">
                  <a:moveTo>
                    <a:pt x="0" y="0"/>
                  </a:moveTo>
                  <a:lnTo>
                    <a:pt x="816" y="672"/>
                  </a:lnTo>
                  <a:lnTo>
                    <a:pt x="240" y="206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20280" y="5511960"/>
              <a:ext cx="166320" cy="176760"/>
            </a:xfrm>
            <a:prstGeom prst="ellipse">
              <a:avLst/>
            </a:prstGeom>
            <a:noFill/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4762440" y="5511960"/>
            <a:ext cx="671400" cy="1017360"/>
            <a:chOff x="4762440" y="5511960"/>
            <a:chExt cx="671400" cy="1017360"/>
          </a:xfrm>
        </p:grpSpPr>
        <p:sp>
          <p:nvSpPr>
            <p:cNvPr id="579" name=""/>
            <p:cNvSpPr/>
            <p:nvPr/>
          </p:nvSpPr>
          <p:spPr>
            <a:xfrm flipV="1">
              <a:off x="4762440" y="5664960"/>
              <a:ext cx="416520" cy="863640"/>
            </a:xfrm>
            <a:prstGeom prst="line">
              <a:avLst/>
            </a:prstGeom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76920" y="5769720"/>
              <a:ext cx="259920" cy="259560"/>
            </a:xfrm>
            <a:custGeom>
              <a:avLst/>
              <a:gdLst/>
              <a:ahLst/>
              <a:rect l="l" t="t" r="r" b="b"/>
              <a:pathLst>
                <a:path w="1200" h="1488">
                  <a:moveTo>
                    <a:pt x="1200" y="0"/>
                  </a:moveTo>
                  <a:lnTo>
                    <a:pt x="192" y="144"/>
                  </a:lnTo>
                  <a:lnTo>
                    <a:pt x="0" y="1488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26760" y="5779800"/>
              <a:ext cx="307080" cy="208080"/>
            </a:xfrm>
            <a:custGeom>
              <a:avLst/>
              <a:gdLst/>
              <a:ahLst/>
              <a:rect l="l" t="t" r="r" b="b"/>
              <a:pathLst>
                <a:path w="1584" h="960">
                  <a:moveTo>
                    <a:pt x="0" y="0"/>
                  </a:moveTo>
                  <a:lnTo>
                    <a:pt x="240" y="960"/>
                  </a:lnTo>
                  <a:lnTo>
                    <a:pt x="1584" y="62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980960" y="6081840"/>
              <a:ext cx="176760" cy="447480"/>
            </a:xfrm>
            <a:custGeom>
              <a:avLst/>
              <a:gdLst/>
              <a:ahLst/>
              <a:rect l="l" t="t" r="r" b="b"/>
              <a:pathLst>
                <a:path w="816" h="2064">
                  <a:moveTo>
                    <a:pt x="0" y="0"/>
                  </a:moveTo>
                  <a:lnTo>
                    <a:pt x="816" y="672"/>
                  </a:lnTo>
                  <a:lnTo>
                    <a:pt x="240" y="206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22080" y="5511960"/>
              <a:ext cx="166320" cy="176760"/>
            </a:xfrm>
            <a:prstGeom prst="ellipse">
              <a:avLst/>
            </a:prstGeom>
            <a:noFill/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664240" y="5511960"/>
            <a:ext cx="671400" cy="1017360"/>
            <a:chOff x="5664240" y="5511960"/>
            <a:chExt cx="671400" cy="1017360"/>
          </a:xfrm>
        </p:grpSpPr>
        <p:sp>
          <p:nvSpPr>
            <p:cNvPr id="585" name=""/>
            <p:cNvSpPr/>
            <p:nvPr/>
          </p:nvSpPr>
          <p:spPr>
            <a:xfrm flipV="1">
              <a:off x="5664240" y="5664960"/>
              <a:ext cx="416520" cy="863640"/>
            </a:xfrm>
            <a:prstGeom prst="line">
              <a:avLst/>
            </a:prstGeom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778720" y="5769720"/>
              <a:ext cx="259920" cy="259560"/>
            </a:xfrm>
            <a:custGeom>
              <a:avLst/>
              <a:gdLst/>
              <a:ahLst/>
              <a:rect l="l" t="t" r="r" b="b"/>
              <a:pathLst>
                <a:path w="1200" h="1488">
                  <a:moveTo>
                    <a:pt x="1200" y="0"/>
                  </a:moveTo>
                  <a:lnTo>
                    <a:pt x="192" y="144"/>
                  </a:lnTo>
                  <a:lnTo>
                    <a:pt x="0" y="1488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28560" y="5779800"/>
              <a:ext cx="307080" cy="208080"/>
            </a:xfrm>
            <a:custGeom>
              <a:avLst/>
              <a:gdLst/>
              <a:ahLst/>
              <a:rect l="l" t="t" r="r" b="b"/>
              <a:pathLst>
                <a:path w="1584" h="960">
                  <a:moveTo>
                    <a:pt x="0" y="0"/>
                  </a:moveTo>
                  <a:lnTo>
                    <a:pt x="240" y="960"/>
                  </a:lnTo>
                  <a:lnTo>
                    <a:pt x="1584" y="62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882760" y="6081840"/>
              <a:ext cx="176760" cy="447480"/>
            </a:xfrm>
            <a:custGeom>
              <a:avLst/>
              <a:gdLst/>
              <a:ahLst/>
              <a:rect l="l" t="t" r="r" b="b"/>
              <a:pathLst>
                <a:path w="816" h="2064">
                  <a:moveTo>
                    <a:pt x="0" y="0"/>
                  </a:moveTo>
                  <a:lnTo>
                    <a:pt x="816" y="672"/>
                  </a:lnTo>
                  <a:lnTo>
                    <a:pt x="240" y="206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023880" y="5511960"/>
              <a:ext cx="166320" cy="176760"/>
            </a:xfrm>
            <a:prstGeom prst="ellipse">
              <a:avLst/>
            </a:prstGeom>
            <a:noFill/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567480" y="5511960"/>
            <a:ext cx="671400" cy="1017360"/>
            <a:chOff x="6567480" y="5511960"/>
            <a:chExt cx="671400" cy="1017360"/>
          </a:xfrm>
        </p:grpSpPr>
        <p:sp>
          <p:nvSpPr>
            <p:cNvPr id="591" name=""/>
            <p:cNvSpPr/>
            <p:nvPr/>
          </p:nvSpPr>
          <p:spPr>
            <a:xfrm flipV="1">
              <a:off x="6567480" y="5664960"/>
              <a:ext cx="416520" cy="863640"/>
            </a:xfrm>
            <a:prstGeom prst="line">
              <a:avLst/>
            </a:prstGeom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681960" y="5769720"/>
              <a:ext cx="259920" cy="259560"/>
            </a:xfrm>
            <a:custGeom>
              <a:avLst/>
              <a:gdLst/>
              <a:ahLst/>
              <a:rect l="l" t="t" r="r" b="b"/>
              <a:pathLst>
                <a:path w="1200" h="1488">
                  <a:moveTo>
                    <a:pt x="1200" y="0"/>
                  </a:moveTo>
                  <a:lnTo>
                    <a:pt x="192" y="144"/>
                  </a:lnTo>
                  <a:lnTo>
                    <a:pt x="0" y="1488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931800" y="5779800"/>
              <a:ext cx="307080" cy="208080"/>
            </a:xfrm>
            <a:custGeom>
              <a:avLst/>
              <a:gdLst/>
              <a:ahLst/>
              <a:rect l="l" t="t" r="r" b="b"/>
              <a:pathLst>
                <a:path w="1584" h="960">
                  <a:moveTo>
                    <a:pt x="0" y="0"/>
                  </a:moveTo>
                  <a:lnTo>
                    <a:pt x="240" y="960"/>
                  </a:lnTo>
                  <a:lnTo>
                    <a:pt x="1584" y="62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786000" y="6081840"/>
              <a:ext cx="176760" cy="447480"/>
            </a:xfrm>
            <a:custGeom>
              <a:avLst/>
              <a:gdLst/>
              <a:ahLst/>
              <a:rect l="l" t="t" r="r" b="b"/>
              <a:pathLst>
                <a:path w="816" h="2064">
                  <a:moveTo>
                    <a:pt x="0" y="0"/>
                  </a:moveTo>
                  <a:lnTo>
                    <a:pt x="816" y="672"/>
                  </a:lnTo>
                  <a:lnTo>
                    <a:pt x="240" y="2064"/>
                  </a:lnTo>
                </a:path>
              </a:pathLst>
            </a:custGeom>
            <a:noFill/>
            <a:ln w="88920">
              <a:solidFill>
                <a:srgbClr val="b301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927120" y="5511960"/>
              <a:ext cx="166320" cy="176760"/>
            </a:xfrm>
            <a:prstGeom prst="ellipse">
              <a:avLst/>
            </a:prstGeom>
            <a:noFill/>
            <a:ln w="8892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897480" y="1236600"/>
            <a:ext cx="729324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66"/>
                </a:solidFill>
                <a:latin typeface="Arial"/>
              </a:rPr>
              <a:t>¡Muchas gracias por escuchar!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b30152"/>
                </a:solidFill>
                <a:latin typeface="Arial"/>
              </a:rPr>
              <a:t>Harald Sola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b30152"/>
                </a:solidFill>
                <a:latin typeface="Arial"/>
              </a:rPr>
              <a:t>Harald Solaas y Aso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Arial"/>
              </a:rPr>
              <a:t>harald@solaas.com.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Arial"/>
              </a:rPr>
              <a:t>http://harald.solaas.com.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4619520" y="6470640"/>
            <a:ext cx="854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19520" y="6054840"/>
            <a:ext cx="85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798000" y="5916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 sem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619520" y="5637240"/>
            <a:ext cx="85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052160" y="548964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 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619520" y="5211720"/>
            <a:ext cx="854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891240" y="507672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 me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619520" y="4805280"/>
            <a:ext cx="854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89800" y="466884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6 me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19520" y="4394160"/>
            <a:ext cx="854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068360" y="425772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 añ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619520" y="397368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04840" y="383364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8 me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19520" y="3551400"/>
            <a:ext cx="854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983760" y="33955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619520" y="3138480"/>
            <a:ext cx="85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11120" y="298944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19520" y="2735280"/>
            <a:ext cx="854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83760" y="259704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5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619520" y="2305080"/>
            <a:ext cx="85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011120" y="215568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7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619520" y="1892160"/>
            <a:ext cx="854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899880" y="174636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0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75120" y="6127920"/>
            <a:ext cx="301680" cy="293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75120" y="5688000"/>
            <a:ext cx="301680" cy="291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75120" y="5246640"/>
            <a:ext cx="301680" cy="29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875120" y="4856040"/>
            <a:ext cx="301680" cy="293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875120" y="4465800"/>
            <a:ext cx="301680" cy="291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75120" y="4040280"/>
            <a:ext cx="301680" cy="293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75120" y="3632040"/>
            <a:ext cx="301680" cy="293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75120" y="3208320"/>
            <a:ext cx="301680" cy="293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75120" y="2800440"/>
            <a:ext cx="301680" cy="29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875120" y="2360520"/>
            <a:ext cx="301680" cy="293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75120" y="1969920"/>
            <a:ext cx="301680" cy="29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75120" y="1528920"/>
            <a:ext cx="301680" cy="293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20" idx="6"/>
            <a:endCxn id="623" idx="6"/>
          </p:cNvCxnSpPr>
          <p:nvPr/>
        </p:nvCxnSpPr>
        <p:spPr>
          <a:xfrm flipV="1">
            <a:off x="5176440" y="5001480"/>
            <a:ext cx="2520" cy="1274040"/>
          </a:xfrm>
          <a:prstGeom prst="curvedConnector5">
            <a:avLst>
              <a:gd name="adj1" fmla="val 31100000"/>
              <a:gd name="adj2" fmla="val 50000"/>
              <a:gd name="adj3" fmla="val 31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3" name=""/>
          <p:cNvCxnSpPr>
            <a:stCxn id="621" idx="6"/>
            <a:endCxn id="623" idx="6"/>
          </p:cNvCxnSpPr>
          <p:nvPr/>
        </p:nvCxnSpPr>
        <p:spPr>
          <a:xfrm flipV="1">
            <a:off x="5176440" y="5001480"/>
            <a:ext cx="2520" cy="832680"/>
          </a:xfrm>
          <a:prstGeom prst="curvedConnector5">
            <a:avLst>
              <a:gd name="adj1" fmla="val 21900000"/>
              <a:gd name="adj2" fmla="val 50000"/>
              <a:gd name="adj3" fmla="val 21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4" name=""/>
          <p:cNvCxnSpPr>
            <a:stCxn id="622" idx="6"/>
            <a:endCxn id="623" idx="6"/>
          </p:cNvCxnSpPr>
          <p:nvPr/>
        </p:nvCxnSpPr>
        <p:spPr>
          <a:xfrm flipV="1">
            <a:off x="5176440" y="5001480"/>
            <a:ext cx="2520" cy="39276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5" name=""/>
          <p:cNvCxnSpPr>
            <a:stCxn id="623" idx="6"/>
            <a:endCxn id="625" idx="6"/>
          </p:cNvCxnSpPr>
          <p:nvPr/>
        </p:nvCxnSpPr>
        <p:spPr>
          <a:xfrm flipV="1">
            <a:off x="5176440" y="4187520"/>
            <a:ext cx="2520" cy="815040"/>
          </a:xfrm>
          <a:prstGeom prst="curvedConnector5">
            <a:avLst>
              <a:gd name="adj1" fmla="val 22300000"/>
              <a:gd name="adj2" fmla="val 49977"/>
              <a:gd name="adj3" fmla="val 22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6" name=""/>
          <p:cNvCxnSpPr>
            <a:stCxn id="624" idx="6"/>
            <a:endCxn id="625" idx="6"/>
          </p:cNvCxnSpPr>
          <p:nvPr/>
        </p:nvCxnSpPr>
        <p:spPr>
          <a:xfrm flipV="1">
            <a:off x="5176440" y="4187160"/>
            <a:ext cx="2520" cy="42444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7" name=""/>
          <p:cNvCxnSpPr>
            <a:stCxn id="625" idx="6"/>
            <a:endCxn id="627" idx="6"/>
          </p:cNvCxnSpPr>
          <p:nvPr/>
        </p:nvCxnSpPr>
        <p:spPr>
          <a:xfrm flipV="1">
            <a:off x="5176440" y="3355200"/>
            <a:ext cx="2520" cy="832680"/>
          </a:xfrm>
          <a:prstGeom prst="curvedConnector5">
            <a:avLst>
              <a:gd name="adj1" fmla="val 21900000"/>
              <a:gd name="adj2" fmla="val 50000"/>
              <a:gd name="adj3" fmla="val 21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8" name=""/>
          <p:cNvCxnSpPr>
            <a:stCxn id="626" idx="6"/>
            <a:endCxn id="627" idx="6"/>
          </p:cNvCxnSpPr>
          <p:nvPr/>
        </p:nvCxnSpPr>
        <p:spPr>
          <a:xfrm flipV="1">
            <a:off x="5176440" y="3355560"/>
            <a:ext cx="2520" cy="424800"/>
          </a:xfrm>
          <a:prstGeom prst="curvedConnector5">
            <a:avLst>
              <a:gd name="adj1" fmla="val 14400000"/>
              <a:gd name="adj2" fmla="val 49957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9" name=""/>
          <p:cNvCxnSpPr>
            <a:stCxn id="627" idx="6"/>
            <a:endCxn id="629" idx="6"/>
          </p:cNvCxnSpPr>
          <p:nvPr/>
        </p:nvCxnSpPr>
        <p:spPr>
          <a:xfrm flipV="1">
            <a:off x="5176440" y="2505960"/>
            <a:ext cx="2520" cy="849960"/>
          </a:xfrm>
          <a:prstGeom prst="curvedConnector5">
            <a:avLst>
              <a:gd name="adj1" fmla="val 21100000"/>
              <a:gd name="adj2" fmla="val 50000"/>
              <a:gd name="adj3" fmla="val 21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0" name=""/>
          <p:cNvCxnSpPr>
            <a:stCxn id="628" idx="6"/>
            <a:endCxn id="629" idx="6"/>
          </p:cNvCxnSpPr>
          <p:nvPr/>
        </p:nvCxnSpPr>
        <p:spPr>
          <a:xfrm flipV="1">
            <a:off x="5176440" y="2506320"/>
            <a:ext cx="2520" cy="442080"/>
          </a:xfrm>
          <a:prstGeom prst="curvedConnector5">
            <a:avLst>
              <a:gd name="adj1" fmla="val 14400000"/>
              <a:gd name="adj2" fmla="val 49959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1" name=""/>
          <p:cNvCxnSpPr>
            <a:stCxn id="629" idx="6"/>
            <a:endCxn id="631" idx="6"/>
          </p:cNvCxnSpPr>
          <p:nvPr/>
        </p:nvCxnSpPr>
        <p:spPr>
          <a:xfrm flipV="1">
            <a:off x="5176440" y="1676160"/>
            <a:ext cx="2520" cy="830880"/>
          </a:xfrm>
          <a:prstGeom prst="curvedConnector5">
            <a:avLst>
              <a:gd name="adj1" fmla="val 22600000"/>
              <a:gd name="adj2" fmla="val 49978"/>
              <a:gd name="adj3" fmla="val 22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2" name=""/>
          <p:cNvCxnSpPr>
            <a:stCxn id="630" idx="6"/>
            <a:endCxn id="631" idx="6"/>
          </p:cNvCxnSpPr>
          <p:nvPr/>
        </p:nvCxnSpPr>
        <p:spPr>
          <a:xfrm flipV="1">
            <a:off x="5176440" y="1675800"/>
            <a:ext cx="2520" cy="44028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3" name=""/>
          <p:cNvSpPr/>
          <p:nvPr/>
        </p:nvSpPr>
        <p:spPr>
          <a:xfrm>
            <a:off x="3640680" y="56404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91360" y="465444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540960" y="381312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531240" y="297648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580560" y="2112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531240" y="150012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16200000">
            <a:off x="1966320" y="348012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atos de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254400" y="809640"/>
            <a:ext cx="22543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valo tem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creci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468600" y="1893960"/>
            <a:ext cx="4557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468600" y="2736720"/>
            <a:ext cx="455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468600" y="3551400"/>
            <a:ext cx="4557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468600" y="4394160"/>
            <a:ext cx="4557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468600" y="5210280"/>
            <a:ext cx="4557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8600" y="6478560"/>
            <a:ext cx="4557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22720" y="63277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 d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-305280" y="-1209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l descubrimiento de los estrato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9" name=""/>
          <p:cNvGraphicFramePr/>
          <p:nvPr/>
        </p:nvGraphicFramePr>
        <p:xfrm>
          <a:off x="971640" y="1413000"/>
          <a:ext cx="7224480" cy="4657680"/>
        </p:xfrm>
        <a:graphic>
          <a:graphicData uri="http://schemas.openxmlformats.org/drawingml/2006/table">
            <a:tbl>
              <a:tblPr/>
              <a:tblGrid>
                <a:gridCol w="1735200"/>
                <a:gridCol w="548928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30152"/>
                          </a:solidFill>
                          <a:latin typeface="Arial"/>
                        </a:rPr>
                        <a:t>Estr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30152"/>
                          </a:solidFill>
                          <a:latin typeface="Arial"/>
                        </a:rPr>
                        <a:t>Pue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30152"/>
                          </a:solidFill>
                          <a:latin typeface="Arial"/>
                        </a:rPr>
                        <a:t>V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30152"/>
                          </a:solidFill>
                          <a:latin typeface="Arial"/>
                        </a:rPr>
                        <a:t>CEO de súper corp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30152"/>
                          </a:solidFill>
                          <a:latin typeface="Arial"/>
                        </a:rPr>
                        <a:t>V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30152"/>
                          </a:solidFill>
                          <a:latin typeface="Arial"/>
                        </a:rPr>
                        <a:t>CEO corpor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30152"/>
                          </a:solidFill>
                          <a:latin typeface="Arial"/>
                        </a:rPr>
                        <a:t>V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30152"/>
                          </a:solidFill>
                          <a:latin typeface="Arial"/>
                        </a:rPr>
                        <a:t>VP corpor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30152"/>
                          </a:solidFill>
                          <a:latin typeface="Arial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30152"/>
                          </a:solidFill>
                          <a:latin typeface="Arial"/>
                        </a:rPr>
                        <a:t>Presidente de Unidad de Negoc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30152"/>
                          </a:solidFill>
                          <a:latin typeface="Arial"/>
                        </a:rPr>
                        <a:t>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30152"/>
                          </a:solidFill>
                          <a:latin typeface="Arial"/>
                        </a:rPr>
                        <a:t>Gerente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30152"/>
                          </a:solidFill>
                          <a:latin typeface="Arial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30152"/>
                          </a:solidFill>
                          <a:latin typeface="Arial"/>
                        </a:rPr>
                        <a:t>Gerente de Un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30152"/>
                          </a:solidFill>
                          <a:latin typeface="Arial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30152"/>
                          </a:solidFill>
                          <a:latin typeface="Arial"/>
                        </a:rPr>
                        <a:t>Gerente de primera lín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30152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30152"/>
                          </a:solidFill>
                          <a:latin typeface="Arial"/>
                        </a:rPr>
                        <a:t>Operario, administr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ipos de Puestos según Estr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apacidad Potencial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30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b30152"/>
                </a:solidFill>
                <a:latin typeface="Arial"/>
              </a:rPr>
              <a:t>Es el nivel de trabajo más alto que puede ejercer satisfactoriamente un individuo en el presente, bajo las condiciones de contar con los conocimientos y habilidades necesarios y de tener un alto compromiso con la tare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14280" y="2427120"/>
            <a:ext cx="496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Elliott Ja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30152"/>
                </a:solidFill>
                <a:latin typeface="Arial"/>
              </a:rPr>
              <a:t>“</a:t>
            </a:r>
            <a:r>
              <a:rPr b="1" lang="es-ES_tradnl" sz="2800" spc="-1" strike="noStrike">
                <a:solidFill>
                  <a:srgbClr val="b30152"/>
                </a:solidFill>
                <a:latin typeface="Arial"/>
              </a:rPr>
              <a:t>La organización requerida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1066680"/>
            <a:ext cx="7543800" cy="52578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82160" y="7452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cripción de estratos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04920" y="685800"/>
            <a:ext cx="8762760" cy="5945040"/>
            <a:chOff x="304920" y="685800"/>
            <a:chExt cx="8762760" cy="5945040"/>
          </a:xfrm>
        </p:grpSpPr>
        <p:grpSp>
          <p:nvGrpSpPr>
            <p:cNvPr id="87" name=""/>
            <p:cNvGrpSpPr/>
            <p:nvPr/>
          </p:nvGrpSpPr>
          <p:grpSpPr>
            <a:xfrm>
              <a:off x="304920" y="685800"/>
              <a:ext cx="8762760" cy="5945040"/>
              <a:chOff x="304920" y="685800"/>
              <a:chExt cx="8762760" cy="5945040"/>
            </a:xfrm>
          </p:grpSpPr>
          <p:sp>
            <p:nvSpPr>
              <p:cNvPr id="88" name=""/>
              <p:cNvSpPr/>
              <p:nvPr/>
            </p:nvSpPr>
            <p:spPr>
              <a:xfrm>
                <a:off x="304920" y="662940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04920" y="514368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04920" y="365760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04920" y="217188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04920" y="68580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V="1">
              <a:off x="304920" y="685800"/>
              <a:ext cx="1440" cy="5943600"/>
            </a:xfrm>
            <a:prstGeom prst="line">
              <a:avLst/>
            </a:prstGeom>
            <a:ln w="936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9066240" y="685800"/>
              <a:ext cx="1440" cy="5943600"/>
            </a:xfrm>
            <a:prstGeom prst="line">
              <a:avLst/>
            </a:prstGeom>
            <a:ln w="936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1065240" y="685800"/>
              <a:ext cx="1440" cy="5943600"/>
            </a:xfrm>
            <a:prstGeom prst="line">
              <a:avLst/>
            </a:prstGeom>
            <a:ln w="936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60520" y="56386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9760" y="4151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8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560" y="2664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8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0000" y="1177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80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655560"/>
            <a:ext cx="6616440" cy="5999400"/>
            <a:chOff x="1676520" y="655560"/>
            <a:chExt cx="6616440" cy="5999400"/>
          </a:xfrm>
        </p:grpSpPr>
        <p:sp>
          <p:nvSpPr>
            <p:cNvPr id="101" name=""/>
            <p:cNvSpPr/>
            <p:nvPr/>
          </p:nvSpPr>
          <p:spPr>
            <a:xfrm flipV="1">
              <a:off x="2484360" y="5147280"/>
              <a:ext cx="4930560" cy="12600"/>
            </a:xfrm>
            <a:prstGeom prst="line">
              <a:avLst/>
            </a:prstGeom>
            <a:ln w="3816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1676520" y="655560"/>
              <a:ext cx="6616440" cy="5999400"/>
              <a:chOff x="1676520" y="655560"/>
              <a:chExt cx="6616440" cy="5999400"/>
            </a:xfrm>
          </p:grpSpPr>
          <p:sp>
            <p:nvSpPr>
              <p:cNvPr id="103" name=""/>
              <p:cNvSpPr/>
              <p:nvPr/>
            </p:nvSpPr>
            <p:spPr>
              <a:xfrm>
                <a:off x="1676520" y="655560"/>
                <a:ext cx="6616440" cy="5999400"/>
              </a:xfrm>
              <a:prstGeom prst="triangle">
                <a:avLst>
                  <a:gd name="adj" fmla="val 50000"/>
                </a:avLst>
              </a:prstGeom>
              <a:noFill/>
              <a:ln w="5724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321000" y="3650400"/>
                <a:ext cx="3336480" cy="1080"/>
              </a:xfrm>
              <a:prstGeom prst="line">
                <a:avLst/>
              </a:prstGeom>
              <a:ln w="381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86080" y="2148120"/>
                <a:ext cx="1616040" cy="0"/>
              </a:xfrm>
              <a:prstGeom prst="line">
                <a:avLst/>
              </a:prstGeom>
              <a:ln w="381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 rot="17919600">
            <a:off x="1674000" y="5704920"/>
            <a:ext cx="101736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4506800">
            <a:off x="7330680" y="5698800"/>
            <a:ext cx="93492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5284800"/>
            <a:ext cx="8169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vel de ingreso al trabajo adulto. Operarios, administrativos, recepcionistas, personal de venta o atención al público, de seguridad, conductores de vehículos o maquinari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, etc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82160" y="7452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cripción de estratos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4920" y="685800"/>
            <a:ext cx="8762760" cy="5945040"/>
            <a:chOff x="304920" y="685800"/>
            <a:chExt cx="8762760" cy="5945040"/>
          </a:xfrm>
        </p:grpSpPr>
        <p:grpSp>
          <p:nvGrpSpPr>
            <p:cNvPr id="111" name=""/>
            <p:cNvGrpSpPr/>
            <p:nvPr/>
          </p:nvGrpSpPr>
          <p:grpSpPr>
            <a:xfrm>
              <a:off x="304920" y="685800"/>
              <a:ext cx="8762760" cy="5945040"/>
              <a:chOff x="304920" y="685800"/>
              <a:chExt cx="8762760" cy="5945040"/>
            </a:xfrm>
          </p:grpSpPr>
          <p:sp>
            <p:nvSpPr>
              <p:cNvPr id="112" name=""/>
              <p:cNvSpPr/>
              <p:nvPr/>
            </p:nvSpPr>
            <p:spPr>
              <a:xfrm>
                <a:off x="304920" y="662940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4920" y="514368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4920" y="365760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4920" y="217188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4920" y="68580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 flipV="1">
              <a:off x="304920" y="685800"/>
              <a:ext cx="1440" cy="5943600"/>
            </a:xfrm>
            <a:prstGeom prst="line">
              <a:avLst/>
            </a:prstGeom>
            <a:ln w="936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9066240" y="685800"/>
              <a:ext cx="1440" cy="5943600"/>
            </a:xfrm>
            <a:prstGeom prst="line">
              <a:avLst/>
            </a:prstGeom>
            <a:ln w="936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065240" y="685800"/>
              <a:ext cx="1440" cy="5943600"/>
            </a:xfrm>
            <a:prstGeom prst="line">
              <a:avLst/>
            </a:prstGeom>
            <a:ln w="936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60520" y="56386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8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9760" y="4151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560" y="2664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8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0000" y="1177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80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676520" y="655560"/>
            <a:ext cx="6616440" cy="5999400"/>
            <a:chOff x="1676520" y="655560"/>
            <a:chExt cx="6616440" cy="5999400"/>
          </a:xfrm>
        </p:grpSpPr>
        <p:sp>
          <p:nvSpPr>
            <p:cNvPr id="125" name=""/>
            <p:cNvSpPr/>
            <p:nvPr/>
          </p:nvSpPr>
          <p:spPr>
            <a:xfrm flipV="1">
              <a:off x="2484360" y="5147280"/>
              <a:ext cx="4930560" cy="12600"/>
            </a:xfrm>
            <a:prstGeom prst="line">
              <a:avLst/>
            </a:prstGeom>
            <a:ln w="3816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676520" y="655560"/>
              <a:ext cx="6616440" cy="5999400"/>
              <a:chOff x="1676520" y="655560"/>
              <a:chExt cx="6616440" cy="5999400"/>
            </a:xfrm>
          </p:grpSpPr>
          <p:sp>
            <p:nvSpPr>
              <p:cNvPr id="127" name=""/>
              <p:cNvSpPr/>
              <p:nvPr/>
            </p:nvSpPr>
            <p:spPr>
              <a:xfrm>
                <a:off x="1676520" y="655560"/>
                <a:ext cx="6616440" cy="5999400"/>
              </a:xfrm>
              <a:prstGeom prst="triangle">
                <a:avLst>
                  <a:gd name="adj" fmla="val 50000"/>
                </a:avLst>
              </a:prstGeom>
              <a:noFill/>
              <a:ln w="5724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21000" y="3650400"/>
                <a:ext cx="3336480" cy="1080"/>
              </a:xfrm>
              <a:prstGeom prst="line">
                <a:avLst/>
              </a:prstGeom>
              <a:ln w="381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86080" y="2148120"/>
                <a:ext cx="1616040" cy="0"/>
              </a:xfrm>
              <a:prstGeom prst="line">
                <a:avLst/>
              </a:prstGeom>
              <a:ln w="381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 rot="17919600">
            <a:off x="1674000" y="5704920"/>
            <a:ext cx="101736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7919600">
            <a:off x="2250360" y="4395600"/>
            <a:ext cx="130032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4506200">
            <a:off x="6430320" y="4384440"/>
            <a:ext cx="126216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rot="14506800">
            <a:off x="7330680" y="5698800"/>
            <a:ext cx="93492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797280"/>
            <a:ext cx="81536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fes o supervisores de primera línea, técnicos especializad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profesionales universitarios e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nici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. Analistas de sistemas, vendedores industriales, tecnólogos, auditores, instructores de capacit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284800"/>
            <a:ext cx="8169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8080"/>
                </a:solidFill>
                <a:latin typeface="Arial"/>
                <a:ea typeface="Arial"/>
              </a:rPr>
              <a:t>N</a:t>
            </a:r>
            <a:r>
              <a:rPr b="0" lang="es-ES" sz="2400" spc="-1" strike="noStrike">
                <a:solidFill>
                  <a:srgbClr val="808080"/>
                </a:solidFill>
                <a:latin typeface="Arial"/>
                <a:ea typeface="Arial"/>
              </a:rPr>
              <a:t>ivel de ingreso al trabajo adulto. Operarios, administrativos, recepcionistas, personal de venta o atención al público, de seguridad, conductores de vehículos o maquinarias</a:t>
            </a:r>
            <a:r>
              <a:rPr b="0" lang="es-ES_tradnl" sz="2400" spc="-1" strike="noStrike">
                <a:solidFill>
                  <a:srgbClr val="808080"/>
                </a:solidFill>
                <a:latin typeface="Arial"/>
                <a:ea typeface="Arial"/>
              </a:rPr>
              <a:t>, etc.</a:t>
            </a:r>
            <a:r>
              <a:rPr b="0" lang="es-E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82160" y="7452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cripción de estratos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4920" y="685800"/>
            <a:ext cx="8762760" cy="5945040"/>
            <a:chOff x="304920" y="685800"/>
            <a:chExt cx="8762760" cy="5945040"/>
          </a:xfrm>
        </p:grpSpPr>
        <p:grpSp>
          <p:nvGrpSpPr>
            <p:cNvPr id="138" name=""/>
            <p:cNvGrpSpPr/>
            <p:nvPr/>
          </p:nvGrpSpPr>
          <p:grpSpPr>
            <a:xfrm>
              <a:off x="304920" y="685800"/>
              <a:ext cx="8762760" cy="5945040"/>
              <a:chOff x="304920" y="685800"/>
              <a:chExt cx="8762760" cy="5945040"/>
            </a:xfrm>
          </p:grpSpPr>
          <p:sp>
            <p:nvSpPr>
              <p:cNvPr id="139" name=""/>
              <p:cNvSpPr/>
              <p:nvPr/>
            </p:nvSpPr>
            <p:spPr>
              <a:xfrm>
                <a:off x="304920" y="662940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4920" y="514368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4920" y="365760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04920" y="217188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4920" y="68580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304920" y="685800"/>
              <a:ext cx="1440" cy="5943600"/>
            </a:xfrm>
            <a:prstGeom prst="line">
              <a:avLst/>
            </a:prstGeom>
            <a:ln w="936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9066240" y="685800"/>
              <a:ext cx="1440" cy="5943600"/>
            </a:xfrm>
            <a:prstGeom prst="line">
              <a:avLst/>
            </a:prstGeom>
            <a:ln w="936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1065240" y="685800"/>
              <a:ext cx="1440" cy="5943600"/>
            </a:xfrm>
            <a:prstGeom prst="line">
              <a:avLst/>
            </a:prstGeom>
            <a:ln w="936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60520" y="56386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8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9760" y="4151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8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560" y="2664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00" y="1177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80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676520" y="655560"/>
            <a:ext cx="6616440" cy="5999400"/>
            <a:chOff x="1676520" y="655560"/>
            <a:chExt cx="6616440" cy="5999400"/>
          </a:xfrm>
        </p:grpSpPr>
        <p:sp>
          <p:nvSpPr>
            <p:cNvPr id="152" name=""/>
            <p:cNvSpPr/>
            <p:nvPr/>
          </p:nvSpPr>
          <p:spPr>
            <a:xfrm flipV="1">
              <a:off x="2484360" y="5147280"/>
              <a:ext cx="4930560" cy="12600"/>
            </a:xfrm>
            <a:prstGeom prst="line">
              <a:avLst/>
            </a:prstGeom>
            <a:ln w="3816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676520" y="655560"/>
              <a:ext cx="6616440" cy="5999400"/>
              <a:chOff x="1676520" y="655560"/>
              <a:chExt cx="6616440" cy="5999400"/>
            </a:xfrm>
          </p:grpSpPr>
          <p:sp>
            <p:nvSpPr>
              <p:cNvPr id="154" name=""/>
              <p:cNvSpPr/>
              <p:nvPr/>
            </p:nvSpPr>
            <p:spPr>
              <a:xfrm>
                <a:off x="1676520" y="655560"/>
                <a:ext cx="6616440" cy="5999400"/>
              </a:xfrm>
              <a:prstGeom prst="triangle">
                <a:avLst>
                  <a:gd name="adj" fmla="val 50000"/>
                </a:avLst>
              </a:prstGeom>
              <a:noFill/>
              <a:ln w="5724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321000" y="3650400"/>
                <a:ext cx="3336480" cy="1080"/>
              </a:xfrm>
              <a:prstGeom prst="line">
                <a:avLst/>
              </a:prstGeom>
              <a:ln w="381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86080" y="2148120"/>
                <a:ext cx="1616040" cy="0"/>
              </a:xfrm>
              <a:prstGeom prst="line">
                <a:avLst/>
              </a:prstGeom>
              <a:ln w="381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 rot="17919600">
            <a:off x="1674000" y="5704920"/>
            <a:ext cx="101736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7919600">
            <a:off x="2250360" y="4395600"/>
            <a:ext cx="130032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7919600">
            <a:off x="3098520" y="2874960"/>
            <a:ext cx="1295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4506200">
            <a:off x="5540400" y="2836440"/>
            <a:ext cx="135108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4506200">
            <a:off x="6430320" y="4384440"/>
            <a:ext cx="126216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rot="14506800">
            <a:off x="7330680" y="5698800"/>
            <a:ext cx="93492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3797280"/>
            <a:ext cx="81536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8080"/>
                </a:solidFill>
                <a:latin typeface="Arial"/>
                <a:ea typeface="Arial"/>
              </a:rPr>
              <a:t>J</a:t>
            </a:r>
            <a:r>
              <a:rPr b="0" lang="es-ES" sz="2400" spc="-1" strike="noStrike">
                <a:solidFill>
                  <a:srgbClr val="808080"/>
                </a:solidFill>
                <a:latin typeface="Arial"/>
                <a:ea typeface="Arial"/>
              </a:rPr>
              <a:t>efes o supervisores de primera línea, técnicos especializados</a:t>
            </a:r>
            <a:r>
              <a:rPr b="0" lang="es-ES_tradnl" sz="2400" spc="-1" strike="noStrike">
                <a:solidFill>
                  <a:srgbClr val="808080"/>
                </a:solidFill>
                <a:latin typeface="Arial"/>
                <a:ea typeface="Arial"/>
              </a:rPr>
              <a:t>,</a:t>
            </a:r>
            <a:r>
              <a:rPr b="0" lang="es-ES" sz="2400" spc="-1" strike="noStrike">
                <a:solidFill>
                  <a:srgbClr val="808080"/>
                </a:solidFill>
                <a:latin typeface="Arial"/>
                <a:ea typeface="Arial"/>
              </a:rPr>
              <a:t> profesionales universitarios en </a:t>
            </a:r>
            <a:r>
              <a:rPr b="0" lang="es-ES_tradnl" sz="2400" spc="-1" strike="noStrike">
                <a:solidFill>
                  <a:srgbClr val="808080"/>
                </a:solidFill>
                <a:latin typeface="Arial"/>
                <a:ea typeface="Arial"/>
              </a:rPr>
              <a:t>iniciación</a:t>
            </a:r>
            <a:r>
              <a:rPr b="0" lang="es-ES" sz="2400" spc="-1" strike="noStrike">
                <a:solidFill>
                  <a:srgbClr val="808080"/>
                </a:solidFill>
                <a:latin typeface="Arial"/>
                <a:ea typeface="Arial"/>
              </a:rPr>
              <a:t>. Analistas de sistemas, vendedores industriales, tecnólogos, auditores, instructores de capacitación</a:t>
            </a:r>
            <a:r>
              <a:rPr b="0" lang="es-ES_tradnl" sz="24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r>
              <a:rPr b="0" lang="es-E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2286000"/>
            <a:ext cx="8001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rimer nivel gerencial pleno, con dos niveles por debajo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Requiere capacidad de 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laborar y conducir planes de un año o más.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rofesionales universitari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vanzad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PyMEs suele ser gerencia fun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5284800"/>
            <a:ext cx="8169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8080"/>
                </a:solidFill>
                <a:latin typeface="Arial"/>
                <a:ea typeface="Arial"/>
              </a:rPr>
              <a:t>N</a:t>
            </a:r>
            <a:r>
              <a:rPr b="0" lang="es-ES" sz="2400" spc="-1" strike="noStrike">
                <a:solidFill>
                  <a:srgbClr val="808080"/>
                </a:solidFill>
                <a:latin typeface="Arial"/>
                <a:ea typeface="Arial"/>
              </a:rPr>
              <a:t>ivel de ingreso al trabajo adulto. Operarios, administrativos, recepcionistas, personal de venta o atención al público, de seguridad, conductores de vehículos o maquinarias</a:t>
            </a:r>
            <a:r>
              <a:rPr b="0" lang="es-ES_tradnl" sz="2400" spc="-1" strike="noStrike">
                <a:solidFill>
                  <a:srgbClr val="808080"/>
                </a:solidFill>
                <a:latin typeface="Arial"/>
                <a:ea typeface="Arial"/>
              </a:rPr>
              <a:t>, etc.</a:t>
            </a:r>
            <a:r>
              <a:rPr b="0" lang="es-E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982160" y="7452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cripción de estratos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04920" y="685800"/>
            <a:ext cx="8762760" cy="5945040"/>
            <a:chOff x="304920" y="685800"/>
            <a:chExt cx="8762760" cy="5945040"/>
          </a:xfrm>
        </p:grpSpPr>
        <p:grpSp>
          <p:nvGrpSpPr>
            <p:cNvPr id="168" name=""/>
            <p:cNvGrpSpPr/>
            <p:nvPr/>
          </p:nvGrpSpPr>
          <p:grpSpPr>
            <a:xfrm>
              <a:off x="304920" y="685800"/>
              <a:ext cx="8762760" cy="5945040"/>
              <a:chOff x="304920" y="685800"/>
              <a:chExt cx="8762760" cy="5945040"/>
            </a:xfrm>
          </p:grpSpPr>
          <p:sp>
            <p:nvSpPr>
              <p:cNvPr id="169" name=""/>
              <p:cNvSpPr/>
              <p:nvPr/>
            </p:nvSpPr>
            <p:spPr>
              <a:xfrm>
                <a:off x="304920" y="662940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04920" y="514368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04920" y="365760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4920" y="217188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920" y="68580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 flipV="1">
              <a:off x="304920" y="685800"/>
              <a:ext cx="1440" cy="5943600"/>
            </a:xfrm>
            <a:prstGeom prst="line">
              <a:avLst/>
            </a:prstGeom>
            <a:ln w="936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9066240" y="685800"/>
              <a:ext cx="1440" cy="5943600"/>
            </a:xfrm>
            <a:prstGeom prst="line">
              <a:avLst/>
            </a:prstGeom>
            <a:ln w="936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065240" y="685800"/>
              <a:ext cx="1440" cy="5943600"/>
            </a:xfrm>
            <a:prstGeom prst="line">
              <a:avLst/>
            </a:prstGeom>
            <a:ln w="936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60520" y="56386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8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9760" y="4151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8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560" y="2664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8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0000" y="1177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76520" y="655560"/>
            <a:ext cx="6616440" cy="5999400"/>
            <a:chOff x="1676520" y="655560"/>
            <a:chExt cx="6616440" cy="5999400"/>
          </a:xfrm>
        </p:grpSpPr>
        <p:sp>
          <p:nvSpPr>
            <p:cNvPr id="182" name=""/>
            <p:cNvSpPr/>
            <p:nvPr/>
          </p:nvSpPr>
          <p:spPr>
            <a:xfrm flipV="1">
              <a:off x="2484360" y="5147280"/>
              <a:ext cx="4930560" cy="12600"/>
            </a:xfrm>
            <a:prstGeom prst="line">
              <a:avLst/>
            </a:prstGeom>
            <a:ln w="3816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1676520" y="655560"/>
              <a:ext cx="6616440" cy="5999400"/>
              <a:chOff x="1676520" y="655560"/>
              <a:chExt cx="6616440" cy="5999400"/>
            </a:xfrm>
          </p:grpSpPr>
          <p:sp>
            <p:nvSpPr>
              <p:cNvPr id="184" name=""/>
              <p:cNvSpPr/>
              <p:nvPr/>
            </p:nvSpPr>
            <p:spPr>
              <a:xfrm>
                <a:off x="1676520" y="655560"/>
                <a:ext cx="6616440" cy="5999400"/>
              </a:xfrm>
              <a:prstGeom prst="triangle">
                <a:avLst>
                  <a:gd name="adj" fmla="val 50000"/>
                </a:avLst>
              </a:prstGeom>
              <a:noFill/>
              <a:ln w="5724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21000" y="3650400"/>
                <a:ext cx="3336480" cy="1080"/>
              </a:xfrm>
              <a:prstGeom prst="line">
                <a:avLst/>
              </a:prstGeom>
              <a:ln w="381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186080" y="2148120"/>
                <a:ext cx="1616040" cy="0"/>
              </a:xfrm>
              <a:prstGeom prst="line">
                <a:avLst/>
              </a:prstGeom>
              <a:ln w="381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 rot="17919600">
            <a:off x="1674000" y="5704920"/>
            <a:ext cx="101736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7919600">
            <a:off x="2250360" y="4395600"/>
            <a:ext cx="130032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7919600">
            <a:off x="3098520" y="2874960"/>
            <a:ext cx="1295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7919600">
            <a:off x="3911400" y="1390680"/>
            <a:ext cx="1295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4449200">
            <a:off x="4749840" y="1383840"/>
            <a:ext cx="1295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4506200">
            <a:off x="5540400" y="2836440"/>
            <a:ext cx="135108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4506200">
            <a:off x="6430320" y="4384440"/>
            <a:ext cx="126216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rot="14506800">
            <a:off x="7330680" y="5698800"/>
            <a:ext cx="93492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3797280"/>
            <a:ext cx="81536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8080"/>
                </a:solidFill>
                <a:latin typeface="Arial"/>
                <a:ea typeface="Arial"/>
              </a:rPr>
              <a:t>J</a:t>
            </a:r>
            <a:r>
              <a:rPr b="0" lang="es-ES" sz="2400" spc="-1" strike="noStrike">
                <a:solidFill>
                  <a:srgbClr val="808080"/>
                </a:solidFill>
                <a:latin typeface="Arial"/>
                <a:ea typeface="Arial"/>
              </a:rPr>
              <a:t>efes o supervisores de primera línea, técnicos especializados</a:t>
            </a:r>
            <a:r>
              <a:rPr b="0" lang="es-ES_tradnl" sz="2400" spc="-1" strike="noStrike">
                <a:solidFill>
                  <a:srgbClr val="808080"/>
                </a:solidFill>
                <a:latin typeface="Arial"/>
                <a:ea typeface="Arial"/>
              </a:rPr>
              <a:t>,</a:t>
            </a:r>
            <a:r>
              <a:rPr b="0" lang="es-ES" sz="2400" spc="-1" strike="noStrike">
                <a:solidFill>
                  <a:srgbClr val="808080"/>
                </a:solidFill>
                <a:latin typeface="Arial"/>
                <a:ea typeface="Arial"/>
              </a:rPr>
              <a:t> profesionales universitarios en </a:t>
            </a:r>
            <a:r>
              <a:rPr b="0" lang="es-ES_tradnl" sz="2400" spc="-1" strike="noStrike">
                <a:solidFill>
                  <a:srgbClr val="808080"/>
                </a:solidFill>
                <a:latin typeface="Arial"/>
                <a:ea typeface="Arial"/>
              </a:rPr>
              <a:t>iniciación</a:t>
            </a:r>
            <a:r>
              <a:rPr b="0" lang="es-ES" sz="2400" spc="-1" strike="noStrike">
                <a:solidFill>
                  <a:srgbClr val="808080"/>
                </a:solidFill>
                <a:latin typeface="Arial"/>
                <a:ea typeface="Arial"/>
              </a:rPr>
              <a:t>. Analistas de sistemas, vendedores industriales, tecnólogos, auditores, instructores de capacitación</a:t>
            </a:r>
            <a:r>
              <a:rPr b="0" lang="es-ES_tradnl" sz="24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r>
              <a:rPr b="0" lang="es-E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2286000"/>
            <a:ext cx="8001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8080"/>
                </a:solidFill>
                <a:latin typeface="Arial"/>
                <a:ea typeface="Arial"/>
              </a:rPr>
              <a:t>P</a:t>
            </a:r>
            <a:r>
              <a:rPr b="0" lang="es-ES" sz="2400" spc="-1" strike="noStrike">
                <a:solidFill>
                  <a:srgbClr val="808080"/>
                </a:solidFill>
                <a:latin typeface="Arial"/>
                <a:ea typeface="Arial"/>
              </a:rPr>
              <a:t>rimer nivel gerencial pleno, con dos niveles por debajo. </a:t>
            </a:r>
            <a:r>
              <a:rPr b="0" lang="es-ES_tradnl" sz="2400" spc="-1" strike="noStrike">
                <a:solidFill>
                  <a:srgbClr val="808080"/>
                </a:solidFill>
                <a:latin typeface="Arial"/>
                <a:ea typeface="Arial"/>
              </a:rPr>
              <a:t>Requiere capacidad de e</a:t>
            </a:r>
            <a:r>
              <a:rPr b="0" lang="es-ES" sz="2400" spc="-1" strike="noStrike">
                <a:solidFill>
                  <a:srgbClr val="808080"/>
                </a:solidFill>
                <a:latin typeface="Arial"/>
                <a:ea typeface="Arial"/>
              </a:rPr>
              <a:t>laborar y conducir planes de un año o más.  </a:t>
            </a:r>
            <a:r>
              <a:rPr b="0" lang="es-ES_tradnl" sz="2400" spc="-1" strike="noStrike">
                <a:solidFill>
                  <a:srgbClr val="808080"/>
                </a:solidFill>
                <a:latin typeface="Arial"/>
                <a:ea typeface="Arial"/>
              </a:rPr>
              <a:t>P</a:t>
            </a:r>
            <a:r>
              <a:rPr b="0" lang="es-ES" sz="2400" spc="-1" strike="noStrike">
                <a:solidFill>
                  <a:srgbClr val="808080"/>
                </a:solidFill>
                <a:latin typeface="Arial"/>
                <a:ea typeface="Arial"/>
              </a:rPr>
              <a:t>rofesionales universitarios </a:t>
            </a:r>
            <a:r>
              <a:rPr b="0" lang="es-ES_tradnl" sz="2400" spc="-1" strike="noStrike">
                <a:solidFill>
                  <a:srgbClr val="808080"/>
                </a:solidFill>
                <a:latin typeface="Arial"/>
                <a:ea typeface="Arial"/>
              </a:rPr>
              <a:t>avanzados.</a:t>
            </a:r>
            <a:r>
              <a:rPr b="0" lang="es-E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808080"/>
                </a:solidFill>
                <a:latin typeface="Arial"/>
              </a:rPr>
              <a:t>En PyMEs suele ser gerencia fun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809640"/>
            <a:ext cx="8001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rente genera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PyM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 de unidad con funciones diferenciadas en empresa grande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G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diversas unidades orgánicas especializad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D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estrategi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in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añ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5284800"/>
            <a:ext cx="8169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8080"/>
                </a:solidFill>
                <a:latin typeface="Arial"/>
                <a:ea typeface="Arial"/>
              </a:rPr>
              <a:t>N</a:t>
            </a:r>
            <a:r>
              <a:rPr b="0" lang="es-ES" sz="2400" spc="-1" strike="noStrike">
                <a:solidFill>
                  <a:srgbClr val="808080"/>
                </a:solidFill>
                <a:latin typeface="Arial"/>
                <a:ea typeface="Arial"/>
              </a:rPr>
              <a:t>ivel de ingreso al trabajo adulto. Operarios, administrativos, recepcionistas, personal de venta o atención al público, de seguridad, conductores de vehículos o maquinarias</a:t>
            </a:r>
            <a:r>
              <a:rPr b="0" lang="es-ES_tradnl" sz="2400" spc="-1" strike="noStrike">
                <a:solidFill>
                  <a:srgbClr val="808080"/>
                </a:solidFill>
                <a:latin typeface="Arial"/>
                <a:ea typeface="Arial"/>
              </a:rPr>
              <a:t>, etc.</a:t>
            </a:r>
            <a:r>
              <a:rPr b="0" lang="es-E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982160" y="7452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cripción de estratos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0520" y="56386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9760" y="4151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560" y="2664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0000" y="1177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7919600">
            <a:off x="1674000" y="5704920"/>
            <a:ext cx="101736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7919600">
            <a:off x="2250360" y="4395600"/>
            <a:ext cx="130032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7919600">
            <a:off x="3098520" y="2874960"/>
            <a:ext cx="1295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7919600">
            <a:off x="3911400" y="1390680"/>
            <a:ext cx="1295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4449200">
            <a:off x="4749840" y="1383840"/>
            <a:ext cx="1295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506200">
            <a:off x="5540400" y="2836440"/>
            <a:ext cx="135108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4506200">
            <a:off x="6430320" y="4384440"/>
            <a:ext cx="126216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rot="14506800">
            <a:off x="7330680" y="5698800"/>
            <a:ext cx="93492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3797280"/>
            <a:ext cx="81536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fes o supervisores de primera línea, técnicos especializad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profesionales universitarios e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nici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. Analistas de sistemas, vendedores industriales, tecnólogos, auditores, instructores de capacit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809640"/>
            <a:ext cx="8001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rente genera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PyM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 de unidad con funciones diferenciadas en empresa grande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G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diversas unidades orgánicas especializad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D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estrategi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in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añ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5284800"/>
            <a:ext cx="8169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vel de ingreso al trabajo adulto. Operarios, administrativos, recepcionistas, personal de venta o atención al público, de seguridad, conductores de vehículos o maquinari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, etc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476360" y="673200"/>
            <a:ext cx="6629400" cy="6010200"/>
            <a:chOff x="1476360" y="673200"/>
            <a:chExt cx="6629400" cy="6010200"/>
          </a:xfrm>
        </p:grpSpPr>
        <p:grpSp>
          <p:nvGrpSpPr>
            <p:cNvPr id="216" name=""/>
            <p:cNvGrpSpPr/>
            <p:nvPr/>
          </p:nvGrpSpPr>
          <p:grpSpPr>
            <a:xfrm>
              <a:off x="1476360" y="673200"/>
              <a:ext cx="6629400" cy="6010200"/>
              <a:chOff x="1476360" y="673200"/>
              <a:chExt cx="6629400" cy="601020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2286000" y="5173560"/>
                <a:ext cx="4940280" cy="12960"/>
              </a:xfrm>
              <a:prstGeom prst="line">
                <a:avLst/>
              </a:prstGeom>
              <a:ln w="381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1476360" y="673200"/>
                <a:ext cx="6629400" cy="6010200"/>
                <a:chOff x="1476360" y="673200"/>
                <a:chExt cx="6629400" cy="6010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1476360" y="673200"/>
                  <a:ext cx="6629400" cy="6010200"/>
                  <a:chOff x="1476360" y="673200"/>
                  <a:chExt cx="6629400" cy="6010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1476360" y="673200"/>
                    <a:ext cx="6629400" cy="601020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57240">
                    <a:solidFill>
                      <a:srgbClr val="b3015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124080" y="3673440"/>
                    <a:ext cx="3343320" cy="1440"/>
                  </a:xfrm>
                  <a:prstGeom prst="line">
                    <a:avLst/>
                  </a:prstGeom>
                  <a:ln w="38160">
                    <a:solidFill>
                      <a:srgbClr val="b3015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990960" y="2168640"/>
                    <a:ext cx="1619280" cy="0"/>
                  </a:xfrm>
                  <a:prstGeom prst="line">
                    <a:avLst/>
                  </a:prstGeom>
                  <a:ln w="38160">
                    <a:solidFill>
                      <a:srgbClr val="b3015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2971800" y="2190600"/>
                  <a:ext cx="3657600" cy="1471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4" name=""/>
            <p:cNvSpPr/>
            <p:nvPr/>
          </p:nvSpPr>
          <p:spPr>
            <a:xfrm flipH="1" flipV="1">
              <a:off x="4667040" y="1456560"/>
              <a:ext cx="262080" cy="528480"/>
            </a:xfrm>
            <a:prstGeom prst="line">
              <a:avLst/>
            </a:prstGeom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14720" y="1941840"/>
              <a:ext cx="83880" cy="606240"/>
            </a:xfrm>
            <a:prstGeom prst="line">
              <a:avLst/>
            </a:prstGeom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08600" y="1944720"/>
              <a:ext cx="414360" cy="450360"/>
            </a:xfrm>
            <a:prstGeom prst="line">
              <a:avLst/>
            </a:prstGeom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779360" y="975600"/>
              <a:ext cx="212400" cy="693360"/>
            </a:xfrm>
            <a:prstGeom prst="line">
              <a:avLst/>
            </a:prstGeom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4088880" y="1400760"/>
              <a:ext cx="669600" cy="277560"/>
            </a:xfrm>
            <a:prstGeom prst="line">
              <a:avLst/>
            </a:prstGeom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4734000" y="2800440"/>
              <a:ext cx="331560" cy="549000"/>
              <a:chOff x="4734000" y="2800440"/>
              <a:chExt cx="331560" cy="549000"/>
            </a:xfrm>
          </p:grpSpPr>
          <p:sp>
            <p:nvSpPr>
              <p:cNvPr id="230" name=""/>
              <p:cNvSpPr/>
              <p:nvPr/>
            </p:nvSpPr>
            <p:spPr>
              <a:xfrm>
                <a:off x="4734000" y="3019320"/>
                <a:ext cx="331560" cy="330120"/>
              </a:xfrm>
              <a:prstGeom prst="rect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41560" y="2800440"/>
                <a:ext cx="320400" cy="17280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863960" y="2957400"/>
                <a:ext cx="80640" cy="82800"/>
              </a:xfrm>
              <a:prstGeom prst="rect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 flipV="1">
              <a:off x="4905360" y="2220840"/>
              <a:ext cx="1440" cy="1038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20120400">
              <a:off x="3016080" y="4131720"/>
              <a:ext cx="401760" cy="271800"/>
            </a:xfrm>
            <a:custGeom>
              <a:avLst/>
              <a:gdLst/>
              <a:ahLst/>
              <a:rect l="l" t="t" r="r" b="b"/>
              <a:pathLst>
                <a:path w="1584" h="960">
                  <a:moveTo>
                    <a:pt x="0" y="0"/>
                  </a:moveTo>
                  <a:lnTo>
                    <a:pt x="240" y="960"/>
                  </a:lnTo>
                  <a:lnTo>
                    <a:pt x="1584" y="624"/>
                  </a:lnTo>
                </a:path>
              </a:pathLst>
            </a:custGeom>
            <a:noFill/>
            <a:ln w="1144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3432600" y="4086360"/>
              <a:ext cx="10440" cy="575640"/>
            </a:xfrm>
            <a:prstGeom prst="line">
              <a:avLst/>
            </a:prstGeom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20040600">
              <a:off x="3315960" y="3878280"/>
              <a:ext cx="217440" cy="231840"/>
            </a:xfrm>
            <a:prstGeom prst="ellipse">
              <a:avLst/>
            </a:prstGeom>
            <a:noFill/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rot="1479600">
              <a:off x="3420360" y="4136760"/>
              <a:ext cx="401760" cy="271800"/>
            </a:xfrm>
            <a:custGeom>
              <a:avLst/>
              <a:gdLst/>
              <a:ahLst/>
              <a:rect l="l" t="t" r="r" b="b"/>
              <a:pathLst>
                <a:path w="1584" h="960">
                  <a:moveTo>
                    <a:pt x="0" y="0"/>
                  </a:moveTo>
                  <a:lnTo>
                    <a:pt x="240" y="960"/>
                  </a:lnTo>
                  <a:lnTo>
                    <a:pt x="1584" y="624"/>
                  </a:lnTo>
                </a:path>
              </a:pathLst>
            </a:custGeom>
            <a:noFill/>
            <a:ln w="1144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270240" y="4572000"/>
              <a:ext cx="177840" cy="569880"/>
            </a:xfrm>
            <a:prstGeom prst="line">
              <a:avLst/>
            </a:prstGeom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43400" y="4572000"/>
              <a:ext cx="177840" cy="569880"/>
            </a:xfrm>
            <a:prstGeom prst="line">
              <a:avLst/>
            </a:prstGeom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96400" y="3552840"/>
              <a:ext cx="447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66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09520" y="3568680"/>
              <a:ext cx="447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66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20120400">
              <a:off x="5029200" y="4140000"/>
              <a:ext cx="401760" cy="271440"/>
            </a:xfrm>
            <a:custGeom>
              <a:avLst/>
              <a:gdLst/>
              <a:ahLst/>
              <a:rect l="l" t="t" r="r" b="b"/>
              <a:pathLst>
                <a:path w="1584" h="960">
                  <a:moveTo>
                    <a:pt x="0" y="0"/>
                  </a:moveTo>
                  <a:lnTo>
                    <a:pt x="240" y="960"/>
                  </a:lnTo>
                  <a:lnTo>
                    <a:pt x="1584" y="624"/>
                  </a:lnTo>
                </a:path>
              </a:pathLst>
            </a:custGeom>
            <a:noFill/>
            <a:ln w="1144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445360" y="4050000"/>
              <a:ext cx="10440" cy="576000"/>
            </a:xfrm>
            <a:prstGeom prst="line">
              <a:avLst/>
            </a:prstGeom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0040600">
              <a:off x="5328720" y="3841200"/>
              <a:ext cx="217800" cy="231840"/>
            </a:xfrm>
            <a:prstGeom prst="ellipse">
              <a:avLst/>
            </a:prstGeom>
            <a:noFill/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rot="1479600">
              <a:off x="5433120" y="4119120"/>
              <a:ext cx="401760" cy="271800"/>
            </a:xfrm>
            <a:custGeom>
              <a:avLst/>
              <a:gdLst/>
              <a:ahLst/>
              <a:rect l="l" t="t" r="r" b="b"/>
              <a:pathLst>
                <a:path w="1584" h="960">
                  <a:moveTo>
                    <a:pt x="0" y="0"/>
                  </a:moveTo>
                  <a:lnTo>
                    <a:pt x="240" y="960"/>
                  </a:lnTo>
                  <a:lnTo>
                    <a:pt x="1584" y="624"/>
                  </a:lnTo>
                </a:path>
              </a:pathLst>
            </a:custGeom>
            <a:noFill/>
            <a:ln w="1144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283000" y="4535640"/>
              <a:ext cx="177480" cy="569880"/>
            </a:xfrm>
            <a:prstGeom prst="line">
              <a:avLst/>
            </a:prstGeom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56160" y="4535640"/>
              <a:ext cx="177840" cy="569880"/>
            </a:xfrm>
            <a:prstGeom prst="line">
              <a:avLst/>
            </a:prstGeom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20040600">
              <a:off x="4519080" y="1225080"/>
              <a:ext cx="217800" cy="231840"/>
            </a:xfrm>
            <a:prstGeom prst="ellipse">
              <a:avLst/>
            </a:prstGeom>
            <a:noFill/>
            <a:ln w="114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04920" y="685800"/>
            <a:ext cx="8762760" cy="5945040"/>
            <a:chOff x="304920" y="685800"/>
            <a:chExt cx="8762760" cy="5945040"/>
          </a:xfrm>
        </p:grpSpPr>
        <p:grpSp>
          <p:nvGrpSpPr>
            <p:cNvPr id="250" name=""/>
            <p:cNvGrpSpPr/>
            <p:nvPr/>
          </p:nvGrpSpPr>
          <p:grpSpPr>
            <a:xfrm>
              <a:off x="304920" y="685800"/>
              <a:ext cx="8762760" cy="5945040"/>
              <a:chOff x="304920" y="685800"/>
              <a:chExt cx="8762760" cy="5945040"/>
            </a:xfrm>
          </p:grpSpPr>
          <p:sp>
            <p:nvSpPr>
              <p:cNvPr id="251" name=""/>
              <p:cNvSpPr/>
              <p:nvPr/>
            </p:nvSpPr>
            <p:spPr>
              <a:xfrm>
                <a:off x="304920" y="662940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4920" y="514368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365760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04920" y="217188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04920" y="685800"/>
                <a:ext cx="8762760" cy="1440"/>
              </a:xfrm>
              <a:prstGeom prst="line">
                <a:avLst/>
              </a:prstGeom>
              <a:ln w="9360">
                <a:solidFill>
                  <a:srgbClr val="b30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 flipV="1">
              <a:off x="304920" y="685800"/>
              <a:ext cx="1440" cy="5943600"/>
            </a:xfrm>
            <a:prstGeom prst="line">
              <a:avLst/>
            </a:prstGeom>
            <a:ln w="936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9066240" y="685800"/>
              <a:ext cx="1440" cy="5943600"/>
            </a:xfrm>
            <a:prstGeom prst="line">
              <a:avLst/>
            </a:prstGeom>
            <a:ln w="936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1065240" y="685800"/>
              <a:ext cx="1440" cy="5943600"/>
            </a:xfrm>
            <a:prstGeom prst="line">
              <a:avLst/>
            </a:prstGeom>
            <a:ln w="9360">
              <a:solidFill>
                <a:srgbClr val="b30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066680" y="2286000"/>
            <a:ext cx="8001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b2b2b2"/>
                </a:solidFill>
                <a:latin typeface="Arial"/>
                <a:ea typeface="Arial"/>
              </a:rPr>
              <a:t>P</a:t>
            </a:r>
            <a:r>
              <a:rPr b="0" lang="es-ES" sz="2400" spc="-1" strike="noStrike">
                <a:solidFill>
                  <a:srgbClr val="b2b2b2"/>
                </a:solidFill>
                <a:latin typeface="Arial"/>
                <a:ea typeface="Arial"/>
              </a:rPr>
              <a:t>rimer nivel gerencial pleno, con dos niveles por debajo. </a:t>
            </a:r>
            <a:r>
              <a:rPr b="0" lang="es-ES_tradnl" sz="2400" spc="-1" strike="noStrike">
                <a:solidFill>
                  <a:srgbClr val="b2b2b2"/>
                </a:solidFill>
                <a:latin typeface="Arial"/>
                <a:ea typeface="Arial"/>
              </a:rPr>
              <a:t>Requiere capacidad de e</a:t>
            </a:r>
            <a:r>
              <a:rPr b="0" lang="es-ES" sz="2400" spc="-1" strike="noStrike">
                <a:solidFill>
                  <a:srgbClr val="b2b2b2"/>
                </a:solidFill>
                <a:latin typeface="Arial"/>
                <a:ea typeface="Arial"/>
              </a:rPr>
              <a:t>laborar y conducir planes de un año o más.  </a:t>
            </a:r>
            <a:r>
              <a:rPr b="0" lang="es-ES_tradnl" sz="2400" spc="-1" strike="noStrike">
                <a:solidFill>
                  <a:srgbClr val="b2b2b2"/>
                </a:solidFill>
                <a:latin typeface="Arial"/>
                <a:ea typeface="Arial"/>
              </a:rPr>
              <a:t>P</a:t>
            </a:r>
            <a:r>
              <a:rPr b="0" lang="es-ES" sz="2400" spc="-1" strike="noStrike">
                <a:solidFill>
                  <a:srgbClr val="b2b2b2"/>
                </a:solidFill>
                <a:latin typeface="Arial"/>
                <a:ea typeface="Arial"/>
              </a:rPr>
              <a:t>rofesionales universitarios </a:t>
            </a:r>
            <a:r>
              <a:rPr b="0" lang="es-ES_tradnl" sz="2400" spc="-1" strike="noStrike">
                <a:solidFill>
                  <a:srgbClr val="b2b2b2"/>
                </a:solidFill>
                <a:latin typeface="Arial"/>
                <a:ea typeface="Arial"/>
              </a:rPr>
              <a:t>avanzados.</a:t>
            </a:r>
            <a:r>
              <a:rPr b="0" lang="es-E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b2b2b2"/>
                </a:solidFill>
                <a:latin typeface="Arial"/>
              </a:rPr>
              <a:t>En PyMEs suele ser gerencia fun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43120" y="762120"/>
            <a:ext cx="77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66"/>
                </a:solidFill>
                <a:uFillTx/>
                <a:latin typeface="Arial"/>
                <a:ea typeface="Times New Roman"/>
              </a:rPr>
              <a:t>Acciones</a:t>
            </a:r>
            <a:r>
              <a:rPr b="1" lang="es-ES_tradnl" sz="2800" spc="-1" strike="noStrike" u="sng">
                <a:solidFill>
                  <a:srgbClr val="000066"/>
                </a:solidFill>
                <a:uFillTx/>
                <a:latin typeface="Arial"/>
                <a:ea typeface="Times New Roman"/>
              </a:rPr>
              <a:t> para cerrar la brecha en la cúsp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73280" y="1792440"/>
            <a:ext cx="837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b3015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30152"/>
                </a:solidFill>
                <a:latin typeface="Arial"/>
                <a:ea typeface="Times New Roman"/>
              </a:rPr>
              <a:t>Diagnóstico del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3015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3015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30152"/>
                </a:solidFill>
                <a:latin typeface="Arial"/>
                <a:ea typeface="Times New Roman"/>
              </a:rPr>
              <a:t>Definición de la estructura requer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3015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3015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30152"/>
                </a:solidFill>
                <a:latin typeface="Arial"/>
                <a:ea typeface="Times New Roman"/>
              </a:rPr>
              <a:t>Búsqueda y designación del nuevo ocupante u ocupantes</a:t>
            </a:r>
            <a:r>
              <a:rPr b="1" lang="es-ES_tradnl" sz="2400" spc="-1" strike="noStrike">
                <a:solidFill>
                  <a:srgbClr val="b30152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3015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3015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30152"/>
                </a:solidFill>
                <a:latin typeface="Arial"/>
                <a:ea typeface="Times New Roman"/>
              </a:rPr>
              <a:t>Definición del nivel de remuneración de las nuevas posiciones</a:t>
            </a:r>
            <a:r>
              <a:rPr b="1" lang="es-ES_tradnl" sz="2400" spc="-1" strike="noStrike">
                <a:solidFill>
                  <a:srgbClr val="b30152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3015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3015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30152"/>
                </a:solidFill>
                <a:latin typeface="Arial"/>
                <a:ea typeface="Times New Roman"/>
              </a:rPr>
              <a:t>Gerenciamiento de los nuevos 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20:21:15Z</dcterms:created>
  <dc:creator>Harald</dc:creator>
  <dc:description/>
  <dc:language>en-US</dc:language>
  <cp:lastModifiedBy>C.P.C.E.C.A.B.A.</cp:lastModifiedBy>
  <dcterms:modified xsi:type="dcterms:W3CDTF">2006-11-06T22:01:43Z</dcterms:modified>
  <cp:revision>27</cp:revision>
  <dc:subject/>
  <dc:title>Presentación de PowerPoint</dc:title>
</cp:coreProperties>
</file>