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413-CB81-443F-8395-91243BC4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C02-68DE-4247-B843-5301E5D9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854-03BB-42B7-82F1-9622FBF5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A44-D143-465E-90C2-5E238E34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2AD-EA2A-4737-90CE-53D7359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AD5-DFD4-49A3-849F-69330E29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C22-76B3-460E-9587-FC76848C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918-C59E-4D66-845B-03F971E3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A22-B071-44E4-A53E-3EA5C2CC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4A5-DE79-4A79-9CEF-DED6A321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285-ECDE-42AE-967F-8A78166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165-0B64-4FA6-B6CF-42DAC84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5482-C932-4F4E-97C7-21C0E8F4A7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453520" y="6021360"/>
          <a:ext cx="69048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3520" y="6021360"/>
                    <a:ext cx="690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image" Target="../media/image2.png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2240" y="1423800"/>
            <a:ext cx="8001000" cy="3036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8000"/>
            </a:solidFill>
            <a:miter/>
          </a:ln>
        </p:spPr>
        <p:txBody>
          <a:bodyPr lIns="72000" rIns="72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Garamond"/>
              </a:rPr>
              <a:t>GESTIÓN DEL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Garamond"/>
              </a:rPr>
              <a:t>CAPITAL INTELECTUAL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Garamond"/>
              </a:rPr>
              <a:t>EN LAS PyME.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Garamond"/>
              </a:rPr>
              <a:t>APLICACIÓN DEL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Garamond"/>
              </a:rPr>
              <a:t>MODELO SKANDIA</a:t>
            </a:r>
            <a:r>
              <a:rPr b="1" lang="es-ES" sz="3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5760" y="4584600"/>
            <a:ext cx="585288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AUTORES:</a:t>
            </a:r>
            <a:br>
              <a:rPr sz="33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RGE  D.  SIMAR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MAR  E.  TONELLI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. GARMENDI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. L. TES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9920" y="1023840"/>
            <a:ext cx="8763120" cy="482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FORM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CAPITAL INTELE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l 31-12-2005</a:t>
            </a:r>
            <a:r>
              <a:rPr b="1" lang="en-US" sz="3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O   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E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SITUACION  ACTUA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5800" y="1058760"/>
            <a:ext cx="8196480" cy="494352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1763640" y="1641600"/>
            <a:ext cx="5472360" cy="720720"/>
          </a:xfrm>
          <a:custGeom>
            <a:avLst/>
            <a:gdLst>
              <a:gd name="textAreaLeft" fmla="*/ 123840 w 5472360"/>
              <a:gd name="textAreaRight" fmla="*/ 5348520 w 5472360"/>
              <a:gd name="textAreaTop" fmla="*/ 123840 h 720720"/>
              <a:gd name="textAreaBottom" fmla="*/ 596880 h 720720"/>
            </a:gdLst>
            <a:ahLst/>
            <a:rect l="textAreaLeft" t="textAreaTop" r="textAreaRight" b="textAreaBottom"/>
            <a:pathLst>
              <a:path w="163936" h="21600">
                <a:moveTo>
                  <a:pt x="0" y="0"/>
                </a:moveTo>
                <a:lnTo>
                  <a:pt x="163936" y="0"/>
                </a:lnTo>
                <a:lnTo>
                  <a:pt x="163936" y="21600"/>
                </a:lnTo>
                <a:lnTo>
                  <a:pt x="0" y="21600"/>
                </a:lnTo>
                <a:close/>
              </a:path>
              <a:path fill="lightenLess" w="163936" h="21600">
                <a:moveTo>
                  <a:pt x="0" y="0"/>
                </a:moveTo>
                <a:lnTo>
                  <a:pt x="163936" y="0"/>
                </a:lnTo>
                <a:lnTo>
                  <a:pt x="160225" y="3711"/>
                </a:lnTo>
                <a:lnTo>
                  <a:pt x="3711" y="3711"/>
                </a:lnTo>
                <a:close/>
              </a:path>
              <a:path fill="darken" w="163936" h="21600">
                <a:moveTo>
                  <a:pt x="163936" y="0"/>
                </a:moveTo>
                <a:lnTo>
                  <a:pt x="163936" y="21600"/>
                </a:lnTo>
                <a:lnTo>
                  <a:pt x="160225" y="17889"/>
                </a:lnTo>
                <a:lnTo>
                  <a:pt x="160225" y="3711"/>
                </a:lnTo>
                <a:close/>
              </a:path>
              <a:path fill="darkenLess" w="163936" h="21600">
                <a:moveTo>
                  <a:pt x="163936" y="21600"/>
                </a:moveTo>
                <a:lnTo>
                  <a:pt x="0" y="21600"/>
                </a:lnTo>
                <a:lnTo>
                  <a:pt x="3711" y="17889"/>
                </a:lnTo>
                <a:lnTo>
                  <a:pt x="160225" y="17889"/>
                </a:lnTo>
                <a:close/>
              </a:path>
              <a:path fill="lighten" w="163936" h="21600">
                <a:moveTo>
                  <a:pt x="0" y="21600"/>
                </a:moveTo>
                <a:lnTo>
                  <a:pt x="0" y="0"/>
                </a:lnTo>
                <a:lnTo>
                  <a:pt x="3711" y="3711"/>
                </a:lnTo>
                <a:lnTo>
                  <a:pt x="3711" y="17889"/>
                </a:lnTo>
                <a:close/>
              </a:path>
              <a:path fill="darken" w="163936" h="21600">
                <a:moveTo>
                  <a:pt x="76684" y="5516"/>
                </a:moveTo>
                <a:lnTo>
                  <a:pt x="87252" y="10800"/>
                </a:lnTo>
                <a:lnTo>
                  <a:pt x="76684" y="160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1692360" y="2733840"/>
            <a:ext cx="1727280" cy="1152360"/>
          </a:xfrm>
          <a:custGeom>
            <a:avLst/>
            <a:gdLst>
              <a:gd name="textAreaLeft" fmla="*/ 74520 w 1727280"/>
              <a:gd name="textAreaRight" fmla="*/ 1652760 w 1727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5796000" y="2733840"/>
            <a:ext cx="1687320" cy="1152360"/>
          </a:xfrm>
          <a:custGeom>
            <a:avLst/>
            <a:gdLst>
              <a:gd name="textAreaLeft" fmla="*/ 74520 w 1687320"/>
              <a:gd name="textAreaRight" fmla="*/ 1612800 w 16873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31624" h="21600">
                <a:moveTo>
                  <a:pt x="0" y="0"/>
                </a:moveTo>
                <a:lnTo>
                  <a:pt x="31624" y="0"/>
                </a:lnTo>
                <a:lnTo>
                  <a:pt x="31624" y="21600"/>
                </a:lnTo>
                <a:lnTo>
                  <a:pt x="0" y="21600"/>
                </a:lnTo>
                <a:close/>
              </a:path>
              <a:path fill="lightenLess" w="31624" h="21600">
                <a:moveTo>
                  <a:pt x="0" y="0"/>
                </a:moveTo>
                <a:lnTo>
                  <a:pt x="31624" y="0"/>
                </a:lnTo>
                <a:lnTo>
                  <a:pt x="30224" y="1400"/>
                </a:lnTo>
                <a:lnTo>
                  <a:pt x="1400" y="1400"/>
                </a:lnTo>
                <a:close/>
              </a:path>
              <a:path fill="darken" w="31624" h="21600">
                <a:moveTo>
                  <a:pt x="31624" y="0"/>
                </a:moveTo>
                <a:lnTo>
                  <a:pt x="31624" y="21600"/>
                </a:lnTo>
                <a:lnTo>
                  <a:pt x="30224" y="20200"/>
                </a:lnTo>
                <a:lnTo>
                  <a:pt x="30224" y="1400"/>
                </a:lnTo>
                <a:close/>
              </a:path>
              <a:path fill="darkenLess" w="31624" h="21600">
                <a:moveTo>
                  <a:pt x="3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24" y="20200"/>
                </a:lnTo>
                <a:close/>
              </a:path>
              <a:path fill="lighten" w="3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24" h="21600">
                <a:moveTo>
                  <a:pt x="8806" y="3794"/>
                </a:moveTo>
                <a:lnTo>
                  <a:pt x="22819" y="10800"/>
                </a:lnTo>
                <a:lnTo>
                  <a:pt x="88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1692360" y="4308480"/>
            <a:ext cx="5759280" cy="720720"/>
          </a:xfrm>
          <a:custGeom>
            <a:avLst/>
            <a:gdLst>
              <a:gd name="textAreaLeft" fmla="*/ 46440 w 5759280"/>
              <a:gd name="textAreaRight" fmla="*/ 5712840 w 575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72530" h="21600">
                <a:moveTo>
                  <a:pt x="0" y="0"/>
                </a:moveTo>
                <a:lnTo>
                  <a:pt x="172530" y="0"/>
                </a:lnTo>
                <a:lnTo>
                  <a:pt x="172530" y="21600"/>
                </a:lnTo>
                <a:lnTo>
                  <a:pt x="0" y="21600"/>
                </a:lnTo>
                <a:close/>
              </a:path>
              <a:path fill="lightenLess" w="172530" h="21600">
                <a:moveTo>
                  <a:pt x="0" y="0"/>
                </a:moveTo>
                <a:lnTo>
                  <a:pt x="172530" y="0"/>
                </a:lnTo>
                <a:lnTo>
                  <a:pt x="171130" y="1400"/>
                </a:lnTo>
                <a:lnTo>
                  <a:pt x="1400" y="1400"/>
                </a:lnTo>
                <a:close/>
              </a:path>
              <a:path fill="darken" w="172530" h="21600">
                <a:moveTo>
                  <a:pt x="172530" y="0"/>
                </a:moveTo>
                <a:lnTo>
                  <a:pt x="172530" y="21600"/>
                </a:lnTo>
                <a:lnTo>
                  <a:pt x="171130" y="20200"/>
                </a:lnTo>
                <a:lnTo>
                  <a:pt x="171130" y="1400"/>
                </a:lnTo>
                <a:close/>
              </a:path>
              <a:path fill="darkenLess" w="172530" h="21600">
                <a:moveTo>
                  <a:pt x="172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30" y="20200"/>
                </a:lnTo>
                <a:close/>
              </a:path>
              <a:path fill="lighten" w="172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30" h="21600">
                <a:moveTo>
                  <a:pt x="79259" y="3794"/>
                </a:moveTo>
                <a:lnTo>
                  <a:pt x="93272" y="10800"/>
                </a:lnTo>
                <a:lnTo>
                  <a:pt x="7925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851280" y="3009960"/>
            <a:ext cx="1657440" cy="647640"/>
          </a:xfrm>
          <a:custGeom>
            <a:avLst/>
            <a:gdLst>
              <a:gd name="textAreaLeft" fmla="*/ 41760 w 1657440"/>
              <a:gd name="textAreaRight" fmla="*/ 1615680 w 1657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5260" h="21600">
                <a:moveTo>
                  <a:pt x="0" y="0"/>
                </a:moveTo>
                <a:lnTo>
                  <a:pt x="55260" y="0"/>
                </a:lnTo>
                <a:lnTo>
                  <a:pt x="55260" y="21600"/>
                </a:lnTo>
                <a:lnTo>
                  <a:pt x="0" y="21600"/>
                </a:lnTo>
                <a:close/>
              </a:path>
              <a:path fill="lightenLess" w="55260" h="21600">
                <a:moveTo>
                  <a:pt x="0" y="0"/>
                </a:moveTo>
                <a:lnTo>
                  <a:pt x="55260" y="0"/>
                </a:lnTo>
                <a:lnTo>
                  <a:pt x="53860" y="1400"/>
                </a:lnTo>
                <a:lnTo>
                  <a:pt x="1400" y="1400"/>
                </a:lnTo>
                <a:close/>
              </a:path>
              <a:path fill="darken" w="55260" h="21600">
                <a:moveTo>
                  <a:pt x="55260" y="0"/>
                </a:moveTo>
                <a:lnTo>
                  <a:pt x="55260" y="21600"/>
                </a:lnTo>
                <a:lnTo>
                  <a:pt x="53860" y="20200"/>
                </a:lnTo>
                <a:lnTo>
                  <a:pt x="53860" y="1400"/>
                </a:lnTo>
                <a:close/>
              </a:path>
              <a:path fill="darkenLess" w="55260" h="21600">
                <a:moveTo>
                  <a:pt x="55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860" y="20200"/>
                </a:lnTo>
                <a:close/>
              </a:path>
              <a:path fill="lighten" w="55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260" h="21600">
                <a:moveTo>
                  <a:pt x="20624" y="3794"/>
                </a:moveTo>
                <a:lnTo>
                  <a:pt x="34636" y="10800"/>
                </a:lnTo>
                <a:lnTo>
                  <a:pt x="206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17440"/>
            <a:ext cx="6858000" cy="673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00"/>
                </a:solidFill>
                <a:latin typeface="Garamond"/>
              </a:rPr>
              <a:t>NAVEGADOR SKAND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7380360" y="6237360"/>
            <a:ext cx="718920" cy="53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8771" h="21600">
                <a:moveTo>
                  <a:pt x="0" y="0"/>
                </a:moveTo>
                <a:lnTo>
                  <a:pt x="28771" y="0"/>
                </a:lnTo>
                <a:lnTo>
                  <a:pt x="28771" y="21600"/>
                </a:lnTo>
                <a:lnTo>
                  <a:pt x="0" y="21600"/>
                </a:lnTo>
                <a:close/>
              </a:path>
              <a:path fill="lightenLess" w="28771" h="21600">
                <a:moveTo>
                  <a:pt x="0" y="0"/>
                </a:moveTo>
                <a:lnTo>
                  <a:pt x="28771" y="0"/>
                </a:lnTo>
                <a:lnTo>
                  <a:pt x="27371" y="1400"/>
                </a:lnTo>
                <a:lnTo>
                  <a:pt x="1400" y="1400"/>
                </a:lnTo>
                <a:close/>
              </a:path>
              <a:path fill="darken" w="28771" h="21600">
                <a:moveTo>
                  <a:pt x="28771" y="0"/>
                </a:moveTo>
                <a:lnTo>
                  <a:pt x="28771" y="21600"/>
                </a:lnTo>
                <a:lnTo>
                  <a:pt x="27371" y="20200"/>
                </a:lnTo>
                <a:lnTo>
                  <a:pt x="27371" y="1400"/>
                </a:lnTo>
                <a:close/>
              </a:path>
              <a:path fill="darkenLess" w="28771" h="21600">
                <a:moveTo>
                  <a:pt x="28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1" y="20200"/>
                </a:lnTo>
                <a:close/>
              </a:path>
              <a:path fill="lighten" w="28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1" h="21600">
                <a:moveTo>
                  <a:pt x="7379" y="3794"/>
                </a:moveTo>
                <a:lnTo>
                  <a:pt x="21392" y="10800"/>
                </a:lnTo>
                <a:lnTo>
                  <a:pt x="7379" y="17806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688000" y="703440"/>
            <a:ext cx="1582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16720" y="703440"/>
            <a:ext cx="1727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6280" y="977760"/>
          <a:ext cx="8737560" cy="5144760"/>
        </p:xfrm>
        <a:graphic>
          <a:graphicData uri="http://schemas.openxmlformats.org/drawingml/2006/table">
            <a:tbl>
              <a:tblPr/>
              <a:tblGrid>
                <a:gridCol w="517680"/>
                <a:gridCol w="5272200"/>
                <a:gridCol w="1547640"/>
                <a:gridCol w="1400040"/>
              </a:tblGrid>
              <a:tr h="687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ENFOQUE FINANCIER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gresos por nuevos cli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75.3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76.4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1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gresos por nuevos clientes / Ingresos tot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2,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4,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Variación ingresos tot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1,7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5,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Utilidad de nuevos produc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1.2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2.9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Utilidades / activos tot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5,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32,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9080" y="1890720"/>
            <a:ext cx="778212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sminución porcentual de ingresos por nuevos clie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aja utilidad por nuevos produ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mportante disminución de rentabilidad del ac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nor crecimiento de ingresos tot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2120" y="976320"/>
            <a:ext cx="8209080" cy="55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Garamond"/>
              </a:rPr>
              <a:t>ENFOQUE FINANCIER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7380360" y="6202440"/>
            <a:ext cx="718920" cy="53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8771" h="21600">
                <a:moveTo>
                  <a:pt x="0" y="0"/>
                </a:moveTo>
                <a:lnTo>
                  <a:pt x="28771" y="0"/>
                </a:lnTo>
                <a:lnTo>
                  <a:pt x="28771" y="21600"/>
                </a:lnTo>
                <a:lnTo>
                  <a:pt x="0" y="21600"/>
                </a:lnTo>
                <a:close/>
              </a:path>
              <a:path fill="lightenLess" w="28771" h="21600">
                <a:moveTo>
                  <a:pt x="0" y="0"/>
                </a:moveTo>
                <a:lnTo>
                  <a:pt x="28771" y="0"/>
                </a:lnTo>
                <a:lnTo>
                  <a:pt x="27371" y="1400"/>
                </a:lnTo>
                <a:lnTo>
                  <a:pt x="1400" y="1400"/>
                </a:lnTo>
                <a:close/>
              </a:path>
              <a:path fill="darken" w="28771" h="21600">
                <a:moveTo>
                  <a:pt x="28771" y="0"/>
                </a:moveTo>
                <a:lnTo>
                  <a:pt x="28771" y="21600"/>
                </a:lnTo>
                <a:lnTo>
                  <a:pt x="27371" y="20200"/>
                </a:lnTo>
                <a:lnTo>
                  <a:pt x="27371" y="1400"/>
                </a:lnTo>
                <a:close/>
              </a:path>
              <a:path fill="darkenLess" w="28771" h="21600">
                <a:moveTo>
                  <a:pt x="28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1" y="20200"/>
                </a:lnTo>
                <a:close/>
              </a:path>
              <a:path fill="lighten" w="28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1" h="21600">
                <a:moveTo>
                  <a:pt x="7379" y="10800"/>
                </a:moveTo>
                <a:lnTo>
                  <a:pt x="21392" y="3794"/>
                </a:lnTo>
                <a:lnTo>
                  <a:pt x="21392" y="17806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06280" y="971640"/>
          <a:ext cx="8737560" cy="5368320"/>
        </p:xfrm>
        <a:graphic>
          <a:graphicData uri="http://schemas.openxmlformats.org/drawingml/2006/table">
            <a:tbl>
              <a:tblPr/>
              <a:tblGrid>
                <a:gridCol w="517680"/>
                <a:gridCol w="5272200"/>
                <a:gridCol w="1547640"/>
                <a:gridCol w="1400040"/>
              </a:tblGrid>
              <a:tr h="550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ENFOQUE CLIENT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alificación clientes (clientes no rentables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5,0 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5,0 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antidad de prestacion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9.10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8.3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lientes sin prestaciones en los 2 últimos añ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5,8 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6,7 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Gastos en servicios/Cliente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dice satisfacción client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76,1 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/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articipación de merca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7,1 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7,0 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71600" y="976320"/>
            <a:ext cx="8229600" cy="55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Garamond"/>
              </a:rPr>
              <a:t>ENFOQUE 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7520" y="1890720"/>
            <a:ext cx="811368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able nivel de clientes satisfech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delidad de cliente: menor al nivel de clientes satisfech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ve incremento en la cantidad de presta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xisten gastos por servicios a clie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7381800" y="6248520"/>
            <a:ext cx="719280" cy="53964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6" y="10800"/>
                </a:moveTo>
                <a:lnTo>
                  <a:pt x="21399" y="3794"/>
                </a:lnTo>
                <a:lnTo>
                  <a:pt x="21399" y="17806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920880"/>
          <a:ext cx="8856720" cy="5432400"/>
        </p:xfrm>
        <a:graphic>
          <a:graphicData uri="http://schemas.openxmlformats.org/drawingml/2006/table">
            <a:tbl>
              <a:tblPr/>
              <a:tblGrid>
                <a:gridCol w="449280"/>
                <a:gridCol w="5670720"/>
                <a:gridCol w="1369800"/>
                <a:gridCol w="1366920"/>
              </a:tblGrid>
              <a:tr h="550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ENFOQUE PROCES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úmero análisis descart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Variación inventario Tecnolog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38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40.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Variación inventario Tecnología / Cant. de Prest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Variación inventario Tecnología / Inventario Tecnolog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8,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2,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sto de prestaciones / Ingresos tot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61,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58,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</a:tr>
              <a:tr h="14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ventario Tecnol. discontinuado / Inventario Tecnologí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0,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4,7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71600" y="981000"/>
            <a:ext cx="8229600" cy="55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Garamond"/>
              </a:rPr>
              <a:t>ENFOQUE  PROCE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890720"/>
            <a:ext cx="794880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decuado grado de eficiencia operativ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suficiente inversión en tecnolog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lto grado de tecnología discontin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cremento en el costo operati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7380360" y="6273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7360" y="954000"/>
          <a:ext cx="8964720" cy="5298840"/>
        </p:xfrm>
        <a:graphic>
          <a:graphicData uri="http://schemas.openxmlformats.org/drawingml/2006/table">
            <a:tbl>
              <a:tblPr/>
              <a:tblGrid>
                <a:gridCol w="474840"/>
                <a:gridCol w="5689440"/>
                <a:gridCol w="1365480"/>
                <a:gridCol w="1434960"/>
              </a:tblGrid>
              <a:tr h="550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RENOVACION y DESARROLL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Gasto en Marketing / Cli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,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,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Gasto en entrenamiento / emple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oporción empleados menores de 4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48,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48,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versión en I+D / Activos tot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gresos por nuevos produc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9.6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5.8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gresos nuevos productos / Ingresos tot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4,9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4,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1600" y="976320"/>
            <a:ext cx="8229600" cy="55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Garamond"/>
              </a:rPr>
              <a:t>ENFOQUE RENOVACION y DESARRO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9440" y="1890720"/>
            <a:ext cx="8051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xiste inversión en I + 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aso gasto de entrenamiento por emple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lto potencial de desarrollo hum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ajo nivel de ingresos por nuevos produc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402680" y="6286680"/>
            <a:ext cx="718920" cy="53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8771" h="21600">
                <a:moveTo>
                  <a:pt x="0" y="0"/>
                </a:moveTo>
                <a:lnTo>
                  <a:pt x="28771" y="0"/>
                </a:lnTo>
                <a:lnTo>
                  <a:pt x="28771" y="21600"/>
                </a:lnTo>
                <a:lnTo>
                  <a:pt x="0" y="21600"/>
                </a:lnTo>
                <a:close/>
              </a:path>
              <a:path fill="lightenLess" w="28771" h="21600">
                <a:moveTo>
                  <a:pt x="0" y="0"/>
                </a:moveTo>
                <a:lnTo>
                  <a:pt x="28771" y="0"/>
                </a:lnTo>
                <a:lnTo>
                  <a:pt x="27371" y="1400"/>
                </a:lnTo>
                <a:lnTo>
                  <a:pt x="1400" y="1400"/>
                </a:lnTo>
                <a:close/>
              </a:path>
              <a:path fill="darken" w="28771" h="21600">
                <a:moveTo>
                  <a:pt x="28771" y="0"/>
                </a:moveTo>
                <a:lnTo>
                  <a:pt x="28771" y="21600"/>
                </a:lnTo>
                <a:lnTo>
                  <a:pt x="27371" y="20200"/>
                </a:lnTo>
                <a:lnTo>
                  <a:pt x="27371" y="1400"/>
                </a:lnTo>
                <a:close/>
              </a:path>
              <a:path fill="darkenLess" w="28771" h="21600">
                <a:moveTo>
                  <a:pt x="28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1" y="20200"/>
                </a:lnTo>
                <a:close/>
              </a:path>
              <a:path fill="lighten" w="28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1" h="21600">
                <a:moveTo>
                  <a:pt x="7379" y="10800"/>
                </a:moveTo>
                <a:lnTo>
                  <a:pt x="21392" y="3794"/>
                </a:lnTo>
                <a:lnTo>
                  <a:pt x="21392" y="17806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23960" y="343080"/>
            <a:ext cx="4094280" cy="73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00"/>
                </a:solidFill>
                <a:latin typeface="Garamond"/>
              </a:rPr>
              <a:t>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640" y="1835280"/>
            <a:ext cx="80535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OBTENER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INFORME DE CAPITAL INTELECTUAL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UTILIZANDO EL MODELO SKAN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MO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NUEVO SERVICIO PROFESIONAL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PLICABLE A LAS PyME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79280" y="914400"/>
          <a:ext cx="8785440" cy="5740560"/>
        </p:xfrm>
        <a:graphic>
          <a:graphicData uri="http://schemas.openxmlformats.org/drawingml/2006/table">
            <a:tbl>
              <a:tblPr/>
              <a:tblGrid>
                <a:gridCol w="444600"/>
                <a:gridCol w="706320"/>
                <a:gridCol w="4899240"/>
                <a:gridCol w="1295280"/>
                <a:gridCol w="1440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ENFOQUE HUMAN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0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00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dice de lideraz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6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/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dice de motiv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72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/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úmero de emple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tención de emplead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94,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94,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omedio de años de serv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1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iempo entrenamiento (días/añ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orcentaje de personal c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Formación técn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35,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35,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Formación universita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41,2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41,2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Formación de postgr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71600" y="981000"/>
            <a:ext cx="8229600" cy="55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Garamond"/>
              </a:rPr>
              <a:t>ENFOQUE HUM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800" y="1890720"/>
            <a:ext cx="7524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ables niveles de liderazgo y motiv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lta retención de emplead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decuada capacitación del perso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ajo tiempo de entrenami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7381800" y="6273720"/>
            <a:ext cx="719280" cy="540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920" y="1023840"/>
            <a:ext cx="8763120" cy="482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FORM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CAPITAL INTELE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l 31-12-2005</a:t>
            </a:r>
            <a:r>
              <a:rPr b="1" lang="en-US" sz="3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PROPUESTA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DE   GES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30120" y="933480"/>
            <a:ext cx="84535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PROPUEST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" y="4572000"/>
            <a:ext cx="7848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3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Asignar responsabilidad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1040" y="3373560"/>
            <a:ext cx="78487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3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Establecer y redefinir metas como un proceso continu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5418000"/>
            <a:ext cx="7848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3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Fijar horizonte temporal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1040" y="1890720"/>
            <a:ext cx="81741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800" spc="-1" strike="noStrike">
                <a:solidFill>
                  <a:srgbClr val="ffffff"/>
                </a:solidFill>
                <a:latin typeface="Garamond"/>
              </a:rPr>
              <a:t>Para un adecuado funcionamiento del modelo se deberá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320" y="52560"/>
            <a:ext cx="62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PRESA: LABORATORIO TAND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E CAPITAL INTELECTUAL al 31-1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0120" y="933480"/>
            <a:ext cx="84535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PROPUEST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4427640"/>
            <a:ext cx="78487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3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Adecuar el sistema de captación de dato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1040" y="2668680"/>
            <a:ext cx="78487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60000"/>
              </a:lnSpc>
              <a:spcBef>
                <a:spcPts val="23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Establecer indicadores secundario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563400">
              <a:lnSpc>
                <a:spcPct val="50000"/>
              </a:lnSpc>
              <a:spcBef>
                <a:spcPts val="23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Por divis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563400">
              <a:lnSpc>
                <a:spcPct val="50000"/>
              </a:lnSpc>
              <a:spcBef>
                <a:spcPts val="23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Individu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1040" y="5632560"/>
            <a:ext cx="78487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3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Garamond"/>
              </a:rPr>
              <a:t>Proceso continuo de evaluación de la gestió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1040" y="1901880"/>
            <a:ext cx="7848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3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Establecer tendencia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26960" y="538200"/>
            <a:ext cx="828828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Garamond"/>
              </a:rPr>
              <a:t>CONCLUS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1040" y="4325760"/>
            <a:ext cx="8120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grega valor al servicio profesional, fortaleciendo la relación con las empres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360" y="1795320"/>
            <a:ext cx="7848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Herramienta útil para gestionar el desarrollo sustentable de las py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1040" y="3100320"/>
            <a:ext cx="8178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formación pertinente y de valor para la toma de decis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6520" y="609480"/>
            <a:ext cx="601956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Objetivo fin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Garamond"/>
              </a:rPr>
              <a:t>Estimular y jerarquizar el proceso de búsqueda y desarrollo del conocimiento aplicado a los negoci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50"/>
                            </p:stCondLst>
                            <p:childTnLst>
                              <p:par>
                                <p:cTn id="4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0160" y="495000"/>
            <a:ext cx="8521560" cy="1182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NSULTAS  -  COMENTARIOS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65280" y="2044440"/>
            <a:ext cx="7772400" cy="1027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ipyme@hotmail.co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75760" y="5985000"/>
            <a:ext cx="768240" cy="87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193920" y="3460680"/>
            <a:ext cx="2733840" cy="3240000"/>
            <a:chOff x="3193920" y="3460680"/>
            <a:chExt cx="2733840" cy="3240000"/>
          </a:xfrm>
        </p:grpSpPr>
        <p:sp>
          <p:nvSpPr>
            <p:cNvPr id="167" name=""/>
            <p:cNvSpPr/>
            <p:nvPr/>
          </p:nvSpPr>
          <p:spPr>
            <a:xfrm>
              <a:off x="3193920" y="3460680"/>
              <a:ext cx="2733840" cy="32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216240" y="3489480"/>
              <a:ext cx="2678040" cy="31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992160" y="1886040"/>
            <a:ext cx="7128000" cy="4681440"/>
            <a:chOff x="992160" y="1886040"/>
            <a:chExt cx="7128000" cy="4681440"/>
          </a:xfrm>
        </p:grpSpPr>
        <p:sp>
          <p:nvSpPr>
            <p:cNvPr id="170" name=""/>
            <p:cNvSpPr/>
            <p:nvPr/>
          </p:nvSpPr>
          <p:spPr>
            <a:xfrm>
              <a:off x="992160" y="1886040"/>
              <a:ext cx="7128000" cy="46814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576160" y="4406760"/>
              <a:ext cx="1919160" cy="1420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519080" y="3830760"/>
              <a:ext cx="2467080" cy="584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519080" y="4406400"/>
              <a:ext cx="1460520" cy="1839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519080" y="2102040"/>
              <a:ext cx="1800" cy="2341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503080" y="3470040"/>
              <a:ext cx="2011320" cy="920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647800" y="2606400"/>
              <a:ext cx="1871640" cy="920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19440" y="2606760"/>
              <a:ext cx="1729080" cy="13683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24160" y="5342040"/>
              <a:ext cx="2411280" cy="5000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647440" y="3541320"/>
              <a:ext cx="576360" cy="18003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672160" y="3974760"/>
              <a:ext cx="550800" cy="18716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62120" y="35416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X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9040" y="22464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I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8040" y="3365640"/>
              <a:ext cx="157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DURA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86000" y="5737320"/>
              <a:ext cx="10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P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64440" y="5881680"/>
              <a:ext cx="21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PARTICIPA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012680" y="322200"/>
            <a:ext cx="7056720" cy="132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00"/>
                </a:solidFill>
                <a:latin typeface="Garamond"/>
              </a:rPr>
              <a:t>ENFOQUE  CLIEN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00"/>
                </a:solidFill>
                <a:latin typeface="Garamond"/>
              </a:rPr>
              <a:t>FILOSOF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93720" y="1832040"/>
            <a:ext cx="7913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alificación clientes (clientes no rent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antidad de prestaciones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lientes sin prestaciones en los 2 últ.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Gastos en servicios / Clientes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Indice de satisfacción de clientes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articip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7040" y="343080"/>
            <a:ext cx="8568000" cy="132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00"/>
                </a:solidFill>
                <a:latin typeface="Garamond"/>
              </a:rPr>
              <a:t>ENFOQUE  CLIEN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00"/>
                </a:solidFill>
                <a:latin typeface="Garamond"/>
              </a:rPr>
              <a:t>INDICADORES SELECCIONAD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638520"/>
            <a:ext cx="3429000" cy="1600200"/>
            <a:chOff x="0" y="3638520"/>
            <a:chExt cx="3429000" cy="1600200"/>
          </a:xfrm>
        </p:grpSpPr>
        <p:sp>
          <p:nvSpPr>
            <p:cNvPr id="51" name=""/>
            <p:cNvSpPr/>
            <p:nvPr/>
          </p:nvSpPr>
          <p:spPr>
            <a:xfrm>
              <a:off x="838080" y="3638520"/>
              <a:ext cx="1600200" cy="16002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340000" y="3790800"/>
              <a:ext cx="1089000" cy="411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201920"/>
              <a:ext cx="341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CONOCIMIEN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538960" y="3352680"/>
            <a:ext cx="3683880" cy="1600200"/>
            <a:chOff x="5538960" y="3352680"/>
            <a:chExt cx="3683880" cy="1600200"/>
          </a:xfrm>
        </p:grpSpPr>
        <p:sp>
          <p:nvSpPr>
            <p:cNvPr id="55" name=""/>
            <p:cNvSpPr/>
            <p:nvPr/>
          </p:nvSpPr>
          <p:spPr>
            <a:xfrm>
              <a:off x="6740280" y="3352680"/>
              <a:ext cx="1681560" cy="16002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38960" y="3809880"/>
              <a:ext cx="120132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2920" y="3933720"/>
              <a:ext cx="31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INNOV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295280"/>
            <a:ext cx="3479400" cy="1600200"/>
            <a:chOff x="0" y="1295280"/>
            <a:chExt cx="3479400" cy="1600200"/>
          </a:xfrm>
        </p:grpSpPr>
        <p:sp>
          <p:nvSpPr>
            <p:cNvPr id="59" name=""/>
            <p:cNvSpPr/>
            <p:nvPr/>
          </p:nvSpPr>
          <p:spPr>
            <a:xfrm>
              <a:off x="2464920" y="2514600"/>
              <a:ext cx="1014480" cy="380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3960" y="1295280"/>
              <a:ext cx="1638720" cy="1600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768320"/>
              <a:ext cx="3391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Garamond"/>
                </a:rPr>
                <a:t>EXPERIENCI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580000" y="1295280"/>
            <a:ext cx="3274920" cy="1676520"/>
            <a:chOff x="5580000" y="1295280"/>
            <a:chExt cx="3274920" cy="1676520"/>
          </a:xfrm>
        </p:grpSpPr>
        <p:sp>
          <p:nvSpPr>
            <p:cNvPr id="63" name=""/>
            <p:cNvSpPr/>
            <p:nvPr/>
          </p:nvSpPr>
          <p:spPr>
            <a:xfrm>
              <a:off x="6400800" y="1295280"/>
              <a:ext cx="1600200" cy="16002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638680" y="2590920"/>
              <a:ext cx="914400" cy="380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1844640"/>
              <a:ext cx="32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PROCES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843280" y="152280"/>
            <a:ext cx="3419280" cy="2057400"/>
            <a:chOff x="2843280" y="152280"/>
            <a:chExt cx="3419280" cy="2057400"/>
          </a:xfrm>
        </p:grpSpPr>
        <p:sp>
          <p:nvSpPr>
            <p:cNvPr id="67" name=""/>
            <p:cNvSpPr/>
            <p:nvPr/>
          </p:nvSpPr>
          <p:spPr>
            <a:xfrm>
              <a:off x="3733920" y="152280"/>
              <a:ext cx="1600200" cy="16002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495680" y="175248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3280" y="620640"/>
              <a:ext cx="34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REL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19280" y="4495680"/>
            <a:ext cx="3419280" cy="2057400"/>
            <a:chOff x="1619280" y="4495680"/>
            <a:chExt cx="3419280" cy="2057400"/>
          </a:xfrm>
        </p:grpSpPr>
        <p:sp>
          <p:nvSpPr>
            <p:cNvPr id="71" name=""/>
            <p:cNvSpPr/>
            <p:nvPr/>
          </p:nvSpPr>
          <p:spPr>
            <a:xfrm>
              <a:off x="2743200" y="4952880"/>
              <a:ext cx="1600200" cy="16002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657600" y="4495680"/>
              <a:ext cx="3808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19280" y="5445000"/>
              <a:ext cx="341928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INFLUENCIA 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la COMUN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572000" y="4419720"/>
            <a:ext cx="3419640" cy="1981080"/>
            <a:chOff x="4572000" y="4419720"/>
            <a:chExt cx="3419640" cy="1981080"/>
          </a:xfrm>
        </p:grpSpPr>
        <p:sp>
          <p:nvSpPr>
            <p:cNvPr id="75" name=""/>
            <p:cNvSpPr/>
            <p:nvPr/>
          </p:nvSpPr>
          <p:spPr>
            <a:xfrm>
              <a:off x="5410080" y="4800600"/>
              <a:ext cx="1600200" cy="1600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57800" y="4419720"/>
              <a:ext cx="457200" cy="533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0" y="5229360"/>
              <a:ext cx="341964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PRESENCIA 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el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352680" y="2209680"/>
            <a:ext cx="2438640" cy="2438640"/>
          </a:xfrm>
          <a:prstGeom prst="ellipse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INTELE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30400" y="196920"/>
            <a:ext cx="6858000" cy="67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00"/>
                </a:solidFill>
                <a:latin typeface="Garamond"/>
              </a:rPr>
              <a:t>NAVEGADOR SKAND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6560" y="1236600"/>
            <a:ext cx="81964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8600" y="322200"/>
            <a:ext cx="8064360" cy="1166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EMPRESA: LABORATORIO TANDIL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57480"/>
            <a:ext cx="8477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ACTIV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LABORATORIO DE ANALISIS CLI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500200"/>
            <a:ext cx="7675560" cy="51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Font typeface="Garamond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M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12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Prestar servicios de calidad a través de una organización regional que colabore en mejorar la calidad de vida de los seres vivos y el funcionamiento de las organizaciones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4734000"/>
            <a:ext cx="82598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tuar proactivamente generando compromiso interno y externo con el cam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3480" y="531720"/>
            <a:ext cx="7777080" cy="788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00"/>
                </a:solidFill>
                <a:latin typeface="Garamond"/>
              </a:rPr>
              <a:t>COMPROMISOS ASUMID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9120" y="3984480"/>
            <a:ext cx="8259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orporación de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9120" y="3141720"/>
            <a:ext cx="8259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jora continua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9120" y="2276640"/>
            <a:ext cx="8259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lidad de productos y de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9120" y="1392120"/>
            <a:ext cx="8259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pacitación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108080"/>
            <a:ext cx="3330360" cy="2438280"/>
          </a:xfrm>
          <a:prstGeom prst="ellipse">
            <a:avLst/>
          </a:prstGeom>
          <a:gradFill rotWithShape="0">
            <a:gsLst>
              <a:gs pos="0">
                <a:srgbClr val="456a45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FILOSO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SKA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22640"/>
            <a:ext cx="3181320" cy="228600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M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MPROMI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27800" y="2987640"/>
            <a:ext cx="3375000" cy="160020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SELECCIÓ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ND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50960" y="1990440"/>
            <a:ext cx="2165760" cy="3400920"/>
            <a:chOff x="3450960" y="1990440"/>
            <a:chExt cx="2165760" cy="3400920"/>
          </a:xfrm>
        </p:grpSpPr>
        <p:sp>
          <p:nvSpPr>
            <p:cNvPr id="94" name=""/>
            <p:cNvSpPr/>
            <p:nvPr/>
          </p:nvSpPr>
          <p:spPr>
            <a:xfrm rot="19800000">
              <a:off x="3580920" y="4028760"/>
              <a:ext cx="1752840" cy="99072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247680 h 990720"/>
                <a:gd name="textAreaBottom" fmla="*/ 7430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00000">
              <a:off x="3733920" y="2361960"/>
              <a:ext cx="1752480" cy="990360"/>
            </a:xfrm>
            <a:custGeom>
              <a:avLst/>
              <a:gdLst>
                <a:gd name="textAreaLeft" fmla="*/ 273600 w 1752480"/>
                <a:gd name="textAreaRight" fmla="*/ 1533600 w 1752480"/>
                <a:gd name="textAreaTop" fmla="*/ 247680 h 990360"/>
                <a:gd name="textAreaBottom" fmla="*/ 74304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88880" y="260280"/>
            <a:ext cx="8064720" cy="67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00"/>
                </a:solidFill>
                <a:latin typeface="Garamond"/>
              </a:rPr>
              <a:t>ADAPTACIÓN  D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82560" y="2573280"/>
            <a:ext cx="596268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GREGA VALOR AL SERVICIO PROFESIO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0560" y="623880"/>
            <a:ext cx="6962760" cy="1739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FORME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APITAL INTELE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55920" y="4431600"/>
            <a:ext cx="59623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981000" indent="-342720">
              <a:lnSpc>
                <a:spcPct val="160000"/>
              </a:lnSpc>
              <a:buClr>
                <a:srgbClr val="ffff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X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342720">
              <a:lnSpc>
                <a:spcPct val="160000"/>
              </a:lnSpc>
              <a:buClr>
                <a:srgbClr val="ffff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81040" y="2279880"/>
            <a:ext cx="8155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1.  ESTADO DE SITUACION 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40000"/>
              </a:lnSpc>
              <a:buClr>
                <a:srgbClr val="ffff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40000"/>
              </a:lnSpc>
              <a:buClr>
                <a:srgbClr val="ffff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NÁL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0560" y="623880"/>
            <a:ext cx="6962760" cy="1739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FORME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APITAL INTELE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5137200"/>
            <a:ext cx="70898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.  PROPUESTAS DE 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8:58:43Z</dcterms:created>
  <dc:creator>K8N</dc:creator>
  <dc:description/>
  <dc:language>en-US</dc:language>
  <cp:lastModifiedBy>C.P.C.E.C.A.B.A.</cp:lastModifiedBy>
  <cp:lastPrinted>2006-10-02T23:46:38Z</cp:lastPrinted>
  <dcterms:modified xsi:type="dcterms:W3CDTF">2006-11-06T21:56:14Z</dcterms:modified>
  <cp:revision>251</cp:revision>
  <dc:subject/>
  <dc:title>Diapositiva 1</dc:title>
</cp:coreProperties>
</file>