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9360" y="-15840"/>
            <a:ext cx="916452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2382840" y="316080"/>
            <a:ext cx="62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X CONGRESO DE LA PEQUEÑA Y MEDIA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440" y="2092320"/>
            <a:ext cx="5448960" cy="176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CONSEJO PROFESIONAL </a:t>
            </a: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CIENCIAS ECONOM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 LA CIUDAD AUTONO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 BUENOS AI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5640" y="2060640"/>
            <a:ext cx="838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960" y="4172040"/>
            <a:ext cx="248976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 de Noviembre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4972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9360" y="-15840"/>
            <a:ext cx="9164520" cy="6891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16360" y="1773360"/>
            <a:ext cx="2087280" cy="504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7080" y="1773360"/>
            <a:ext cx="2087640" cy="504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85360" y="1824120"/>
            <a:ext cx="13190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AÑO 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9960" y="1824120"/>
            <a:ext cx="13190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AÑO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85800" y="2313000"/>
            <a:ext cx="10738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72 Cam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8520" y="2906640"/>
            <a:ext cx="17092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% Ocup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9600" y="3390840"/>
            <a:ext cx="182952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% Factu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O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9600" y="4046400"/>
            <a:ext cx="182952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% Factu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Priv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21440" y="2779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89080" y="2779560"/>
            <a:ext cx="6335640" cy="1944720"/>
            <a:chOff x="1189080" y="2779560"/>
            <a:chExt cx="6335640" cy="1944720"/>
          </a:xfrm>
        </p:grpSpPr>
        <p:sp>
          <p:nvSpPr>
            <p:cNvPr id="216" name=""/>
            <p:cNvSpPr/>
            <p:nvPr/>
          </p:nvSpPr>
          <p:spPr>
            <a:xfrm>
              <a:off x="1189080" y="2779560"/>
              <a:ext cx="63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89080" y="3429000"/>
              <a:ext cx="63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9080" y="4076640"/>
              <a:ext cx="63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89080" y="4724280"/>
              <a:ext cx="63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614400" y="288756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14400" y="353700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14400" y="420372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6160" y="420372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6160" y="351792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6160" y="2906640"/>
            <a:ext cx="7401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12600" y="1440"/>
            <a:ext cx="9171000" cy="68914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612720" y="1052640"/>
            <a:ext cx="3623040" cy="503280"/>
            <a:chOff x="612720" y="1052640"/>
            <a:chExt cx="3623040" cy="503280"/>
          </a:xfrm>
        </p:grpSpPr>
        <p:sp>
          <p:nvSpPr>
            <p:cNvPr id="228" name=""/>
            <p:cNvSpPr/>
            <p:nvPr/>
          </p:nvSpPr>
          <p:spPr>
            <a:xfrm>
              <a:off x="612720" y="1052640"/>
              <a:ext cx="503280" cy="5032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6720" y="1109520"/>
              <a:ext cx="2939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</a:rPr>
                <a:t>ALGUNOS CONSE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258920" y="1628640"/>
            <a:ext cx="4465440" cy="353160"/>
            <a:chOff x="1258920" y="1628640"/>
            <a:chExt cx="4465440" cy="353160"/>
          </a:xfrm>
        </p:grpSpPr>
        <p:sp>
          <p:nvSpPr>
            <p:cNvPr id="231" name=""/>
            <p:cNvSpPr/>
            <p:nvPr/>
          </p:nvSpPr>
          <p:spPr>
            <a:xfrm>
              <a:off x="1258920" y="1747800"/>
              <a:ext cx="144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20920" y="1628640"/>
              <a:ext cx="43034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ffff"/>
                  </a:solidFill>
                  <a:latin typeface="Arial"/>
                </a:rPr>
                <a:t>Estar atento a las señales del entorno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258920" y="3751200"/>
            <a:ext cx="4968720" cy="353160"/>
            <a:chOff x="1258920" y="3751200"/>
            <a:chExt cx="4968720" cy="353160"/>
          </a:xfrm>
        </p:grpSpPr>
        <p:sp>
          <p:nvSpPr>
            <p:cNvPr id="234" name=""/>
            <p:cNvSpPr/>
            <p:nvPr/>
          </p:nvSpPr>
          <p:spPr>
            <a:xfrm>
              <a:off x="1258920" y="3870360"/>
              <a:ext cx="144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20920" y="3751200"/>
              <a:ext cx="4806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ffff"/>
                  </a:solidFill>
                  <a:latin typeface="Arial"/>
                </a:rPr>
                <a:t>Pasar a la acc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258920" y="2608200"/>
            <a:ext cx="4968720" cy="353160"/>
            <a:chOff x="1258920" y="2608200"/>
            <a:chExt cx="4968720" cy="353160"/>
          </a:xfrm>
        </p:grpSpPr>
        <p:sp>
          <p:nvSpPr>
            <p:cNvPr id="237" name=""/>
            <p:cNvSpPr/>
            <p:nvPr/>
          </p:nvSpPr>
          <p:spPr>
            <a:xfrm>
              <a:off x="1258920" y="2727360"/>
              <a:ext cx="144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20920" y="2608200"/>
              <a:ext cx="4806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ffff"/>
                  </a:solidFill>
                  <a:latin typeface="Arial"/>
                </a:rPr>
                <a:t>Planificar estratégicament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8920" y="2077920"/>
            <a:ext cx="7058160" cy="369000"/>
            <a:chOff x="1258920" y="2077920"/>
            <a:chExt cx="7058160" cy="369000"/>
          </a:xfrm>
        </p:grpSpPr>
        <p:sp>
          <p:nvSpPr>
            <p:cNvPr id="240" name=""/>
            <p:cNvSpPr/>
            <p:nvPr/>
          </p:nvSpPr>
          <p:spPr>
            <a:xfrm>
              <a:off x="1258920" y="2212920"/>
              <a:ext cx="14436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20920" y="2093760"/>
              <a:ext cx="4806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ffff"/>
                  </a:solidFill>
                  <a:latin typeface="Arial"/>
                </a:rPr>
                <a:t>Buscar nuevas oportunidad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65640" y="2077920"/>
              <a:ext cx="31514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Propensión al riesg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8000" y="2149560"/>
              <a:ext cx="287280" cy="2156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35280" y="4110120"/>
            <a:ext cx="4824360" cy="1875600"/>
            <a:chOff x="1835280" y="4110120"/>
            <a:chExt cx="4824360" cy="1875600"/>
          </a:xfrm>
        </p:grpSpPr>
        <p:sp>
          <p:nvSpPr>
            <p:cNvPr id="245" name=""/>
            <p:cNvSpPr/>
            <p:nvPr/>
          </p:nvSpPr>
          <p:spPr>
            <a:xfrm>
              <a:off x="1852560" y="411012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Autoconfianza y convicc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2560" y="440856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Formac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52560" y="468648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Trabajo + trabajo + trabaj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2560" y="498492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Interdisciplina   -  Participación del personal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35280" y="5334120"/>
              <a:ext cx="4806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Actuar en coherencia con la estrategi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35280" y="5632560"/>
              <a:ext cx="4806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Constanci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5280" y="4167360"/>
              <a:ext cx="0" cy="1726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835280" y="2959200"/>
            <a:ext cx="4824360" cy="651600"/>
            <a:chOff x="1835280" y="2959200"/>
            <a:chExt cx="4824360" cy="651600"/>
          </a:xfrm>
        </p:grpSpPr>
        <p:sp>
          <p:nvSpPr>
            <p:cNvPr id="253" name=""/>
            <p:cNvSpPr/>
            <p:nvPr/>
          </p:nvSpPr>
          <p:spPr>
            <a:xfrm>
              <a:off x="1852560" y="295920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Visión sistémic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52560" y="3257640"/>
              <a:ext cx="480708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Arial"/>
                </a:rPr>
                <a:t>Evaluación de recursos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35280" y="2997360"/>
              <a:ext cx="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64520" cy="68914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755640" y="1484280"/>
            <a:ext cx="6481800" cy="1835280"/>
            <a:chOff x="755640" y="1484280"/>
            <a:chExt cx="6481800" cy="1835280"/>
          </a:xfrm>
        </p:grpSpPr>
        <p:sp>
          <p:nvSpPr>
            <p:cNvPr id="258" name=""/>
            <p:cNvSpPr/>
            <p:nvPr/>
          </p:nvSpPr>
          <p:spPr>
            <a:xfrm>
              <a:off x="755640" y="1484280"/>
              <a:ext cx="6481800" cy="1152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300" spc="-1" strike="noStrike">
                  <a:solidFill>
                    <a:srgbClr val="ffffff"/>
                  </a:solidFill>
                  <a:latin typeface="Arial"/>
                </a:rPr>
                <a:t>Hay una forma para hacerlo mejor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000" y="2997360"/>
              <a:ext cx="2055240" cy="322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500" spc="-1" strike="noStrike">
                  <a:solidFill>
                    <a:srgbClr val="ffffff"/>
                  </a:solidFill>
                  <a:latin typeface="Arial"/>
                </a:rPr>
                <a:t>Thomas Alva Edis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2087640"/>
              <a:ext cx="2089440" cy="473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Arial"/>
                </a:rPr>
                <a:t>Encuéntrala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84640" y="2279520"/>
              <a:ext cx="217440" cy="1429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9360" y="-15840"/>
            <a:ext cx="916452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04000" y="1125360"/>
            <a:ext cx="2089080" cy="2448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2077920"/>
            <a:ext cx="2089080" cy="358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800440"/>
            <a:ext cx="2089080" cy="358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1125360"/>
            <a:ext cx="2089080" cy="358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1125360"/>
            <a:ext cx="6263640" cy="4510080"/>
            <a:chOff x="324000" y="1125360"/>
            <a:chExt cx="6263640" cy="4510080"/>
          </a:xfrm>
        </p:grpSpPr>
        <p:sp>
          <p:nvSpPr>
            <p:cNvPr id="50" name=""/>
            <p:cNvSpPr/>
            <p:nvPr/>
          </p:nvSpPr>
          <p:spPr>
            <a:xfrm>
              <a:off x="324000" y="1125360"/>
              <a:ext cx="6263640" cy="4510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>
              <a:lum contrast="-12000"/>
            </a:blip>
            <a:stretch/>
          </p:blipFill>
          <p:spPr>
            <a:xfrm>
              <a:off x="474840" y="1287720"/>
              <a:ext cx="5974560" cy="41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74840" y="1278000"/>
              <a:ext cx="5959800" cy="420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80320" y="1125360"/>
            <a:ext cx="1258200" cy="322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UBICAC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88600" y="2077920"/>
            <a:ext cx="1605600" cy="322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SUP. TERR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81040" y="2782800"/>
            <a:ext cx="1658880" cy="322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SUP. CUBIER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81040" y="1503360"/>
            <a:ext cx="1626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ZONA OE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83920" y="2457360"/>
            <a:ext cx="89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3236 m</a:t>
            </a:r>
            <a:r>
              <a:rPr b="1" lang="es-AR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82480" y="3176640"/>
            <a:ext cx="89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1593 m</a:t>
            </a:r>
            <a:r>
              <a:rPr b="1" lang="es-AR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48428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44008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14172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79864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209880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360" y="-15840"/>
            <a:ext cx="9164520" cy="689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3787920"/>
            <a:ext cx="4969080" cy="22334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4221000"/>
            <a:ext cx="1944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1160" y="4559400"/>
            <a:ext cx="16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97280" y="4221000"/>
            <a:ext cx="1944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99520" y="4559400"/>
            <a:ext cx="16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08400" y="5510160"/>
            <a:ext cx="2161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mpresa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 rot="5400000">
            <a:off x="3074400" y="2635920"/>
            <a:ext cx="865440" cy="1152360"/>
          </a:xfrm>
          <a:custGeom>
            <a:avLst/>
            <a:gdLst>
              <a:gd name="textAreaLeft" fmla="*/ 360 w 865440"/>
              <a:gd name="textAreaRight" fmla="*/ 866160 w 865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33280" y="2997360"/>
            <a:ext cx="110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7280" y="1844640"/>
            <a:ext cx="1224000" cy="79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38040" y="2054160"/>
            <a:ext cx="95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0280" y="928800"/>
            <a:ext cx="7738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¿QUE MODELO DE EMPRESA DISEÑAR PARA HACER FRENTE AL DESAF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520" y="1270080"/>
            <a:ext cx="8193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¿COMO TRANSITAR EL CAMINO ADECUADO PARA CONCRETAR EL PROYEC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5280" y="1628640"/>
            <a:ext cx="87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-15840"/>
            <a:ext cx="9164520" cy="6891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927000"/>
            <a:ext cx="1368360" cy="647640"/>
          </a:xfrm>
          <a:prstGeom prst="rect">
            <a:avLst/>
          </a:prstGeom>
          <a:solidFill>
            <a:srgbClr val="368d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55720"/>
            <a:ext cx="1079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2120" y="105552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20720" y="10000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9080" y="1000080"/>
            <a:ext cx="139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AP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45 CA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0000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41760" y="1071720"/>
            <a:ext cx="1127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10000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927000"/>
            <a:ext cx="1800360" cy="647640"/>
          </a:xfrm>
          <a:prstGeom prst="rect">
            <a:avLst/>
          </a:prstGeom>
          <a:solidFill>
            <a:srgbClr val="368d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4040" y="974880"/>
            <a:ext cx="1700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VISUALIZAC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DEL PROBL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663560"/>
            <a:ext cx="3276360" cy="35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El desafío que debería enfrentarse para, en primer lugar, lograr mantener el nivel de ocupación alcanzado y, por otra parte, tender al crecimiento ocupacional a la luz de las futuras ampliaciones planificadas, manteniendo los niveles de calidad existentes y asumiendo la responsa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en cuanto a aumen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la capacitación, 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profesionalismo y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Especializ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que requer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el servic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219640" y="2405160"/>
            <a:ext cx="503280" cy="503280"/>
          </a:xfrm>
          <a:custGeom>
            <a:avLst/>
            <a:gdLst>
              <a:gd name="textAreaLeft" fmla="*/ 360 w 503280"/>
              <a:gd name="textAreaRight" fmla="*/ 50400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57560" y="2286000"/>
            <a:ext cx="1800360" cy="647640"/>
          </a:xfrm>
          <a:prstGeom prst="rect">
            <a:avLst/>
          </a:prstGeom>
          <a:solidFill>
            <a:srgbClr val="368d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4480" y="2333520"/>
            <a:ext cx="140436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COMERC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40516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280" y="2286000"/>
            <a:ext cx="228600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Explorar puntos débiles de la competenc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95596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3280" y="2836800"/>
            <a:ext cx="228600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Cubrir los nichos vacíos del merc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348768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3280" y="3368520"/>
            <a:ext cx="43034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Liderazgo por innovación y por diferenci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860640"/>
            <a:ext cx="14436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3280" y="3741840"/>
            <a:ext cx="39430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</a:rPr>
              <a:t>Mayor desarrollo de la gestión de marketing y v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rot="16200000">
            <a:off x="2050920" y="4292640"/>
            <a:ext cx="503280" cy="503280"/>
          </a:xfrm>
          <a:custGeom>
            <a:avLst/>
            <a:gdLst>
              <a:gd name="textAreaLeft" fmla="*/ 360 w 503280"/>
              <a:gd name="textAreaRight" fmla="*/ 50400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8960" y="5013360"/>
            <a:ext cx="34243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560" y="5175360"/>
            <a:ext cx="3073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MPACTO Y PROGRAM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-6480"/>
            <a:ext cx="9190080" cy="690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1052640"/>
            <a:ext cx="1079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6480" y="125244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6720" y="11970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60680" y="1231920"/>
            <a:ext cx="31096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ALGUNOS RESULT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185904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9280" y="1739880"/>
            <a:ext cx="430380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Ampliar la cartera de servici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17980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89280" y="2060640"/>
            <a:ext cx="4807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Permanecer en el mercado con razonables condiciones de rentabili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755800"/>
            <a:ext cx="14436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89280" y="2637000"/>
            <a:ext cx="480708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Pasar a ser un centro referencial por su forma de trabajo y su abordaje de la problemática del viejo y la institucionaliza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720" y="4203720"/>
            <a:ext cx="4410000" cy="1170000"/>
          </a:xfrm>
          <a:prstGeom prst="rect">
            <a:avLst/>
          </a:prstGeom>
          <a:solidFill>
            <a:srgbClr val="368d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4503600"/>
            <a:ext cx="4053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MERCADO EN FRANCA TURBULENC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TIPICO, IMPREDEC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840" y="-15840"/>
            <a:ext cx="9177480" cy="689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7440" y="1125360"/>
            <a:ext cx="43138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REDEFINICION DE LA ESTRATE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55280" y="1484280"/>
            <a:ext cx="83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1911240"/>
            <a:ext cx="14436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36560" y="1792440"/>
            <a:ext cx="48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tinuar con la estrategia fi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441520"/>
            <a:ext cx="3024360" cy="934920"/>
          </a:xfrm>
          <a:prstGeom prst="rect">
            <a:avLst/>
          </a:prstGeom>
          <a:solidFill>
            <a:srgbClr val="368d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53760" y="2602080"/>
            <a:ext cx="1971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IVERSIFIC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rot="16200000">
            <a:off x="3132000" y="3593880"/>
            <a:ext cx="502920" cy="503280"/>
          </a:xfrm>
          <a:custGeom>
            <a:avLst/>
            <a:gdLst>
              <a:gd name="textAreaLeft" fmla="*/ -360 w 502920"/>
              <a:gd name="textAreaRight" fmla="*/ 50292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6560" y="4292640"/>
            <a:ext cx="2952720" cy="158436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440" y="4637160"/>
            <a:ext cx="1576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gram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Gest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2720" y="2584440"/>
            <a:ext cx="192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Arial"/>
              </a:rPr>
              <a:t>Como 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Arial"/>
              </a:rPr>
              <a:t>distin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4520" cy="697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2720" y="907920"/>
            <a:ext cx="11300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AC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11280" y="126828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1531800"/>
            <a:ext cx="14436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720" y="1413000"/>
            <a:ext cx="48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360" y="1919160"/>
            <a:ext cx="8424360" cy="1800360"/>
            <a:chOff x="468360" y="1919160"/>
            <a:chExt cx="8424360" cy="1800360"/>
          </a:xfrm>
        </p:grpSpPr>
        <p:sp>
          <p:nvSpPr>
            <p:cNvPr id="134" name=""/>
            <p:cNvSpPr/>
            <p:nvPr/>
          </p:nvSpPr>
          <p:spPr>
            <a:xfrm>
              <a:off x="468360" y="1919160"/>
              <a:ext cx="1426320" cy="1800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63504" dir="85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2600" y="1919160"/>
              <a:ext cx="1424160" cy="1800360"/>
            </a:xfrm>
            <a:prstGeom prst="rect">
              <a:avLst/>
            </a:prstGeom>
            <a:gradFill rotWithShape="0">
              <a:gsLst>
                <a:gs pos="0">
                  <a:srgbClr val="92cdd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2240" y="1919160"/>
              <a:ext cx="1426320" cy="180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3960" y="1919160"/>
              <a:ext cx="1426320" cy="180036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6400" y="1919160"/>
              <a:ext cx="1426320" cy="180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0440" y="256860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0440" y="278460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0800000">
              <a:off x="3490200" y="2495160"/>
              <a:ext cx="446040" cy="358920"/>
            </a:xfrm>
            <a:custGeom>
              <a:avLst/>
              <a:gdLst>
                <a:gd name="textAreaLeft" fmla="*/ -360 w 446040"/>
                <a:gd name="textAreaRight" fmla="*/ 446040 w 4460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2cdd2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rot="10800000">
              <a:off x="5307840" y="2495160"/>
              <a:ext cx="446040" cy="358920"/>
            </a:xfrm>
            <a:custGeom>
              <a:avLst/>
              <a:gdLst>
                <a:gd name="textAreaLeft" fmla="*/ -360 w 446040"/>
                <a:gd name="textAreaRight" fmla="*/ 446040 w 4460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0800000">
              <a:off x="7100640" y="2495160"/>
              <a:ext cx="446400" cy="358920"/>
            </a:xfrm>
            <a:custGeom>
              <a:avLst/>
              <a:gdLst>
                <a:gd name="textAreaLeft" fmla="*/ 360 w 446400"/>
                <a:gd name="textAreaRight" fmla="*/ 447120 w 44640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10120" y="1922400"/>
            <a:ext cx="1395360" cy="85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6160" y="1932120"/>
            <a:ext cx="1521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IAGNOST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3800" y="1909800"/>
            <a:ext cx="11728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PLAN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46960" y="1909800"/>
            <a:ext cx="143640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CONTROL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LA C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Y REV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PROGRE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67920" y="1909800"/>
            <a:ext cx="121536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MEJOR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CALIDAD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DEL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4484520"/>
            <a:ext cx="14472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9280" y="4365720"/>
            <a:ext cx="48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4843440"/>
            <a:ext cx="14472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49280" y="4724280"/>
            <a:ext cx="48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edición /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5197320"/>
            <a:ext cx="144720" cy="1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9280" y="5078520"/>
            <a:ext cx="48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221000"/>
            <a:ext cx="3168720" cy="136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52560" y="-38160"/>
            <a:ext cx="9250560" cy="693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78160" y="2438280"/>
            <a:ext cx="2663640" cy="26640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73280" y="2658960"/>
            <a:ext cx="2303640" cy="230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756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Organización de aprendizaje y compromiso</a:t>
            </a:r>
            <a:endParaRPr b="0" lang="en-US" sz="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2560" y="2851200"/>
            <a:ext cx="1873440" cy="18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3427560"/>
            <a:ext cx="194472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Divers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653000"/>
            <a:ext cx="6408720" cy="1511280"/>
          </a:xfrm>
          <a:custGeom>
            <a:avLst/>
            <a:gdLst/>
            <a:ahLst/>
            <a:rect l="l" t="t" r="r" b="b"/>
            <a:pathLst>
              <a:path w="4037" h="1180">
                <a:moveTo>
                  <a:pt x="0" y="1180"/>
                </a:moveTo>
                <a:lnTo>
                  <a:pt x="4037" y="1180"/>
                </a:lnTo>
                <a:cubicBezTo>
                  <a:pt x="4037" y="1180"/>
                  <a:pt x="4036" y="590"/>
                  <a:pt x="4036" y="0"/>
                </a:cubicBezTo>
                <a:cubicBezTo>
                  <a:pt x="3693" y="698"/>
                  <a:pt x="458" y="787"/>
                  <a:pt x="0" y="0"/>
                </a:cubicBezTo>
                <a:cubicBezTo>
                  <a:pt x="0" y="590"/>
                  <a:pt x="0" y="1180"/>
                  <a:pt x="0" y="118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6360" y="4545000"/>
            <a:ext cx="4449600" cy="6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estión de Calidad Tot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640" y="5291280"/>
            <a:ext cx="14940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e los recursos y la tecn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5291280"/>
            <a:ext cx="1604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Capacitación conti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e RR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5504040"/>
            <a:ext cx="160524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Equipos de mej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9480" y="5499000"/>
            <a:ext cx="1604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5486400"/>
            <a:ext cx="1604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Comité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6920" y="1758960"/>
            <a:ext cx="8353440" cy="5047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6920" y="765000"/>
            <a:ext cx="8353440" cy="505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2293920"/>
            <a:ext cx="3024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s-AR" sz="1400" spc="-1" strike="noStrike" baseline="30000">
                <a:solidFill>
                  <a:srgbClr val="ffffcc"/>
                </a:solidFill>
                <a:latin typeface="Arial"/>
              </a:rPr>
              <a:t>er</a:t>
            </a:r>
            <a:r>
              <a:rPr b="1" lang="es-AR" sz="1400" spc="-1" strike="noStrike">
                <a:solidFill>
                  <a:srgbClr val="ffffcc"/>
                </a:solidFill>
                <a:latin typeface="Arial"/>
              </a:rPr>
              <a:t> Nivel de Proy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81800" y="1285920"/>
            <a:ext cx="2952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es-AR" sz="1400" spc="-1" strike="noStrike" baseline="30000">
                <a:solidFill>
                  <a:srgbClr val="ffffcc"/>
                </a:solidFill>
                <a:latin typeface="Arial"/>
              </a:rPr>
              <a:t>do</a:t>
            </a:r>
            <a:r>
              <a:rPr b="1" lang="es-AR" sz="1400" spc="-1" strike="noStrike">
                <a:solidFill>
                  <a:srgbClr val="ffffcc"/>
                </a:solidFill>
                <a:latin typeface="Arial"/>
              </a:rPr>
              <a:t> Nivel de Proy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484000" y="242064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980720" y="132372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789440" y="242064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9800" y="132372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8960" y="1844640"/>
            <a:ext cx="81583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Rentabilidad  -  Satisfacción al cliente  -  Calidad no percibida  -  Seguridad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680" y="747720"/>
            <a:ext cx="23256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poyo para prev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e la com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747720"/>
            <a:ext cx="491796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Fomentar el sistema de categorización institucional por parte de las autor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6480" y="4680"/>
            <a:ext cx="9193320" cy="691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9640" y="1052640"/>
            <a:ext cx="1079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6480" y="125244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6720" y="11970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60680" y="1231920"/>
            <a:ext cx="31096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Arial"/>
              </a:rPr>
              <a:t>ALGUNOS RESULT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185904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89280" y="1739880"/>
            <a:ext cx="430380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Incremento de facturación por servici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217980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89280" y="2060640"/>
            <a:ext cx="4807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Incremento grado de ocupación (pac/día fact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254952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430360"/>
            <a:ext cx="4807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Disminución del costo por pacie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90052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9280" y="2781360"/>
            <a:ext cx="4807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Incremento en sectores de clien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326880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89280" y="3149640"/>
            <a:ext cx="4807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Incremento facturación servicios con valor agrega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3835440"/>
            <a:ext cx="14436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89280" y="3716280"/>
            <a:ext cx="4807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Generación de utilidad adi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05360" y="4654440"/>
            <a:ext cx="11026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co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9080" y="4797360"/>
            <a:ext cx="431640" cy="504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4492800"/>
            <a:ext cx="0" cy="129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0000" y="462924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527720"/>
            <a:ext cx="1944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Procedimient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cobranz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0000" y="52992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5197320"/>
            <a:ext cx="1944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Arial"/>
              </a:rPr>
              <a:t>Cartera de 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365720"/>
            <a:ext cx="180000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1800" y="4738680"/>
            <a:ext cx="1441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TEC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9:12:29Z</dcterms:created>
  <dc:creator>ParqHog</dc:creator>
  <dc:description/>
  <dc:language>en-US</dc:language>
  <cp:lastModifiedBy>C.P.C.E.C.A.B.A.</cp:lastModifiedBy>
  <dcterms:modified xsi:type="dcterms:W3CDTF">2006-11-06T22:15:45Z</dcterms:modified>
  <cp:revision>36</cp:revision>
  <dc:subject/>
  <dc:title>Diapositiva 1</dc:title>
</cp:coreProperties>
</file>