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4AD-817F-4C89-AC60-28072B8D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B23-E042-4AAA-83AA-4ECBD5B5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39B-BAFA-434A-BB71-9AACFB6E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C48-F07B-429B-82FE-B3CB4C7D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B967-5E8E-43DF-B440-DF0D7490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4C75-B369-4AE3-8657-0934C2D9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3AE-F5BF-4A02-8F7F-96B2AE43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43DB-BD53-40A9-983B-86CE9B72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F1BB-B551-46EC-88C1-631317B6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1872-50A8-455A-80FE-DBFB20DF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A56A-B7BD-4B37-B99E-653540B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E75-A8D4-43D3-AAC6-A905308A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09A-0659-433D-80C0-0A5C9380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A0B-35E6-4EF8-ABC2-C24224CA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D12D-C73E-434D-9C2E-F18672D7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72E5-76D6-4439-8CF9-BF26522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DF30-AD53-41F7-82D9-3DC2B148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2A85-DC73-4F09-9CC7-3C112C88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10A-D766-4A5F-95E6-6B9924EB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141-9192-4CED-A117-2212DB31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3F6-2102-436B-89EB-DB46333B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934-E7EA-4C14-A484-262CAB9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7A4-EEBC-4AFA-AA97-0D38D610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478-9012-4D91-A87A-D132935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5CE-CF07-4A3A-8017-F0AED15BDB4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119F-6D1A-44AF-B02E-CDEC42495F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C:/WINDOWS/TEMP/PLAN%20BICENTENARIO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inanciamiento para la innovación, la ciencia y la tecnologí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38098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g. Rogelio LOP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grama de competitividad Produc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NPyPES-SECY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58672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556272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Noviembre de 200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66"/>
                </a:solidFill>
                <a:latin typeface="Arial"/>
              </a:rPr>
              <a:t>Modernización tecnológ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E 1: Créditos a empresas con proyectos de modernización tecnológica con alto contenido de bienes de capi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E 2: El 50% es asumido por el Fontar, se apunta a proyectos con mayor contenido de intangi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financia: mejora de productos y procesos, introducción de tecnologías de gestión, sistemas de calidad, plantas pilotos,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Plazos hasta 9años con 4 de gracia. Hasta 1 millón de U$S, tasas (7-10%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lgunos bancos: Galicia, Francés, Banco Río, Banco Pcia. Buenos Aires, Credicoop y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6160" y="45720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cc66"/>
                </a:solidFill>
                <a:latin typeface="Arial"/>
              </a:rPr>
              <a:t>Desarrollo tecnológico en pym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NR : proyectos para desarrollo tecnológico.  Hasta U$S 200.000, ejecución 3 añ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NR PMT. Mod. Tecn. hasta U$S 200.000 asociados a proyectos CAE en intangibles, financia principalmente gastos de consultorí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reación de unidad de i+d en empresas: hasta U$S 200.000, 50% en personal y hasta 30% en equipamiento. Ejecución hasta 4 añ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NR Consejerías tecnológicas: hasta U$S 75.000, hasta 50% del costo. Mínimo 5 empresas, 12 me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l FONCY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I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Proyectos de Investigación y desarroll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l Cofecyt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oyectos Federales de Innovación Produc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jetivo general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ar solución, a partir de la generación y transferencia del conocimiento, a problemas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ciales y productivos, de alcance municipal o provincial,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dentificados como prioritarios por las Autoridades Provinciales en Ciencia y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cnologí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royectos integrados y áreas estratégicas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TEC: Proyectos Integrados en Aglomerados Productivos (Clusters). Financiamiento hasta 4 millones de U$S en 4 añ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AE: Programa de Áreas Estratégicas. Financiamiento hasta 3 millones de U$S en 3 añ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os instrumentos apuntan a la integración de instrumentos del FONTAR Y FONCY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23493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tección de la Demanda por reg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s Asociativos y Multidiscipli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laciones Interinstitucionales, con múltiples act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inanciamiento de Estudios Explorato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6120" y="762120"/>
            <a:ext cx="82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 Dirección de Programas y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peciales - Esquema de Actu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1981080"/>
            <a:ext cx="88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yectos de primera prioridad seleccion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formen cadenas de val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olucionen problemáticas sociales releva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ción de los instrumentos de Financiación de ANPCyT (PMT II</a:t>
            </a: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úsqueda de Nueva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uentes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nanciamient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(FONDER – SSPyME – CFI - Otros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960" y="685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Etapa Ejecuto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676520"/>
            <a:ext cx="864252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"/>
              </a:rPr>
              <a:t>Mejorar las estructuras productivas y la capacidad innovadora de las MiPyMES, fomentando la generación de empleo y equilibrios regionale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00"/>
                </a:solidFill>
                <a:latin typeface="Arial"/>
              </a:rPr>
              <a:t>Integración de cadenas de valor y desarrollo de conglomerados  productiv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"/>
              </a:rPr>
              <a:t>Fomentar el desarrollo exportador con V.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fffff"/>
                </a:solidFill>
                <a:latin typeface="Arial"/>
              </a:rPr>
              <a:t>Desarrollo de bienes y servicios que sustituyan importacione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7880" y="457200"/>
            <a:ext cx="532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rograma 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petitividad Produc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1916280"/>
            <a:ext cx="838188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Incrementar la productividad agropecuaria sustent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ejoramiento genético de vegetales y anim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tegración de Cadenas Agroalimentarias y Agroindustri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Utilización de la Biotecnología para la producción y el control de las plagas y enfermedad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Promoción de Foros de la Demanda Agropecuaria ú otras formas asoci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udios de la Economía de la Producción, Comercialización y Mercad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5000"/>
              </a:lnSpc>
              <a:spcBef>
                <a:spcPts val="400"/>
              </a:spcBef>
              <a:buClr>
                <a:srgbClr val="66ff3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0360" y="304920"/>
            <a:ext cx="54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rograma de Producción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anidad Agropecu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65920" y="457200"/>
            <a:ext cx="48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Programa de Salu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484280"/>
            <a:ext cx="8496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esarrollo y producción local de vacunas, medicamentos, reactivos, radiofárma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Fomentar Redes de Laboratorios de Genéric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joramiento de la calidad de los servicios de control de medicam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tilización de las TIC, para fines vinculados con Salud (Telemedicina/ Epidemiologí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ducción de equipos para diagnóstico y tratami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Los Principales Acto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cretaría de Ciencia, Tecnología e Innovación Productiva (SECY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gencia Nacional de Promoción Científica y Tecnológica (ANPCY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nsejo Federal de Ciencia y Tecnología (COFECY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557360"/>
            <a:ext cx="864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Fortalecer: el Rol del Estado,  Sistema Educativo y Desarrollo Loc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omover Tecnologías Sociales y su gestión,  para el Desarrollo Sustent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omentar emprendimientos autogestionar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icular y operativiza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información y conocimientos sobre vivienda, redes de contención, trabajo, empleo, educación, violencia, adicciones, géne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7720" y="228600"/>
            <a:ext cx="625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ograma de Calidad de Vida 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esarrollo Económico 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828800"/>
            <a:ext cx="8664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rementar el conocimiento de la biodiversidad en el paí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ropender a la eco-regionalización del territorio para el manejo sustentable de los recursos natu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esarrollar sistemas de prevención y mitigación de riesg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centivar la universalización e inclusión energé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portar a la planificación estratégica, normativa y regulación exis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Propiciar el cambio de Energía proveniente de fósiles por renovables, disminuyendo la contaminación ambien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66ff3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160" y="228600"/>
            <a:ext cx="80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ama de Recursos Renovab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y No Renovab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57200" y="1484280"/>
            <a:ext cx="8686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66ff33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esarrollo de aplicaciones TICs para sectores de la Producción, Sociales y del 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jorar la productividad y competitividad de las Py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mentar Redes Globales (énfasis en países de la regió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troducción de las TICs en Cadenas de Valor, Redes y Conglomerados Competi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mentar Corredores Productivo Digitales Reg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2360" y="53352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ograma de TIC´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916280"/>
            <a:ext cx="835812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ff"/>
                </a:solidFill>
                <a:latin typeface="Arial"/>
              </a:rPr>
              <a:t>Objetiv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"/>
              </a:rPr>
              <a:t>Fortalecer la creación y desarrollo de IPyP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romover la creación y radicación de empresas de B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mentar modelos asociativ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talecer las capacidades de gestión de IPy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mover Proyectos Binacionales o Multinacional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fffff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mentar la Transferencia de Tecnología, la Vinculación y el Desarrollo Local y Region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783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grama de Incubadoras de Empresas, Parques y Polos Tecnológ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762120"/>
            <a:ext cx="8388360" cy="58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RECCION NACIONAL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GRAMAS Y PROYECTOS ESPEC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rector Na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g. Oscar GA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galante@agencia.secyt.gov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v. Córdoba 831 2º piso – Ciud. Aut. Buenos Ai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: 4311-7613 / 4312-7515 int. 200/2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cuador 873 Tel: 4963-7010/6605/686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www.secyt.gov.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grama de Competitividad Productiv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. Rogelio LOP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lopez@correo.secyt.gov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La SECY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Organismo responsable de  formular e implementar la política científico tecnológica a nivel n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Su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isión es definir las políticas del área, planificarlas, coordinarlas,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mocionarlas y ejecutarlas; apoyar la investigación y estimular el incremento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 la inversión pública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y privad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nacional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rovincial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y municipal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, para el financiamiento de las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olíticas d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fini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PLAN ESTRATEG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Secretario de Estado: Ing. Tulio del Bo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La ANPCY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s el organismo que financia las actividades de I+D+ i en el país a través de sus dos fondos: 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FONTAR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(Fondo Tecnológico Argentino) y el </a:t>
            </a:r>
            <a:r>
              <a:rPr b="1" lang="es-AR" sz="2800" spc="-1" strike="noStrike">
                <a:solidFill>
                  <a:srgbClr val="ffffff"/>
                </a:solidFill>
                <a:latin typeface="Times New Roman"/>
              </a:rPr>
              <a:t>FONCYT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(Fondo para la investigación Científico y Tecnológ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os fondos provienen del Tesoro Nacional y del BID, cuenta con 280 millones de U$S y una contraparte de 230 millones de U$S para los próximos cuatro año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as políticas las fija la Secy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Presidente de la Agencia: Dr. Lino Barañ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l COFECY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 un organismo dependiente de la Secyt, para la elaboración, asesoramiento y articulación estratégica de políticas y prioridades nacionales y regionales que promueven el desarrollo armónico de las actividades científicas, tecnológicas e innovadoras en todo el paí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á integrado por las máximas autoridades de las Provincias y la Ciudad Autónoma de Buenos Aires, con competencia en temas de ciencia, tecnología e innovación productiva, que adhieran a la Ley Nacional Nº  25467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19320" y="2362320"/>
          <a:ext cx="685152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8515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914400" y="990720"/>
          <a:ext cx="746748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990720"/>
                    <a:ext cx="74674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371600" y="9907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Secretaría de Ciencia, Tecnología e Innovación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1440" y="1523880"/>
            <a:ext cx="1073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ff0000"/>
                </a:solidFill>
                <a:latin typeface="Arial"/>
              </a:rPr>
              <a:t>ANPCYT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6600" y="206856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ON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057400"/>
            <a:ext cx="11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ONCY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981080"/>
            <a:ext cx="1595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y Evalu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219320" y="1295280"/>
          <a:ext cx="17524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295280"/>
                    <a:ext cx="17524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219320" y="1981080"/>
            <a:ext cx="15951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6000" y="2590920"/>
            <a:ext cx="2921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Competitividad Productiv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19320" y="2906640"/>
          <a:ext cx="6851520" cy="59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2906640"/>
                    <a:ext cx="68515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19320" y="3440160"/>
          <a:ext cx="6851520" cy="59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3440160"/>
                    <a:ext cx="68515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25440" y="3973680"/>
          <a:ext cx="6851880" cy="59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25440" y="3973680"/>
                    <a:ext cx="68518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4506840"/>
          <a:ext cx="6851520" cy="750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4506840"/>
                    <a:ext cx="68515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19320" y="5203800"/>
          <a:ext cx="6851520" cy="59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19320" y="5203800"/>
                    <a:ext cx="685152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726160"/>
          <a:ext cx="6851520" cy="59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5726160"/>
                    <a:ext cx="685152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295280" y="3112920"/>
            <a:ext cx="3909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Producción y Sanidad Agropecuar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6720" y="3646440"/>
            <a:ext cx="770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Salu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8520" y="4179960"/>
            <a:ext cx="502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Calidad de Vida y Desarrollo Económico Social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640" y="4876920"/>
            <a:ext cx="52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Recursos Naturales Renovables y No Renovab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7080" y="5410080"/>
            <a:ext cx="5024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Tecnologías de la Información y Comunicaci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5943600"/>
            <a:ext cx="6133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700" spc="-1" strike="noStrike">
                <a:solidFill>
                  <a:srgbClr val="000066"/>
                </a:solidFill>
                <a:latin typeface="Arial"/>
              </a:rPr>
              <a:t>Incubadoras de Empresas, Parques y Polos Tecnológico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stru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80880" y="1066680"/>
          <a:ext cx="8305920" cy="5634000"/>
        </p:xfrm>
        <a:graphic>
          <a:graphicData uri="http://schemas.openxmlformats.org/drawingml/2006/table">
            <a:tbl>
              <a:tblPr/>
              <a:tblGrid>
                <a:gridCol w="2186280"/>
                <a:gridCol w="1782720"/>
                <a:gridCol w="1752480"/>
                <a:gridCol w="1359000"/>
                <a:gridCol w="1225440"/>
              </a:tblGrid>
              <a:tr h="771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NTA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NCY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talecimiento de las capacidades de innovación tecnológica del sector produ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nización tecnológ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C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rtalecimineto de capacidades de servicios tecnológicos al sector produ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pacidades en recursos huma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DR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arrollo tecnológico en py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D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idades I+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te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ejerías tecnológic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FD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consolidación de la asociatividad en el sector produ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TE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3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$S 195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$S 260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l Fontar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porte no reembolsable (AN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arrollo Tecnoló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nidades de I+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ejerías Tecn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ONSO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réd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PM (Art. 2 Ley 2387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36:57Z</dcterms:created>
  <dc:creator>INTI</dc:creator>
  <dc:description/>
  <dc:language>en-US</dc:language>
  <cp:lastModifiedBy>C.P.C.E.C.A.B.A.</cp:lastModifiedBy>
  <dcterms:modified xsi:type="dcterms:W3CDTF">2006-11-06T22:17:23Z</dcterms:modified>
  <cp:revision>17</cp:revision>
  <dc:subject/>
  <dc:title>Financiamiento para la innovación, la ciencia y la tecnología </dc:title>
</cp:coreProperties>
</file>