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02D8-86B2-448A-94F4-5EB5A852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B34-0910-4B20-955A-C671EB77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F260-234A-4012-AEEA-0F5EE94A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B917-72CD-4753-9DF2-C2D4D3A9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BD00-AB6F-47B9-A3C9-373119EF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9F1F-F708-40BB-9BE4-C50BBF24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5734-222B-47CA-8757-326AF463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2081-C24A-40AB-BBBD-0E6539B5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4679-CD10-481E-A913-2EA25021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4D1E-3FCD-429F-A897-F7F9446E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7B77-FE68-4AB5-B20D-0AB757CD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BE2D-4A63-47E2-9477-01A96886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04FB-E097-4ADF-AAB5-C9C81C27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3BD2-0051-4DCC-943C-012725EE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4AD4-DCA9-493C-AC9D-6E5CBCF7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4868-B805-4AE3-A822-103598EF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B626-2A3E-493E-A942-8D23CD3D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98E-E230-41E9-9636-961432C1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A189-1CE0-48D3-B500-0409C7AC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B39-0D31-4E25-826F-BCF9AB80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955-89D9-4F2A-8668-0AE30916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882C-539A-4BF1-8911-3708A782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96A6-EAA6-4729-8FFD-22C259C9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7CD-7503-424B-97E0-06FCAD37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916308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00" y="0"/>
            <a:ext cx="8604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56480" y="6553080"/>
            <a:ext cx="224964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900640" y="6248160"/>
            <a:ext cx="57780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45BE-E67D-4C25-A76C-083B1FD6652B}" type="slidenum">
              <a:rPr b="0" lang="es-E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3800" y="1549440"/>
            <a:ext cx="883944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20688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7680" y="148284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42360" y="1246320"/>
            <a:ext cx="84240" cy="2235240"/>
          </a:xfrm>
          <a:custGeom>
            <a:avLst/>
            <a:gdLst>
              <a:gd name="textAreaLeft" fmla="*/ 12240 w 84240"/>
              <a:gd name="textAreaRight" fmla="*/ 72000 w 8424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0791">
                <a:moveTo>
                  <a:pt x="10800" y="0"/>
                </a:moveTo>
                <a:arcTo wR="10800" hR="10800" stAng="16200000" swAng="-5400000"/>
                <a:lnTo>
                  <a:pt x="0" y="559991"/>
                </a:lnTo>
                <a:arcTo wR="10800" hR="10800" stAng="10800000" swAng="-5400000"/>
                <a:lnTo>
                  <a:pt x="10800" y="5707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1600" y="1252440"/>
            <a:ext cx="83880" cy="2235240"/>
          </a:xfrm>
          <a:custGeom>
            <a:avLst/>
            <a:gdLst>
              <a:gd name="textAreaLeft" fmla="*/ 12240 w 83880"/>
              <a:gd name="textAreaRight" fmla="*/ 71640 w 8388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3231">
                <a:moveTo>
                  <a:pt x="10800" y="0"/>
                </a:moveTo>
                <a:arcTo wR="10800" hR="10800" stAng="16200000" swAng="-5400000"/>
                <a:lnTo>
                  <a:pt x="0" y="562431"/>
                </a:lnTo>
                <a:arcTo wR="10800" hR="10800" stAng="10800000" swAng="-5400000"/>
                <a:lnTo>
                  <a:pt x="10800" y="5732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67200" y="5783400"/>
            <a:ext cx="377028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7000" y="5734080"/>
            <a:ext cx="102888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752120"/>
            <a:ext cx="842004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0164-2901-4E62-A8EF-E850327851EC}" type="slidenum">
              <a:rPr b="0" lang="es-E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5120" y="1676160"/>
            <a:ext cx="842004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es-AR" sz="3200" spc="-1" strike="noStrike">
                <a:solidFill>
                  <a:srgbClr val="ffffe9"/>
                </a:solidFill>
                <a:latin typeface="Arial"/>
                <a:ea typeface="Times New Roman"/>
              </a:rPr>
              <a:t>LAS ALIANZAS ESTRATEGICAS ENTRE PYMES PARA CREAR NEGOCIOS ELECTRÓNICOS</a:t>
            </a:r>
            <a:br>
              <a:rPr sz="3200"/>
            </a:br>
            <a:endParaRPr b="0" lang="en-US" sz="32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Lic. Roberto A. Llauró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264c"/>
                </a:solidFill>
                <a:latin typeface="Arial"/>
                <a:ea typeface="Arial"/>
              </a:rPr>
              <a:t>PYMES 2006 </a:t>
            </a:r>
            <a:br>
              <a:rPr sz="2400"/>
            </a:br>
            <a:r>
              <a:rPr b="1" i="1" lang="es-AR" sz="2400" spc="-1" strike="noStrike">
                <a:solidFill>
                  <a:srgbClr val="00264c"/>
                </a:solidFill>
                <a:latin typeface="Arial"/>
                <a:ea typeface="Arial"/>
              </a:rPr>
              <a:t>ALTERNATIVAS PARA CRECER Y CONSOLIDARSE</a:t>
            </a:r>
            <a:br>
              <a:rPr sz="2400"/>
            </a:b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12920" y="5867280"/>
            <a:ext cx="1073160" cy="7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0423-23B9-4D75-9A07-C9890F9CB193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Alianzas Estratégicas PyMe </a:t>
            </a:r>
            <a:br>
              <a:rPr sz="2800"/>
            </a:b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para crear Negocios Electrónic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En la Parte 2 de la propuesta...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El autor, sugiere que tipo de cambios debería implementar la PyMe, en su cultura, estructura y sus procesos a fin de poder operar exitosamente en un entono de Tecnologías de la Información y la Comunicación (TIC) y Comercio Electrónico</a:t>
            </a:r>
            <a:r>
              <a:rPr b="0" lang="es-AR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2920" y="5867280"/>
            <a:ext cx="1073160" cy="7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0060-CA1E-4986-9DEF-A8C1B69E0CF0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Alianzas Estratégicas PyMe </a:t>
            </a:r>
            <a:br>
              <a:rPr sz="2800"/>
            </a:b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para crear Negocios Electrónic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Además...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Se analiza la acción del gobiern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 </a:t>
            </a: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y los inconvenientes que supon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 </a:t>
            </a: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la PyMe rural,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en países en desarrollo,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para el éxito del modelo.</a:t>
            </a:r>
            <a:r>
              <a:rPr b="0" lang="es-AR" sz="3600" spc="-1" strike="noStrike">
                <a:solidFill>
                  <a:srgbClr val="00264c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12920" y="5867280"/>
            <a:ext cx="1073160" cy="7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64A9-B51F-4D22-85E2-1C8BFF96DD66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Alianzas Estratégicas PyMe </a:t>
            </a:r>
            <a:br>
              <a:rPr sz="2800"/>
            </a:b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para crear Negocios Electrónic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En la Parte 3 de la propuesta ..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Se analiza las posibilidades de mejora en costos y capacidades que puede desarrollar las PyMe al integrar alianzas estratégicas para encarar negocios electrón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12920" y="5867280"/>
            <a:ext cx="1073160" cy="7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8C4-3A6D-4C7E-9A0F-C329BCD70C47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Alianzas Estratégicas PyMe </a:t>
            </a:r>
            <a:br>
              <a:rPr sz="2800"/>
            </a:b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para crear Negocios Electrónic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En la Parte 4 de la propuesta ..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Se analiza como poder conformar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Clusters Industriales Virtuales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(CIV)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(con PyMes locales e internacionales),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y Empresas Virtuales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(EV)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12920" y="5867280"/>
            <a:ext cx="1073160" cy="7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0699-09BD-4CE9-911E-263D2B16F92B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Alianzas Estratégicas PyMe </a:t>
            </a:r>
            <a:br>
              <a:rPr sz="2800"/>
            </a:b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para crear Negocios Electrónic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Como cierre de su propuesta..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Sugiere algunas conclusiones a los argumentos expuestos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y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Señala algunos temas que demandan, a su juicio, mayor investigación.</a:t>
            </a:r>
            <a:r>
              <a:rPr b="0" lang="es-AR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12920" y="5867280"/>
            <a:ext cx="1073160" cy="7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D6C5-8BF7-4F69-93C6-899E790C61ED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Alianzas Estratégicas PyMe </a:t>
            </a:r>
            <a:br>
              <a:rPr sz="2800"/>
            </a:b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para crear Negocios Electrónic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12920" y="5867280"/>
            <a:ext cx="1073160" cy="730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38400" y="2209680"/>
            <a:ext cx="7677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400" spc="-1" strike="noStrike">
                <a:solidFill>
                  <a:srgbClr val="fc0e0e"/>
                </a:solidFill>
                <a:latin typeface="Arial"/>
                <a:ea typeface="Arial"/>
              </a:rPr>
              <a:t>Gracias por su atenció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20840" y="3657600"/>
            <a:ext cx="6934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264c"/>
                </a:solidFill>
                <a:latin typeface="Arial"/>
                <a:ea typeface="Arial"/>
              </a:rPr>
              <a:t>Lic. Roberto A. Llauró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264c"/>
                </a:solidFill>
                <a:latin typeface="Arial"/>
                <a:ea typeface="Arial"/>
              </a:rPr>
              <a:t>LLAURO.NET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264c"/>
                </a:solidFill>
                <a:latin typeface="Arial"/>
                <a:ea typeface="Arial"/>
              </a:rPr>
              <a:t>CONSULTORÍA EMPRESARIA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264c"/>
                </a:solidFill>
                <a:latin typeface="Arial"/>
                <a:ea typeface="Arial"/>
              </a:rPr>
              <a:t>Uruguay 978 – piso 8 (1015) CABA – Argentina.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264c"/>
                </a:solidFill>
                <a:latin typeface="Arial"/>
                <a:ea typeface="Arial"/>
              </a:rPr>
              <a:t>Tél. : 4812-8058</a:t>
            </a:r>
            <a:br>
              <a:rPr sz="1600"/>
            </a:br>
            <a:r>
              <a:rPr b="1" i="1" lang="es-AR" sz="1600" spc="-1" strike="noStrike">
                <a:solidFill>
                  <a:srgbClr val="00264c"/>
                </a:solidFill>
                <a:latin typeface="Arial"/>
                <a:ea typeface="Arial"/>
              </a:rPr>
              <a:t>  e-mail : rllauro@llauro.net</a:t>
            </a:r>
            <a:br>
              <a:rPr sz="1600"/>
            </a:b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0D2E-5ECB-4C60-8817-E42F9C146025}" type="slidenum">
              <a:t>15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4040" y="915840"/>
            <a:ext cx="84200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333333"/>
                </a:solidFill>
                <a:latin typeface="Arial"/>
              </a:rPr>
              <a:t>Roberto A. Llauró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264c"/>
                </a:solidFill>
                <a:latin typeface="Arial"/>
              </a:rPr>
              <a:t>Lic. en Administración - UMS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264c"/>
                </a:solidFill>
                <a:latin typeface="Arial"/>
              </a:rPr>
              <a:t>Posgrado ODE – FI - UB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264c"/>
                </a:solidFill>
                <a:latin typeface="Arial"/>
              </a:rPr>
              <a:t>Doctor en Ciencias de la Dirección (TP) - UAD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264c"/>
                </a:solidFill>
                <a:latin typeface="Arial"/>
              </a:rPr>
              <a:t>Docente Universitario UADE, UCA, UMSA, CAEC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264c"/>
                </a:solidFill>
                <a:latin typeface="Arial"/>
              </a:rPr>
              <a:t>Consultor de Empresas : LLAURO.NET ®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264c"/>
                </a:solidFill>
                <a:latin typeface="Arial"/>
              </a:rPr>
              <a:t>Matriculado CPCECACB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264c"/>
                </a:solidFill>
                <a:latin typeface="Arial"/>
              </a:rPr>
              <a:t>E-mail : </a:t>
            </a:r>
            <a:r>
              <a:rPr b="1" i="1" lang="es-AR" sz="3200" spc="-1" strike="noStrike" u="sng">
                <a:solidFill>
                  <a:srgbClr val="00264c"/>
                </a:solidFill>
                <a:uFillTx/>
                <a:latin typeface="Arial"/>
              </a:rPr>
              <a:t>rllauro@llauro.ne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264c"/>
                </a:solidFill>
                <a:latin typeface="Arial"/>
              </a:rPr>
              <a:t>Móvil : (15) 5865-2670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2920" y="5867280"/>
            <a:ext cx="1073160" cy="7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DB2-226F-408F-9CCC-ADF8432B5D2E}" type="slidenum">
              <a:t>2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Alianzas Estratégicas PyMe </a:t>
            </a:r>
            <a:br>
              <a:rPr sz="2800"/>
            </a:b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para crear Negocios Electrónic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650960" y="1941480"/>
          <a:ext cx="6824880" cy="363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0960" y="1941480"/>
                    <a:ext cx="682488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12920" y="5867280"/>
            <a:ext cx="1073160" cy="73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144-F867-41CE-BCC6-A317E0205F39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Alianzas Estratégicas PyMe </a:t>
            </a:r>
            <a:br>
              <a:rPr sz="2800"/>
            </a:b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para crear Negocios Electrónic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El trabajo parte del argumento que desde la publicación d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c0e0e"/>
                </a:solidFill>
                <a:latin typeface="Arial"/>
                <a:ea typeface="Times New Roman"/>
              </a:rPr>
              <a:t>“</a:t>
            </a:r>
            <a:r>
              <a:rPr b="1" i="1" lang="es-AR" sz="3200" spc="-1" strike="noStrike">
                <a:solidFill>
                  <a:srgbClr val="fc0e0e"/>
                </a:solidFill>
                <a:latin typeface="Arial"/>
                <a:ea typeface="Times New Roman"/>
              </a:rPr>
              <a:t>Estrategia Competitiva</a:t>
            </a:r>
            <a:r>
              <a:rPr b="1" lang="es-AR" sz="3200" spc="-1" strike="noStrike">
                <a:solidFill>
                  <a:srgbClr val="fc0e0e"/>
                </a:solidFill>
                <a:latin typeface="Arial"/>
                <a:ea typeface="Times New Roman"/>
              </a:rPr>
              <a:t>”</a:t>
            </a: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de Michael Porter (1980),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el foco de la gerencia apunto a la búsqueda de la ventaja por medio de la</a:t>
            </a: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 </a:t>
            </a:r>
            <a:r>
              <a:rPr b="0" lang="es-AR" sz="3200" spc="-1" strike="noStrike">
                <a:solidFill>
                  <a:srgbClr val="fc0e0e"/>
                </a:solidFill>
                <a:latin typeface="Arial"/>
                <a:ea typeface="Times New Roman"/>
              </a:rPr>
              <a:t>“</a:t>
            </a:r>
            <a:r>
              <a:rPr b="1" i="1" lang="es-AR" sz="3200" spc="-1" strike="noStrike">
                <a:solidFill>
                  <a:srgbClr val="fc0e0e"/>
                </a:solidFill>
                <a:latin typeface="Arial"/>
                <a:ea typeface="Times New Roman"/>
              </a:rPr>
              <a:t>competencia salvaje</a:t>
            </a:r>
            <a:r>
              <a:rPr b="0" lang="es-AR" sz="3200" spc="-1" strike="noStrike">
                <a:solidFill>
                  <a:srgbClr val="fc0e0e"/>
                </a:solidFill>
                <a:latin typeface="Arial"/>
                <a:ea typeface="Times New Roman"/>
              </a:rPr>
              <a:t>”</a:t>
            </a:r>
            <a:r>
              <a:rPr b="0" lang="es-AR" sz="3600" spc="-1" strike="noStrike">
                <a:solidFill>
                  <a:srgbClr val="00264c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2920" y="5867280"/>
            <a:ext cx="1073160" cy="7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691C-D2DE-4816-985A-36199200E859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Alianzas Estratégicas PyMe </a:t>
            </a:r>
            <a:br>
              <a:rPr sz="2800"/>
            </a:b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para crear Negocios Electrónic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El resultado ha sido el desarrollo de un amplio conocimiento de cómo competir con inteligencia en el espacio de mercado </a:t>
            </a:r>
            <a:r>
              <a:rPr b="1" lang="es-AR" sz="3200" spc="-1" strike="noStrike">
                <a:solidFill>
                  <a:srgbClr val="fc0e0e"/>
                </a:solidFill>
                <a:latin typeface="Arial"/>
                <a:ea typeface="Times New Roman"/>
              </a:rPr>
              <a:t>“existente”</a:t>
            </a:r>
            <a:r>
              <a:rPr b="1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,</a:t>
            </a: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 partiendo a la demanda entre los jugadores del sector, sean éstas empresas grandes o PyMe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12920" y="5867280"/>
            <a:ext cx="1073160" cy="7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D681-20F8-4D5E-B500-B0B20C87EFCB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Alianzas Estratégicas PyMe </a:t>
            </a:r>
            <a:br>
              <a:rPr sz="2800"/>
            </a:b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para crear Negocios Electrónic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Con este enfoque, las </a:t>
            </a:r>
            <a:r>
              <a:rPr b="1" lang="es-AR" sz="2800" spc="-1" strike="noStrike">
                <a:solidFill>
                  <a:srgbClr val="fc0e0e"/>
                </a:solidFill>
                <a:latin typeface="Arial"/>
                <a:ea typeface="Times New Roman"/>
              </a:rPr>
              <a:t>“reglas de juego”</a:t>
            </a:r>
            <a:r>
              <a:rPr b="0" lang="es-AR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 se basan en superar a los rivales para llevar la mejor parte del mercad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A medida que el espacio de mercado se va saturando, se reduce la rentabilidad potencial, el crecimiento, los productos se comoditizan y la competencia se vuelve más agresiv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12920" y="5867280"/>
            <a:ext cx="1073160" cy="7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5B2-DC1E-43CE-BD3F-3F878DDF81E2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Alianzas Estratégicas PyMe </a:t>
            </a:r>
            <a:br>
              <a:rPr sz="2800"/>
            </a:b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para crear Negocios Electrónic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Resulta evidente que..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Este no es el entorno estratégico más ventajoso para el desarrollo de negocios en países en desarrollo, dadas las enormes asimetrías de oportunidades y recurso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que tienen las grandes empresas en comparación con las PyM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c0e0e"/>
                </a:solidFill>
                <a:latin typeface="Arial"/>
                <a:ea typeface="Times New Roman"/>
              </a:rPr>
              <a:t>Las PyMe juegan en desventaja !!!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12920" y="5867280"/>
            <a:ext cx="1073160" cy="7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F882-80E1-4E5C-B788-8734CC2E15FD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Alianzas Estratégicas PyMe </a:t>
            </a:r>
            <a:br>
              <a:rPr sz="2800"/>
            </a:b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para crear Negocios Electrónic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En la parte 1 de la propuesta ...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Se analiza brevemente la obra de Chan Kim y Mouborgne (Navegando Océanos Azules)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y su capacidad de proponer una visión alternativa de hacer negocio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Este enfoque esta más acorde (a juicio del autor) a las características y posibilidades reales de las PyMe de los países en desarrollo</a:t>
            </a:r>
            <a:r>
              <a:rPr b="0" lang="es-AR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12920" y="5867280"/>
            <a:ext cx="1073160" cy="7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E793-3D6A-410C-8042-CFEEBDD7E6B4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Alianzas Estratégicas PyMe </a:t>
            </a:r>
            <a:br>
              <a:rPr sz="2800"/>
            </a:br>
            <a:r>
              <a:rPr b="1" i="1" lang="es-AR" sz="2800" spc="-1" strike="noStrike">
                <a:solidFill>
                  <a:srgbClr val="333333"/>
                </a:solidFill>
                <a:latin typeface="Arial"/>
              </a:rPr>
              <a:t>para crear Negocios Electrónic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A partir de las ideas desarrolladas en Oceanos Azules, el autor propone un nuevo paradigma de competencia, donde, a su juicio, las PyMe tienen mejor oportunidad de éxit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12920" y="5867280"/>
            <a:ext cx="1073160" cy="7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CE9B-9DB8-46D9-9D99-BB0298A05B70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03:42:08Z</dcterms:created>
  <dc:creator>Rob</dc:creator>
  <dc:description/>
  <dc:language>en-US</dc:language>
  <cp:lastModifiedBy>C.P.C.E.C.A.B.A.</cp:lastModifiedBy>
  <dcterms:modified xsi:type="dcterms:W3CDTF">2006-11-06T22:17:57Z</dcterms:modified>
  <cp:revision>8</cp:revision>
  <dc:subject/>
  <dc:title>Alianzas Estratégicas PyMe  para crear Negocios Electrónicos</dc:title>
</cp:coreProperties>
</file>