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58E2-C3AD-40F0-BABE-35E5178D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C12F-B26A-41C8-8D68-75995133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3A82-637A-400C-8183-68EAA9E2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1CB5-5018-425B-AA2D-F5678C62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8C08-2D52-4F15-BEC2-9C49B776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BFBD-1FA1-4152-AFB6-F497D5A7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FD9F-DEB3-493B-A2D8-AB44277A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DD12-D782-4346-BC30-403D6A8F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29BE-A4AF-4BB6-9C5F-556525A7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1943-EE73-4337-A409-CA44DB0D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C169-C1BD-4FE5-B375-C687F5E4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9DAD-9DC1-48A6-B3BA-01FF96DD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9C82-5B5E-4F2E-A62D-A460F892D2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IX CONGRESO PY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ffff"/>
                </a:solidFill>
                <a:latin typeface="Times New Roman"/>
              </a:rPr>
              <a:t>La adaptación de la empresa familiar a los nuevos escen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ff"/>
                </a:solidFill>
                <a:latin typeface="Times New Roman"/>
              </a:rPr>
              <a:t>Bs.As, Noviembre 2/3, 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Horacio A. Irigoy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00"/>
                </a:solidFill>
                <a:latin typeface="Times New Roman"/>
              </a:rPr>
              <a:t>Los nuevos escenari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a “globalización” es la “modernidad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Ya para Max Weber la modernidad se debía 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ff"/>
                </a:solidFill>
                <a:latin typeface="Times New Roman"/>
              </a:rPr>
              <a:t>A.- La separación entre </a:t>
            </a:r>
            <a:r>
              <a:rPr b="1" i="1" lang="es-MX" sz="2800" spc="-1" strike="noStrike" u="sng">
                <a:solidFill>
                  <a:srgbClr val="ffffff"/>
                </a:solidFill>
                <a:uFillTx/>
                <a:latin typeface="Times New Roman"/>
              </a:rPr>
              <a:t>hogar</a:t>
            </a:r>
            <a:r>
              <a:rPr b="1" i="1" lang="es-MX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i="1" lang="es-MX" sz="2800" spc="-1" strike="noStrike" u="sng">
                <a:solidFill>
                  <a:srgbClr val="ffffff"/>
                </a:solidFill>
                <a:uFillTx/>
                <a:latin typeface="Times New Roman"/>
              </a:rPr>
              <a:t>empr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imes New Roman"/>
              </a:rPr>
              <a:t>empresa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: eficiencia y luc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imes New Roman"/>
              </a:rPr>
              <a:t>vida familiar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: compartir y quer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ff"/>
                </a:solidFill>
                <a:latin typeface="Times New Roman"/>
              </a:rPr>
              <a:t>B.- Los protestantes fueron los pioneros de la vida moderna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con una particular concepción étic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Características esencia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os fenómenos morales son intuitivos o “no racionalizados” (preceden la consideración de propósitos y cálculos, como beneficio o pérdida) y  son carácterísticos de la vida famili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l hombre (fuera de su familia) ACTUA en base a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opósitos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divide entre útiles e inútiles y opta, elige=DECID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IFERENCIAS EN LA DECISION EN CORPORACION O EMPRESA FLIAR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ff"/>
                </a:solidFill>
                <a:latin typeface="Times New Roman"/>
              </a:rPr>
              <a:t>En la empresa corporativa el decisor lo hace en base a lo APRENDIDO (capacitación, et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ff"/>
                </a:solidFill>
                <a:latin typeface="Times New Roman"/>
              </a:rPr>
              <a:t>En la empresa familiar lo hace en función de otros </a:t>
            </a:r>
            <a:r>
              <a:rPr b="1" i="1" lang="es-MX" sz="2800" spc="-1" strike="noStrike" u="sng">
                <a:solidFill>
                  <a:srgbClr val="ffffff"/>
                </a:solidFill>
                <a:uFillTx/>
                <a:latin typeface="Times New Roman"/>
              </a:rPr>
              <a:t>criterios</a:t>
            </a:r>
            <a:r>
              <a:rPr b="1" i="1" lang="es-MX" sz="2800" spc="-1" strike="noStrike">
                <a:solidFill>
                  <a:srgbClr val="ffffff"/>
                </a:solidFill>
                <a:latin typeface="Times New Roman"/>
              </a:rPr>
              <a:t> (cultura y tradición familiar, afectos) es decir lo APREHENDIDO por el víncu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Grupos Familia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1.- nivel histórico-antropológico (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diversas formas de “familia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2.-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estructura socializadora (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es decir mediadora entre el sujeto y la socieda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3.-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matriz de relación o red de vínculos, que implica una interacción entre sujetos (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concepto sistémic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Consecuenci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os individuos, internamente, se relacionan entre sí y asumen “roles”; cada uno es “agente” y “emergent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 este modo la “necesidad” es el acicate que define al “actor” generando su LIDERAZ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n el grupo una persona se hace cargo de la “proyección”; es el depositario del grup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Los conflictos y su raíz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Normalmente juzgamos a través de los “síntomas” (</a:t>
            </a:r>
            <a:r>
              <a:rPr b="1" i="1" lang="es-MX" sz="3200" spc="-1" strike="noStrike">
                <a:solidFill>
                  <a:srgbClr val="ffffff"/>
                </a:solidFill>
                <a:latin typeface="Times New Roman"/>
              </a:rPr>
              <a:t>lo “evidente”)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aunque lo esencial o básico subyace en la </a:t>
            </a:r>
            <a:r>
              <a:rPr b="1" i="1" lang="es-MX" sz="3200" spc="-1" strike="noStrike">
                <a:solidFill>
                  <a:srgbClr val="ffffff"/>
                </a:solidFill>
                <a:latin typeface="Times New Roman"/>
              </a:rPr>
              <a:t>rel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ffff"/>
                </a:solidFill>
                <a:latin typeface="Times New Roman"/>
              </a:rPr>
              <a:t>Una familia “enferma” no puede generar sino una “empresa enferma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La empresa familiar y sus cicl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structura de 3 círculos de Davis (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estátic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inámica de la empres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.- famil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b.- nego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.- patrimon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ntre las diversas etapas hay “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trancisiones”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que marcan el “cambio” entra una y otra etap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Planificar el futur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remis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1.- la empresa exitosa de mañana no se parecerá a la empresa exitosa de ho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2.- las fuerzas que determinan el futuro 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YA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stán actua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3.- las acciones en marcha (TODAS) harán impacto en la empresa de maña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01:15:07Z</dcterms:created>
  <dc:creator>H</dc:creator>
  <dc:description/>
  <dc:language>en-US</dc:language>
  <cp:lastModifiedBy>C.P.C.E.C.A.B.A.</cp:lastModifiedBy>
  <dcterms:modified xsi:type="dcterms:W3CDTF">2006-11-06T22:13:14Z</dcterms:modified>
  <cp:revision>2</cp:revision>
  <dc:subject/>
  <dc:title>IX CONGRESO PYME</dc:title>
</cp:coreProperties>
</file>