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957-4571-421D-8AFF-33C77C26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336-062C-4151-8122-F434888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387-F666-454E-B0E6-970FA561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21F-2C51-449E-AE65-7CA24ECC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E15-FAB7-4958-89C1-2B74A94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181-14C5-4996-96FA-DC5F603F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622-E415-42D7-ACF4-0452E81F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DAF-B7E9-45D8-A4DC-999DBE3D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080-5BC7-4D6C-802D-21028C26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C0C-B790-4456-A054-D9FEC8A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9A5-5A85-4C1F-A14B-0AA5C81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416-E3DC-4572-A677-FD870D2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08A9-4F35-40FF-86CE-7330225E74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399440" y="228600"/>
          <a:ext cx="113508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9440" y="228600"/>
                    <a:ext cx="1135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barrios@edde.edu.a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Conflictos de la Empresa Familiar no resueltos en el Protocolo Familiar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arcelo Bar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DDE-Escuela de Di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barrios@edde.edu.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terminar a través de una investigación cualitativa exploratoria que conflictos se presentan en la empresa familiar que no se resuelven a través del protocolo familiar o carta mag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ementos de la Carta Magna</a:t>
            </a:r>
            <a:r>
              <a:rPr b="0" lang="es-MX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</a:t>
            </a: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]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unciado del propósito y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undamento o pre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rectrices de participación en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 en la familia y plan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 de información y de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 para compartir lo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 para administrar la función fam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lación entre la familia y el consejo de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[1]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Ward, J y Gallo, M.A.; Protocolo Familiar. Nota Técnica DGN-448. IESE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alizó una investigación cualitativa  exploratoria a tres empresas famili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tres empresas familiares son de capitales argentinos y tienen entre 2 y 7 miembros familiares y emplean  entre 40 y 450 empl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dican a los rubros agropecuarios, expendio de medicamentos y pinturas como así también servicios mé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metodología utilizada consistió en entrevistas personales con los distintos miembros o integrantes de la familia. Más de 18 horas de entrev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os tipos de problemas: familia y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Principales problemas de la fami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ucha competencia entre los distintos miembros de la familia en cuanto a tema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mezclan los temas familiares y empresa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los entre los miembros mayores y menores de la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equilibrio en las remuneraciones en relación a roles y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identificación de la importancia de la continuidad de la familia como elemento clave para la continuidad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existe una determinación adecuada de cómo realizar un proceso de suc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lta de identificación clara de roles y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ucha muy fuerte de poder entre padres e h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uniones familiares conflictivas y poco produ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Principales problemas a nivel de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istencia de sistema de control g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 organizacional basada en los miembros de la familia y no en las necesidade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ncia de normas y 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a profesionalización de los miembros de la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so conocimiento del negocio de alguno de los miembros de la familia en roles ejecu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ión entre roles del directorio y del comité operativo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 de visión de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entradas en temas operativos y no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onflictos no resueltos en el protocolo fam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iagno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erfil de los miembros de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mezcla de la familia y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realización de reuniones fam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determinación de la agenda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terminación de roles y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avanzar en el protocolo familiar sin solucionar problemas de familia prev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parar los conflictos de la empresa de los conflictos de la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acelerar los tiem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tender que es más un PROCESO que un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iempre tener en cuenta que están presentes lazos sanguíneos y emo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1:39:07Z</dcterms:created>
  <dc:creator>mbarrios</dc:creator>
  <dc:description/>
  <dc:language>en-US</dc:language>
  <cp:lastModifiedBy>C.P.C.E.C.A.B.A.</cp:lastModifiedBy>
  <dcterms:modified xsi:type="dcterms:W3CDTF">2006-11-06T22:06:25Z</dcterms:modified>
  <cp:revision>8</cp:revision>
  <dc:subject/>
  <dc:title>Conflictos de la Empresa Familiar no resueltos en el Protocolo Familiar </dc:title>
</cp:coreProperties>
</file>