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E6F-C2F0-4C59-9F78-6966F351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18F-63AB-4098-B2F7-84E11BD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73D-BF5B-4F92-ACE1-5A7CF29E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EA1-F59A-43D2-9E50-D5085F54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AD9-0253-4085-8B5C-0960410B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1D2-9B68-4DC2-875E-5A141648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663-2022-40E4-9C67-B14F82E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C76-ADA0-4DD6-BFB6-3DBAB2C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A1E-0048-4364-B8FE-469C64F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F46-CA93-4F39-A41E-7C624EA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55D-E1AF-4556-9DD8-D2C80F3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09E-9524-4608-BF32-B27F80D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073-843D-4531-828A-8504C9DC5B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6400" y="1773360"/>
            <a:ext cx="7392240" cy="184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EL  CLUSTER  COMO 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COMPETITIVA  SUSTENT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1280" y="5805360"/>
            <a:ext cx="376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. Edelmira del C. Barah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4560" y="476280"/>
            <a:ext cx="695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7d09"/>
                </a:solidFill>
                <a:latin typeface="Arial"/>
              </a:rPr>
              <a:t>Cultura  Empresarial predomi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5200" y="1341360"/>
            <a:ext cx="6599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ácticas tradicionales basadas en técnica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nsayo-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95560" y="2421000"/>
            <a:ext cx="663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Stocks de competencias, rutinas y habil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tecnológicas y organizacionales inmutables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el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4840" y="5157720"/>
            <a:ext cx="692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Carencia  o  insuficiencia  de gestión  estratégic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4480" y="3716280"/>
            <a:ext cx="656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Utilización básica del capital físico y financi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sin aprovechar los capitales intelectual,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y hu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760" y="1913040"/>
            <a:ext cx="81756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ncepto multidimensional que involucra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d1b03"/>
                </a:solidFill>
                <a:latin typeface="Arial"/>
              </a:rPr>
              <a:t>aprovechamiento estraté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 los  factores tangibles e intangib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dógenos y exógenos de las empresas 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transformados en </a:t>
            </a:r>
            <a:r>
              <a:rPr b="1" lang="es-AR" sz="2600" spc="-1" strike="noStrike">
                <a:solidFill>
                  <a:srgbClr val="fd1b03"/>
                </a:solidFill>
                <a:latin typeface="Arial"/>
              </a:rPr>
              <a:t>tecnologías innovativa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es otorgan el dinamismo necesari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sempeñarse con éxito sustentable 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3240" y="500040"/>
            <a:ext cx="3672360" cy="673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8904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cc8904"/>
            </a:solidFill>
            <a:miter/>
          </a:ln>
          <a:effectLst>
            <a:outerShdw dist="107932" dir="135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ffff"/>
                </a:solidFill>
                <a:latin typeface="Arial"/>
              </a:rPr>
              <a:t>Competitiv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1844640"/>
            <a:ext cx="2376360" cy="172872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50000">
                <a:srgbClr val="663012"/>
              </a:gs>
              <a:gs pos="100000">
                <a:srgbClr val="d6b19c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134136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fb04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3120" y="1355760"/>
            <a:ext cx="411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urgen espontáneamente, 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encuentran en f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92428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fb04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3320" y="2914560"/>
            <a:ext cx="415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on creadas expresamen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artir de una orientación estraté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ica de largo plazo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15772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fb04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5120" y="4522680"/>
            <a:ext cx="474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Requieren de la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xpresa y dinámica de los empres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rios y gobiernos, para el incentiv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innovación y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36360" y="692280"/>
            <a:ext cx="71280" cy="616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92280"/>
            <a:ext cx="9144000" cy="6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15160"/>
            <a:ext cx="9144000" cy="6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360" y="74124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text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70080" y="7650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ubc. Político-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1040" y="69840"/>
            <a:ext cx="725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9900"/>
                </a:solidFill>
                <a:latin typeface="Arial"/>
              </a:rPr>
              <a:t>Escenario Competitivo de la</a:t>
            </a:r>
            <a:r>
              <a:rPr b="1" lang="es-AR" sz="3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AR" sz="3400" spc="-1" strike="noStrike">
                <a:solidFill>
                  <a:srgbClr val="ff9900"/>
                </a:solidFill>
                <a:latin typeface="Arial"/>
              </a:rPr>
              <a:t>Py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1873440" cy="288720"/>
          </a:xfrm>
          <a:prstGeom prst="rect">
            <a:avLst/>
          </a:prstGeom>
          <a:gradFill rotWithShape="0">
            <a:gsLst>
              <a:gs pos="0">
                <a:srgbClr val="ffb047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280" y="12160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texto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392360" y="1304640"/>
            <a:ext cx="358920" cy="432000"/>
          </a:xfrm>
          <a:custGeom>
            <a:avLst/>
            <a:gdLst>
              <a:gd name="textAreaLeft" fmla="*/ 70200 w 358920"/>
              <a:gd name="textAreaRight" fmla="*/ 288720 w 358920"/>
              <a:gd name="textAreaTop" fmla="*/ 114120 h 432000"/>
              <a:gd name="textAreaBottom" fmla="*/ 3178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3528720" y="223992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032000" y="223992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534920" y="223992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040000" y="223992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021360"/>
            <a:ext cx="2160360" cy="765360"/>
          </a:xfrm>
          <a:prstGeom prst="ellipse">
            <a:avLst/>
          </a:prstGeom>
          <a:gradFill rotWithShape="0">
            <a:gsLst>
              <a:gs pos="0">
                <a:srgbClr val="009999">
                  <a:alpha val="89019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6137280"/>
            <a:ext cx="26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ubcontexto Tecn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09080" y="692280"/>
            <a:ext cx="71280" cy="616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2920" y="3070080"/>
            <a:ext cx="57636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28608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ir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88920" y="3141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78040" y="3147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76560" y="3213000"/>
            <a:ext cx="4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2440" y="3213000"/>
            <a:ext cx="4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3284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35733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7180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34304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86900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66100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292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515628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537228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35840" y="3209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23120" y="3205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1040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08360" y="3286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08360" y="34304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08360" y="3573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360" y="3718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3213000"/>
            <a:ext cx="136836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716280"/>
            <a:ext cx="1008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3716280"/>
            <a:ext cx="129708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716280"/>
            <a:ext cx="151308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19640" y="3716280"/>
            <a:ext cx="1440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219640" y="3716280"/>
            <a:ext cx="172872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219640" y="3716280"/>
            <a:ext cx="115272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3932280"/>
            <a:ext cx="142560" cy="936720"/>
          </a:xfrm>
          <a:custGeom>
            <a:avLst/>
            <a:gdLst/>
            <a:ahLst/>
            <a:rect l="l" t="t" r="r" b="b"/>
            <a:pathLst>
              <a:path w="105" h="544">
                <a:moveTo>
                  <a:pt x="90" y="0"/>
                </a:moveTo>
                <a:cubicBezTo>
                  <a:pt x="97" y="33"/>
                  <a:pt x="105" y="67"/>
                  <a:pt x="90" y="90"/>
                </a:cubicBezTo>
                <a:cubicBezTo>
                  <a:pt x="75" y="113"/>
                  <a:pt x="0" y="106"/>
                  <a:pt x="0" y="136"/>
                </a:cubicBezTo>
                <a:cubicBezTo>
                  <a:pt x="0" y="166"/>
                  <a:pt x="90" y="242"/>
                  <a:pt x="90" y="272"/>
                </a:cubicBezTo>
                <a:cubicBezTo>
                  <a:pt x="90" y="302"/>
                  <a:pt x="0" y="294"/>
                  <a:pt x="0" y="317"/>
                </a:cubicBezTo>
                <a:cubicBezTo>
                  <a:pt x="0" y="340"/>
                  <a:pt x="90" y="385"/>
                  <a:pt x="90" y="408"/>
                </a:cubicBezTo>
                <a:cubicBezTo>
                  <a:pt x="90" y="431"/>
                  <a:pt x="0" y="438"/>
                  <a:pt x="0" y="453"/>
                </a:cubicBezTo>
                <a:cubicBezTo>
                  <a:pt x="0" y="468"/>
                  <a:pt x="83" y="483"/>
                  <a:pt x="90" y="498"/>
                </a:cubicBezTo>
                <a:cubicBezTo>
                  <a:pt x="97" y="513"/>
                  <a:pt x="52" y="529"/>
                  <a:pt x="45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716280"/>
            <a:ext cx="172872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6021360"/>
            <a:ext cx="2160360" cy="765360"/>
          </a:xfrm>
          <a:prstGeom prst="ellipse">
            <a:avLst/>
          </a:prstGeom>
          <a:gradFill rotWithShape="0">
            <a:gsLst>
              <a:gs pos="0">
                <a:srgbClr val="009999">
                  <a:alpha val="89019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70160" y="566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92160" y="1504800"/>
            <a:ext cx="3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520" y="1797120"/>
            <a:ext cx="349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81120" y="1770120"/>
            <a:ext cx="36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6640" y="2006640"/>
            <a:ext cx="203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Fuerte p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48720" y="1052640"/>
            <a:ext cx="0" cy="5040360"/>
          </a:xfrm>
          <a:prstGeom prst="line">
            <a:avLst/>
          </a:prstGeom>
          <a:ln w="38160">
            <a:solidFill>
              <a:srgbClr val="cc8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052640"/>
            <a:ext cx="0" cy="5040360"/>
          </a:xfrm>
          <a:prstGeom prst="line">
            <a:avLst/>
          </a:prstGeom>
          <a:ln w="38160">
            <a:solidFill>
              <a:srgbClr val="cc8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052640"/>
            <a:ext cx="8424720" cy="0"/>
          </a:xfrm>
          <a:prstGeom prst="line">
            <a:avLst/>
          </a:prstGeom>
          <a:ln w="38160">
            <a:solidFill>
              <a:srgbClr val="cc8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6093000"/>
            <a:ext cx="8424720" cy="0"/>
          </a:xfrm>
          <a:prstGeom prst="line">
            <a:avLst/>
          </a:prstGeom>
          <a:ln w="38160">
            <a:solidFill>
              <a:srgbClr val="cc8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56000" y="5661000"/>
            <a:ext cx="1368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84360" y="551664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4894200"/>
            <a:ext cx="1224000" cy="1198800"/>
          </a:xfrm>
          <a:custGeom>
            <a:avLst/>
            <a:gdLst/>
            <a:ahLst/>
            <a:rect l="l" t="t" r="r" b="b"/>
            <a:pathLst>
              <a:path w="771" h="755">
                <a:moveTo>
                  <a:pt x="771" y="30"/>
                </a:moveTo>
                <a:cubicBezTo>
                  <a:pt x="714" y="15"/>
                  <a:pt x="658" y="0"/>
                  <a:pt x="635" y="30"/>
                </a:cubicBezTo>
                <a:cubicBezTo>
                  <a:pt x="612" y="60"/>
                  <a:pt x="665" y="174"/>
                  <a:pt x="635" y="211"/>
                </a:cubicBezTo>
                <a:cubicBezTo>
                  <a:pt x="605" y="248"/>
                  <a:pt x="483" y="226"/>
                  <a:pt x="453" y="256"/>
                </a:cubicBezTo>
                <a:cubicBezTo>
                  <a:pt x="423" y="286"/>
                  <a:pt x="483" y="362"/>
                  <a:pt x="453" y="392"/>
                </a:cubicBezTo>
                <a:cubicBezTo>
                  <a:pt x="423" y="422"/>
                  <a:pt x="302" y="408"/>
                  <a:pt x="272" y="438"/>
                </a:cubicBezTo>
                <a:cubicBezTo>
                  <a:pt x="242" y="468"/>
                  <a:pt x="302" y="544"/>
                  <a:pt x="272" y="574"/>
                </a:cubicBezTo>
                <a:cubicBezTo>
                  <a:pt x="242" y="604"/>
                  <a:pt x="135" y="589"/>
                  <a:pt x="90" y="619"/>
                </a:cubicBezTo>
                <a:cubicBezTo>
                  <a:pt x="45" y="649"/>
                  <a:pt x="15" y="732"/>
                  <a:pt x="0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941720"/>
            <a:ext cx="1224000" cy="1198800"/>
          </a:xfrm>
          <a:custGeom>
            <a:avLst/>
            <a:gdLst/>
            <a:ahLst/>
            <a:rect l="l" t="t" r="r" b="b"/>
            <a:pathLst>
              <a:path w="771" h="755">
                <a:moveTo>
                  <a:pt x="771" y="30"/>
                </a:moveTo>
                <a:cubicBezTo>
                  <a:pt x="714" y="15"/>
                  <a:pt x="658" y="0"/>
                  <a:pt x="635" y="30"/>
                </a:cubicBezTo>
                <a:cubicBezTo>
                  <a:pt x="612" y="60"/>
                  <a:pt x="665" y="174"/>
                  <a:pt x="635" y="211"/>
                </a:cubicBezTo>
                <a:cubicBezTo>
                  <a:pt x="605" y="248"/>
                  <a:pt x="483" y="226"/>
                  <a:pt x="453" y="256"/>
                </a:cubicBezTo>
                <a:cubicBezTo>
                  <a:pt x="423" y="286"/>
                  <a:pt x="483" y="362"/>
                  <a:pt x="453" y="392"/>
                </a:cubicBezTo>
                <a:cubicBezTo>
                  <a:pt x="423" y="422"/>
                  <a:pt x="302" y="408"/>
                  <a:pt x="272" y="438"/>
                </a:cubicBezTo>
                <a:cubicBezTo>
                  <a:pt x="242" y="468"/>
                  <a:pt x="302" y="544"/>
                  <a:pt x="272" y="574"/>
                </a:cubicBezTo>
                <a:cubicBezTo>
                  <a:pt x="242" y="604"/>
                  <a:pt x="135" y="589"/>
                  <a:pt x="90" y="619"/>
                </a:cubicBezTo>
                <a:cubicBezTo>
                  <a:pt x="45" y="649"/>
                  <a:pt x="15" y="732"/>
                  <a:pt x="0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773360"/>
            <a:ext cx="649080" cy="1368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6360" y="692280"/>
            <a:ext cx="71280" cy="616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92280"/>
            <a:ext cx="9144000" cy="6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15160"/>
            <a:ext cx="9144000" cy="6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2200" y="1052640"/>
            <a:ext cx="73080" cy="496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1052640"/>
            <a:ext cx="7201080" cy="7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62920" y="1052640"/>
            <a:ext cx="73080" cy="496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8680" y="69840"/>
            <a:ext cx="483048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9900"/>
                </a:solidFill>
                <a:latin typeface="Arial"/>
              </a:rPr>
              <a:t>Escenario  del  Clus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51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773360"/>
            <a:ext cx="2016000" cy="360360"/>
          </a:xfrm>
          <a:prstGeom prst="rect">
            <a:avLst/>
          </a:prstGeom>
          <a:gradFill rotWithShape="0">
            <a:gsLst>
              <a:gs pos="0">
                <a:srgbClr val="ffb047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76000" y="1161360"/>
            <a:ext cx="504720" cy="576000"/>
          </a:xfrm>
          <a:custGeom>
            <a:avLst/>
            <a:gdLst>
              <a:gd name="textAreaLeft" fmla="*/ 98640 w 504720"/>
              <a:gd name="textAreaRight" fmla="*/ 406080 w 504720"/>
              <a:gd name="textAreaTop" fmla="*/ 152280 h 576000"/>
              <a:gd name="textAreaBottom" fmla="*/ 4237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6021360"/>
            <a:ext cx="2160360" cy="765360"/>
          </a:xfrm>
          <a:prstGeom prst="ellipse">
            <a:avLst/>
          </a:prstGeom>
          <a:gradFill rotWithShape="0">
            <a:gsLst>
              <a:gs pos="0">
                <a:srgbClr val="009999">
                  <a:alpha val="89019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09080" y="692280"/>
            <a:ext cx="71280" cy="616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486900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566100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869000"/>
            <a:ext cx="0" cy="79200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515628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5372280"/>
            <a:ext cx="1152720" cy="0"/>
          </a:xfrm>
          <a:prstGeom prst="line">
            <a:avLst/>
          </a:prstGeom>
          <a:ln w="255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6021360"/>
            <a:ext cx="2160360" cy="765360"/>
          </a:xfrm>
          <a:prstGeom prst="ellipse">
            <a:avLst/>
          </a:prstGeom>
          <a:gradFill rotWithShape="0">
            <a:gsLst>
              <a:gs pos="0">
                <a:srgbClr val="009999">
                  <a:alpha val="89019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9080" y="5661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92160" y="1504800"/>
            <a:ext cx="3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72160" y="203184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oder de 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ás dis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81080" y="1701720"/>
            <a:ext cx="2016360" cy="432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Sector Públ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08000" y="2781360"/>
            <a:ext cx="1943280" cy="43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Sector Científ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81080" y="3502080"/>
            <a:ext cx="2016360" cy="43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81080" y="4437000"/>
            <a:ext cx="2016360" cy="432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Sector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2852640"/>
            <a:ext cx="3600720" cy="1079640"/>
          </a:xfrm>
          <a:prstGeom prst="bevel">
            <a:avLst>
              <a:gd name="adj" fmla="val 6931"/>
            </a:avLst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139920"/>
            <a:ext cx="43200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3139920"/>
            <a:ext cx="43200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3139920"/>
            <a:ext cx="43164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3280" y="3139920"/>
            <a:ext cx="43200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139920"/>
            <a:ext cx="43200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943400">
            <a:off x="1763280" y="2276280"/>
            <a:ext cx="1440000" cy="215640"/>
          </a:xfrm>
          <a:prstGeom prst="leftRightArrow">
            <a:avLst>
              <a:gd name="adj1" fmla="val 50000"/>
              <a:gd name="adj2" fmla="val 132937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345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645000"/>
            <a:ext cx="1151280" cy="215640"/>
          </a:xfrm>
          <a:prstGeom prst="leftRightArrow">
            <a:avLst>
              <a:gd name="adj1" fmla="val 50000"/>
              <a:gd name="adj2" fmla="val 106283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2925720"/>
            <a:ext cx="1151280" cy="216000"/>
          </a:xfrm>
          <a:prstGeom prst="leftRightArrow">
            <a:avLst>
              <a:gd name="adj1" fmla="val 50000"/>
              <a:gd name="adj2" fmla="val 106106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741800">
            <a:off x="1834920" y="4220640"/>
            <a:ext cx="1368360" cy="216000"/>
          </a:xfrm>
          <a:prstGeom prst="leftRightArrow">
            <a:avLst>
              <a:gd name="adj1" fmla="val 50000"/>
              <a:gd name="adj2" fmla="val 126113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726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1844640"/>
            <a:ext cx="576360" cy="1081080"/>
          </a:xfrm>
          <a:custGeom>
            <a:avLst/>
            <a:gdLst>
              <a:gd name="textAreaLeft" fmla="*/ 77040 w 576360"/>
              <a:gd name="textAreaRight" fmla="*/ 499320 w 576360"/>
              <a:gd name="textAreaTop" fmla="*/ 192960 h 1081080"/>
              <a:gd name="textAreaBottom" fmla="*/ 7801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9" stAng="-5400000" swAng="5400000"/>
                <a:lnTo>
                  <a:pt x="21600" y="11731"/>
                </a:lnTo>
                <a:arcTo wR="21600" hR="7709" stAng="0" swAng="1201281"/>
                <a:lnTo>
                  <a:pt x="15114" y="19398"/>
                </a:lnTo>
                <a:lnTo>
                  <a:pt x="0" y="17429"/>
                </a:lnTo>
                <a:lnTo>
                  <a:pt x="15114" y="11056"/>
                </a:lnTo>
                <a:lnTo>
                  <a:pt x="15114" y="13216"/>
                </a:lnTo>
                <a:arcTo wR="21600" hR="7709" stAng="1201281" swAng="-870763"/>
                <a:lnTo>
                  <a:pt x="20852" y="9720"/>
                </a:lnTo>
                <a:arcTo wR="21600" hR="7709" stAng="-330518" swAng="-5069482"/>
                <a:close/>
              </a:path>
              <a:path fill="darkenLess" w="21600" h="21600">
                <a:moveTo>
                  <a:pt x="0" y="0"/>
                </a:moveTo>
                <a:arcTo wR="21600" hR="7709" stAng="-5400000" swAng="5400000"/>
                <a:lnTo>
                  <a:pt x="21600" y="11731"/>
                </a:lnTo>
                <a:arcTo wR="21600" hR="7709" stAng="0" swAng="-330518"/>
                <a:lnTo>
                  <a:pt x="20852" y="9720"/>
                </a:lnTo>
                <a:arcTo wR="21600" hR="7709" stAng="-330518" swAng="-5069482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308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344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61080" y="2205000"/>
            <a:ext cx="142560" cy="576360"/>
          </a:xfrm>
          <a:prstGeom prst="downArrow">
            <a:avLst>
              <a:gd name="adj1" fmla="val 50000"/>
              <a:gd name="adj2" fmla="val 101073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49800" y="220500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7164360" y="2708280"/>
            <a:ext cx="1728720" cy="11588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f17d0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04a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5950080"/>
            <a:ext cx="7201080" cy="7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58200" y="5084640"/>
            <a:ext cx="1368360" cy="1198800"/>
          </a:xfrm>
          <a:custGeom>
            <a:avLst/>
            <a:gdLst/>
            <a:ahLst/>
            <a:rect l="l" t="t" r="r" b="b"/>
            <a:pathLst>
              <a:path w="771" h="755">
                <a:moveTo>
                  <a:pt x="771" y="30"/>
                </a:moveTo>
                <a:cubicBezTo>
                  <a:pt x="714" y="15"/>
                  <a:pt x="658" y="0"/>
                  <a:pt x="635" y="30"/>
                </a:cubicBezTo>
                <a:cubicBezTo>
                  <a:pt x="612" y="60"/>
                  <a:pt x="665" y="174"/>
                  <a:pt x="635" y="211"/>
                </a:cubicBezTo>
                <a:cubicBezTo>
                  <a:pt x="605" y="248"/>
                  <a:pt x="483" y="226"/>
                  <a:pt x="453" y="256"/>
                </a:cubicBezTo>
                <a:cubicBezTo>
                  <a:pt x="423" y="286"/>
                  <a:pt x="483" y="362"/>
                  <a:pt x="453" y="392"/>
                </a:cubicBezTo>
                <a:cubicBezTo>
                  <a:pt x="423" y="422"/>
                  <a:pt x="302" y="408"/>
                  <a:pt x="272" y="438"/>
                </a:cubicBezTo>
                <a:cubicBezTo>
                  <a:pt x="242" y="468"/>
                  <a:pt x="302" y="544"/>
                  <a:pt x="272" y="574"/>
                </a:cubicBezTo>
                <a:cubicBezTo>
                  <a:pt x="242" y="604"/>
                  <a:pt x="135" y="589"/>
                  <a:pt x="90" y="619"/>
                </a:cubicBezTo>
                <a:cubicBezTo>
                  <a:pt x="45" y="649"/>
                  <a:pt x="15" y="732"/>
                  <a:pt x="0" y="75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284640"/>
            <a:ext cx="431640" cy="0"/>
          </a:xfrm>
          <a:prstGeom prst="line">
            <a:avLst/>
          </a:prstGeom>
          <a:ln w="38160">
            <a:solidFill>
              <a:srgbClr val="f17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418920" y="4221000"/>
            <a:ext cx="504720" cy="358920"/>
          </a:xfrm>
          <a:custGeom>
            <a:avLst/>
            <a:gdLst>
              <a:gd name="textAreaLeft" fmla="*/ 98640 w 504720"/>
              <a:gd name="textAreaRight" fmla="*/ 406080 w 504720"/>
              <a:gd name="textAreaTop" fmla="*/ 94680 h 358920"/>
              <a:gd name="textAreaBottom" fmla="*/ 2642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3995280" y="4222440"/>
            <a:ext cx="504720" cy="358920"/>
          </a:xfrm>
          <a:custGeom>
            <a:avLst/>
            <a:gdLst>
              <a:gd name="textAreaLeft" fmla="*/ 98640 w 504720"/>
              <a:gd name="textAreaRight" fmla="*/ 406080 w 504720"/>
              <a:gd name="textAreaTop" fmla="*/ 94680 h 358920"/>
              <a:gd name="textAreaBottom" fmla="*/ 2642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645080" y="4222800"/>
            <a:ext cx="504720" cy="358560"/>
          </a:xfrm>
          <a:custGeom>
            <a:avLst/>
            <a:gdLst>
              <a:gd name="textAreaLeft" fmla="*/ 98640 w 504720"/>
              <a:gd name="textAreaRight" fmla="*/ 406080 w 504720"/>
              <a:gd name="textAreaTop" fmla="*/ 94680 h 358560"/>
              <a:gd name="textAreaBottom" fmla="*/ 2638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219280" y="4222440"/>
            <a:ext cx="504720" cy="358920"/>
          </a:xfrm>
          <a:custGeom>
            <a:avLst/>
            <a:gdLst>
              <a:gd name="textAreaLeft" fmla="*/ 98640 w 504720"/>
              <a:gd name="textAreaRight" fmla="*/ 406080 w 504720"/>
              <a:gd name="textAreaTop" fmla="*/ 94680 h 358920"/>
              <a:gd name="textAreaBottom" fmla="*/ 2642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712"/>
                </a:moveTo>
                <a:lnTo>
                  <a:pt x="12633" y="5712"/>
                </a:lnTo>
                <a:lnTo>
                  <a:pt x="12633" y="0"/>
                </a:lnTo>
                <a:lnTo>
                  <a:pt x="21600" y="10800"/>
                </a:lnTo>
                <a:lnTo>
                  <a:pt x="12633" y="21600"/>
                </a:lnTo>
                <a:lnTo>
                  <a:pt x="12633" y="15888"/>
                </a:lnTo>
                <a:lnTo>
                  <a:pt x="0" y="15888"/>
                </a:lnTo>
                <a:lnTo>
                  <a:pt x="4224" y="10800"/>
                </a:lnTo>
                <a:lnTo>
                  <a:pt x="0" y="5712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166600">
            <a:off x="5076720" y="6021360"/>
            <a:ext cx="1366920" cy="287280"/>
          </a:xfrm>
          <a:custGeom>
            <a:avLst/>
            <a:gdLst>
              <a:gd name="textAreaLeft" fmla="*/ 213480 w 1366920"/>
              <a:gd name="textAreaRight" fmla="*/ 1196280 w 1366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323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166600">
            <a:off x="5062680" y="5522760"/>
            <a:ext cx="1689120" cy="252720"/>
          </a:xfrm>
          <a:custGeom>
            <a:avLst/>
            <a:gdLst>
              <a:gd name="textAreaLeft" fmla="*/ 263880 w 1689120"/>
              <a:gd name="textAreaRight" fmla="*/ 1478160 w 1689120"/>
              <a:gd name="textAreaTop" fmla="*/ 63000 h 252720"/>
              <a:gd name="textAreaBottom" fmla="*/ 189720 h 25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323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331280" y="5013360"/>
            <a:ext cx="1368360" cy="1198440"/>
          </a:xfrm>
          <a:custGeom>
            <a:avLst/>
            <a:gdLst/>
            <a:ahLst/>
            <a:rect l="l" t="t" r="r" b="b"/>
            <a:pathLst>
              <a:path w="771" h="755">
                <a:moveTo>
                  <a:pt x="771" y="30"/>
                </a:moveTo>
                <a:cubicBezTo>
                  <a:pt x="714" y="15"/>
                  <a:pt x="658" y="0"/>
                  <a:pt x="635" y="30"/>
                </a:cubicBezTo>
                <a:cubicBezTo>
                  <a:pt x="612" y="60"/>
                  <a:pt x="665" y="174"/>
                  <a:pt x="635" y="211"/>
                </a:cubicBezTo>
                <a:cubicBezTo>
                  <a:pt x="605" y="248"/>
                  <a:pt x="483" y="226"/>
                  <a:pt x="453" y="256"/>
                </a:cubicBezTo>
                <a:cubicBezTo>
                  <a:pt x="423" y="286"/>
                  <a:pt x="483" y="362"/>
                  <a:pt x="453" y="392"/>
                </a:cubicBezTo>
                <a:cubicBezTo>
                  <a:pt x="423" y="422"/>
                  <a:pt x="302" y="408"/>
                  <a:pt x="272" y="438"/>
                </a:cubicBezTo>
                <a:cubicBezTo>
                  <a:pt x="242" y="468"/>
                  <a:pt x="302" y="544"/>
                  <a:pt x="272" y="574"/>
                </a:cubicBezTo>
                <a:cubicBezTo>
                  <a:pt x="242" y="604"/>
                  <a:pt x="135" y="589"/>
                  <a:pt x="90" y="619"/>
                </a:cubicBezTo>
                <a:cubicBezTo>
                  <a:pt x="45" y="649"/>
                  <a:pt x="15" y="732"/>
                  <a:pt x="0" y="75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4760" y="18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17d09"/>
                </a:solidFill>
                <a:latin typeface="Arial"/>
              </a:rPr>
              <a:t>Los Clusters son </a:t>
            </a:r>
            <a:br>
              <a:rPr sz="3600"/>
            </a:br>
            <a:r>
              <a:rPr b="1" i="1" lang="es-AR" sz="3600" spc="-1" strike="noStrike">
                <a:solidFill>
                  <a:srgbClr val="f17d09"/>
                </a:solidFill>
                <a:latin typeface="Arial"/>
              </a:rPr>
              <a:t>“Sistemas Vivo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5736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l crecimiento de los Cluster es un proceso dinámico, org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 genera aprendizaje conti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068640"/>
            <a:ext cx="2017440" cy="316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5445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515628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429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3640" y="6237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e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3068640"/>
            <a:ext cx="2017800" cy="316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3068640"/>
            <a:ext cx="2017800" cy="316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522936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7080" y="508464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3716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2560" y="4797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5805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5661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335772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995640" y="501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131640" y="587664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95008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429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4221000"/>
            <a:ext cx="712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204720" y="4435200"/>
            <a:ext cx="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407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4437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860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5300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858920" y="4653000"/>
            <a:ext cx="289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551664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4941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501336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4653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551664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56360" y="5805360"/>
            <a:ext cx="2872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866920" y="573408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5661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5877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5560" y="393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19560" y="4221000"/>
            <a:ext cx="215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6840" y="4365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235200" y="4149720"/>
            <a:ext cx="287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6235200" y="4220640"/>
            <a:ext cx="287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523200" y="4149360"/>
            <a:ext cx="72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6428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5280" y="407844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1560" y="4510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3429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92720" y="371628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1640" y="3789360"/>
            <a:ext cx="144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61080" y="335772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0068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364500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3357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3645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3645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4221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796000" y="3357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3284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371628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000" y="566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4720" y="5805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566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5734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4724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46920" y="3068640"/>
            <a:ext cx="2017800" cy="3168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23280" y="3860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38920" y="5300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089840" y="4653000"/>
            <a:ext cx="288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23280" y="551664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4653000"/>
            <a:ext cx="215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1280" y="5516640"/>
            <a:ext cx="1429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386920" y="5805360"/>
            <a:ext cx="2872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15280" y="5877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466120" y="393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466120" y="4149720"/>
            <a:ext cx="287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466120" y="4220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753400" y="4149360"/>
            <a:ext cx="73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45480" y="407844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23280" y="3716280"/>
            <a:ext cx="35856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3789360"/>
            <a:ext cx="144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8920" y="3645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026560" y="3357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164000" y="386064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1280" y="335772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2000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451640" y="429264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07280" y="4724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40720" y="5950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8101080" y="5589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740720" y="573408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740720" y="530028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5280" y="5805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2560" y="566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4560" y="5805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28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8604360" y="4581360"/>
            <a:ext cx="144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0920" y="494172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667640" y="4292280"/>
            <a:ext cx="36036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01336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54920" y="4221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44000" y="4436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682120" y="4510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77040" y="436572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2800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9484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54920" y="3716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342900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70920" y="3429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54920" y="3284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8000" y="62373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mer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60720" y="62373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xpa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76320" y="62373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sp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68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68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998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16320" y="6783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516720" y="765000"/>
            <a:ext cx="1368360" cy="64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Restaur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urís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5445000"/>
            <a:ext cx="1512720" cy="57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df690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fraestruc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80536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irec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4870440"/>
            <a:ext cx="1439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elecomm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n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4870440"/>
            <a:ext cx="1584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Físicas -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80360" y="580536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Gobiern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Muni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2280" y="0"/>
            <a:ext cx="5565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e6b08"/>
                </a:solidFill>
                <a:latin typeface="Arial"/>
              </a:rPr>
              <a:t>EJEMPLO: CLUSTER TURISM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565360"/>
            <a:ext cx="9144000" cy="71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508640"/>
            <a:ext cx="9144000" cy="698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0" y="1268280"/>
            <a:ext cx="1944720" cy="7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df690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roducto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mercializ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3213000"/>
            <a:ext cx="1224000" cy="432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df6907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411280" y="357336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24000" y="335772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9280" y="234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59280" y="2204640"/>
            <a:ext cx="10810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611520" y="1268280"/>
            <a:ext cx="287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242100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132600" y="227664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020000" y="2923920"/>
            <a:ext cx="7308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227664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12000" y="4292640"/>
            <a:ext cx="43200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4292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365720"/>
            <a:ext cx="64764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716360" y="270792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35640" y="4365720"/>
            <a:ext cx="144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1268280"/>
            <a:ext cx="934920" cy="25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0360" y="2421000"/>
            <a:ext cx="187164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1557360"/>
            <a:ext cx="72072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59280" y="1413000"/>
            <a:ext cx="374472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80000" y="119700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56000" y="126828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771640" y="1557360"/>
            <a:ext cx="1224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916360" y="1197000"/>
            <a:ext cx="4032000" cy="36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3640" y="5229360"/>
            <a:ext cx="3240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580000" y="537336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692280"/>
            <a:ext cx="1727280" cy="865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mpres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trac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urís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35280" y="184464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genci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1773360"/>
            <a:ext cx="1368360" cy="64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Operad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urís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77080" y="177336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Vendedor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rtesan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12000" y="3789360"/>
            <a:ext cx="187308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utobuses, Tax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rrendadoras a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07280" y="2997360"/>
            <a:ext cx="1368360" cy="360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rtes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4360" y="3860640"/>
            <a:ext cx="1368360" cy="35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Restaur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8000" y="4869000"/>
            <a:ext cx="136872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scuel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5805360"/>
            <a:ext cx="136836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stitu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24360" y="5805360"/>
            <a:ext cx="136872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nvenio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Univer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789360"/>
            <a:ext cx="2089440" cy="576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Proveedor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limentos y Beb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2997360"/>
            <a:ext cx="1512720" cy="43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onstru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907920"/>
            <a:ext cx="1368720" cy="360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Hot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2854440"/>
            <a:ext cx="107928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Lín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é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2781360"/>
            <a:ext cx="1512720" cy="64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ee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spectácul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Luz y Sonido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6480" y="6583320"/>
            <a:ext cx="31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2003 Economic Transformations Group, In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21:07:21Z</dcterms:created>
  <dc:creator>Adry</dc:creator>
  <dc:description/>
  <dc:language>en-US</dc:language>
  <cp:lastModifiedBy>C.P.C.E.C.A.B.A.</cp:lastModifiedBy>
  <dcterms:modified xsi:type="dcterms:W3CDTF">2006-11-06T22:00:35Z</dcterms:modified>
  <cp:revision>146</cp:revision>
  <dc:subject/>
  <dc:title>Diapositiva 1</dc:title>
</cp:coreProperties>
</file>