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AVISO.WAV" ContentType="audio/x-wav"/>
  <Override PartName="/ppt/media/image8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11933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EF33-0F92-4A7B-AA48-DFD61E8D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E755-C9CC-41D7-9E02-51CB9A62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0AAE-366E-47C0-98E0-E88DA9FC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C9B3-5C6D-438F-8C8B-9C427053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A4380-D741-48BA-B9E9-8BCDD442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2EFF-E9D9-43BC-97F1-3E739D4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DA3F-8DF8-4ECD-A32B-EFCB3292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5AC92-2414-4386-AB18-1389B26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F8C4-D164-4867-B180-28D2A98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1D578-6554-49E9-92DD-0CAB1352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640C4-AFE4-4072-ACEF-842E883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038D-D175-4CC8-8DBC-0477A05E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8AC0C-C956-433F-B1F4-619DDE7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8526-34F3-4C5C-9A47-8E7AD17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AF4DA-01AB-4E4C-9936-2F737588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DC0A8-461F-4438-9BF1-D89BFF1A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9B90D-75FF-4F1B-9F2B-1B4D7B14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ABB0-D823-4340-A704-2DB1DC98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BBA6-3E07-49CD-8C12-B20CE624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0112-5B19-46A1-854F-4E46F46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9D8B-02A9-473B-86BE-B83D659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D769-75E7-4449-A2A9-C9239B4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3D46-4EFD-4E37-B594-75E9DCCA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7651-A7F1-4637-A02E-A8D68FA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838080"/>
            <a:ext cx="8523360" cy="76320"/>
            <a:chOff x="620640" y="838080"/>
            <a:chExt cx="8523360" cy="76320"/>
          </a:xfrm>
        </p:grpSpPr>
        <p:sp>
          <p:nvSpPr>
            <p:cNvPr id="2" name=""/>
            <p:cNvSpPr/>
            <p:nvPr/>
          </p:nvSpPr>
          <p:spPr>
            <a:xfrm>
              <a:off x="620640" y="91440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83808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B2D0-D1DD-4A38-8D3C-836ABBAF9CA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3DEC-B2E4-46C9-A55F-8BD67485AD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20570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0" lang="es-ES" sz="3600" spc="-1" strike="noStrike">
                <a:solidFill>
                  <a:srgbClr val="ffcc66"/>
                </a:solidFill>
                <a:latin typeface="Garamond"/>
              </a:rPr>
              <a:t>“</a:t>
            </a:r>
            <a:r>
              <a:rPr b="0" lang="es-ES" sz="3600" spc="-1" strike="noStrike">
                <a:solidFill>
                  <a:srgbClr val="ffcc66"/>
                </a:solidFill>
                <a:latin typeface="Garamond"/>
              </a:rPr>
              <a:t>Evolución de los determinantes directos e indirectos de la capacidad contributiva del sistema tributario argentino en la post-convertibilidad”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Lic. Cristian Mód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ffffff"/>
                </a:solidFill>
                <a:latin typeface="Arial"/>
              </a:rPr>
              <a:t>MECON - UN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° Simposio sobre Legislación Tributaria Argentina - CPCEC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Junio de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04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848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Evolución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del í</a:t>
            </a: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ndice de renta per cápita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143000"/>
          <a:ext cx="792504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914400" y="601992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CLAC, MECON, DN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Evolución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del í</a:t>
            </a: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ndice de Ingresos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alaria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les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19040" y="1219320"/>
          <a:ext cx="830592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219320"/>
                    <a:ext cx="830592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3520" y="624852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INDEC, ME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volución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del í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ndice del Valor Agregado Total y sectorial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219320"/>
          <a:ext cx="8534160" cy="38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53416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0880" y="5257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DNCN, ME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Ganancias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ocietaria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Agroindustrial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432080"/>
          <a:ext cx="8229600" cy="42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32080"/>
                    <a:ext cx="822960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85800" y="571500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Ganancias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ocietaria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Petróleo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19040" y="1519200"/>
          <a:ext cx="8305920" cy="38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519200"/>
                    <a:ext cx="830592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480" y="54100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Ganancias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ocietaria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Manufactura Industrial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1450800"/>
          <a:ext cx="8153640" cy="416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0800"/>
                    <a:ext cx="815364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09480" y="556272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Ganancias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ocietaria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Construcción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23960" y="1268280"/>
          <a:ext cx="7696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68280"/>
                    <a:ext cx="7696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09480" y="556272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Ganancias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ocietaria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Comercio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1301760"/>
          <a:ext cx="807696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01760"/>
                    <a:ext cx="807696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533520" y="5943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Ganancias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societaria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Servicios (sin financieros)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397160"/>
          <a:ext cx="822960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97160"/>
                    <a:ext cx="82296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33520" y="5943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patrimonial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Agroindustrial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392120"/>
          <a:ext cx="8458200" cy="43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92120"/>
                    <a:ext cx="84582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57200" y="579132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197000"/>
            <a:ext cx="8209080" cy="5111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0292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emas a desarrollar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9944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reve caracterización del contexto externo del periodo 2002-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cripción del ambiente local: contexto y polí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errogantes e hipó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rco teó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ción de indicadores dire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dicadores indire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incipale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flexiones F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patrimonial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Petróleo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1371600"/>
          <a:ext cx="807696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7696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33520" y="624852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patrimonial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Manufactura Industrial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09480" y="1241280"/>
          <a:ext cx="7925040" cy="437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1280"/>
                    <a:ext cx="79250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33520" y="556272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patrimonial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Construcción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09480" y="1295280"/>
          <a:ext cx="8215560" cy="43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21556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33520" y="556272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patrimonial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Comercio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9480" y="1600200"/>
          <a:ext cx="812340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234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09480" y="601992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patrimonial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Sector Servicios (sin financieros)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0280" y="1371600"/>
          <a:ext cx="8082000" cy="44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371600"/>
                    <a:ext cx="808200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57200" y="579132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Elaboración propia en base a Balances Public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637000"/>
            <a:ext cx="739152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66"/>
                </a:solidFill>
                <a:latin typeface="Times New Roman"/>
              </a:rPr>
              <a:t>Indicadores Indirectos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341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Evolución del </a:t>
            </a: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índice de </a:t>
            </a: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consumo privado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09480" y="1371600"/>
          <a:ext cx="815364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153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601992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DNCN, ME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l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Valor Agregado Bruto Geográfico 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1447920"/>
          <a:ext cx="853452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534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57200" y="556272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Institutos de Estadísticas Provincia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1676520"/>
            <a:ext cx="7924680" cy="4038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Evolución de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l índice de</a:t>
            </a:r>
            <a:r>
              <a:rPr b="0" lang="es-ES" sz="3200" spc="-1" strike="noStrike">
                <a:solidFill>
                  <a:srgbClr val="ffcc66"/>
                </a:solidFill>
                <a:latin typeface="Times New Roman"/>
              </a:rPr>
              <a:t> recaudación de ganancia societaria por sector económico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66760" y="1371600"/>
          <a:ext cx="86104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371600"/>
                    <a:ext cx="8610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248520" y="5715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DNCN, ME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396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nte: AFIP, Anuario estadí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6858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Principales resultad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80880" algn="just"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olución positiva de todos los indic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80880" algn="just"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ortante heterogeneidad sectorial (sectores transables vs. No transabl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80880" algn="just"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gnificativa heterogeneidad geográfica (provincias vs. N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80880" algn="just"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terogeneidad funcional (trabajo vs. Capit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80880" algn="just"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terogeneidad temp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676520"/>
            <a:ext cx="7924680" cy="4038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0292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ntexto Externo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evados niveles de precios de las commod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tas y generalizadas tasas de crecimie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preciación del dó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Reflexiones final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797040" indent="-442800" algn="just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ondiciones de base diferenciales </a:t>
            </a:r>
            <a:r>
              <a:rPr b="0" lang="es-ES" sz="2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trayectorias dispares </a:t>
            </a:r>
            <a:r>
              <a:rPr b="0" lang="es-ES" sz="2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resultados distin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442800" algn="just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salida de la convertibilidad y la fuerte recuperación del  Producto condujo a una fuerte transferencia de ingresos (sectorial y funcional) en la sociedad con la consecuente modificación de las capacidades económicas, manifestadas en sus principales indicad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442800" algn="just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 resumen, se observa que “a mayor agregación en el tratamiento de los tributos,  m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 dispar resulta la  consideración de la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real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pacidad contributiva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29527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1676520"/>
            <a:ext cx="7924680" cy="4560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4572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ntexto nacional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mbio de precios rel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versión del proceso de crisis de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icio de un proceso de sustitución de importac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po de cambio favorable a las exportaciones (nominal y re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evados niveles de crecimiento del PIB con caída del nivel de desempl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676520"/>
            <a:ext cx="7924680" cy="463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Principales lineamientos de la política económica nacional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po de cambio nominal y real alto: superávit comer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ostenimiento del superávit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lítica de subsidio a “la oferta” y “demanda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ipo de interés real neg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Regulación de precios en mercados sensibles a la canasta famili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676520"/>
            <a:ext cx="7924680" cy="4038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03848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Interrogant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¿Cómo evolucionaron los principales indicadores de la capacidad económica luego de la convertibilidad en Argenti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676520"/>
            <a:ext cx="7924680" cy="4038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59436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ipótesis de trabajo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contexto externo y los cambios internos, motivados por la política económica local, provocaron impactos sobre las empresas y familias de dispar dirección e intensidad. En algunos casos potenciando efectos y en otros, equilibrando resul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143000"/>
            <a:ext cx="8839080" cy="5181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Marco teórico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lvl="2" marL="247320" algn="just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n la actualidad la mayoría de las doctrinas consideran que la capacidad contributiva tiene su origen en la capacidad económica del contribuyente y no en el beneficio o “goce” de los servicios públ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ntre los índices que aporta la ciencia económica para “exteriorizar” las “capacidades” se encuentra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ta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atrimonio Ne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Gasto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Incrementos patrimon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Incrementos de valor del Patrimon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os “signos” permiten determinar la capacidad económica “presupone” capacidad contributiva pero NO coincide totalmente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47320" algn="just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instalación de este principio en los sistemas tributarios tuvo por objeto evitar privilegios hacia determinados suje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47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191120"/>
            <a:ext cx="457200" cy="144756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0481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00400"/>
            <a:ext cx="2286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ue, Gerloff, Steve, Giardina, Manzoni, Neu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637000"/>
            <a:ext cx="739152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66"/>
                </a:solidFill>
                <a:latin typeface="Times New Roman"/>
              </a:rPr>
              <a:t>Indicadores Directos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4572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6:48:53Z</dcterms:created>
  <dc:creator>bILL</dc:creator>
  <dc:description/>
  <dc:language>en-US</dc:language>
  <cp:lastModifiedBy>Administrator</cp:lastModifiedBy>
  <cp:lastPrinted>2003-11-12T19:31:34Z</cp:lastPrinted>
  <dcterms:modified xsi:type="dcterms:W3CDTF">2007-06-28T07:58:40Z</dcterms:modified>
  <cp:revision>85</cp:revision>
  <dc:subject/>
  <dc:title> Programa “Sistema Metropolitano Gran Rosario”</dc:title>
</cp:coreProperties>
</file>