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B9E-114D-401F-80D0-9D3C95FC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0A5-46F9-433F-8BAB-23CB5D8B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C28-511B-449F-A384-144BEE24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84B8-F441-41F2-9D52-AF6DDC42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A5AB-1690-4C6A-AF18-10F2791B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E5A-EA96-4C5D-9D3B-2C3A3F81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4FF-4B10-41DB-B5C0-F5052670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90E-4F17-438C-85D8-2C25CAFD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212-C76B-45FE-B07E-2DB886A1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56B-DF0A-49E3-A47F-CA28D10D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425-0E1B-4455-A718-852CBB50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53F9-C0AF-4A16-A1EA-2EFCA4AA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8B1B-E5DA-4005-B45D-4F9C42865C1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74920" y="1700280"/>
            <a:ext cx="6769080" cy="43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NUEVOS PARADIGMAS DE LA ADMINISTRACIÓN FRENTE A LA CRISI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pt-BR" sz="3200" spc="-1" strike="noStrike">
                <a:solidFill>
                  <a:srgbClr val="333399"/>
                </a:solidFill>
                <a:latin typeface="Arial"/>
              </a:rPr>
              <a:t>NOVOS PARADIGMAS DA ADMINISTRAÇÃO FRENTE A CRI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Adm. Valter Luiz de Le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Past Presidente da 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vlemos7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03280" y="1125360"/>
            <a:ext cx="7489800" cy="40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er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stentabilida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  ordem econômica deverá observar a defesa do meio ambiente, inclusive mediante tratamento diferenciado, conforme o impacto ambiental dos produtos e serviços e de seus processos de elaboração e prestaçã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odos têm direito ao meio ambiente ecologicamente equilibrado, bem de uso comum do povo e essencial à sadia qualidade de vida, impondo-se ao poder público e à coletividade o dever de defendê-lo e preservá-lo para as presentes e futuras geraçõ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6560" y="476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Arial"/>
              </a:rPr>
              <a:t>MED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1619280" y="5157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3794"/>
                </a:moveTo>
                <a:lnTo>
                  <a:pt x="22469" y="10800"/>
                </a:lnTo>
                <a:lnTo>
                  <a:pt x="84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84360" y="52228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ídeo sobre Meio 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47640" y="278136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Arial"/>
              </a:rPr>
              <a:t>Muito Obrigado e um feliz dia do Administrador para todo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522288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. Valter Luiz de Lemos – vlemos7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74920" y="476280"/>
            <a:ext cx="676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INTRODU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O tema que me pedem, além de instigante é ao mesmo tem bastante difícil por exigir habilidades conceituais de percepção e de definição de situações para equacionar estratégias de ação adequadas e eficazes para situações de Cri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74920" y="1828800"/>
            <a:ext cx="676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Paradigm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Padrão, modelo; idéia ou pensar deduzido, capaz de fixar-se de forma determinante e, até, de permanecer para sempre na mente das pesso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4920" y="4762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32000" y="2421000"/>
            <a:ext cx="2160360" cy="107928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rlin Sans FB"/>
              </a:rPr>
              <a:t>19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Primeira Gu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Mund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2421000"/>
            <a:ext cx="2160720" cy="107928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erlin Sans FB"/>
              </a:rPr>
              <a:t>1929-19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                  “</a:t>
            </a: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Crash” da Bolsa de 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Grande depres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3280" y="2421000"/>
            <a:ext cx="2160720" cy="107928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erlin Sans FB"/>
              </a:rPr>
              <a:t>1939-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Segunda Guer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00720" y="2421000"/>
            <a:ext cx="2160720" cy="107928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erlin Sans FB"/>
              </a:rPr>
              <a:t>19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Primeiro Cho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do petró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4005360"/>
            <a:ext cx="2160360" cy="107928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rlin Sans FB"/>
              </a:rPr>
              <a:t>1979-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Guerra Irã e Iraque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Segundo Cho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do Petról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7640" y="4005360"/>
            <a:ext cx="2160720" cy="107928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erlin Sans FB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Guerra do Gol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005360"/>
            <a:ext cx="2160720" cy="107928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erlin Sans FB"/>
              </a:rPr>
              <a:t>2000-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Atentados Terr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11 de setemb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4005360"/>
            <a:ext cx="2160720" cy="107928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erlin Sans FB"/>
              </a:rPr>
              <a:t>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Crise financeira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423280" y="364500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9280" y="16970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00 Anos de C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6560" y="476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Arial"/>
              </a:rPr>
              <a:t>CONTEXTUALIZ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8560" y="2678040"/>
            <a:ext cx="7345440" cy="3272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16360" y="18302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s estragos da Crise A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6560" y="476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Arial"/>
              </a:rPr>
              <a:t>CONTEXTUALIZ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19280" y="184464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feitos da Crise no Orçamento Público (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00280" y="476280"/>
            <a:ext cx="69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Arial"/>
              </a:rPr>
              <a:t>CONTEXTUALIZ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76360" y="2727360"/>
          <a:ext cx="7272360" cy="2601720"/>
        </p:xfrm>
        <a:graphic>
          <a:graphicData uri="http://schemas.openxmlformats.org/drawingml/2006/table">
            <a:tbl>
              <a:tblPr/>
              <a:tblGrid>
                <a:gridCol w="1519200"/>
                <a:gridCol w="1114560"/>
                <a:gridCol w="1047600"/>
                <a:gridCol w="1197000"/>
                <a:gridCol w="239400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pecif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l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l/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ferenç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sc. e Queda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e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7,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1,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) 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)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p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6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9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,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35280" y="1844640"/>
            <a:ext cx="7057800" cy="43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axa de Desemprego (B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esmo sob os efeitos da crise, a taxa de desemprego no Brasil situa-se 8,1% em junho de 2009. Em setembro de 2008 a taxa era de 7,6% (1,8 milhão de desempregad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nstata-se crescimento, em relação a setembro de 2008, de 6,17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6560" y="476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Arial"/>
              </a:rPr>
              <a:t>CONTEXTUALIZ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03280" y="1341360"/>
            <a:ext cx="7489800" cy="56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ov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No curto e médio praz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dução da taxa oficial de Jur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oneração de Impostos sobre determinado produto ou cadeia de produtos que mais afetam a econom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ferta de crédi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stímulo à inovação tecnológica (Subvenção econômica – direto nas empresa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omar ou voltar a discutir os acordos internacion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6560" y="476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Arial"/>
              </a:rPr>
              <a:t>MED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03280" y="1400040"/>
            <a:ext cx="7489800" cy="60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mp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No curto e médio praz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visão do Mapa Estratégico das empresas frente ao novo mo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definir prior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justar a política de Recursos Hu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elhorar as ações de comunicação in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eocupação com o Operacional e com o Caixa d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utenção da prudência, sem perder de vista as oportun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vestir em Inovação, de processos e/ou prod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6560" y="476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Arial"/>
              </a:rPr>
              <a:t>MED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7:16:25Z</dcterms:created>
  <dc:creator>Tiago</dc:creator>
  <dc:description/>
  <dc:language>en-US</dc:language>
  <cp:lastModifiedBy>C.P.C.E.C.A.B.A</cp:lastModifiedBy>
  <dcterms:modified xsi:type="dcterms:W3CDTF">2009-09-24T16:27:22Z</dcterms:modified>
  <cp:revision>12</cp:revision>
  <dc:subject/>
  <dc:title>Slide 1</dc:title>
</cp:coreProperties>
</file>