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LATIGO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5693-A814-4DFE-954C-466D1E546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1163-48BE-4163-B8F4-0CAE65328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201C3-B0C5-4FEA-B2C4-24B4773EE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A2E94-4A8A-4230-BBD3-3DF7D086F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DCFE8-1349-469E-918A-14E44B90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48024-7BA7-4BCA-BE9D-07509F53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1DBF3-1EBE-4ACD-8181-20219047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0A373-89A5-440D-9AC6-5815D2DA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17078-B482-4315-9A76-DCD750C4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C226A-A9F0-432C-B96B-E84D65BB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763C2-B607-4FF8-A043-9BB3C6CE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AAA05-257D-4ECF-B915-B34C5A814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E3586-77F7-4E41-8FBD-FC508862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1BDC2-4725-4907-9B48-9722245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4D282-DB04-4738-9B0D-673B1CF5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0D6D6-BBFB-4708-8C7E-EE05868F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302E9-459A-4697-90E3-212344E8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FEC1-6C2B-4F13-AF02-04CEE4ABB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F4A41-FCF1-4C82-976B-13FFFE181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8691-8E61-441B-ADE5-596EF3E9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474C1-EC85-4FC2-9CA8-85DA24B0F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9CC3E-B87B-4918-B123-65CBE5B97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A8B2-2A31-42CC-A3D1-6A054CEB6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FE7F-3BCE-4A76-B63C-93315BABC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8924-60CC-4B13-A7BE-39BCB1B78B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A5B6-51B2-4545-9013-0A2E79EF017B}" type="datetime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C06B-B772-4247-88D8-44B59D12CB3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audio" Target="../media/LATIGO.WAV"/><Relationship Id="rId9" Type="http://schemas.openxmlformats.org/officeDocument/2006/relationships/audio" Target="../media/LATIGO.WAV"/><Relationship Id="rId10" Type="http://schemas.openxmlformats.org/officeDocument/2006/relationships/audio" Target="../media/LATIGO.WAV"/><Relationship Id="rId11" Type="http://schemas.openxmlformats.org/officeDocument/2006/relationships/audio" Target="../media/LATIGO.WAV"/><Relationship Id="rId12" Type="http://schemas.openxmlformats.org/officeDocument/2006/relationships/audio" Target="../media/LATIGO.WAV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audio" Target="../media/LATIGO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audio" Target="../media/LATIGO.WAV"/><Relationship Id="rId3" Type="http://schemas.openxmlformats.org/officeDocument/2006/relationships/audio" Target="../media/LATIGO.WAV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Tahoma"/>
              </a:rPr>
              <a:t>ESTRATEGIAS COMPETITIVAS </a:t>
            </a:r>
            <a:r>
              <a:rPr b="0" lang="es-AR" sz="4000" spc="-1" strike="noStrike">
                <a:solidFill>
                  <a:srgbClr val="ff9900"/>
                </a:solidFill>
                <a:latin typeface="Tahoma"/>
              </a:rPr>
              <a:t>PARA </a:t>
            </a:r>
            <a:r>
              <a:rPr b="0" lang="es-ES" sz="4000" spc="-1" strike="noStrike">
                <a:solidFill>
                  <a:srgbClr val="ff9900"/>
                </a:solidFill>
                <a:latin typeface="Tahoma"/>
              </a:rPr>
              <a:t>SEGMENTOS MERCADO C2, C3 Y D1</a:t>
            </a:r>
            <a:br>
              <a:rPr sz="4000"/>
            </a:br>
            <a:r>
              <a:rPr b="0" lang="es-ES" sz="4000" spc="-1" strike="noStrike">
                <a:solidFill>
                  <a:srgbClr val="ffff66"/>
                </a:solidFill>
                <a:latin typeface="Tahoma"/>
              </a:rPr>
              <a:t>Segmentos Socio-económicos de Clases Media y Baja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4076640"/>
            <a:ext cx="5410080" cy="278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NORBERTO  J.  NOGU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OGUERA  &amp;  A</a:t>
            </a:r>
            <a:r>
              <a:rPr b="1" i="1" lang="es-AR" sz="2800" spc="-1" strike="noStrike">
                <a:solidFill>
                  <a:srgbClr val="ffffff"/>
                </a:solidFill>
                <a:latin typeface="Times New Roman"/>
              </a:rPr>
              <a:t>SOCIADOS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Consultores de Dire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Buenos Aires - Argen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66"/>
                </a:solidFill>
                <a:latin typeface="Tahoma"/>
              </a:rPr>
              <a:t>nnoguera@consejo.org.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1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75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Conclusión Prev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9960" y="3200400"/>
            <a:ext cx="7789680" cy="27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66"/>
                </a:solidFill>
                <a:latin typeface="Tahoma"/>
              </a:rPr>
              <a:t>Las empresas no poseen el expertise adecuado para llegar eficazmente a vender sus productos y/o servicios en los barrios populares</a:t>
            </a:r>
            <a:r>
              <a:rPr b="1" i="1" lang="es-AR" sz="28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CA80-A14D-48D9-BA1B-BCC61CC608AD}" type="slidenum">
              <a:t>10</a:t>
            </a:fld>
          </a:p>
        </p:txBody>
      </p:sp>
    </p:spTree>
  </p:cSld>
  <p:transition spd="med"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7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7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NEGOCIO INTELIGENT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9000"/>
            <a:ext cx="87631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sencia activa de estrategia sólidamente asentada sobre tecnologías actualizadas, orientado hacia una política competitiv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tá relacionado con la revolución del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Requiere del conocimiento para generar una capacidad para desarrollar nuevas </a:t>
            </a:r>
            <a:r>
              <a:rPr b="1" i="1" lang="es-ES" sz="2400" spc="-1" strike="noStrike">
                <a:solidFill>
                  <a:srgbClr val="ffffff"/>
                </a:solidFill>
                <a:latin typeface="Tahoma"/>
              </a:rPr>
              <a:t>competencias esenciales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abe transformar su información en intelig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Quien no sabe hacerlo -o lo hace mal- se autocondena a un fracaso asegu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3432-AA81-4462-9FF5-82462BF1FAF3}" type="slidenum">
              <a:t>11</a:t>
            </a:fld>
          </a:p>
        </p:txBody>
      </p:sp>
    </p:spTree>
  </p:cSld>
  <p:transition spd="med">
    <p:wipe dir="r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PENSAMIENTO ESTRATEGIC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2060280"/>
            <a:ext cx="876312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ahoma"/>
              </a:rPr>
              <a:t>La originalidad es menos importante que la habilidad para sintetizar los problemas que ya exist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ahoma"/>
              </a:rPr>
              <a:t>Tener claridad sobre aquello que es mejor y los compromisos generados por los distintos enfoqu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ahoma"/>
              </a:rPr>
              <a:t>Devolver el centro de la estrategia donde debe estar, teniendo como punto de referencia las complejas realidades del negoc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14539-6CD7-4531-9539-78F97E93EE11}" type="slidenum">
              <a:t>12</a:t>
            </a:fld>
          </a:p>
        </p:txBody>
      </p:sp>
    </p:spTree>
  </p:cSld>
  <p:transition spd="med">
    <p:wipe dir="r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0240" y="476280"/>
            <a:ext cx="8421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SEGMENTACION DE LOS MERCAD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5640" y="2923920"/>
            <a:ext cx="72010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ividir la demanda en grupos uniformes más pequeños que tengan características y necesidades semej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2992-0FBA-4747-A1C0-FB4D23941F54}" type="slidenum">
              <a:t>13</a:t>
            </a:fld>
          </a:p>
        </p:txBody>
      </p:sp>
    </p:spTree>
  </p:cSld>
  <p:transition spd="med">
    <p:wipe dir="r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421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SEGMENTACION DE LOS MERCADOS: BENEFICI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15920"/>
            <a:ext cx="876312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Facilita la identificación de necesidades de clientes dentro de un grupo y el diseño de la mezcla de marketing para satisfacerl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Más rápido crecimiento de Pymes si obtienen posición sólida en segmentos especializad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Facilita la creación de oferta más afinada, estableciendo el precio apropiado para el público objetiv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Facilita la selección de canales de distribución y comunicació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nfrenta a menos competid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Genera nuevas oportunidades de crecimiento, obteniendo ventajas competitivas sustentabl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B65D-13F6-442B-B1DE-A8AAC9880AC2}" type="slidenum">
              <a:t>14</a:t>
            </a:fld>
          </a:p>
        </p:txBody>
      </p:sp>
    </p:spTree>
  </p:cSld>
  <p:transition spd="med">
    <p:wipe dir="r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0240" y="476280"/>
            <a:ext cx="8421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SEGMENTO DE MERCAD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420640"/>
            <a:ext cx="793620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rupo relativamente grande y homogéneo de consumidores que pueden identificarse en un mercado, tienen deseos, poder de compra, ubicación geográfica, actitudes o hábitos de compra similares y reaccionarán de modo parecido ante una mezcla de marke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BCDA-E013-4CB3-A5E4-2595506550FB}" type="slidenum">
              <a:t>15</a:t>
            </a:fld>
          </a:p>
        </p:txBody>
      </p:sp>
    </p:spTree>
  </p:cSld>
  <p:transition spd="med"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0240" y="476280"/>
            <a:ext cx="8421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SEGMENTOS DE MERCADO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EN AMERICA LATIN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00360" y="2420640"/>
            <a:ext cx="5616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BC1:    5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2: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15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3: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25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1: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25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2: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30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B1A2-899E-497D-97D4-897DD56E2FD6}" type="slidenum">
              <a:t>16</a:t>
            </a:fld>
          </a:p>
        </p:txBody>
      </p:sp>
    </p:spTree>
  </p:cSld>
  <p:transition spd="med">
    <p:wipe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VALORES OBSERVADOS EN LOS SEGMENTOS DE MERCADO C2/3 Y D1/2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15920"/>
            <a:ext cx="876312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Mayor valoración de la contención que ejercen sus interlocutores: reaccionan muy favorablemente hacia la calidez, muy meritoria, en un contexto tradicionalmente hosti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El precio deja de tener preponderancia, en oportunidad de la decisión de compra, en la medida que pueda pagar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Bajos índices de morosidad e incobrabilidad de los créditos personal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Traslado de lealtades: de las marcas al personal de contacto de los comercio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67DA-8677-45C0-9F24-D9F34FC22FF0}" type="slidenum">
              <a:t>17</a:t>
            </a:fld>
          </a:p>
        </p:txBody>
      </p:sp>
    </p:spTree>
  </p:cSld>
  <p:transition spd="med">
    <p:wipe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ff"/>
                </a:solidFill>
                <a:latin typeface="Tahoma"/>
              </a:rPr>
              <a:t>ESTRATEGIAS DE DIFERENCIACION EN LOS SEGMENTOS MERCADOS C2, C3 Y D1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60640"/>
            <a:ext cx="843912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ahoma"/>
              </a:rPr>
              <a:t>La exaltación de las lealtades personales, aunada a una efectiva calidez de atención, junto con la capacidad de fondeo suficiente que permitan el diseño de planes de financiación accesibles a las posibilidades de pago, nos propone atractivas oportunidades para la formulación de estrategias diferenciadas para cada uno de estos segmentos de mercado, fundadas en el desarrollo y formación del capital humano, para capitalizar las características del clie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DF231-0CD3-4518-9BBC-BFD2E8F6F21D}" type="slidenum">
              <a:t>18</a:t>
            </a:fld>
          </a:p>
        </p:txBody>
      </p:sp>
    </p:spTree>
  </p:cSld>
  <p:transition spd="med">
    <p:wipe dir="r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OFERTA FLEXIBL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7631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olución que conste de elementos del producto y/o servicios que todos los miembros de un segmento de mercado valor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sociado a opciones que sólo algunos miembros del segmento valor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ada opción implicará una diferenciación, con cargos adicionales en la determinación de precios, que incrementará sensiblemente el margen de contribución de cada transa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479F-07B4-4C81-98F2-C68D25E73C47}" type="slidenum">
              <a:t>19</a:t>
            </a:fld>
          </a:p>
        </p:txBody>
      </p:sp>
    </p:spTree>
  </p:cSld>
  <p:transition spd="med">
    <p:wipe dir="r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EL DESAFÍO DE ESPECIALIZARNOS EN LOS SEGMENTOS SOCIO-ECONÓMICOS DE CLASES MEDIA Y BAJ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82231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1998 – Convocatoria Nuevo Cliente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1999 – Devaluación en Bra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2000/01 – Crisis por Venir en Argentina y Uruguay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2001/02 – Núcleo de la Crisis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2002/03 – Post Crisis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ragmentación de los Mercados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2008/09 – Crisis Glob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79AB-56BE-4AE1-9851-F6193743CB62}" type="slidenum">
              <a:t>2</a:t>
            </a:fld>
          </a:p>
        </p:txBody>
      </p:sp>
    </p:spTree>
  </p:cSld>
  <p:transition spd="med"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0240" y="609120"/>
            <a:ext cx="842148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CLUSTERIZAC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Modificaciones en las estrategias de nego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Segmentación de oferta comercial para ajustarla a las necesidades y poder adquisitivo de cada tipología de consumid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Estrategia posible: Organizar diversos clusters, en distintos nive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Colaboración cadenas minoristas y provee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Diseño de materiales de exhibición y mue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ahoma"/>
              </a:rPr>
              <a:t>Comunicación especial para cada c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F406-185D-4FDC-B588-9C3B9EF5CBE9}" type="slidenum">
              <a:t>20</a:t>
            </a:fld>
          </a:p>
        </p:txBody>
      </p:sp>
    </p:spTree>
  </p:cSld>
  <p:transition spd="med">
    <p:wipe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DEBILIDADES DEL MANAGE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76312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ahoma"/>
              </a:rPr>
              <a:t>Origen de los planes de estudios de Universidades y Escuelas de Negoci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ahoma"/>
              </a:rPr>
              <a:t>En el mundo desarrollado la participación de los segmentos de mercado ABC1, es determinant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ahoma"/>
              </a:rPr>
              <a:t>Los consultores y gerentes nos formamos en esas Institucion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ahoma"/>
              </a:rPr>
              <a:t>Carencia de prestigio de quienes nos ocupamos de colaborar en la formulación de estrategias para los segmentos socioeconómicos de clases medias y baja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ahoma"/>
              </a:rPr>
              <a:t>Fracasos estratégico en el posicionamiento en estos segmentos socioeconómic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32D34-FD25-4987-B77D-C88EC6362908}" type="slidenum">
              <a:t>21</a:t>
            </a:fld>
          </a:p>
        </p:txBody>
      </p:sp>
    </p:spTree>
  </p:cSld>
  <p:transition spd="med">
    <p:wipe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4978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67920"/>
            <a:ext cx="8763120" cy="468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Los consumidores son los únicos que marcan el paso del consumo masiv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Todas las estrategias competitivas exitosas fueron formuladas para captar el segmento de mercado ABC1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Existen atrayentes oportunidades para la formulación e implementación de estrategias competitivas para los segmentos de mercado C2/3 y D1/2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Sólo existen minúsculos grupos de capital humano, formado profesionalmente, que piense estratégicamente y posea el expertise necesario para usufructuar este contexto favorab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05AC-EC6C-4028-9C3F-B7B7369AF2FB}" type="slidenum">
              <a:t>22</a:t>
            </a:fld>
          </a:p>
        </p:txBody>
      </p:sp>
    </p:spTree>
  </p:cSld>
  <p:transition spd="med">
    <p:wipe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699920"/>
            <a:ext cx="876312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Sólo quienes encuentren la fórmula adecuada para captar en forma creativa -pero racional- esa demanda de los grandes conglomerados poblacionales podrán obtener los más elevados índices de rentabilidad, tanto en contextos económicos de auge, como de crisi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Las Universidades y Escuelas de Negocios prioritariamente deberán ocuparse de la formación profesional del capital humano cuya misión sea formular -de modo innovador y creativo- e implementar -de manera efectiva- las estrategias conducentes a dicho objetivo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C4A3-391C-4AD7-9E5B-E188796A01AB}" type="slidenum">
              <a:t>23</a:t>
            </a:fld>
          </a:p>
        </p:txBody>
      </p:sp>
    </p:spTree>
  </p:cSld>
  <p:transition spd="med">
    <p:wipe dir="r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ORGANIZACIONES EXITOSAS EN EL SIGLO XXI EN AMERICA LATIN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69960" y="2895120"/>
            <a:ext cx="7934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ofundamente creativ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n personas talentosas y valient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ispuestas a intentar cosas nuevas, correr riesgos e ir a lugares que desconoc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antener conexiones eficaces con la economía glob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ara tomar lo mejor que se pueda encontr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107A-C561-494E-991D-1A1A150406A0}" type="slidenum">
              <a:t>24</a:t>
            </a:fld>
          </a:p>
        </p:txBody>
      </p:sp>
    </p:spTree>
  </p:cSld>
  <p:transition spd="med">
    <p:wipe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05264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Reflexió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69960" y="3068640"/>
            <a:ext cx="7431120" cy="292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66"/>
                </a:solidFill>
                <a:latin typeface="Tahoma"/>
              </a:rPr>
              <a:t>En un contexto dinámico, cambiante e impredecible sólo ganan quienes estén dispuestos a reescribir periódicamente las reglas de juego, tanto de su empresa, como de su industria</a:t>
            </a:r>
            <a:r>
              <a:rPr b="1" i="1" lang="es-AR" sz="28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0F78-81B7-4F37-93B7-2691C43FAE0B}" type="slidenum">
              <a:t>25</a:t>
            </a:fld>
          </a:p>
        </p:txBody>
      </p:sp>
    </p:spTree>
  </p:cSld>
  <p:transition spd="med">
    <p:wipe dir="r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75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¡¡¡ Muchísimas Gracias !!!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69960" y="3124080"/>
            <a:ext cx="595944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estar presentes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soportar esta presentación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sus inquietudes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or las preguntas que realizarán</a:t>
            </a:r>
            <a:r>
              <a:rPr b="0" lang="es-A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4BA7-B86B-4B9A-8758-2EFFDA57005E}" type="slidenum">
              <a:t>26</a:t>
            </a:fld>
          </a:p>
        </p:txBody>
      </p:sp>
    </p:spTree>
  </p:cSld>
  <p:transition spd="med">
    <p:wipe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3640" y="836640"/>
            <a:ext cx="856908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9900"/>
                </a:solidFill>
                <a:latin typeface="Tahoma"/>
              </a:rPr>
              <a:t>ESTRATEGIAS COMPETITIVAS </a:t>
            </a:r>
            <a:r>
              <a:rPr b="0" lang="es-AR" sz="4000" spc="-1" strike="noStrike">
                <a:solidFill>
                  <a:srgbClr val="ff9900"/>
                </a:solidFill>
                <a:latin typeface="Tahoma"/>
              </a:rPr>
              <a:t>PARA </a:t>
            </a:r>
            <a:r>
              <a:rPr b="0" lang="es-ES" sz="4000" spc="-1" strike="noStrike">
                <a:solidFill>
                  <a:srgbClr val="ff9900"/>
                </a:solidFill>
                <a:latin typeface="Tahoma"/>
              </a:rPr>
              <a:t>SEGMENTOS MERCADO C2, C3 Y D1</a:t>
            </a:r>
            <a:br>
              <a:rPr sz="4000"/>
            </a:br>
            <a:r>
              <a:rPr b="0" lang="es-ES" sz="4000" spc="-1" strike="noStrike">
                <a:solidFill>
                  <a:srgbClr val="ffff66"/>
                </a:solidFill>
                <a:latin typeface="Tahoma"/>
              </a:rPr>
              <a:t>Segmentos Socio-económicos de Clases Media y Baja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4149360"/>
            <a:ext cx="5410080" cy="27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NORBERTO  J.  NOGU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OGUERA  &amp;  A</a:t>
            </a:r>
            <a:r>
              <a:rPr b="1" i="1" lang="es-AR" sz="2800" spc="-1" strike="noStrike">
                <a:solidFill>
                  <a:srgbClr val="ffffff"/>
                </a:solidFill>
                <a:latin typeface="Times New Roman"/>
              </a:rPr>
              <a:t>SOCIADOS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Consultores de Dire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</a:rPr>
              <a:t>Buenos Aires - Argen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66"/>
                </a:solidFill>
                <a:latin typeface="Tahoma"/>
              </a:rPr>
              <a:t>nnoguera@consejo.org.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75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7125"/>
                            </p:stCondLst>
                            <p:childTnLst>
                              <p:par>
                                <p:cTn id="721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75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75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75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75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75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75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75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POBREZA EN AMERICA LATIN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060280"/>
            <a:ext cx="876312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oblación en condiciones de pobreza: 39.8 % = 209 millones de pers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oblación en condiciones de indigencia: 15.4 % =  81 millones de perso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Inequidad en la distribución del ingre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Rigidez al cambio de la estructura distribu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5968-1B59-4AA3-807B-DC52CAE1DB8F}" type="slidenum">
              <a:t>3</a:t>
            </a:fld>
          </a:p>
        </p:txBody>
      </p:sp>
    </p:spTree>
  </p:cSld>
  <p:transition spd="med"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PSICOLOGIA SOCIAL DE LA POBREZA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060280"/>
            <a:ext cx="876312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 pobreza es un estado de situación social donde existen carencias económicas, en un tiempo y espacio determinado, que afecta el desarrollo integral del ser hum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os ingresos laborales -particularmente salarios- constituyen la principal fuente de rentas de los hog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 educación determina el nivel de los sal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6DE0E-71DE-4B0F-BED9-46B07666FABC}" type="slidenum">
              <a:t>4</a:t>
            </a:fld>
          </a:p>
        </p:txBody>
      </p:sp>
    </p:spTree>
  </p:cSld>
  <p:transition spd="med">
    <p:wipe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CULTURA DE LA POBREZA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RASGOS SOCIAL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699920"/>
            <a:ext cx="8763120" cy="424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Hacin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usencia de vida priv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lta incidencia de alcoholis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iolencia intrafami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prana iniciación sex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Madres abandon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utoritarismo famili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Inexistencia de la infancia como etapa de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Reducido nivel educa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Analfabetis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spíritu greg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ínculos acentuados de parentesco y compadrazg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A5FAB-06F9-44F7-94DD-A1BF1EC0B541}" type="slidenum">
              <a:t>5</a:t>
            </a:fld>
          </a:p>
        </p:txBody>
      </p:sp>
    </p:spTree>
  </p:cSld>
  <p:transition spd="med">
    <p:wipe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CULTURA DE LA POBREZA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RASGOS PERSONAL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2060640"/>
            <a:ext cx="8763120" cy="388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Orientación hacia el pres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ocos deseos de planear para el futuro (hedonismo de corto alcanc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entimientos de fatalism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reencia en la superioridad mascul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ujeres que se consideran márti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entimiento de marginalidad e inferior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Desconfianza soc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C097-FC02-41B8-B287-0C157268C7AF}" type="slidenum">
              <a:t>6</a:t>
            </a:fld>
          </a:p>
        </p:txBody>
      </p:sp>
    </p:spTree>
  </p:cSld>
  <p:transition spd="med">
    <p:wipe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0240" y="476280"/>
            <a:ext cx="8421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CULTURA DE LA POBREZA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RASGOS ECONOMIC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420640"/>
            <a:ext cx="87631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Bajos sal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recariedad ocupa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socupación por largos perío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jercicio de una amplia gama de ocupaciones y subocupaciones no calific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B505-63DD-4335-8874-BAA9DA4DAA0B}" type="slidenum">
              <a:t>7</a:t>
            </a:fld>
          </a:p>
        </p:txBody>
      </p:sp>
    </p:spTree>
  </p:cSld>
  <p:transition spd="med"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476280"/>
            <a:ext cx="8421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CULTURA DE LA POBREZA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RASGOS BIOLOGIC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276640"/>
            <a:ext cx="8763120" cy="36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Inferiores en peso y estatura, que el promedio de la pob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Bajo rendimiento físico e intelect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ltas tasas de nata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or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snutrición y mortalidad infant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enores expectativas de v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C84B-46A0-4CDF-AE85-01503104AB87}" type="slidenum">
              <a:t>8</a:t>
            </a:fld>
          </a:p>
        </p:txBody>
      </p:sp>
    </p:spTree>
  </p:cSld>
  <p:transition spd="med"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240" y="259920"/>
            <a:ext cx="842148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ANALISIS FO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060280"/>
            <a:ext cx="876312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obreestima las fortalez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inimiza las debil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agnifica las oportun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Restringe las amenaz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arencia de directivos que posean y utilicen el pensamiento estratég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OGUERA &amp; ASOCIADOS - Consultores de Direcció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A8B8-B551-465B-9C15-E17C0D1525AB}" type="slidenum">
              <a:t>9</a:t>
            </a:fld>
          </a:p>
        </p:txBody>
      </p:sp>
    </p:spTree>
  </p:cSld>
  <p:transition spd="med">
    <p:wipe dir="r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04:49:20Z</dcterms:created>
  <dc:creator>Norberto J. NOGUERA</dc:creator>
  <dc:description/>
  <dc:language>en-US</dc:language>
  <cp:lastModifiedBy>C.P.C.E.C.A.B.A</cp:lastModifiedBy>
  <dcterms:modified xsi:type="dcterms:W3CDTF">2009-09-24T16:51:18Z</dcterms:modified>
  <cp:revision>40</cp:revision>
  <dc:subject>XXII CONGRESO LATINOAMERICANO DE ESTRATEGIA</dc:subject>
  <dc:title>ESTRATEGIAS COMPETITIVAS PARA LOS SEGMENTOS DE MERCADO C2, C3 Y D1</dc:title>
</cp:coreProperties>
</file>