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054CC-1395-4D80-B513-7B71CE8DA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76040-3DF7-4BE1-99EB-60B09DCEE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4578F-9D30-46F6-98D9-9F189A140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1191B-B1F0-4586-8C9A-88BDA0A22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1E840-A9A7-47AC-8397-6FE950618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1D6F3-1136-49C7-9931-534F0AE7D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B62CC-0F9C-435E-A400-A58BAE508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5157C-AB58-42B7-888E-2317122E8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D6757-E83F-4360-A3DD-5F431611E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13865-BD5D-45F1-89E6-978CAE51F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5B5A7-805F-4240-92EC-35C4697CC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C1635-6133-48B8-BBCA-79ECF7DED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5EF8D-B64D-408C-8917-C0D3341B8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E8044-3376-4AE9-A7E5-AD384C89A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26AC2-26AA-457D-9BCD-459EBBA93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7ED20-A245-40F6-B459-8D3CE27F4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45972-557D-4FC2-9F32-80C7435BE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A01C8AD-4046-435E-A448-51F9D0969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1E4EAC4-0EEE-4793-ABD2-B97FC968C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90D7C63-D052-4EBB-B420-1BC724F85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D342730-F079-4EA3-8686-736AB85E0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6F12054-2363-4A3D-9966-32293E393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34A1C-A629-4E4A-89D4-AE902A356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DD6D763-AA38-43AC-AD66-91F8030F0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2F95D6F-0132-4448-A97B-51B596953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A36A083-6CC3-462B-B940-92B9CBBA8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0041D92-274A-484D-8D87-1AE83A5C6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BE9DEE0-541D-4CA7-AF60-924A012F4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E4E2E10-DF72-4CE6-90FE-466C02D91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56B42C9-E930-44D5-8B53-51ED9F970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17647E-AA8E-421E-9693-080BB5780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BB69B8-31E7-4D08-9686-5B744CB15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1E0406-59D3-4730-874D-7C39D1EAD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62963-903B-4D33-906C-D1F98C94F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A470B7-AE50-44A9-96CC-E2F611B38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28FEF8-9DC2-4414-90CD-DBC3BCBEC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90B40F-DA03-4364-B5DB-DC2CE0A81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CFE8EB-0724-4270-A6F9-CBEA5750A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8F8723-B8C1-45D4-8337-3BB84D8A3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3FE093-D30C-4FA1-8FE3-E0CE55B17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79BF93-1B56-4BE8-838F-8499AEE4C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09458B-7BFD-4612-80AF-4EB6A7B2E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9884B7-3A45-4911-8A19-19EEBBCD5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CC7CE93-0F17-4F5A-B69A-3FB4D2BBC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C71FD-B0C1-481A-A1A9-EE03A1913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9A25E90-3D09-444C-83FB-7859AAC64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F2FE14B-8D6E-4753-BEB6-144FA10E2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ECE002D-E154-4CA6-A6B4-F05DBCBA1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17921CD-CCEC-44A5-8FFE-271EEEEEC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4770911-FC22-4E5D-9C5E-D12688A65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2FCC291-A3F3-4C5A-AD32-1FEAD254F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746B8BE-6648-4A07-9D22-03583275E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5EED569-5F5F-4E52-B866-FBFC797D4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8879DDE-A7CB-4967-803C-6112ECAEA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D6C4330-AF5E-490D-AC22-0F0DDED54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882C3-C1E2-4681-BAA4-815FC71E8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5E031C3-6875-468B-99A6-1FFD9579F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D124468-D646-42C9-A30F-21104BD6B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3BF6DDB-C7FF-4F12-B9FD-112D0BEE1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9741C92-2E17-4EF1-8A1F-639E61485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B73CED7-8884-4C2C-AF14-33DC48ACF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9C39C2E-B619-4446-A5A9-C48EFBD24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DA10E12-DA75-4BD5-A9C4-E5ED0BB08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2EA57A6-E8CE-4C35-B046-B029D2D57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4947FFA-4FE1-4D1E-A18E-F44C88E99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D51A368-25F5-4243-985E-FC3B482CC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4DD1A-D101-4506-A949-59C1647BB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81037A1-1DBD-45F8-9DBF-E1EC6F4D7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FDAA299-AC72-4F13-BE13-5870AADB9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CD83DCE-AFC2-4C01-BAE2-9C317C6B5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1CE1B00-20AA-420E-B885-4FD36BF23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6505695-545C-4C40-A8E8-F29CE5393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3C309BD-A311-4445-878B-99D8D1120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3F60336-0CBD-4FB3-82AA-70A92A1D9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D8685F3-1C5C-4724-836E-702248362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645DE80-37ED-4810-A618-65D3A2339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FEAEE1A-13E0-4F87-B659-6CF4C857A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5B3A3-9BE1-4DD3-955F-4D890A58B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12B19AC-C4AD-4C6D-919B-25F62B866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47E9C73-844A-422B-96B5-C58EC385A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AE19967-3013-4349-B1C0-9B4AAFC04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587346E-6418-4D9F-A328-A033B29B7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42FBC08-7ADA-4B55-B22A-D1E8C1378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545CE-6E4A-46AE-8016-5FD985DB5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15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6 Conector recto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8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9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10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11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AR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E3F6A-571F-4617-A120-408D2DCD38F1}" type="slidenum">
              <a:rPr b="1" lang="es-AR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12 Rectángulo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14 Rectángulo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16 Rectángulo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17 Rectángulo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18 Conector recto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19 Conector recto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20 Conector recto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23 Conector recto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24 Conector recto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25 Conector recto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26 Rectángulo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27 Elipse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28 Elipse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29 Elipse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30 Elipse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31 Elipse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AR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FC3B9-6BA8-40BF-A5F3-3E956B7EBC51}" type="slidenum">
              <a:rPr b="1" lang="es-AR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15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6 Conector recto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8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9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10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11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AR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38E5D-8B34-42A7-A34B-7BFCD2899482}" type="slidenum">
              <a:rPr b="1" lang="es-AR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12 Rectángulo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14 Rectángulo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16 Rectángulo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17 Rectángulo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18 Conector recto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19 Conector recto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20 Conector recto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23 Conector recto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24 Conector recto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25 Rectángulo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26 Elipse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27 Elipse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28 Elipse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29 Elipse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30 Elipse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31 Conector recto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fff39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fff39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AR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F66D0-0EB0-479F-B862-16B290D05D3E}" type="slidenum">
              <a:rPr b="1" lang="es-AR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15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6 Conector recto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8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9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10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11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AR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6E5D3-1DD8-47B3-9379-F8196C2E38B8}" type="slidenum">
              <a:rPr b="1" lang="es-AR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12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14 Conector recto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16 Conector recto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17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18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19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20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AR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CC8BF-4D6F-41EC-A168-309A3B9D0977}" type="slidenum">
              <a:rPr b="1" lang="es-AR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12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14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16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17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18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19 Conector recto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20 Conector recto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AR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FD569-59D1-4493-9A29-428321492A55}" type="slidenum">
              <a:rPr b="1" lang="es-AR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mailto:mfsoria@phvs.com.ar" TargetMode="External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2643120" y="2214720"/>
            <a:ext cx="650088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668c4"/>
                </a:solidFill>
                <a:latin typeface="Century Schoolbook"/>
              </a:rPr>
              <a:t>IX CONGRESO INTERNACIONAL DE ADMINISTRACION Y XVI CONAMERC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2" name="3 Imagen" descr="foto california.jpg"/>
          <p:cNvPicPr/>
          <p:nvPr/>
        </p:nvPicPr>
        <p:blipFill>
          <a:blip r:embed="rId1"/>
          <a:stretch/>
        </p:blipFill>
        <p:spPr>
          <a:xfrm>
            <a:off x="3000240" y="4929120"/>
            <a:ext cx="5881680" cy="1567080"/>
          </a:xfrm>
          <a:prstGeom prst="rect">
            <a:avLst/>
          </a:prstGeom>
          <a:ln w="0">
            <a:noFill/>
          </a:ln>
        </p:spPr>
      </p:pic>
      <p:sp>
        <p:nvSpPr>
          <p:cNvPr id="353" name="4 CuadroTexto"/>
          <p:cNvSpPr/>
          <p:nvPr/>
        </p:nvSpPr>
        <p:spPr>
          <a:xfrm>
            <a:off x="1857240" y="500040"/>
            <a:ext cx="6858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7f7f7f"/>
                </a:solidFill>
                <a:latin typeface="Century Schoolbook"/>
              </a:rPr>
              <a:t>La gestión de la Responsabilidad Social Empresaria: Un desafío para los profesionales de Ciencias Económi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6 CuadroTexto"/>
          <p:cNvSpPr/>
          <p:nvPr/>
        </p:nvSpPr>
        <p:spPr>
          <a:xfrm>
            <a:off x="3071880" y="3786120"/>
            <a:ext cx="528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7f7f7f"/>
                </a:solidFill>
                <a:latin typeface="Century Schoolbook"/>
              </a:rPr>
              <a:t>Lic. Maria Fernanda So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575f6d"/>
                </a:solidFill>
                <a:latin typeface="Century Schoolbook"/>
              </a:rPr>
              <a:t>CONCLUSIONE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714240" y="1571400"/>
            <a:ext cx="6786720" cy="487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entury Schoolbook"/>
              </a:rPr>
              <a:t>Nuevos desafío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entury Schoolbook"/>
              </a:rPr>
              <a:t>Otros lenguaje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entury Schoolbook"/>
              </a:rPr>
              <a:t>Otros interlocutore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entury Schoolbook"/>
              </a:rPr>
              <a:t>Competencias nueva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entury Schoolbook"/>
              </a:rPr>
              <a:t>Asesores del “rumbo de la empresa”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3668c4"/>
                </a:solidFill>
                <a:latin typeface="Century Schoolbook"/>
              </a:rPr>
              <a:t>E</a:t>
            </a:r>
            <a:r>
              <a:rPr b="1" lang="es-AR" sz="2400" spc="-1" strike="noStrike">
                <a:solidFill>
                  <a:srgbClr val="3668c4"/>
                </a:solidFill>
                <a:latin typeface="Century Schoolbook"/>
              </a:rPr>
              <a:t>n definitiva, es la oportunidad de realizar </a:t>
            </a:r>
            <a:r>
              <a:rPr b="1" lang="es-ES" sz="2400" spc="-1" strike="noStrike">
                <a:solidFill>
                  <a:srgbClr val="3668c4"/>
                </a:solidFill>
                <a:latin typeface="Century Schoolbook"/>
              </a:rPr>
              <a:t>un aporte al desarrollo económico y social que permitirá lograr mejores empresas y en definitiva, mejores sociedades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79" name="3 Imagen" descr="semaforo verde.jpg"/>
          <p:cNvPicPr/>
          <p:nvPr/>
        </p:nvPicPr>
        <p:blipFill>
          <a:blip r:embed="rId1"/>
          <a:stretch/>
        </p:blipFill>
        <p:spPr>
          <a:xfrm>
            <a:off x="6357960" y="1071720"/>
            <a:ext cx="2036880" cy="27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575f6d"/>
                </a:solidFill>
                <a:latin typeface="Century Schoolbook"/>
              </a:rPr>
              <a:t>MUCHAS GRACIAS!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entury Schoolbook"/>
              </a:rPr>
              <a:t>Lic. Maria Fernanda Sori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 u="sng">
                <a:solidFill>
                  <a:srgbClr val="d2611c"/>
                </a:solidFill>
                <a:uFillTx/>
                <a:latin typeface="Century Schoolbook"/>
                <a:hlinkClick r:id="rId1"/>
              </a:rPr>
              <a:t>mfsoria@phvs.com.ar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entury Schoolbook"/>
              </a:rPr>
              <a:t>La RSE – Conceptos generale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entury Schoolbook"/>
              </a:rPr>
              <a:t>La ética en la educació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entury Schoolbook"/>
              </a:rPr>
              <a:t>Licenciatura en Administración. Incumbencias y la RS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entury Schoolbook"/>
              </a:rPr>
              <a:t>Áreas de actuació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575f6d"/>
                </a:solidFill>
                <a:latin typeface="Century Schoolbook"/>
              </a:rPr>
              <a:t>LA RSE. CONCEPTOS GENERALE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457200" y="1599840"/>
            <a:ext cx="8043840" cy="35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entury Schoolbook"/>
              </a:rPr>
              <a:t>Instituto ETHOS de Brasil: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entury Schoolbook"/>
              </a:rPr>
              <a:t>“</a:t>
            </a:r>
            <a:r>
              <a:rPr b="0" lang="es-AR" sz="2400" spc="-1" strike="noStrike">
                <a:solidFill>
                  <a:srgbClr val="000000"/>
                </a:solidFill>
                <a:latin typeface="Century Schoolbook"/>
              </a:rPr>
              <a:t>es una </a:t>
            </a:r>
            <a:r>
              <a:rPr b="1" lang="es-AR" sz="2400" spc="-1" strike="noStrike">
                <a:solidFill>
                  <a:srgbClr val="000000"/>
                </a:solidFill>
                <a:latin typeface="Century Schoolbook"/>
              </a:rPr>
              <a:t>forma de gestión </a:t>
            </a:r>
            <a:r>
              <a:rPr b="0" lang="es-AR" sz="2400" spc="-1" strike="noStrike">
                <a:solidFill>
                  <a:srgbClr val="000000"/>
                </a:solidFill>
                <a:latin typeface="Century Schoolbook"/>
              </a:rPr>
              <a:t>que se define por la relación ética de la empresa con todos los públicos con los cuales ella se relaciona, y por el establecimiento de metas empresariales compatibles con el desarrollo sustentable de la sociedad; preservando recursos ambientales y culturales para las generaciones futuras, respetando la diversidad y promoviendo la reducción de las desigualdades sociales"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9" name="3 Imagen" descr="logo ethos.gif"/>
          <p:cNvPicPr/>
          <p:nvPr/>
        </p:nvPicPr>
        <p:blipFill>
          <a:blip r:embed="rId1"/>
          <a:stretch/>
        </p:blipFill>
        <p:spPr>
          <a:xfrm>
            <a:off x="2928960" y="5286240"/>
            <a:ext cx="2028960" cy="94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575f6d"/>
                </a:solidFill>
                <a:latin typeface="Century Schoolbook"/>
              </a:rPr>
              <a:t>LA RSE. CONCEPTOS GENERALE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500040" y="1428480"/>
            <a:ext cx="7972560" cy="37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entury Schoolbook"/>
              </a:rPr>
              <a:t>Pierre Hupperts: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entury Schoolbook"/>
              </a:rPr>
              <a:t>es una parte esencial de la gestión y de la estrategia empresaria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entury Schoolbook"/>
              </a:rPr>
              <a:t>la RSE trata de buscar el equilibrio entre tres resultados distintos: económico, social y ecológico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entury Schoolbook"/>
              </a:rPr>
              <a:t>el dialogo hacia los distintos grupos de interés conozca sus necesidades y expectativas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entury Schoolbook"/>
              </a:rPr>
              <a:t>es la transparencia y la sinceridad – Reportes y auditorias externa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2" name="3 Imagen" descr="mundo 3.jpg"/>
          <p:cNvPicPr/>
          <p:nvPr/>
        </p:nvPicPr>
        <p:blipFill>
          <a:blip r:embed="rId1"/>
          <a:stretch/>
        </p:blipFill>
        <p:spPr>
          <a:xfrm>
            <a:off x="2857680" y="5143680"/>
            <a:ext cx="221436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28400" y="-3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575f6d"/>
                </a:solidFill>
                <a:latin typeface="Century Schoolbook"/>
              </a:rPr>
              <a:t>LA ÉTICA EN LA EDUCACIÓ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456840" y="1285560"/>
            <a:ext cx="5329080" cy="518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000000"/>
                </a:solidFill>
                <a:latin typeface="Century Schoolbook"/>
              </a:rPr>
              <a:t>Rol de las empresas: Desarrollo económico y social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000000"/>
                </a:solidFill>
                <a:latin typeface="Century Schoolbook"/>
              </a:rPr>
              <a:t>Responsabilidades éticas de los profesionales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000000"/>
                </a:solidFill>
                <a:latin typeface="Century Schoolbook"/>
              </a:rPr>
              <a:t>Investigación (2006)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000000"/>
                </a:solidFill>
                <a:latin typeface="Century Schoolbook"/>
              </a:rPr>
              <a:t>“</a:t>
            </a:r>
            <a:r>
              <a:rPr b="0" lang="es-AR" sz="2200" spc="-1" strike="noStrike">
                <a:solidFill>
                  <a:srgbClr val="000000"/>
                </a:solidFill>
                <a:latin typeface="Century Schoolbook"/>
              </a:rPr>
              <a:t>de 41 instituciones públicas y privadas que dictan la Licenciatura en Administración, 12 (29%) dictan alguna materia relacionada con ética, responsabilidad social y/o filosofía.”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000000"/>
                </a:solidFill>
                <a:latin typeface="Century Schoolbook"/>
              </a:rPr>
              <a:t> </a:t>
            </a: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En la escuela de negocios de Harvard el 20% de los estudiantes que termina un MBA ahora ha jurado ejercer de forma ética. Hablamos de la escuela de negocios mas famosa del mundo!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5" name="3 Imagen" descr="personas leyendo.jpg"/>
          <p:cNvPicPr/>
          <p:nvPr/>
        </p:nvPicPr>
        <p:blipFill>
          <a:blip r:embed="rId1"/>
          <a:stretch/>
        </p:blipFill>
        <p:spPr>
          <a:xfrm>
            <a:off x="6215040" y="1285920"/>
            <a:ext cx="2436840" cy="40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575f6d"/>
                </a:solidFill>
                <a:latin typeface="Century Schoolbook"/>
              </a:rPr>
              <a:t>INCUMBENCIAS </a:t>
            </a:r>
            <a:br>
              <a:rPr sz="3000"/>
            </a:br>
            <a:r>
              <a:rPr b="0" lang="es-AR" sz="3000" spc="-1" strike="noStrike">
                <a:solidFill>
                  <a:srgbClr val="575f6d"/>
                </a:solidFill>
                <a:latin typeface="Century Schoolbook"/>
              </a:rPr>
              <a:t>LICENCIATURA EN ADMINISTRACIÓ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entury Schoolbook"/>
              </a:rPr>
              <a:t>Planeamiento y organización;</a:t>
            </a:r>
            <a:br>
              <a:rPr sz="2400"/>
            </a:br>
            <a:r>
              <a:rPr b="0" lang="es-AR" sz="2400" spc="-1" strike="noStrike">
                <a:solidFill>
                  <a:srgbClr val="000000"/>
                </a:solidFill>
                <a:latin typeface="Century Schoolbook"/>
              </a:rPr>
              <a:t>- Sistemas de información y control;</a:t>
            </a:r>
            <a:br>
              <a:rPr sz="2400"/>
            </a:br>
            <a:r>
              <a:rPr b="0" lang="es-AR" sz="2400" spc="-1" strike="noStrike">
                <a:solidFill>
                  <a:srgbClr val="000000"/>
                </a:solidFill>
                <a:latin typeface="Century Schoolbook"/>
              </a:rPr>
              <a:t>- Administración de la Comercialización;</a:t>
            </a:r>
            <a:br>
              <a:rPr sz="2400"/>
            </a:br>
            <a:r>
              <a:rPr b="0" lang="es-AR" sz="2400" spc="-1" strike="noStrike">
                <a:solidFill>
                  <a:srgbClr val="000000"/>
                </a:solidFill>
                <a:latin typeface="Century Schoolbook"/>
              </a:rPr>
              <a:t>- Administración financiera;</a:t>
            </a:r>
            <a:br>
              <a:rPr sz="2400"/>
            </a:br>
            <a:r>
              <a:rPr b="0" lang="es-AR" sz="2400" spc="-1" strike="noStrike">
                <a:solidFill>
                  <a:srgbClr val="000000"/>
                </a:solidFill>
                <a:latin typeface="Century Schoolbook"/>
              </a:rPr>
              <a:t>- Planeamiento y control de la producción;</a:t>
            </a:r>
            <a:br>
              <a:rPr sz="2400"/>
            </a:br>
            <a:r>
              <a:rPr b="0" lang="es-AR" sz="2400" spc="-1" strike="noStrike">
                <a:solidFill>
                  <a:srgbClr val="000000"/>
                </a:solidFill>
                <a:latin typeface="Century Schoolbook"/>
              </a:rPr>
              <a:t>- Administración de reservas;</a:t>
            </a:r>
            <a:br>
              <a:rPr sz="2400"/>
            </a:br>
            <a:r>
              <a:rPr b="0" lang="es-AR" sz="2400" spc="-1" strike="noStrike">
                <a:solidFill>
                  <a:srgbClr val="000000"/>
                </a:solidFill>
                <a:latin typeface="Century Schoolbook"/>
              </a:rPr>
              <a:t>- Formulación y evaluación de inversión;</a:t>
            </a:r>
            <a:br>
              <a:rPr sz="2400"/>
            </a:br>
            <a:r>
              <a:rPr b="0" lang="es-AR" sz="2400" spc="-1" strike="noStrike">
                <a:solidFill>
                  <a:srgbClr val="000000"/>
                </a:solidFill>
                <a:latin typeface="Century Schoolbook"/>
              </a:rPr>
              <a:t>- Análisis y determinación de costos;</a:t>
            </a:r>
            <a:br>
              <a:rPr sz="2400"/>
            </a:br>
            <a:r>
              <a:rPr b="0" lang="es-AR" sz="2400" spc="-1" strike="noStrike">
                <a:solidFill>
                  <a:srgbClr val="000000"/>
                </a:solidFill>
                <a:latin typeface="Century Schoolbook"/>
              </a:rPr>
              <a:t>- Toda otra función de administración con prescindencia de la materia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456840" y="1599840"/>
            <a:ext cx="7467480" cy="30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entury Schoolbook"/>
              </a:rPr>
              <a:t>La gestión de la RSE requiere un equipo multidisciplinario, entonces…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3668c4"/>
                </a:solidFill>
                <a:latin typeface="Century Schoolbook"/>
              </a:rPr>
              <a:t>¿Cual es el rol del profesional de Ciencias Económicas?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70" name="3 Imagen" descr="foto reporte.jpg"/>
          <p:cNvPicPr/>
          <p:nvPr/>
        </p:nvPicPr>
        <p:blipFill>
          <a:blip r:embed="rId1"/>
          <a:stretch/>
        </p:blipFill>
        <p:spPr>
          <a:xfrm>
            <a:off x="3139920" y="4780080"/>
            <a:ext cx="2297160" cy="15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575f6d"/>
                </a:solidFill>
                <a:latin typeface="Century Schoolbook"/>
              </a:rPr>
              <a:t>INCUMBENCIAS </a:t>
            </a:r>
            <a:br>
              <a:rPr sz="3000"/>
            </a:br>
            <a:r>
              <a:rPr b="0" lang="es-AR" sz="3000" spc="-1" strike="noStrike">
                <a:solidFill>
                  <a:srgbClr val="575f6d"/>
                </a:solidFill>
                <a:latin typeface="Century Schoolbook"/>
              </a:rPr>
              <a:t>LICENCIATURA EN ADMINISTRACIÓ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456840" y="1600200"/>
            <a:ext cx="5543640" cy="41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500" spc="-1" strike="noStrike">
                <a:solidFill>
                  <a:srgbClr val="000000"/>
                </a:solidFill>
                <a:latin typeface="Century Schoolbook"/>
              </a:rPr>
              <a:t>Los profesionales de la RSE, deberán incorporar y desarrollar nuevas competencias a nivel individual:</a:t>
            </a: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Century Schoolbook"/>
              </a:rPr>
              <a:t>Conciencia contextual (conocer sobre el contexto)</a:t>
            </a: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Century Schoolbook"/>
              </a:rPr>
              <a:t>Nuevos conocimientos (“people” y “planet”)</a:t>
            </a: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Century Schoolbook"/>
              </a:rPr>
              <a:t>Tener y dar opiniones sobre nuevos temas</a:t>
            </a: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Century Schoolbook"/>
              </a:rPr>
              <a:t>Mayor cooperación interna y externa</a:t>
            </a: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Century Schoolbook"/>
              </a:rPr>
              <a:t>Capacidad de diálogo y de comunicación</a:t>
            </a: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Century Schoolbook"/>
              </a:rPr>
              <a:t>Relacionarse con nuevos “stakeholders” (otros actores como la comunidad)</a:t>
            </a: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Century Schoolbook"/>
              </a:rPr>
              <a:t>Tomar conciencia de que un acto individual tiene consecuencias e impactos para toda la organización</a:t>
            </a: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Century Schoolbook"/>
              </a:rPr>
              <a:t>Los gerentes deben dar el buen ejemplo en diálogo, comunicación, compromiso con la RSE etc </a:t>
            </a: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Century Schoolbook"/>
              </a:rPr>
              <a:t>Cultura más abierta, horizontal, tomar riesgos, ser pionero, mostrar coraje </a:t>
            </a: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3" name="3 CuadroTexto"/>
          <p:cNvSpPr/>
          <p:nvPr/>
        </p:nvSpPr>
        <p:spPr>
          <a:xfrm>
            <a:off x="357120" y="5643720"/>
            <a:ext cx="785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3668c4"/>
                </a:solidFill>
                <a:latin typeface="Century Schoolbook"/>
              </a:rPr>
              <a:t>Hay en Argentina + de 50 Gerencias de RSE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4" name="4 Imagen" descr="molino de viento 1.jpg"/>
          <p:cNvPicPr/>
          <p:nvPr/>
        </p:nvPicPr>
        <p:blipFill>
          <a:blip r:embed="rId1"/>
          <a:stretch/>
        </p:blipFill>
        <p:spPr>
          <a:xfrm>
            <a:off x="6072120" y="1714680"/>
            <a:ext cx="2608200" cy="34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575f6d"/>
                </a:solidFill>
                <a:latin typeface="Century Schoolbook"/>
              </a:rPr>
              <a:t>ÁREAS DE ACTUACIÓ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857160" y="1571400"/>
            <a:ext cx="7467840" cy="487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Planeamiento estratégico (políticas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Sistema de gestión de la RS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Investigació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Reportes de sostenibilidad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entury Schoolbook"/>
              </a:rPr>
              <a:t>Verificación y auditoria (SA8000, ISO26000,etc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entury Schoolbook"/>
              </a:rPr>
              <a:t>Si no medimos solo conoceremos el gasto o la inversión pero no los beneficios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0T13:15:57Z</dcterms:created>
  <dc:creator>Maria Fernanda Soria</dc:creator>
  <dc:description/>
  <dc:language>en-US</dc:language>
  <cp:lastModifiedBy>C.P.C.E.C.A.B.A</cp:lastModifiedBy>
  <dcterms:modified xsi:type="dcterms:W3CDTF">2009-09-24T16:20:11Z</dcterms:modified>
  <cp:revision>18</cp:revision>
  <dc:subject/>
  <dc:title>LA GESTION DE LA RESPONSABILIDAD SOCIAL EMPRESARIA. UN DESAFIO PARA EL PROFESIONAL DE CIENCIAS ECONOMICAS</dc:title>
</cp:coreProperties>
</file>