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0A7-DD35-44C2-9C2C-ED78B536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EA6-F889-4C84-B703-A529DF06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01B0-FE8C-4D94-95D7-A4BC7EB7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4B6-3F43-4F17-8BAE-E7A431E2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A9A-A107-4AC9-A77F-E10A3070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5F7-5A6F-4B55-A953-6BB1FBE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24B7-705A-4A9C-9D74-BF68DF91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939-1DFB-4FCD-8A13-1ED36D6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9207-1407-48B2-A319-E26FDD62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34B-CE23-46F2-B1D7-D4FFE218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5E49-C676-483B-B4B9-055D6F4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95B-6CC2-42F9-801D-C3BAD0F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125C-713C-42E5-B743-3A817F2FE5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5280" y="2819520"/>
            <a:ext cx="4267440" cy="5105160"/>
            <a:chOff x="1295280" y="2819520"/>
            <a:chExt cx="4267440" cy="5105160"/>
          </a:xfrm>
        </p:grpSpPr>
        <p:graphicFrame>
          <p:nvGraphicFramePr>
            <p:cNvPr id="42" name=""/>
            <p:cNvGraphicFramePr/>
            <p:nvPr/>
          </p:nvGraphicFramePr>
          <p:xfrm>
            <a:off x="1295280" y="2819520"/>
            <a:ext cx="4267440" cy="510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819520"/>
                      <a:ext cx="4267440" cy="51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1528920" y="4808520"/>
              <a:ext cx="3858120" cy="662760"/>
            </a:xfrm>
            <a:prstGeom prst="rect">
              <a:avLst/>
            </a:prstGeom>
            <a:solidFill>
              <a:srgbClr val="a4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399480" y="5471280"/>
              <a:ext cx="1987560" cy="2187720"/>
            </a:xfrm>
            <a:prstGeom prst="rect">
              <a:avLst/>
            </a:prstGeom>
            <a:solidFill>
              <a:srgbClr val="a4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 txBox="1"/>
          <p:nvPr/>
        </p:nvSpPr>
        <p:spPr>
          <a:xfrm>
            <a:off x="1773360" y="4859280"/>
            <a:ext cx="3456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INTUICION CREATIVA y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PREPARACION a la IMPROVISACION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 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                                                   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52640" y="8244000"/>
            <a:ext cx="477036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Times New Roman"/>
              </a:rPr>
              <a:t>Dres. Marcela L. CONTI y  Amado J. J. GIGANT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674640" y="6227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13000" y="5578560"/>
            <a:ext cx="2376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X Congreso Internacional de Admin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VI Congreso de Administración del MERCOSU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005360" y="1547640"/>
            <a:ext cx="865080" cy="84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700280" y="1619280"/>
            <a:ext cx="18000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453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3T14:36:40Z</dcterms:created>
  <dc:creator>Ines Freixas</dc:creator>
  <dc:description/>
  <dc:language>en-US</dc:language>
  <cp:lastModifiedBy>C.P.C.E.C.A.B.A</cp:lastModifiedBy>
  <dcterms:modified xsi:type="dcterms:W3CDTF">2009-09-24T16:47:40Z</dcterms:modified>
  <cp:revision>13</cp:revision>
  <dc:subject/>
  <dc:title>Presentación de PowerPoint</dc:title>
</cp:coreProperties>
</file>