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0.png" ContentType="image/pn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6471-8D05-4B21-8199-4187891C7425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resa digital: “en casi todas las relaciones significativas de negocios de la organización con los clientes, proveedores y empleados se realizan y controlan digitalmente” (LAUDON 2004:4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s directos en la economía mundi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estabilidad del mercado y sus variables (Control + difíci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remento de la incertidumbr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secuencia: Complica la gestión de organiz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“cambio” no es la causa, sino antes bien una consecuencia que afecta nuevamente al context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eneran grande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menazas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o grandes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oportunidade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rgimiento de la empresa digit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Coordinar actividades y procesos digitalmen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Mejora de las redes de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Disminución de cos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net gracias a su viabilidad técnica permitió su masi</a:t>
            </a:r>
            <a:r>
              <a:rPr b="0" lang="es-AR" sz="1600" spc="-1" strike="noStrike">
                <a:solidFill>
                  <a:srgbClr val="000000"/>
                </a:solidFill>
                <a:latin typeface="Calibri"/>
              </a:rPr>
              <a:t>f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ambios en el consumid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yores medios para seleccionar su comp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ayor segment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ás dinámicos y cambi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Menor lealtad a las marc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os consumidores esperan más información y más var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FBF4-018A-4C79-9B72-034AEE235FAB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2009: Enfatiza que en los lugares públicos de conexión el tiempo promedio de cada sesión se elevó a 80 minutos. A su vez, el 77% de las compras pasó a realizarse en sitios argentin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1657-7366-49D3-8F15-34E255C5863E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AFD-21BB-4F7D-9DA2-6E981486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E19-178D-426D-AAFE-1795A290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A7D-DBA8-40A4-8456-ED69B144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E56-8DFA-44DA-AEC3-DA2CA8EA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3BDA-C90E-4617-A3A0-A7826A81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6FCA-0370-4194-9822-64F7461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B1D7-B180-4DF0-B17D-E3C05B86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9D37-E192-41B0-9112-6272B6D4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835D-D6FB-46F4-82F3-AA910BD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7A5B-CF41-4A75-BD26-5B9AEA30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3C61-7883-4535-82B9-C552C078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C09-9433-43BF-A7D2-4F4958FB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79CE-EBFB-4A1A-A047-E1A71E8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6BBB-8755-4561-92E2-24FBB31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E2B6-EFF1-4D68-B34A-C423C468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E876-9889-4C91-9EAD-DEB9EC2F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2A10-7247-45F2-B6E1-B07922F0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54092-B78B-4ACF-8565-0291CA3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9E11-915C-43E0-8FA3-5E5E47C9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B78D-A08E-427B-AA9D-A10B9A86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BF2D-A081-4324-A2B3-7AA1F9B4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80B9-1E4E-40BC-BF1E-A77CBB38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C30-CBE2-4674-9E92-6C8D2EC7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491E-295F-4404-A255-819F4659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4D77-646F-4081-A090-2C4183F3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5773-CFF8-4EF8-8787-3664AEA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5063A-2123-4DD5-A44D-4137782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89F3-E3A3-4B18-BB9B-BED3ABA6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3F53-4540-43FC-BFB0-3AB05701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1762-941D-43CE-BAC7-8DC77B76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6CF4-5EF8-4125-B18B-E8FC23CE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0BF08-2247-45DE-9B8E-A3BFB165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D9553-8856-4F1D-8B1F-BCF5C4E5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E39-A009-4104-AA72-5AA8020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CE60-44DB-4290-8BF1-E0C467E0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8804-D63A-414E-9BAE-E6939ED7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EE80-FC22-4D3A-84BC-74AE2A53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CFDEA-50E8-49FF-AD1C-0F47C08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F147-7572-4CAA-BEA6-D1700514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D2B5-0E4C-4A5D-811B-B1644AB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E33D-8F5E-4783-9BD1-DFE67071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3CD78-FB5B-4876-BF06-455A8990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6F9BA-BF57-47F1-A75D-9B4915BF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A69E-A5D7-44E5-AF60-9ED82FAD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EE6-40FE-4DF0-ACCE-65B0707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B1907-F54E-4024-BC65-94912019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77F07-697B-4BD8-9AFA-71538F2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5041-E480-417E-8BCB-66916506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1E35-703E-4E1D-934C-547E193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83D7-554C-48CA-BFF2-3D25AD91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1327-7989-4E9E-B836-3926922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29F9-D981-4BB2-B335-0E9469C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0864-4607-43C0-862B-25941D7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B580-23DE-4B28-A0F8-AEBA0C61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68B96-861A-4592-8212-A58EF503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267-09FD-44D1-B342-AFD42A4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0334-5B0E-490F-AFEA-C14210FE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4651-6099-48D9-A77B-D2027FD7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BED6-A9E0-4BA4-84EF-F39B8B7B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905A-24AA-404C-9EDF-7C4F0ABA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98833-B882-45D2-B7F3-4CC401F7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6D8D5-FB2E-4DFD-A0D2-934E2A3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EEDC-5BC0-4707-8B49-A03266BD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0D68-480B-4C2F-AC5D-BF384F4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E4F46-D3D1-4E7C-A814-CBC30D6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CE257-751D-41F5-91F5-686DD51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F15-2D2C-4C98-A802-484CFEB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9A2B-003A-446C-B699-2F5BDB85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654F8-4114-4C7C-89F1-F69604BA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FC7BF-145E-4350-9671-24C41AB2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AE615-2AE8-4929-B956-32C8CAA6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E8FA-17FD-401A-8542-9B438DA9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6B548-982E-4F89-B3A6-8E85F73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AC77A-209C-496C-A15A-29CE7B8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39ECE-927D-403D-ABB8-F3FA3D9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73B01-2852-4C37-9EBC-1D0390B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3588D-643F-4446-A8EC-0B73BD1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411A-DC00-4B4C-B75E-90BA5877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2B8E7-1EA9-4BBE-A64E-BCDD3600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3F947-04A8-4CEB-9825-DABF120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7831-A9E5-4F2E-8F53-26383593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287B2-B637-4AF1-89CB-BCBF0F7A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3C95D-B912-4E3B-A77A-8548F05D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3921-4D09-4965-AE4A-C13E9E57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3CC1-C484-4721-9A16-DC8000E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0CB2-6F1F-4C21-90D1-8945AC2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DAB64-4566-4BB6-86D1-D6C4AF6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8CD8-3B41-4B55-812C-088C118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CDC-42D9-4E04-B0FE-1931A508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0C4FC-97EF-4028-9E67-041ED6F2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70CF-72EA-44BF-8FF4-9E09B408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30FD-F172-4DF6-B07C-2501521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90D3F-E450-44F7-996D-6BA3DFC8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BDAB-CBFD-4560-AAC9-C49080F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A187-EE55-421A-9ED7-4B12C2DE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56A8-71DC-42C5-B2D4-F3C650E9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4169-6168-42D4-93B9-B22675584400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9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7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0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0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11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DCD2-F233-4B0B-AD0E-D71EE7DF2F59}" type="slidenum"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6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7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A78-85AF-4ED0-88EE-200494E0BF90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EE8-DBBA-45AE-B5E3-E814E4881DCA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0B50-9F4B-4F54-B514-13D1408BAD36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E6B2-F57D-47E7-9A48-FD9994C0689F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734-925E-4ACC-A58A-1960F5F41EB2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7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8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9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9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0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1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12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E7BE-A709-44DA-9985-110232AC6CF3}" type="slidenum"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hernan.hakim@gmail.com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ENCABEZADO DE PAGINA - FCE - UBA"/>
          <p:cNvPicPr/>
          <p:nvPr/>
        </p:nvPicPr>
        <p:blipFill>
          <a:blip r:embed="rId1"/>
          <a:stretch/>
        </p:blipFill>
        <p:spPr>
          <a:xfrm>
            <a:off x="0" y="0"/>
            <a:ext cx="9144000" cy="188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1357200" y="1317600"/>
            <a:ext cx="678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Lucida Sans Unicode"/>
                <a:ea typeface="Times New Roman"/>
              </a:rPr>
              <a:t>El comercio electrónico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Lucida Sans Unicode"/>
                <a:ea typeface="Times New Roman"/>
              </a:rPr>
              <a:t>y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Lucida Sans Unicode"/>
                <a:ea typeface="Times New Roman"/>
              </a:rPr>
              <a:t>las empresas argentina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10 CuadroTexto"/>
          <p:cNvSpPr/>
          <p:nvPr/>
        </p:nvSpPr>
        <p:spPr>
          <a:xfrm>
            <a:off x="1571760" y="40719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Lucida Sans Unicode"/>
              </a:rPr>
              <a:t>Presentador: Hernán Haki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NCABEZADO DE PAGINA - FCE - UBA"/>
          <p:cNvPicPr/>
          <p:nvPr/>
        </p:nvPicPr>
        <p:blipFill>
          <a:blip r:embed="rId1"/>
          <a:stretch/>
        </p:blipFill>
        <p:spPr>
          <a:xfrm>
            <a:off x="0" y="0"/>
            <a:ext cx="9144000" cy="1889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1357200" y="1864440"/>
            <a:ext cx="67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l comercio electrónico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as empresas argentin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4 CuadroTexto"/>
          <p:cNvSpPr/>
          <p:nvPr/>
        </p:nvSpPr>
        <p:spPr>
          <a:xfrm>
            <a:off x="1000080" y="4000680"/>
            <a:ext cx="7572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Segundo premio en el </a:t>
            </a:r>
            <a:r>
              <a:rPr b="1" lang="es-AR" sz="1800" spc="-1" strike="noStrike">
                <a:solidFill>
                  <a:srgbClr val="000000"/>
                </a:solidFill>
                <a:latin typeface="Lucida Sans Unicode"/>
              </a:rPr>
              <a:t>Concurso 2008 de Tesina de Grad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para Licenciados en Administració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Presentar los principales puntos de la tesis a la audienc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Invitar a reflexionar a los presentes sobre los cambios sucedidos en materia de comercio electrónic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Mostrar cómo se desarrollaron las predicciones realizadas en el 2007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Lucida Sans Unicode"/>
              </a:rPr>
              <a:t>Cuestionamientos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¿Las empresas argentinas comenzaron a utilizar el comercio electrónico por una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cuestión de moda o necesidad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¿Hace cuánto tiempo que las compañías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invierten recursos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para desarrollar esta forma de acercarse al cliente?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¿Es la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factibilidad técnica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de este canal un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factor de comienzo y masividad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Lucida Sans Unicode"/>
              </a:rPr>
              <a:t>Hipótesis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Las empresas argentinas comenzaron a utilizar el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comercio electrónico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como una moda justificándola como una necesidad para el cambio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Hoy en día consideran al comercio electrónico como un </a:t>
            </a:r>
            <a:r>
              <a:rPr b="1" lang="es-ES" sz="1600" spc="-1" strike="noStrike">
                <a:solidFill>
                  <a:srgbClr val="000000"/>
                </a:solidFill>
                <a:latin typeface="Lucida Sans Unicode"/>
              </a:rPr>
              <a:t>canal clave </a:t>
            </a:r>
            <a:r>
              <a:rPr b="0" lang="es-ES" sz="1600" spc="-1" strike="noStrike">
                <a:solidFill>
                  <a:srgbClr val="000000"/>
                </a:solidFill>
                <a:latin typeface="Lucida Sans Unicode"/>
              </a:rPr>
              <a:t>para acercarse al cliente y comercializar sus productos y servicio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28760" y="1213920"/>
            <a:ext cx="8286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ambios directos en la economía mundial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El “cambio” no es la causa, sino bien, la consecuencia que afecta nuevamente al contexto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Generan grandes </a:t>
            </a:r>
            <a:r>
              <a:rPr b="1" lang="es-ES" sz="1500" spc="-1" strike="noStrike">
                <a:solidFill>
                  <a:srgbClr val="000000"/>
                </a:solidFill>
                <a:latin typeface="Lucida Sans Unicode"/>
              </a:rPr>
              <a:t>amenazas </a:t>
            </a: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y</a:t>
            </a:r>
            <a:r>
              <a:rPr b="1" lang="es-ES" sz="15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 grandes </a:t>
            </a:r>
            <a:r>
              <a:rPr b="1" lang="es-ES" sz="1500" spc="-1" strike="noStrike">
                <a:solidFill>
                  <a:srgbClr val="000000"/>
                </a:solidFill>
                <a:latin typeface="Lucida Sans Unicode"/>
              </a:rPr>
              <a:t>oportunidades</a:t>
            </a: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Surgimiento de la empresa digital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ambios en el consumidor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3360" indent="-255600">
              <a:lnSpc>
                <a:spcPct val="80000"/>
              </a:lnSpc>
              <a:spcBef>
                <a:spcPts val="400"/>
              </a:spcBef>
              <a:buClr>
                <a:srgbClr val="c0504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medios para seleccionar su compra porque esperan </a:t>
            </a:r>
            <a:r>
              <a:rPr b="1" lang="es-ES" sz="1500" spc="-1" strike="noStrike">
                <a:solidFill>
                  <a:srgbClr val="000000"/>
                </a:solidFill>
                <a:latin typeface="Lucida Sans Unicode"/>
              </a:rPr>
              <a:t>+ información y variedad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ambios en el canal cuando se masifica Internet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fectos de los cambios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Nace un nuevo tiempo: el tiempo de Internet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Nace un nuevo tipo de cliente: e-customer, el cliente electrónico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Nace una nueva variable de marketing: Internet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l </a:t>
            </a:r>
            <a:r>
              <a:rPr b="1" lang="es-ES" sz="1900" spc="-1" strike="noStrike">
                <a:solidFill>
                  <a:srgbClr val="000000"/>
                </a:solidFill>
                <a:latin typeface="Lucida Sans Unicode"/>
              </a:rPr>
              <a:t>comercio electrónico 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es una de las grandes transformaciones que experimentamos día a dí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428760" y="1214280"/>
          <a:ext cx="8429400" cy="5357880"/>
        </p:xfrm>
        <a:graphic>
          <a:graphicData uri="http://schemas.openxmlformats.org/drawingml/2006/table">
            <a:tbl>
              <a:tblPr/>
              <a:tblGrid>
                <a:gridCol w="1368360"/>
                <a:gridCol w="2774880"/>
                <a:gridCol w="4286160"/>
              </a:tblGrid>
              <a:tr h="14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nálisis Compara-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ww.discovirtual.com.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ww.leshop.com.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ienz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lanzado en el 2001 con 30 encargos mensu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ptiembre de 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gmento C1 y C2, el 60% son mujeres, de entre 25 y 55 año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arejas de entre 30 y 40 años, que trabajan y tienen hijos y que cuentan con poco tiempo para hacer una tarea repetitiva y poco placentera como ir al super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acturación 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quivalente a dos sucursa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n el 2008 facturó $11 millo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sma mar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va marca sin negocio fís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8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ttp://bp1.blogger.com/_9T0GcqbAe6I/Ri6tCj1feDI/AAAAAAAABJk/ccAzdSwY4XU/s320/logo+disco.jpg"/>
          <p:cNvPicPr/>
          <p:nvPr/>
        </p:nvPicPr>
        <p:blipFill>
          <a:blip r:embed="rId2"/>
          <a:stretch/>
        </p:blipFill>
        <p:spPr>
          <a:xfrm>
            <a:off x="2643120" y="1285920"/>
            <a:ext cx="1104840" cy="1093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6000840" y="1357200"/>
            <a:ext cx="18507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2876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LeSho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Crecimiento de 40%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40.000 clientes, sobre todo “hogares jóvenes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Vencimiento de barreras generacional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Discovirtu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Se triplicó el número de usuarios On-Lin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Entre el sitio y las ventas telefónicas, ya tienen más de medio millón de usuarios registrados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Gran crecimiento de la “tasa de conversión”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El “</a:t>
            </a:r>
            <a:r>
              <a:rPr b="0" i="1" lang="es-AR" sz="1600" spc="-1" strike="noStrike">
                <a:solidFill>
                  <a:srgbClr val="000000"/>
                </a:solidFill>
                <a:latin typeface="Lucida Sans Unicode"/>
              </a:rPr>
              <a:t>ticket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s-AR" sz="1600" spc="-1" strike="noStrike">
                <a:solidFill>
                  <a:srgbClr val="000000"/>
                </a:solidFill>
                <a:latin typeface="Lucida Sans Unicode"/>
              </a:rPr>
              <a:t>online</a:t>
            </a: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 promedio cuadriplica el de las tiendas”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Fuente:</a:t>
            </a: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  Revista Mercado – Edición Agosto 2009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571680" y="1285920"/>
          <a:ext cx="8286480" cy="4632120"/>
        </p:xfrm>
        <a:graphic>
          <a:graphicData uri="http://schemas.openxmlformats.org/drawingml/2006/table">
            <a:tbl>
              <a:tblPr/>
              <a:tblGrid>
                <a:gridCol w="1785600"/>
                <a:gridCol w="1571760"/>
                <a:gridCol w="1857240"/>
                <a:gridCol w="30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ntes del 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uarios de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600.000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.328.00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 millones de usuarios de 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exiones Banda Ancha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netración de la PC en el hogar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5.000 /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80.000 /25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o hogareño de la Red creció un 32% este 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ras On Li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bros, DVD, alimentos, accesorios vehícu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bros, Electro, Software, Música, alimentos, Hard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umentaron en el último año y ya el 28% de los usuarios realiza compras virtual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yor variedad de productos compr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nal elegido por los usuarios para buscar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rfil del usu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incipalmente ABC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umentó la conexión desde hogares y locuto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 de 10 usuarios son de estratos socioeconómicos bajos y hay un aumento del tiempo de conex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28760" y="11430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Lucida Sans Unicode"/>
              </a:rPr>
              <a:t>Objetivo del lanzamiento de las empresas con el canal de venta On-lin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Su objetivo era adquirir esas habilidades esenciales cuanto antes posible, para competir en nuevos escenarios y sobretodo antes que lleguen los competido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Percepción del comercio electrónic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Lucida Sans Unicode"/>
              </a:rPr>
              <a:t>Cada día está siendo más relevante dado los cambios en la conductas y hábitos en los consumidore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Percepción actual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just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l cambio de percepción mayor se produjo del lado del usuario más que en la empresa misma. Por lo tanto, no hubo cambios significativos en la percepción del can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Hay un sólido retorno sobre la inversión en el canal on-li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Lucida Sans Unicode"/>
              </a:rPr>
              <a:t>La simplicidad de tener presencia on-line se contrarresta con las desventajas de perder al consumidor rápidam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Lucida Sans Unicode"/>
              </a:rPr>
              <a:t>Lic. J. Hernán Haki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Teléfono Móvil: (+549) 113-700-754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E-Mail: </a:t>
            </a:r>
            <a:r>
              <a:rPr b="0" lang="es-AR" sz="27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ernan.hakim@gmail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CV On-Lin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http://www.linkedin.com/in/hernanhaki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23:35:45Z</dcterms:created>
  <dc:creator>Hernan Hakim</dc:creator>
  <dc:description/>
  <dc:language>en-US</dc:language>
  <cp:lastModifiedBy>C.P.C.E.C.A.B.A</cp:lastModifiedBy>
  <dcterms:modified xsi:type="dcterms:W3CDTF">2009-09-24T17:40:48Z</dcterms:modified>
  <cp:revision>38</cp:revision>
  <dc:subject/>
  <dc:title>Diapositiva 1</dc:title>
</cp:coreProperties>
</file>