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47EAC-B7EE-4877-8D81-ED14C9CA6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5339E-5C59-4671-A2BD-23E79C0E5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32558-E0F4-443F-AE23-914B68B1F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C7373-4AAC-4553-8F69-1EB04FD9E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A931A-70EC-41C3-8BC6-2EA9F1458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59323-9141-49A1-9E04-41FBE6B1B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91A32-C519-4AE5-A59C-BC522B21C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42858-58C6-4B1F-8617-E175AE35E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945E5-31CD-4E39-AF1A-461DE2872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A2DF0-6E71-457D-9596-3146B04AD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7D085-198F-4404-9DAC-17B14922B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342E0-D7E7-4347-B440-EA9BADE3A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3DC35-3C64-4585-9AE5-9EBB0889B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5AA2C-9823-4E3A-BCFE-E038EE75A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5A85E-97B4-4D36-95B9-CF5067FE0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9B703-FBD5-43E8-8A7C-086C6FEFF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8138E-7867-479C-8231-F5C0588E2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65A1C-A3D0-4888-B6E3-F8D873517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53633-4E52-4EBE-9B35-0423DDA43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1A67B-BBF7-4C0D-877B-8644D68BC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B1C08-4EA6-4D57-892A-0C0EE19F2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80D19-250C-4634-BDE4-37C0F7B53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F9D98-BF3A-4D34-8EF9-2604ACA02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8886E-B8CF-4801-B56C-80858A08B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54D4E-C4F3-4434-B3DE-572F49C038C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23C4D-62B5-4192-A5C3-3EF26C78894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3657600" y="6324480"/>
            <a:ext cx="5299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8"/>
          <p:cNvSpPr/>
          <p:nvPr/>
        </p:nvSpPr>
        <p:spPr>
          <a:xfrm>
            <a:off x="1403280" y="1989000"/>
            <a:ext cx="4753080" cy="428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Broadway"/>
              </a:rPr>
              <a:t>ÉTICA Y FORMACIÓN PROFESIONAL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Broadway"/>
              </a:rPr>
              <a:t>Aplicación a los MBA’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9"/>
          <p:cNvSpPr/>
          <p:nvPr/>
        </p:nvSpPr>
        <p:spPr>
          <a:xfrm>
            <a:off x="5940360" y="0"/>
            <a:ext cx="3457800" cy="17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86696"/>
                </a:solidFill>
                <a:latin typeface="Century Gothic"/>
              </a:rPr>
              <a:t>IX CONGRESO INTERNACIONAL DE ADMINISTRA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86696"/>
                </a:solidFill>
                <a:latin typeface="Century Gothic"/>
              </a:rPr>
              <a:t>- CPCECABA 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12"/>
          <p:cNvSpPr/>
          <p:nvPr/>
        </p:nvSpPr>
        <p:spPr>
          <a:xfrm>
            <a:off x="0" y="6308640"/>
            <a:ext cx="147636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4d4d4d"/>
                </a:solidFill>
                <a:latin typeface="CopprplGoth Bd BT Bold"/>
              </a:rPr>
              <a:t>Ciudad Autónoma 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4d4d4d"/>
                </a:solidFill>
                <a:latin typeface="CopprplGoth Bd BT Bold"/>
              </a:rPr>
              <a:t> </a:t>
            </a:r>
            <a:r>
              <a:rPr b="1" lang="es-ES" sz="1000" spc="-1" strike="noStrike">
                <a:solidFill>
                  <a:srgbClr val="4d4d4d"/>
                </a:solidFill>
                <a:latin typeface="CopprplGoth Bd BT Bold"/>
              </a:rPr>
              <a:t>Buenos Aires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4d4d4d"/>
                </a:solidFill>
                <a:latin typeface="CopprplGoth Bd BT Bold"/>
              </a:rPr>
              <a:t>Septiembre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9"/>
          <p:cNvSpPr/>
          <p:nvPr/>
        </p:nvSpPr>
        <p:spPr>
          <a:xfrm>
            <a:off x="6154560" y="4653000"/>
            <a:ext cx="298944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486696"/>
                </a:solidFill>
                <a:latin typeface="Century Gothic"/>
              </a:rPr>
              <a:t>AUTOR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buClr>
                <a:srgbClr val="486696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486696"/>
                </a:solidFill>
                <a:latin typeface="Century Gothic"/>
              </a:rPr>
              <a:t> </a:t>
            </a:r>
            <a:r>
              <a:rPr b="1" lang="es-ES_tradnl" sz="2000" spc="-1" strike="noStrike">
                <a:solidFill>
                  <a:srgbClr val="486696"/>
                </a:solidFill>
                <a:latin typeface="Century Gothic"/>
              </a:rPr>
              <a:t>Gabriela Mollo </a:t>
            </a:r>
            <a:r>
              <a:rPr b="1" lang="es-ES_tradnl" sz="2000" spc="-1" strike="noStrike" baseline="30000">
                <a:solidFill>
                  <a:srgbClr val="486696"/>
                </a:solidFill>
                <a:latin typeface="Century Gothic"/>
              </a:rPr>
              <a:t>(*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buClr>
                <a:srgbClr val="486696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486696"/>
                </a:solidFill>
                <a:latin typeface="Century Gothic"/>
              </a:rPr>
              <a:t> </a:t>
            </a:r>
            <a:r>
              <a:rPr b="1" lang="es-ES_tradnl" sz="2000" spc="-1" strike="noStrike">
                <a:solidFill>
                  <a:srgbClr val="486696"/>
                </a:solidFill>
                <a:latin typeface="Century Gothic"/>
              </a:rPr>
              <a:t>Estefanía Solar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9"/>
          <p:cNvSpPr/>
          <p:nvPr/>
        </p:nvSpPr>
        <p:spPr>
          <a:xfrm>
            <a:off x="6154560" y="6237360"/>
            <a:ext cx="2989440" cy="4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CopprplGoth Bd BT Bold"/>
              </a:rPr>
              <a:t>(*) Trabajo realizado en el marco de una Beca CONICET. Director: Juan José Gill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1297080" cy="94752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1692360" y="147600"/>
            <a:ext cx="7200720" cy="90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1f497d"/>
                </a:solidFill>
                <a:latin typeface="Broadway"/>
              </a:rPr>
              <a:t>OPINIÓN DE LOS ALUMNOS DE MBA’S SOBRE NEGOCIOS Y SOCIEDAD (I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3 CuadroTexto"/>
          <p:cNvSpPr/>
          <p:nvPr/>
        </p:nvSpPr>
        <p:spPr>
          <a:xfrm>
            <a:off x="0" y="1428840"/>
            <a:ext cx="914400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buClr>
                <a:srgbClr val="4d4d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1f497d"/>
                </a:solidFill>
                <a:latin typeface="Century Gothic"/>
              </a:rPr>
              <a:t> </a:t>
            </a:r>
            <a:r>
              <a:rPr b="0" lang="es-MX" sz="1800" spc="-1" strike="noStrike">
                <a:solidFill>
                  <a:srgbClr val="1f497d"/>
                </a:solidFill>
                <a:latin typeface="Century Gothic"/>
              </a:rPr>
              <a:t>RSE entendida como gasto no como invers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13"/>
          <p:cNvSpPr/>
          <p:nvPr/>
        </p:nvSpPr>
        <p:spPr>
          <a:xfrm>
            <a:off x="0" y="2133720"/>
            <a:ext cx="5181480" cy="0"/>
          </a:xfrm>
          <a:prstGeom prst="line">
            <a:avLst/>
          </a:prstGeom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108000" y="2349360"/>
            <a:ext cx="8964720" cy="2905920"/>
            <a:chOff x="108000" y="2349360"/>
            <a:chExt cx="8964720" cy="2905920"/>
          </a:xfrm>
        </p:grpSpPr>
        <p:sp>
          <p:nvSpPr>
            <p:cNvPr id="145" name=""/>
            <p:cNvSpPr/>
            <p:nvPr/>
          </p:nvSpPr>
          <p:spPr>
            <a:xfrm>
              <a:off x="108000" y="2781000"/>
              <a:ext cx="2376360" cy="19447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484360" y="2349360"/>
              <a:ext cx="6588360" cy="23763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627280" y="2420640"/>
              <a:ext cx="2087640" cy="3603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ffffff"/>
                  </a:solidFill>
                  <a:latin typeface="Century Gothic"/>
                </a:rPr>
                <a:t>EXIGENCI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788000" y="2420640"/>
              <a:ext cx="2087640" cy="3603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ffffff"/>
                  </a:solidFill>
                  <a:latin typeface="Century Gothic"/>
                </a:rPr>
                <a:t>PREGUNT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948360" y="2420640"/>
              <a:ext cx="2087640" cy="3603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ffffff"/>
                  </a:solidFill>
                  <a:latin typeface="Century Gothic"/>
                </a:rPr>
                <a:t>ESTRATEGI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16200000">
              <a:off x="-506160" y="3609360"/>
              <a:ext cx="1728720" cy="3603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ffffff"/>
                  </a:solidFill>
                  <a:latin typeface="Century Gothic"/>
                </a:rPr>
                <a:t>FUEN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11280" y="2925360"/>
              <a:ext cx="1800000" cy="36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Century Gothic"/>
                </a:rPr>
                <a:t>Deber soci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11280" y="3357360"/>
              <a:ext cx="1800000" cy="36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Century Gothic"/>
                </a:rPr>
                <a:t>Solidarida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11280" y="3789000"/>
              <a:ext cx="1800000" cy="36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Century Gothic"/>
                </a:rPr>
                <a:t>Responsabilida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11280" y="4221000"/>
              <a:ext cx="1800000" cy="36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Century Gothic"/>
                </a:rPr>
                <a:t>Corresponsabilida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627280" y="2925360"/>
              <a:ext cx="2087640" cy="36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Century Gothic"/>
                </a:rPr>
                <a:t>Adaptativ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627280" y="3357360"/>
              <a:ext cx="2087640" cy="36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Century Gothic"/>
                </a:rPr>
                <a:t>Caritativ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629080" y="3789000"/>
              <a:ext cx="2087280" cy="36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Century Gothic"/>
                </a:rPr>
                <a:t>Proactiv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627280" y="4221000"/>
              <a:ext cx="2087640" cy="36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Century Gothic"/>
                </a:rPr>
                <a:t>Interactiv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789440" y="2925360"/>
              <a:ext cx="2087640" cy="79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Century Gothic"/>
                </a:rPr>
                <a:t>¿Cuánto damos?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788000" y="3789000"/>
              <a:ext cx="2087640" cy="36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Century Gothic"/>
                </a:rPr>
                <a:t>¿Cuál es el impacto?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788000" y="4221000"/>
              <a:ext cx="2087640" cy="36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Century Gothic"/>
                </a:rPr>
                <a:t>¿Cómo crecer junto?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948360" y="2925360"/>
              <a:ext cx="2087640" cy="79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Century Gothic"/>
                </a:rPr>
                <a:t>Filantropí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948360" y="3789000"/>
              <a:ext cx="2087640" cy="36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Century Gothic"/>
                </a:rPr>
                <a:t>Inversión socia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948360" y="4221000"/>
              <a:ext cx="2087640" cy="36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Century Gothic"/>
                </a:rPr>
                <a:t>Integración socia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626200" y="4796280"/>
              <a:ext cx="64047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Century Gothic"/>
                </a:rPr>
                <a:t>Fuente: Programa de formación de formadores en Responsabilidad Social Empresaria.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Century Gothic"/>
                </a:rPr>
                <a:t>Red Iberoamericana de Universidades por la RSE. Material de clase (2009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6" name=""/>
          <p:cNvSpPr/>
          <p:nvPr/>
        </p:nvSpPr>
        <p:spPr>
          <a:xfrm>
            <a:off x="4572000" y="2779560"/>
            <a:ext cx="2448000" cy="1009800"/>
          </a:xfrm>
          <a:prstGeom prst="ellipse">
            <a:avLst/>
          </a:prstGeom>
          <a:noFill/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3 CuadroTexto"/>
          <p:cNvSpPr/>
          <p:nvPr/>
        </p:nvSpPr>
        <p:spPr>
          <a:xfrm>
            <a:off x="539640" y="5516640"/>
            <a:ext cx="835344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800" spc="-1" strike="noStrike">
                <a:solidFill>
                  <a:srgbClr val="1f497d"/>
                </a:solidFill>
                <a:latin typeface="Baskerville Old Face"/>
              </a:rPr>
              <a:t>Desafío: búsqueda de coherencia moral entre el discurso y la practic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 Box 3"/>
          <p:cNvSpPr/>
          <p:nvPr/>
        </p:nvSpPr>
        <p:spPr>
          <a:xfrm>
            <a:off x="1332000" y="1773360"/>
            <a:ext cx="4752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ff"/>
                </a:solidFill>
                <a:latin typeface="Broadway"/>
              </a:rPr>
              <a:t>SEGUNDA PAR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Broadway"/>
              </a:rPr>
              <a:t>De la enseñanza en la ética en los MBA’s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L O G O T I  P O color"/>
          <p:cNvPicPr/>
          <p:nvPr/>
        </p:nvPicPr>
        <p:blipFill>
          <a:blip r:embed="rId2"/>
          <a:stretch/>
        </p:blipFill>
        <p:spPr>
          <a:xfrm>
            <a:off x="179280" y="189000"/>
            <a:ext cx="1297080" cy="94752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3"/>
          <p:cNvSpPr/>
          <p:nvPr/>
        </p:nvSpPr>
        <p:spPr>
          <a:xfrm>
            <a:off x="1835280" y="-27000"/>
            <a:ext cx="7092720" cy="1160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3366"/>
                </a:solidFill>
                <a:latin typeface="Broadway"/>
              </a:rPr>
              <a:t>DE LA ENSEÑANZA DE LA ÉTICA EN LOS MBA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4 Marcador de número de diapositiva"/>
          <p:cNvSpPr/>
          <p:nvPr/>
        </p:nvSpPr>
        <p:spPr>
          <a:xfrm>
            <a:off x="709920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E0A2F-F062-4037-84B7-A5D284FC2FBC}" type="slidenum">
              <a:rPr b="0" lang="es-A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971640" y="1700280"/>
            <a:ext cx="7527960" cy="2406600"/>
            <a:chOff x="971640" y="1700280"/>
            <a:chExt cx="7527960" cy="2406600"/>
          </a:xfrm>
        </p:grpSpPr>
        <p:sp>
          <p:nvSpPr>
            <p:cNvPr id="173" name=""/>
            <p:cNvSpPr/>
            <p:nvPr/>
          </p:nvSpPr>
          <p:spPr>
            <a:xfrm>
              <a:off x="1171800" y="1719360"/>
              <a:ext cx="1995480" cy="2371680"/>
            </a:xfrm>
            <a:custGeom>
              <a:avLst/>
              <a:gdLst/>
              <a:ahLst/>
              <a:rect l="l" t="t" r="r" b="b"/>
              <a:pathLst>
                <a:path w="1089" h="1494">
                  <a:moveTo>
                    <a:pt x="0" y="0"/>
                  </a:moveTo>
                  <a:lnTo>
                    <a:pt x="776" y="0"/>
                  </a:lnTo>
                  <a:lnTo>
                    <a:pt x="1089" y="747"/>
                  </a:lnTo>
                  <a:lnTo>
                    <a:pt x="776" y="1494"/>
                  </a:lnTo>
                  <a:lnTo>
                    <a:pt x="0" y="14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eb4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155960" y="1704960"/>
              <a:ext cx="2011320" cy="2401920"/>
            </a:xfrm>
            <a:custGeom>
              <a:avLst/>
              <a:gdLst/>
              <a:ahLst/>
              <a:rect l="l" t="t" r="r" b="b"/>
              <a:pathLst>
                <a:path w="2817" h="3888">
                  <a:moveTo>
                    <a:pt x="0" y="24"/>
                  </a:moveTo>
                  <a:cubicBezTo>
                    <a:pt x="0" y="11"/>
                    <a:pt x="11" y="0"/>
                    <a:pt x="24" y="0"/>
                  </a:cubicBezTo>
                  <a:lnTo>
                    <a:pt x="1996" y="0"/>
                  </a:lnTo>
                  <a:cubicBezTo>
                    <a:pt x="2005" y="0"/>
                    <a:pt x="2014" y="6"/>
                    <a:pt x="2018" y="15"/>
                  </a:cubicBezTo>
                  <a:lnTo>
                    <a:pt x="2815" y="1935"/>
                  </a:lnTo>
                  <a:cubicBezTo>
                    <a:pt x="2817" y="1941"/>
                    <a:pt x="2817" y="1948"/>
                    <a:pt x="2815" y="1954"/>
                  </a:cubicBezTo>
                  <a:lnTo>
                    <a:pt x="2018" y="3874"/>
                  </a:lnTo>
                  <a:cubicBezTo>
                    <a:pt x="2014" y="3883"/>
                    <a:pt x="2005" y="3888"/>
                    <a:pt x="1996" y="3888"/>
                  </a:cubicBezTo>
                  <a:lnTo>
                    <a:pt x="24" y="3888"/>
                  </a:lnTo>
                  <a:cubicBezTo>
                    <a:pt x="11" y="3888"/>
                    <a:pt x="0" y="3878"/>
                    <a:pt x="0" y="3864"/>
                  </a:cubicBezTo>
                  <a:lnTo>
                    <a:pt x="0" y="24"/>
                  </a:lnTo>
                  <a:close/>
                  <a:moveTo>
                    <a:pt x="48" y="3864"/>
                  </a:moveTo>
                  <a:lnTo>
                    <a:pt x="24" y="3840"/>
                  </a:lnTo>
                  <a:lnTo>
                    <a:pt x="1996" y="3840"/>
                  </a:lnTo>
                  <a:lnTo>
                    <a:pt x="1973" y="3855"/>
                  </a:lnTo>
                  <a:lnTo>
                    <a:pt x="2770" y="1935"/>
                  </a:lnTo>
                  <a:lnTo>
                    <a:pt x="2770" y="1954"/>
                  </a:lnTo>
                  <a:lnTo>
                    <a:pt x="1973" y="34"/>
                  </a:lnTo>
                  <a:lnTo>
                    <a:pt x="1996" y="48"/>
                  </a:lnTo>
                  <a:lnTo>
                    <a:pt x="24" y="48"/>
                  </a:lnTo>
                  <a:lnTo>
                    <a:pt x="48" y="24"/>
                  </a:lnTo>
                  <a:lnTo>
                    <a:pt x="48" y="3864"/>
                  </a:lnTo>
                  <a:close/>
                </a:path>
              </a:pathLst>
            </a:custGeom>
            <a:solidFill>
              <a:srgbClr val="385d8a"/>
            </a:solidFill>
            <a:ln w="0">
              <a:solidFill>
                <a:srgbClr val="385d8a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014640" y="1714680"/>
              <a:ext cx="2735280" cy="2371680"/>
            </a:xfrm>
            <a:custGeom>
              <a:avLst/>
              <a:gdLst/>
              <a:ahLst/>
              <a:rect l="l" t="t" r="r" b="b"/>
              <a:pathLst>
                <a:path w="1467" h="1494">
                  <a:moveTo>
                    <a:pt x="0" y="0"/>
                  </a:moveTo>
                  <a:lnTo>
                    <a:pt x="1164" y="0"/>
                  </a:lnTo>
                  <a:lnTo>
                    <a:pt x="1467" y="747"/>
                  </a:lnTo>
                  <a:lnTo>
                    <a:pt x="1164" y="1494"/>
                  </a:lnTo>
                  <a:lnTo>
                    <a:pt x="0" y="1494"/>
                  </a:lnTo>
                  <a:lnTo>
                    <a:pt x="302" y="74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eb4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22560" y="1700280"/>
              <a:ext cx="2727360" cy="2401920"/>
            </a:xfrm>
            <a:custGeom>
              <a:avLst/>
              <a:gdLst/>
              <a:ahLst/>
              <a:rect l="l" t="t" r="r" b="b"/>
              <a:pathLst>
                <a:path w="1491" h="1513">
                  <a:moveTo>
                    <a:pt x="0" y="0"/>
                  </a:moveTo>
                  <a:lnTo>
                    <a:pt x="1185" y="0"/>
                  </a:lnTo>
                  <a:lnTo>
                    <a:pt x="1491" y="756"/>
                  </a:lnTo>
                  <a:lnTo>
                    <a:pt x="1185" y="1513"/>
                  </a:lnTo>
                  <a:lnTo>
                    <a:pt x="0" y="1513"/>
                  </a:lnTo>
                  <a:lnTo>
                    <a:pt x="308" y="753"/>
                  </a:lnTo>
                  <a:lnTo>
                    <a:pt x="308" y="760"/>
                  </a:lnTo>
                  <a:lnTo>
                    <a:pt x="0" y="0"/>
                  </a:lnTo>
                  <a:close/>
                  <a:moveTo>
                    <a:pt x="327" y="756"/>
                  </a:moveTo>
                  <a:lnTo>
                    <a:pt x="23" y="1507"/>
                  </a:lnTo>
                  <a:lnTo>
                    <a:pt x="14" y="1494"/>
                  </a:lnTo>
                  <a:lnTo>
                    <a:pt x="1178" y="1494"/>
                  </a:lnTo>
                  <a:lnTo>
                    <a:pt x="1170" y="1500"/>
                  </a:lnTo>
                  <a:lnTo>
                    <a:pt x="1472" y="753"/>
                  </a:lnTo>
                  <a:lnTo>
                    <a:pt x="1472" y="760"/>
                  </a:lnTo>
                  <a:lnTo>
                    <a:pt x="1170" y="13"/>
                  </a:lnTo>
                  <a:lnTo>
                    <a:pt x="1178" y="19"/>
                  </a:lnTo>
                  <a:lnTo>
                    <a:pt x="14" y="19"/>
                  </a:lnTo>
                  <a:lnTo>
                    <a:pt x="23" y="6"/>
                  </a:lnTo>
                  <a:lnTo>
                    <a:pt x="327" y="756"/>
                  </a:lnTo>
                  <a:close/>
                </a:path>
              </a:pathLst>
            </a:custGeom>
            <a:solidFill>
              <a:srgbClr val="385d8a"/>
            </a:solidFill>
            <a:ln w="0">
              <a:solidFill>
                <a:srgbClr val="385d8a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759640" y="1719360"/>
              <a:ext cx="2739960" cy="2371680"/>
            </a:xfrm>
            <a:custGeom>
              <a:avLst/>
              <a:gdLst/>
              <a:ahLst/>
              <a:rect l="l" t="t" r="r" b="b"/>
              <a:pathLst>
                <a:path w="1454" h="1494">
                  <a:moveTo>
                    <a:pt x="0" y="0"/>
                  </a:moveTo>
                  <a:lnTo>
                    <a:pt x="1168" y="0"/>
                  </a:lnTo>
                  <a:lnTo>
                    <a:pt x="1454" y="747"/>
                  </a:lnTo>
                  <a:lnTo>
                    <a:pt x="1168" y="1494"/>
                  </a:lnTo>
                  <a:lnTo>
                    <a:pt x="0" y="1494"/>
                  </a:lnTo>
                  <a:lnTo>
                    <a:pt x="286" y="74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eb4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718240" y="1704960"/>
              <a:ext cx="2778120" cy="2401920"/>
            </a:xfrm>
            <a:custGeom>
              <a:avLst/>
              <a:gdLst/>
              <a:ahLst/>
              <a:rect l="l" t="t" r="r" b="b"/>
              <a:pathLst>
                <a:path w="1478" h="1513">
                  <a:moveTo>
                    <a:pt x="0" y="0"/>
                  </a:moveTo>
                  <a:lnTo>
                    <a:pt x="1188" y="0"/>
                  </a:lnTo>
                  <a:lnTo>
                    <a:pt x="1478" y="756"/>
                  </a:lnTo>
                  <a:lnTo>
                    <a:pt x="1188" y="1513"/>
                  </a:lnTo>
                  <a:lnTo>
                    <a:pt x="0" y="1513"/>
                  </a:lnTo>
                  <a:lnTo>
                    <a:pt x="291" y="753"/>
                  </a:lnTo>
                  <a:lnTo>
                    <a:pt x="291" y="760"/>
                  </a:lnTo>
                  <a:lnTo>
                    <a:pt x="0" y="0"/>
                  </a:lnTo>
                  <a:close/>
                  <a:moveTo>
                    <a:pt x="310" y="756"/>
                  </a:moveTo>
                  <a:lnTo>
                    <a:pt x="22" y="1507"/>
                  </a:lnTo>
                  <a:lnTo>
                    <a:pt x="13" y="1494"/>
                  </a:lnTo>
                  <a:lnTo>
                    <a:pt x="1181" y="1494"/>
                  </a:lnTo>
                  <a:lnTo>
                    <a:pt x="1172" y="1500"/>
                  </a:lnTo>
                  <a:lnTo>
                    <a:pt x="1459" y="753"/>
                  </a:lnTo>
                  <a:lnTo>
                    <a:pt x="1459" y="760"/>
                  </a:lnTo>
                  <a:lnTo>
                    <a:pt x="1172" y="13"/>
                  </a:lnTo>
                  <a:lnTo>
                    <a:pt x="1181" y="19"/>
                  </a:lnTo>
                  <a:lnTo>
                    <a:pt x="13" y="19"/>
                  </a:lnTo>
                  <a:lnTo>
                    <a:pt x="22" y="6"/>
                  </a:lnTo>
                  <a:lnTo>
                    <a:pt x="310" y="756"/>
                  </a:lnTo>
                  <a:close/>
                </a:path>
              </a:pathLst>
            </a:custGeom>
            <a:solidFill>
              <a:srgbClr val="385d8a"/>
            </a:solidFill>
            <a:ln w="0">
              <a:solidFill>
                <a:srgbClr val="385d8a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971640" y="2441520"/>
              <a:ext cx="21956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Century Gothic"/>
                </a:rPr>
                <a:t>La ética como ciencia en si mism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456000" y="2565360"/>
              <a:ext cx="2195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Century Gothic"/>
                </a:rPr>
                <a:t>La ética “de” y “en” la empres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264360" y="2565360"/>
              <a:ext cx="21956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Century Gothic"/>
                </a:rPr>
                <a:t>El ethos oculto de las institucion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2" name=""/>
          <p:cNvSpPr/>
          <p:nvPr/>
        </p:nvSpPr>
        <p:spPr>
          <a:xfrm>
            <a:off x="2987640" y="5229360"/>
            <a:ext cx="24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Aprendizaje basado en proyectos soci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635280" y="4221000"/>
            <a:ext cx="1152720" cy="792360"/>
          </a:xfrm>
          <a:prstGeom prst="downArrow">
            <a:avLst>
              <a:gd name="adj1" fmla="val 0"/>
              <a:gd name="adj2" fmla="val 23449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2" descr="L O G O T I  P O color"/>
          <p:cNvPicPr/>
          <p:nvPr/>
        </p:nvPicPr>
        <p:blipFill>
          <a:blip r:embed="rId2"/>
          <a:stretch/>
        </p:blipFill>
        <p:spPr>
          <a:xfrm>
            <a:off x="179280" y="189000"/>
            <a:ext cx="1297080" cy="947520"/>
          </a:xfrm>
          <a:prstGeom prst="rect">
            <a:avLst/>
          </a:prstGeom>
          <a:ln w="0">
            <a:noFill/>
          </a:ln>
        </p:spPr>
      </p:pic>
      <p:sp>
        <p:nvSpPr>
          <p:cNvPr id="185" name="Text Box 3"/>
          <p:cNvSpPr/>
          <p:nvPr/>
        </p:nvSpPr>
        <p:spPr>
          <a:xfrm>
            <a:off x="1835280" y="-27000"/>
            <a:ext cx="7092720" cy="1160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3366"/>
                </a:solidFill>
                <a:latin typeface="Broadway"/>
              </a:rPr>
              <a:t>EL ETHOS OCULTO DE LAS INSTITUCIONES EDUCATIV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7343640" y="189000"/>
            <a:ext cx="1800360" cy="469440"/>
            <a:chOff x="7343640" y="189000"/>
            <a:chExt cx="1800360" cy="469440"/>
          </a:xfrm>
        </p:grpSpPr>
        <p:sp>
          <p:nvSpPr>
            <p:cNvPr id="187" name=""/>
            <p:cNvSpPr/>
            <p:nvPr/>
          </p:nvSpPr>
          <p:spPr>
            <a:xfrm>
              <a:off x="7343640" y="190440"/>
              <a:ext cx="539640" cy="460080"/>
            </a:xfrm>
            <a:custGeom>
              <a:avLst/>
              <a:gdLst/>
              <a:ahLst/>
              <a:rect l="l" t="t" r="r" b="b"/>
              <a:pathLst>
                <a:path w="2817" h="3888">
                  <a:moveTo>
                    <a:pt x="0" y="24"/>
                  </a:moveTo>
                  <a:cubicBezTo>
                    <a:pt x="0" y="11"/>
                    <a:pt x="11" y="0"/>
                    <a:pt x="24" y="0"/>
                  </a:cubicBezTo>
                  <a:lnTo>
                    <a:pt x="1996" y="0"/>
                  </a:lnTo>
                  <a:cubicBezTo>
                    <a:pt x="2005" y="0"/>
                    <a:pt x="2014" y="6"/>
                    <a:pt x="2018" y="15"/>
                  </a:cubicBezTo>
                  <a:lnTo>
                    <a:pt x="2815" y="1935"/>
                  </a:lnTo>
                  <a:cubicBezTo>
                    <a:pt x="2817" y="1941"/>
                    <a:pt x="2817" y="1948"/>
                    <a:pt x="2815" y="1954"/>
                  </a:cubicBezTo>
                  <a:lnTo>
                    <a:pt x="2018" y="3874"/>
                  </a:lnTo>
                  <a:cubicBezTo>
                    <a:pt x="2014" y="3883"/>
                    <a:pt x="2005" y="3888"/>
                    <a:pt x="1996" y="3888"/>
                  </a:cubicBezTo>
                  <a:lnTo>
                    <a:pt x="24" y="3888"/>
                  </a:lnTo>
                  <a:cubicBezTo>
                    <a:pt x="11" y="3888"/>
                    <a:pt x="0" y="3878"/>
                    <a:pt x="0" y="3864"/>
                  </a:cubicBezTo>
                  <a:lnTo>
                    <a:pt x="0" y="24"/>
                  </a:lnTo>
                  <a:close/>
                  <a:moveTo>
                    <a:pt x="48" y="3864"/>
                  </a:moveTo>
                  <a:lnTo>
                    <a:pt x="24" y="3840"/>
                  </a:lnTo>
                  <a:lnTo>
                    <a:pt x="1996" y="3840"/>
                  </a:lnTo>
                  <a:lnTo>
                    <a:pt x="1973" y="3855"/>
                  </a:lnTo>
                  <a:lnTo>
                    <a:pt x="2770" y="1935"/>
                  </a:lnTo>
                  <a:lnTo>
                    <a:pt x="2770" y="1954"/>
                  </a:lnTo>
                  <a:lnTo>
                    <a:pt x="1973" y="34"/>
                  </a:lnTo>
                  <a:lnTo>
                    <a:pt x="1996" y="48"/>
                  </a:lnTo>
                  <a:lnTo>
                    <a:pt x="24" y="48"/>
                  </a:lnTo>
                  <a:lnTo>
                    <a:pt x="48" y="24"/>
                  </a:lnTo>
                  <a:lnTo>
                    <a:pt x="48" y="3864"/>
                  </a:lnTo>
                  <a:close/>
                </a:path>
              </a:pathLst>
            </a:custGeom>
            <a:solidFill>
              <a:srgbClr val="385d8a"/>
            </a:solidFill>
            <a:ln w="0">
              <a:solidFill>
                <a:srgbClr val="385d8a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775640" y="190440"/>
              <a:ext cx="731520" cy="460080"/>
            </a:xfrm>
            <a:custGeom>
              <a:avLst/>
              <a:gdLst/>
              <a:ahLst/>
              <a:rect l="l" t="t" r="r" b="b"/>
              <a:pathLst>
                <a:path w="1491" h="1513">
                  <a:moveTo>
                    <a:pt x="0" y="0"/>
                  </a:moveTo>
                  <a:lnTo>
                    <a:pt x="1185" y="0"/>
                  </a:lnTo>
                  <a:lnTo>
                    <a:pt x="1491" y="756"/>
                  </a:lnTo>
                  <a:lnTo>
                    <a:pt x="1185" y="1513"/>
                  </a:lnTo>
                  <a:lnTo>
                    <a:pt x="0" y="1513"/>
                  </a:lnTo>
                  <a:lnTo>
                    <a:pt x="308" y="753"/>
                  </a:lnTo>
                  <a:lnTo>
                    <a:pt x="308" y="760"/>
                  </a:lnTo>
                  <a:lnTo>
                    <a:pt x="0" y="0"/>
                  </a:lnTo>
                  <a:close/>
                  <a:moveTo>
                    <a:pt x="327" y="756"/>
                  </a:moveTo>
                  <a:lnTo>
                    <a:pt x="23" y="1507"/>
                  </a:lnTo>
                  <a:lnTo>
                    <a:pt x="14" y="1494"/>
                  </a:lnTo>
                  <a:lnTo>
                    <a:pt x="1178" y="1494"/>
                  </a:lnTo>
                  <a:lnTo>
                    <a:pt x="1170" y="1500"/>
                  </a:lnTo>
                  <a:lnTo>
                    <a:pt x="1472" y="753"/>
                  </a:lnTo>
                  <a:lnTo>
                    <a:pt x="1472" y="760"/>
                  </a:lnTo>
                  <a:lnTo>
                    <a:pt x="1170" y="13"/>
                  </a:lnTo>
                  <a:lnTo>
                    <a:pt x="1178" y="19"/>
                  </a:lnTo>
                  <a:lnTo>
                    <a:pt x="14" y="19"/>
                  </a:lnTo>
                  <a:lnTo>
                    <a:pt x="23" y="6"/>
                  </a:lnTo>
                  <a:lnTo>
                    <a:pt x="327" y="756"/>
                  </a:lnTo>
                  <a:close/>
                </a:path>
              </a:pathLst>
            </a:custGeom>
            <a:solidFill>
              <a:srgbClr val="385d8a"/>
            </a:solidFill>
            <a:ln w="0">
              <a:solidFill>
                <a:srgbClr val="385d8a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408880" y="189000"/>
              <a:ext cx="735120" cy="453960"/>
            </a:xfrm>
            <a:custGeom>
              <a:avLst/>
              <a:gdLst/>
              <a:ahLst/>
              <a:rect l="l" t="t" r="r" b="b"/>
              <a:pathLst>
                <a:path w="1454" h="1494">
                  <a:moveTo>
                    <a:pt x="0" y="0"/>
                  </a:moveTo>
                  <a:lnTo>
                    <a:pt x="1168" y="0"/>
                  </a:lnTo>
                  <a:lnTo>
                    <a:pt x="1454" y="747"/>
                  </a:lnTo>
                  <a:lnTo>
                    <a:pt x="1168" y="1494"/>
                  </a:lnTo>
                  <a:lnTo>
                    <a:pt x="0" y="1494"/>
                  </a:lnTo>
                  <a:lnTo>
                    <a:pt x="286" y="74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eb4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8394480" y="198360"/>
              <a:ext cx="746280" cy="460080"/>
            </a:xfrm>
            <a:custGeom>
              <a:avLst/>
              <a:gdLst/>
              <a:ahLst/>
              <a:rect l="l" t="t" r="r" b="b"/>
              <a:pathLst>
                <a:path w="1478" h="1513">
                  <a:moveTo>
                    <a:pt x="0" y="0"/>
                  </a:moveTo>
                  <a:lnTo>
                    <a:pt x="1188" y="0"/>
                  </a:lnTo>
                  <a:lnTo>
                    <a:pt x="1478" y="756"/>
                  </a:lnTo>
                  <a:lnTo>
                    <a:pt x="1188" y="1513"/>
                  </a:lnTo>
                  <a:lnTo>
                    <a:pt x="0" y="1513"/>
                  </a:lnTo>
                  <a:lnTo>
                    <a:pt x="291" y="753"/>
                  </a:lnTo>
                  <a:lnTo>
                    <a:pt x="291" y="760"/>
                  </a:lnTo>
                  <a:lnTo>
                    <a:pt x="0" y="0"/>
                  </a:lnTo>
                  <a:close/>
                  <a:moveTo>
                    <a:pt x="310" y="756"/>
                  </a:moveTo>
                  <a:lnTo>
                    <a:pt x="22" y="1507"/>
                  </a:lnTo>
                  <a:lnTo>
                    <a:pt x="13" y="1494"/>
                  </a:lnTo>
                  <a:lnTo>
                    <a:pt x="1181" y="1494"/>
                  </a:lnTo>
                  <a:lnTo>
                    <a:pt x="1172" y="1500"/>
                  </a:lnTo>
                  <a:lnTo>
                    <a:pt x="1459" y="753"/>
                  </a:lnTo>
                  <a:lnTo>
                    <a:pt x="1459" y="760"/>
                  </a:lnTo>
                  <a:lnTo>
                    <a:pt x="1172" y="13"/>
                  </a:lnTo>
                  <a:lnTo>
                    <a:pt x="1181" y="19"/>
                  </a:lnTo>
                  <a:lnTo>
                    <a:pt x="13" y="19"/>
                  </a:lnTo>
                  <a:lnTo>
                    <a:pt x="22" y="6"/>
                  </a:lnTo>
                  <a:lnTo>
                    <a:pt x="310" y="756"/>
                  </a:lnTo>
                  <a:close/>
                </a:path>
              </a:pathLst>
            </a:custGeom>
            <a:solidFill>
              <a:srgbClr val="385d8a"/>
            </a:solidFill>
            <a:ln w="0">
              <a:solidFill>
                <a:srgbClr val="385d8a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3 CuadroTexto"/>
          <p:cNvSpPr/>
          <p:nvPr/>
        </p:nvSpPr>
        <p:spPr>
          <a:xfrm>
            <a:off x="0" y="1341360"/>
            <a:ext cx="91440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entury Gothic"/>
              </a:rPr>
              <a:t>Son los aspectos de la vida cotidiana, tanto administrativa como pedagógica, que no están abiertamente formulados y explicitados, pero que sí existen y tienen efectos actitudinales y valorativos que condicionan el normal proceso de aprendizaje de los estudiante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13"/>
          <p:cNvSpPr/>
          <p:nvPr/>
        </p:nvSpPr>
        <p:spPr>
          <a:xfrm>
            <a:off x="0" y="2708280"/>
            <a:ext cx="5181480" cy="0"/>
          </a:xfrm>
          <a:prstGeom prst="line">
            <a:avLst/>
          </a:prstGeom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987640" y="3808440"/>
            <a:ext cx="2951280" cy="1584360"/>
          </a:xfrm>
          <a:custGeom>
            <a:avLst/>
            <a:gdLst>
              <a:gd name="textAreaLeft" fmla="*/ 737640 w 2951280"/>
              <a:gd name="textAreaRight" fmla="*/ 2213640 w 2951280"/>
              <a:gd name="textAreaTop" fmla="*/ 396000 h 1584360"/>
              <a:gd name="textAreaBottom" fmla="*/ 1188360 h 158436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10800" y="5400"/>
                </a:lnTo>
                <a:lnTo>
                  <a:pt x="10800" y="2186"/>
                </a:lnTo>
                <a:lnTo>
                  <a:pt x="5400" y="2186"/>
                </a:lnTo>
                <a:lnTo>
                  <a:pt x="10800" y="0"/>
                </a:lnTo>
                <a:lnTo>
                  <a:pt x="16200" y="2186"/>
                </a:lnTo>
                <a:lnTo>
                  <a:pt x="10800" y="2186"/>
                </a:lnTo>
                <a:lnTo>
                  <a:pt x="10800" y="5400"/>
                </a:lnTo>
                <a:lnTo>
                  <a:pt x="16200" y="5400"/>
                </a:lnTo>
                <a:lnTo>
                  <a:pt x="16200" y="10800"/>
                </a:lnTo>
                <a:lnTo>
                  <a:pt x="19414" y="10800"/>
                </a:lnTo>
                <a:lnTo>
                  <a:pt x="19414" y="5400"/>
                </a:lnTo>
                <a:lnTo>
                  <a:pt x="21600" y="10800"/>
                </a:lnTo>
                <a:lnTo>
                  <a:pt x="19414" y="16200"/>
                </a:lnTo>
                <a:lnTo>
                  <a:pt x="19414" y="10800"/>
                </a:lnTo>
                <a:lnTo>
                  <a:pt x="16200" y="10800"/>
                </a:lnTo>
                <a:lnTo>
                  <a:pt x="16200" y="16200"/>
                </a:lnTo>
                <a:lnTo>
                  <a:pt x="10800" y="16200"/>
                </a:lnTo>
                <a:lnTo>
                  <a:pt x="10800" y="19414"/>
                </a:lnTo>
                <a:lnTo>
                  <a:pt x="16200" y="19414"/>
                </a:lnTo>
                <a:lnTo>
                  <a:pt x="10800" y="21600"/>
                </a:lnTo>
                <a:lnTo>
                  <a:pt x="5400" y="19414"/>
                </a:lnTo>
                <a:lnTo>
                  <a:pt x="10800" y="19414"/>
                </a:lnTo>
                <a:lnTo>
                  <a:pt x="10800" y="16200"/>
                </a:lnTo>
                <a:lnTo>
                  <a:pt x="5400" y="16200"/>
                </a:lnTo>
                <a:lnTo>
                  <a:pt x="5400" y="10800"/>
                </a:lnTo>
                <a:lnTo>
                  <a:pt x="2186" y="10800"/>
                </a:lnTo>
                <a:lnTo>
                  <a:pt x="2186" y="16200"/>
                </a:lnTo>
                <a:lnTo>
                  <a:pt x="0" y="10800"/>
                </a:lnTo>
                <a:lnTo>
                  <a:pt x="2186" y="5400"/>
                </a:lnTo>
                <a:lnTo>
                  <a:pt x="2186" y="108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Century Gothic"/>
              </a:rPr>
              <a:t>4 ámbit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Century Gothic"/>
              </a:rPr>
              <a:t>de estud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203640" y="3213000"/>
            <a:ext cx="24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entury Gothic"/>
              </a:rPr>
              <a:t>La malla curricula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580000" y="4248000"/>
            <a:ext cx="24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entury Gothic"/>
              </a:rPr>
              <a:t>Métodos de enseñanz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203640" y="5608800"/>
            <a:ext cx="244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entury Gothic"/>
              </a:rPr>
              <a:t>Percepción de la comunidad universitar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50920" y="4097160"/>
            <a:ext cx="2663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entury Gothic"/>
              </a:rPr>
              <a:t>Auto-representación producida por la universida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50920" y="4005360"/>
            <a:ext cx="2663640" cy="1079280"/>
          </a:xfrm>
          <a:prstGeom prst="rect">
            <a:avLst/>
          </a:prstGeom>
          <a:noFill/>
          <a:ln w="38160">
            <a:solidFill>
              <a:srgbClr val="4f81b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2" descr="L O G O T I  P O color"/>
          <p:cNvPicPr/>
          <p:nvPr/>
        </p:nvPicPr>
        <p:blipFill>
          <a:blip r:embed="rId2"/>
          <a:stretch/>
        </p:blipFill>
        <p:spPr>
          <a:xfrm>
            <a:off x="179280" y="189000"/>
            <a:ext cx="1297080" cy="947520"/>
          </a:xfrm>
          <a:prstGeom prst="rect">
            <a:avLst/>
          </a:prstGeom>
          <a:ln w="0">
            <a:noFill/>
          </a:ln>
        </p:spPr>
      </p:pic>
      <p:sp>
        <p:nvSpPr>
          <p:cNvPr id="200" name="Text Box 3"/>
          <p:cNvSpPr/>
          <p:nvPr/>
        </p:nvSpPr>
        <p:spPr>
          <a:xfrm>
            <a:off x="1835280" y="-27000"/>
            <a:ext cx="7092720" cy="1160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3366"/>
                </a:solidFill>
                <a:latin typeface="Broadway"/>
              </a:rPr>
              <a:t>EL ETHOS OCULTO DE LAS INSTITUCIONES EDUCATIV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7343640" y="189000"/>
            <a:ext cx="1800360" cy="469440"/>
            <a:chOff x="7343640" y="189000"/>
            <a:chExt cx="1800360" cy="469440"/>
          </a:xfrm>
        </p:grpSpPr>
        <p:sp>
          <p:nvSpPr>
            <p:cNvPr id="202" name=""/>
            <p:cNvSpPr/>
            <p:nvPr/>
          </p:nvSpPr>
          <p:spPr>
            <a:xfrm>
              <a:off x="7343640" y="190440"/>
              <a:ext cx="539640" cy="460080"/>
            </a:xfrm>
            <a:custGeom>
              <a:avLst/>
              <a:gdLst/>
              <a:ahLst/>
              <a:rect l="l" t="t" r="r" b="b"/>
              <a:pathLst>
                <a:path w="2817" h="3888">
                  <a:moveTo>
                    <a:pt x="0" y="24"/>
                  </a:moveTo>
                  <a:cubicBezTo>
                    <a:pt x="0" y="11"/>
                    <a:pt x="11" y="0"/>
                    <a:pt x="24" y="0"/>
                  </a:cubicBezTo>
                  <a:lnTo>
                    <a:pt x="1996" y="0"/>
                  </a:lnTo>
                  <a:cubicBezTo>
                    <a:pt x="2005" y="0"/>
                    <a:pt x="2014" y="6"/>
                    <a:pt x="2018" y="15"/>
                  </a:cubicBezTo>
                  <a:lnTo>
                    <a:pt x="2815" y="1935"/>
                  </a:lnTo>
                  <a:cubicBezTo>
                    <a:pt x="2817" y="1941"/>
                    <a:pt x="2817" y="1948"/>
                    <a:pt x="2815" y="1954"/>
                  </a:cubicBezTo>
                  <a:lnTo>
                    <a:pt x="2018" y="3874"/>
                  </a:lnTo>
                  <a:cubicBezTo>
                    <a:pt x="2014" y="3883"/>
                    <a:pt x="2005" y="3888"/>
                    <a:pt x="1996" y="3888"/>
                  </a:cubicBezTo>
                  <a:lnTo>
                    <a:pt x="24" y="3888"/>
                  </a:lnTo>
                  <a:cubicBezTo>
                    <a:pt x="11" y="3888"/>
                    <a:pt x="0" y="3878"/>
                    <a:pt x="0" y="3864"/>
                  </a:cubicBezTo>
                  <a:lnTo>
                    <a:pt x="0" y="24"/>
                  </a:lnTo>
                  <a:close/>
                  <a:moveTo>
                    <a:pt x="48" y="3864"/>
                  </a:moveTo>
                  <a:lnTo>
                    <a:pt x="24" y="3840"/>
                  </a:lnTo>
                  <a:lnTo>
                    <a:pt x="1996" y="3840"/>
                  </a:lnTo>
                  <a:lnTo>
                    <a:pt x="1973" y="3855"/>
                  </a:lnTo>
                  <a:lnTo>
                    <a:pt x="2770" y="1935"/>
                  </a:lnTo>
                  <a:lnTo>
                    <a:pt x="2770" y="1954"/>
                  </a:lnTo>
                  <a:lnTo>
                    <a:pt x="1973" y="34"/>
                  </a:lnTo>
                  <a:lnTo>
                    <a:pt x="1996" y="48"/>
                  </a:lnTo>
                  <a:lnTo>
                    <a:pt x="24" y="48"/>
                  </a:lnTo>
                  <a:lnTo>
                    <a:pt x="48" y="24"/>
                  </a:lnTo>
                  <a:lnTo>
                    <a:pt x="48" y="3864"/>
                  </a:lnTo>
                  <a:close/>
                </a:path>
              </a:pathLst>
            </a:custGeom>
            <a:solidFill>
              <a:srgbClr val="385d8a"/>
            </a:solidFill>
            <a:ln w="0">
              <a:solidFill>
                <a:srgbClr val="385d8a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775640" y="190440"/>
              <a:ext cx="731520" cy="460080"/>
            </a:xfrm>
            <a:custGeom>
              <a:avLst/>
              <a:gdLst/>
              <a:ahLst/>
              <a:rect l="l" t="t" r="r" b="b"/>
              <a:pathLst>
                <a:path w="1491" h="1513">
                  <a:moveTo>
                    <a:pt x="0" y="0"/>
                  </a:moveTo>
                  <a:lnTo>
                    <a:pt x="1185" y="0"/>
                  </a:lnTo>
                  <a:lnTo>
                    <a:pt x="1491" y="756"/>
                  </a:lnTo>
                  <a:lnTo>
                    <a:pt x="1185" y="1513"/>
                  </a:lnTo>
                  <a:lnTo>
                    <a:pt x="0" y="1513"/>
                  </a:lnTo>
                  <a:lnTo>
                    <a:pt x="308" y="753"/>
                  </a:lnTo>
                  <a:lnTo>
                    <a:pt x="308" y="760"/>
                  </a:lnTo>
                  <a:lnTo>
                    <a:pt x="0" y="0"/>
                  </a:lnTo>
                  <a:close/>
                  <a:moveTo>
                    <a:pt x="327" y="756"/>
                  </a:moveTo>
                  <a:lnTo>
                    <a:pt x="23" y="1507"/>
                  </a:lnTo>
                  <a:lnTo>
                    <a:pt x="14" y="1494"/>
                  </a:lnTo>
                  <a:lnTo>
                    <a:pt x="1178" y="1494"/>
                  </a:lnTo>
                  <a:lnTo>
                    <a:pt x="1170" y="1500"/>
                  </a:lnTo>
                  <a:lnTo>
                    <a:pt x="1472" y="753"/>
                  </a:lnTo>
                  <a:lnTo>
                    <a:pt x="1472" y="760"/>
                  </a:lnTo>
                  <a:lnTo>
                    <a:pt x="1170" y="13"/>
                  </a:lnTo>
                  <a:lnTo>
                    <a:pt x="1178" y="19"/>
                  </a:lnTo>
                  <a:lnTo>
                    <a:pt x="14" y="19"/>
                  </a:lnTo>
                  <a:lnTo>
                    <a:pt x="23" y="6"/>
                  </a:lnTo>
                  <a:lnTo>
                    <a:pt x="327" y="756"/>
                  </a:lnTo>
                  <a:close/>
                </a:path>
              </a:pathLst>
            </a:custGeom>
            <a:solidFill>
              <a:srgbClr val="385d8a"/>
            </a:solidFill>
            <a:ln w="0">
              <a:solidFill>
                <a:srgbClr val="385d8a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8408880" y="189000"/>
              <a:ext cx="735120" cy="453960"/>
            </a:xfrm>
            <a:custGeom>
              <a:avLst/>
              <a:gdLst/>
              <a:ahLst/>
              <a:rect l="l" t="t" r="r" b="b"/>
              <a:pathLst>
                <a:path w="1454" h="1494">
                  <a:moveTo>
                    <a:pt x="0" y="0"/>
                  </a:moveTo>
                  <a:lnTo>
                    <a:pt x="1168" y="0"/>
                  </a:lnTo>
                  <a:lnTo>
                    <a:pt x="1454" y="747"/>
                  </a:lnTo>
                  <a:lnTo>
                    <a:pt x="1168" y="1494"/>
                  </a:lnTo>
                  <a:lnTo>
                    <a:pt x="0" y="1494"/>
                  </a:lnTo>
                  <a:lnTo>
                    <a:pt x="286" y="74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eb4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8394480" y="198360"/>
              <a:ext cx="746280" cy="460080"/>
            </a:xfrm>
            <a:custGeom>
              <a:avLst/>
              <a:gdLst/>
              <a:ahLst/>
              <a:rect l="l" t="t" r="r" b="b"/>
              <a:pathLst>
                <a:path w="1478" h="1513">
                  <a:moveTo>
                    <a:pt x="0" y="0"/>
                  </a:moveTo>
                  <a:lnTo>
                    <a:pt x="1188" y="0"/>
                  </a:lnTo>
                  <a:lnTo>
                    <a:pt x="1478" y="756"/>
                  </a:lnTo>
                  <a:lnTo>
                    <a:pt x="1188" y="1513"/>
                  </a:lnTo>
                  <a:lnTo>
                    <a:pt x="0" y="1513"/>
                  </a:lnTo>
                  <a:lnTo>
                    <a:pt x="291" y="753"/>
                  </a:lnTo>
                  <a:lnTo>
                    <a:pt x="291" y="760"/>
                  </a:lnTo>
                  <a:lnTo>
                    <a:pt x="0" y="0"/>
                  </a:lnTo>
                  <a:close/>
                  <a:moveTo>
                    <a:pt x="310" y="756"/>
                  </a:moveTo>
                  <a:lnTo>
                    <a:pt x="22" y="1507"/>
                  </a:lnTo>
                  <a:lnTo>
                    <a:pt x="13" y="1494"/>
                  </a:lnTo>
                  <a:lnTo>
                    <a:pt x="1181" y="1494"/>
                  </a:lnTo>
                  <a:lnTo>
                    <a:pt x="1172" y="1500"/>
                  </a:lnTo>
                  <a:lnTo>
                    <a:pt x="1459" y="753"/>
                  </a:lnTo>
                  <a:lnTo>
                    <a:pt x="1459" y="760"/>
                  </a:lnTo>
                  <a:lnTo>
                    <a:pt x="1172" y="13"/>
                  </a:lnTo>
                  <a:lnTo>
                    <a:pt x="1181" y="19"/>
                  </a:lnTo>
                  <a:lnTo>
                    <a:pt x="13" y="19"/>
                  </a:lnTo>
                  <a:lnTo>
                    <a:pt x="22" y="6"/>
                  </a:lnTo>
                  <a:lnTo>
                    <a:pt x="310" y="756"/>
                  </a:lnTo>
                  <a:close/>
                </a:path>
              </a:pathLst>
            </a:custGeom>
            <a:solidFill>
              <a:srgbClr val="385d8a"/>
            </a:solidFill>
            <a:ln w="0">
              <a:solidFill>
                <a:srgbClr val="385d8a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6" name="Line 13"/>
          <p:cNvSpPr/>
          <p:nvPr/>
        </p:nvSpPr>
        <p:spPr>
          <a:xfrm>
            <a:off x="0" y="2492280"/>
            <a:ext cx="5181480" cy="0"/>
          </a:xfrm>
          <a:prstGeom prst="line">
            <a:avLst/>
          </a:prstGeom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3 CuadroTexto"/>
          <p:cNvSpPr/>
          <p:nvPr/>
        </p:nvSpPr>
        <p:spPr>
          <a:xfrm>
            <a:off x="0" y="1341360"/>
            <a:ext cx="9144000" cy="10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buClr>
                <a:srgbClr val="4d4d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700" spc="-1" strike="noStrike">
                <a:solidFill>
                  <a:srgbClr val="1f497d"/>
                </a:solidFill>
                <a:latin typeface="Century Gothic"/>
              </a:rPr>
              <a:t> </a:t>
            </a:r>
            <a:r>
              <a:rPr b="0" lang="es-MX" sz="1700" spc="-1" strike="noStrike">
                <a:solidFill>
                  <a:srgbClr val="1f497d"/>
                </a:solidFill>
                <a:latin typeface="Century Gothic"/>
              </a:rPr>
              <a:t>Metodología: Cualitativa. Análisis de contenido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4d4d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700" spc="-1" strike="noStrike">
                <a:solidFill>
                  <a:srgbClr val="1f497d"/>
                </a:solidFill>
                <a:latin typeface="Century Gothic"/>
              </a:rPr>
              <a:t>Unidades de análisis: material institucional publicado en las páginas web de los MBA’s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20" y="2637000"/>
            <a:ext cx="345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Century Gothic"/>
              </a:rPr>
              <a:t>Testimonio alumn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408680" y="3426480"/>
            <a:ext cx="5151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4f81bd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Century Gothic"/>
              </a:rPr>
              <a:t>Interdisciplin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4f81bd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Century Gothic"/>
              </a:rPr>
              <a:t>Visión integral de la organiz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4f81bd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Century Gothic"/>
              </a:rPr>
              <a:t>Balance entre teoría  práctic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4f81bd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Century Gothic"/>
              </a:rPr>
              <a:t>Visión global de los negocio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4f81bd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Century Gothic"/>
              </a:rPr>
              <a:t>Red de contac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2" descr="L O G O T I  P O color"/>
          <p:cNvPicPr/>
          <p:nvPr/>
        </p:nvPicPr>
        <p:blipFill>
          <a:blip r:embed="rId2"/>
          <a:stretch/>
        </p:blipFill>
        <p:spPr>
          <a:xfrm>
            <a:off x="179280" y="189000"/>
            <a:ext cx="1297080" cy="947520"/>
          </a:xfrm>
          <a:prstGeom prst="rect">
            <a:avLst/>
          </a:prstGeom>
          <a:ln w="0">
            <a:noFill/>
          </a:ln>
        </p:spPr>
      </p:pic>
      <p:sp>
        <p:nvSpPr>
          <p:cNvPr id="211" name="Text Box 3"/>
          <p:cNvSpPr/>
          <p:nvPr/>
        </p:nvSpPr>
        <p:spPr>
          <a:xfrm>
            <a:off x="1835280" y="-27000"/>
            <a:ext cx="7092720" cy="1160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3366"/>
                </a:solidFill>
                <a:latin typeface="Broadway"/>
              </a:rPr>
              <a:t>EL ETHOS OCULTO DE LAS INSTITUCIONES EDUCATIV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7343640" y="189000"/>
            <a:ext cx="1800360" cy="469440"/>
            <a:chOff x="7343640" y="189000"/>
            <a:chExt cx="1800360" cy="469440"/>
          </a:xfrm>
        </p:grpSpPr>
        <p:sp>
          <p:nvSpPr>
            <p:cNvPr id="213" name=""/>
            <p:cNvSpPr/>
            <p:nvPr/>
          </p:nvSpPr>
          <p:spPr>
            <a:xfrm>
              <a:off x="7343640" y="190440"/>
              <a:ext cx="539640" cy="460080"/>
            </a:xfrm>
            <a:custGeom>
              <a:avLst/>
              <a:gdLst/>
              <a:ahLst/>
              <a:rect l="l" t="t" r="r" b="b"/>
              <a:pathLst>
                <a:path w="2817" h="3888">
                  <a:moveTo>
                    <a:pt x="0" y="24"/>
                  </a:moveTo>
                  <a:cubicBezTo>
                    <a:pt x="0" y="11"/>
                    <a:pt x="11" y="0"/>
                    <a:pt x="24" y="0"/>
                  </a:cubicBezTo>
                  <a:lnTo>
                    <a:pt x="1996" y="0"/>
                  </a:lnTo>
                  <a:cubicBezTo>
                    <a:pt x="2005" y="0"/>
                    <a:pt x="2014" y="6"/>
                    <a:pt x="2018" y="15"/>
                  </a:cubicBezTo>
                  <a:lnTo>
                    <a:pt x="2815" y="1935"/>
                  </a:lnTo>
                  <a:cubicBezTo>
                    <a:pt x="2817" y="1941"/>
                    <a:pt x="2817" y="1948"/>
                    <a:pt x="2815" y="1954"/>
                  </a:cubicBezTo>
                  <a:lnTo>
                    <a:pt x="2018" y="3874"/>
                  </a:lnTo>
                  <a:cubicBezTo>
                    <a:pt x="2014" y="3883"/>
                    <a:pt x="2005" y="3888"/>
                    <a:pt x="1996" y="3888"/>
                  </a:cubicBezTo>
                  <a:lnTo>
                    <a:pt x="24" y="3888"/>
                  </a:lnTo>
                  <a:cubicBezTo>
                    <a:pt x="11" y="3888"/>
                    <a:pt x="0" y="3878"/>
                    <a:pt x="0" y="3864"/>
                  </a:cubicBezTo>
                  <a:lnTo>
                    <a:pt x="0" y="24"/>
                  </a:lnTo>
                  <a:close/>
                  <a:moveTo>
                    <a:pt x="48" y="3864"/>
                  </a:moveTo>
                  <a:lnTo>
                    <a:pt x="24" y="3840"/>
                  </a:lnTo>
                  <a:lnTo>
                    <a:pt x="1996" y="3840"/>
                  </a:lnTo>
                  <a:lnTo>
                    <a:pt x="1973" y="3855"/>
                  </a:lnTo>
                  <a:lnTo>
                    <a:pt x="2770" y="1935"/>
                  </a:lnTo>
                  <a:lnTo>
                    <a:pt x="2770" y="1954"/>
                  </a:lnTo>
                  <a:lnTo>
                    <a:pt x="1973" y="34"/>
                  </a:lnTo>
                  <a:lnTo>
                    <a:pt x="1996" y="48"/>
                  </a:lnTo>
                  <a:lnTo>
                    <a:pt x="24" y="48"/>
                  </a:lnTo>
                  <a:lnTo>
                    <a:pt x="48" y="24"/>
                  </a:lnTo>
                  <a:lnTo>
                    <a:pt x="48" y="3864"/>
                  </a:lnTo>
                  <a:close/>
                </a:path>
              </a:pathLst>
            </a:custGeom>
            <a:solidFill>
              <a:srgbClr val="385d8a"/>
            </a:solidFill>
            <a:ln w="0">
              <a:solidFill>
                <a:srgbClr val="385d8a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775640" y="190440"/>
              <a:ext cx="731520" cy="460080"/>
            </a:xfrm>
            <a:custGeom>
              <a:avLst/>
              <a:gdLst/>
              <a:ahLst/>
              <a:rect l="l" t="t" r="r" b="b"/>
              <a:pathLst>
                <a:path w="1491" h="1513">
                  <a:moveTo>
                    <a:pt x="0" y="0"/>
                  </a:moveTo>
                  <a:lnTo>
                    <a:pt x="1185" y="0"/>
                  </a:lnTo>
                  <a:lnTo>
                    <a:pt x="1491" y="756"/>
                  </a:lnTo>
                  <a:lnTo>
                    <a:pt x="1185" y="1513"/>
                  </a:lnTo>
                  <a:lnTo>
                    <a:pt x="0" y="1513"/>
                  </a:lnTo>
                  <a:lnTo>
                    <a:pt x="308" y="753"/>
                  </a:lnTo>
                  <a:lnTo>
                    <a:pt x="308" y="760"/>
                  </a:lnTo>
                  <a:lnTo>
                    <a:pt x="0" y="0"/>
                  </a:lnTo>
                  <a:close/>
                  <a:moveTo>
                    <a:pt x="327" y="756"/>
                  </a:moveTo>
                  <a:lnTo>
                    <a:pt x="23" y="1507"/>
                  </a:lnTo>
                  <a:lnTo>
                    <a:pt x="14" y="1494"/>
                  </a:lnTo>
                  <a:lnTo>
                    <a:pt x="1178" y="1494"/>
                  </a:lnTo>
                  <a:lnTo>
                    <a:pt x="1170" y="1500"/>
                  </a:lnTo>
                  <a:lnTo>
                    <a:pt x="1472" y="753"/>
                  </a:lnTo>
                  <a:lnTo>
                    <a:pt x="1472" y="760"/>
                  </a:lnTo>
                  <a:lnTo>
                    <a:pt x="1170" y="13"/>
                  </a:lnTo>
                  <a:lnTo>
                    <a:pt x="1178" y="19"/>
                  </a:lnTo>
                  <a:lnTo>
                    <a:pt x="14" y="19"/>
                  </a:lnTo>
                  <a:lnTo>
                    <a:pt x="23" y="6"/>
                  </a:lnTo>
                  <a:lnTo>
                    <a:pt x="327" y="756"/>
                  </a:lnTo>
                  <a:close/>
                </a:path>
              </a:pathLst>
            </a:custGeom>
            <a:solidFill>
              <a:srgbClr val="385d8a"/>
            </a:solidFill>
            <a:ln w="0">
              <a:solidFill>
                <a:srgbClr val="385d8a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408880" y="189000"/>
              <a:ext cx="735120" cy="453960"/>
            </a:xfrm>
            <a:custGeom>
              <a:avLst/>
              <a:gdLst/>
              <a:ahLst/>
              <a:rect l="l" t="t" r="r" b="b"/>
              <a:pathLst>
                <a:path w="1454" h="1494">
                  <a:moveTo>
                    <a:pt x="0" y="0"/>
                  </a:moveTo>
                  <a:lnTo>
                    <a:pt x="1168" y="0"/>
                  </a:lnTo>
                  <a:lnTo>
                    <a:pt x="1454" y="747"/>
                  </a:lnTo>
                  <a:lnTo>
                    <a:pt x="1168" y="1494"/>
                  </a:lnTo>
                  <a:lnTo>
                    <a:pt x="0" y="1494"/>
                  </a:lnTo>
                  <a:lnTo>
                    <a:pt x="286" y="74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eb4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8394480" y="198360"/>
              <a:ext cx="746280" cy="460080"/>
            </a:xfrm>
            <a:custGeom>
              <a:avLst/>
              <a:gdLst/>
              <a:ahLst/>
              <a:rect l="l" t="t" r="r" b="b"/>
              <a:pathLst>
                <a:path w="1478" h="1513">
                  <a:moveTo>
                    <a:pt x="0" y="0"/>
                  </a:moveTo>
                  <a:lnTo>
                    <a:pt x="1188" y="0"/>
                  </a:lnTo>
                  <a:lnTo>
                    <a:pt x="1478" y="756"/>
                  </a:lnTo>
                  <a:lnTo>
                    <a:pt x="1188" y="1513"/>
                  </a:lnTo>
                  <a:lnTo>
                    <a:pt x="0" y="1513"/>
                  </a:lnTo>
                  <a:lnTo>
                    <a:pt x="291" y="753"/>
                  </a:lnTo>
                  <a:lnTo>
                    <a:pt x="291" y="760"/>
                  </a:lnTo>
                  <a:lnTo>
                    <a:pt x="0" y="0"/>
                  </a:lnTo>
                  <a:close/>
                  <a:moveTo>
                    <a:pt x="310" y="756"/>
                  </a:moveTo>
                  <a:lnTo>
                    <a:pt x="22" y="1507"/>
                  </a:lnTo>
                  <a:lnTo>
                    <a:pt x="13" y="1494"/>
                  </a:lnTo>
                  <a:lnTo>
                    <a:pt x="1181" y="1494"/>
                  </a:lnTo>
                  <a:lnTo>
                    <a:pt x="1172" y="1500"/>
                  </a:lnTo>
                  <a:lnTo>
                    <a:pt x="1459" y="753"/>
                  </a:lnTo>
                  <a:lnTo>
                    <a:pt x="1459" y="760"/>
                  </a:lnTo>
                  <a:lnTo>
                    <a:pt x="1172" y="13"/>
                  </a:lnTo>
                  <a:lnTo>
                    <a:pt x="1181" y="19"/>
                  </a:lnTo>
                  <a:lnTo>
                    <a:pt x="13" y="19"/>
                  </a:lnTo>
                  <a:lnTo>
                    <a:pt x="22" y="6"/>
                  </a:lnTo>
                  <a:lnTo>
                    <a:pt x="310" y="756"/>
                  </a:lnTo>
                  <a:close/>
                </a:path>
              </a:pathLst>
            </a:custGeom>
            <a:solidFill>
              <a:srgbClr val="385d8a"/>
            </a:solidFill>
            <a:ln w="0">
              <a:solidFill>
                <a:srgbClr val="385d8a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7" name="Line 13"/>
          <p:cNvSpPr/>
          <p:nvPr/>
        </p:nvSpPr>
        <p:spPr>
          <a:xfrm>
            <a:off x="0" y="2492280"/>
            <a:ext cx="5181480" cy="0"/>
          </a:xfrm>
          <a:prstGeom prst="line">
            <a:avLst/>
          </a:prstGeom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3 CuadroTexto"/>
          <p:cNvSpPr/>
          <p:nvPr/>
        </p:nvSpPr>
        <p:spPr>
          <a:xfrm>
            <a:off x="0" y="1341360"/>
            <a:ext cx="9144000" cy="10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buClr>
                <a:srgbClr val="4d4d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700" spc="-1" strike="noStrike">
                <a:solidFill>
                  <a:srgbClr val="1f497d"/>
                </a:solidFill>
                <a:latin typeface="Century Gothic"/>
              </a:rPr>
              <a:t> </a:t>
            </a:r>
            <a:r>
              <a:rPr b="0" lang="es-MX" sz="1700" spc="-1" strike="noStrike">
                <a:solidFill>
                  <a:srgbClr val="1f497d"/>
                </a:solidFill>
                <a:latin typeface="Century Gothic"/>
              </a:rPr>
              <a:t>Metodología: Cualitativa. Análisis de contenido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4d4d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700" spc="-1" strike="noStrike">
                <a:solidFill>
                  <a:srgbClr val="1f497d"/>
                </a:solidFill>
                <a:latin typeface="Century Gothic"/>
              </a:rPr>
              <a:t>Unidades de análisis: material institucional publicado en las páginas web de los MBA’s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4920" y="2637000"/>
            <a:ext cx="345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Century Gothic"/>
              </a:rPr>
              <a:t>Objetiv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68360" y="3415680"/>
            <a:ext cx="8280360" cy="642600"/>
          </a:xfrm>
          <a:prstGeom prst="rect">
            <a:avLst/>
          </a:prstGeom>
          <a:noFill/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Century Gothic"/>
              </a:rPr>
              <a:t>“…</a:t>
            </a:r>
            <a:r>
              <a:rPr b="0" i="1" lang="es-ES" sz="1800" spc="-1" strike="noStrike">
                <a:solidFill>
                  <a:srgbClr val="000000"/>
                </a:solidFill>
                <a:latin typeface="Century Gothic"/>
              </a:rPr>
              <a:t>la vocación de aplicar conocimiento científico a la resolución de los problemas de la sociedad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68360" y="4384800"/>
            <a:ext cx="8424720" cy="1739880"/>
          </a:xfrm>
          <a:prstGeom prst="rect">
            <a:avLst/>
          </a:prstGeom>
          <a:noFill/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Century Gothic"/>
              </a:rPr>
              <a:t>“…</a:t>
            </a:r>
            <a:r>
              <a:rPr b="0" i="1" lang="es-ES" sz="1800" spc="-1" strike="noStrike">
                <a:solidFill>
                  <a:srgbClr val="000000"/>
                </a:solidFill>
                <a:latin typeface="Century Gothic"/>
              </a:rPr>
              <a:t>Las metas aquí son claras: obtener mayores ingresos, mejorar la reputación profesional diplomándose en una escuela de negocios de renombre, internacionalizarse - esencial en un mundo cada vez más globalizado — y poder acceder a oportunidades laborales cada vez más gratificantes y llenas de sentido, ya que de poco vale hacer mucho dinero si no se tiene el tiempo y disposición para disfrutarlo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2" descr="L O G O T I  P O color"/>
          <p:cNvPicPr/>
          <p:nvPr/>
        </p:nvPicPr>
        <p:blipFill>
          <a:blip r:embed="rId2"/>
          <a:stretch/>
        </p:blipFill>
        <p:spPr>
          <a:xfrm>
            <a:off x="179280" y="189000"/>
            <a:ext cx="1297080" cy="947520"/>
          </a:xfrm>
          <a:prstGeom prst="rect">
            <a:avLst/>
          </a:prstGeom>
          <a:ln w="0">
            <a:noFill/>
          </a:ln>
        </p:spPr>
      </p:pic>
      <p:sp>
        <p:nvSpPr>
          <p:cNvPr id="223" name="Text Box 3"/>
          <p:cNvSpPr/>
          <p:nvPr/>
        </p:nvSpPr>
        <p:spPr>
          <a:xfrm>
            <a:off x="1835280" y="-27000"/>
            <a:ext cx="7092720" cy="1160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3366"/>
                </a:solidFill>
                <a:latin typeface="Broadway"/>
              </a:rPr>
              <a:t>EL ETHOS OCULTO DE LAS INSTITUCIONES EDUCATIV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7343640" y="189000"/>
            <a:ext cx="1800360" cy="469440"/>
            <a:chOff x="7343640" y="189000"/>
            <a:chExt cx="1800360" cy="469440"/>
          </a:xfrm>
        </p:grpSpPr>
        <p:sp>
          <p:nvSpPr>
            <p:cNvPr id="225" name=""/>
            <p:cNvSpPr/>
            <p:nvPr/>
          </p:nvSpPr>
          <p:spPr>
            <a:xfrm>
              <a:off x="7343640" y="190440"/>
              <a:ext cx="539640" cy="460080"/>
            </a:xfrm>
            <a:custGeom>
              <a:avLst/>
              <a:gdLst/>
              <a:ahLst/>
              <a:rect l="l" t="t" r="r" b="b"/>
              <a:pathLst>
                <a:path w="2817" h="3888">
                  <a:moveTo>
                    <a:pt x="0" y="24"/>
                  </a:moveTo>
                  <a:cubicBezTo>
                    <a:pt x="0" y="11"/>
                    <a:pt x="11" y="0"/>
                    <a:pt x="24" y="0"/>
                  </a:cubicBezTo>
                  <a:lnTo>
                    <a:pt x="1996" y="0"/>
                  </a:lnTo>
                  <a:cubicBezTo>
                    <a:pt x="2005" y="0"/>
                    <a:pt x="2014" y="6"/>
                    <a:pt x="2018" y="15"/>
                  </a:cubicBezTo>
                  <a:lnTo>
                    <a:pt x="2815" y="1935"/>
                  </a:lnTo>
                  <a:cubicBezTo>
                    <a:pt x="2817" y="1941"/>
                    <a:pt x="2817" y="1948"/>
                    <a:pt x="2815" y="1954"/>
                  </a:cubicBezTo>
                  <a:lnTo>
                    <a:pt x="2018" y="3874"/>
                  </a:lnTo>
                  <a:cubicBezTo>
                    <a:pt x="2014" y="3883"/>
                    <a:pt x="2005" y="3888"/>
                    <a:pt x="1996" y="3888"/>
                  </a:cubicBezTo>
                  <a:lnTo>
                    <a:pt x="24" y="3888"/>
                  </a:lnTo>
                  <a:cubicBezTo>
                    <a:pt x="11" y="3888"/>
                    <a:pt x="0" y="3878"/>
                    <a:pt x="0" y="3864"/>
                  </a:cubicBezTo>
                  <a:lnTo>
                    <a:pt x="0" y="24"/>
                  </a:lnTo>
                  <a:close/>
                  <a:moveTo>
                    <a:pt x="48" y="3864"/>
                  </a:moveTo>
                  <a:lnTo>
                    <a:pt x="24" y="3840"/>
                  </a:lnTo>
                  <a:lnTo>
                    <a:pt x="1996" y="3840"/>
                  </a:lnTo>
                  <a:lnTo>
                    <a:pt x="1973" y="3855"/>
                  </a:lnTo>
                  <a:lnTo>
                    <a:pt x="2770" y="1935"/>
                  </a:lnTo>
                  <a:lnTo>
                    <a:pt x="2770" y="1954"/>
                  </a:lnTo>
                  <a:lnTo>
                    <a:pt x="1973" y="34"/>
                  </a:lnTo>
                  <a:lnTo>
                    <a:pt x="1996" y="48"/>
                  </a:lnTo>
                  <a:lnTo>
                    <a:pt x="24" y="48"/>
                  </a:lnTo>
                  <a:lnTo>
                    <a:pt x="48" y="24"/>
                  </a:lnTo>
                  <a:lnTo>
                    <a:pt x="48" y="3864"/>
                  </a:lnTo>
                  <a:close/>
                </a:path>
              </a:pathLst>
            </a:custGeom>
            <a:solidFill>
              <a:srgbClr val="385d8a"/>
            </a:solidFill>
            <a:ln w="0">
              <a:solidFill>
                <a:srgbClr val="385d8a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775640" y="190440"/>
              <a:ext cx="731520" cy="460080"/>
            </a:xfrm>
            <a:custGeom>
              <a:avLst/>
              <a:gdLst/>
              <a:ahLst/>
              <a:rect l="l" t="t" r="r" b="b"/>
              <a:pathLst>
                <a:path w="1491" h="1513">
                  <a:moveTo>
                    <a:pt x="0" y="0"/>
                  </a:moveTo>
                  <a:lnTo>
                    <a:pt x="1185" y="0"/>
                  </a:lnTo>
                  <a:lnTo>
                    <a:pt x="1491" y="756"/>
                  </a:lnTo>
                  <a:lnTo>
                    <a:pt x="1185" y="1513"/>
                  </a:lnTo>
                  <a:lnTo>
                    <a:pt x="0" y="1513"/>
                  </a:lnTo>
                  <a:lnTo>
                    <a:pt x="308" y="753"/>
                  </a:lnTo>
                  <a:lnTo>
                    <a:pt x="308" y="760"/>
                  </a:lnTo>
                  <a:lnTo>
                    <a:pt x="0" y="0"/>
                  </a:lnTo>
                  <a:close/>
                  <a:moveTo>
                    <a:pt x="327" y="756"/>
                  </a:moveTo>
                  <a:lnTo>
                    <a:pt x="23" y="1507"/>
                  </a:lnTo>
                  <a:lnTo>
                    <a:pt x="14" y="1494"/>
                  </a:lnTo>
                  <a:lnTo>
                    <a:pt x="1178" y="1494"/>
                  </a:lnTo>
                  <a:lnTo>
                    <a:pt x="1170" y="1500"/>
                  </a:lnTo>
                  <a:lnTo>
                    <a:pt x="1472" y="753"/>
                  </a:lnTo>
                  <a:lnTo>
                    <a:pt x="1472" y="760"/>
                  </a:lnTo>
                  <a:lnTo>
                    <a:pt x="1170" y="13"/>
                  </a:lnTo>
                  <a:lnTo>
                    <a:pt x="1178" y="19"/>
                  </a:lnTo>
                  <a:lnTo>
                    <a:pt x="14" y="19"/>
                  </a:lnTo>
                  <a:lnTo>
                    <a:pt x="23" y="6"/>
                  </a:lnTo>
                  <a:lnTo>
                    <a:pt x="327" y="756"/>
                  </a:lnTo>
                  <a:close/>
                </a:path>
              </a:pathLst>
            </a:custGeom>
            <a:solidFill>
              <a:srgbClr val="385d8a"/>
            </a:solidFill>
            <a:ln w="0">
              <a:solidFill>
                <a:srgbClr val="385d8a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8408880" y="189000"/>
              <a:ext cx="735120" cy="453960"/>
            </a:xfrm>
            <a:custGeom>
              <a:avLst/>
              <a:gdLst/>
              <a:ahLst/>
              <a:rect l="l" t="t" r="r" b="b"/>
              <a:pathLst>
                <a:path w="1454" h="1494">
                  <a:moveTo>
                    <a:pt x="0" y="0"/>
                  </a:moveTo>
                  <a:lnTo>
                    <a:pt x="1168" y="0"/>
                  </a:lnTo>
                  <a:lnTo>
                    <a:pt x="1454" y="747"/>
                  </a:lnTo>
                  <a:lnTo>
                    <a:pt x="1168" y="1494"/>
                  </a:lnTo>
                  <a:lnTo>
                    <a:pt x="0" y="1494"/>
                  </a:lnTo>
                  <a:lnTo>
                    <a:pt x="286" y="74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eb4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8394480" y="198360"/>
              <a:ext cx="746280" cy="460080"/>
            </a:xfrm>
            <a:custGeom>
              <a:avLst/>
              <a:gdLst/>
              <a:ahLst/>
              <a:rect l="l" t="t" r="r" b="b"/>
              <a:pathLst>
                <a:path w="1478" h="1513">
                  <a:moveTo>
                    <a:pt x="0" y="0"/>
                  </a:moveTo>
                  <a:lnTo>
                    <a:pt x="1188" y="0"/>
                  </a:lnTo>
                  <a:lnTo>
                    <a:pt x="1478" y="756"/>
                  </a:lnTo>
                  <a:lnTo>
                    <a:pt x="1188" y="1513"/>
                  </a:lnTo>
                  <a:lnTo>
                    <a:pt x="0" y="1513"/>
                  </a:lnTo>
                  <a:lnTo>
                    <a:pt x="291" y="753"/>
                  </a:lnTo>
                  <a:lnTo>
                    <a:pt x="291" y="760"/>
                  </a:lnTo>
                  <a:lnTo>
                    <a:pt x="0" y="0"/>
                  </a:lnTo>
                  <a:close/>
                  <a:moveTo>
                    <a:pt x="310" y="756"/>
                  </a:moveTo>
                  <a:lnTo>
                    <a:pt x="22" y="1507"/>
                  </a:lnTo>
                  <a:lnTo>
                    <a:pt x="13" y="1494"/>
                  </a:lnTo>
                  <a:lnTo>
                    <a:pt x="1181" y="1494"/>
                  </a:lnTo>
                  <a:lnTo>
                    <a:pt x="1172" y="1500"/>
                  </a:lnTo>
                  <a:lnTo>
                    <a:pt x="1459" y="753"/>
                  </a:lnTo>
                  <a:lnTo>
                    <a:pt x="1459" y="760"/>
                  </a:lnTo>
                  <a:lnTo>
                    <a:pt x="1172" y="13"/>
                  </a:lnTo>
                  <a:lnTo>
                    <a:pt x="1181" y="19"/>
                  </a:lnTo>
                  <a:lnTo>
                    <a:pt x="13" y="19"/>
                  </a:lnTo>
                  <a:lnTo>
                    <a:pt x="22" y="6"/>
                  </a:lnTo>
                  <a:lnTo>
                    <a:pt x="310" y="756"/>
                  </a:lnTo>
                  <a:close/>
                </a:path>
              </a:pathLst>
            </a:custGeom>
            <a:solidFill>
              <a:srgbClr val="385d8a"/>
            </a:solidFill>
            <a:ln w="0">
              <a:solidFill>
                <a:srgbClr val="385d8a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9" name="Line 13"/>
          <p:cNvSpPr/>
          <p:nvPr/>
        </p:nvSpPr>
        <p:spPr>
          <a:xfrm>
            <a:off x="0" y="2492280"/>
            <a:ext cx="5181480" cy="0"/>
          </a:xfrm>
          <a:prstGeom prst="line">
            <a:avLst/>
          </a:prstGeom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3 CuadroTexto"/>
          <p:cNvSpPr/>
          <p:nvPr/>
        </p:nvSpPr>
        <p:spPr>
          <a:xfrm>
            <a:off x="0" y="1341360"/>
            <a:ext cx="9144000" cy="10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buClr>
                <a:srgbClr val="4d4d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700" spc="-1" strike="noStrike">
                <a:solidFill>
                  <a:srgbClr val="1f497d"/>
                </a:solidFill>
                <a:latin typeface="Century Gothic"/>
              </a:rPr>
              <a:t> </a:t>
            </a:r>
            <a:r>
              <a:rPr b="0" lang="es-MX" sz="1700" spc="-1" strike="noStrike">
                <a:solidFill>
                  <a:srgbClr val="1f497d"/>
                </a:solidFill>
                <a:latin typeface="Century Gothic"/>
              </a:rPr>
              <a:t>Metodología: Cualitativa. Análisis de contenido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4d4d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700" spc="-1" strike="noStrike">
                <a:solidFill>
                  <a:srgbClr val="1f497d"/>
                </a:solidFill>
                <a:latin typeface="Century Gothic"/>
              </a:rPr>
              <a:t>Unidades de análisis: material institucional publicado en las páginas web de los MBA’s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4920" y="2637000"/>
            <a:ext cx="345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Century Gothic"/>
              </a:rPr>
              <a:t>Mensajes del dire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44360" y="3576240"/>
            <a:ext cx="8820360" cy="2288520"/>
          </a:xfrm>
          <a:prstGeom prst="rect">
            <a:avLst/>
          </a:pr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“</a:t>
            </a:r>
            <a:r>
              <a:rPr b="0" i="1" lang="es-ES" sz="1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El MBA está orientado a la formación de </a:t>
            </a:r>
            <a:r>
              <a:rPr b="1" i="1" lang="es-ES" sz="1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líderes con valores</a:t>
            </a:r>
            <a:r>
              <a:rPr b="0" i="1" lang="es-ES" sz="1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, que se distingan en el ámbito de los negocios - local e internacional - no sólo por sus habilidades y conocimientos técnicos, sino por el desarrollo de formas de pensamiento novedosas que permitan captar la complejidad del entorno e interactuar en él con éxito, </a:t>
            </a:r>
            <a:r>
              <a:rPr b="1" i="1" lang="es-ES" sz="1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sin olvidar el marco ético que debe regir su actuación</a:t>
            </a:r>
            <a:r>
              <a:rPr b="0" i="1" lang="es-ES" sz="1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. […] Un factor clave de diferenciación de nuestro programa es la capacitación en Integración del Saber y Ética en los Negocios, tema muy valorado por nuestros alumnos, y que fue especialmente resaltado por el Board del AMBA al otorgar la acreditación”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Picture 2" descr="L O G O T I  P O color"/>
          <p:cNvPicPr/>
          <p:nvPr/>
        </p:nvPicPr>
        <p:blipFill>
          <a:blip r:embed="rId2"/>
          <a:stretch/>
        </p:blipFill>
        <p:spPr>
          <a:xfrm>
            <a:off x="179280" y="189000"/>
            <a:ext cx="1297080" cy="947520"/>
          </a:xfrm>
          <a:prstGeom prst="rect">
            <a:avLst/>
          </a:prstGeom>
          <a:ln w="0">
            <a:noFill/>
          </a:ln>
        </p:spPr>
      </p:pic>
      <p:sp>
        <p:nvSpPr>
          <p:cNvPr id="234" name="Text Box 3"/>
          <p:cNvSpPr/>
          <p:nvPr/>
        </p:nvSpPr>
        <p:spPr>
          <a:xfrm>
            <a:off x="1835280" y="-27000"/>
            <a:ext cx="7092720" cy="1160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3366"/>
                </a:solidFill>
                <a:latin typeface="Broadway"/>
              </a:rPr>
              <a:t>EL ETHOS OCULTO DE LAS INSTITUCIONES EDUCATIV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"/>
          <p:cNvGrpSpPr/>
          <p:nvPr/>
        </p:nvGrpSpPr>
        <p:grpSpPr>
          <a:xfrm>
            <a:off x="7343640" y="189000"/>
            <a:ext cx="1800360" cy="469440"/>
            <a:chOff x="7343640" y="189000"/>
            <a:chExt cx="1800360" cy="469440"/>
          </a:xfrm>
        </p:grpSpPr>
        <p:sp>
          <p:nvSpPr>
            <p:cNvPr id="236" name=""/>
            <p:cNvSpPr/>
            <p:nvPr/>
          </p:nvSpPr>
          <p:spPr>
            <a:xfrm>
              <a:off x="7343640" y="190440"/>
              <a:ext cx="539640" cy="460080"/>
            </a:xfrm>
            <a:custGeom>
              <a:avLst/>
              <a:gdLst/>
              <a:ahLst/>
              <a:rect l="l" t="t" r="r" b="b"/>
              <a:pathLst>
                <a:path w="2817" h="3888">
                  <a:moveTo>
                    <a:pt x="0" y="24"/>
                  </a:moveTo>
                  <a:cubicBezTo>
                    <a:pt x="0" y="11"/>
                    <a:pt x="11" y="0"/>
                    <a:pt x="24" y="0"/>
                  </a:cubicBezTo>
                  <a:lnTo>
                    <a:pt x="1996" y="0"/>
                  </a:lnTo>
                  <a:cubicBezTo>
                    <a:pt x="2005" y="0"/>
                    <a:pt x="2014" y="6"/>
                    <a:pt x="2018" y="15"/>
                  </a:cubicBezTo>
                  <a:lnTo>
                    <a:pt x="2815" y="1935"/>
                  </a:lnTo>
                  <a:cubicBezTo>
                    <a:pt x="2817" y="1941"/>
                    <a:pt x="2817" y="1948"/>
                    <a:pt x="2815" y="1954"/>
                  </a:cubicBezTo>
                  <a:lnTo>
                    <a:pt x="2018" y="3874"/>
                  </a:lnTo>
                  <a:cubicBezTo>
                    <a:pt x="2014" y="3883"/>
                    <a:pt x="2005" y="3888"/>
                    <a:pt x="1996" y="3888"/>
                  </a:cubicBezTo>
                  <a:lnTo>
                    <a:pt x="24" y="3888"/>
                  </a:lnTo>
                  <a:cubicBezTo>
                    <a:pt x="11" y="3888"/>
                    <a:pt x="0" y="3878"/>
                    <a:pt x="0" y="3864"/>
                  </a:cubicBezTo>
                  <a:lnTo>
                    <a:pt x="0" y="24"/>
                  </a:lnTo>
                  <a:close/>
                  <a:moveTo>
                    <a:pt x="48" y="3864"/>
                  </a:moveTo>
                  <a:lnTo>
                    <a:pt x="24" y="3840"/>
                  </a:lnTo>
                  <a:lnTo>
                    <a:pt x="1996" y="3840"/>
                  </a:lnTo>
                  <a:lnTo>
                    <a:pt x="1973" y="3855"/>
                  </a:lnTo>
                  <a:lnTo>
                    <a:pt x="2770" y="1935"/>
                  </a:lnTo>
                  <a:lnTo>
                    <a:pt x="2770" y="1954"/>
                  </a:lnTo>
                  <a:lnTo>
                    <a:pt x="1973" y="34"/>
                  </a:lnTo>
                  <a:lnTo>
                    <a:pt x="1996" y="48"/>
                  </a:lnTo>
                  <a:lnTo>
                    <a:pt x="24" y="48"/>
                  </a:lnTo>
                  <a:lnTo>
                    <a:pt x="48" y="24"/>
                  </a:lnTo>
                  <a:lnTo>
                    <a:pt x="48" y="3864"/>
                  </a:lnTo>
                  <a:close/>
                </a:path>
              </a:pathLst>
            </a:custGeom>
            <a:solidFill>
              <a:srgbClr val="385d8a"/>
            </a:solidFill>
            <a:ln w="0">
              <a:solidFill>
                <a:srgbClr val="385d8a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7775640" y="190440"/>
              <a:ext cx="731520" cy="460080"/>
            </a:xfrm>
            <a:custGeom>
              <a:avLst/>
              <a:gdLst/>
              <a:ahLst/>
              <a:rect l="l" t="t" r="r" b="b"/>
              <a:pathLst>
                <a:path w="1491" h="1513">
                  <a:moveTo>
                    <a:pt x="0" y="0"/>
                  </a:moveTo>
                  <a:lnTo>
                    <a:pt x="1185" y="0"/>
                  </a:lnTo>
                  <a:lnTo>
                    <a:pt x="1491" y="756"/>
                  </a:lnTo>
                  <a:lnTo>
                    <a:pt x="1185" y="1513"/>
                  </a:lnTo>
                  <a:lnTo>
                    <a:pt x="0" y="1513"/>
                  </a:lnTo>
                  <a:lnTo>
                    <a:pt x="308" y="753"/>
                  </a:lnTo>
                  <a:lnTo>
                    <a:pt x="308" y="760"/>
                  </a:lnTo>
                  <a:lnTo>
                    <a:pt x="0" y="0"/>
                  </a:lnTo>
                  <a:close/>
                  <a:moveTo>
                    <a:pt x="327" y="756"/>
                  </a:moveTo>
                  <a:lnTo>
                    <a:pt x="23" y="1507"/>
                  </a:lnTo>
                  <a:lnTo>
                    <a:pt x="14" y="1494"/>
                  </a:lnTo>
                  <a:lnTo>
                    <a:pt x="1178" y="1494"/>
                  </a:lnTo>
                  <a:lnTo>
                    <a:pt x="1170" y="1500"/>
                  </a:lnTo>
                  <a:lnTo>
                    <a:pt x="1472" y="753"/>
                  </a:lnTo>
                  <a:lnTo>
                    <a:pt x="1472" y="760"/>
                  </a:lnTo>
                  <a:lnTo>
                    <a:pt x="1170" y="13"/>
                  </a:lnTo>
                  <a:lnTo>
                    <a:pt x="1178" y="19"/>
                  </a:lnTo>
                  <a:lnTo>
                    <a:pt x="14" y="19"/>
                  </a:lnTo>
                  <a:lnTo>
                    <a:pt x="23" y="6"/>
                  </a:lnTo>
                  <a:lnTo>
                    <a:pt x="327" y="756"/>
                  </a:lnTo>
                  <a:close/>
                </a:path>
              </a:pathLst>
            </a:custGeom>
            <a:solidFill>
              <a:srgbClr val="385d8a"/>
            </a:solidFill>
            <a:ln w="0">
              <a:solidFill>
                <a:srgbClr val="385d8a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8408880" y="189000"/>
              <a:ext cx="735120" cy="453960"/>
            </a:xfrm>
            <a:custGeom>
              <a:avLst/>
              <a:gdLst/>
              <a:ahLst/>
              <a:rect l="l" t="t" r="r" b="b"/>
              <a:pathLst>
                <a:path w="1454" h="1494">
                  <a:moveTo>
                    <a:pt x="0" y="0"/>
                  </a:moveTo>
                  <a:lnTo>
                    <a:pt x="1168" y="0"/>
                  </a:lnTo>
                  <a:lnTo>
                    <a:pt x="1454" y="747"/>
                  </a:lnTo>
                  <a:lnTo>
                    <a:pt x="1168" y="1494"/>
                  </a:lnTo>
                  <a:lnTo>
                    <a:pt x="0" y="1494"/>
                  </a:lnTo>
                  <a:lnTo>
                    <a:pt x="286" y="74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eb4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8394480" y="198360"/>
              <a:ext cx="746280" cy="460080"/>
            </a:xfrm>
            <a:custGeom>
              <a:avLst/>
              <a:gdLst/>
              <a:ahLst/>
              <a:rect l="l" t="t" r="r" b="b"/>
              <a:pathLst>
                <a:path w="1478" h="1513">
                  <a:moveTo>
                    <a:pt x="0" y="0"/>
                  </a:moveTo>
                  <a:lnTo>
                    <a:pt x="1188" y="0"/>
                  </a:lnTo>
                  <a:lnTo>
                    <a:pt x="1478" y="756"/>
                  </a:lnTo>
                  <a:lnTo>
                    <a:pt x="1188" y="1513"/>
                  </a:lnTo>
                  <a:lnTo>
                    <a:pt x="0" y="1513"/>
                  </a:lnTo>
                  <a:lnTo>
                    <a:pt x="291" y="753"/>
                  </a:lnTo>
                  <a:lnTo>
                    <a:pt x="291" y="760"/>
                  </a:lnTo>
                  <a:lnTo>
                    <a:pt x="0" y="0"/>
                  </a:lnTo>
                  <a:close/>
                  <a:moveTo>
                    <a:pt x="310" y="756"/>
                  </a:moveTo>
                  <a:lnTo>
                    <a:pt x="22" y="1507"/>
                  </a:lnTo>
                  <a:lnTo>
                    <a:pt x="13" y="1494"/>
                  </a:lnTo>
                  <a:lnTo>
                    <a:pt x="1181" y="1494"/>
                  </a:lnTo>
                  <a:lnTo>
                    <a:pt x="1172" y="1500"/>
                  </a:lnTo>
                  <a:lnTo>
                    <a:pt x="1459" y="753"/>
                  </a:lnTo>
                  <a:lnTo>
                    <a:pt x="1459" y="760"/>
                  </a:lnTo>
                  <a:lnTo>
                    <a:pt x="1172" y="13"/>
                  </a:lnTo>
                  <a:lnTo>
                    <a:pt x="1181" y="19"/>
                  </a:lnTo>
                  <a:lnTo>
                    <a:pt x="13" y="19"/>
                  </a:lnTo>
                  <a:lnTo>
                    <a:pt x="22" y="6"/>
                  </a:lnTo>
                  <a:lnTo>
                    <a:pt x="310" y="756"/>
                  </a:lnTo>
                  <a:close/>
                </a:path>
              </a:pathLst>
            </a:custGeom>
            <a:solidFill>
              <a:srgbClr val="385d8a"/>
            </a:solidFill>
            <a:ln w="0">
              <a:solidFill>
                <a:srgbClr val="385d8a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0" name="Line 13"/>
          <p:cNvSpPr/>
          <p:nvPr/>
        </p:nvSpPr>
        <p:spPr>
          <a:xfrm>
            <a:off x="0" y="2492280"/>
            <a:ext cx="5181480" cy="0"/>
          </a:xfrm>
          <a:prstGeom prst="line">
            <a:avLst/>
          </a:prstGeom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3 CuadroTexto"/>
          <p:cNvSpPr/>
          <p:nvPr/>
        </p:nvSpPr>
        <p:spPr>
          <a:xfrm>
            <a:off x="0" y="1341360"/>
            <a:ext cx="9144000" cy="10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buClr>
                <a:srgbClr val="4d4d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700" spc="-1" strike="noStrike">
                <a:solidFill>
                  <a:srgbClr val="1f497d"/>
                </a:solidFill>
                <a:latin typeface="Century Gothic"/>
              </a:rPr>
              <a:t> </a:t>
            </a:r>
            <a:r>
              <a:rPr b="0" lang="es-MX" sz="1700" spc="-1" strike="noStrike">
                <a:solidFill>
                  <a:srgbClr val="1f497d"/>
                </a:solidFill>
                <a:latin typeface="Century Gothic"/>
              </a:rPr>
              <a:t>Metodología: Cualitativa. Análisis de contenido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4d4d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700" spc="-1" strike="noStrike">
                <a:solidFill>
                  <a:srgbClr val="1f497d"/>
                </a:solidFill>
                <a:latin typeface="Century Gothic"/>
              </a:rPr>
              <a:t>Unidades de análisis: material institucional publicado en las páginas web de los MBA’s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4920" y="2637000"/>
            <a:ext cx="374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Century Gothic"/>
              </a:rPr>
              <a:t>Perfil de los egres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79280" y="3430440"/>
            <a:ext cx="8647200" cy="2014200"/>
          </a:xfrm>
          <a:prstGeom prst="rect">
            <a:avLst/>
          </a:prstGeom>
          <a:noFill/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Century Gothic"/>
              </a:rPr>
              <a:t>“</a:t>
            </a:r>
            <a:r>
              <a:rPr b="0" i="1" lang="es-ES" sz="1800" spc="-1" strike="noStrike">
                <a:solidFill>
                  <a:srgbClr val="000000"/>
                </a:solidFill>
                <a:latin typeface="Century Gothic"/>
              </a:rPr>
              <a:t>El graduado es reconocido por su escala de valores,</a:t>
            </a:r>
            <a:r>
              <a:rPr b="0" lang="es-ES" sz="1800" spc="-1" strike="noStrike">
                <a:solidFill>
                  <a:srgbClr val="000000"/>
                </a:solidFill>
                <a:latin typeface="Century Gothic"/>
              </a:rPr>
              <a:t> […]</a:t>
            </a:r>
            <a:r>
              <a:rPr b="0" i="1" lang="es-ES" sz="1800" spc="-1" strike="noStrike">
                <a:solidFill>
                  <a:srgbClr val="000000"/>
                </a:solidFill>
                <a:latin typeface="Century Gothic"/>
              </a:rPr>
              <a:t>, para resolver dilemas éticos en los negocios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Century Gothic"/>
              </a:rPr>
              <a:t>“</a:t>
            </a:r>
            <a:r>
              <a:rPr b="0" i="1" lang="es-ES_tradnl" sz="1800" spc="-1" strike="noStrike">
                <a:solidFill>
                  <a:srgbClr val="000000"/>
                </a:solidFill>
                <a:latin typeface="Century Gothic"/>
              </a:rPr>
              <a:t>Profesional altamente capacitado para gerenciar una organización con una formación integral en “management”, una visión global del mundo de los negocios. Al mismo tiempo, embebido de una ética profesional y de una sólida formación en valores.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3657600" y="6324480"/>
            <a:ext cx="5299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619280" y="2492280"/>
            <a:ext cx="453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ffff"/>
                </a:solidFill>
                <a:latin typeface="Broadway"/>
              </a:rPr>
              <a:t>CONCLUSION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2" descr="L O G O T I  P O color"/>
          <p:cNvPicPr/>
          <p:nvPr/>
        </p:nvPicPr>
        <p:blipFill>
          <a:blip r:embed="rId2"/>
          <a:stretch/>
        </p:blipFill>
        <p:spPr>
          <a:xfrm>
            <a:off x="179280" y="189000"/>
            <a:ext cx="1297080" cy="947520"/>
          </a:xfrm>
          <a:prstGeom prst="rect">
            <a:avLst/>
          </a:prstGeom>
          <a:ln w="0">
            <a:noFill/>
          </a:ln>
        </p:spPr>
      </p:pic>
      <p:sp>
        <p:nvSpPr>
          <p:cNvPr id="247" name="Text Box 3"/>
          <p:cNvSpPr/>
          <p:nvPr/>
        </p:nvSpPr>
        <p:spPr>
          <a:xfrm>
            <a:off x="1547640" y="219240"/>
            <a:ext cx="7345440" cy="619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1f497d"/>
                </a:solidFill>
                <a:latin typeface="Broadway"/>
              </a:rPr>
              <a:t>CONCLUSIO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1 Título"/>
          <p:cNvSpPr/>
          <p:nvPr/>
        </p:nvSpPr>
        <p:spPr>
          <a:xfrm>
            <a:off x="250920" y="1483200"/>
            <a:ext cx="842004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85840" indent="-285840">
              <a:lnSpc>
                <a:spcPct val="120000"/>
              </a:lnSpc>
              <a:buClr>
                <a:srgbClr val="1f497d"/>
              </a:buClr>
              <a:buFont typeface="CopprplGoth Bd B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1f497d"/>
                </a:solidFill>
                <a:latin typeface="CopprplGoth Bd BT Bold"/>
              </a:rPr>
              <a:t>REFORZAR LA EDUCACIÓN ÉTICA EN EL GR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4 Marcador de número de diapositiva"/>
          <p:cNvSpPr/>
          <p:nvPr/>
        </p:nvSpPr>
        <p:spPr>
          <a:xfrm>
            <a:off x="709920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3A09E-FB5F-4CFA-A012-34400330846E}" type="slidenum">
              <a:rPr b="0" lang="es-A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1 Título"/>
          <p:cNvSpPr/>
          <p:nvPr/>
        </p:nvSpPr>
        <p:spPr>
          <a:xfrm>
            <a:off x="324000" y="2560680"/>
            <a:ext cx="842004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85840" indent="-2858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1f497d"/>
                </a:solidFill>
                <a:latin typeface="CopprplGoth Bd BT Bold"/>
              </a:rPr>
              <a:t>2. PARADIGMA EDUCATIVO TRADICIONAL. Conocer vs. Comprometerse. (Anécdota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1 Título"/>
          <p:cNvSpPr/>
          <p:nvPr/>
        </p:nvSpPr>
        <p:spPr>
          <a:xfrm>
            <a:off x="324000" y="3932640"/>
            <a:ext cx="842004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85840" indent="-2858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1f497d"/>
                </a:solidFill>
                <a:latin typeface="CopprplGoth Bd BT Bold"/>
              </a:rPr>
              <a:t>3. VAL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11"/>
          <p:cNvSpPr/>
          <p:nvPr/>
        </p:nvSpPr>
        <p:spPr>
          <a:xfrm>
            <a:off x="1979640" y="4508640"/>
            <a:ext cx="556272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5f5f5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5f5f5f"/>
                </a:solidFill>
                <a:latin typeface="Verdana"/>
              </a:rPr>
              <a:t> </a:t>
            </a:r>
            <a:r>
              <a:rPr b="0" lang="es-ES" sz="1600" spc="-1" strike="noStrike">
                <a:solidFill>
                  <a:srgbClr val="5f5f5f"/>
                </a:solidFill>
                <a:latin typeface="Verdana"/>
              </a:rPr>
              <a:t>Capacidad de autonomí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5f5f5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5f5f5f"/>
                </a:solidFill>
                <a:latin typeface="Verdana"/>
              </a:rPr>
              <a:t>Capacidad de cooper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5f5f5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5f5f5f"/>
                </a:solidFill>
                <a:latin typeface="Verdana"/>
              </a:rPr>
              <a:t>Capacidad de participació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1297080" cy="9475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1835280" y="333360"/>
            <a:ext cx="7092720" cy="585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1f497d"/>
                </a:solidFill>
                <a:latin typeface="Broadway"/>
              </a:rPr>
              <a:t>ÍNDICE DE LA PRESENTACIÓ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1 Título"/>
          <p:cNvSpPr/>
          <p:nvPr/>
        </p:nvSpPr>
        <p:spPr>
          <a:xfrm>
            <a:off x="144360" y="1542240"/>
            <a:ext cx="8820360" cy="41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spcBef>
                <a:spcPts val="1049"/>
              </a:spcBef>
              <a:spcAft>
                <a:spcPts val="1049"/>
              </a:spcAft>
              <a:buClr>
                <a:srgbClr val="1f497d"/>
              </a:buClr>
              <a:buFont typeface="Century Gothic"/>
              <a:buAutoNum type="arabicPeriod"/>
              <a:tabLst>
                <a:tab algn="l" pos="274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1f497d"/>
                </a:solidFill>
                <a:latin typeface="Century Gothic"/>
              </a:rPr>
              <a:t>INTRODUCCIÓN </a:t>
            </a:r>
            <a:br>
              <a:rPr sz="2800"/>
            </a:br>
            <a:br>
              <a:rPr sz="2800"/>
            </a:br>
            <a:r>
              <a:rPr b="0" lang="es-MX" sz="2800" spc="-1" strike="noStrike">
                <a:solidFill>
                  <a:srgbClr val="1f497d"/>
                </a:solidFill>
                <a:latin typeface="Century Gothic"/>
              </a:rPr>
              <a:t>2. PRIMERA PARTE: DE LA ENSEÑANZA DE LA ÉTICA</a:t>
            </a:r>
            <a:br>
              <a:rPr sz="2800"/>
            </a:br>
            <a:br>
              <a:rPr sz="2800"/>
            </a:br>
            <a:r>
              <a:rPr b="0" lang="es-MX" sz="2800" spc="-1" strike="noStrike">
                <a:solidFill>
                  <a:srgbClr val="1f497d"/>
                </a:solidFill>
                <a:latin typeface="Century Gothic"/>
              </a:rPr>
              <a:t>3. SEGUNDA PARTE: ¿CÓMO PUEDE ENSEÑARSE LA ÉTICA EN LOS MBA’S?</a:t>
            </a:r>
            <a:br>
              <a:rPr sz="2800"/>
            </a:br>
            <a:r>
              <a:rPr b="0" lang="es-MX" sz="2800" spc="-1" strike="noStrike">
                <a:solidFill>
                  <a:srgbClr val="1f497d"/>
                </a:solidFill>
                <a:latin typeface="Century Gothic"/>
              </a:rPr>
              <a:t> </a:t>
            </a:r>
            <a:br>
              <a:rPr sz="2800"/>
            </a:br>
            <a:r>
              <a:rPr b="0" lang="es-MX" sz="2800" spc="-1" strike="noStrike">
                <a:solidFill>
                  <a:srgbClr val="1f497d"/>
                </a:solidFill>
                <a:latin typeface="Century Gothic"/>
              </a:rPr>
              <a:t>4. CONCLUS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4 Marcador de número de diapositiva"/>
          <p:cNvSpPr/>
          <p:nvPr/>
        </p:nvSpPr>
        <p:spPr>
          <a:xfrm>
            <a:off x="709920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15A98-0158-44CD-97FC-C80A31C38A5B}" type="slidenum">
              <a:rPr b="0" lang="es-A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Picture 2" descr="L O G O T I  P O color"/>
          <p:cNvPicPr/>
          <p:nvPr/>
        </p:nvPicPr>
        <p:blipFill>
          <a:blip r:embed="rId2"/>
          <a:stretch/>
        </p:blipFill>
        <p:spPr>
          <a:xfrm>
            <a:off x="179280" y="189000"/>
            <a:ext cx="1297080" cy="947520"/>
          </a:xfrm>
          <a:prstGeom prst="rect">
            <a:avLst/>
          </a:prstGeom>
          <a:ln w="0">
            <a:noFill/>
          </a:ln>
        </p:spPr>
      </p:pic>
      <p:sp>
        <p:nvSpPr>
          <p:cNvPr id="254" name="Text Box 3"/>
          <p:cNvSpPr/>
          <p:nvPr/>
        </p:nvSpPr>
        <p:spPr>
          <a:xfrm>
            <a:off x="1547640" y="219240"/>
            <a:ext cx="7345440" cy="619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1f497d"/>
                </a:solidFill>
                <a:latin typeface="Broadway"/>
              </a:rPr>
              <a:t>CONCLUSIO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4 Marcador de número de diapositiva"/>
          <p:cNvSpPr/>
          <p:nvPr/>
        </p:nvSpPr>
        <p:spPr>
          <a:xfrm>
            <a:off x="709920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EF25F-50D6-46E8-93D5-A6EA3832EE94}" type="slidenum">
              <a:rPr b="0" lang="es-A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50920" y="1982880"/>
            <a:ext cx="87264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Century Gothic"/>
              </a:rPr>
              <a:t>“…</a:t>
            </a:r>
            <a:r>
              <a:rPr b="0" i="1" lang="es-ES" sz="1800" spc="-1" strike="noStrike">
                <a:solidFill>
                  <a:srgbClr val="000000"/>
                </a:solidFill>
                <a:latin typeface="Century Gothic"/>
              </a:rPr>
              <a:t>la ética es una actitud que siempre tiene algo de irreverente. Quiero decir, muchas actitudes éticas han sido irreverentes, porque han roto rutinas. Los valores, cuando se establecen normalmente, tienden a esclerotizarse y tienden a cubrirse con un manto de hipocresía, hay una serie de valores que se instituyen, se van recubriendo de un manto de hipocresía que convierte a las formas en más importantes que los contenidos, que convierte a la apariencia en más relevante que la sustancia. Las personas éticas, los grandes maestros de la moral han sido bastante rupturistas respecto a las formas de vida establecidas, han sido personajes incómodos, a veces atrabiliarios, que no admitían la reverencia a lo establecido. No creo que sea obligatorio que la ética lo obligue a uno a estar constantemente diciendo impertinencias, pero es casi seguro que si eres moral, antes o después vas a resultar impertinente, por lo menos ésa es la experiencia que he tenido”. (Savater 1998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3657600" y="6324480"/>
            <a:ext cx="5299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1330200" y="1413000"/>
            <a:ext cx="4897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Broadway"/>
              </a:rPr>
              <a:t>INSTITUTO DE INVESTIGACIONES ADMINISTRATIV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0" y="3429000"/>
            <a:ext cx="860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Broadway"/>
              </a:rPr>
              <a:t>www.econo.unlp.edu.a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Broadway"/>
              </a:rPr>
              <a:t>icsadministrativas@econo.unlp.edu.a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2"/>
          <p:cNvSpPr/>
          <p:nvPr/>
        </p:nvSpPr>
        <p:spPr>
          <a:xfrm>
            <a:off x="3657600" y="6324480"/>
            <a:ext cx="5299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3"/>
          <p:cNvSpPr/>
          <p:nvPr/>
        </p:nvSpPr>
        <p:spPr>
          <a:xfrm>
            <a:off x="1332000" y="2852640"/>
            <a:ext cx="475272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200" spc="-1" strike="noStrike">
                <a:solidFill>
                  <a:srgbClr val="ffffff"/>
                </a:solidFill>
                <a:latin typeface="Broadway"/>
              </a:rPr>
              <a:t>INTRODUCCIÓN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5940360" y="2852640"/>
            <a:ext cx="3457800" cy="14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86696"/>
                </a:solidFill>
                <a:latin typeface="Century Gothic"/>
              </a:rPr>
              <a:t>JUSTIFICACIÓN DE LA ELECCIÓN DEL TEM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1297080" cy="94752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835280" y="333360"/>
            <a:ext cx="7092720" cy="585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1f497d"/>
                </a:solidFill>
                <a:latin typeface="Broadway"/>
              </a:rPr>
              <a:t>INTRODUCCIÓ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4 Marcador de número de diapositiva"/>
          <p:cNvSpPr/>
          <p:nvPr/>
        </p:nvSpPr>
        <p:spPr>
          <a:xfrm>
            <a:off x="709920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39717-6D46-4C72-A2AA-BE644D703F04}" type="slidenum">
              <a:rPr b="0" lang="es-A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2 Marcador de contenido"/>
          <p:cNvSpPr/>
          <p:nvPr/>
        </p:nvSpPr>
        <p:spPr>
          <a:xfrm>
            <a:off x="179280" y="1341360"/>
            <a:ext cx="8964720" cy="53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65000"/>
              </a:lnSpc>
              <a:spcBef>
                <a:spcPts val="624"/>
              </a:spcBef>
              <a:spcAft>
                <a:spcPts val="624"/>
              </a:spcAft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3366"/>
                </a:solidFill>
                <a:latin typeface="Century Gothic"/>
                <a:ea typeface="Arial"/>
              </a:rPr>
              <a:t>Actual crisis económico financiera a escala mundial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3520">
              <a:lnSpc>
                <a:spcPct val="165000"/>
              </a:lnSpc>
              <a:spcBef>
                <a:spcPts val="561"/>
              </a:spcBef>
              <a:spcAft>
                <a:spcPts val="224"/>
              </a:spcAft>
              <a:buClr>
                <a:srgbClr val="5f5f5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3366"/>
                </a:solidFill>
                <a:latin typeface="Century Gothic"/>
                <a:ea typeface="Arial"/>
              </a:rPr>
              <a:t>  </a:t>
            </a:r>
            <a:r>
              <a:rPr b="0" lang="es-MX" sz="1800" spc="-1" strike="noStrike">
                <a:solidFill>
                  <a:srgbClr val="003366"/>
                </a:solidFill>
                <a:latin typeface="Century Gothic"/>
                <a:ea typeface="Arial"/>
              </a:rPr>
              <a:t>Bernardo Klisberg (2009) indica tres fallas éticas que dan origen a esta crisi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81160" indent="-228600">
              <a:lnSpc>
                <a:spcPct val="165000"/>
              </a:lnSpc>
              <a:spcBef>
                <a:spcPts val="561"/>
              </a:spcBef>
              <a:spcAft>
                <a:spcPts val="224"/>
              </a:spcAft>
              <a:buClr>
                <a:srgbClr val="5f5f5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3366"/>
                </a:solidFill>
                <a:latin typeface="Century Gothic"/>
                <a:ea typeface="Arial"/>
              </a:rPr>
              <a:t>El abandono por parte del Estado de su misión de proteger el interés colectivo en campos estratégico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81160" indent="-228600">
              <a:lnSpc>
                <a:spcPct val="165000"/>
              </a:lnSpc>
              <a:spcBef>
                <a:spcPts val="561"/>
              </a:spcBef>
              <a:spcAft>
                <a:spcPts val="224"/>
              </a:spcAft>
              <a:buClr>
                <a:srgbClr val="5f5f5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3366"/>
                </a:solidFill>
                <a:latin typeface="Century Gothic"/>
                <a:ea typeface="Arial"/>
              </a:rPr>
              <a:t>Los sesgos de las agencias calificadoras de riesgos y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81160" indent="-228600">
              <a:lnSpc>
                <a:spcPct val="165000"/>
              </a:lnSpc>
              <a:spcBef>
                <a:spcPts val="561"/>
              </a:spcBef>
              <a:spcAft>
                <a:spcPts val="224"/>
              </a:spcAft>
              <a:buClr>
                <a:srgbClr val="5f5f5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3366"/>
                </a:solidFill>
                <a:latin typeface="Century Gothic"/>
                <a:ea typeface="Arial"/>
              </a:rPr>
              <a:t>La conducta de los altos ejecutivos financie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5000"/>
              </a:lnSpc>
              <a:spcBef>
                <a:spcPts val="624"/>
              </a:spcBef>
              <a:spcAft>
                <a:spcPts val="249"/>
              </a:spcAft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3366"/>
                </a:solidFill>
                <a:latin typeface="Century Gothic"/>
                <a:ea typeface="Arial"/>
              </a:rPr>
              <a:t>Mediatización de escándalos ejecutivo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5000"/>
              </a:lnSpc>
              <a:spcBef>
                <a:spcPts val="624"/>
              </a:spcBef>
              <a:spcAft>
                <a:spcPts val="249"/>
              </a:spcAft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3366"/>
                </a:solidFill>
                <a:latin typeface="Century Gothic"/>
                <a:ea typeface="Arial"/>
              </a:rPr>
              <a:t>Aumento de la matrícula en los MBA´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3"/>
          <p:cNvSpPr/>
          <p:nvPr/>
        </p:nvSpPr>
        <p:spPr>
          <a:xfrm>
            <a:off x="1332000" y="1800360"/>
            <a:ext cx="47527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ff"/>
                </a:solidFill>
                <a:latin typeface="Broadway"/>
              </a:rPr>
              <a:t>PRIMERA PAR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ff"/>
                </a:solidFill>
                <a:latin typeface="Broadway"/>
              </a:rPr>
              <a:t>De la enseñanza de la ética en general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1297080" cy="94752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1835280" y="333360"/>
            <a:ext cx="7092720" cy="585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1f497d"/>
                </a:solidFill>
                <a:latin typeface="Broadway"/>
              </a:rPr>
              <a:t>¿QUÉ ES LA ÉTICA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4 Marcador de número de diapositiva"/>
          <p:cNvSpPr/>
          <p:nvPr/>
        </p:nvSpPr>
        <p:spPr>
          <a:xfrm>
            <a:off x="709920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76EEB-BBA0-4B5B-A1BB-00F3C161967A}" type="slidenum">
              <a:rPr b="0" lang="es-A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11280" y="1620720"/>
            <a:ext cx="792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entury Gothic"/>
              </a:rPr>
              <a:t>Disciplina que se ocupa de aquello que es bueno o malo, correcto o incorrecto. Es la rama de la filosofía que evalúa el comportamiento humano y, en tal sentido, sistematiza, defiende y recomienda criterios referidos a comportamientos correctos e incorrecto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55640" y="3284640"/>
            <a:ext cx="2951280" cy="1150920"/>
          </a:xfrm>
          <a:prstGeom prst="downArrowCallout">
            <a:avLst>
              <a:gd name="adj1" fmla="val 0"/>
              <a:gd name="adj2" fmla="val 64107"/>
              <a:gd name="adj3" fmla="val 15903"/>
              <a:gd name="adj4" fmla="val 67370"/>
            </a:avLst>
          </a:prstGeom>
          <a:noFill/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Gothic"/>
              </a:rPr>
              <a:t>ÉT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788000" y="3284640"/>
            <a:ext cx="2950920" cy="1150920"/>
          </a:xfrm>
          <a:prstGeom prst="downArrowCallout">
            <a:avLst>
              <a:gd name="adj1" fmla="val 0"/>
              <a:gd name="adj2" fmla="val 64099"/>
              <a:gd name="adj3" fmla="val 15903"/>
              <a:gd name="adj4" fmla="val 67370"/>
            </a:avLst>
          </a:prstGeom>
          <a:noFill/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Gothic"/>
              </a:rPr>
              <a:t>MO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36400" y="4614480"/>
            <a:ext cx="3387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entury Gothic"/>
              </a:rPr>
              <a:t>Es el conjunto de comportamientos y normas que se suelen aceptar como válidos</a:t>
            </a:r>
            <a:r>
              <a:rPr b="1" lang="es-ES_tradnl" sz="18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572000" y="4476600"/>
            <a:ext cx="3387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entury Gothic"/>
              </a:rPr>
              <a:t>Reflexión sobre por qué los consideramos válidos y la comparación con otras morales que tienen personas diferentes.</a:t>
            </a:r>
            <a:r>
              <a:rPr b="0" lang="es-ES" sz="18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1297080" cy="94752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1800360" y="49320"/>
            <a:ext cx="7092720" cy="1077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1f497d"/>
                </a:solidFill>
                <a:latin typeface="Broadway"/>
              </a:rPr>
              <a:t>¿DEBE SER ENSEÑADA LA ÉTICA EN LOS POSGRADOS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4 Marcador de número de diapositiva"/>
          <p:cNvSpPr/>
          <p:nvPr/>
        </p:nvSpPr>
        <p:spPr>
          <a:xfrm>
            <a:off x="709920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11929-B9E5-447F-8EF6-297B35AD15CB}" type="slidenum">
              <a:rPr b="0" lang="es-A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050920" y="2781360"/>
            <a:ext cx="6193080" cy="360360"/>
          </a:xfrm>
          <a:prstGeom prst="rect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Century Gothic"/>
              </a:rPr>
              <a:t>NIVELES DE DESARROLLO MO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3 CuadroTexto"/>
          <p:cNvSpPr/>
          <p:nvPr/>
        </p:nvSpPr>
        <p:spPr>
          <a:xfrm>
            <a:off x="0" y="1357200"/>
            <a:ext cx="9144000" cy="10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buClr>
                <a:srgbClr val="4d4d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700" spc="-1" strike="noStrike">
                <a:solidFill>
                  <a:srgbClr val="1f497d"/>
                </a:solidFill>
                <a:latin typeface="Century Gothic"/>
              </a:rPr>
              <a:t> </a:t>
            </a:r>
            <a:r>
              <a:rPr b="0" lang="es-MX" sz="1700" spc="-1" strike="noStrike">
                <a:solidFill>
                  <a:srgbClr val="1f497d"/>
                </a:solidFill>
                <a:latin typeface="Century Gothic"/>
              </a:rPr>
              <a:t>Lawrence Kohlberg </a:t>
            </a:r>
            <a:r>
              <a:rPr b="0" lang="es-ES" sz="1700" spc="-1" strike="noStrike">
                <a:solidFill>
                  <a:srgbClr val="1f497d"/>
                </a:solidFill>
                <a:latin typeface="Century Gothic"/>
              </a:rPr>
              <a:t>distingue seis etapas de razonamiento moral agrupadas en tres grandes niveles de desarrollo moral, cada uno de los cuales se compone de dos estadios de desarrollo mora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13"/>
          <p:cNvSpPr/>
          <p:nvPr/>
        </p:nvSpPr>
        <p:spPr>
          <a:xfrm>
            <a:off x="0" y="2492280"/>
            <a:ext cx="5181480" cy="0"/>
          </a:xfrm>
          <a:prstGeom prst="line">
            <a:avLst/>
          </a:prstGeom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227640" y="3213000"/>
            <a:ext cx="2016360" cy="6494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entury Gothic"/>
              </a:rPr>
              <a:t>Posconvenc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Century Gothic"/>
              </a:rPr>
              <a:t>y de princip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140360" y="3213000"/>
            <a:ext cx="2016000" cy="6494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entury Gothic"/>
              </a:rPr>
              <a:t>Convenc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050920" y="3213000"/>
            <a:ext cx="2016360" cy="6494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entury Gothic"/>
              </a:rPr>
              <a:t>Preconvenc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rot="16200000">
            <a:off x="792000" y="4760640"/>
            <a:ext cx="1871640" cy="360360"/>
          </a:xfrm>
          <a:prstGeom prst="rect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Century Gothic"/>
              </a:rPr>
              <a:t>ESTADI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050920" y="4003560"/>
            <a:ext cx="2016360" cy="865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entury Gothic"/>
              </a:rPr>
              <a:t>Moralida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entury Gothic"/>
              </a:rPr>
              <a:t>heteróno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050920" y="5011560"/>
            <a:ext cx="2016360" cy="865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entury Gothic"/>
              </a:rPr>
              <a:t>Individualismo, fin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entury Gothic"/>
              </a:rPr>
              <a:t>instrumentales 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entury Gothic"/>
              </a:rPr>
              <a:t>intercambi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140360" y="4005360"/>
            <a:ext cx="2016000" cy="865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entury Gothic"/>
              </a:rPr>
              <a:t>Expectativa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entury Gothic"/>
              </a:rPr>
              <a:t>interpersonales mutua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entury Gothic"/>
              </a:rPr>
              <a:t>y conformida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entury Gothic"/>
              </a:rPr>
              <a:t>interperson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140360" y="5013360"/>
            <a:ext cx="2016000" cy="865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entury Gothic"/>
              </a:rPr>
              <a:t>Sistema socia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entury Gothic"/>
              </a:rPr>
              <a:t>y concienc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227640" y="4005360"/>
            <a:ext cx="2016360" cy="865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entury Gothic"/>
              </a:rPr>
              <a:t>Contrato social 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entury Gothic"/>
              </a:rPr>
              <a:t>utilidad y derech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entury Gothic"/>
              </a:rPr>
              <a:t>individu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227640" y="5013360"/>
            <a:ext cx="2016360" cy="865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entury Gothic"/>
              </a:rPr>
              <a:t>Principios ético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entury Gothic"/>
              </a:rPr>
              <a:t>universale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1297080" cy="94752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1800360" y="49320"/>
            <a:ext cx="7092720" cy="1077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1f497d"/>
                </a:solidFill>
                <a:latin typeface="Broadway"/>
              </a:rPr>
              <a:t>PRESENCIA DE LA ÉTICA EN LOS MBA’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4 Marcador de número de diapositiva"/>
          <p:cNvSpPr/>
          <p:nvPr/>
        </p:nvSpPr>
        <p:spPr>
          <a:xfrm>
            <a:off x="709920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E1BE0-C76D-4AA2-8F41-570CDA2A4252}" type="slidenum">
              <a:rPr b="0" lang="es-A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3 CuadroTexto"/>
          <p:cNvSpPr/>
          <p:nvPr/>
        </p:nvSpPr>
        <p:spPr>
          <a:xfrm>
            <a:off x="0" y="1341360"/>
            <a:ext cx="9144000" cy="10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buClr>
                <a:srgbClr val="4d4d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700" spc="-1" strike="noStrike">
                <a:solidFill>
                  <a:srgbClr val="1f497d"/>
                </a:solidFill>
                <a:latin typeface="Century Gothic"/>
              </a:rPr>
              <a:t> </a:t>
            </a:r>
            <a:r>
              <a:rPr b="0" lang="es-MX" sz="1700" spc="-1" strike="noStrike">
                <a:solidFill>
                  <a:srgbClr val="1f497d"/>
                </a:solidFill>
                <a:latin typeface="Century Gothic"/>
              </a:rPr>
              <a:t>Metodología: Cuantitativa con utilización de información secundaria (web)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4d4d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700" spc="-1" strike="noStrike">
                <a:solidFill>
                  <a:srgbClr val="1f497d"/>
                </a:solidFill>
                <a:latin typeface="Century Gothic"/>
              </a:rPr>
              <a:t>Unidades de análisis: planes de estudio de los MBA´s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4d4d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700" spc="-1" strike="noStrike">
                <a:solidFill>
                  <a:srgbClr val="1f497d"/>
                </a:solidFill>
                <a:latin typeface="Century Gothic"/>
              </a:rPr>
              <a:t>Población: 26 MBA identificados. 20 planes de estudios obtenidos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0" y="2492280"/>
            <a:ext cx="5181480" cy="0"/>
          </a:xfrm>
          <a:prstGeom prst="line">
            <a:avLst/>
          </a:prstGeom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3 CuadroTexto"/>
          <p:cNvSpPr/>
          <p:nvPr/>
        </p:nvSpPr>
        <p:spPr>
          <a:xfrm>
            <a:off x="539640" y="3359160"/>
            <a:ext cx="3961080" cy="314100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1f497d"/>
                </a:solidFill>
                <a:latin typeface="Century Gothic"/>
              </a:rPr>
              <a:t> </a:t>
            </a:r>
            <a:r>
              <a:rPr b="0" lang="es-MX" sz="2000" spc="-1" strike="noStrike">
                <a:solidFill>
                  <a:srgbClr val="1f497d"/>
                </a:solidFill>
                <a:latin typeface="Century Gothic"/>
              </a:rPr>
              <a:t>65% (13 MBA) dictan alguna materia y/o seminario referida a “ética y/o responsabilidad soci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5000"/>
              </a:lnSpc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1f497d"/>
                </a:solidFill>
                <a:latin typeface="Century Gothic"/>
              </a:rPr>
              <a:t> </a:t>
            </a:r>
            <a:r>
              <a:rPr b="0" lang="es-MX" sz="2000" spc="-1" strike="noStrike">
                <a:solidFill>
                  <a:srgbClr val="1f497d"/>
                </a:solidFill>
                <a:latin typeface="Century Gothic"/>
              </a:rPr>
              <a:t>77% (10 MBA) incluyen estas materia en su currícula obligatori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39640" y="2781360"/>
            <a:ext cx="3961080" cy="43164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Century Gothic"/>
              </a:rPr>
              <a:t>MB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72000" y="2781360"/>
            <a:ext cx="4032360" cy="43164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Century Gothic"/>
              </a:rPr>
              <a:t>CARRERA DE GR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3 CuadroTexto"/>
          <p:cNvSpPr/>
          <p:nvPr/>
        </p:nvSpPr>
        <p:spPr>
          <a:xfrm>
            <a:off x="4643280" y="3359160"/>
            <a:ext cx="3961080" cy="16174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1f497d"/>
                </a:solidFill>
                <a:latin typeface="Century Gothic"/>
              </a:rPr>
              <a:t> </a:t>
            </a:r>
            <a:r>
              <a:rPr b="0" lang="es-MX" sz="2000" spc="-1" strike="noStrike">
                <a:solidFill>
                  <a:srgbClr val="1f497d"/>
                </a:solidFill>
                <a:latin typeface="Century Gothic"/>
              </a:rPr>
              <a:t>29% (12 Facultades) dictan alguna materia y/o seminario referida a “ética y/o responsabilidad soci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3 CuadroTexto"/>
          <p:cNvSpPr/>
          <p:nvPr/>
        </p:nvSpPr>
        <p:spPr>
          <a:xfrm>
            <a:off x="4643280" y="5084640"/>
            <a:ext cx="3961080" cy="1465560"/>
          </a:xfrm>
          <a:prstGeom prst="rect">
            <a:avLst/>
          </a:prstGeom>
          <a:solidFill>
            <a:srgbClr val="4f81bd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1f497d"/>
                </a:solidFill>
                <a:latin typeface="Baskerville Old Face"/>
              </a:rPr>
              <a:t>No concordancia con el modelo psicológico de L. Kohlberg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1297080" cy="94752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1692360" y="147600"/>
            <a:ext cx="7200720" cy="90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1f497d"/>
                </a:solidFill>
                <a:latin typeface="Broadway"/>
              </a:rPr>
              <a:t>OPINIÓN DE LOS ALUMNOS DE MBA’S SOBRE NEGOCIOS Y SOCIEDAD (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4 Marcador de número de diapositiva"/>
          <p:cNvSpPr/>
          <p:nvPr/>
        </p:nvSpPr>
        <p:spPr>
          <a:xfrm>
            <a:off x="709920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0F4A2-9698-408B-B4A3-87C5972C8C12}" type="slidenum">
              <a:rPr b="0" lang="es-A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3 CuadroTexto"/>
          <p:cNvSpPr/>
          <p:nvPr/>
        </p:nvSpPr>
        <p:spPr>
          <a:xfrm>
            <a:off x="0" y="1341360"/>
            <a:ext cx="9144000" cy="13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buClr>
                <a:srgbClr val="4d4d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700" spc="-1" strike="noStrike">
                <a:solidFill>
                  <a:srgbClr val="1f497d"/>
                </a:solidFill>
                <a:latin typeface="Century Gothic"/>
              </a:rPr>
              <a:t> </a:t>
            </a:r>
            <a:r>
              <a:rPr b="0" lang="es-MX" sz="1700" spc="-1" strike="noStrike">
                <a:solidFill>
                  <a:srgbClr val="1f497d"/>
                </a:solidFill>
                <a:latin typeface="Century Gothic"/>
              </a:rPr>
              <a:t>Metodología: Cuantitativa. Adaptación de la encuesta realizada por el “Institute Center for Businnes Educations”. (Aspen BSP). No se buscó representatividad estadística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4d4d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700" spc="-1" strike="noStrike">
                <a:solidFill>
                  <a:srgbClr val="1f497d"/>
                </a:solidFill>
                <a:latin typeface="Century Gothic"/>
              </a:rPr>
              <a:t>Unidades de análisis: alumnos del MBA de la UNLP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13"/>
          <p:cNvSpPr/>
          <p:nvPr/>
        </p:nvSpPr>
        <p:spPr>
          <a:xfrm>
            <a:off x="-33480" y="2781360"/>
            <a:ext cx="5181840" cy="0"/>
          </a:xfrm>
          <a:prstGeom prst="line">
            <a:avLst/>
          </a:prstGeom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2849760"/>
            <a:ext cx="91440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1f497d"/>
                </a:solidFill>
                <a:uFillTx/>
                <a:latin typeface="Century Gothic"/>
              </a:rPr>
              <a:t>PRINCIPALES CONCLUS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1f497d"/>
                </a:solidFill>
                <a:latin typeface="Century Gothic"/>
              </a:rPr>
              <a:t> </a:t>
            </a:r>
            <a:r>
              <a:rPr b="0" lang="es-ES_tradnl" sz="2000" spc="-1" strike="noStrike">
                <a:solidFill>
                  <a:srgbClr val="1f497d"/>
                </a:solidFill>
                <a:latin typeface="Century Gothic"/>
              </a:rPr>
              <a:t>Tendencia a pensar los negocios siguiendo una visión clásica de los mismos, esto es haciendo principal hincapié en los accionistas y los client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1f497d"/>
                </a:solidFill>
                <a:latin typeface="Century Gothic"/>
              </a:rPr>
              <a:t> </a:t>
            </a:r>
            <a:r>
              <a:rPr b="0" lang="es-ES_tradnl" sz="2000" spc="-1" strike="noStrike">
                <a:solidFill>
                  <a:srgbClr val="1f497d"/>
                </a:solidFill>
                <a:latin typeface="Century Gothic"/>
              </a:rPr>
              <a:t>Los últimos niveles de la cadena de Maslow, siguen siendo muy significativos como elementos motivadores de las personas.</a:t>
            </a:r>
            <a:r>
              <a:rPr b="0" lang="es-ES" sz="2000" spc="-1" strike="noStrike">
                <a:solidFill>
                  <a:srgbClr val="1f497d"/>
                </a:solidFill>
                <a:latin typeface="Century Gothic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1f497d"/>
                </a:solidFill>
                <a:latin typeface="Century Gothic"/>
              </a:rPr>
              <a:t> </a:t>
            </a:r>
            <a:r>
              <a:rPr b="0" lang="es-ES_tradnl" sz="2000" spc="-1" strike="noStrike">
                <a:solidFill>
                  <a:srgbClr val="1f497d"/>
                </a:solidFill>
                <a:latin typeface="Century Gothic"/>
              </a:rPr>
              <a:t>Visión utilitarista de la R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1f497d"/>
                </a:solidFill>
                <a:latin typeface="Century Gothic"/>
              </a:rPr>
              <a:t> </a:t>
            </a:r>
            <a:r>
              <a:rPr b="0" lang="es-ES_tradnl" sz="2000" spc="-1" strike="noStrike">
                <a:solidFill>
                  <a:srgbClr val="1f497d"/>
                </a:solidFill>
                <a:latin typeface="Century Gothic"/>
              </a:rPr>
              <a:t>RSE entendida como gasto no como inversió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31T22:48:30Z</dcterms:created>
  <dc:creator>Pam</dc:creator>
  <dc:description/>
  <dc:language>en-US</dc:language>
  <cp:lastModifiedBy>C.P.C.E.C.A.B.A</cp:lastModifiedBy>
  <dcterms:modified xsi:type="dcterms:W3CDTF">2009-09-24T16:52:13Z</dcterms:modified>
  <cp:revision>204</cp:revision>
  <dc:subject/>
  <dc:title>DIAGNÓSTICO DE LA CARRERA “LICENCIADO EN ADMINISTRACIÓN” - FCE UNLP-</dc:title>
</cp:coreProperties>
</file>