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46888" cy="9967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5FF-664E-42FC-B283-CB33B87B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3CF-42A0-49FD-8190-A63BBEDE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902-6E47-4D49-B557-25EEE44F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A404-9780-4A21-B709-02631B99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6244-5619-42A3-9682-6DB49C10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7087-42A4-434D-969D-5349BCE2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6991-C8F3-4647-A734-BCD80281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BD8A-6FAD-440E-AF09-AD81B11E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E01E-7E77-49F2-8F4B-EED1C6BD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F1D1-1DEC-4B60-9046-5C696C32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B9F8-5C72-4349-9523-705A6A7A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5CA4-3946-4ECD-A71A-11E9278C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6F3C-F34D-40B3-8ADD-301B5751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3192-DBA7-4D3C-8B1D-18284CC6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E3FE-4589-4FF2-88EC-12921405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FBBA-1ECD-4CEA-8C5F-E111E98C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844D-82CD-4EF6-8F87-FA555266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E8E81-CEE5-44C2-B5F3-B5CB1DB9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DB5E8-B122-42B0-93A0-BFC0430B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B4561-AD36-4AC4-B039-708AA8D3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E4149-49C7-4889-83EB-7A2A616E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797A1-D3A0-4CBE-8E2F-526483E5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E69-ADFF-4ED9-B797-B880F90D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F73CE-098D-4152-854C-94A94562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2695D-2E83-4145-AE4E-BDD8E012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9F0D4-C537-4011-A090-D5EB5138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B315A-BE35-424E-B33E-3D51094E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71881-1CF9-40A7-899F-B7CD505C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B26C3-4E63-4659-A743-81340595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51A97-CCE9-4799-BFFC-00D07DFE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9AF4-F87A-4595-8DF1-34ED415D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F011-8D42-4E93-83DE-7946BAFC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CEE-660D-4184-8410-229C0B08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409E-3A98-48E0-9924-241211F5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AE4-6EF6-405E-925C-7F0B97DB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36F-5519-43C9-B180-735DA6CC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CD26-E3B7-4DE2-85D7-8167B45335F1}" type="datetime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B39F-337C-4713-B160-DC440B24E0A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AED1-4D52-4BB8-986C-09B8DA64A09D}" type="datetime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A18C-0081-4B91-998A-BC2273951E0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FD4D-4AB7-4DEA-A10F-5D4024A11395}" type="datetime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7915-400F-4089-987A-FC38C92CCDA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LA PROFESIONALIZACIÓN EN LAS OSC</a:t>
            </a:r>
            <a:br>
              <a:rPr sz="4000"/>
            </a:br>
            <a:br>
              <a:rPr sz="4000"/>
            </a:b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.A. Daniela Lorena Diest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42920" y="692280"/>
            <a:ext cx="74865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LA VISIÓN DE UN EXPERTO EN RRH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a presencia de organigramas, definición de puestos, aspectos remunerativos, etc., ayuda a que la organización sea atractiva para que profesionales se incorpo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Búsquedas para OSC son más desafiantes por tener que conocer mucho más a los candidatos, fuera del puesto al que se postu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n OSC los salarios están por debajo que en las empresas y en general no hay políticas de beneficios o retribuciones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rofesionales para llevar adelante la Misión, la Visión y los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l área de voluntarios requiere organización para evitar desaprovechar sus habilidades y/o no conseguir las m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a cabeza de la OSC debe aprender a delegar, salir de un esquema donde “todos hacemos todo” para distribuir tareas según el perfil de cada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6113520"/>
            <a:ext cx="75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4360" y="333360"/>
            <a:ext cx="7772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La Profesionalización en las 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16000" y="5229360"/>
            <a:ext cx="4176720" cy="129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16000" y="3716280"/>
            <a:ext cx="417672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042920" y="692280"/>
            <a:ext cx="74865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CONCLUSIO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6113520"/>
            <a:ext cx="75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42920" y="1413000"/>
            <a:ext cx="4249800" cy="20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6000" y="1413000"/>
            <a:ext cx="410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n los últimos tiempos creció el protagonismo de las OSC como actor social al hacerse cargo de actividades crecientes en cantidad y complejidad, administrando más recursos con necesidad de demostrar mayor transpa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24360" y="177336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os profesionales contribuyen a que estas tareas se hagan me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16000" y="3716280"/>
            <a:ext cx="4103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l sector es un empleador importante dentro de la econom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l sector moviliza recursos significativos en términos de P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6000" y="3933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ropicia el terreno para la profesion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16000" y="522936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xigencias y competitividad actuales obligan a las OSC a ser más eficientes y que sus proyectos sean susten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5229360"/>
            <a:ext cx="29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rofesionalizar las funciones ayuda a alcanzar metas con eficiencia y asegurar la contin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92720" y="2060640"/>
            <a:ext cx="35892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92720" y="4005360"/>
            <a:ext cx="35892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516640"/>
            <a:ext cx="35892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333360"/>
            <a:ext cx="7772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La Profesionalización en las 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042920" y="3213000"/>
            <a:ext cx="42498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42920" y="2276640"/>
            <a:ext cx="42498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042920" y="907560"/>
            <a:ext cx="74865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71640" y="4869000"/>
            <a:ext cx="7848360" cy="17697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La profesionalización no pasa sólo por incrementar las plantillas con personal que posea un título académico, sino por </a:t>
            </a:r>
            <a:r>
              <a:rPr b="1" i="1" lang="es-AR" sz="2200" spc="-1" strike="noStrike">
                <a:solidFill>
                  <a:srgbClr val="000000"/>
                </a:solidFill>
                <a:latin typeface="Arial"/>
              </a:rPr>
              <a:t>hacer las cosas de un modo más profesiona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con estructuras de gestión activas, y asignando las responsabilidades según formación y experienc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836640"/>
            <a:ext cx="424980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42920" y="836640"/>
            <a:ext cx="4103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Tendencia hacia la formación de profesionales para el tercer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nterés de profesionales por desarrollarse en el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83664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n el marco de una realidad mundial cambiante y un mercado laboral exi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213372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cciones más planificadas aumentan la posibilidad de éx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16000" y="23493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risis financieras exigen mejor 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16000" y="3357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Una buena dirección ayuda a alcanzar m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651640" y="328464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rofesionales coordinan, monitorean, son autónomos y se orientan a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92720" y="1197000"/>
            <a:ext cx="35892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92720" y="2421000"/>
            <a:ext cx="35892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92720" y="3429000"/>
            <a:ext cx="35892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" y="333360"/>
            <a:ext cx="7772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La Profesionalización en las 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La Profesionalización en las 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42920" y="691920"/>
            <a:ext cx="74865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DEFINICIÓN DEL S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000000"/>
                </a:solidFill>
                <a:latin typeface="Arial"/>
              </a:rPr>
              <a:t>Organizaciones de la Sociedad Civil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, ONU, 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000000"/>
                </a:solidFill>
                <a:latin typeface="Arial"/>
              </a:rPr>
              <a:t>Tercer Sector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, por no ser ni Estado ni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000000"/>
                </a:solidFill>
                <a:latin typeface="Arial"/>
              </a:rPr>
              <a:t>Organizaciones No Gubernament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000000"/>
                </a:solidFill>
                <a:latin typeface="Arial"/>
              </a:rPr>
              <a:t>Sector Sin Fines de Lucro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, por su obje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Según Salamon y Anheier (1999), en su definición estructural operacion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6093000"/>
            <a:ext cx="75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187280" y="3933720"/>
            <a:ext cx="2664000" cy="503280"/>
            <a:chOff x="1187280" y="3933720"/>
            <a:chExt cx="2664000" cy="503280"/>
          </a:xfrm>
        </p:grpSpPr>
        <p:sp>
          <p:nvSpPr>
            <p:cNvPr id="141" name=""/>
            <p:cNvSpPr/>
            <p:nvPr/>
          </p:nvSpPr>
          <p:spPr>
            <a:xfrm>
              <a:off x="1187280" y="3933720"/>
              <a:ext cx="26640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87280" y="4005000"/>
              <a:ext cx="2592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200" spc="-1" strike="noStrike">
                  <a:solidFill>
                    <a:srgbClr val="000000"/>
                  </a:solidFill>
                  <a:latin typeface="Arial"/>
                </a:rPr>
                <a:t>estructurada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187280" y="4424400"/>
            <a:ext cx="2664000" cy="503280"/>
            <a:chOff x="1187280" y="4424400"/>
            <a:chExt cx="2664000" cy="503280"/>
          </a:xfrm>
        </p:grpSpPr>
        <p:sp>
          <p:nvSpPr>
            <p:cNvPr id="144" name=""/>
            <p:cNvSpPr/>
            <p:nvPr/>
          </p:nvSpPr>
          <p:spPr>
            <a:xfrm>
              <a:off x="1187280" y="4424400"/>
              <a:ext cx="26640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87280" y="4495680"/>
              <a:ext cx="2592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200" spc="-1" strike="noStrike">
                  <a:solidFill>
                    <a:srgbClr val="000000"/>
                  </a:solidFill>
                  <a:latin typeface="Arial"/>
                </a:rPr>
                <a:t>privada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187280" y="4929120"/>
            <a:ext cx="2664000" cy="503280"/>
            <a:chOff x="1187280" y="4929120"/>
            <a:chExt cx="2664000" cy="503280"/>
          </a:xfrm>
        </p:grpSpPr>
        <p:sp>
          <p:nvSpPr>
            <p:cNvPr id="147" name=""/>
            <p:cNvSpPr/>
            <p:nvPr/>
          </p:nvSpPr>
          <p:spPr>
            <a:xfrm>
              <a:off x="1187280" y="4929120"/>
              <a:ext cx="26640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87280" y="5000400"/>
              <a:ext cx="2592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200" spc="-1" strike="noStrike">
                  <a:solidFill>
                    <a:srgbClr val="000000"/>
                  </a:solidFill>
                  <a:latin typeface="Arial"/>
                </a:rPr>
                <a:t>autónoma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187280" y="5432400"/>
            <a:ext cx="2664000" cy="503280"/>
            <a:chOff x="1187280" y="5432400"/>
            <a:chExt cx="2664000" cy="503280"/>
          </a:xfrm>
        </p:grpSpPr>
        <p:sp>
          <p:nvSpPr>
            <p:cNvPr id="150" name=""/>
            <p:cNvSpPr/>
            <p:nvPr/>
          </p:nvSpPr>
          <p:spPr>
            <a:xfrm>
              <a:off x="1187280" y="5432400"/>
              <a:ext cx="26640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87280" y="5503680"/>
              <a:ext cx="259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no distrib. benefic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187280" y="5950080"/>
            <a:ext cx="2664000" cy="503280"/>
            <a:chOff x="1187280" y="5950080"/>
            <a:chExt cx="2664000" cy="503280"/>
          </a:xfrm>
        </p:grpSpPr>
        <p:sp>
          <p:nvSpPr>
            <p:cNvPr id="153" name=""/>
            <p:cNvSpPr/>
            <p:nvPr/>
          </p:nvSpPr>
          <p:spPr>
            <a:xfrm>
              <a:off x="1187280" y="5950080"/>
              <a:ext cx="26640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87280" y="6021360"/>
              <a:ext cx="2592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200" spc="-1" strike="noStrike">
                  <a:solidFill>
                    <a:srgbClr val="000000"/>
                  </a:solidFill>
                  <a:latin typeface="Arial"/>
                </a:rPr>
                <a:t>voluntaria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851280" y="3992400"/>
            <a:ext cx="649440" cy="360360"/>
          </a:xfrm>
          <a:prstGeom prst="rightArrow">
            <a:avLst>
              <a:gd name="adj1" fmla="val 50000"/>
              <a:gd name="adj2" fmla="val 45055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4495680"/>
            <a:ext cx="649440" cy="360360"/>
          </a:xfrm>
          <a:prstGeom prst="rightArrow">
            <a:avLst>
              <a:gd name="adj1" fmla="val 50000"/>
              <a:gd name="adj2" fmla="val 45055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51280" y="5000760"/>
            <a:ext cx="649440" cy="360360"/>
          </a:xfrm>
          <a:prstGeom prst="rightArrow">
            <a:avLst>
              <a:gd name="adj1" fmla="val 50000"/>
              <a:gd name="adj2" fmla="val 45055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51280" y="5504040"/>
            <a:ext cx="649440" cy="360360"/>
          </a:xfrm>
          <a:prstGeom prst="rightArrow">
            <a:avLst>
              <a:gd name="adj1" fmla="val 50000"/>
              <a:gd name="adj2" fmla="val 45055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1280" y="6021360"/>
            <a:ext cx="649440" cy="360360"/>
          </a:xfrm>
          <a:prstGeom prst="rightArrow">
            <a:avLst>
              <a:gd name="adj1" fmla="val 50000"/>
              <a:gd name="adj2" fmla="val 45055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386064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3860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ierto grado de formalidad y permanencia en 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16360" y="450864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eparadas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48690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anejan sus actividades y eligen sus autor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5516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conómicos, e/ sus miemb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92720" y="59500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De libre aso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042920" y="691920"/>
            <a:ext cx="748656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RECORRIDO HISTÓRICO DE LAS OS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En la región, es previo a la consolidación del Est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En Argentina, grupos de inmigrantes en siglo XX impulsaron bibliotecas populares, clubes de fútbol, sociedades de fo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Anglosajón: “non-profit”, ligado a la filantropí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Sin embargo, su protagonismo como actor social es reciente, dado por el achicamiento del Estado y nuevas políticas con mayor participación de las OS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Su reciente protagonismo hace que sea escaso el material de estud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6113520"/>
            <a:ext cx="75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33360"/>
            <a:ext cx="7772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La Profesionalización en las 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042920" y="764640"/>
            <a:ext cx="74865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DIMENSIONES DEL TERCER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Según el Estudio Comparativo de la Johns Hopkins University (datos 1999, sobre 22 países relevado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19 millones de trabaj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5% del empleo no agr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Gastos del 4,6% del P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Octava economía del mun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Datos regiona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333360"/>
            <a:ext cx="7772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La Profesionalización en las 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4869000"/>
            <a:ext cx="144000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501336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332000" y="4221000"/>
            <a:ext cx="1439640" cy="576360"/>
            <a:chOff x="1332000" y="4221000"/>
            <a:chExt cx="1439640" cy="576360"/>
          </a:xfrm>
        </p:grpSpPr>
        <p:sp>
          <p:nvSpPr>
            <p:cNvPr id="174" name=""/>
            <p:cNvSpPr/>
            <p:nvPr/>
          </p:nvSpPr>
          <p:spPr>
            <a:xfrm>
              <a:off x="1332000" y="4221000"/>
              <a:ext cx="1439640" cy="576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76360" y="4292640"/>
              <a:ext cx="11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851280" y="4221000"/>
            <a:ext cx="1440000" cy="576360"/>
            <a:chOff x="3851280" y="4221000"/>
            <a:chExt cx="1440000" cy="576360"/>
          </a:xfrm>
        </p:grpSpPr>
        <p:sp>
          <p:nvSpPr>
            <p:cNvPr id="177" name=""/>
            <p:cNvSpPr/>
            <p:nvPr/>
          </p:nvSpPr>
          <p:spPr>
            <a:xfrm>
              <a:off x="3851280" y="4221000"/>
              <a:ext cx="1440000" cy="576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96000" y="429264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443640" y="4221000"/>
            <a:ext cx="1944360" cy="576360"/>
            <a:chOff x="6443640" y="4221000"/>
            <a:chExt cx="1944360" cy="576360"/>
          </a:xfrm>
        </p:grpSpPr>
        <p:sp>
          <p:nvSpPr>
            <p:cNvPr id="180" name=""/>
            <p:cNvSpPr/>
            <p:nvPr/>
          </p:nvSpPr>
          <p:spPr>
            <a:xfrm>
              <a:off x="6443640" y="4221000"/>
              <a:ext cx="1944360" cy="576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38760" y="4292640"/>
              <a:ext cx="15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187280" y="5589720"/>
            <a:ext cx="15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4797360"/>
            <a:ext cx="2305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338 mil ent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mpleo equiv. 22% empleo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08360" y="4797360"/>
            <a:ext cx="2376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161 mil ent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upera en 3 a 1 al empleo mi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2305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105 mil ent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9,4% del empleo en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6553080"/>
            <a:ext cx="74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Fuentes: IBGE-IPEA (Brasil), ESFL (Chile), CEDES/GADIS (Argenti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042920" y="764640"/>
            <a:ext cx="7486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EMPLEO TOTAL EN PORCENTAJE DE LA P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630864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8066160" cy="5030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26920" y="616572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Fuente: Elaboración propia s/ datos del Estudio Comparativo del Sector Sin Fines de Lucro (FOCUS-Johns Hopkins University, Sgo. de Chile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" y="333360"/>
            <a:ext cx="7772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La Profesionalización en las 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00000" y="6113520"/>
            <a:ext cx="75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900000" y="836640"/>
            <a:ext cx="7632720" cy="1008000"/>
            <a:chOff x="900000" y="836640"/>
            <a:chExt cx="7632720" cy="1008000"/>
          </a:xfrm>
        </p:grpSpPr>
        <p:grpSp>
          <p:nvGrpSpPr>
            <p:cNvPr id="194" name=""/>
            <p:cNvGrpSpPr/>
            <p:nvPr/>
          </p:nvGrpSpPr>
          <p:grpSpPr>
            <a:xfrm>
              <a:off x="900000" y="836640"/>
              <a:ext cx="1873440" cy="1008000"/>
              <a:chOff x="900000" y="836640"/>
              <a:chExt cx="1873440" cy="1008000"/>
            </a:xfrm>
          </p:grpSpPr>
          <p:sp>
            <p:nvSpPr>
              <p:cNvPr id="195" name=""/>
              <p:cNvSpPr/>
              <p:nvPr/>
            </p:nvSpPr>
            <p:spPr>
              <a:xfrm>
                <a:off x="900000" y="836640"/>
                <a:ext cx="1873440" cy="10080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971640" y="1125360"/>
                <a:ext cx="172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800" spc="-1" strike="noStrike">
                    <a:solidFill>
                      <a:srgbClr val="000000"/>
                    </a:solidFill>
                    <a:latin typeface="Arial"/>
                  </a:rPr>
                  <a:t>SUELD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2843280" y="836640"/>
              <a:ext cx="1873080" cy="1008000"/>
              <a:chOff x="2843280" y="836640"/>
              <a:chExt cx="1873080" cy="1008000"/>
            </a:xfrm>
          </p:grpSpPr>
          <p:sp>
            <p:nvSpPr>
              <p:cNvPr id="198" name=""/>
              <p:cNvSpPr/>
              <p:nvPr/>
            </p:nvSpPr>
            <p:spPr>
              <a:xfrm>
                <a:off x="2843280" y="836640"/>
                <a:ext cx="1873080" cy="10080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14560" y="1052640"/>
                <a:ext cx="172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800" spc="-1" strike="noStrike">
                    <a:solidFill>
                      <a:srgbClr val="000000"/>
                    </a:solidFill>
                    <a:latin typeface="Arial"/>
                  </a:rPr>
                  <a:t>BÚSQUEDAS LABOR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4788000" y="836640"/>
              <a:ext cx="1801800" cy="1008000"/>
              <a:chOff x="4788000" y="836640"/>
              <a:chExt cx="1801800" cy="1008000"/>
            </a:xfrm>
          </p:grpSpPr>
          <p:sp>
            <p:nvSpPr>
              <p:cNvPr id="201" name=""/>
              <p:cNvSpPr/>
              <p:nvPr/>
            </p:nvSpPr>
            <p:spPr>
              <a:xfrm>
                <a:off x="4788000" y="836640"/>
                <a:ext cx="1801800" cy="10080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56760" y="981000"/>
                <a:ext cx="1662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800" spc="-1" strike="noStrike">
                    <a:solidFill>
                      <a:srgbClr val="000000"/>
                    </a:solidFill>
                    <a:latin typeface="Arial"/>
                  </a:rPr>
                  <a:t>VOLUNTA-RI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659640" y="836640"/>
              <a:ext cx="1873080" cy="1008000"/>
              <a:chOff x="6659640" y="836640"/>
              <a:chExt cx="1873080" cy="1008000"/>
            </a:xfrm>
          </p:grpSpPr>
          <p:sp>
            <p:nvSpPr>
              <p:cNvPr id="204" name=""/>
              <p:cNvSpPr/>
              <p:nvPr/>
            </p:nvSpPr>
            <p:spPr>
              <a:xfrm>
                <a:off x="6659640" y="836640"/>
                <a:ext cx="1873080" cy="10080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59640" y="836640"/>
                <a:ext cx="1800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800" spc="-1" strike="noStrike">
                    <a:solidFill>
                      <a:srgbClr val="000000"/>
                    </a:solidFill>
                    <a:latin typeface="Arial"/>
                  </a:rPr>
                  <a:t>FORMACIÓN DE LOS RECURS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900000" y="1844640"/>
            <a:ext cx="187164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 priori son más bajos que priv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studio en Ciudad de Bs As: alta formación y calidad de RRHH propicia que sueldos au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FASFIL (Brasil), sueldos por encima de la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6360" y="1844640"/>
            <a:ext cx="18000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xigencias similares a emp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ran cantidad para puestos con jerarquía y para áreas administra-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Títulos especí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nocimien-tos infor- má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16360" y="1844640"/>
            <a:ext cx="180036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aracterís-tica de la fuerza de trabajo en O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ayor en países desarrolla-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i la OSC no gestiona, se pierden esfuerzos y peligra la continuidad de las t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32720" y="1844640"/>
            <a:ext cx="180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studio en Ciudad de Buenos Aires: el 40% de los empleados de las OSC poseía estudios universita-rios completos, al igual que el 22% de los volu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4360" y="333360"/>
            <a:ext cx="7772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La Profesionalización en las 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042920" y="691920"/>
            <a:ext cx="74865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¿POR QUÉ LA PROFESIONALIZACIÓN EN LA AGENDA DE LAS OSC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00000" y="6113520"/>
            <a:ext cx="75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333360"/>
            <a:ext cx="7772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La Profesionalización en las 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187280" y="1773360"/>
            <a:ext cx="7345440" cy="718920"/>
            <a:chOff x="1187280" y="1773360"/>
            <a:chExt cx="7345440" cy="718920"/>
          </a:xfrm>
        </p:grpSpPr>
        <p:sp>
          <p:nvSpPr>
            <p:cNvPr id="215" name=""/>
            <p:cNvSpPr/>
            <p:nvPr/>
          </p:nvSpPr>
          <p:spPr>
            <a:xfrm>
              <a:off x="1187280" y="1773360"/>
              <a:ext cx="2953080" cy="7189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58920" y="184464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Desde la Administ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11640" y="1773360"/>
              <a:ext cx="720720" cy="647640"/>
            </a:xfrm>
            <a:prstGeom prst="rightArrow">
              <a:avLst>
                <a:gd name="adj1" fmla="val 50000"/>
                <a:gd name="adj2" fmla="val 27821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03640" y="191628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Peter Drucker y otr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187280" y="2637000"/>
            <a:ext cx="2953080" cy="718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258920" y="2565360"/>
            <a:ext cx="7273800" cy="1202760"/>
            <a:chOff x="1258920" y="2565360"/>
            <a:chExt cx="7273800" cy="1202760"/>
          </a:xfrm>
        </p:grpSpPr>
        <p:sp>
          <p:nvSpPr>
            <p:cNvPr id="221" name=""/>
            <p:cNvSpPr/>
            <p:nvPr/>
          </p:nvSpPr>
          <p:spPr>
            <a:xfrm>
              <a:off x="1258920" y="2708280"/>
              <a:ext cx="28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Desde la Demanda hacia las OS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11640" y="2637000"/>
              <a:ext cx="720720" cy="647640"/>
            </a:xfrm>
            <a:prstGeom prst="rightArrow">
              <a:avLst>
                <a:gd name="adj1" fmla="val 50000"/>
                <a:gd name="adj2" fmla="val 27821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03640" y="2565360"/>
              <a:ext cx="35290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Complejidad y crisis 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Mayor transparencia; é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Gestión administr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187280" y="4005360"/>
            <a:ext cx="2953080" cy="718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58920" y="4076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porte de los profe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11640" y="4005360"/>
            <a:ext cx="720720" cy="647640"/>
          </a:xfrm>
          <a:prstGeom prst="rightArrow">
            <a:avLst>
              <a:gd name="adj1" fmla="val 50000"/>
              <a:gd name="adj2" fmla="val 27821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03640" y="4005360"/>
            <a:ext cx="352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done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mpromiso; hacia m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87280" y="5516640"/>
            <a:ext cx="2953080" cy="718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58920" y="55879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roceso de profesion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11640" y="5516640"/>
            <a:ext cx="720720" cy="647640"/>
          </a:xfrm>
          <a:prstGeom prst="rightArrow">
            <a:avLst>
              <a:gd name="adj1" fmla="val 50000"/>
              <a:gd name="adj2" fmla="val 27821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03640" y="5516640"/>
            <a:ext cx="352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Desde 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or tamaño, complej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ara cumplir con la 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042920" y="691920"/>
            <a:ext cx="74865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PUNTOS DE ENCUENTRO Y DESENCUENTRO ENTRE OSC Y EMPRES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333360"/>
            <a:ext cx="7772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La Profesionalización en las 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1557360"/>
            <a:ext cx="748656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0" i="1" lang="es-AR" sz="2200" spc="-1" strike="noStrike">
                <a:solidFill>
                  <a:srgbClr val="000066"/>
                </a:solidFill>
                <a:latin typeface="Arial"/>
              </a:rPr>
              <a:t>ORGANIZACIONES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, mismos rasgos distin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Persiguen </a:t>
            </a:r>
            <a:r>
              <a:rPr b="0" i="1" lang="es-AR" sz="2200" spc="-1" strike="noStrike">
                <a:solidFill>
                  <a:srgbClr val="000066"/>
                </a:solidFill>
                <a:latin typeface="Arial"/>
              </a:rPr>
              <a:t>FINES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, sin retribución monetaria aunque las OSC pueden ser rent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000066"/>
                </a:solidFill>
                <a:latin typeface="Arial"/>
              </a:rPr>
              <a:t>EFICIENCIA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, en la administración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es-AR" sz="2200" spc="-1" strike="noStrike">
                <a:solidFill>
                  <a:srgbClr val="000066"/>
                </a:solidFill>
                <a:latin typeface="Arial"/>
              </a:rPr>
              <a:t>SUSTENTABILIDAD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 y dar continuidad a la Misión en las OSC equivale a perdurar y lucro en empres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000066"/>
                </a:solidFill>
                <a:latin typeface="Arial"/>
              </a:rPr>
              <a:t>POLÍTICAS DE RRHH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, también los voluntarios; para la selección, la asignación de tareas, evaluación; poco desarrolladas en las OS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es-AR" sz="2200" spc="-1" strike="noStrike">
                <a:solidFill>
                  <a:srgbClr val="000066"/>
                </a:solidFill>
                <a:latin typeface="Arial"/>
              </a:rPr>
              <a:t>ALIENACIÓN CON VALORES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, sentido de pertenencia u orgullo está más resuelto en las OS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042920" y="691920"/>
            <a:ext cx="74865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PUNTOS DE ENCUENTRO Y DESENCUENTRO ENTRE OSC Y EMPRES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4360" y="333360"/>
            <a:ext cx="7772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La Profesionalización en las 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16000" y="1557360"/>
            <a:ext cx="748656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En OSC pueden no existir </a:t>
            </a:r>
            <a:r>
              <a:rPr b="0" i="1" lang="es-AR" sz="2200" spc="-1" strike="noStrike">
                <a:solidFill>
                  <a:srgbClr val="000066"/>
                </a:solidFill>
                <a:latin typeface="Arial"/>
              </a:rPr>
              <a:t>CÓDIGOS DE ÉTICA, PROCEDIMIENTOS Y POLÍTICAS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 por falta de formalización y ausencia de profes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es-AR" sz="2200" spc="-1" strike="noStrike">
                <a:solidFill>
                  <a:srgbClr val="000066"/>
                </a:solidFill>
                <a:latin typeface="Arial"/>
              </a:rPr>
              <a:t>VALORIZACIÓN DE RESULTADOS 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requiere de una mejor definición de objetivos, roles, fun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000066"/>
                </a:solidFill>
                <a:latin typeface="Arial"/>
              </a:rPr>
              <a:t>UTILIZACIÓN DE TI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 escasa en OSC; en desmedro de formalización de procesos, orden de inform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AR" sz="2200" spc="-1" strike="noStrike">
                <a:solidFill>
                  <a:srgbClr val="000066"/>
                </a:solidFill>
                <a:latin typeface="Arial"/>
              </a:rPr>
              <a:t>EQUIPO DIRECTIVO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 de OSC no siempre cumple con reuniones periódicas y funciones de coordinación, asesoría 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000066"/>
                </a:solidFill>
                <a:latin typeface="Arial"/>
              </a:rPr>
              <a:t>REMUNERACIONES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, pueden limitarse por rendición de cuentas y volcar más a los proyectos en las OS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2:15:39Z</dcterms:created>
  <dc:creator>Daniela</dc:creator>
  <dc:description/>
  <dc:language>en-US</dc:language>
  <cp:lastModifiedBy>C.P.C.E.C.A.B.A</cp:lastModifiedBy>
  <dcterms:modified xsi:type="dcterms:W3CDTF">2009-09-24T16:23:18Z</dcterms:modified>
  <cp:revision>228</cp:revision>
  <dc:subject/>
  <dc:title>Diapositiva 1</dc:title>
</cp:coreProperties>
</file>