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954-391E-47EF-9D67-946DA1C4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111-3D7A-4FFB-A612-97AF7A3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08B-5C3C-44F2-AA1C-3DA03EB1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943-CDE3-4E9A-A107-2A4F8568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0BA3-762E-4A23-A6D8-BCE4A5B5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0D87-59AC-4273-BDA6-DCA641B7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F997-B4B3-418D-B424-B1C0F04C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F41E-AEF7-4636-928B-A6EE490F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33E1-7BE2-4FC0-9816-F2D48167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EBFE-9E55-43C8-BD22-9902249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55F3-8257-44BC-B512-C8A74B8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E20-0E12-4A64-89BA-4257B6AB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DBE8-5881-469E-8FEB-29AAA6A8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D156-F428-4E63-B5AB-9EF13D37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6741-1086-4F75-8C08-6D8A4FC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E9FD-923C-4674-BE0E-3AC9953B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8226-5293-4158-B78B-AA8B7AFF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C0F-CA4C-456B-BB99-36FDCE69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FC9-E262-4309-8DBF-D8064AEE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4A0-C26E-44FE-9C54-C5F41896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CB9-564A-42D0-A4F2-B4C2D0B6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03E-A686-4F4C-B17B-EB8D06E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B28-4EDD-4965-BFD5-FC263DB2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5BC-36BF-4325-BF44-055C66D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31CD-CC59-4D5C-A267-5EC0CC8696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F24F-97B9-413C-BE9A-BD2F7316F15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341360"/>
            <a:ext cx="7623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565720"/>
            <a:ext cx="68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EJO DE ENSEÑANZA MEDIA Y SUPERIOR (CEMS) DE LA UNIVERSIDAD NACIONAL DEL SUR: ANÁLISIS PRELIMINAR DE SUS OBJETIVOS FORMALES Y NIVEL DE EFECTIVIZACIÓ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297000"/>
            <a:ext cx="8001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EMS (UNS) Análisis objetivos formales y nivel de efectiv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dentificar los objetivos formal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el Consejo de Enseñanza Media y Superior (CEMS) de la Universidad Nacional del Sur, 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valuar l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fectivida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e este órgano de la Administración Pública y Educativa, en términos de lo qu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ficialmente se propone alcanza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EMS (UNS) Análisis objetivos formales y nivel de efectiv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¿Qué es el CEM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UELA DE EDUCACION GENERAL BASICA - EEGB - Nivel Inicial; EGB 1; EGB 2 y EGB 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UELA DE AGRICULTURA Y GANADERIA "ADOLFO J. ZABALA" - Nivel Polimodal y Técn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UELA NORMAL SUPERIOR 'VICENTE FATONE' - Nivel Polimodal y Superior No Universita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UELA SUPERIOR DE COMERCIO 'PRUDENCIO CORNEJO' - Nivel Polimodal y Superior No Universitario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EMS (UNS) Análisis objetivos formales y nivel de efectiv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Integrado p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esidente designado por el CS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rectores de los Establecimientos de Enseñanza Media y Superior de la U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ocent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de cada uno de dichos Establecimientos en representación del respectivo cuerpo docen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s profesores de la UNS designados por el CSU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297000"/>
            <a:ext cx="8001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EMS (UNS) Análisis objetivos formales y nivel de efectiv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Dependencias comu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iblioteca para EGB 3, Polimodal y Superior No Universitar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iblioteca para EGB 1 y EGB 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epartamento de Recursos Didáct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epartamento de Orientación Esco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sesoría Académic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Junta Evaluado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EMS (UNS) Análisis objetivos formales y nivel de efectiv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estad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OBJETIVO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fuente legiti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evaluar 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AR" sz="3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CONOM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AR" sz="3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FICI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AR" sz="3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FICA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242100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342900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EMS (UNS) Análisis objetivos formales y nivel de efectiv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No existe un único documento ofi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Verdana"/>
              </a:rPr>
              <a:t>OBJETIVO CENT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EXCELENCIA EDUCATIVA, la formación de un alumno crítico, autónomo, y reflexiv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4005360"/>
            <a:ext cx="936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EMS (UNS) Análisis objetivos formales y nivel de efectiv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nsación que representa a la UNS y no a las escue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ignación de la presidencia por el rector ad-referéndum del CS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esidencia pensada para funciones ejecutivas y articulación administ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Falta de representación política con voz y voto en el CS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uelas con perfiles completamente difer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Influencia de grupos de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clusión de los alumnos de las EMUNS en normativas particulares de los universit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Escas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presupuesto destinado al C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EMS (UNS) Análisis objetivos formales y nivel de efectiv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Verdana"/>
              </a:rPr>
              <a:t>ORDE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instituido oficial y cultural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Verdana"/>
              </a:rPr>
              <a:t>NUEVAS FORMAS DE ACTU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redefinir vínculos y permitir una nueva relación de mutua colaboració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04:11Z</dcterms:created>
  <dc:creator>Fer</dc:creator>
  <dc:description/>
  <dc:language>en-US</dc:language>
  <cp:lastModifiedBy>C.P.C.E.C.A.B.A</cp:lastModifiedBy>
  <dcterms:modified xsi:type="dcterms:W3CDTF">2009-09-24T16:37:14Z</dcterms:modified>
  <cp:revision>21</cp:revision>
  <dc:subject/>
  <dc:title> </dc:title>
</cp:coreProperties>
</file>