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6DB-E76D-4A70-90E2-B8B8E8E68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F90-DB6D-4637-9557-4A1E6878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F40-2991-403D-9195-32340ACD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573-565B-4B69-8F0C-A3896B45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9613-90E6-47E1-B827-2F24E071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DB06-CF81-4391-B0D4-BC296478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3BC-FB61-4B3B-A43F-2490DCB5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0B09-C82B-45B7-BB9D-B863EA24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CCBB-CFFA-4E3C-8648-18116C9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E3C0-E07A-489C-B90B-77687D5E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50C-A719-4596-96AA-5C1E641E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E36-BEA1-4F4F-9716-A01FC347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066A-E7B9-40B7-9AF3-E1674F98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7A58-D405-43AB-920A-1ADF490C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B889-5448-4309-BD58-B14EF81C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5D8D-91EF-410C-A747-39AD8B75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8212-3DC3-46A4-AC90-58C81F66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445-CB28-4F74-9424-C36760FB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690-57E2-4A6C-AC96-E5EC0559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3D6-8704-45D7-BA74-B5A5737F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569-6CA7-4BA4-A438-ACFFDEA4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F45-9D89-4940-9227-855B059D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9288-98E2-4B0E-B077-4DABA9A2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F2E-9CCD-403C-9B93-7D4B8788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4182-5AD1-4FDD-BAFF-1791534F7EE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"/>
          <p:cNvSpPr/>
          <p:nvPr/>
        </p:nvSpPr>
        <p:spPr>
          <a:xfrm>
            <a:off x="4853160" y="637524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Lic Alicia Verna – Lic. Facundo P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B839-CBE6-4B2E-88E4-8C8DD9835ED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3160" y="637524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Lic Alicia Verna – Lic. Facundo P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66200"/>
            <a:ext cx="7097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330066"/>
                </a:solidFill>
                <a:latin typeface="Arial"/>
              </a:rPr>
              <a:t>IX Congreso Internacional </a:t>
            </a:r>
            <a:br>
              <a:rPr sz="3600"/>
            </a:br>
            <a:r>
              <a:rPr b="1" lang="es-AR" sz="3600" spc="-1" strike="noStrike">
                <a:solidFill>
                  <a:srgbClr val="330066"/>
                </a:solidFill>
                <a:latin typeface="Arial"/>
              </a:rPr>
              <a:t>de Administración</a:t>
            </a:r>
            <a:br>
              <a:rPr sz="3200"/>
            </a:br>
            <a:r>
              <a:rPr b="1" lang="es-AR" sz="3200" spc="-1" strike="noStrike">
                <a:solidFill>
                  <a:srgbClr val="330066"/>
                </a:solidFill>
                <a:latin typeface="Arial"/>
              </a:rPr>
              <a:t>“Talento, Imaginación y Valores”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500280"/>
            <a:ext cx="624852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istema de Red para el Desarrollo Profesional y Suste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268360" y="907920"/>
            <a:ext cx="4608720" cy="5370120"/>
            <a:chOff x="2268360" y="907920"/>
            <a:chExt cx="4608720" cy="5370120"/>
          </a:xfrm>
        </p:grpSpPr>
        <p:sp>
          <p:nvSpPr>
            <p:cNvPr id="154" name=""/>
            <p:cNvSpPr/>
            <p:nvPr/>
          </p:nvSpPr>
          <p:spPr>
            <a:xfrm>
              <a:off x="2337840" y="907920"/>
              <a:ext cx="4539240" cy="35575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685960" y="1307880"/>
              <a:ext cx="4190760" cy="2489400"/>
              <a:chOff x="2685960" y="1307880"/>
              <a:chExt cx="4190760" cy="2489400"/>
            </a:xfrm>
          </p:grpSpPr>
          <p:sp>
            <p:nvSpPr>
              <p:cNvPr id="156" name=""/>
              <p:cNvSpPr/>
              <p:nvPr/>
            </p:nvSpPr>
            <p:spPr>
              <a:xfrm>
                <a:off x="3602160" y="1647720"/>
                <a:ext cx="2160360" cy="1756080"/>
              </a:xfrm>
              <a:prstGeom prst="triangle">
                <a:avLst>
                  <a:gd name="adj" fmla="val 50000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85960" y="3459960"/>
                <a:ext cx="1373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mpresar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56800" y="1852560"/>
                <a:ext cx="183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40160" y="3402720"/>
                <a:ext cx="163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rofesiona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22160" y="1307880"/>
                <a:ext cx="85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y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825640" y="4528440"/>
              <a:ext cx="3562920" cy="561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8360" y="5199840"/>
              <a:ext cx="4540680" cy="107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sarrollo profes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pacidad de generar solu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stentabilidad en el tiem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2560" y="11700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Modelo del Sistema de Red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0066"/>
                </a:solidFill>
                <a:latin typeface="Arial"/>
              </a:rPr>
              <a:t>Resultados de la aplicación del Modelo de Red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rvicios con mayor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ayor reconocimiento del cliente/ empresario pyme por el servicio pr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formulación y potenciación de los vínculos entre los act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mpliación del mercado por creación de una nueva deman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ducción del océano rojo de competencia y generación de océanos azules de “coo-petencia” que frenen la destrucción del valor del trabajo del profe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Cobros en término y renegociación de honorarios por nuev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Arial"/>
              </a:rPr>
              <a:t>Proceso de producción del servicio del profesional en cs. económicas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175000" y="3025440"/>
            <a:ext cx="3260520" cy="2912760"/>
            <a:chOff x="5175000" y="3025440"/>
            <a:chExt cx="3260520" cy="2912760"/>
          </a:xfrm>
        </p:grpSpPr>
        <p:sp>
          <p:nvSpPr>
            <p:cNvPr id="168" name="_s3103"/>
            <p:cNvSpPr/>
            <p:nvPr/>
          </p:nvSpPr>
          <p:spPr>
            <a:xfrm>
              <a:off x="5697000" y="3025440"/>
              <a:ext cx="2216880" cy="1980360"/>
            </a:xfrm>
            <a:custGeom>
              <a:avLst/>
              <a:gdLst>
                <a:gd name="textAreaLeft" fmla="*/ 0 w 2216880"/>
                <a:gd name="textAreaRight" fmla="*/ 2217240 w 22168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3104"/>
            <p:cNvSpPr/>
            <p:nvPr/>
          </p:nvSpPr>
          <p:spPr>
            <a:xfrm rot="5400000">
              <a:off x="6336720" y="3373200"/>
              <a:ext cx="1980360" cy="2216880"/>
            </a:xfrm>
            <a:custGeom>
              <a:avLst/>
              <a:gdLst>
                <a:gd name="textAreaLeft" fmla="*/ 0 w 1980360"/>
                <a:gd name="textAreaRight" fmla="*/ 1980720 w 198036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3105"/>
            <p:cNvSpPr/>
            <p:nvPr/>
          </p:nvSpPr>
          <p:spPr>
            <a:xfrm rot="10800000">
              <a:off x="5697000" y="3957480"/>
              <a:ext cx="2216880" cy="1980720"/>
            </a:xfrm>
            <a:custGeom>
              <a:avLst/>
              <a:gdLst>
                <a:gd name="textAreaLeft" fmla="*/ 0 w 2216880"/>
                <a:gd name="textAreaRight" fmla="*/ 2217240 w 2216880"/>
                <a:gd name="textAreaTop" fmla="*/ 0 h 1980720"/>
                <a:gd name="textAreaBottom" fmla="*/ 1981080 h 19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3106"/>
            <p:cNvSpPr/>
            <p:nvPr/>
          </p:nvSpPr>
          <p:spPr>
            <a:xfrm rot="16200000">
              <a:off x="5293080" y="3372840"/>
              <a:ext cx="1980360" cy="2216880"/>
            </a:xfrm>
            <a:custGeom>
              <a:avLst/>
              <a:gdLst>
                <a:gd name="textAreaLeft" fmla="*/ 0 w 1980360"/>
                <a:gd name="textAreaRight" fmla="*/ 1980720 w 198036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3107"/>
            <p:cNvSpPr/>
            <p:nvPr/>
          </p:nvSpPr>
          <p:spPr>
            <a:xfrm>
              <a:off x="7394760" y="3207600"/>
              <a:ext cx="83556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abo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3108"/>
            <p:cNvSpPr/>
            <p:nvPr/>
          </p:nvSpPr>
          <p:spPr>
            <a:xfrm>
              <a:off x="5381640" y="5009760"/>
              <a:ext cx="83556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prendizaj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mparti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liente / Profesio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3109"/>
            <p:cNvSpPr/>
            <p:nvPr/>
          </p:nvSpPr>
          <p:spPr>
            <a:xfrm>
              <a:off x="5378760" y="3210120"/>
              <a:ext cx="83556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o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eri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et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3110"/>
            <p:cNvSpPr/>
            <p:nvPr/>
          </p:nvSpPr>
          <p:spPr>
            <a:xfrm>
              <a:off x="7396560" y="5007240"/>
              <a:ext cx="83556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400" spc="-1" strike="noStrike">
                  <a:solidFill>
                    <a:srgbClr val="0000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76720" y="1857240"/>
            <a:ext cx="363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istema Propues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istema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13440" y="3044160"/>
            <a:ext cx="3453480" cy="2990160"/>
            <a:chOff x="613440" y="3044160"/>
            <a:chExt cx="3453480" cy="2990160"/>
          </a:xfrm>
        </p:grpSpPr>
        <p:sp>
          <p:nvSpPr>
            <p:cNvPr id="178" name="_s3116"/>
            <p:cNvSpPr/>
            <p:nvPr/>
          </p:nvSpPr>
          <p:spPr>
            <a:xfrm>
              <a:off x="1287360" y="3044160"/>
              <a:ext cx="2105640" cy="2106000"/>
            </a:xfrm>
            <a:custGeom>
              <a:avLst/>
              <a:gdLst>
                <a:gd name="textAreaLeft" fmla="*/ 0 w 2105640"/>
                <a:gd name="textAreaRight" fmla="*/ 2106000 w 2105640"/>
                <a:gd name="textAreaTop" fmla="*/ 0 h 2106000"/>
                <a:gd name="textAreaBottom" fmla="*/ 2106360 h 210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117"/>
            <p:cNvSpPr/>
            <p:nvPr/>
          </p:nvSpPr>
          <p:spPr>
            <a:xfrm rot="7200000">
              <a:off x="1575720" y="3543120"/>
              <a:ext cx="2105640" cy="2106000"/>
            </a:xfrm>
            <a:custGeom>
              <a:avLst/>
              <a:gdLst>
                <a:gd name="textAreaLeft" fmla="*/ 0 w 2105640"/>
                <a:gd name="textAreaRight" fmla="*/ 2106000 w 2105640"/>
                <a:gd name="textAreaTop" fmla="*/ 0 h 2106000"/>
                <a:gd name="textAreaBottom" fmla="*/ 2106360 h 210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3118"/>
            <p:cNvSpPr/>
            <p:nvPr/>
          </p:nvSpPr>
          <p:spPr>
            <a:xfrm rot="14400000">
              <a:off x="998640" y="3542760"/>
              <a:ext cx="2105640" cy="2106000"/>
            </a:xfrm>
            <a:custGeom>
              <a:avLst/>
              <a:gdLst>
                <a:gd name="textAreaLeft" fmla="*/ 0 w 2105640"/>
                <a:gd name="textAreaRight" fmla="*/ 2106000 w 2105640"/>
                <a:gd name="textAreaTop" fmla="*/ 0 h 2106000"/>
                <a:gd name="textAreaBottom" fmla="*/ 2106360 h 210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3119"/>
            <p:cNvSpPr/>
            <p:nvPr/>
          </p:nvSpPr>
          <p:spPr>
            <a:xfrm>
              <a:off x="2916720" y="3430440"/>
              <a:ext cx="84492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abo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cesa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120"/>
            <p:cNvSpPr/>
            <p:nvPr/>
          </p:nvSpPr>
          <p:spPr>
            <a:xfrm>
              <a:off x="1917720" y="5160600"/>
              <a:ext cx="844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trega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rcer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3121"/>
            <p:cNvSpPr/>
            <p:nvPr/>
          </p:nvSpPr>
          <p:spPr>
            <a:xfrm>
              <a:off x="918720" y="3430440"/>
              <a:ext cx="844920" cy="8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onoc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Peri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et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65080" y="1909800"/>
            <a:ext cx="36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istema A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31880" y="907920"/>
            <a:ext cx="7253640" cy="5543640"/>
            <a:chOff x="731880" y="907920"/>
            <a:chExt cx="7253640" cy="5543640"/>
          </a:xfrm>
        </p:grpSpPr>
        <p:sp>
          <p:nvSpPr>
            <p:cNvPr id="186" name=""/>
            <p:cNvSpPr/>
            <p:nvPr/>
          </p:nvSpPr>
          <p:spPr>
            <a:xfrm>
              <a:off x="731880" y="907920"/>
              <a:ext cx="7253640" cy="5543640"/>
            </a:xfrm>
            <a:prstGeom prst="ellipse">
              <a:avLst/>
            </a:prstGeom>
            <a:solidFill>
              <a:srgbClr val="b5e9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33640" y="2413080"/>
              <a:ext cx="2784240" cy="2386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3377880" y="2740680"/>
              <a:ext cx="1968840" cy="1815480"/>
              <a:chOff x="3377880" y="2740680"/>
              <a:chExt cx="1968840" cy="1815480"/>
            </a:xfrm>
          </p:grpSpPr>
          <p:sp>
            <p:nvSpPr>
              <p:cNvPr id="189" name="_s5191"/>
              <p:cNvSpPr/>
              <p:nvPr/>
            </p:nvSpPr>
            <p:spPr>
              <a:xfrm>
                <a:off x="3692880" y="2740680"/>
                <a:ext cx="1339200" cy="1234800"/>
              </a:xfrm>
              <a:custGeom>
                <a:avLst/>
                <a:gdLst>
                  <a:gd name="textAreaLeft" fmla="*/ 0 w 1339200"/>
                  <a:gd name="textAreaRight" fmla="*/ 1339560 w 1339200"/>
                  <a:gd name="textAreaTop" fmla="*/ 0 h 1234800"/>
                  <a:gd name="textAreaBottom" fmla="*/ 1235160 h 12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_s5192"/>
              <p:cNvSpPr/>
              <p:nvPr/>
            </p:nvSpPr>
            <p:spPr>
              <a:xfrm rot="5400000">
                <a:off x="4059720" y="2978640"/>
                <a:ext cx="1234800" cy="1338840"/>
              </a:xfrm>
              <a:custGeom>
                <a:avLst/>
                <a:gdLst>
                  <a:gd name="textAreaLeft" fmla="*/ 0 w 1234800"/>
                  <a:gd name="textAreaRight" fmla="*/ 1235160 w 1234800"/>
                  <a:gd name="textAreaTop" fmla="*/ 0 h 1338840"/>
                  <a:gd name="textAreaBottom" fmla="*/ 1339200 h 1338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_s5193"/>
              <p:cNvSpPr/>
              <p:nvPr/>
            </p:nvSpPr>
            <p:spPr>
              <a:xfrm rot="10800000">
                <a:off x="3692880" y="3321360"/>
                <a:ext cx="1339200" cy="1234800"/>
              </a:xfrm>
              <a:custGeom>
                <a:avLst/>
                <a:gdLst>
                  <a:gd name="textAreaLeft" fmla="*/ 0 w 1339200"/>
                  <a:gd name="textAreaRight" fmla="*/ 1339560 w 1339200"/>
                  <a:gd name="textAreaTop" fmla="*/ 0 h 1234800"/>
                  <a:gd name="textAreaBottom" fmla="*/ 1235160 h 123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_s5194"/>
              <p:cNvSpPr/>
              <p:nvPr/>
            </p:nvSpPr>
            <p:spPr>
              <a:xfrm rot="16200000">
                <a:off x="3430080" y="2978640"/>
                <a:ext cx="1234800" cy="1339200"/>
              </a:xfrm>
              <a:custGeom>
                <a:avLst/>
                <a:gdLst>
                  <a:gd name="textAreaLeft" fmla="*/ 0 w 1234800"/>
                  <a:gd name="textAreaRight" fmla="*/ 1235160 w 1234800"/>
                  <a:gd name="textAreaTop" fmla="*/ 0 h 1339200"/>
                  <a:gd name="textAreaBottom" fmla="*/ 1339560 h 133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_s5195"/>
              <p:cNvSpPr/>
              <p:nvPr/>
            </p:nvSpPr>
            <p:spPr>
              <a:xfrm>
                <a:off x="4718520" y="2854440"/>
                <a:ext cx="50364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labor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rocesami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_s5196"/>
              <p:cNvSpPr/>
              <p:nvPr/>
            </p:nvSpPr>
            <p:spPr>
              <a:xfrm>
                <a:off x="3503160" y="3977640"/>
                <a:ext cx="50328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Aprendizaj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Compartid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</a:rPr>
                  <a:t>Cliente / Profesiona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_s5197"/>
              <p:cNvSpPr/>
              <p:nvPr/>
            </p:nvSpPr>
            <p:spPr>
              <a:xfrm>
                <a:off x="3501720" y="2855880"/>
                <a:ext cx="503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Conocimi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Peric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400" spc="-1" strike="noStrike">
                    <a:solidFill>
                      <a:srgbClr val="000000"/>
                    </a:solidFill>
                    <a:latin typeface="Arial"/>
                  </a:rPr>
                  <a:t>Met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_s5198"/>
              <p:cNvSpPr/>
              <p:nvPr/>
            </p:nvSpPr>
            <p:spPr>
              <a:xfrm>
                <a:off x="4719960" y="3976560"/>
                <a:ext cx="503280" cy="46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680440" y="1656360"/>
              <a:ext cx="1494360" cy="1411920"/>
              <a:chOff x="5680440" y="1656360"/>
              <a:chExt cx="1494360" cy="1411920"/>
            </a:xfrm>
          </p:grpSpPr>
          <p:sp>
            <p:nvSpPr>
              <p:cNvPr id="198" name="_s5220"/>
              <p:cNvSpPr/>
              <p:nvPr/>
            </p:nvSpPr>
            <p:spPr>
              <a:xfrm>
                <a:off x="5919840" y="1656360"/>
                <a:ext cx="1016280" cy="96012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960120"/>
                  <a:gd name="textAreaBottom" fmla="*/ 960480 h 9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_s5221"/>
              <p:cNvSpPr/>
              <p:nvPr/>
            </p:nvSpPr>
            <p:spPr>
              <a:xfrm rot="5400000">
                <a:off x="6186240" y="1854360"/>
                <a:ext cx="960480" cy="1016280"/>
              </a:xfrm>
              <a:custGeom>
                <a:avLst/>
                <a:gdLst>
                  <a:gd name="textAreaLeft" fmla="*/ 0 w 960480"/>
                  <a:gd name="textAreaRight" fmla="*/ 960840 w 96048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_s5222"/>
              <p:cNvSpPr/>
              <p:nvPr/>
            </p:nvSpPr>
            <p:spPr>
              <a:xfrm rot="10800000">
                <a:off x="5919480" y="2108160"/>
                <a:ext cx="1016280" cy="960120"/>
              </a:xfrm>
              <a:custGeom>
                <a:avLst/>
                <a:gdLst>
                  <a:gd name="textAreaLeft" fmla="*/ 0 w 1016280"/>
                  <a:gd name="textAreaRight" fmla="*/ 1016640 w 1016280"/>
                  <a:gd name="textAreaTop" fmla="*/ 0 h 960120"/>
                  <a:gd name="textAreaBottom" fmla="*/ 960480 h 960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_s5223"/>
              <p:cNvSpPr/>
              <p:nvPr/>
            </p:nvSpPr>
            <p:spPr>
              <a:xfrm rot="16200000">
                <a:off x="5708160" y="1854360"/>
                <a:ext cx="960480" cy="1016280"/>
              </a:xfrm>
              <a:custGeom>
                <a:avLst/>
                <a:gdLst>
                  <a:gd name="textAreaLeft" fmla="*/ 0 w 960480"/>
                  <a:gd name="textAreaRight" fmla="*/ 960840 w 960480"/>
                  <a:gd name="textAreaTop" fmla="*/ 0 h 1016280"/>
                  <a:gd name="textAreaBottom" fmla="*/ 1016640 h 10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_s5224"/>
              <p:cNvSpPr/>
              <p:nvPr/>
            </p:nvSpPr>
            <p:spPr>
              <a:xfrm>
                <a:off x="6698160" y="1744560"/>
                <a:ext cx="3830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laboració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ocesamien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_s5225"/>
              <p:cNvSpPr/>
              <p:nvPr/>
            </p:nvSpPr>
            <p:spPr>
              <a:xfrm>
                <a:off x="5775120" y="2618640"/>
                <a:ext cx="3830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Aprendizaje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Compartid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800" spc="-1" strike="noStrike">
                    <a:solidFill>
                      <a:srgbClr val="000000"/>
                    </a:solidFill>
                    <a:latin typeface="Arial"/>
                  </a:rPr>
                  <a:t>Cliente / Profesion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_s5226"/>
              <p:cNvSpPr/>
              <p:nvPr/>
            </p:nvSpPr>
            <p:spPr>
              <a:xfrm>
                <a:off x="5774040" y="1746000"/>
                <a:ext cx="3830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Conocimiento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Pericia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Meti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_s5227"/>
              <p:cNvSpPr/>
              <p:nvPr/>
            </p:nvSpPr>
            <p:spPr>
              <a:xfrm>
                <a:off x="6698880" y="2617560"/>
                <a:ext cx="3830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8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1623960" y="4249800"/>
              <a:ext cx="1457280" cy="1376280"/>
              <a:chOff x="1623960" y="4249800"/>
              <a:chExt cx="1457280" cy="1376280"/>
            </a:xfrm>
          </p:grpSpPr>
          <p:sp>
            <p:nvSpPr>
              <p:cNvPr id="207" name="_s5233"/>
              <p:cNvSpPr/>
              <p:nvPr/>
            </p:nvSpPr>
            <p:spPr>
              <a:xfrm>
                <a:off x="1857240" y="4249800"/>
                <a:ext cx="991080" cy="93600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936000"/>
                  <a:gd name="textAreaBottom" fmla="*/ 936360 h 9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_s5234"/>
              <p:cNvSpPr/>
              <p:nvPr/>
            </p:nvSpPr>
            <p:spPr>
              <a:xfrm rot="5400000">
                <a:off x="2117520" y="4442400"/>
                <a:ext cx="936000" cy="99108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_s5235"/>
              <p:cNvSpPr/>
              <p:nvPr/>
            </p:nvSpPr>
            <p:spPr>
              <a:xfrm rot="10800000">
                <a:off x="1856880" y="4690080"/>
                <a:ext cx="991080" cy="93600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936000"/>
                  <a:gd name="textAreaBottom" fmla="*/ 936360 h 9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_s5236"/>
              <p:cNvSpPr/>
              <p:nvPr/>
            </p:nvSpPr>
            <p:spPr>
              <a:xfrm rot="16200000">
                <a:off x="1651320" y="4442400"/>
                <a:ext cx="936000" cy="99108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_s5237"/>
              <p:cNvSpPr/>
              <p:nvPr/>
            </p:nvSpPr>
            <p:spPr>
              <a:xfrm>
                <a:off x="2616480" y="4335840"/>
                <a:ext cx="3733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laboració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cesamien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_s5238"/>
              <p:cNvSpPr/>
              <p:nvPr/>
            </p:nvSpPr>
            <p:spPr>
              <a:xfrm>
                <a:off x="1715760" y="5186880"/>
                <a:ext cx="37332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prendizaj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ompart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700" spc="-1" strike="noStrike">
                    <a:solidFill>
                      <a:srgbClr val="000000"/>
                    </a:solidFill>
                    <a:latin typeface="Arial"/>
                  </a:rPr>
                  <a:t>Cliente / Profesion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_s5239"/>
              <p:cNvSpPr/>
              <p:nvPr/>
            </p:nvSpPr>
            <p:spPr>
              <a:xfrm>
                <a:off x="1715040" y="433620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onocimien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Peric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etie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_s5240"/>
              <p:cNvSpPr/>
              <p:nvPr/>
            </p:nvSpPr>
            <p:spPr>
              <a:xfrm>
                <a:off x="2616480" y="518616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7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009880" y="1476360"/>
              <a:ext cx="1457280" cy="1376640"/>
              <a:chOff x="2009880" y="1476360"/>
              <a:chExt cx="1457280" cy="1376640"/>
            </a:xfrm>
          </p:grpSpPr>
          <p:sp>
            <p:nvSpPr>
              <p:cNvPr id="216" name="_s5201"/>
              <p:cNvSpPr/>
              <p:nvPr/>
            </p:nvSpPr>
            <p:spPr>
              <a:xfrm>
                <a:off x="2243160" y="1476360"/>
                <a:ext cx="991080" cy="93636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_s5202"/>
              <p:cNvSpPr/>
              <p:nvPr/>
            </p:nvSpPr>
            <p:spPr>
              <a:xfrm rot="5400000">
                <a:off x="2503440" y="1669320"/>
                <a:ext cx="936360" cy="99108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_s5203"/>
              <p:cNvSpPr/>
              <p:nvPr/>
            </p:nvSpPr>
            <p:spPr>
              <a:xfrm rot="10800000">
                <a:off x="2242800" y="1916640"/>
                <a:ext cx="991080" cy="93636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_s5204"/>
              <p:cNvSpPr/>
              <p:nvPr/>
            </p:nvSpPr>
            <p:spPr>
              <a:xfrm rot="16200000">
                <a:off x="2037240" y="1668960"/>
                <a:ext cx="936360" cy="991080"/>
              </a:xfrm>
              <a:custGeom>
                <a:avLst/>
                <a:gdLst>
                  <a:gd name="textAreaLeft" fmla="*/ 0 w 936360"/>
                  <a:gd name="textAreaRight" fmla="*/ 936720 w 93636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_s5205"/>
              <p:cNvSpPr/>
              <p:nvPr/>
            </p:nvSpPr>
            <p:spPr>
              <a:xfrm>
                <a:off x="3002400" y="156240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laboració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cesamien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_s5206"/>
              <p:cNvSpPr/>
              <p:nvPr/>
            </p:nvSpPr>
            <p:spPr>
              <a:xfrm>
                <a:off x="2102040" y="241452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prendizaj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ompart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700" spc="-1" strike="noStrike">
                    <a:solidFill>
                      <a:srgbClr val="000000"/>
                    </a:solidFill>
                    <a:latin typeface="Arial"/>
                  </a:rPr>
                  <a:t>Cliente / Profesion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_s5207"/>
              <p:cNvSpPr/>
              <p:nvPr/>
            </p:nvSpPr>
            <p:spPr>
              <a:xfrm>
                <a:off x="2100960" y="156348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onocimien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Peric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etie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_s5208"/>
              <p:cNvSpPr/>
              <p:nvPr/>
            </p:nvSpPr>
            <p:spPr>
              <a:xfrm>
                <a:off x="3002760" y="241344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7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310720" y="4344120"/>
              <a:ext cx="1457280" cy="1376640"/>
              <a:chOff x="5310720" y="4344120"/>
              <a:chExt cx="1457280" cy="1376640"/>
            </a:xfrm>
          </p:grpSpPr>
          <p:sp>
            <p:nvSpPr>
              <p:cNvPr id="225" name="_s5245"/>
              <p:cNvSpPr/>
              <p:nvPr/>
            </p:nvSpPr>
            <p:spPr>
              <a:xfrm>
                <a:off x="5544000" y="4344120"/>
                <a:ext cx="991080" cy="93600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936000"/>
                  <a:gd name="textAreaBottom" fmla="*/ 936360 h 9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_s5246"/>
              <p:cNvSpPr/>
              <p:nvPr/>
            </p:nvSpPr>
            <p:spPr>
              <a:xfrm rot="5400000">
                <a:off x="5804280" y="4536720"/>
                <a:ext cx="936000" cy="99108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_s5247"/>
              <p:cNvSpPr/>
              <p:nvPr/>
            </p:nvSpPr>
            <p:spPr>
              <a:xfrm rot="10800000">
                <a:off x="5543640" y="4784760"/>
                <a:ext cx="991080" cy="936000"/>
              </a:xfrm>
              <a:custGeom>
                <a:avLst/>
                <a:gdLst>
                  <a:gd name="textAreaLeft" fmla="*/ 0 w 991080"/>
                  <a:gd name="textAreaRight" fmla="*/ 991440 w 991080"/>
                  <a:gd name="textAreaTop" fmla="*/ 0 h 936000"/>
                  <a:gd name="textAreaBottom" fmla="*/ 936360 h 936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_s5248"/>
              <p:cNvSpPr/>
              <p:nvPr/>
            </p:nvSpPr>
            <p:spPr>
              <a:xfrm rot="16200000">
                <a:off x="5338080" y="4536720"/>
                <a:ext cx="936000" cy="991080"/>
              </a:xfrm>
              <a:custGeom>
                <a:avLst/>
                <a:gdLst>
                  <a:gd name="textAreaLeft" fmla="*/ 0 w 936000"/>
                  <a:gd name="textAreaRight" fmla="*/ 936360 w 936000"/>
                  <a:gd name="textAreaTop" fmla="*/ 0 h 991080"/>
                  <a:gd name="textAreaBottom" fmla="*/ 991440 h 991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cc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_s5249"/>
              <p:cNvSpPr/>
              <p:nvPr/>
            </p:nvSpPr>
            <p:spPr>
              <a:xfrm>
                <a:off x="6303240" y="443016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Elaboració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Procesamien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_s5250"/>
              <p:cNvSpPr/>
              <p:nvPr/>
            </p:nvSpPr>
            <p:spPr>
              <a:xfrm>
                <a:off x="5402520" y="528156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Aprendizaje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ompartid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700" spc="-1" strike="noStrike">
                    <a:solidFill>
                      <a:srgbClr val="000000"/>
                    </a:solidFill>
                    <a:latin typeface="Arial"/>
                  </a:rPr>
                  <a:t>Cliente / Profesion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_s5251"/>
              <p:cNvSpPr/>
              <p:nvPr/>
            </p:nvSpPr>
            <p:spPr>
              <a:xfrm>
                <a:off x="5401800" y="443052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Conocimiento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Pericia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700" spc="-1" strike="noStrike">
                    <a:solidFill>
                      <a:srgbClr val="000000"/>
                    </a:solidFill>
                    <a:latin typeface="Arial"/>
                  </a:rPr>
                  <a:t>Metie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_s5252"/>
              <p:cNvSpPr/>
              <p:nvPr/>
            </p:nvSpPr>
            <p:spPr>
              <a:xfrm>
                <a:off x="6303240" y="5280840"/>
                <a:ext cx="37332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AR" sz="7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1256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Sistema Ampliado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 rot="10800000">
            <a:off x="5579640" y="1988280"/>
            <a:ext cx="3527640" cy="28083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4360" y="1844640"/>
            <a:ext cx="3275280" cy="28814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48000" y="2781360"/>
            <a:ext cx="2232000" cy="936720"/>
          </a:xfrm>
          <a:custGeom>
            <a:avLst/>
            <a:gdLst>
              <a:gd name="textAreaLeft" fmla="*/ 279000 w 2232000"/>
              <a:gd name="textAreaRight" fmla="*/ 1953000 w 2232000"/>
              <a:gd name="textAreaTop" fmla="*/ 234000 h 936720"/>
              <a:gd name="textAreaBottom" fmla="*/ 7027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32000" y="48625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5494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70828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400536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3500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72360" y="32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5280" y="4292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2565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560" y="115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Cambio del Modelo Mental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0066"/>
                </a:solidFill>
                <a:latin typeface="Arial"/>
              </a:rPr>
              <a:t>Cambio de Paradigma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2200" y="1446120"/>
            <a:ext cx="7705800" cy="1262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79480" y="2622600"/>
            <a:ext cx="642924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0066"/>
                </a:solidFill>
                <a:latin typeface="Arial"/>
              </a:rPr>
              <a:t>Roles del Profesional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69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ol 1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Experto té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ol 2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Asistente facilitador para el desarrollo de las habilidades, conocimientos y experiencias que incrementan la capacidad actual aplicada del máximo ejecutivo-fundador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ol 3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: Diseñador de la organización de la pequeñ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Rol 4: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Facilitador de la integración de otros profes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7:11Z</dcterms:created>
  <dc:creator>Usuario</dc:creator>
  <dc:description/>
  <dc:language>en-US</dc:language>
  <cp:lastModifiedBy>C.P.C.E.C.A.B.A</cp:lastModifiedBy>
  <dcterms:modified xsi:type="dcterms:W3CDTF">2009-09-24T16:30:25Z</dcterms:modified>
  <cp:revision>29</cp:revision>
  <dc:subject/>
  <dc:title>Sistema de red</dc:title>
</cp:coreProperties>
</file>