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D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8D62-60DA-4E54-A632-AF0AF990D218}" type="slidenum">
              <a:rPr b="0" lang="es-D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51B-68EB-4510-B1DA-4153B80D12D6}" type="slidenum">
              <a:rPr b="0" lang="es-D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BEB-5660-4550-B2D3-958D2803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86C-2C3F-45B1-9A1D-FE73DB8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AA0-B2EB-49BB-A040-4A26F10B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04F-A0E5-4EFF-B493-0831A68A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269-B443-4E16-B9BA-3F3648F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94F-493D-44CE-A3CF-9B974B0C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278-658B-47B1-9640-4CD88107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ABB-CC1D-4490-8935-2C5BD97E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A87-C842-4980-8C76-CE20A7B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066-61DF-4103-AE0E-AB70F75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4B0-314E-44F7-AD3F-6AC55ED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A29-5049-491F-A1B6-2E4FC7A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D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124-FE47-4074-A55F-43650AB2E2EF}" type="slidenum">
              <a:rPr b="0" lang="es-D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611280" y="981000"/>
            <a:ext cx="7910280" cy="4357800"/>
          </a:xfrm>
          <a:prstGeom prst="bevel">
            <a:avLst>
              <a:gd name="adj" fmla="val 3616"/>
            </a:avLst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638600" y="3108240"/>
            <a:ext cx="17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200400"/>
            <a:ext cx="8893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afd7f"/>
                </a:solidFill>
                <a:latin typeface="Arial"/>
              </a:rPr>
              <a:t>IX CONGRESO INTERNACIONAL DE ADMINISTRACIÓN Y XVI CONAMERCO</a:t>
            </a:r>
            <a:r>
              <a:rPr b="1" lang="es-ES_tradnl" sz="1800" spc="-1" strike="noStrike">
                <a:solidFill>
                  <a:srgbClr val="fafd7f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7f"/>
                </a:solidFill>
                <a:latin typeface="Century Gothic"/>
              </a:rPr>
              <a:t> </a:t>
            </a:r>
            <a:r>
              <a:rPr b="1" lang="es-ES_tradnl" sz="2800" spc="-1" strike="noStrike">
                <a:solidFill>
                  <a:srgbClr val="fafd7f"/>
                </a:solidFill>
                <a:latin typeface="Century Gothic"/>
              </a:rPr>
              <a:t>UN NUEVO MODELO DE GESTION PUB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afd7f"/>
                </a:solidFill>
                <a:latin typeface="Century Gothic"/>
              </a:rPr>
              <a:t> </a:t>
            </a:r>
            <a:r>
              <a:rPr b="1" lang="es-ES_tradnl" sz="2800" spc="-1" strike="noStrike">
                <a:solidFill>
                  <a:srgbClr val="fafd7f"/>
                </a:solidFill>
                <a:latin typeface="Century Gothic"/>
              </a:rPr>
              <a:t>LA GESTION POR RESULT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afd7f"/>
                </a:solidFill>
                <a:latin typeface="Century Gothic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afd7f"/>
                </a:solidFill>
                <a:latin typeface="Century Gothic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895320" algn="ctr">
              <a:lnSpc>
                <a:spcPct val="13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afd7f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afd7f"/>
                </a:solidFill>
                <a:latin typeface="Century Gothic"/>
              </a:rPr>
              <a:t>       </a:t>
            </a:r>
            <a:r>
              <a:rPr b="1" lang="es-ES_tradnl" sz="2400" spc="-1" strike="noStrike">
                <a:solidFill>
                  <a:srgbClr val="fafd7f"/>
                </a:solidFill>
                <a:latin typeface="Century Gothic"/>
              </a:rPr>
              <a:t>Cr. Marcos Makón,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50880" y="549360"/>
            <a:ext cx="7975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82480" y="476280"/>
            <a:ext cx="8043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4080" y="1636920"/>
            <a:ext cx="75819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 algn="just">
              <a:lnSpc>
                <a:spcPct val="2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afd7f"/>
                </a:solidFill>
                <a:latin typeface="Century Gothic"/>
                <a:ea typeface="ＭＳ Ｐゴシック"/>
              </a:rPr>
              <a:t>CAMBIO DE PARADIGMA DE FUNCIONAMIENTO DE LA ADMINISTRACION PU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afd7f"/>
                </a:solidFill>
                <a:latin typeface="Century Gothic"/>
                <a:ea typeface="ＭＳ Ｐゴシック"/>
              </a:rPr>
              <a:t>Refocalizar la conducción y gerencia de los organismos públicos hacia un modelo de gestión que privilegie los resultados por sobre los procedimientos y priorice la transparencia en la ges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050920" y="907920"/>
            <a:ext cx="495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OBJETIVO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60240" y="1555920"/>
            <a:ext cx="76456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95320" indent="-716040" algn="just">
              <a:lnSpc>
                <a:spcPct val="120000"/>
              </a:lnSpc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66"/>
                </a:solidFill>
                <a:latin typeface="Century Gothic"/>
                <a:ea typeface="ＭＳ Ｐゴシック"/>
              </a:rPr>
              <a:t>Dotar a las instituciones públicas de herramientas modernas de planificación estraté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716040" algn="just">
              <a:lnSpc>
                <a:spcPct val="150000"/>
              </a:lnSpc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716040" algn="just">
              <a:lnSpc>
                <a:spcPct val="120000"/>
              </a:lnSpc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66"/>
                </a:solidFill>
                <a:latin typeface="Century Gothic"/>
                <a:ea typeface="ＭＳ Ｐゴシック"/>
              </a:rPr>
              <a:t>Redefinir las prácticas de trabajo y los esquemas organizativos de las instituciones pública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716040" algn="just">
              <a:lnSpc>
                <a:spcPct val="150000"/>
              </a:lnSpc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716040" algn="just">
              <a:lnSpc>
                <a:spcPct val="120000"/>
              </a:lnSpc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66"/>
                </a:solidFill>
                <a:latin typeface="Century Gothic"/>
                <a:ea typeface="ＭＳ Ｐゴシック"/>
              </a:rPr>
              <a:t>Fortalecer los mecanismos de petición y rendición de cuentas en las instituciones, sobre la base de la identificación de resultados y responsa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47628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OBJETIVOS PARTIC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260280"/>
            <a:ext cx="9144000" cy="701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EN QUÉ CONSISTE LA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GESTIÓN POR RESULTAD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32000" y="1700280"/>
            <a:ext cx="1981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Century Gothic"/>
              </a:rPr>
              <a:t>Planeami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012000" y="1628640"/>
            <a:ext cx="1800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Century Gothic"/>
              </a:rPr>
              <a:t>Formulación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04000" y="4216320"/>
            <a:ext cx="2016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Century Gothic"/>
              </a:rPr>
              <a:t>Administr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31640" y="4287960"/>
            <a:ext cx="2484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Century Gothic"/>
              </a:rPr>
              <a:t>Sistemas de monitoreo, evaluación y ren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987640" y="5543640"/>
            <a:ext cx="3240000" cy="84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Century Gothic"/>
              </a:rPr>
              <a:t>Rol y atribuciones del Gerente Públ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Century Gothic"/>
              </a:rPr>
              <a:t>Incentivos y san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 rot="16200000">
            <a:off x="4033800" y="461124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 rot="19927200">
            <a:off x="2377800" y="37890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 rot="12540000">
            <a:off x="5916240" y="385992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 rot="2331600">
            <a:off x="2925360" y="234900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 rot="8116200">
            <a:off x="5237280" y="234900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ff66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3209760" y="2995560"/>
            <a:ext cx="2759400" cy="1009800"/>
            <a:chOff x="3209760" y="2995560"/>
            <a:chExt cx="2759400" cy="1009800"/>
          </a:xfrm>
        </p:grpSpPr>
        <p:sp>
          <p:nvSpPr>
            <p:cNvPr id="69" name="Oval 14"/>
            <p:cNvSpPr/>
            <p:nvPr/>
          </p:nvSpPr>
          <p:spPr>
            <a:xfrm>
              <a:off x="3209760" y="2995560"/>
              <a:ext cx="2759400" cy="10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3706560" y="3157560"/>
              <a:ext cx="17298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ff99"/>
                  </a:solidFill>
                  <a:latin typeface="Arial Black"/>
                </a:rPr>
                <a:t>Gestión por 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3200400" y="2971800"/>
            <a:ext cx="2759040" cy="1009800"/>
            <a:chOff x="3200400" y="2971800"/>
            <a:chExt cx="2759040" cy="1009800"/>
          </a:xfrm>
        </p:grpSpPr>
        <p:sp>
          <p:nvSpPr>
            <p:cNvPr id="72" name="Oval 14"/>
            <p:cNvSpPr/>
            <p:nvPr/>
          </p:nvSpPr>
          <p:spPr>
            <a:xfrm>
              <a:off x="3200400" y="2971800"/>
              <a:ext cx="2759040" cy="10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3697200" y="3133800"/>
              <a:ext cx="172944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ff99"/>
                  </a:solidFill>
                  <a:latin typeface="Arial Black"/>
                </a:rPr>
                <a:t>Acuerdos Progra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-152280" y="44784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MARCO LEGAL - LEY 25152, ART. 5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80880" y="1447920"/>
            <a:ext cx="82933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6840" indent="-1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Acuerdos-Programas entre Jefe de Gabinete y unidades ejecutoras, cuyos contenidos básicos s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Compromisos de cumplimiento de politicas, objetivos y me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Niveles de gastos a asigna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Régimen especial de modificaciones presupuesta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Régimen especial de contratación de biene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Premios por produ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entury Gothic"/>
              </a:rPr>
              <a:t>Flexibilidad en modificación estructuras orgánic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6840" indent="-1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6028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REQUISITOS PARA SU INSTRUMENT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7680" y="1484280"/>
            <a:ext cx="829296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Presupuesto Pluri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3.  Técnicas presupues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4.  Indicadores</a:t>
            </a:r>
            <a:r>
              <a:rPr b="0" lang="es-E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5.  Incen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Incentivos a la 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ES" sz="2200" spc="-1" strike="noStrike">
                <a:solidFill>
                  <a:srgbClr val="ffff00"/>
                </a:solidFill>
                <a:latin typeface="Century Gothic"/>
              </a:rPr>
              <a:t>Incentivos al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entury Gothic"/>
              </a:rPr>
              <a:t>6. Administr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425520"/>
            <a:ext cx="9144000" cy="771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ROLES DEL PODER LEGISL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619280" y="2492280"/>
            <a:ext cx="5616720" cy="319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66"/>
                </a:solidFill>
                <a:latin typeface="Century Gothic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Aproba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Rendició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476360" y="1341360"/>
            <a:ext cx="5251320" cy="515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99"/>
                </a:solidFill>
                <a:latin typeface="Century Gothic"/>
              </a:rPr>
              <a:t>EN MATERIA DE</a:t>
            </a:r>
            <a:r>
              <a:rPr b="1" i="1" lang="es-ES" sz="2400" spc="-1" strike="noStrike">
                <a:solidFill>
                  <a:srgbClr val="ffff99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425520"/>
            <a:ext cx="9144000" cy="771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ROLES DE LOS ÓRGANOS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68360" y="1989000"/>
            <a:ext cx="5450040" cy="361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66"/>
                </a:solidFill>
                <a:latin typeface="Century Gothic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Control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Contro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   </a:t>
            </a: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CONTROL POR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501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26028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7f"/>
                </a:solidFill>
                <a:latin typeface="Century Gothic"/>
              </a:rPr>
              <a:t>ROL DE LOS ACTORES EN LA GESTIÓN POR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771640" y="2060640"/>
            <a:ext cx="42483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200000"/>
              </a:lnSpc>
              <a:spcBef>
                <a:spcPts val="1749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Clase diri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500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Burocracia</a:t>
            </a:r>
            <a:r>
              <a:rPr b="1" lang="es-AR" sz="2400" spc="-1" strike="noStrike">
                <a:solidFill>
                  <a:srgbClr val="ffff00"/>
                </a:solidFill>
                <a:latin typeface="Century Gothic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1749"/>
              </a:spcBef>
              <a:buClr>
                <a:srgbClr val="ff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Sociedad 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1:45:49Z</dcterms:created>
  <dc:creator>lpinto</dc:creator>
  <dc:description/>
  <dc:language>en-US</dc:language>
  <cp:lastModifiedBy>C.P.C.E.C.A.B.A</cp:lastModifiedBy>
  <dcterms:modified xsi:type="dcterms:W3CDTF">2009-09-24T16:39:07Z</dcterms:modified>
  <cp:revision>49</cp:revision>
  <dc:subject/>
  <dc:title>Diapositiva 1</dc:title>
</cp:coreProperties>
</file>