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428-AE22-4EF8-9F07-3460AA20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DFC-6F08-490C-B4FD-5C5332A9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EE952-4FC9-4FD7-8595-7D0A005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5B73F-4790-47CA-B27E-151C50A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4A1BD-1AD8-4FBC-93F6-5DE6D48F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E4DE2-3AFA-4A37-A0B9-4A7F187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E3288-774F-4887-9238-EB236E4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CF459-CEFC-4375-9E8F-4CFF43D9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4C512-DEB8-4440-BC0E-9BFBE905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E4A91-897A-47D2-B792-EB3184AE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38DCDF-BC30-43F7-B56A-8EED5315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3303-3B26-4A97-AC42-85A064B6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F50-0698-44A2-9F27-BB5BACEA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5B993-5A60-4D33-9563-C86BE28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F73B2-94DB-4DA4-9DBE-20E8339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A7C3-3EDE-453A-AEC0-DE5F9BB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8B2C-1A3B-40BF-86D8-63FECD7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BE768-FD21-4DBD-BF19-A54C554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A86E1-0057-48B6-B8C4-F186581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7B02E-81C4-4550-9237-3E33E36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DBCD5-F02F-41BA-A30A-61CE0333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56AB1-443D-4799-B273-513933D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C817B-C7F2-4BBC-B9DD-05961DF8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5D4-176B-405E-BA12-951AD7C2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0AE76-E650-4BF5-ABD5-A33C06BF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DF26-14B6-47C5-B12D-FDA76847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BD2E-9783-4DB6-9F39-CEDD8FB0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74C61-35E5-4A01-AC87-32F1C41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2C82-F71B-4240-968E-8421313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97EB5-E554-4FBE-8093-B28FB5B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C2E7B-84C0-471B-B4FD-4A54904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19DC1-4106-4208-8207-DCAA6D2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C3820-5646-4A62-A174-C3D7192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26142-E6D7-4318-8807-EA29172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0FE-6F1F-40A9-A36B-69A4D92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65DA-DBA6-4E85-977A-355F643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05658-BFFB-42A9-AF07-6CA9DA9D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EACC8-07FD-4258-894B-0B943635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ABC26-08FE-4426-BFF0-D0685A78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098F1-B3B9-4702-BC5D-C2DF57F1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89A3-E3C4-4E6A-AA6A-88F27CC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F2D69-426D-4C95-93F2-43E0721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4BCE3-9987-4DB7-BAF0-1D24D30F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4D7AA-0C91-419B-A86A-1784DAA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7F795-FEAD-43EB-873E-699D83D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08F0-66D4-477C-B0DD-58D9698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B03D-3A85-42C0-A071-676F15A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E8F70-148C-417C-B311-29EC8DC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29092-D4EA-4A0B-9DC2-D0F56FE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6E0C3-CB45-4413-A9AE-AD7A2ED8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6B8B1-5E07-4256-876B-6B36B1A0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6F7E8-4AE1-4895-954B-7B68A5BC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80D6A-94F3-40F2-82AE-DFC6BAF5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A9DFB-BB61-41BB-B62E-C20EF570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4C261-DE10-4DFE-8B06-7229ED2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73626-1615-456A-B0B1-FFFE2E7D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052F-C4CA-4C8F-8940-1F9D7B92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D9C69-D6C4-45E3-B802-7BCCF73C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8A5AE-1C4A-4B56-92FB-5302B1B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0537B-5D31-41E4-99E4-0E9718A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19F2E-FD1D-4781-91AB-D4F54D7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EB880-67AE-4A24-A653-D7A3E97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695EC-9003-4D48-880B-C4E95D8E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22602-3DF2-4444-A823-CEB116C2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8361F-4482-4A4D-BC1E-3CBD8ABF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704B3-F875-42AB-8F38-C1B4B9E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1ACEE-C48C-4692-9E9A-88C53DD8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FADF-11C8-47C4-B6F3-4C4073B4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90FC7-0247-4360-83DF-CB8B54B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71695-EA63-4D3B-A2A4-E4D78A32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964CC-E60D-43A3-B7B3-7B20D66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7A662-14A4-4811-A591-9C854B3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25551-2D9A-4594-9912-F5E58D7B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9D41B-2784-45B9-979E-7062197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9709F-8636-42F8-A692-2952C18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8046A-342E-41E3-A879-150F2674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C3383-3F86-46EC-A419-DD58FA45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796-A1EB-4001-BCF6-5D47C3C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BE23-2244-445F-AD54-06C6716F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558-6D96-4920-AB1D-62DEA1C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C4A-8C17-40AE-ADC1-CA8051E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9934-A5DB-46EC-88BA-3789FAA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23A-5B6A-4C5C-87A7-4C22934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DC9-0DED-4079-911A-572EC791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E567-7BAF-4D00-96E0-B89E2E7E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D8DD-3121-4AF6-8878-69F9E87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7BCC-0B18-485A-B4B5-12353241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96F7-54F2-424B-82CF-C4BAEAF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5F05-9826-4987-981D-52CEAB8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E118-BAC6-430F-8FDB-74E03294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C63D-412B-4B02-ABFB-AD92968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1AA-9D99-40E2-9FD3-CF744ED0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E306-B483-43A9-8999-6166044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1C99-E2CA-4A2A-9F0B-78B6884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6F9B-F405-4456-ABED-313B2CB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77B5-C468-4609-8DA4-57CFB4F0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211F-CEAD-4DB6-9E51-8AD0FB67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49EC-6923-4478-8222-7FD64B2C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2C76-0DF6-4EC1-8515-121E1299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B62D-1F1B-4D41-8780-84133311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B6C2-D006-4448-9059-8A936B5C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F74C-9C63-47D2-93AE-9363B294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6FF-32F9-46A6-855C-11C6335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E56F-7AAD-4B4E-96AA-EB47AC4E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C1C8-A7CE-4C23-AA68-8EAFFA6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5131-A827-4F80-AE38-20249799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1786-C28B-4958-B601-3C323DC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C840-D180-4988-A715-495B4D39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4BBA-90D5-4DB3-BDF9-45CA8FA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F391-C459-45E9-BE2B-7DA827C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80DF-857D-4CC5-AC25-6FCA1A50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4871-3390-4A31-9B97-2B3C9FF0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9BB8-0ADC-423E-B726-8536CF2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9F0-0EED-49AF-B62C-FC43CA57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C262-9C3F-4968-814A-D6CCC33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3E7C-2490-4394-8919-2F727C9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757C-6FC4-481F-BB9C-F915F471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A953-EB56-47E5-AF65-757C342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87A6-B21E-45A3-A547-9240304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ED12-4A91-4FB4-99C5-823388C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C3ED-BCE7-4870-9F67-F34C144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9F91-7097-4C24-A44B-BA95763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C8D38-416A-4A35-9D3D-B6CC998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6608-7524-4FDA-9BE5-A801C8BC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A42-097C-469D-BB38-D764EE49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6A0C3-A190-43F5-B4CF-27B2E42C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3380-37DC-4844-A563-7F728274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8E84-1276-4FE5-A046-DCD2DB6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09C3-A4F8-48E0-A67F-9D9C4FA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A223-3283-499E-B755-2D39AFA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A7CB-3738-4785-835A-0D5C98D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88A5-92DE-44C5-B704-65812273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973D-4564-4327-9DB0-FC966A7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F6EB-F6CA-4E64-89B6-5B5D827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4DB8-FDC0-45E0-B738-AED7297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7CE-2A50-445E-BF5C-F05696A4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513E3-5266-4B18-A982-9FAFD9E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ADC7-D473-4FFC-8C7F-92187640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FDA8-2355-4413-A75C-3B4BE708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E4A0F-A003-4958-848D-A119A7B0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5C703-CE50-47BD-99F7-9AD96668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B8566-6320-4AAF-A6F9-B35F450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E57DC-E720-4438-8568-7DC9A748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F6D0E-B846-4B82-9E09-97DFC9C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A50DB-9EA0-4BC7-9EB8-50F8C67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4753B-2CC0-430E-AD2C-8005FA6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875-E95F-4DF8-A4E9-BDA341A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A2285-54D8-493C-8502-6F6555B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98335-F82C-47E5-8468-7E875EA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77E5A-D556-4C71-A3C2-96D5927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79B74-5D9F-4189-9AA3-BDAC3FCF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196E6-0F5C-43E8-8076-6B581F11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39B2F-FD72-429F-B7E4-B44D5F3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AF928-870B-496B-910B-8872367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432B5-DAED-48F5-9D75-A60FE30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5AB6-786D-4221-BE70-490F1CD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7DB50-27DC-4B50-B2AD-392842F5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2B5-9C53-4B5B-8B83-2D3C666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2349-0237-4114-89B8-91B37ED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E0F9D-3BEA-41F6-B811-F7F85D5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D2C7B-8867-4D4A-B377-991F010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0776-5B62-486E-B3D9-8DC4CCC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74128-F82E-48C6-92BA-2D78422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0F943-D496-4C50-AB46-3A57BBF2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FB7D0-17A6-471E-BC25-961081DB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E22A4-C10D-4076-8D01-77D6193E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F6DCB9-512A-4576-BFD6-4D12429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1DB0F-28CA-4E53-8973-F399E585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F004-79AE-4779-8CD1-DDC3FA43CB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08C-01C9-436F-83F6-5CA62F91976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99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2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10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11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4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0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7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47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48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9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0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2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3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4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7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8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9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3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6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7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3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4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5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6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7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2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5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96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7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9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9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6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017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2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4F9-4BA4-4CAE-9DBA-79675440F2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64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7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3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75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76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0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3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6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12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13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6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7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0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3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4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5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8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9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0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7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8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9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0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61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62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4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175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182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0C9-0700-4BDF-8A3D-15DB533F4E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011-8155-4CF4-A6AF-96B14540AA94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0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582-E7ED-4DF1-9E9A-5E1E104B3084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DA0-98E8-476C-9BB8-209B953034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6EB-C90B-4C89-B14A-21C5824B8C7B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9A7-09A9-462F-BCA1-6D245752B87F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D760-F7E9-41C8-AAC4-682708AC28A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0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739-9C89-4D40-9199-AFF8B2EB695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4A9-5B96-4E72-9F63-28BC47CD1B6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6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4B4-C3F2-456D-869A-FC9C9236498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2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167-8CCA-4700-880C-FABA04204D0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 CONGRESO INTERNACIONAL DE ADMINISTRACION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VI CONAMERCO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ol del Administrador ante escenarios crí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r. José Antonio Fica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cepresidente Regional O.L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Generalmente lo que escasea no son las ideas , ni siquiera aquellas ideas buenas y bastante útiles, lo que falta es la voluntad de los ADMINISTRADORES PARA DARLES LA BIENVEN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eter  Druck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RISIS: grave perturbación de la actividad económ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ENTO: Capacidad intelectu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MAGINACION: Inventar, pensar, sospech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ALORES: Cualidad del ánimo que acomete resueltamente grandes empres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L PRINCIP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r un ESTRATEG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1112760" y="2766960"/>
            <a:ext cx="192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VISION Y ANALIS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ISIS INTERNO Y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 la ESTRATE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gla de los 10  principios ante la crisi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Manejo de 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Ventajas compet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Crea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- Compet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 Reducción de costos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- Emprend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- Negoci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- Recurs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- Eficiencia en 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 Plan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TAS QUE NOS AYUD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ro viejo no aprende a hab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nas en aguas cal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compita…cambie el ju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ra ries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os sentimos mie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O puedo hacer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ar sobre las agu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águilas no cazan mos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925640" y="296244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30:53Z</dcterms:created>
  <dc:creator>Ficarra</dc:creator>
  <dc:description/>
  <dc:language>en-US</dc:language>
  <cp:lastModifiedBy>C.P.C.E.C.A.B.A</cp:lastModifiedBy>
  <dcterms:modified xsi:type="dcterms:W3CDTF">2009-09-24T16:25:36Z</dcterms:modified>
  <cp:revision>2</cp:revision>
  <dc:subject/>
  <dc:title>IX CONGRESO INTERNACIONAL DE ADMINISTRACION XVI CONAMERCO </dc:title>
</cp:coreProperties>
</file>