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A7F-C214-48A7-B1A6-6F73A929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DB8-50BD-4C1A-80A5-70BA9709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CFD-5B26-4D0E-8B75-E78D868B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E14-482B-434B-9F5D-C67760E1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8D7-A88F-4F7A-BE6F-93FA62BD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950-DE0C-437A-A446-108BB743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547-D4FC-4E1C-95B0-E0807025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FA4-56C3-4860-8248-AAED25C9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8F8-CE49-4A6E-BCDD-A5CE0C1C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7C6-D0BB-41BB-94FD-D629A529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502-09D7-4135-8213-C27DF397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CB9-5BC2-4C60-9792-FD113C43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e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F65C-932A-48D0-AD30-6BECA8E3048D}" type="slidenum">
              <a:rPr b="0" lang="en-US" sz="1400" spc="-1" strike="noStrike">
                <a:solidFill>
                  <a:srgbClr val="ff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172280" y="0"/>
            <a:ext cx="19591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6436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rcosur.int/index.j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mercosur.int/index.jsp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mercosur.int/index.jsp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images.google.com.br/imgres?imgurl=http://www.camara.gov.br/mercosul/jornais/band.jpg&amp;imgrefurl=http://www.camara.gov.br/mercosul/jornais/QuartaFeira.htm&amp;usg=__7f_KBsHdfR_dCALR45IiboaKrDQ=&amp;h=420&amp;w=600&amp;sz=28&amp;hl=pt-BR&amp;start=4&amp;um=1&amp;tbnid=gQsk0GZiylkI4M:&amp;tbnh=95&amp;tbnw=135&amp;prev=/images%3Fq%3DMERCOSUL%26hl%3Dpt-BR%26sa%3DN%26um%3D1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google.com.br/imgres?imgurl=http://atuadu.tripod.com/logo_ola2.gif&amp;imgrefurl=http://atuadu.tripod.com/ola.htm&amp;usg=__nr0Z39XRRUBy-_SK098MsLcREjI=&amp;h=242&amp;w=264&amp;sz=18&amp;hl=pt-BR&amp;start=9&amp;tbnid=Mbv8t2r101h1oM:&amp;tbnh=103&amp;tbnw=112&amp;prev=/images%3Fq%3Dorganizacion%2Blatino%2Bamericana%2Bde%2Badministracion%26hl%3Dpt-BR%26sa%3DG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ercosur.int/index.j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mercosur.int/index.jsp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mercosur.int/index.jsp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images.google.com.br/imgres?imgurl=http://www.camara.gov.br/mercosul/jornais/band.jpg&amp;imgrefurl=http://www.camara.gov.br/mercosul/jornais/QuartaFeira.htm&amp;usg=__7f_KBsHdfR_dCALR45IiboaKrDQ=&amp;h=420&amp;w=600&amp;sz=28&amp;hl=pt-BR&amp;start=4&amp;um=1&amp;tbnid=gQsk0GZiylkI4M:&amp;tbnh=95&amp;tbnw=135&amp;prev=/images%3Fq%3DMERCOSUL%26hl%3Dpt-BR%26sa%3DN%26um%3D1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google.com.br/imgres?imgurl=http://atuadu.tripod.com/logo_ola2.gif&amp;imgrefurl=http://atuadu.tripod.com/ola.htm&amp;usg=__nr0Z39XRRUBy-_SK098MsLcREjI=&amp;h=242&amp;w=264&amp;sz=18&amp;hl=pt-BR&amp;start=9&amp;tbnid=Mbv8t2r101h1oM:&amp;tbnh=103&amp;tbnw=112&amp;prev=/images%3Fq%3Dorganizacion%2Blatino%2Bamericana%2Bde%2Badministracion%26hl%3Dpt-BR%26sa%3DG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rcosur.int/index.j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mercosur.int/index.jsp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mercosur.int/index.jsp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images.google.com.br/imgres?imgurl=http://www.camara.gov.br/mercosul/jornais/band.jpg&amp;imgrefurl=http://www.camara.gov.br/mercosul/jornais/QuartaFeira.htm&amp;usg=__7f_KBsHdfR_dCALR45IiboaKrDQ=&amp;h=420&amp;w=600&amp;sz=28&amp;hl=pt-BR&amp;start=4&amp;um=1&amp;tbnid=gQsk0GZiylkI4M:&amp;tbnh=95&amp;tbnw=135&amp;prev=/images%3Fq%3DMERCOSUL%26hl%3Dpt-BR%26sa%3DN%26um%3D1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google.com.br/imgres?imgurl=http://atuadu.tripod.com/logo_ola2.gif&amp;imgrefurl=http://atuadu.tripod.com/ola.htm&amp;usg=__nr0Z39XRRUBy-_SK098MsLcREjI=&amp;h=242&amp;w=264&amp;sz=18&amp;hl=pt-BR&amp;start=9&amp;tbnid=Mbv8t2r101h1oM:&amp;tbnh=103&amp;tbnw=112&amp;prev=/images%3Fq%3Dorganizacion%2Blatino%2Bamericana%2Bde%2Badministracion%26hl%3Dpt-BR%26sa%3DG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rcosur.int/index.j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mercosur.int/index.jsp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mercosur.int/index.jsp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images.google.com.br/imgres?imgurl=http://www.camara.gov.br/mercosul/jornais/band.jpg&amp;imgrefurl=http://www.camara.gov.br/mercosul/jornais/QuartaFeira.htm&amp;usg=__7f_KBsHdfR_dCALR45IiboaKrDQ=&amp;h=420&amp;w=600&amp;sz=28&amp;hl=pt-BR&amp;start=4&amp;um=1&amp;tbnid=gQsk0GZiylkI4M:&amp;tbnh=95&amp;tbnw=135&amp;prev=/images%3Fq%3DMERCOSUL%26hl%3Dpt-BR%26sa%3DN%26um%3D1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google.com.br/imgres?imgurl=http://atuadu.tripod.com/logo_ola2.gif&amp;imgrefurl=http://atuadu.tripod.com/ola.htm&amp;usg=__nr0Z39XRRUBy-_SK098MsLcREjI=&amp;h=242&amp;w=264&amp;sz=18&amp;hl=pt-BR&amp;start=9&amp;tbnid=Mbv8t2r101h1oM:&amp;tbnh=103&amp;tbnw=112&amp;prev=/images%3Fq%3Dorganizacion%2Blatino%2Bamericana%2Bde%2Badministracion%26hl%3Dpt-BR%26sa%3DG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rcosur.int/index.j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mercosur.int/index.jsp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mercosur.int/index.jsp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images.google.com.br/imgres?imgurl=http://www.camara.gov.br/mercosul/jornais/band.jpg&amp;imgrefurl=http://www.camara.gov.br/mercosul/jornais/QuartaFeira.htm&amp;usg=__7f_KBsHdfR_dCALR45IiboaKrDQ=&amp;h=420&amp;w=600&amp;sz=28&amp;hl=pt-BR&amp;start=4&amp;um=1&amp;tbnid=gQsk0GZiylkI4M:&amp;tbnh=95&amp;tbnw=135&amp;prev=/images%3Fq%3DMERCOSUL%26hl%3Dpt-BR%26sa%3DN%26um%3D1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carlalamarca.files.wordpress.com/2009/02/bandeira_do_brasil.jpg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google.com.br/imgres?imgurl=http://atuadu.tripod.com/logo_ola2.gif&amp;imgrefurl=http://atuadu.tripod.com/ola.htm&amp;usg=__nr0Z39XRRUBy-_SK098MsLcREjI=&amp;h=242&amp;w=264&amp;sz=18&amp;hl=pt-BR&amp;start=9&amp;tbnid=Mbv8t2r101h1oM:&amp;tbnh=103&amp;tbnw=112&amp;prev=/images%3Fq%3Dorganizacion%2Blatino%2Bamericana%2Bde%2Badministracion%26hl%3Dpt-BR%26sa%3DG" TargetMode="External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rcosur.int/index.j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mercosur.int/index.jsp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mercosur.int/index.jsp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images.google.com.br/imgres?imgurl=http://www.camara.gov.br/mercosul/jornais/band.jpg&amp;imgrefurl=http://www.camara.gov.br/mercosul/jornais/QuartaFeira.htm&amp;usg=__7f_KBsHdfR_dCALR45IiboaKrDQ=&amp;h=420&amp;w=600&amp;sz=28&amp;hl=pt-BR&amp;start=4&amp;um=1&amp;tbnid=gQsk0GZiylkI4M:&amp;tbnh=95&amp;tbnw=135&amp;prev=/images%3Fq%3DMERCOSUL%26hl%3Dpt-BR%26sa%3DN%26um%3D1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carlalamarca.files.wordpress.com/2009/02/bandeira_do_brasil.jpg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google.com.br/imgres?imgurl=http://atuadu.tripod.com/logo_ola2.gif&amp;imgrefurl=http://atuadu.tripod.com/ola.htm&amp;usg=__nr0Z39XRRUBy-_SK098MsLcREjI=&amp;h=242&amp;w=264&amp;sz=18&amp;hl=pt-BR&amp;start=9&amp;tbnid=Mbv8t2r101h1oM:&amp;tbnh=103&amp;tbnw=112&amp;prev=/images%3Fq%3Dorganizacion%2Blatino%2Bamericana%2Bde%2Badministracion%26hl%3Dpt-BR%26sa%3DG" TargetMode="External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rcosur.int/index.j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mercosur.int/index.jsp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mercosur.int/index.jsp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image" Target="../media/image6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rcosur.int/index.j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mercosur.int/index.jsp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mercosur.int/index.jsp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images.google.com.br/imgres?imgurl=http://www.camara.gov.br/mercosul/jornais/band.jpg&amp;imgrefurl=http://www.camara.gov.br/mercosul/jornais/QuartaFeira.htm&amp;usg=__7f_KBsHdfR_dCALR45IiboaKrDQ=&amp;h=420&amp;w=600&amp;sz=28&amp;hl=pt-BR&amp;start=4&amp;um=1&amp;tbnid=gQsk0GZiylkI4M:&amp;tbnh=95&amp;tbnw=135&amp;prev=/images%3Fq%3DMERCOSUL%26hl%3Dpt-BR%26sa%3DN%26um%3D1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carlalamarca.files.wordpress.com/2009/02/bandeira_do_brasil.jpg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google.com.br/imgres?imgurl=http://atuadu.tripod.com/logo_ola2.gif&amp;imgrefurl=http://atuadu.tripod.com/ola.htm&amp;usg=__nr0Z39XRRUBy-_SK098MsLcREjI=&amp;h=242&amp;w=264&amp;sz=18&amp;hl=pt-BR&amp;start=9&amp;tbnid=Mbv8t2r101h1oM:&amp;tbnh=103&amp;tbnw=112&amp;prev=/images%3Fq%3Dorganizacion%2Blatino%2Bamericana%2Bde%2Badministracion%26hl%3Dpt-BR%26sa%3DG" TargetMode="External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ercosur.int/index.j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mercosur.int/index.jsp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mercosur.int/index.jsp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images.google.com.br/imgres?imgurl=http://www.camara.gov.br/mercosul/jornais/band.jpg&amp;imgrefurl=http://www.camara.gov.br/mercosul/jornais/QuartaFeira.htm&amp;usg=__7f_KBsHdfR_dCALR45IiboaKrDQ=&amp;h=420&amp;w=600&amp;sz=28&amp;hl=pt-BR&amp;start=4&amp;um=1&amp;tbnid=gQsk0GZiylkI4M:&amp;tbnh=95&amp;tbnw=135&amp;prev=/images%3Fq%3DMERCOSUL%26hl%3Dpt-BR%26sa%3DN%26um%3D1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google.com.br/imgres?imgurl=http://atuadu.tripod.com/logo_ola2.gif&amp;imgrefurl=http://atuadu.tripod.com/ola.htm&amp;usg=__nr0Z39XRRUBy-_SK098MsLcREjI=&amp;h=242&amp;w=264&amp;sz=18&amp;hl=pt-BR&amp;start=9&amp;tbnid=Mbv8t2r101h1oM:&amp;tbnh=103&amp;tbnw=112&amp;prev=/images%3Fq%3Dorganizacion%2Blatino%2Bamericana%2Bde%2Badministracion%26hl%3Dpt-BR%26sa%3DG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ercosur.int/index.j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mercosur.int/index.jsp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mercosur.int/index.jsp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images.google.com.br/imgres?imgurl=http://www.camara.gov.br/mercosul/jornais/band.jpg&amp;imgrefurl=http://www.camara.gov.br/mercosul/jornais/QuartaFeira.htm&amp;usg=__7f_KBsHdfR_dCALR45IiboaKrDQ=&amp;h=420&amp;w=600&amp;sz=28&amp;hl=pt-BR&amp;start=4&amp;um=1&amp;tbnid=gQsk0GZiylkI4M:&amp;tbnh=95&amp;tbnw=135&amp;prev=/images%3Fq%3DMERCOSUL%26hl%3Dpt-BR%26sa%3DN%26um%3D1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google.com.br/imgres?imgurl=http://atuadu.tripod.com/logo_ola2.gif&amp;imgrefurl=http://atuadu.tripod.com/ola.htm&amp;usg=__nr0Z39XRRUBy-_SK098MsLcREjI=&amp;h=242&amp;w=264&amp;sz=18&amp;hl=pt-BR&amp;start=9&amp;tbnid=Mbv8t2r101h1oM:&amp;tbnh=103&amp;tbnw=112&amp;prev=/images%3Fq%3Dorganizacion%2Blatino%2Bamericana%2Bde%2Badministracion%26hl%3Dpt-BR%26sa%3DG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rcosur.int/index.j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mercosur.int/index.jsp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mercosur.int/index.jsp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images.google.com.br/imgres?imgurl=http://www.camara.gov.br/mercosul/jornais/band.jpg&amp;imgrefurl=http://www.camara.gov.br/mercosul/jornais/QuartaFeira.htm&amp;usg=__7f_KBsHdfR_dCALR45IiboaKrDQ=&amp;h=420&amp;w=600&amp;sz=28&amp;hl=pt-BR&amp;start=4&amp;um=1&amp;tbnid=gQsk0GZiylkI4M:&amp;tbnh=95&amp;tbnw=135&amp;prev=/images%3Fq%3DMERCOSUL%26hl%3Dpt-BR%26sa%3DN%26um%3D1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google.com.br/imgres?imgurl=http://atuadu.tripod.com/logo_ola2.gif&amp;imgrefurl=http://atuadu.tripod.com/ola.htm&amp;usg=__nr0Z39XRRUBy-_SK098MsLcREjI=&amp;h=242&amp;w=264&amp;sz=18&amp;hl=pt-BR&amp;start=9&amp;tbnid=Mbv8t2r101h1oM:&amp;tbnh=103&amp;tbnw=112&amp;prev=/images%3Fq%3Dorganizacion%2Blatino%2Bamericana%2Bde%2Badministracion%26hl%3Dpt-BR%26sa%3DG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hyperlink" Target="http://www.mercosur.int/index.jsp" TargetMode="External"/><Relationship Id="rId13" Type="http://schemas.openxmlformats.org/officeDocument/2006/relationships/image" Target="../media/image2.png"/><Relationship Id="rId14" Type="http://schemas.openxmlformats.org/officeDocument/2006/relationships/hyperlink" Target="http://www.mercosur.int/index.jsp" TargetMode="External"/><Relationship Id="rId15" Type="http://schemas.openxmlformats.org/officeDocument/2006/relationships/image" Target="../media/image2.png"/><Relationship Id="rId16" Type="http://schemas.openxmlformats.org/officeDocument/2006/relationships/hyperlink" Target="http://www.mercosur.int/index.jsp" TargetMode="External"/><Relationship Id="rId17" Type="http://schemas.openxmlformats.org/officeDocument/2006/relationships/image" Target="../media/image2.png"/><Relationship Id="rId18" Type="http://schemas.openxmlformats.org/officeDocument/2006/relationships/hyperlink" Target="http://www.mercosur.int/index.jsp" TargetMode="External"/><Relationship Id="rId19" Type="http://schemas.openxmlformats.org/officeDocument/2006/relationships/image" Target="../media/image2.png"/><Relationship Id="rId20" Type="http://schemas.openxmlformats.org/officeDocument/2006/relationships/hyperlink" Target="http://www.mercosur.int/index.jsp" TargetMode="External"/><Relationship Id="rId21" Type="http://schemas.openxmlformats.org/officeDocument/2006/relationships/image" Target="../media/image2.png"/><Relationship Id="rId22" Type="http://schemas.openxmlformats.org/officeDocument/2006/relationships/hyperlink" Target="http://www.mercosur.int/index.jsp" TargetMode="External"/><Relationship Id="rId23" Type="http://schemas.openxmlformats.org/officeDocument/2006/relationships/image" Target="../media/image2.png"/><Relationship Id="rId2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rcosur.int/index.j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mercosur.int/index.jsp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mercosur.int/index.jsp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images.google.com.br/imgres?imgurl=http://www.camara.gov.br/mercosul/jornais/band.jpg&amp;imgrefurl=http://www.camara.gov.br/mercosul/jornais/QuartaFeira.htm&amp;usg=__7f_KBsHdfR_dCALR45IiboaKrDQ=&amp;h=420&amp;w=600&amp;sz=28&amp;hl=pt-BR&amp;start=4&amp;um=1&amp;tbnid=gQsk0GZiylkI4M:&amp;tbnh=95&amp;tbnw=135&amp;prev=/images%3Fq%3DMERCOSUL%26hl%3Dpt-BR%26sa%3DN%26um%3D1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google.com.br/imgres?imgurl=http://atuadu.tripod.com/logo_ola2.gif&amp;imgrefurl=http://atuadu.tripod.com/ola.htm&amp;usg=__nr0Z39XRRUBy-_SK098MsLcREjI=&amp;h=242&amp;w=264&amp;sz=18&amp;hl=pt-BR&amp;start=9&amp;tbnid=Mbv8t2r101h1oM:&amp;tbnh=103&amp;tbnw=112&amp;prev=/images%3Fq%3Dorganizacion%2Blatino%2Bamericana%2Bde%2Badministracion%26hl%3Dpt-BR%26sa%3DG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e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4360" y="0"/>
            <a:ext cx="2016000" cy="138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0" y="6246720"/>
            <a:ext cx="649440" cy="600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4560" y="623736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X Congreso Internacional de Administración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XVI Congreso de Administración del MERCOSUR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5080" y="4428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Administrador JOSÉ ATAIDE MIRANDA BARRETTO – Vice-Presidente Zona Sul OLA</a:t>
            </a:r>
            <a:endParaRPr b="0" lang="en-US" sz="1200" spc="-1" strike="noStrike">
              <a:solidFill>
                <a:srgbClr val="ff9999"/>
              </a:solidFill>
              <a:latin typeface="Arial"/>
            </a:endParaRPr>
          </a:p>
        </p:txBody>
      </p:sp>
      <p:pic>
        <p:nvPicPr>
          <p:cNvPr id="50" name="" descr="Mercosul"/>
          <p:cNvPicPr/>
          <p:nvPr/>
        </p:nvPicPr>
        <p:blipFill>
          <a:blip r:embed="rId11"/>
          <a:stretch/>
        </p:blipFill>
        <p:spPr>
          <a:xfrm>
            <a:off x="7147080" y="3940200"/>
            <a:ext cx="2033280" cy="294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720200" y="1413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Brasil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52000" y="18446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96360" y="23493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Uru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97000" y="2781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ara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9800" y="32130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Venezuel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37280" y="2060640"/>
            <a:ext cx="4287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XVI CONAMERCO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Buenos Aires 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Setembro 2009</a:t>
            </a:r>
            <a:endParaRPr b="0" lang="en-US" sz="40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43700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ROL DEL ADMINISTRADOR ANTE ESCENARIOS CRÍTICOS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e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4360" y="0"/>
            <a:ext cx="2016000" cy="1386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0" y="6246720"/>
            <a:ext cx="649440" cy="600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54560" y="623736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X Congreso Internacional de Administración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XVI Congreso de Administración del MERCOSUR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1160" y="4428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OL DEL ADMINISTRADOR ANTE ESCENARIOS CRÍTICOS 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5080" y="3333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Administrador JOSÉ ATAIDE MIRANDA BARRETTO – Vice-Presidente Zona Sul OLA</a:t>
            </a:r>
            <a:endParaRPr b="0" lang="en-US" sz="1200" spc="-1" strike="noStrike">
              <a:solidFill>
                <a:srgbClr val="ff9999"/>
              </a:solidFill>
              <a:latin typeface="Arial"/>
            </a:endParaRPr>
          </a:p>
        </p:txBody>
      </p:sp>
      <p:pic>
        <p:nvPicPr>
          <p:cNvPr id="239" name="" descr="Mercosul"/>
          <p:cNvPicPr/>
          <p:nvPr/>
        </p:nvPicPr>
        <p:blipFill>
          <a:blip r:embed="rId11"/>
          <a:stretch/>
        </p:blipFill>
        <p:spPr>
          <a:xfrm>
            <a:off x="7147080" y="3940200"/>
            <a:ext cx="2033280" cy="2944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720200" y="1413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Brasil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52000" y="18446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96360" y="23493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Uru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7000" y="2781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ara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09800" y="32130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Venezuel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7280" y="1628640"/>
            <a:ext cx="67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A perspectiva</a:t>
            </a:r>
            <a:r>
              <a:rPr b="0" lang="pt-BR" sz="2800" spc="-1" strike="noStrike">
                <a:solidFill>
                  <a:srgbClr val="ff9999"/>
                </a:solidFill>
                <a:latin typeface="Arial"/>
              </a:rPr>
              <a:t> do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CAPITAL INTELECTUAL</a:t>
            </a:r>
            <a:r>
              <a:rPr b="0" lang="pt-BR" sz="28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mostra que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reter e desenvolver conhecimento, as organizações devem oferecer um trabalho desafiante que agregue experiências e conhecimentos as pessoas</a:t>
            </a:r>
            <a:endParaRPr b="0" lang="en-US" sz="2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e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4360" y="0"/>
            <a:ext cx="2016000" cy="1386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0" y="6246720"/>
            <a:ext cx="649440" cy="600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54560" y="623736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X Congreso Internacional de Administración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XVI Congreso de Administración del MERCOSUR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1160" y="4428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OL DEL ADMINISTRADOR ANTE ESCENARIOS CRÍTICOS 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65080" y="3333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Administrador JOSÉ ATAIDE MIRANDA BARRETTO – Vice-Presidente Zona Sul OLA</a:t>
            </a:r>
            <a:endParaRPr b="0" lang="en-US" sz="1200" spc="-1" strike="noStrike">
              <a:solidFill>
                <a:srgbClr val="ff9999"/>
              </a:solidFill>
              <a:latin typeface="Arial"/>
            </a:endParaRPr>
          </a:p>
        </p:txBody>
      </p:sp>
      <p:pic>
        <p:nvPicPr>
          <p:cNvPr id="254" name="" descr="Mercosul"/>
          <p:cNvPicPr/>
          <p:nvPr/>
        </p:nvPicPr>
        <p:blipFill>
          <a:blip r:embed="rId11"/>
          <a:stretch/>
        </p:blipFill>
        <p:spPr>
          <a:xfrm>
            <a:off x="7147080" y="3940200"/>
            <a:ext cx="2033280" cy="2944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720200" y="1413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Brasil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52000" y="18446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23493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Uru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97000" y="2781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ara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09800" y="32130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Venezuel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1125360"/>
            <a:ext cx="655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competitividade de uma economia globalizada não permite mais empresas “amadoras” no mercado. </a:t>
            </a:r>
            <a:endParaRPr b="0" lang="en-US" sz="2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profissionalismo e a melhor alocação dos recursos organizacionais (produção, informação e logística) que estas empresas utilizam, irão definir não somente a sua sobrevivência, como o seu sucesso no mercado.</a:t>
            </a:r>
            <a:endParaRPr b="0" lang="en-US" sz="2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42000" y="632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e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4360" y="0"/>
            <a:ext cx="2016000" cy="1386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0" y="6246720"/>
            <a:ext cx="649440" cy="600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754560" y="623736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X Congreso Internacional de Administración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XVI Congreso de Administración del MERCOSUR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1160" y="4428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OL DEL ADMINISTRADOR ANTE ESCENARIOS CRÍTICOS 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65080" y="3333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Administrador JOSÉ ATAIDE MIRANDA BARRETTO – Vice-Presidente Zona Sul OLA</a:t>
            </a:r>
            <a:endParaRPr b="0" lang="en-US" sz="1200" spc="-1" strike="noStrike">
              <a:solidFill>
                <a:srgbClr val="ff9999"/>
              </a:solidFill>
              <a:latin typeface="Arial"/>
            </a:endParaRPr>
          </a:p>
        </p:txBody>
      </p:sp>
      <p:pic>
        <p:nvPicPr>
          <p:cNvPr id="270" name="" descr="Mercosul"/>
          <p:cNvPicPr/>
          <p:nvPr/>
        </p:nvPicPr>
        <p:blipFill>
          <a:blip r:embed="rId11"/>
          <a:stretch/>
        </p:blipFill>
        <p:spPr>
          <a:xfrm>
            <a:off x="7147080" y="3940200"/>
            <a:ext cx="2033280" cy="2944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720200" y="1413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Brasil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2000" y="18446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23493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Uru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97000" y="2781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ara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09800" y="32130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Venezuel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80000" y="2627280"/>
            <a:ext cx="346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9999"/>
                </a:solidFill>
                <a:latin typeface="Arial"/>
              </a:rPr>
              <a:t>MUITO</a:t>
            </a:r>
            <a:endParaRPr b="0" lang="en-US" sz="4800" spc="-1" strike="noStrike">
              <a:solidFill>
                <a:srgbClr val="ff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9999"/>
                </a:solidFill>
                <a:latin typeface="Arial"/>
              </a:rPr>
              <a:t>OBRIGADO</a:t>
            </a:r>
            <a:endParaRPr b="0" lang="en-US" sz="48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e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686124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5e8dd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f5e8dd"/>
                </a:solidFill>
                <a:latin typeface="Arial"/>
              </a:rPr>
              <a:t>Hoje temos o conjunto de fatores mais desfavorável para o crescimento da indústria automobilística das últimas décadas”. </a:t>
            </a:r>
            <a:br>
              <a:rPr sz="2400"/>
            </a:br>
            <a:r>
              <a:rPr b="1" lang="pt-BR" sz="2400" spc="-1" strike="noStrike">
                <a:solidFill>
                  <a:srgbClr val="f5e8dd"/>
                </a:solidFill>
                <a:latin typeface="Arial"/>
              </a:rPr>
              <a:t>A afirmação é do presidente da General Motors do Brasil e Mercos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4360" y="0"/>
            <a:ext cx="2016000" cy="13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Ver imagem em tamanho grand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0720" y="6278400"/>
            <a:ext cx="863640" cy="606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4920" y="6246720"/>
            <a:ext cx="649440" cy="600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4560" y="623736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X Congreso Internacional de Administración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XVI Congreso de Administración del MERCOSUR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1160" y="4428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OL DEL ADMINISTRADOR ANTE ESCENARIOS CRÍTICOS 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5080" y="3333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Administrador JOSÉ ATAIDE MIRANDA BARRETTO – Vice-Presidente Zona Sul OLA</a:t>
            </a:r>
            <a:endParaRPr b="0" lang="en-US" sz="12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3897360"/>
            <a:ext cx="68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 presidente da Renault, afirmou que a empresa estuda a produção do </a:t>
            </a:r>
            <a:r>
              <a:rPr b="1" lang="pt-BR" sz="2400" spc="-1" strike="noStrike" u="sng">
                <a:solidFill>
                  <a:srgbClr val="ffff00"/>
                </a:solidFill>
                <a:uFillTx/>
                <a:latin typeface="Arial"/>
              </a:rPr>
              <a:t>Megane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III no Mercosul a partir de 2010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6360" y="81756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 Black"/>
              </a:rPr>
              <a:t>CONTRASTES</a:t>
            </a:r>
            <a:endParaRPr b="0" lang="en-US" sz="28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e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7280" y="1555920"/>
            <a:ext cx="694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hile calcula para 2009 uma queda do PIB de 1%, enquanto o Paraguai deve sofrer um recuo de 3% a 4%.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4360" y="0"/>
            <a:ext cx="2016000" cy="13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Ver imagem em tamanho grand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0720" y="6278400"/>
            <a:ext cx="863640" cy="606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4920" y="6246720"/>
            <a:ext cx="649440" cy="60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4560" y="623736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X Congreso Internacional de Administración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XVI Congreso de Administración del MERCOSUR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1160" y="4428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OL DEL ADMINISTRADOR ANTE ESCENARIOS CRÍTICOS 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65080" y="3333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Administrador JOSÉ ATAIDE MIRANDA BARRETTO – Vice-Presidente Zona Sul OLA</a:t>
            </a:r>
            <a:endParaRPr b="0" lang="en-US" sz="12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2920" y="3527280"/>
            <a:ext cx="68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"É um fator importante na economia transmitir uma expectativa positiva e antecipar quando vamos passar este período de turbulência”  dizem os Ministros da Economia do Mercosul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6360" y="89388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Black"/>
              </a:rPr>
              <a:t>CONTRASTES</a:t>
            </a:r>
            <a:endParaRPr b="0" lang="en-US" sz="28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e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7164360" y="0"/>
            <a:ext cx="2016000" cy="138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Ver imagem em tamanho grande"/>
          <p:cNvPicPr/>
          <p:nvPr/>
        </p:nvPicPr>
        <p:blipFill>
          <a:blip r:embed="rId8"/>
          <a:stretch/>
        </p:blipFill>
        <p:spPr>
          <a:xfrm>
            <a:off x="6300720" y="6278400"/>
            <a:ext cx="8636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34920" y="6246720"/>
            <a:ext cx="649440" cy="600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4560" y="623736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X Congreso Internacional de Administración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XVI Congreso de Administración del MERCOSUR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1160" y="4428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OL DEL ADMINISTRADOR ANTE ESCENARIOS CRÍTICOS 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5080" y="3333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Administrador JOSÉ ATAIDE MIRANDA BARRETTO – Vice-Presidente Zona Sul OLA</a:t>
            </a:r>
            <a:endParaRPr b="0" lang="en-US" sz="12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18000" y="2513160"/>
            <a:ext cx="18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7640" y="2565360"/>
            <a:ext cx="534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00"/>
                </a:solidFill>
                <a:latin typeface="Arial"/>
              </a:rPr>
              <a:t>EXISTE CRISE, QUAL</a:t>
            </a:r>
            <a:endParaRPr b="0" lang="en-US" sz="40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e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4360" y="0"/>
            <a:ext cx="2016000" cy="13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Ver imagem em tamanho grand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0720" y="6278400"/>
            <a:ext cx="863640" cy="606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4920" y="6246720"/>
            <a:ext cx="649440" cy="600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54560" y="623736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X Congreso Internacional de Administración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XVI Congreso de Administración del MERCOSUR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1160" y="4428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OL DEL ADMINISTRADOR ANTE ESCENARIOS CRÍTICOS 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5080" y="3333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Administrador JOSÉ ATAIDE MIRANDA BARRETTO – Vice-Presidente Zona Sul OLA</a:t>
            </a:r>
            <a:endParaRPr b="0" lang="en-US" sz="12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76520" y="1936800"/>
            <a:ext cx="265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Argentina – 15%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População: 40.403.943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Brasil – 71%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População: 189.970,841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Paraguai – 2,7%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População: 6.347,884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Uruguai – 1,3%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População: 3.415,920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Venezuela – 10%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População: 27,169,744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1890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pulação do MERCOSUL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267.308.332 habit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e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4360" y="0"/>
            <a:ext cx="2016000" cy="138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0" y="6246720"/>
            <a:ext cx="649440" cy="600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4560" y="623736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X Congreso Internacional de Administración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XVI Congreso de Administración del MERCOSUR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1160" y="4428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OL DEL ADMINISTRADOR ANTE ESCENARIOS CRÍTICOS 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5080" y="3333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Administrador JOSÉ ATAIDE MIRANDA BARRETTO – Vice-Presidente Zona Sul OLA</a:t>
            </a:r>
            <a:endParaRPr b="0" lang="en-US" sz="1200" spc="-1" strike="noStrike">
              <a:solidFill>
                <a:srgbClr val="ff9999"/>
              </a:solidFill>
              <a:latin typeface="Arial"/>
            </a:endParaRPr>
          </a:p>
        </p:txBody>
      </p:sp>
      <p:pic>
        <p:nvPicPr>
          <p:cNvPr id="112" name="" descr="Mercosul"/>
          <p:cNvPicPr/>
          <p:nvPr/>
        </p:nvPicPr>
        <p:blipFill>
          <a:blip r:embed="rId11"/>
          <a:stretch/>
        </p:blipFill>
        <p:spPr>
          <a:xfrm>
            <a:off x="7147080" y="3933720"/>
            <a:ext cx="2033280" cy="2944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720200" y="1413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Brasil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52000" y="18446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96360" y="23493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Uru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97000" y="2781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ara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09800" y="32130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Venezuel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" y="3098880"/>
            <a:ext cx="1143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586320"/>
            <a:ext cx="1066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040" y="4064040"/>
            <a:ext cx="1143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3098880"/>
            <a:ext cx="1994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275.900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3586320"/>
            <a:ext cx="1994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276.874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8320" y="4005360"/>
            <a:ext cx="1993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219.905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46600" y="224784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Arial"/>
              </a:rPr>
              <a:t>Desperdícios Econômicos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81360" y="3141720"/>
            <a:ext cx="1790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882.880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81360" y="3629160"/>
            <a:ext cx="1790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885.996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81360" y="4005360"/>
            <a:ext cx="1790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703.696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46600" y="3629160"/>
            <a:ext cx="2273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R$ 6,7 bilhões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26080" y="3141720"/>
            <a:ext cx="2438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R$ 6,6 bilhões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4040280"/>
            <a:ext cx="2578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R$ 6,5 bilhões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9160" y="2405160"/>
            <a:ext cx="137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Arial"/>
              </a:rPr>
              <a:t>Ano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4560" y="217656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Arial"/>
              </a:rPr>
              <a:t>Empresas encerradas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2176560"/>
            <a:ext cx="1828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Arial"/>
              </a:rPr>
              <a:t>Perdas de Ocupações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12160" y="116532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DADOS BRASIL</a:t>
            </a:r>
            <a:endParaRPr b="0" lang="en-US" sz="2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4941720"/>
            <a:ext cx="43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2008   327.200   998.720</a:t>
            </a:r>
            <a:r>
              <a:rPr b="0" lang="pt-BR" sz="23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e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4360" y="0"/>
            <a:ext cx="2016000" cy="1386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0" y="6246720"/>
            <a:ext cx="649440" cy="600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4560" y="623736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X Congreso Internacional de Administración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XVI Congreso de Administración del MERCOSUR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1160" y="4428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OL DEL ADMINISTRADOR ANTE ESCENARIOS CRÍTICOS 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65080" y="3333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Administrador JOSÉ ATAIDE MIRANDA BARRETTO – Vice-Presidente Zona Sul OLA</a:t>
            </a:r>
            <a:endParaRPr b="0" lang="en-US" sz="1200" spc="-1" strike="noStrike">
              <a:solidFill>
                <a:srgbClr val="ff9999"/>
              </a:solidFill>
              <a:latin typeface="Arial"/>
            </a:endParaRPr>
          </a:p>
        </p:txBody>
      </p:sp>
      <p:pic>
        <p:nvPicPr>
          <p:cNvPr id="144" name="" descr="Mercosul"/>
          <p:cNvPicPr/>
          <p:nvPr/>
        </p:nvPicPr>
        <p:blipFill>
          <a:blip r:embed="rId11"/>
          <a:stretch/>
        </p:blipFill>
        <p:spPr>
          <a:xfrm>
            <a:off x="7147080" y="3940200"/>
            <a:ext cx="2033280" cy="2944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720200" y="1413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Brasil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52000" y="18446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96360" y="23493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Uru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97000" y="2781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ara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9800" y="32130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Venezuel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76160"/>
            <a:ext cx="750564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5e8dd"/>
                </a:solidFill>
                <a:latin typeface="Tahoma"/>
              </a:rPr>
              <a:t>Sucesso empresarial:</a:t>
            </a:r>
            <a:endParaRPr b="0" lang="en-US" sz="3500" spc="-1" strike="noStrike">
              <a:solidFill>
                <a:srgbClr val="ff99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5e8dd"/>
                </a:solidFill>
                <a:latin typeface="Tahoma"/>
              </a:rPr>
              <a:t>fatores condicionantes</a:t>
            </a:r>
            <a:endParaRPr b="0" lang="en-US" sz="35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2232000"/>
            <a:ext cx="49528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cc0000"/>
                </a:solidFill>
                <a:latin typeface="Arial"/>
              </a:rPr>
              <a:t>Logística Operacional</a:t>
            </a:r>
            <a:endParaRPr b="0" lang="en-US" sz="25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16120" y="285264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99"/>
                </a:solidFill>
                <a:latin typeface="Arial"/>
              </a:rPr>
              <a:t>Escolha de um bom Administrador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852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31%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3357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99"/>
                </a:solidFill>
                <a:latin typeface="Arial"/>
              </a:rPr>
              <a:t>Uso de capital próprio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429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29 %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92360" y="3933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99"/>
                </a:solidFill>
                <a:latin typeface="Arial"/>
              </a:rPr>
              <a:t>Reinvestimento dos lucros na empres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5320" y="4005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45561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99"/>
                </a:solidFill>
                <a:latin typeface="Arial"/>
              </a:rPr>
              <a:t>Acesso a novas tecnologias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17 %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e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4360" y="0"/>
            <a:ext cx="2016000" cy="138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0" y="6246720"/>
            <a:ext cx="649440" cy="600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54560" y="623736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X Congreso Internacional de Administración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XVI Congreso de Administración del MERCOSUR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1160" y="4428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OL DEL ADMINISTRADOR ANTE ESCENARIOS CRÍTICOS 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5080" y="3333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Administrador JOSÉ ATAIDE MIRANDA BARRETTO – Vice-Presidente Zona Sul OLA</a:t>
            </a:r>
            <a:endParaRPr b="0" lang="en-US" sz="1200" spc="-1" strike="noStrike">
              <a:solidFill>
                <a:srgbClr val="ff9999"/>
              </a:solidFill>
              <a:latin typeface="Arial"/>
            </a:endParaRPr>
          </a:p>
        </p:txBody>
      </p:sp>
      <p:pic>
        <p:nvPicPr>
          <p:cNvPr id="168" name="" descr="Mercosul"/>
          <p:cNvPicPr/>
          <p:nvPr/>
        </p:nvPicPr>
        <p:blipFill>
          <a:blip r:embed="rId11"/>
          <a:stretch/>
        </p:blipFill>
        <p:spPr>
          <a:xfrm>
            <a:off x="7147080" y="3940200"/>
            <a:ext cx="2033280" cy="2944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720200" y="1413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Brasil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52000" y="18446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96360" y="23493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Uru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97000" y="2781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ara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09800" y="32130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Venezuel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pic>
        <p:nvPicPr>
          <p:cNvPr id="174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62320" y="2627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362320" y="2627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362320" y="2627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362320" y="2627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362320" y="2627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2362320" y="2627280"/>
            <a:ext cx="161928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55480" y="1393920"/>
            <a:ext cx="5639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Bom conhecimento do mercado onde atua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0400" y="9414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Fatores de sucesso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50080" y="915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Ativas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40520" y="137304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55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92600" y="9158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Extintas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5480" y="1762200"/>
            <a:ext cx="5639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Boa estratégia de vendas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2880" y="2130480"/>
            <a:ext cx="5638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Criatividade do empresário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0280" y="2536920"/>
            <a:ext cx="5638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TER UM BOM ADMINISTRADOR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0280" y="2930400"/>
            <a:ext cx="5816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Aproveitamento das oport.de negócios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2880" y="3375000"/>
            <a:ext cx="5816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Uso de capital próprio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5480" y="3781440"/>
            <a:ext cx="5816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Empresário com persistência/perseverança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2880" y="4162320"/>
            <a:ext cx="5816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Capacidade de liderança do empresário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2880" y="4581360"/>
            <a:ext cx="5816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Reinvestimento dos lucros na própria empresa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5480" y="4927680"/>
            <a:ext cx="5816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Ter acesso a novas tecnologias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5480" y="5318280"/>
            <a:ext cx="5816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Capacidade do empresário para assumir riscos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40520" y="171612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46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40520" y="210996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45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40520" y="250344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65720" y="291636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43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8680" y="335448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78680" y="376092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36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8680" y="419256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28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65720" y="456084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33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65720" y="491652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23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53120" y="527832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22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48280" y="137304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49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48280" y="171612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48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48280" y="210996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31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48280" y="250344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31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3480" y="2916360"/>
            <a:ext cx="825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86440" y="335448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86440" y="376092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28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86440" y="419256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3480" y="4560840"/>
            <a:ext cx="825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23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3480" y="4916520"/>
            <a:ext cx="825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17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60880" y="527832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e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360" y="308628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4360" y="0"/>
            <a:ext cx="2016000" cy="1386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0" y="6246720"/>
            <a:ext cx="649440" cy="600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54560" y="623736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X Congreso Internacional de Administración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XVI Congreso de Administración del MERCOSUR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1160" y="4428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OL DEL ADMINISTRADOR ANTE ESCENARIOS CRÍTICOS </a:t>
            </a:r>
            <a:endParaRPr b="0" lang="en-US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65080" y="3333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Administrador JOSÉ ATAIDE MIRANDA BARRETTO – Vice-Presidente Zona Sul OLA</a:t>
            </a:r>
            <a:endParaRPr b="0" lang="en-US" sz="1200" spc="-1" strike="noStrike">
              <a:solidFill>
                <a:srgbClr val="ff9999"/>
              </a:solidFill>
              <a:latin typeface="Arial"/>
            </a:endParaRPr>
          </a:p>
        </p:txBody>
      </p:sp>
      <p:pic>
        <p:nvPicPr>
          <p:cNvPr id="224" name="" descr="Mercosul"/>
          <p:cNvPicPr/>
          <p:nvPr/>
        </p:nvPicPr>
        <p:blipFill>
          <a:blip r:embed="rId11"/>
          <a:stretch/>
        </p:blipFill>
        <p:spPr>
          <a:xfrm>
            <a:off x="7147080" y="3940200"/>
            <a:ext cx="2033280" cy="2944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720200" y="1413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Brasil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52000" y="18446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23493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Uru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97000" y="2781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araguai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09800" y="32130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Venezuela</a:t>
            </a:r>
            <a:endParaRPr b="0" lang="en-US" sz="24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8200" y="1378080"/>
            <a:ext cx="62658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CAPITAL INTELECTUAL</a:t>
            </a:r>
            <a:endParaRPr b="0" lang="en-US" sz="32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a era da Informação em que vivemos o valor das organizações não pode ser medido somente pelos seus ativos tangíveis e físicos</a:t>
            </a:r>
            <a:endParaRPr b="0" lang="en-US" sz="2800" spc="-1" strike="noStrike">
              <a:solidFill>
                <a:srgbClr val="ff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conhecimento existente no seu capital humano/intelectual é um dos recursos organizacionais mais importantes da Organização.</a:t>
            </a:r>
            <a:endParaRPr b="0" lang="en-US" sz="28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1:28:43Z</dcterms:created>
  <dc:creator>Matthew Dawson</dc:creator>
  <dc:description/>
  <dc:language>en-US</dc:language>
  <cp:lastModifiedBy>C.P.C.E.C.A.B.A</cp:lastModifiedBy>
  <dcterms:modified xsi:type="dcterms:W3CDTF">2009-09-24T16:28:16Z</dcterms:modified>
  <cp:revision>17</cp:revision>
  <dc:subject/>
  <dc:title>Christmas Meeting</dc:title>
</cp:coreProperties>
</file>