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24.png" ContentType="image/png"/>
  <Override PartName="/ppt/media/image1.png" ContentType="image/png"/>
  <Override PartName="/ppt/media/image25.wmf" ContentType="image/x-wmf"/>
  <Override PartName="/ppt/media/image2.wmf" ContentType="image/x-wmf"/>
  <Override PartName="/ppt/media/image29.png" ContentType="image/png"/>
  <Override PartName="/ppt/media/image32.wmf" ContentType="image/x-wmf"/>
  <Override PartName="/ppt/media/image26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42.png" ContentType="image/png"/>
  <Override PartName="/ppt/media/image31.wmf" ContentType="image/x-wmf"/>
  <Override PartName="/ppt/media/image11.png" ContentType="image/png"/>
  <Override PartName="/ppt/media/image43.wmf" ContentType="image/x-wmf"/>
  <Override PartName="/ppt/media/image44.png" ContentType="image/png"/>
  <Override PartName="/ppt/media/image34.png" ContentType="image/png"/>
  <Override PartName="/ppt/media/image45.wmf" ContentType="image/x-wmf"/>
  <Override PartName="/ppt/media/image35.png" ContentType="image/png"/>
  <Override PartName="/ppt/media/image46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8.wmf" ContentType="image/x-wmf"/>
  <Override PartName="/ppt/media/image4.jpeg" ContentType="image/jpeg"/>
  <Override PartName="/ppt/media/image8.wmf" ContentType="image/x-wmf"/>
  <Override PartName="/ppt/media/image3.wmf" ContentType="image/x-wmf"/>
  <Override PartName="/ppt/media/image33.wmf" ContentType="image/x-wmf"/>
  <Override PartName="/ppt/media/image36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30.png" ContentType="image/png"/>
  <Override PartName="/ppt/media/image2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F27B-9F61-400E-AC99-60AE30D8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CC6E-77F7-4937-962F-99300B03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34A3-1349-4F93-AE5B-B2E95D20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F4E9-A7A3-4D67-AABC-8962E8B45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10FB-97C4-4807-B8E5-A2A7FAC2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CC48-8652-45AF-B094-1CE4229A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3E9D-BF69-4442-8A52-CBEB1D86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F31F-71ED-4DF6-BD25-3263146F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32CF-5886-40FD-B8BB-CE83A42C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BA16-E447-4384-8D47-C3D92920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D752-50E5-4789-B98F-1F4B0385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4D89-5211-43E3-88B9-D44CF430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270B-4AC3-4D44-B139-5DBB88415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Arial"/>
              </a:rPr>
              <a:t>Situación educativa en América La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4 millones de analfab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0 % de los jóvenes y adultos no ha completado la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ducación prim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9% de los jóvenes entre 15 y 25 años está fuera de la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cuela y el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ños de educación que logran completar los alumnos según el nivel de ingresos de sus famili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1 años los que provienen del 20 % de familias de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mayores ingr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   años los que provienen del 20 % de familias de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menores ingr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EI (Metas educativas 20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Porcentaje de jóvenes con elevadas capacidades de lectura</a:t>
            </a:r>
            <a:br>
              <a:rPr sz="20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ás de 626 puntos (nivel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tudio PISA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inlandi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17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pañ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re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22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rtug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ong-Kong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13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hil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nad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15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x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ustral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1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ruguay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Japón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9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rasi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eman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1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lomb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CDE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promedio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9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gent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Porcentaje de jóvenes con escasos conocimientos de matemática</a:t>
            </a:r>
            <a:br>
              <a:rPr sz="20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nos de 420 puntos (nivel 1 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 1)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tudio PISA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inlandi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6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pañ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re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9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rtug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ong-Kong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10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ruguay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nad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1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hil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Japón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13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x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ustral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13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gent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eman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20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lomb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7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E.UU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28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rasi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73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CDE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promedio)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6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Porcentaje de jóvenes con elevados conocimientos de matemática</a:t>
            </a:r>
            <a:br>
              <a:rPr sz="20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nos de 688 puntos (nivel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tudio PISA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inlandi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6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pañ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re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9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rtug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ong-Kong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9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ruguay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nad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4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hil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Japón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5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x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ustral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4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gent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eman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5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lomb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E.UU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1.3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rasi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CDE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promedio)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Porcentaje de jóvenes con elevados conocimientos de ciencia</a:t>
            </a:r>
            <a:br>
              <a:rPr sz="20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ás de 708 puntos (nivel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tudio PISA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inlandi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3.9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pañ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ong-Kong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2.1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rtug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nad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2.4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hil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re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1.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ruguay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Japón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2.8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x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ustral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2.8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gent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eman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1.8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lomb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E.UU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1.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rasi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CDE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promedio)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Porcentaje de jóvenes con escasos conocimientos de ciencia</a:t>
            </a:r>
            <a:br>
              <a:rPr sz="20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nos de 409 puntos (nivel 1 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 1)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tudio PISA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inlandi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4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pañ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ong-Kong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9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rtug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nad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10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hil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re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1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ruguay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Japón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12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x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ustral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13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gent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eman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1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lomb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E.UU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2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rasi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CDE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promedio)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6705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Contribución estatal a universidades</a:t>
            </a:r>
            <a:br>
              <a:rPr sz="36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en millones de dólares a julio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iversidad Nacional Autónoma (México):     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1.85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iversidad de San Pablo (Brasil)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1.4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iversidad de Buenos Aires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4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1 Universidades nacionales argentinas:       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2.0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The image “file:///C:/Documents%20and%20Settings/Guille/My%20Documents/My%20Pictures/Calific%2069-09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1243080" y="1166760"/>
            <a:ext cx="66578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SARMIENTO (1884)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uestros palacios son demasiado suntuosos al lado de barrios demasiado humil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l abismo que media entre el palacio y el rancho lo llenan las revoluciones con escombros y con sang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ero os indicaré otro sistema de nivelarlos: la escu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* Banquete en Chile, 5 de abril de 1884. En “Obras Completas”, vol. XXII, p.185-18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SARMIENTO (1849)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¿No queréis educar a los niños por carid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¡Pero hacedlo por miedo, por precaución, por egoísm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ovéos, el tiempo urge; mañana será tar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*Revolución francesa de 1848 (Crónica, 28 de febrero de 1949). En “Obras Completas”, Vol. IX, p. 28-2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n la Argentin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olo el 50 % de los alumnos que ingresan a la educación media la comple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ás de un millón de chicos fracasa cada año en las escuelas primarias y secund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 los hogares más pobres repiten casi 5 veces más chicos que en los más r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bandona el polimodal el 39 % de los ingres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70102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43120" y="973080"/>
            <a:ext cx="745776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28880" y="685800"/>
            <a:ext cx="7048440" cy="5257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400800" y="5638680"/>
            <a:ext cx="148608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ituación educativa de los jóvenes entre 15 y 19 años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97080" y="1600200"/>
            <a:ext cx="6549840" cy="4525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705720" y="5715000"/>
            <a:ext cx="17143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32040" y="2009880"/>
            <a:ext cx="7278480" cy="28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rcentaje de jóvenes que no tienen capacidades de lectura</a:t>
            </a:r>
            <a:br>
              <a:rPr sz="20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nos de 407 puntos (nivel 1 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 1)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tudio PISA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4678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27040" y="2374920"/>
            <a:ext cx="80884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87400" y="1952640"/>
            <a:ext cx="736920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09720" y="1874880"/>
            <a:ext cx="732312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000000"/>
                </a:solidFill>
                <a:uFillTx/>
                <a:latin typeface="Arial"/>
              </a:rPr>
              <a:t>Provincia de Buenos A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n la enseñanza media, entre 2000 y 200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 duplicó el número de repite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l 4 % al 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umentó un 130 % la deser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l 7 % al 16 % (casi 90.000 alumn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854360" y="1244520"/>
            <a:ext cx="543384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89000" y="917640"/>
            <a:ext cx="8764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Las mejores 200 universidades del mundo</a:t>
            </a:r>
            <a:br>
              <a:rPr sz="2000"/>
            </a:br>
            <a:br>
              <a:rPr sz="20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Times Higher Education – World University Rankings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50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acional Autónoma de Méxi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86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rcelona, Espa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96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ao Paulo, Bras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97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uenos Aires,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7 de las primeras 100 son estadounide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Ranking académico de universidades del mundo 2008</a:t>
            </a:r>
            <a:br>
              <a:rPr sz="2000"/>
            </a:br>
            <a:br>
              <a:rPr sz="20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stitute of Higher Education, Shanghai Jiao Tong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01-151       Sao Paulo, Bra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52-200       Barcelona, Espa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52-200       Buenos Aires,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52-200       Nacional Autónoma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57360" y="771480"/>
            <a:ext cx="783108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39720" y="1722600"/>
            <a:ext cx="606456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62040" y="388800"/>
            <a:ext cx="601812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17760" y="727200"/>
            <a:ext cx="6108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62040" y="682560"/>
            <a:ext cx="6018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1680" y="85680"/>
            <a:ext cx="6199200" cy="66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Porcentaje de la población entre 25 y 64 años que NO HA COMPLETADO la educación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905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medio países OC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E.UU.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nadá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emani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eci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8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pañ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rtuga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mérica Lat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hil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ú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rgentin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rasi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xico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(OCDE,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23880" y="685800"/>
            <a:ext cx="6400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82760" y="355680"/>
            <a:ext cx="817848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36680" y="530280"/>
            <a:ext cx="82692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86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74600"/>
            <a:ext cx="84582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7631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64680" y="428760"/>
            <a:ext cx="519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Microsoft Sans Serif"/>
              </a:rPr>
              <a:t>Publicaciones en Science Citation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Microsoft Sans Serif"/>
              </a:rPr>
              <a:t>Países América Latina y el Cari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33520" y="1219320"/>
          <a:ext cx="8076960" cy="53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807696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00080" y="1852560"/>
            <a:ext cx="714384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Porcentaje de la población entre 25 y 64 años con educación terciaria completa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75248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medio países OC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nadá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E.UU.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eci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emani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pañ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rtugal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mérica Lat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ú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xico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hil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rgentin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rasi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(OCDE,2003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837720"/>
            <a:ext cx="8534160" cy="6324840"/>
            <a:chOff x="0" y="837720"/>
            <a:chExt cx="8534160" cy="6324840"/>
          </a:xfrm>
        </p:grpSpPr>
        <p:grpSp>
          <p:nvGrpSpPr>
            <p:cNvPr id="113" name=""/>
            <p:cNvGrpSpPr/>
            <p:nvPr/>
          </p:nvGrpSpPr>
          <p:grpSpPr>
            <a:xfrm>
              <a:off x="0" y="837720"/>
              <a:ext cx="8534160" cy="5548680"/>
              <a:chOff x="0" y="837720"/>
              <a:chExt cx="8534160" cy="5548680"/>
            </a:xfrm>
          </p:grpSpPr>
          <p:sp>
            <p:nvSpPr>
              <p:cNvPr id="114" name=""/>
              <p:cNvSpPr/>
              <p:nvPr/>
            </p:nvSpPr>
            <p:spPr>
              <a:xfrm>
                <a:off x="4461120" y="5420520"/>
                <a:ext cx="140616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Patentes/PB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X 10(-9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942880" y="5420520"/>
                <a:ext cx="1675440" cy="623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Investigadores/ 1000 PE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0" y="837720"/>
                <a:ext cx="8534160" cy="5548680"/>
                <a:chOff x="0" y="837720"/>
                <a:chExt cx="8534160" cy="55486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915480" y="1191960"/>
                  <a:ext cx="6694200" cy="75636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915480" y="2443320"/>
                  <a:ext cx="6694200" cy="75528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931680" y="3837600"/>
                  <a:ext cx="6694200" cy="75312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V="1">
                  <a:off x="931680" y="908280"/>
                  <a:ext cx="0" cy="386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931680" y="4778640"/>
                  <a:ext cx="6738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V="1">
                  <a:off x="2498040" y="860040"/>
                  <a:ext cx="0" cy="391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V="1">
                  <a:off x="4285080" y="860040"/>
                  <a:ext cx="0" cy="391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V="1">
                  <a:off x="5932080" y="837720"/>
                  <a:ext cx="0" cy="391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240200" y="5442120"/>
                  <a:ext cx="1073880" cy="944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</a:rPr>
                    <a:t>$I&amp;D/PBI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</a:rPr>
                    <a:t>(%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529000" y="5442120"/>
                  <a:ext cx="1706760" cy="612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Arial"/>
                    </a:rPr>
                    <a:t>$I&amp;D(priv)/tota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457640" y="4778640"/>
                  <a:ext cx="0" cy="14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002680" y="4800960"/>
                  <a:ext cx="0" cy="14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809080" y="4800960"/>
                  <a:ext cx="0" cy="14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149640" y="4800960"/>
                  <a:ext cx="0" cy="14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462480" y="4800960"/>
                  <a:ext cx="0" cy="14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772080" y="4800960"/>
                  <a:ext cx="0" cy="14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564800" y="4778640"/>
                  <a:ext cx="0" cy="14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200560" y="4778640"/>
                  <a:ext cx="0" cy="14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889520" y="4778640"/>
                  <a:ext cx="0" cy="14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496840" y="4778640"/>
                  <a:ext cx="0" cy="14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253520" y="4944960"/>
                  <a:ext cx="328680" cy="614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860480" y="4967640"/>
                  <a:ext cx="383760" cy="496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560320" y="4967640"/>
                  <a:ext cx="533160" cy="45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</a:rPr>
                    <a:t>0,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306960" y="4967640"/>
                  <a:ext cx="528480" cy="401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</a:rPr>
                    <a:t>0,6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425480" y="4944960"/>
                  <a:ext cx="330480" cy="344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61240" y="4944960"/>
                  <a:ext cx="383760" cy="494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064880" y="4337640"/>
                  <a:ext cx="124560" cy="18756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731680" y="4337640"/>
                  <a:ext cx="124560" cy="18756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300920" y="4337640"/>
                  <a:ext cx="124200" cy="18756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976720" y="4377240"/>
                  <a:ext cx="124200" cy="19080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124720" y="1428120"/>
                  <a:ext cx="158040" cy="235800"/>
                </a:xfrm>
                <a:prstGeom prst="diamond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493800" y="1405800"/>
                  <a:ext cx="155160" cy="233640"/>
                </a:xfrm>
                <a:prstGeom prst="diamond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496840" y="1405800"/>
                  <a:ext cx="155160" cy="233640"/>
                </a:xfrm>
                <a:prstGeom prst="diamond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94160" y="1428120"/>
                  <a:ext cx="158040" cy="235800"/>
                </a:xfrm>
                <a:prstGeom prst="diamond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064880" y="4124160"/>
                  <a:ext cx="139680" cy="21348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882880" y="4124160"/>
                  <a:ext cx="139320" cy="21348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360680" y="4118400"/>
                  <a:ext cx="140400" cy="21348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178680" y="4165920"/>
                  <a:ext cx="140400" cy="21312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251720" y="3769920"/>
                  <a:ext cx="124560" cy="283320"/>
                </a:xfrm>
                <a:prstGeom prst="rtTriangle">
                  <a:avLst/>
                </a:prstGeom>
                <a:solidFill>
                  <a:srgbClr val="33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835720" y="3769920"/>
                  <a:ext cx="124560" cy="283320"/>
                </a:xfrm>
                <a:prstGeom prst="rtTriangle">
                  <a:avLst/>
                </a:prstGeom>
                <a:solidFill>
                  <a:srgbClr val="33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096600" y="3769920"/>
                  <a:ext cx="124560" cy="283320"/>
                </a:xfrm>
                <a:prstGeom prst="rtTriangle">
                  <a:avLst/>
                </a:prstGeom>
                <a:solidFill>
                  <a:srgbClr val="33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644480" y="2586240"/>
                  <a:ext cx="124560" cy="329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258000" y="2608560"/>
                  <a:ext cx="127080" cy="329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502880" y="2608560"/>
                  <a:ext cx="122400" cy="329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847920" y="2630880"/>
                  <a:ext cx="124560" cy="329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344960" y="3489120"/>
                  <a:ext cx="139680" cy="2325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951640" y="3410280"/>
                  <a:ext cx="137520" cy="23580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523560" y="3387600"/>
                  <a:ext cx="137520" cy="23580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13480" y="4444560"/>
                  <a:ext cx="640080" cy="270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</a:rPr>
                    <a:t>MEX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13480" y="4188240"/>
                  <a:ext cx="640080" cy="252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</a:rPr>
                    <a:t>AR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20320" y="3806280"/>
                  <a:ext cx="632880" cy="404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</a:rPr>
                    <a:t>BR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44440" y="3491280"/>
                  <a:ext cx="608760" cy="267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</a:rPr>
                    <a:t>ES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13480" y="2591640"/>
                  <a:ext cx="715320" cy="404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</a:rPr>
                    <a:t>C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16000" y="1409040"/>
                  <a:ext cx="605880" cy="401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</a:rPr>
                    <a:t>EEUU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670160" y="3859920"/>
                  <a:ext cx="817560" cy="879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cc0000"/>
                      </a:solidFill>
                      <a:latin typeface="Arial"/>
                    </a:rPr>
                    <a:t>VALO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cc0000"/>
                      </a:solidFill>
                      <a:latin typeface="Arial"/>
                    </a:rPr>
                    <a:t>CULT</a:t>
                  </a: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</a:rPr>
                    <a:t>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529760" y="1167480"/>
                  <a:ext cx="1004400" cy="75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cc0000"/>
                      </a:solidFill>
                      <a:latin typeface="Arial"/>
                    </a:rPr>
                    <a:t>VALO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cc0000"/>
                      </a:solidFill>
                      <a:latin typeface="Arial"/>
                    </a:rPr>
                    <a:t>ESTRAT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302880" y="4778640"/>
                  <a:ext cx="0" cy="14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941160" y="4778640"/>
                  <a:ext cx="0" cy="14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630120" y="4778640"/>
                  <a:ext cx="0" cy="14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236360" y="4778640"/>
                  <a:ext cx="0" cy="14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163560" y="4944960"/>
                  <a:ext cx="383760" cy="494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792120" y="4944960"/>
                  <a:ext cx="319680" cy="344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V="1">
                  <a:off x="8079120" y="1967760"/>
                  <a:ext cx="0" cy="177048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978440" y="3769920"/>
                  <a:ext cx="124200" cy="283320"/>
                </a:xfrm>
                <a:prstGeom prst="rtTriangle">
                  <a:avLst/>
                </a:prstGeom>
                <a:solidFill>
                  <a:srgbClr val="33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438200" y="3202200"/>
                  <a:ext cx="186480" cy="142920"/>
                </a:xfrm>
                <a:prstGeom prst="flowChartDecision">
                  <a:avLst/>
                </a:prstGeom>
                <a:solidFill>
                  <a:srgbClr val="ff99cc"/>
                </a:solidFill>
                <a:ln w="936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20040" y="3061800"/>
                  <a:ext cx="527040" cy="331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</a:rPr>
                    <a:t>NZ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835720" y="3202200"/>
                  <a:ext cx="186480" cy="142920"/>
                </a:xfrm>
                <a:prstGeom prst="flowChartDecision">
                  <a:avLst/>
                </a:prstGeom>
                <a:solidFill>
                  <a:srgbClr val="ff99cc"/>
                </a:solidFill>
                <a:ln w="936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840720" y="3202200"/>
                  <a:ext cx="186480" cy="142920"/>
                </a:xfrm>
                <a:prstGeom prst="flowChartDecision">
                  <a:avLst/>
                </a:prstGeom>
                <a:solidFill>
                  <a:srgbClr val="ff99cc"/>
                </a:solidFill>
                <a:ln w="936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209040" y="2496240"/>
                  <a:ext cx="93240" cy="144000"/>
                </a:xfrm>
                <a:prstGeom prst="flowChartOr">
                  <a:avLst/>
                </a:prstGeom>
                <a:solidFill>
                  <a:srgbClr val="ff6600"/>
                </a:solidFill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811520" y="2496240"/>
                  <a:ext cx="93240" cy="144000"/>
                </a:xfrm>
                <a:prstGeom prst="flowChartOr">
                  <a:avLst/>
                </a:prstGeom>
                <a:solidFill>
                  <a:srgbClr val="ff6600"/>
                </a:solidFill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13480" y="2286000"/>
                  <a:ext cx="633600" cy="398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</a:rPr>
                    <a:t>AU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027560" y="2496240"/>
                  <a:ext cx="93240" cy="144000"/>
                </a:xfrm>
                <a:prstGeom prst="flowChartOr">
                  <a:avLst/>
                </a:prstGeom>
                <a:solidFill>
                  <a:srgbClr val="ff6600"/>
                </a:solidFill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271840" y="1630440"/>
                  <a:ext cx="186480" cy="284040"/>
                </a:xfrm>
                <a:prstGeom prst="flowChartMerge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089080" y="1647360"/>
                  <a:ext cx="186480" cy="284040"/>
                </a:xfrm>
                <a:prstGeom prst="flowChartMerge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13560" y="1751760"/>
                  <a:ext cx="511200" cy="423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</a:rPr>
                    <a:t>F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6934320" y="1647360"/>
                  <a:ext cx="186480" cy="284040"/>
                </a:xfrm>
                <a:prstGeom prst="flowChartMerge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182320" y="1223280"/>
                  <a:ext cx="186480" cy="281160"/>
                </a:xfrm>
                <a:prstGeom prst="sun">
                  <a:avLst>
                    <a:gd name="adj" fmla="val 25000"/>
                  </a:avLst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582720" y="1223280"/>
                  <a:ext cx="184680" cy="281160"/>
                </a:xfrm>
                <a:prstGeom prst="sun">
                  <a:avLst>
                    <a:gd name="adj" fmla="val 25000"/>
                  </a:avLst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656760" y="1223280"/>
                  <a:ext cx="183960" cy="281160"/>
                </a:xfrm>
                <a:prstGeom prst="sun">
                  <a:avLst>
                    <a:gd name="adj" fmla="val 25000"/>
                  </a:avLst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V="1">
                  <a:off x="971640" y="1223280"/>
                  <a:ext cx="1397160" cy="3538080"/>
                </a:xfrm>
                <a:prstGeom prst="line">
                  <a:avLst/>
                </a:prstGeom>
                <a:ln w="9360">
                  <a:solidFill>
                    <a:srgbClr val="3399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V="1">
                  <a:off x="2462400" y="1223280"/>
                  <a:ext cx="1398240" cy="3538080"/>
                </a:xfrm>
                <a:prstGeom prst="line">
                  <a:avLst/>
                </a:prstGeom>
                <a:ln w="9360">
                  <a:solidFill>
                    <a:srgbClr val="3399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V="1">
                  <a:off x="4327560" y="1223280"/>
                  <a:ext cx="1395360" cy="3538080"/>
                </a:xfrm>
                <a:prstGeom prst="line">
                  <a:avLst/>
                </a:prstGeom>
                <a:ln w="9360">
                  <a:solidFill>
                    <a:srgbClr val="3399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V="1">
                  <a:off x="5910120" y="1223280"/>
                  <a:ext cx="1397160" cy="3538080"/>
                </a:xfrm>
                <a:prstGeom prst="line">
                  <a:avLst/>
                </a:prstGeom>
                <a:ln w="9360">
                  <a:solidFill>
                    <a:srgbClr val="3399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V="1">
                  <a:off x="2462400" y="1223280"/>
                  <a:ext cx="1398240" cy="3538080"/>
                </a:xfrm>
                <a:prstGeom prst="line">
                  <a:avLst/>
                </a:prstGeom>
                <a:ln w="9360">
                  <a:solidFill>
                    <a:srgbClr val="3399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462480" y="1647360"/>
                  <a:ext cx="186480" cy="284040"/>
                </a:xfrm>
                <a:prstGeom prst="flowChartMerge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0" y="1107720"/>
                  <a:ext cx="853560" cy="404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</a:rPr>
                    <a:t>CORE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740840" y="1197720"/>
                  <a:ext cx="186480" cy="280800"/>
                </a:xfrm>
                <a:prstGeom prst="sun">
                  <a:avLst>
                    <a:gd name="adj" fmla="val 25000"/>
                  </a:avLst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4" name=""/>
            <p:cNvSpPr/>
            <p:nvPr/>
          </p:nvSpPr>
          <p:spPr>
            <a:xfrm>
              <a:off x="3666960" y="6555240"/>
              <a:ext cx="1721160" cy="60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838080" y="1522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IENCIA: Valor Estratégico o Valor Cul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Ranking 2007 de producción científica de las universidades mundiales</a:t>
            </a:r>
            <a:br>
              <a:rPr sz="1800"/>
            </a:br>
            <a:br>
              <a:rPr sz="18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igher Education Evaluation and Accreditation Council of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o Pa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cel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cional Autónoma de Me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utense de Mad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ónoma de Mad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37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al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53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utónoma de Barcel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3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ederal do Rio de Jan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3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mpinas, Sao Pa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37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uenos 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64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9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9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antiago de Compost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 flipV="1">
            <a:off x="4414680" y="1802880"/>
            <a:ext cx="1800" cy="212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94160" y="3625920"/>
            <a:ext cx="39600" cy="1440"/>
          </a:xfrm>
          <a:custGeom>
            <a:avLst/>
            <a:gdLst/>
            <a:ahLst/>
            <a:rect l="l" t="t" r="r" b="b"/>
            <a:pathLst>
              <a:path w="32" h="0">
                <a:moveTo>
                  <a:pt x="0" y="0"/>
                </a:moveTo>
                <a:lnTo>
                  <a:pt x="32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94160" y="3322800"/>
            <a:ext cx="39600" cy="1440"/>
          </a:xfrm>
          <a:custGeom>
            <a:avLst/>
            <a:gdLst/>
            <a:ahLst/>
            <a:rect l="l" t="t" r="r" b="b"/>
            <a:pathLst>
              <a:path w="32" h="0">
                <a:moveTo>
                  <a:pt x="0" y="0"/>
                </a:moveTo>
                <a:lnTo>
                  <a:pt x="32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394160" y="3017880"/>
            <a:ext cx="39600" cy="1440"/>
          </a:xfrm>
          <a:custGeom>
            <a:avLst/>
            <a:gdLst/>
            <a:ahLst/>
            <a:rect l="l" t="t" r="r" b="b"/>
            <a:pathLst>
              <a:path w="32" h="0">
                <a:moveTo>
                  <a:pt x="0" y="0"/>
                </a:moveTo>
                <a:lnTo>
                  <a:pt x="32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394160" y="2714760"/>
            <a:ext cx="39600" cy="1440"/>
          </a:xfrm>
          <a:custGeom>
            <a:avLst/>
            <a:gdLst/>
            <a:ahLst/>
            <a:rect l="l" t="t" r="r" b="b"/>
            <a:pathLst>
              <a:path w="32" h="0">
                <a:moveTo>
                  <a:pt x="0" y="0"/>
                </a:moveTo>
                <a:lnTo>
                  <a:pt x="32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394160" y="2411280"/>
            <a:ext cx="39600" cy="1800"/>
          </a:xfrm>
          <a:custGeom>
            <a:avLst/>
            <a:gdLst/>
            <a:ahLst/>
            <a:rect l="l" t="t" r="r" b="b"/>
            <a:pathLst>
              <a:path w="32" h="0">
                <a:moveTo>
                  <a:pt x="0" y="0"/>
                </a:moveTo>
                <a:lnTo>
                  <a:pt x="32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94160" y="2106720"/>
            <a:ext cx="39600" cy="1440"/>
          </a:xfrm>
          <a:custGeom>
            <a:avLst/>
            <a:gdLst/>
            <a:ahLst/>
            <a:rect l="l" t="t" r="r" b="b"/>
            <a:pathLst>
              <a:path w="32" h="0">
                <a:moveTo>
                  <a:pt x="0" y="0"/>
                </a:moveTo>
                <a:lnTo>
                  <a:pt x="32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94160" y="1803240"/>
            <a:ext cx="39600" cy="1800"/>
          </a:xfrm>
          <a:custGeom>
            <a:avLst/>
            <a:gdLst/>
            <a:ahLst/>
            <a:rect l="l" t="t" r="r" b="b"/>
            <a:pathLst>
              <a:path w="32" h="0">
                <a:moveTo>
                  <a:pt x="0" y="0"/>
                </a:moveTo>
                <a:lnTo>
                  <a:pt x="32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414680" y="2590560"/>
            <a:ext cx="1651320" cy="1338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37160" y="3722760"/>
            <a:ext cx="25200" cy="30240"/>
          </a:xfrm>
          <a:custGeom>
            <a:avLst/>
            <a:gdLst/>
            <a:ahLst/>
            <a:rect l="l" t="t" r="r" b="b"/>
            <a:pathLst>
              <a:path w="20" h="24">
                <a:moveTo>
                  <a:pt x="0" y="0"/>
                </a:moveTo>
                <a:lnTo>
                  <a:pt x="20" y="24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71880" y="3532320"/>
            <a:ext cx="25560" cy="29880"/>
          </a:xfrm>
          <a:custGeom>
            <a:avLst/>
            <a:gdLst/>
            <a:ahLst/>
            <a:rect l="l" t="t" r="r" b="b"/>
            <a:pathLst>
              <a:path w="20" h="24">
                <a:moveTo>
                  <a:pt x="0" y="0"/>
                </a:moveTo>
                <a:lnTo>
                  <a:pt x="20" y="24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08400" y="3340080"/>
            <a:ext cx="25560" cy="30240"/>
          </a:xfrm>
          <a:custGeom>
            <a:avLst/>
            <a:gdLst/>
            <a:ahLst/>
            <a:rect l="l" t="t" r="r" b="b"/>
            <a:pathLst>
              <a:path w="20" h="24">
                <a:moveTo>
                  <a:pt x="0" y="0"/>
                </a:moveTo>
                <a:lnTo>
                  <a:pt x="20" y="24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45280" y="3147840"/>
            <a:ext cx="25200" cy="32040"/>
          </a:xfrm>
          <a:custGeom>
            <a:avLst/>
            <a:gdLst/>
            <a:ahLst/>
            <a:rect l="l" t="t" r="r" b="b"/>
            <a:pathLst>
              <a:path w="20" h="24">
                <a:moveTo>
                  <a:pt x="0" y="0"/>
                </a:moveTo>
                <a:lnTo>
                  <a:pt x="20" y="24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81800" y="2959200"/>
            <a:ext cx="25200" cy="30240"/>
          </a:xfrm>
          <a:custGeom>
            <a:avLst/>
            <a:gdLst/>
            <a:ahLst/>
            <a:rect l="l" t="t" r="r" b="b"/>
            <a:pathLst>
              <a:path w="20" h="24">
                <a:moveTo>
                  <a:pt x="0" y="0"/>
                </a:moveTo>
                <a:lnTo>
                  <a:pt x="20" y="24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816520" y="2766960"/>
            <a:ext cx="25560" cy="30240"/>
          </a:xfrm>
          <a:custGeom>
            <a:avLst/>
            <a:gdLst/>
            <a:ahLst/>
            <a:rect l="l" t="t" r="r" b="b"/>
            <a:pathLst>
              <a:path w="20" h="24">
                <a:moveTo>
                  <a:pt x="0" y="0"/>
                </a:moveTo>
                <a:lnTo>
                  <a:pt x="20" y="24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53040" y="2575080"/>
            <a:ext cx="25560" cy="31680"/>
          </a:xfrm>
          <a:custGeom>
            <a:avLst/>
            <a:gdLst/>
            <a:ahLst/>
            <a:rect l="l" t="t" r="r" b="b"/>
            <a:pathLst>
              <a:path w="20" h="24">
                <a:moveTo>
                  <a:pt x="0" y="0"/>
                </a:moveTo>
                <a:lnTo>
                  <a:pt x="20" y="24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14680" y="3929040"/>
            <a:ext cx="2070360" cy="477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703760" y="3975120"/>
            <a:ext cx="11160" cy="41400"/>
          </a:xfrm>
          <a:custGeom>
            <a:avLst/>
            <a:gdLst/>
            <a:ahLst/>
            <a:rect l="l" t="t" r="r" b="b"/>
            <a:pathLst>
              <a:path w="8" h="32">
                <a:moveTo>
                  <a:pt x="8" y="0"/>
                </a:moveTo>
                <a:lnTo>
                  <a:pt x="0" y="32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00760" y="4044960"/>
            <a:ext cx="9360" cy="39600"/>
          </a:xfrm>
          <a:custGeom>
            <a:avLst/>
            <a:gdLst/>
            <a:ahLst/>
            <a:rect l="l" t="t" r="r" b="b"/>
            <a:pathLst>
              <a:path w="8" h="32">
                <a:moveTo>
                  <a:pt x="8" y="0"/>
                </a:moveTo>
                <a:lnTo>
                  <a:pt x="0" y="32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95960" y="4113360"/>
            <a:ext cx="11160" cy="41040"/>
          </a:xfrm>
          <a:custGeom>
            <a:avLst/>
            <a:gdLst/>
            <a:ahLst/>
            <a:rect l="l" t="t" r="r" b="b"/>
            <a:pathLst>
              <a:path w="8" h="32">
                <a:moveTo>
                  <a:pt x="8" y="0"/>
                </a:moveTo>
                <a:lnTo>
                  <a:pt x="0" y="32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91160" y="4181400"/>
            <a:ext cx="9720" cy="39600"/>
          </a:xfrm>
          <a:custGeom>
            <a:avLst/>
            <a:gdLst/>
            <a:ahLst/>
            <a:rect l="l" t="t" r="r" b="b"/>
            <a:pathLst>
              <a:path w="8" h="32">
                <a:moveTo>
                  <a:pt x="8" y="0"/>
                </a:moveTo>
                <a:lnTo>
                  <a:pt x="0" y="32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888160" y="4249800"/>
            <a:ext cx="9360" cy="41040"/>
          </a:xfrm>
          <a:custGeom>
            <a:avLst/>
            <a:gdLst/>
            <a:ahLst/>
            <a:rect l="l" t="t" r="r" b="b"/>
            <a:pathLst>
              <a:path w="8" h="32">
                <a:moveTo>
                  <a:pt x="8" y="0"/>
                </a:moveTo>
                <a:lnTo>
                  <a:pt x="0" y="32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83360" y="4317840"/>
            <a:ext cx="11160" cy="39960"/>
          </a:xfrm>
          <a:custGeom>
            <a:avLst/>
            <a:gdLst/>
            <a:ahLst/>
            <a:rect l="l" t="t" r="r" b="b"/>
            <a:pathLst>
              <a:path w="8" h="32">
                <a:moveTo>
                  <a:pt x="8" y="0"/>
                </a:moveTo>
                <a:lnTo>
                  <a:pt x="0" y="32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80000" y="4386240"/>
            <a:ext cx="9720" cy="41400"/>
          </a:xfrm>
          <a:custGeom>
            <a:avLst/>
            <a:gdLst/>
            <a:ahLst/>
            <a:rect l="l" t="t" r="r" b="b"/>
            <a:pathLst>
              <a:path w="8" h="32">
                <a:moveTo>
                  <a:pt x="8" y="0"/>
                </a:moveTo>
                <a:lnTo>
                  <a:pt x="0" y="32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14680" y="3929040"/>
            <a:ext cx="932040" cy="19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29160" y="4191120"/>
            <a:ext cx="34920" cy="17280"/>
          </a:xfrm>
          <a:custGeom>
            <a:avLst/>
            <a:gdLst/>
            <a:ahLst/>
            <a:rect l="l" t="t" r="r" b="b"/>
            <a:pathLst>
              <a:path w="28" h="14">
                <a:moveTo>
                  <a:pt x="28" y="0"/>
                </a:moveTo>
                <a:lnTo>
                  <a:pt x="0" y="14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62360" y="4464000"/>
            <a:ext cx="34920" cy="17640"/>
          </a:xfrm>
          <a:custGeom>
            <a:avLst/>
            <a:gdLst/>
            <a:ahLst/>
            <a:rect l="l" t="t" r="r" b="b"/>
            <a:pathLst>
              <a:path w="28" h="14">
                <a:moveTo>
                  <a:pt x="28" y="0"/>
                </a:moveTo>
                <a:lnTo>
                  <a:pt x="0" y="14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795920" y="4737240"/>
            <a:ext cx="36360" cy="17280"/>
          </a:xfrm>
          <a:custGeom>
            <a:avLst/>
            <a:gdLst/>
            <a:ahLst/>
            <a:rect l="l" t="t" r="r" b="b"/>
            <a:pathLst>
              <a:path w="28" h="14">
                <a:moveTo>
                  <a:pt x="28" y="0"/>
                </a:moveTo>
                <a:lnTo>
                  <a:pt x="0" y="14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929120" y="5010120"/>
            <a:ext cx="34920" cy="19080"/>
          </a:xfrm>
          <a:custGeom>
            <a:avLst/>
            <a:gdLst/>
            <a:ahLst/>
            <a:rect l="l" t="t" r="r" b="b"/>
            <a:pathLst>
              <a:path w="28" h="14">
                <a:moveTo>
                  <a:pt x="28" y="0"/>
                </a:moveTo>
                <a:lnTo>
                  <a:pt x="0" y="14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60880" y="5283360"/>
            <a:ext cx="36720" cy="18720"/>
          </a:xfrm>
          <a:custGeom>
            <a:avLst/>
            <a:gdLst/>
            <a:ahLst/>
            <a:rect l="l" t="t" r="r" b="b"/>
            <a:pathLst>
              <a:path w="28" h="14">
                <a:moveTo>
                  <a:pt x="28" y="0"/>
                </a:moveTo>
                <a:lnTo>
                  <a:pt x="0" y="14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95880" y="5556240"/>
            <a:ext cx="34920" cy="19080"/>
          </a:xfrm>
          <a:custGeom>
            <a:avLst/>
            <a:gdLst/>
            <a:ahLst/>
            <a:rect l="l" t="t" r="r" b="b"/>
            <a:pathLst>
              <a:path w="28" h="14">
                <a:moveTo>
                  <a:pt x="28" y="0"/>
                </a:moveTo>
                <a:lnTo>
                  <a:pt x="0" y="14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27640" y="5829480"/>
            <a:ext cx="36360" cy="18720"/>
          </a:xfrm>
          <a:custGeom>
            <a:avLst/>
            <a:gdLst/>
            <a:ahLst/>
            <a:rect l="l" t="t" r="r" b="b"/>
            <a:pathLst>
              <a:path w="28" h="14">
                <a:moveTo>
                  <a:pt x="28" y="0"/>
                </a:moveTo>
                <a:lnTo>
                  <a:pt x="0" y="14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3483000" y="3929040"/>
            <a:ext cx="931680" cy="19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264200" y="4191120"/>
            <a:ext cx="34920" cy="17280"/>
          </a:xfrm>
          <a:custGeom>
            <a:avLst/>
            <a:gdLst/>
            <a:ahLst/>
            <a:rect l="l" t="t" r="r" b="b"/>
            <a:pathLst>
              <a:path w="28" h="14">
                <a:moveTo>
                  <a:pt x="28" y="14"/>
                </a:moveTo>
                <a:lnTo>
                  <a:pt x="0" y="0"/>
                </a:lnTo>
                <a:lnTo>
                  <a:pt x="28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130640" y="4464000"/>
            <a:ext cx="36720" cy="17640"/>
          </a:xfrm>
          <a:custGeom>
            <a:avLst/>
            <a:gdLst/>
            <a:ahLst/>
            <a:rect l="l" t="t" r="r" b="b"/>
            <a:pathLst>
              <a:path w="28" h="14">
                <a:moveTo>
                  <a:pt x="28" y="14"/>
                </a:moveTo>
                <a:lnTo>
                  <a:pt x="0" y="0"/>
                </a:lnTo>
                <a:lnTo>
                  <a:pt x="28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97440" y="4737240"/>
            <a:ext cx="34920" cy="17280"/>
          </a:xfrm>
          <a:custGeom>
            <a:avLst/>
            <a:gdLst/>
            <a:ahLst/>
            <a:rect l="l" t="t" r="r" b="b"/>
            <a:pathLst>
              <a:path w="28" h="14">
                <a:moveTo>
                  <a:pt x="28" y="14"/>
                </a:moveTo>
                <a:lnTo>
                  <a:pt x="0" y="0"/>
                </a:lnTo>
                <a:lnTo>
                  <a:pt x="28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63880" y="5010120"/>
            <a:ext cx="36720" cy="19080"/>
          </a:xfrm>
          <a:custGeom>
            <a:avLst/>
            <a:gdLst/>
            <a:ahLst/>
            <a:rect l="l" t="t" r="r" b="b"/>
            <a:pathLst>
              <a:path w="28" h="14">
                <a:moveTo>
                  <a:pt x="28" y="14"/>
                </a:moveTo>
                <a:lnTo>
                  <a:pt x="0" y="0"/>
                </a:lnTo>
                <a:lnTo>
                  <a:pt x="28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730680" y="5283360"/>
            <a:ext cx="36360" cy="18720"/>
          </a:xfrm>
          <a:custGeom>
            <a:avLst/>
            <a:gdLst/>
            <a:ahLst/>
            <a:rect l="l" t="t" r="r" b="b"/>
            <a:pathLst>
              <a:path w="28" h="14">
                <a:moveTo>
                  <a:pt x="28" y="14"/>
                </a:moveTo>
                <a:lnTo>
                  <a:pt x="0" y="0"/>
                </a:lnTo>
                <a:lnTo>
                  <a:pt x="28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97120" y="5556240"/>
            <a:ext cx="36720" cy="19080"/>
          </a:xfrm>
          <a:custGeom>
            <a:avLst/>
            <a:gdLst/>
            <a:ahLst/>
            <a:rect l="l" t="t" r="r" b="b"/>
            <a:pathLst>
              <a:path w="28" h="14">
                <a:moveTo>
                  <a:pt x="28" y="14"/>
                </a:moveTo>
                <a:lnTo>
                  <a:pt x="0" y="0"/>
                </a:lnTo>
                <a:lnTo>
                  <a:pt x="28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63920" y="5829480"/>
            <a:ext cx="36360" cy="18720"/>
          </a:xfrm>
          <a:custGeom>
            <a:avLst/>
            <a:gdLst/>
            <a:ahLst/>
            <a:rect l="l" t="t" r="r" b="b"/>
            <a:pathLst>
              <a:path w="28" h="14">
                <a:moveTo>
                  <a:pt x="28" y="14"/>
                </a:moveTo>
                <a:lnTo>
                  <a:pt x="0" y="0"/>
                </a:lnTo>
                <a:lnTo>
                  <a:pt x="28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343240" y="3929040"/>
            <a:ext cx="2071440" cy="477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114800" y="3975120"/>
            <a:ext cx="9360" cy="41400"/>
          </a:xfrm>
          <a:custGeom>
            <a:avLst/>
            <a:gdLst/>
            <a:ahLst/>
            <a:rect l="l" t="t" r="r" b="b"/>
            <a:pathLst>
              <a:path w="8" h="32">
                <a:moveTo>
                  <a:pt x="8" y="32"/>
                </a:moveTo>
                <a:lnTo>
                  <a:pt x="0" y="0"/>
                </a:lnTo>
                <a:lnTo>
                  <a:pt x="8" y="3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17800" y="4044960"/>
            <a:ext cx="11160" cy="39600"/>
          </a:xfrm>
          <a:custGeom>
            <a:avLst/>
            <a:gdLst/>
            <a:ahLst/>
            <a:rect l="l" t="t" r="r" b="b"/>
            <a:pathLst>
              <a:path w="8" h="32">
                <a:moveTo>
                  <a:pt x="8" y="32"/>
                </a:moveTo>
                <a:lnTo>
                  <a:pt x="0" y="0"/>
                </a:lnTo>
                <a:lnTo>
                  <a:pt x="8" y="3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22600" y="4113360"/>
            <a:ext cx="9720" cy="41040"/>
          </a:xfrm>
          <a:custGeom>
            <a:avLst/>
            <a:gdLst/>
            <a:ahLst/>
            <a:rect l="l" t="t" r="r" b="b"/>
            <a:pathLst>
              <a:path w="8" h="32">
                <a:moveTo>
                  <a:pt x="8" y="32"/>
                </a:moveTo>
                <a:lnTo>
                  <a:pt x="0" y="0"/>
                </a:lnTo>
                <a:lnTo>
                  <a:pt x="8" y="3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27400" y="4181400"/>
            <a:ext cx="9360" cy="39600"/>
          </a:xfrm>
          <a:custGeom>
            <a:avLst/>
            <a:gdLst/>
            <a:ahLst/>
            <a:rect l="l" t="t" r="r" b="b"/>
            <a:pathLst>
              <a:path w="8" h="32">
                <a:moveTo>
                  <a:pt x="8" y="32"/>
                </a:moveTo>
                <a:lnTo>
                  <a:pt x="0" y="0"/>
                </a:lnTo>
                <a:lnTo>
                  <a:pt x="8" y="3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930400" y="4249800"/>
            <a:ext cx="11160" cy="41040"/>
          </a:xfrm>
          <a:custGeom>
            <a:avLst/>
            <a:gdLst/>
            <a:ahLst/>
            <a:rect l="l" t="t" r="r" b="b"/>
            <a:pathLst>
              <a:path w="8" h="32">
                <a:moveTo>
                  <a:pt x="8" y="32"/>
                </a:moveTo>
                <a:lnTo>
                  <a:pt x="0" y="0"/>
                </a:lnTo>
                <a:lnTo>
                  <a:pt x="8" y="3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635200" y="4317840"/>
            <a:ext cx="9720" cy="39960"/>
          </a:xfrm>
          <a:custGeom>
            <a:avLst/>
            <a:gdLst/>
            <a:ahLst/>
            <a:rect l="l" t="t" r="r" b="b"/>
            <a:pathLst>
              <a:path w="8" h="32">
                <a:moveTo>
                  <a:pt x="8" y="32"/>
                </a:moveTo>
                <a:lnTo>
                  <a:pt x="0" y="0"/>
                </a:lnTo>
                <a:lnTo>
                  <a:pt x="8" y="3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338560" y="4386240"/>
            <a:ext cx="10800" cy="41400"/>
          </a:xfrm>
          <a:custGeom>
            <a:avLst/>
            <a:gdLst/>
            <a:ahLst/>
            <a:rect l="l" t="t" r="r" b="b"/>
            <a:pathLst>
              <a:path w="8" h="32">
                <a:moveTo>
                  <a:pt x="8" y="32"/>
                </a:moveTo>
                <a:lnTo>
                  <a:pt x="0" y="0"/>
                </a:lnTo>
                <a:lnTo>
                  <a:pt x="8" y="3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2762280" y="2590560"/>
            <a:ext cx="1652400" cy="1338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167360" y="3722760"/>
            <a:ext cx="25200" cy="30240"/>
          </a:xfrm>
          <a:custGeom>
            <a:avLst/>
            <a:gdLst/>
            <a:ahLst/>
            <a:rect l="l" t="t" r="r" b="b"/>
            <a:pathLst>
              <a:path w="20" h="24">
                <a:moveTo>
                  <a:pt x="0" y="24"/>
                </a:moveTo>
                <a:lnTo>
                  <a:pt x="20" y="0"/>
                </a:lnTo>
                <a:lnTo>
                  <a:pt x="0" y="2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30480" y="3532320"/>
            <a:ext cx="25560" cy="29880"/>
          </a:xfrm>
          <a:custGeom>
            <a:avLst/>
            <a:gdLst/>
            <a:ahLst/>
            <a:rect l="l" t="t" r="r" b="b"/>
            <a:pathLst>
              <a:path w="20" h="24">
                <a:moveTo>
                  <a:pt x="0" y="24"/>
                </a:moveTo>
                <a:lnTo>
                  <a:pt x="20" y="0"/>
                </a:lnTo>
                <a:lnTo>
                  <a:pt x="0" y="2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693960" y="3340080"/>
            <a:ext cx="25560" cy="30240"/>
          </a:xfrm>
          <a:custGeom>
            <a:avLst/>
            <a:gdLst/>
            <a:ahLst/>
            <a:rect l="l" t="t" r="r" b="b"/>
            <a:pathLst>
              <a:path w="20" h="24">
                <a:moveTo>
                  <a:pt x="0" y="24"/>
                </a:moveTo>
                <a:lnTo>
                  <a:pt x="20" y="0"/>
                </a:lnTo>
                <a:lnTo>
                  <a:pt x="0" y="2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457440" y="3147840"/>
            <a:ext cx="25560" cy="32040"/>
          </a:xfrm>
          <a:custGeom>
            <a:avLst/>
            <a:gdLst/>
            <a:ahLst/>
            <a:rect l="l" t="t" r="r" b="b"/>
            <a:pathLst>
              <a:path w="20" h="24">
                <a:moveTo>
                  <a:pt x="0" y="24"/>
                </a:moveTo>
                <a:lnTo>
                  <a:pt x="20" y="0"/>
                </a:lnTo>
                <a:lnTo>
                  <a:pt x="0" y="2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22720" y="2959200"/>
            <a:ext cx="25200" cy="30240"/>
          </a:xfrm>
          <a:custGeom>
            <a:avLst/>
            <a:gdLst/>
            <a:ahLst/>
            <a:rect l="l" t="t" r="r" b="b"/>
            <a:pathLst>
              <a:path w="20" h="24">
                <a:moveTo>
                  <a:pt x="0" y="24"/>
                </a:moveTo>
                <a:lnTo>
                  <a:pt x="20" y="0"/>
                </a:lnTo>
                <a:lnTo>
                  <a:pt x="0" y="2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86200" y="2766960"/>
            <a:ext cx="25200" cy="30240"/>
          </a:xfrm>
          <a:custGeom>
            <a:avLst/>
            <a:gdLst/>
            <a:ahLst/>
            <a:rect l="l" t="t" r="r" b="b"/>
            <a:pathLst>
              <a:path w="20" h="24">
                <a:moveTo>
                  <a:pt x="0" y="24"/>
                </a:moveTo>
                <a:lnTo>
                  <a:pt x="20" y="0"/>
                </a:lnTo>
                <a:lnTo>
                  <a:pt x="0" y="2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749680" y="2575080"/>
            <a:ext cx="25200" cy="31680"/>
          </a:xfrm>
          <a:custGeom>
            <a:avLst/>
            <a:gdLst/>
            <a:ahLst/>
            <a:rect l="l" t="t" r="r" b="b"/>
            <a:pathLst>
              <a:path w="20" h="24">
                <a:moveTo>
                  <a:pt x="0" y="24"/>
                </a:moveTo>
                <a:lnTo>
                  <a:pt x="20" y="0"/>
                </a:lnTo>
                <a:lnTo>
                  <a:pt x="0" y="2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25840" y="2951280"/>
            <a:ext cx="1563840" cy="1469880"/>
          </a:xfrm>
          <a:custGeom>
            <a:avLst/>
            <a:gdLst/>
            <a:ahLst/>
            <a:rect l="l" t="t" r="r" b="b"/>
            <a:pathLst>
              <a:path w="1225" h="1152">
                <a:moveTo>
                  <a:pt x="696" y="0"/>
                </a:moveTo>
                <a:lnTo>
                  <a:pt x="1225" y="337"/>
                </a:lnTo>
                <a:lnTo>
                  <a:pt x="1158" y="873"/>
                </a:lnTo>
                <a:lnTo>
                  <a:pt x="859" y="1099"/>
                </a:lnTo>
                <a:lnTo>
                  <a:pt x="508" y="1152"/>
                </a:lnTo>
                <a:lnTo>
                  <a:pt x="0" y="927"/>
                </a:lnTo>
                <a:lnTo>
                  <a:pt x="269" y="420"/>
                </a:lnTo>
                <a:lnTo>
                  <a:pt x="696" y="0"/>
                </a:lnTo>
              </a:path>
            </a:pathLst>
          </a:custGeom>
          <a:noFill/>
          <a:ln w="30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79840" y="1925640"/>
            <a:ext cx="3220920" cy="3198960"/>
          </a:xfrm>
          <a:custGeom>
            <a:avLst/>
            <a:gdLst/>
            <a:ahLst/>
            <a:rect l="l" t="t" r="r" b="b"/>
            <a:pathLst>
              <a:path w="2523" h="2507">
                <a:moveTo>
                  <a:pt x="1359" y="0"/>
                </a:moveTo>
                <a:lnTo>
                  <a:pt x="2523" y="627"/>
                </a:lnTo>
                <a:lnTo>
                  <a:pt x="2408" y="1812"/>
                </a:lnTo>
                <a:lnTo>
                  <a:pt x="1816" y="2507"/>
                </a:lnTo>
                <a:lnTo>
                  <a:pt x="952" y="2405"/>
                </a:lnTo>
                <a:lnTo>
                  <a:pt x="0" y="1884"/>
                </a:lnTo>
                <a:lnTo>
                  <a:pt x="552" y="916"/>
                </a:lnTo>
                <a:lnTo>
                  <a:pt x="1359" y="0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65720" y="2901960"/>
            <a:ext cx="96840" cy="96840"/>
          </a:xfrm>
          <a:custGeom>
            <a:avLst/>
            <a:gdLst/>
            <a:ahLst/>
            <a:rect l="l" t="t" r="r" b="b"/>
            <a:pathLst>
              <a:path w="122" h="122">
                <a:moveTo>
                  <a:pt x="61" y="0"/>
                </a:moveTo>
                <a:lnTo>
                  <a:pt x="122" y="61"/>
                </a:lnTo>
                <a:lnTo>
                  <a:pt x="61" y="122"/>
                </a:lnTo>
                <a:lnTo>
                  <a:pt x="0" y="61"/>
                </a:lnTo>
                <a:lnTo>
                  <a:pt x="61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040360" y="3332160"/>
            <a:ext cx="98280" cy="96840"/>
          </a:xfrm>
          <a:custGeom>
            <a:avLst/>
            <a:gdLst/>
            <a:ahLst/>
            <a:rect l="l" t="t" r="r" b="b"/>
            <a:pathLst>
              <a:path w="122" h="123">
                <a:moveTo>
                  <a:pt x="61" y="0"/>
                </a:moveTo>
                <a:lnTo>
                  <a:pt x="122" y="61"/>
                </a:lnTo>
                <a:lnTo>
                  <a:pt x="61" y="123"/>
                </a:lnTo>
                <a:lnTo>
                  <a:pt x="0" y="61"/>
                </a:lnTo>
                <a:lnTo>
                  <a:pt x="61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956120" y="4016520"/>
            <a:ext cx="96840" cy="96840"/>
          </a:xfrm>
          <a:custGeom>
            <a:avLst/>
            <a:gdLst/>
            <a:ahLst/>
            <a:rect l="l" t="t" r="r" b="b"/>
            <a:pathLst>
              <a:path w="122" h="122">
                <a:moveTo>
                  <a:pt x="61" y="0"/>
                </a:moveTo>
                <a:lnTo>
                  <a:pt x="122" y="61"/>
                </a:lnTo>
                <a:lnTo>
                  <a:pt x="61" y="122"/>
                </a:lnTo>
                <a:lnTo>
                  <a:pt x="0" y="61"/>
                </a:lnTo>
                <a:lnTo>
                  <a:pt x="61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73440" y="4305240"/>
            <a:ext cx="96840" cy="96840"/>
          </a:xfrm>
          <a:custGeom>
            <a:avLst/>
            <a:gdLst/>
            <a:ahLst/>
            <a:rect l="l" t="t" r="r" b="b"/>
            <a:pathLst>
              <a:path w="122" h="123">
                <a:moveTo>
                  <a:pt x="61" y="0"/>
                </a:moveTo>
                <a:lnTo>
                  <a:pt x="122" y="62"/>
                </a:lnTo>
                <a:lnTo>
                  <a:pt x="61" y="123"/>
                </a:lnTo>
                <a:lnTo>
                  <a:pt x="0" y="62"/>
                </a:lnTo>
                <a:lnTo>
                  <a:pt x="61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125960" y="4371840"/>
            <a:ext cx="96840" cy="96840"/>
          </a:xfrm>
          <a:custGeom>
            <a:avLst/>
            <a:gdLst/>
            <a:ahLst/>
            <a:rect l="l" t="t" r="r" b="b"/>
            <a:pathLst>
              <a:path w="122" h="122">
                <a:moveTo>
                  <a:pt x="61" y="0"/>
                </a:moveTo>
                <a:lnTo>
                  <a:pt x="122" y="61"/>
                </a:lnTo>
                <a:lnTo>
                  <a:pt x="61" y="122"/>
                </a:lnTo>
                <a:lnTo>
                  <a:pt x="0" y="61"/>
                </a:lnTo>
                <a:lnTo>
                  <a:pt x="61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76520" y="4084560"/>
            <a:ext cx="98640" cy="98640"/>
          </a:xfrm>
          <a:custGeom>
            <a:avLst/>
            <a:gdLst/>
            <a:ahLst/>
            <a:rect l="l" t="t" r="r" b="b"/>
            <a:pathLst>
              <a:path w="122" h="122">
                <a:moveTo>
                  <a:pt x="61" y="0"/>
                </a:moveTo>
                <a:lnTo>
                  <a:pt x="122" y="61"/>
                </a:lnTo>
                <a:lnTo>
                  <a:pt x="61" y="122"/>
                </a:lnTo>
                <a:lnTo>
                  <a:pt x="0" y="61"/>
                </a:lnTo>
                <a:lnTo>
                  <a:pt x="61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21040" y="3438360"/>
            <a:ext cx="96840" cy="96840"/>
          </a:xfrm>
          <a:custGeom>
            <a:avLst/>
            <a:gdLst/>
            <a:ahLst/>
            <a:rect l="l" t="t" r="r" b="b"/>
            <a:pathLst>
              <a:path w="123" h="122">
                <a:moveTo>
                  <a:pt x="62" y="0"/>
                </a:moveTo>
                <a:lnTo>
                  <a:pt x="123" y="61"/>
                </a:lnTo>
                <a:lnTo>
                  <a:pt x="62" y="122"/>
                </a:lnTo>
                <a:lnTo>
                  <a:pt x="0" y="61"/>
                </a:lnTo>
                <a:lnTo>
                  <a:pt x="62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365720" y="1876320"/>
            <a:ext cx="96840" cy="96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851440" y="2676600"/>
            <a:ext cx="96840" cy="96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05640" y="4189320"/>
            <a:ext cx="96840" cy="96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950000" y="5075280"/>
            <a:ext cx="96840" cy="96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46600" y="4944960"/>
            <a:ext cx="96840" cy="96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630520" y="4280040"/>
            <a:ext cx="96840" cy="9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335400" y="3044880"/>
            <a:ext cx="96840" cy="96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65600" y="3130560"/>
            <a:ext cx="29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1.16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03640" y="3930480"/>
            <a:ext cx="29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1.5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32200" y="4487760"/>
            <a:ext cx="29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0.9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349880" y="4475160"/>
            <a:ext cx="29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0.78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102280" y="4237200"/>
            <a:ext cx="29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1.0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51320" y="3382920"/>
            <a:ext cx="29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1.43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08360" y="2806560"/>
            <a:ext cx="29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1.61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27440" y="1735200"/>
            <a:ext cx="29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3.3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51160" y="2698920"/>
            <a:ext cx="29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2.18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40000" y="4046400"/>
            <a:ext cx="29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2.93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506760" y="5035680"/>
            <a:ext cx="29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1.95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53000" y="5310360"/>
            <a:ext cx="29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2.19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42000" y="4481640"/>
            <a:ext cx="29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2.26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91200" y="2806560"/>
            <a:ext cx="29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3.15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058280" y="3876840"/>
            <a:ext cx="250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bbe0e3"/>
                </a:solidFill>
                <a:latin typeface="Arial"/>
                <a:ea typeface="Arial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058280" y="3575160"/>
            <a:ext cx="250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bbe0e3"/>
                </a:solidFill>
                <a:latin typeface="Arial"/>
                <a:ea typeface="Arial"/>
              </a:rPr>
              <a:t>0.50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058280" y="3271680"/>
            <a:ext cx="250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bbe0e3"/>
                </a:solidFill>
                <a:latin typeface="Arial"/>
                <a:ea typeface="Arial"/>
              </a:rPr>
              <a:t>1.00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058280" y="2967120"/>
            <a:ext cx="250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bbe0e3"/>
                </a:solidFill>
                <a:latin typeface="Arial"/>
                <a:ea typeface="Arial"/>
              </a:rPr>
              <a:t>1.50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058280" y="2664000"/>
            <a:ext cx="250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bbe0e3"/>
                </a:solidFill>
                <a:latin typeface="Arial"/>
                <a:ea typeface="Arial"/>
              </a:rPr>
              <a:t>2.00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058280" y="2360520"/>
            <a:ext cx="250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bbe0e3"/>
                </a:solidFill>
                <a:latin typeface="Arial"/>
                <a:ea typeface="Arial"/>
              </a:rPr>
              <a:t>2.50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058280" y="2055960"/>
            <a:ext cx="250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bbe0e3"/>
                </a:solidFill>
                <a:latin typeface="Arial"/>
                <a:ea typeface="Arial"/>
              </a:rPr>
              <a:t>3.00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058280" y="1752480"/>
            <a:ext cx="250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bbe0e3"/>
                </a:solidFill>
                <a:latin typeface="Arial"/>
                <a:ea typeface="Arial"/>
              </a:rPr>
              <a:t>3.50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336920" y="15620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SC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163200" y="2478240"/>
            <a:ext cx="49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PAS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591960" y="4346640"/>
            <a:ext cx="47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INSP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22680" y="5818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COMPEND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89320" y="58183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871640" y="4346640"/>
            <a:ext cx="42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BIO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60000" y="2478240"/>
            <a:ext cx="56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MED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93000" y="3571920"/>
            <a:ext cx="1106280" cy="4158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35840" y="3768840"/>
            <a:ext cx="223560" cy="1440"/>
          </a:xfrm>
          <a:prstGeom prst="line">
            <a:avLst/>
          </a:prstGeom>
          <a:ln w="30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215040" y="3736800"/>
            <a:ext cx="63360" cy="63720"/>
          </a:xfrm>
          <a:custGeom>
            <a:avLst/>
            <a:gdLst/>
            <a:ahLst/>
            <a:rect l="l" t="t" r="r" b="b"/>
            <a:pathLst>
              <a:path w="81" h="80">
                <a:moveTo>
                  <a:pt x="41" y="0"/>
                </a:moveTo>
                <a:lnTo>
                  <a:pt x="81" y="40"/>
                </a:lnTo>
                <a:lnTo>
                  <a:pt x="41" y="80"/>
                </a:lnTo>
                <a:lnTo>
                  <a:pt x="0" y="40"/>
                </a:lnTo>
                <a:lnTo>
                  <a:pt x="41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22400" y="372096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19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689880" y="3768840"/>
            <a:ext cx="2235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769080" y="3736800"/>
            <a:ext cx="63360" cy="6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976440" y="372096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20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Verdana"/>
              </a:rPr>
              <a:t>Presencia latinoamericana en </a:t>
            </a:r>
            <a:br>
              <a:rPr sz="2800"/>
            </a:br>
            <a:r>
              <a:rPr b="1" lang="es-MX" sz="2800" spc="-1" strike="noStrike">
                <a:solidFill>
                  <a:srgbClr val="cc0000"/>
                </a:solidFill>
                <a:latin typeface="Verdana"/>
              </a:rPr>
              <a:t>bases de datos bibliográ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228600" y="23184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89000" y="304920"/>
            <a:ext cx="87645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3915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506520" y="1201680"/>
          <a:ext cx="8180280" cy="54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1201680"/>
                    <a:ext cx="8180280" cy="54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1099800" y="380880"/>
            <a:ext cx="6901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Microsoft Sans Serif"/>
                <a:ea typeface="Arial"/>
              </a:rPr>
              <a:t>Inversión en I+D como porcentaje del PIB (2003)</a:t>
            </a:r>
            <a:r>
              <a:rPr b="1" lang="es-ES" sz="22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752480" y="6216480"/>
            <a:ext cx="6629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100" spc="-1" strike="noStrike">
                <a:solidFill>
                  <a:srgbClr val="000000"/>
                </a:solidFill>
                <a:latin typeface="Arial"/>
              </a:rPr>
              <a:t>Fuente: Secretaría de Ciencia, Tecnología e Innovación Productiva – SECTIP, Argentin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038480" y="1752480"/>
            <a:ext cx="0" cy="3810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89000" y="473040"/>
            <a:ext cx="876456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8600" y="361800"/>
            <a:ext cx="8763120" cy="614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639720" y="619200"/>
            <a:ext cx="786276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752400" y="581040"/>
            <a:ext cx="763920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595440" y="603360"/>
            <a:ext cx="7953120" cy="56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495440" y="861840"/>
            <a:ext cx="6153120" cy="51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84360" y="1103400"/>
            <a:ext cx="597384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RESULTADOS DEL ESTUDIO PISA CORRESPONDIENTES A ARGENTINA </a:t>
            </a:r>
            <a:br>
              <a:rPr sz="2800"/>
            </a:b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2000 y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ATEMATICA: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52/57 2006 (381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iwan 5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34/41 2000 (38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ECTURA: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53/57 2006 (374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rea 5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35/41 2000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(41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IENCIA: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51/57 2006 (391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inlandia 5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Porcentaje de jóvenes que no tienen capacidades de lectura</a:t>
            </a:r>
            <a:br>
              <a:rPr sz="20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nos de 407 puntos (nivel 1 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 1)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tudio PISA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inlandi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5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pañ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re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6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rtug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ong-Kong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7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hil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nad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1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x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ustral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1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ruguay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Japón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18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rasi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eman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2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lomb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CDE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promedio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20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gent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2:18:37Z</dcterms:created>
  <dc:creator> </dc:creator>
  <dc:description/>
  <dc:language>en-US</dc:language>
  <cp:lastModifiedBy>C.P.C.E.C.A.B.A</cp:lastModifiedBy>
  <dcterms:modified xsi:type="dcterms:W3CDTF">2009-09-24T16:33:32Z</dcterms:modified>
  <cp:revision>54</cp:revision>
  <dc:subject/>
  <dc:title>Diapositiva 1</dc:title>
</cp:coreProperties>
</file>