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470-78F6-4E0C-A181-949707A7B19B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BD36-F1AE-4C9B-8AD6-9F38835B58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8DD-6CFA-4957-9057-0CA0F265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816-56B2-43DF-92BC-5386A6D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1EE-7F9E-4E28-B9D2-1622A9A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E9A-E2DB-4BC6-B15D-9727DE6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585-C3F0-4CF1-8BDD-7AC932F6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F68C-9A22-4361-ADA7-473AD404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05E-658B-416D-9177-5C50D66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7E04-E40D-4719-966D-8033823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F689-AA26-4747-8395-70823D0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0BC5-D4F2-4AAD-B5AD-AC830F2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2DE4-9CCF-4335-B912-36BCA95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F49-90BC-4EA2-BBF5-E0D15A06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A97-D06D-42A0-9E23-DA8B4DE5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2B8-C8B3-4C07-A680-2FFF27C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6BC-93CF-4172-BE1E-1C89050B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F665-236B-41F3-98B6-5524BCF3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F2DF-5739-4D86-A7DD-BFF039E3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1A0-E141-456B-9DC6-53942A1D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270-FD03-4E53-BDFD-2E5B60B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674-237F-4EA5-B002-AD636ED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486-54E9-4CC5-92EF-B09EF2C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B3F-DE31-43CE-8CA6-3BF0C5D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B3C-A1AE-4F71-AFBE-CF3EB7E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B21-EFE4-4836-ADB7-379AA58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270-412F-4616-A98B-F7252B96718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440"/>
            <a:ext cx="1281240" cy="68454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IECYT-Nvo tamaño-agosto-05"/>
          <p:cNvPicPr/>
          <p:nvPr/>
        </p:nvPicPr>
        <p:blipFill>
          <a:blip r:embed="rId2"/>
          <a:stretch/>
        </p:blipFill>
        <p:spPr>
          <a:xfrm>
            <a:off x="200160" y="4365720"/>
            <a:ext cx="900000" cy="2097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520" y="65530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ECy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 rot="5400000">
            <a:off x="4260600" y="-4260600"/>
            <a:ext cx="622440" cy="9144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D525-8C4D-41B3-A13C-C2BA79C4F83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draier@iecyt.org.ar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5280" y="1552680"/>
            <a:ext cx="724536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0000"/>
                </a:solidFill>
                <a:latin typeface="Arial"/>
                <a:ea typeface="Arial"/>
              </a:rPr>
              <a:t>Oportunidad es INVERTIR</a:t>
            </a:r>
            <a:br>
              <a:rPr sz="5400"/>
            </a:br>
            <a:r>
              <a:rPr b="1" lang="es-AR" sz="3200" spc="-1" strike="noStrike">
                <a:solidFill>
                  <a:srgbClr val="00b050"/>
                </a:solidFill>
                <a:latin typeface="Arial"/>
                <a:ea typeface="Arial"/>
              </a:rPr>
              <a:t>Nuevas Empresas de Alto Pote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5886360"/>
            <a:ext cx="757224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Buenos Aires    9 de Setiembre de 2009     Ing. Enrique Dra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726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ICLO DE VIDA DE UNA EMPRESA </a:t>
            </a:r>
            <a:br>
              <a:rPr sz="2400"/>
            </a:b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Y CARACTERÍSTICAS DE SU FINANC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5662440" y="1547640"/>
            <a:ext cx="1938240" cy="1863720"/>
            <a:chOff x="5662440" y="1547640"/>
            <a:chExt cx="1938240" cy="1863720"/>
          </a:xfrm>
        </p:grpSpPr>
        <p:grpSp>
          <p:nvGrpSpPr>
            <p:cNvPr id="117" name="Group 4"/>
            <p:cNvGrpSpPr/>
            <p:nvPr/>
          </p:nvGrpSpPr>
          <p:grpSpPr>
            <a:xfrm>
              <a:off x="5662440" y="1547640"/>
              <a:ext cx="1937880" cy="1863720"/>
              <a:chOff x="5662440" y="1547640"/>
              <a:chExt cx="1937880" cy="1863720"/>
            </a:xfrm>
          </p:grpSpPr>
          <p:sp>
            <p:nvSpPr>
              <p:cNvPr id="118" name="Rectangle 5"/>
              <p:cNvSpPr/>
              <p:nvPr/>
            </p:nvSpPr>
            <p:spPr>
              <a:xfrm>
                <a:off x="5662440" y="1547640"/>
                <a:ext cx="1937880" cy="1863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6"/>
              <p:cNvSpPr/>
              <p:nvPr/>
            </p:nvSpPr>
            <p:spPr>
              <a:xfrm>
                <a:off x="5662440" y="1547640"/>
                <a:ext cx="1937880" cy="18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5662440" y="1547640"/>
                <a:ext cx="1937880" cy="1863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8"/>
            <p:cNvSpPr/>
            <p:nvPr/>
          </p:nvSpPr>
          <p:spPr>
            <a:xfrm>
              <a:off x="5662440" y="1547640"/>
              <a:ext cx="1938240" cy="1863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2546280" y="3290760"/>
            <a:ext cx="1949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1938240" y="2882880"/>
            <a:ext cx="2108160" cy="1803600"/>
            <a:chOff x="1938240" y="2882880"/>
            <a:chExt cx="2108160" cy="1803600"/>
          </a:xfrm>
        </p:grpSpPr>
        <p:grpSp>
          <p:nvGrpSpPr>
            <p:cNvPr id="124" name="Group 11"/>
            <p:cNvGrpSpPr/>
            <p:nvPr/>
          </p:nvGrpSpPr>
          <p:grpSpPr>
            <a:xfrm>
              <a:off x="1938240" y="2882880"/>
              <a:ext cx="2108160" cy="1803600"/>
              <a:chOff x="1938240" y="2882880"/>
              <a:chExt cx="2108160" cy="1803600"/>
            </a:xfrm>
          </p:grpSpPr>
          <p:sp>
            <p:nvSpPr>
              <p:cNvPr id="125" name="Rectangle 12"/>
              <p:cNvSpPr/>
              <p:nvPr/>
            </p:nvSpPr>
            <p:spPr>
              <a:xfrm>
                <a:off x="1938240" y="2882880"/>
                <a:ext cx="2108160" cy="18036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938240" y="2882880"/>
                <a:ext cx="2108160" cy="18036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1938240" y="2882880"/>
                <a:ext cx="2108160" cy="18036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ectangle 15"/>
            <p:cNvSpPr/>
            <p:nvPr/>
          </p:nvSpPr>
          <p:spPr>
            <a:xfrm>
              <a:off x="1938240" y="2882880"/>
              <a:ext cx="2108160" cy="1803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1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6"/>
          <p:cNvGrpSpPr/>
          <p:nvPr/>
        </p:nvGrpSpPr>
        <p:grpSpPr>
          <a:xfrm>
            <a:off x="3440160" y="1776240"/>
            <a:ext cx="2611440" cy="2103120"/>
            <a:chOff x="3440160" y="1776240"/>
            <a:chExt cx="2611440" cy="2103120"/>
          </a:xfrm>
        </p:grpSpPr>
        <p:grpSp>
          <p:nvGrpSpPr>
            <p:cNvPr id="130" name="Group 17"/>
            <p:cNvGrpSpPr/>
            <p:nvPr/>
          </p:nvGrpSpPr>
          <p:grpSpPr>
            <a:xfrm>
              <a:off x="3440160" y="1776240"/>
              <a:ext cx="2611440" cy="2103120"/>
              <a:chOff x="3440160" y="1776240"/>
              <a:chExt cx="2611440" cy="2103120"/>
            </a:xfrm>
          </p:grpSpPr>
          <p:sp>
            <p:nvSpPr>
              <p:cNvPr id="131" name="Rectangle 18"/>
              <p:cNvSpPr/>
              <p:nvPr/>
            </p:nvSpPr>
            <p:spPr>
              <a:xfrm>
                <a:off x="3440160" y="1776240"/>
                <a:ext cx="2611440" cy="210312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9"/>
              <p:cNvSpPr/>
              <p:nvPr/>
            </p:nvSpPr>
            <p:spPr>
              <a:xfrm>
                <a:off x="3440160" y="1776240"/>
                <a:ext cx="2611440" cy="210312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0"/>
              <p:cNvSpPr/>
              <p:nvPr/>
            </p:nvSpPr>
            <p:spPr>
              <a:xfrm>
                <a:off x="3440160" y="1776240"/>
                <a:ext cx="2611440" cy="210312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21"/>
            <p:cNvSpPr/>
            <p:nvPr/>
          </p:nvSpPr>
          <p:spPr>
            <a:xfrm>
              <a:off x="3440160" y="1776240"/>
              <a:ext cx="2611440" cy="21031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11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22"/>
          <p:cNvSpPr/>
          <p:nvPr/>
        </p:nvSpPr>
        <p:spPr>
          <a:xfrm>
            <a:off x="941400" y="3676680"/>
            <a:ext cx="1065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1265760" y="36162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3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1916280" y="2630520"/>
            <a:ext cx="1523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25"/>
          <p:cNvGrpSpPr/>
          <p:nvPr/>
        </p:nvGrpSpPr>
        <p:grpSpPr>
          <a:xfrm>
            <a:off x="1474920" y="1957320"/>
            <a:ext cx="1792080" cy="577800"/>
            <a:chOff x="1474920" y="1957320"/>
            <a:chExt cx="1792080" cy="577800"/>
          </a:xfrm>
        </p:grpSpPr>
        <p:pic>
          <p:nvPicPr>
            <p:cNvPr id="139" name="Rectangle 25" descr=""/>
            <p:cNvPicPr/>
            <p:nvPr/>
          </p:nvPicPr>
          <p:blipFill>
            <a:blip r:embed="rId1"/>
            <a:stretch/>
          </p:blipFill>
          <p:spPr>
            <a:xfrm>
              <a:off x="1474920" y="1957320"/>
              <a:ext cx="17920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606680" y="2092320"/>
              <a:ext cx="15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ANGE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26"/>
          <p:cNvSpPr/>
          <p:nvPr/>
        </p:nvSpPr>
        <p:spPr>
          <a:xfrm>
            <a:off x="6156360" y="3351240"/>
            <a:ext cx="133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6363360" y="3468600"/>
            <a:ext cx="23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&amp;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8"/>
          <p:cNvGrpSpPr/>
          <p:nvPr/>
        </p:nvGrpSpPr>
        <p:grpSpPr>
          <a:xfrm>
            <a:off x="998640" y="3929040"/>
            <a:ext cx="1215720" cy="1057320"/>
            <a:chOff x="998640" y="3929040"/>
            <a:chExt cx="1215720" cy="1057320"/>
          </a:xfrm>
        </p:grpSpPr>
        <p:grpSp>
          <p:nvGrpSpPr>
            <p:cNvPr id="144" name="Group 29"/>
            <p:cNvGrpSpPr/>
            <p:nvPr/>
          </p:nvGrpSpPr>
          <p:grpSpPr>
            <a:xfrm>
              <a:off x="998640" y="3929040"/>
              <a:ext cx="1215360" cy="1057320"/>
              <a:chOff x="998640" y="3929040"/>
              <a:chExt cx="1215360" cy="1057320"/>
            </a:xfrm>
          </p:grpSpPr>
          <p:sp>
            <p:nvSpPr>
              <p:cNvPr id="145" name="Rectangle 30"/>
              <p:cNvSpPr/>
              <p:nvPr/>
            </p:nvSpPr>
            <p:spPr>
              <a:xfrm>
                <a:off x="998640" y="3929040"/>
                <a:ext cx="1215360" cy="105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31"/>
              <p:cNvSpPr/>
              <p:nvPr/>
            </p:nvSpPr>
            <p:spPr>
              <a:xfrm>
                <a:off x="998640" y="3929040"/>
                <a:ext cx="1215360" cy="105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2"/>
              <p:cNvSpPr/>
              <p:nvPr/>
            </p:nvSpPr>
            <p:spPr>
              <a:xfrm>
                <a:off x="998640" y="3929040"/>
                <a:ext cx="1215360" cy="105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3"/>
            <p:cNvSpPr/>
            <p:nvPr/>
          </p:nvSpPr>
          <p:spPr>
            <a:xfrm>
              <a:off x="998640" y="3929040"/>
              <a:ext cx="1215720" cy="105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1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4"/>
          <p:cNvGrpSpPr/>
          <p:nvPr/>
        </p:nvGrpSpPr>
        <p:grpSpPr>
          <a:xfrm>
            <a:off x="5662440" y="3351240"/>
            <a:ext cx="11160" cy="2622600"/>
            <a:chOff x="5662440" y="3351240"/>
            <a:chExt cx="11160" cy="2622600"/>
          </a:xfrm>
        </p:grpSpPr>
        <p:sp>
          <p:nvSpPr>
            <p:cNvPr id="150" name="Freeform 35"/>
            <p:cNvSpPr/>
            <p:nvPr/>
          </p:nvSpPr>
          <p:spPr>
            <a:xfrm>
              <a:off x="5662440" y="3351240"/>
              <a:ext cx="11160" cy="47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" h="30">
                  <a:moveTo>
                    <a:pt x="7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5662440" y="342432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5662440" y="350856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5662440" y="359244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9"/>
            <p:cNvSpPr/>
            <p:nvPr/>
          </p:nvSpPr>
          <p:spPr>
            <a:xfrm>
              <a:off x="5662440" y="367668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"/>
            <p:cNvSpPr/>
            <p:nvPr/>
          </p:nvSpPr>
          <p:spPr>
            <a:xfrm>
              <a:off x="5662440" y="376092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>
              <a:off x="5662440" y="38448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2"/>
            <p:cNvSpPr/>
            <p:nvPr/>
          </p:nvSpPr>
          <p:spPr>
            <a:xfrm>
              <a:off x="5662440" y="392904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3"/>
            <p:cNvSpPr/>
            <p:nvPr/>
          </p:nvSpPr>
          <p:spPr>
            <a:xfrm>
              <a:off x="5662440" y="401328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>
              <a:off x="5662440" y="409752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5"/>
            <p:cNvSpPr/>
            <p:nvPr/>
          </p:nvSpPr>
          <p:spPr>
            <a:xfrm>
              <a:off x="5662440" y="41814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6"/>
            <p:cNvSpPr/>
            <p:nvPr/>
          </p:nvSpPr>
          <p:spPr>
            <a:xfrm>
              <a:off x="5662440" y="426564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>
              <a:off x="5662440" y="434988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662440" y="44337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9"/>
            <p:cNvSpPr/>
            <p:nvPr/>
          </p:nvSpPr>
          <p:spPr>
            <a:xfrm>
              <a:off x="5662440" y="45180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0"/>
            <p:cNvSpPr/>
            <p:nvPr/>
          </p:nvSpPr>
          <p:spPr>
            <a:xfrm>
              <a:off x="5662440" y="460224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1"/>
            <p:cNvSpPr/>
            <p:nvPr/>
          </p:nvSpPr>
          <p:spPr>
            <a:xfrm>
              <a:off x="5662440" y="468648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2"/>
            <p:cNvSpPr/>
            <p:nvPr/>
          </p:nvSpPr>
          <p:spPr>
            <a:xfrm>
              <a:off x="5662440" y="47703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3"/>
            <p:cNvSpPr/>
            <p:nvPr/>
          </p:nvSpPr>
          <p:spPr>
            <a:xfrm>
              <a:off x="5662440" y="48546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4"/>
            <p:cNvSpPr/>
            <p:nvPr/>
          </p:nvSpPr>
          <p:spPr>
            <a:xfrm>
              <a:off x="5662440" y="493884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5"/>
            <p:cNvSpPr/>
            <p:nvPr/>
          </p:nvSpPr>
          <p:spPr>
            <a:xfrm>
              <a:off x="5662440" y="502272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6"/>
            <p:cNvSpPr/>
            <p:nvPr/>
          </p:nvSpPr>
          <p:spPr>
            <a:xfrm>
              <a:off x="5662440" y="51069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7"/>
            <p:cNvSpPr/>
            <p:nvPr/>
          </p:nvSpPr>
          <p:spPr>
            <a:xfrm>
              <a:off x="5662440" y="519120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8"/>
            <p:cNvSpPr/>
            <p:nvPr/>
          </p:nvSpPr>
          <p:spPr>
            <a:xfrm>
              <a:off x="5662440" y="527544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>
              <a:off x="5662440" y="535932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>
              <a:off x="5662440" y="54435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>
              <a:off x="5662440" y="552780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>
              <a:off x="5662440" y="561168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>
              <a:off x="5662440" y="569592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>
              <a:off x="5662440" y="578016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>
              <a:off x="5662440" y="586440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>
              <a:off x="5662440" y="5948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" h="16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67"/>
          <p:cNvGrpSpPr/>
          <p:nvPr/>
        </p:nvGrpSpPr>
        <p:grpSpPr>
          <a:xfrm>
            <a:off x="3440160" y="3879720"/>
            <a:ext cx="12240" cy="2068560"/>
            <a:chOff x="3440160" y="3879720"/>
            <a:chExt cx="12240" cy="2068560"/>
          </a:xfrm>
        </p:grpSpPr>
        <p:sp>
          <p:nvSpPr>
            <p:cNvPr id="183" name="Freeform 68"/>
            <p:cNvSpPr/>
            <p:nvPr/>
          </p:nvSpPr>
          <p:spPr>
            <a:xfrm>
              <a:off x="3440160" y="3879720"/>
              <a:ext cx="12240" cy="49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" h="31">
                  <a:moveTo>
                    <a:pt x="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7" y="3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>
              <a:off x="3440160" y="395280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0"/>
            <p:cNvSpPr/>
            <p:nvPr/>
          </p:nvSpPr>
          <p:spPr>
            <a:xfrm>
              <a:off x="3440160" y="403704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1"/>
            <p:cNvSpPr/>
            <p:nvPr/>
          </p:nvSpPr>
          <p:spPr>
            <a:xfrm>
              <a:off x="3440160" y="412128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"/>
            <p:cNvSpPr/>
            <p:nvPr/>
          </p:nvSpPr>
          <p:spPr>
            <a:xfrm>
              <a:off x="3440160" y="420516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3"/>
            <p:cNvSpPr/>
            <p:nvPr/>
          </p:nvSpPr>
          <p:spPr>
            <a:xfrm>
              <a:off x="3440160" y="428940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4"/>
            <p:cNvSpPr/>
            <p:nvPr/>
          </p:nvSpPr>
          <p:spPr>
            <a:xfrm>
              <a:off x="3440160" y="437364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5"/>
            <p:cNvSpPr/>
            <p:nvPr/>
          </p:nvSpPr>
          <p:spPr>
            <a:xfrm>
              <a:off x="3440160" y="445788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6"/>
            <p:cNvSpPr/>
            <p:nvPr/>
          </p:nvSpPr>
          <p:spPr>
            <a:xfrm>
              <a:off x="3440160" y="454176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7"/>
            <p:cNvSpPr/>
            <p:nvPr/>
          </p:nvSpPr>
          <p:spPr>
            <a:xfrm>
              <a:off x="3440160" y="462600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8"/>
            <p:cNvSpPr/>
            <p:nvPr/>
          </p:nvSpPr>
          <p:spPr>
            <a:xfrm>
              <a:off x="3440160" y="471024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9"/>
            <p:cNvSpPr/>
            <p:nvPr/>
          </p:nvSpPr>
          <p:spPr>
            <a:xfrm>
              <a:off x="3440160" y="479412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0"/>
            <p:cNvSpPr/>
            <p:nvPr/>
          </p:nvSpPr>
          <p:spPr>
            <a:xfrm>
              <a:off x="3440160" y="487836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1"/>
            <p:cNvSpPr/>
            <p:nvPr/>
          </p:nvSpPr>
          <p:spPr>
            <a:xfrm>
              <a:off x="3440160" y="496260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2"/>
            <p:cNvSpPr/>
            <p:nvPr/>
          </p:nvSpPr>
          <p:spPr>
            <a:xfrm>
              <a:off x="3440160" y="504684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3"/>
            <p:cNvSpPr/>
            <p:nvPr/>
          </p:nvSpPr>
          <p:spPr>
            <a:xfrm>
              <a:off x="3440160" y="513072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"/>
            <p:cNvSpPr/>
            <p:nvPr/>
          </p:nvSpPr>
          <p:spPr>
            <a:xfrm>
              <a:off x="3440160" y="521496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"/>
            <p:cNvSpPr/>
            <p:nvPr/>
          </p:nvSpPr>
          <p:spPr>
            <a:xfrm>
              <a:off x="3440160" y="529920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6"/>
            <p:cNvSpPr/>
            <p:nvPr/>
          </p:nvSpPr>
          <p:spPr>
            <a:xfrm>
              <a:off x="3440160" y="538308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7"/>
            <p:cNvSpPr/>
            <p:nvPr/>
          </p:nvSpPr>
          <p:spPr>
            <a:xfrm>
              <a:off x="3440160" y="546732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8"/>
            <p:cNvSpPr/>
            <p:nvPr/>
          </p:nvSpPr>
          <p:spPr>
            <a:xfrm>
              <a:off x="3440160" y="555156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9"/>
            <p:cNvSpPr/>
            <p:nvPr/>
          </p:nvSpPr>
          <p:spPr>
            <a:xfrm>
              <a:off x="3440160" y="5635800"/>
              <a:ext cx="12240" cy="60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0"/>
            <p:cNvSpPr/>
            <p:nvPr/>
          </p:nvSpPr>
          <p:spPr>
            <a:xfrm>
              <a:off x="3440160" y="5719680"/>
              <a:ext cx="12240" cy="604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1"/>
            <p:cNvSpPr/>
            <p:nvPr/>
          </p:nvSpPr>
          <p:spPr>
            <a:xfrm>
              <a:off x="3440160" y="5805360"/>
              <a:ext cx="12240" cy="59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7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7"/>
                  </a:lnTo>
                  <a:lnTo>
                    <a:pt x="7" y="3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2"/>
            <p:cNvSpPr/>
            <p:nvPr/>
          </p:nvSpPr>
          <p:spPr>
            <a:xfrm>
              <a:off x="3440160" y="5889600"/>
              <a:ext cx="12240" cy="58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" h="37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7"/>
                  </a:lnTo>
                  <a:lnTo>
                    <a:pt x="7" y="3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3"/>
          <p:cNvGrpSpPr/>
          <p:nvPr/>
        </p:nvGrpSpPr>
        <p:grpSpPr>
          <a:xfrm>
            <a:off x="1055520" y="5924520"/>
            <a:ext cx="6545160" cy="108000"/>
            <a:chOff x="1055520" y="5924520"/>
            <a:chExt cx="6545160" cy="108000"/>
          </a:xfrm>
        </p:grpSpPr>
        <p:sp>
          <p:nvSpPr>
            <p:cNvPr id="209" name="Line 94"/>
            <p:cNvSpPr/>
            <p:nvPr/>
          </p:nvSpPr>
          <p:spPr>
            <a:xfrm>
              <a:off x="1055520" y="5973840"/>
              <a:ext cx="6464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5"/>
            <p:cNvSpPr/>
            <p:nvPr/>
          </p:nvSpPr>
          <p:spPr>
            <a:xfrm>
              <a:off x="7497360" y="5924520"/>
              <a:ext cx="103320" cy="108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5" h="68">
                  <a:moveTo>
                    <a:pt x="0" y="68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6"/>
          <p:cNvGrpSpPr/>
          <p:nvPr/>
        </p:nvGrpSpPr>
        <p:grpSpPr>
          <a:xfrm>
            <a:off x="1938240" y="4626000"/>
            <a:ext cx="11160" cy="1311120"/>
            <a:chOff x="1938240" y="4626000"/>
            <a:chExt cx="11160" cy="1311120"/>
          </a:xfrm>
        </p:grpSpPr>
        <p:sp>
          <p:nvSpPr>
            <p:cNvPr id="212" name="Freeform 97"/>
            <p:cNvSpPr/>
            <p:nvPr/>
          </p:nvSpPr>
          <p:spPr>
            <a:xfrm>
              <a:off x="1938240" y="4626000"/>
              <a:ext cx="11160" cy="47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" h="30">
                  <a:moveTo>
                    <a:pt x="7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8"/>
            <p:cNvSpPr/>
            <p:nvPr/>
          </p:nvSpPr>
          <p:spPr>
            <a:xfrm>
              <a:off x="1938240" y="4699080"/>
              <a:ext cx="11160" cy="58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" h="37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7"/>
                  </a:lnTo>
                  <a:lnTo>
                    <a:pt x="7" y="3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9"/>
            <p:cNvSpPr/>
            <p:nvPr/>
          </p:nvSpPr>
          <p:spPr>
            <a:xfrm>
              <a:off x="1938240" y="4783320"/>
              <a:ext cx="11160" cy="58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" h="37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7"/>
                  </a:lnTo>
                  <a:lnTo>
                    <a:pt x="7" y="3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0"/>
            <p:cNvSpPr/>
            <p:nvPr/>
          </p:nvSpPr>
          <p:spPr>
            <a:xfrm>
              <a:off x="1938240" y="48672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1"/>
            <p:cNvSpPr/>
            <p:nvPr/>
          </p:nvSpPr>
          <p:spPr>
            <a:xfrm>
              <a:off x="1938240" y="495144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2"/>
            <p:cNvSpPr/>
            <p:nvPr/>
          </p:nvSpPr>
          <p:spPr>
            <a:xfrm>
              <a:off x="1938240" y="503568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38240" y="51195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4"/>
            <p:cNvSpPr/>
            <p:nvPr/>
          </p:nvSpPr>
          <p:spPr>
            <a:xfrm>
              <a:off x="1938240" y="52038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5"/>
            <p:cNvSpPr/>
            <p:nvPr/>
          </p:nvSpPr>
          <p:spPr>
            <a:xfrm>
              <a:off x="1938240" y="528804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6"/>
            <p:cNvSpPr/>
            <p:nvPr/>
          </p:nvSpPr>
          <p:spPr>
            <a:xfrm>
              <a:off x="1938240" y="537228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7"/>
            <p:cNvSpPr/>
            <p:nvPr/>
          </p:nvSpPr>
          <p:spPr>
            <a:xfrm>
              <a:off x="1938240" y="54561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8"/>
            <p:cNvSpPr/>
            <p:nvPr/>
          </p:nvSpPr>
          <p:spPr>
            <a:xfrm>
              <a:off x="1938240" y="554040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9"/>
            <p:cNvSpPr/>
            <p:nvPr/>
          </p:nvSpPr>
          <p:spPr>
            <a:xfrm>
              <a:off x="1938240" y="562464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0"/>
            <p:cNvSpPr/>
            <p:nvPr/>
          </p:nvSpPr>
          <p:spPr>
            <a:xfrm>
              <a:off x="1938240" y="570852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7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1"/>
            <p:cNvSpPr/>
            <p:nvPr/>
          </p:nvSpPr>
          <p:spPr>
            <a:xfrm>
              <a:off x="1938240" y="5792760"/>
              <a:ext cx="11160" cy="60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2"/>
            <p:cNvSpPr/>
            <p:nvPr/>
          </p:nvSpPr>
          <p:spPr>
            <a:xfrm>
              <a:off x="1938240" y="5877000"/>
              <a:ext cx="11160" cy="60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" h="38">
                  <a:moveTo>
                    <a:pt x="7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113"/>
          <p:cNvSpPr/>
          <p:nvPr/>
        </p:nvSpPr>
        <p:spPr>
          <a:xfrm>
            <a:off x="941400" y="5191200"/>
            <a:ext cx="9968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4"/>
          <p:cNvSpPr/>
          <p:nvPr/>
        </p:nvSpPr>
        <p:spPr>
          <a:xfrm>
            <a:off x="3440160" y="5251320"/>
            <a:ext cx="1660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5"/>
          <p:cNvSpPr/>
          <p:nvPr/>
        </p:nvSpPr>
        <p:spPr>
          <a:xfrm>
            <a:off x="3405240" y="5985000"/>
            <a:ext cx="155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6"/>
          <p:cNvSpPr/>
          <p:nvPr/>
        </p:nvSpPr>
        <p:spPr>
          <a:xfrm>
            <a:off x="3473640" y="6021360"/>
            <a:ext cx="250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ICLO DE VIDA DE LA COMP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7"/>
          <p:cNvSpPr/>
          <p:nvPr/>
        </p:nvSpPr>
        <p:spPr>
          <a:xfrm>
            <a:off x="6051600" y="2220840"/>
            <a:ext cx="998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8"/>
          <p:cNvSpPr/>
          <p:nvPr/>
        </p:nvSpPr>
        <p:spPr>
          <a:xfrm>
            <a:off x="6126120" y="227016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9"/>
          <p:cNvSpPr/>
          <p:nvPr/>
        </p:nvSpPr>
        <p:spPr>
          <a:xfrm>
            <a:off x="941400" y="1487520"/>
            <a:ext cx="6602400" cy="4486320"/>
          </a:xfrm>
          <a:custGeom>
            <a:avLst/>
            <a:gdLst>
              <a:gd name="textAreaLeft" fmla="*/ 0 w 6602400"/>
              <a:gd name="textAreaRight" fmla="*/ 6602760 w 6602400"/>
              <a:gd name="textAreaTop" fmla="*/ 0 h 4486320"/>
              <a:gd name="textAreaBottom" fmla="*/ 4486680 h 4486320"/>
            </a:gdLst>
            <a:ahLst/>
            <a:rect l="textAreaLeft" t="textAreaTop" r="textAreaRight" b="textAreaBottom"/>
            <a:pathLst>
              <a:path w="576" h="373">
                <a:moveTo>
                  <a:pt x="0" y="369"/>
                </a:moveTo>
                <a:cubicBezTo>
                  <a:pt x="22" y="361"/>
                  <a:pt x="78" y="373"/>
                  <a:pt x="131" y="320"/>
                </a:cubicBezTo>
                <a:cubicBezTo>
                  <a:pt x="185" y="267"/>
                  <a:pt x="248" y="105"/>
                  <a:pt x="322" y="53"/>
                </a:cubicBezTo>
                <a:cubicBezTo>
                  <a:pt x="396" y="0"/>
                  <a:pt x="523" y="14"/>
                  <a:pt x="576" y="4"/>
                </a:cubicBezTo>
              </a:path>
            </a:pathLst>
          </a:custGeom>
          <a:noFill/>
          <a:ln w="46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0"/>
          <p:cNvSpPr/>
          <p:nvPr/>
        </p:nvSpPr>
        <p:spPr>
          <a:xfrm rot="18060000">
            <a:off x="2788560" y="4376160"/>
            <a:ext cx="65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3300"/>
                </a:solidFill>
                <a:latin typeface="Arial"/>
              </a:rPr>
              <a:t>Curv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1"/>
          <p:cNvSpPr/>
          <p:nvPr/>
        </p:nvSpPr>
        <p:spPr>
          <a:xfrm rot="18060000">
            <a:off x="3010680" y="375120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AR" sz="1200" spc="-1" strike="noStrike">
                <a:solidFill>
                  <a:srgbClr val="ff3300"/>
                </a:solidFill>
                <a:latin typeface="Arial"/>
              </a:rPr>
              <a:t>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2"/>
          <p:cNvSpPr/>
          <p:nvPr/>
        </p:nvSpPr>
        <p:spPr>
          <a:xfrm>
            <a:off x="2008080" y="3164040"/>
            <a:ext cx="16052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3"/>
          <p:cNvSpPr/>
          <p:nvPr/>
        </p:nvSpPr>
        <p:spPr>
          <a:xfrm>
            <a:off x="1123920" y="4049640"/>
            <a:ext cx="97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sem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4"/>
          <p:cNvSpPr/>
          <p:nvPr/>
        </p:nvSpPr>
        <p:spPr>
          <a:xfrm>
            <a:off x="2217240" y="319248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5"/>
          <p:cNvSpPr/>
          <p:nvPr/>
        </p:nvSpPr>
        <p:spPr>
          <a:xfrm>
            <a:off x="3932280" y="2305080"/>
            <a:ext cx="18334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6"/>
          <p:cNvSpPr/>
          <p:nvPr/>
        </p:nvSpPr>
        <p:spPr>
          <a:xfrm>
            <a:off x="4002120" y="23414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7"/>
          <p:cNvSpPr/>
          <p:nvPr/>
        </p:nvSpPr>
        <p:spPr>
          <a:xfrm>
            <a:off x="3976560" y="2341440"/>
            <a:ext cx="189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Etapa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8"/>
          <p:cNvSpPr/>
          <p:nvPr/>
        </p:nvSpPr>
        <p:spPr>
          <a:xfrm>
            <a:off x="4007160" y="2630520"/>
            <a:ext cx="129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Expa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9"/>
          <p:cNvSpPr/>
          <p:nvPr/>
        </p:nvSpPr>
        <p:spPr>
          <a:xfrm>
            <a:off x="3382920" y="1523880"/>
            <a:ext cx="2589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0"/>
          <p:cNvSpPr/>
          <p:nvPr/>
        </p:nvSpPr>
        <p:spPr>
          <a:xfrm>
            <a:off x="3457080" y="1558800"/>
            <a:ext cx="178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Arial"/>
              </a:rPr>
              <a:t>VENTURE CAPI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1"/>
          <p:cNvSpPr/>
          <p:nvPr/>
        </p:nvSpPr>
        <p:spPr>
          <a:xfrm>
            <a:off x="1017720" y="5068800"/>
            <a:ext cx="8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Concepto del Nego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esarrollo del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2"/>
          <p:cNvSpPr/>
          <p:nvPr/>
        </p:nvSpPr>
        <p:spPr>
          <a:xfrm>
            <a:off x="2008080" y="5068800"/>
            <a:ext cx="1295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Investigación de Mer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Compra de Equi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Campaña de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3"/>
          <p:cNvSpPr/>
          <p:nvPr/>
        </p:nvSpPr>
        <p:spPr>
          <a:xfrm>
            <a:off x="3456000" y="5297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Compra de Equipos Adi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Comienzo de producción en m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4"/>
          <p:cNvSpPr/>
          <p:nvPr/>
        </p:nvSpPr>
        <p:spPr>
          <a:xfrm>
            <a:off x="4141800" y="4459320"/>
            <a:ext cx="1447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esarrollo de Líneas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Expansión de equipos de ingeniería, ventas y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5"/>
          <p:cNvSpPr/>
          <p:nvPr/>
        </p:nvSpPr>
        <p:spPr>
          <a:xfrm>
            <a:off x="4827600" y="3925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Expansión de Pla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136"/>
          <p:cNvCxnSpPr/>
          <p:nvPr/>
        </p:nvCxnSpPr>
        <p:spPr>
          <a:xfrm>
            <a:off x="2367360" y="2400480"/>
            <a:ext cx="320040" cy="481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793880" y="966960"/>
            <a:ext cx="715644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b050"/>
                </a:solidFill>
                <a:latin typeface="Calibri"/>
              </a:rPr>
              <a:t>Para crecer más ráp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Para cubrir el “bache”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Calibri"/>
              </a:rPr>
              <a:t>Atender el riesgo de quedar “out of ca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Calibri"/>
              </a:rPr>
              <a:t>Tener mayor margen d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Calibri"/>
              </a:rPr>
              <a:t>Cobrar un sue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33"/>
                </a:solidFill>
                <a:latin typeface="Calibri"/>
              </a:rPr>
              <a:t>Ayuda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Obliga a ordenar y discipli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492200" y="0"/>
            <a:ext cx="7294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¿Por qué recurrir a capital de terce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1793880" y="966960"/>
            <a:ext cx="715644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Son </a:t>
            </a:r>
            <a:r>
              <a:rPr b="1" lang="es-ES" sz="4400" spc="-1" strike="noStrike" u="sng">
                <a:solidFill>
                  <a:srgbClr val="0000ff"/>
                </a:solidFill>
                <a:uFillTx/>
                <a:latin typeface="Calibri"/>
              </a:rPr>
              <a:t>personas</a:t>
            </a: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 con un buen patrimonio, que invierten su </a:t>
            </a:r>
            <a:r>
              <a:rPr b="1" lang="es-ES" sz="4400" spc="-1" strike="noStrike" u="sng">
                <a:solidFill>
                  <a:srgbClr val="0000ff"/>
                </a:solidFill>
                <a:uFillTx/>
                <a:latin typeface="Calibri"/>
              </a:rPr>
              <a:t>propio dinero</a:t>
            </a: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, en nuevas compañías a cambio de </a:t>
            </a:r>
            <a:r>
              <a:rPr b="1" lang="es-ES" sz="4400" spc="-1" strike="noStrike" u="sng">
                <a:solidFill>
                  <a:srgbClr val="0000ff"/>
                </a:solidFill>
                <a:uFillTx/>
                <a:latin typeface="Calibri"/>
              </a:rPr>
              <a:t>acciones</a:t>
            </a: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 de las mism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492200" y="0"/>
            <a:ext cx="7294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793880" y="995400"/>
            <a:ext cx="715644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25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Habiendo sido Emprendedores, desean participar de nuevos proyectos, sin estar involucrados en la operación di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Realizar inversiones con buenas tasas de re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Responsabilidad social. Ayudar a otros a progr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492200" y="0"/>
            <a:ext cx="7294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qué invier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ve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901880" y="1246320"/>
            <a:ext cx="70628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El emprendedor ideal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(para los invers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Mucha intel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Alta integ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Domini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Propietario de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Manejo de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Altísimo potencial de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Negocio con gran flujo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Estrategia de salid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ve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27080" y="1380960"/>
            <a:ext cx="70009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El inversor ideal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(para los emprende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Experiencia com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Experiencia en el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Agenda de cont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Tolerante a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Dinero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Puede participar en otras ro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Participa a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edes de 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27080" y="1380960"/>
            <a:ext cx="70009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Son asociaciones formales o informales de Inversores Ángeles que se reúne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Recibir Proyectos y Planes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nalizar y evaluar las propuestas recib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cidir la oportunidad d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egociar con los Empr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mpartir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edes de 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386000" y="1380960"/>
            <a:ext cx="7542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(millones de habi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USA:        260 Redes (2006)                 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spaña:     21 Redes (2006)                   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rgentina:   3 Redes (2009)                   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edes de 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731960" y="1380960"/>
            <a:ext cx="705168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Early Stage Venture Fund (California – 2006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1200 Planes de Negocios reci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110 Reuniones con los 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7 Inversiones realizadas (0,5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edes de 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635120" y="2058840"/>
            <a:ext cx="70516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Red de Business Angels BAN (Madri+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2006 –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30 Planes de Negocios a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6 Inversiones re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157176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967040" y="1149480"/>
            <a:ext cx="706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0000ff"/>
                </a:solidFill>
                <a:latin typeface="Arial"/>
              </a:rPr>
              <a:t>Empren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990033"/>
                </a:solidFill>
                <a:latin typeface="Arial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00b050"/>
                </a:solidFill>
                <a:latin typeface="Arial"/>
              </a:rPr>
              <a:t>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d60093"/>
                </a:solidFill>
                <a:latin typeface="Arial"/>
              </a:rPr>
              <a:t>Relación Emprendedor / Inver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edes de Inversores Áng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635120" y="2058840"/>
            <a:ext cx="70516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n USA el promedio de inversión por proyecto es u$s 24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60093"/>
                </a:solidFill>
                <a:latin typeface="Arial"/>
              </a:rPr>
              <a:t>En España mas del 54 % es inferior a los 250.000 E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Plazo de Inversión:   3 a 7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150012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mprendedores vs Inve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285920" y="603360"/>
            <a:ext cx="78580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2079720" y="925560"/>
            <a:ext cx="63579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4400" spc="-1" strike="noStrike">
                <a:solidFill>
                  <a:srgbClr val="0000ff"/>
                </a:solidFill>
                <a:latin typeface="Calibri"/>
              </a:rPr>
              <a:t>Monto a inver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4400" spc="-1" strike="noStrike">
                <a:solidFill>
                  <a:srgbClr val="ff0000"/>
                </a:solidFill>
                <a:latin typeface="Calibri"/>
              </a:rPr>
              <a:t>Participación accio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Etapas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4400" spc="-1" strike="noStrike">
                <a:solidFill>
                  <a:srgbClr val="00b050"/>
                </a:solidFill>
                <a:latin typeface="Calibri"/>
              </a:rPr>
              <a:t>Metas a ser cumpli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4400" spc="-1" strike="noStrike">
                <a:solidFill>
                  <a:srgbClr val="990033"/>
                </a:solidFill>
                <a:latin typeface="Calibri"/>
              </a:rPr>
              <a:t>Estrategia de sal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1424160" y="-142920"/>
            <a:ext cx="7505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Negoci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1523880" y="1922400"/>
            <a:ext cx="73296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50000"/>
              </a:lnSpc>
              <a:spcBef>
                <a:spcPts val="9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s-MX" sz="3600" spc="-1" strike="noStrike">
                <a:solidFill>
                  <a:srgbClr val="d60093"/>
                </a:solidFill>
                <a:latin typeface="Calibri"/>
              </a:rPr>
              <a:t>Acuerdo de suscripción de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Acuerdo de Accion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1424160" y="-142920"/>
            <a:ext cx="7505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Negoci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ontent Placeholder 2"/>
          <p:cNvSpPr/>
          <p:nvPr/>
        </p:nvSpPr>
        <p:spPr>
          <a:xfrm>
            <a:off x="1357200" y="1643040"/>
            <a:ext cx="7691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 u="sng">
                <a:solidFill>
                  <a:srgbClr val="ff0000"/>
                </a:solidFill>
                <a:uFillTx/>
                <a:latin typeface="Calibri"/>
              </a:rPr>
              <a:t>Muchas  Graci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1928880" y="4000680"/>
            <a:ext cx="66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raier@iecyt.org.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cc33"/>
                </a:solidFill>
                <a:latin typeface="Calibri"/>
              </a:rPr>
              <a:t>www.iecyt.org.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/>
          <p:cNvSpPr/>
          <p:nvPr/>
        </p:nvSpPr>
        <p:spPr>
          <a:xfrm>
            <a:off x="1928880" y="1023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95540[1]"/>
          <p:cNvPicPr/>
          <p:nvPr/>
        </p:nvPicPr>
        <p:blipFill>
          <a:blip r:embed="rId1"/>
          <a:stretch/>
        </p:blipFill>
        <p:spPr>
          <a:xfrm>
            <a:off x="2286000" y="723960"/>
            <a:ext cx="5643720" cy="5991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1571760" y="-71280"/>
            <a:ext cx="7138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</a:rPr>
              <a:t>Oportun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1928880" y="1023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71760" y="-71280"/>
            <a:ext cx="7138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</a:rPr>
              <a:t>Oportun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43000" y="1143000"/>
            <a:ext cx="788508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99"/>
                </a:solidFill>
                <a:latin typeface="Calibri"/>
              </a:rPr>
              <a:t>   </a:t>
            </a:r>
            <a:r>
              <a:rPr b="1" lang="es-ES_tradnl" sz="3200" spc="-1" strike="noStrike">
                <a:solidFill>
                  <a:srgbClr val="009999"/>
                </a:solidFill>
                <a:latin typeface="Calibri"/>
              </a:rPr>
              <a:t>Una OPORTUNIDAD  de Negocios es una situación particularmente favorable, que permite en un plazo relativamente corto lograr una operación comercial muy exit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57176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mprend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285920" y="642960"/>
            <a:ext cx="7858080" cy="6215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s aquel que detecta una oportunidad y la transforma en un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157176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m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63680" y="981000"/>
            <a:ext cx="75661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157176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m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285920" y="898560"/>
            <a:ext cx="86202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571760" y="712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928880" y="1023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500120" y="1214280"/>
            <a:ext cx="7408800" cy="471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Generación de la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Prueba de concepto / fac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Prueba de producto/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Verificación de factibilidad económico-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Prueba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0000"/>
                </a:solidFill>
                <a:uFillTx/>
                <a:latin typeface="Calibri"/>
              </a:rPr>
              <a:t>Financi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Lan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Administ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571760" y="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928880" y="1023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714760" y="928800"/>
            <a:ext cx="50720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cc00"/>
                </a:solidFill>
                <a:latin typeface="Calibri"/>
              </a:rPr>
              <a:t>Emprende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98989"/>
                </a:solidFill>
                <a:latin typeface="Calibri"/>
              </a:rPr>
              <a:t>Familiares y ami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99"/>
                </a:solidFill>
                <a:latin typeface="Calibri"/>
              </a:rPr>
              <a:t>Subsi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Présta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ff"/>
                </a:solidFill>
                <a:uFillTx/>
                <a:latin typeface="Calibri"/>
              </a:rPr>
              <a:t>Inversores Á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0504d"/>
                </a:solidFill>
                <a:latin typeface="Calibri"/>
              </a:rPr>
              <a:t>Fondos de Inve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99"/>
                </a:solidFill>
                <a:latin typeface="Calibri"/>
              </a:rPr>
              <a:t>Estrategias de sal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14:23:44Z</dcterms:created>
  <dc:creator>Enrique</dc:creator>
  <dc:description/>
  <dc:language>en-US</dc:language>
  <cp:lastModifiedBy>C.P.C.E.C.A.B.A</cp:lastModifiedBy>
  <dcterms:modified xsi:type="dcterms:W3CDTF">2009-09-24T17:34:08Z</dcterms:modified>
  <cp:revision>96</cp:revision>
  <dc:subject/>
  <dc:title>Slide 1</dc:title>
</cp:coreProperties>
</file>