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97795F-6702-4E09-82E5-4CF4DE6C81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Bueno hasta ahora hemos relevado y estudiado las reglas de JUEGO, QUE les parece empezar a jugar el parti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biendo escuchado las clases de contexto y cultura entrepreneur, gestión de valor perdurable y gestión de cambio, podríamos ver que la mayor generación de valor esta dada por la creación de empresas sustentables y dinámicas, que a la vez estas se caracterizan por perdurar en el tiempo, de ser empresas rí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tendido esto, estimamos que ahora pueden comprender mejor porque nuestro proceso de formación apunta a entrenarlos para que ustedes estén a la altura de las circunstancia, para enfrentar el contexto adverso y puedan emprender empresas dinámicas y sustentables. Estos análisis previos a emprender permiten tomar conciencia un poco mas sobre el bosque donde se desenvuelve un Start-Up, para asi diseñar, conceptualizar y entrenarse antes de implementar y comenzar la erogación de energía fuerte que demanda el proceso emprende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. Acerca de este tipo especial de emprendimientos. Dinámicas-Sustentables y perdu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námica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: Son emprendimientos que se montan en un vehículo que les permite focalizar energías del grupo fundador y de los nuevos integrantes en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nción del objeto del negocio. El vehículo le da contención a las generaciones de valor sucesiv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ustentables y Perdurable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: tanto el equipo de trabajo como el modelo de negocio se transforman en un motor de generación de valor que capitaliza la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ortunidad. Engranajes y combustible que mueven un vehículo que armoniza con el contexto cada vez mas. Estos emprendimientos tienen un proceso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volutivo patrón que los caracteriz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ra desarrollar estos engranajes, hay que empezar por desarrollar primero el capital humano y social. Por ello el programa contempla el capitulo humano que apunta a facilitar este desarrollo personal y grupal. Pasemos entonces a ver ahora cuales son los procesos evolutivos estandares de estos emprendi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NCEPTO CLAVE para la GENERACION DE VAL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mentar un nuevo enfoque en la formación del nuevo emprendedor, a la hora de hacer negocios. Este cambio de enfoque consiste básicamente en pasar de una mentalidad d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Business Owner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dueño o propietario del negocio) a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Business Builder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onstructor de negocio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 tal fín, se hace un fuerte incapié en el potencial emprendedor acerca de la importancia de sostener la CONFIANZA en sí mismo y en sus socios como base de la construcción del nego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ra ello se focaliza fuertemente en el desarrollo de capacidades personales para un eficiente trabajo en equipo y en el conocimiento de técnicas legales y financieras para celebrar Alianzas Estraté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33"/>
                </a:solidFill>
                <a:latin typeface="Arial"/>
              </a:rPr>
              <a:t>Entrepreneurship es el arte de emprender y generar riqueza mas allá de la certidumbre y de los recursos necesarios para tal f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33"/>
                </a:solidFill>
                <a:latin typeface="Arial"/>
              </a:rPr>
              <a:t>Son personas capaces de crear nuevas empresas e innovar con nuevos productos o servicios que generan valor económ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33"/>
                </a:solidFill>
                <a:latin typeface="Arial"/>
              </a:rPr>
              <a:t>Los entrepreneurs Asumen riesgos en pos de capitalizar una  oportunidad y alcanzar una visión de alto impa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33"/>
                </a:solidFill>
                <a:latin typeface="Arial"/>
              </a:rPr>
              <a:t>En los últimos 40 años la mitad de la innovación fue desarrollada por entrepreneurs, y el 95% de la innovación radical fue responsabilidad de estos entreprene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33"/>
                </a:solidFill>
                <a:latin typeface="Arial"/>
              </a:rPr>
              <a:t>A fines del 70 muy pocas escuelas o universidades incluían el tema entrepreneurship en sus programas. Hoy hay más de 90 centros de entrepreneurship basados en las universidades que ofrecen programas de formación o especialización en entreprenership, y más de 1000 colegios, universidades y otras instituciones académicas donde se fomenta y se capacita para la actividad emprended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1466E1-7A7F-4039-B014-352BDFA320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13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ff9933"/>
                </a:solidFill>
                <a:latin typeface="Arial"/>
              </a:rPr>
              <a:t>Entrepreneurship es el arte de emprender y generar riqueza mas allá de la certidumbre y de los recursos necesarios para tal fin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9933"/>
                </a:solidFill>
                <a:latin typeface="Arial"/>
              </a:rPr>
              <a:t>Son personas capaces de crear nuevas empresas e innovar con nuevos productos o servicios que generan valor económic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9933"/>
                </a:solidFill>
                <a:latin typeface="Arial"/>
              </a:rPr>
              <a:t>Los entrepreneurs Asumen riesgos en pos de capitalizar una  oportunidad y alcanzar una visión de alto impac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9933"/>
                </a:solidFill>
                <a:latin typeface="Arial"/>
              </a:rPr>
              <a:t>En los últimos 40 años la mitad de la innovación fue desarrollada por entrepreneurs, y el 95% de la innovación radical fue responsabilidad de estos entrepreneur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9933"/>
                </a:solidFill>
                <a:latin typeface="Arial"/>
              </a:rPr>
              <a:t>A fines del 70 muy pocas escuelas o universidades incluían el tema entrepreneurship en sus programas. Hoy hay más de 90 centros de entrepreneurship basados en las universidades que ofrecen programas de formación o especialización en entreprenership, y más de 1000 colegios, universidades y otras instituciones académicas donde se fomenta y se capacita para la actividad emprendedor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48D66B-40B4-4FF6-88F5-7FAD80737B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9933"/>
                </a:solidFill>
                <a:latin typeface="Arial"/>
              </a:rPr>
              <a:t>Entrepreneurship es el arte de emprender y generar riqueza mas allá de la certidumbre y de los recursos iniciales necesarios para tal fi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Arial"/>
              </a:rPr>
              <a:t>Son personas capaces de crear nuevas empresas e innovar con nuevos productos o servicios que generan valor econó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Arial"/>
              </a:rPr>
              <a:t>Los entrepreneurs asumen riesgos en pos de capitalizar una  oportunidad y alcanzar una visión de alto impa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9933"/>
                </a:solidFill>
                <a:latin typeface="Arial"/>
              </a:rPr>
              <a:t>En los últimos 40 años la mitad de la innovación fue desarrollada por entrepreneurs, y el 95% de la innovación radical fue responsabilidad de estos entrepreneur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9933"/>
                </a:solidFill>
                <a:latin typeface="Arial"/>
              </a:rPr>
              <a:t>A fines del 70 muy pocas escuelas o universidades incluían el tema entrepreneurship en sus programas. Hoy hay más de 90 centros de entrepreneurship basados en las universidades que ofrecen programas de formación o especialización en entreprenership, y más de 1000 colegios, universidades y otras instituciones académicas donde se fomenta y se capacita para la actividad emprendedor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Arial"/>
              </a:rPr>
              <a:t>Entrepreneurship es el arte de emprender y generar riqueza mas allá de la certidumbre y de los recursos iniciales necesarios para tal f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9933"/>
                </a:solidFill>
                <a:latin typeface="Arial"/>
              </a:rPr>
              <a:t>Son personas capaces de crear nuevas empresas e innovar con nuevos productos o servicios que generan valor económic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9933"/>
                </a:solidFill>
                <a:latin typeface="Arial"/>
              </a:rPr>
              <a:t>Los entrepreneurs asumen riesgos en pos de capitalizar una  oportunidad y alcanzar una visión de alto impac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33"/>
                </a:solidFill>
                <a:latin typeface="Arial"/>
              </a:rPr>
              <a:t>En los últimos 40 años la mitad de la innovación fue desarrollada por entrepreneurs, y el 95% de la innovación radical fue responsabilidad de estos entrepreneu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33"/>
                </a:solidFill>
                <a:latin typeface="Arial"/>
              </a:rPr>
              <a:t>A fines del 70 muy pocas escuelas o universidades incluían el tema entrepreneurship en sus programas. Hoy hay más de 90 centros de entrepreneurship basados en las universidades que ofrecen programas de formación o especialización en entreprenership, y más de 1000 colegios, universidades y otras instituciones académicas donde se fomenta y se capacita para la actividad emprendedo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081861-1BC9-4884-9F02-7DA79AAFC8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9933"/>
                </a:solidFill>
                <a:latin typeface="Arial"/>
              </a:rPr>
              <a:t>Entrepreneurship es el arte de emprender y generar riqueza mas allá de la certidumbre y de los recursos iniciales necesarios para tal fi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Arial"/>
              </a:rPr>
              <a:t>Son personas capaces de crear nuevas empresas e innovar con nuevos productos o servicios que generan valor econó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Arial"/>
              </a:rPr>
              <a:t>Los entrepreneurs asumen riesgos en pos de capitalizar una  oportunidad y alcanzar una visión de alto impa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9933"/>
                </a:solidFill>
                <a:latin typeface="Arial"/>
              </a:rPr>
              <a:t>En los últimos 40 años la mitad de la innovación fue desarrollada por entrepreneurs, y el 95% de la innovación radical fue responsabilidad de estos entrepreneur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9933"/>
                </a:solidFill>
                <a:latin typeface="Arial"/>
              </a:rPr>
              <a:t>A fines del 70 muy pocas escuelas o universidades incluían el tema entrepreneurship en sus programas. Hoy hay más de 90 centros de entrepreneurship basados en las universidades que ofrecen programas de formación o especialización en entreprenership, y más de 1000 colegios, universidades y otras instituciones académicas donde se fomenta y se capacita para la actividad emprendedor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2AEB59-0CB5-4127-B0BB-672AE4F236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4832640" y="-3690000"/>
            <a:ext cx="620640" cy="800100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640"/>
            <a:ext cx="1143000" cy="62373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551080" y="66103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9093-8D50-40C3-BFEB-3A5CE8684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90440" y="6622920"/>
            <a:ext cx="7802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2009 Copyright - Documento realizado en base al libro: “El Emprendedor Profesional” autor Daniel Miguez con la colaboración de Luis N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_nuevo_EMPREAR_creando_futuro_v2" descr=""/>
          <p:cNvPicPr/>
          <p:nvPr/>
        </p:nvPicPr>
        <p:blipFill>
          <a:blip r:embed="rId2"/>
          <a:stretch/>
        </p:blipFill>
        <p:spPr>
          <a:xfrm>
            <a:off x="203040" y="25560"/>
            <a:ext cx="60984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_nuevo_EMPREAR_creando_futuro_v2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438280" cy="223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3838680"/>
            <a:ext cx="71629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Nueva Visión Emprendedor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Daniel E.Migu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fundador y Presidente EMP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ndedores Argentinos Asociación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uenos Aires, Argentina, 9 de septiembre d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ogo%20El%20consejo%20de%20C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62064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aracterísticas básicas de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mprendimientos diná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1916280"/>
            <a:ext cx="75614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e1e78"/>
                </a:solidFill>
                <a:latin typeface="Arial"/>
              </a:rPr>
              <a:t>Son Dinámicos</a:t>
            </a:r>
            <a:r>
              <a:rPr b="0" i="1" lang="es-ES_tradnl" sz="2000" spc="-1" strike="noStrike">
                <a:solidFill>
                  <a:srgbClr val="1e1e78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1e1e7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e1e78"/>
                </a:solidFill>
                <a:latin typeface="Arial"/>
              </a:rPr>
              <a:t>Crean un vehículo (legal) que les permite focalizar energías del grupo fundador y de los nuevos integrantes en función del objeto del negocio. El vehículo le da contención a las generaciones de valor agregado suces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36840" y="3809880"/>
            <a:ext cx="742788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e1e78"/>
                </a:solidFill>
                <a:latin typeface="Arial"/>
              </a:rPr>
              <a:t>Son Sustentables y Perdurables</a:t>
            </a:r>
            <a:r>
              <a:rPr b="0" lang="es-ES_tradnl" sz="2400" spc="-1" strike="noStrike">
                <a:solidFill>
                  <a:srgbClr val="1e1e7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e1e78"/>
                </a:solidFill>
                <a:latin typeface="Arial"/>
              </a:rPr>
              <a:t>Tanto el equipo fundador, el equipo de trabajo, los recursos y el modelo de negocio se transforman en un motor de generación de valor que capitalizan una oportunidad progresivamente en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572760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e1e78"/>
                </a:solidFill>
                <a:latin typeface="Arial"/>
              </a:rPr>
              <a:t>Actúan como engranajes que mueven un vehículo que se integra sistémicamente con el contexto con cada vez mayor velocidad. Estos emprendimientos tienen un proceso evolutivo patrón que los caracteriz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2880" y="4428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342440" y="4632480"/>
            <a:ext cx="7512840" cy="1241280"/>
            <a:chOff x="1342440" y="4632480"/>
            <a:chExt cx="7512840" cy="1241280"/>
          </a:xfrm>
        </p:grpSpPr>
        <p:sp>
          <p:nvSpPr>
            <p:cNvPr id="183" name=""/>
            <p:cNvSpPr/>
            <p:nvPr/>
          </p:nvSpPr>
          <p:spPr>
            <a:xfrm>
              <a:off x="2050920" y="4632480"/>
              <a:ext cx="5473800" cy="647640"/>
            </a:xfrm>
            <a:prstGeom prst="downArrowCallout">
              <a:avLst>
                <a:gd name="adj1" fmla="val 211317"/>
                <a:gd name="adj2" fmla="val 211298"/>
                <a:gd name="adj3" fmla="val 16667"/>
                <a:gd name="adj4" fmla="val 6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42440" y="5353200"/>
              <a:ext cx="751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ASE de la FORMACIÓN EMPRENDED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903320" y="2616120"/>
            <a:ext cx="66294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ueño o Propietario del negocio -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Business Owner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una de Constructor de negoci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7f7ff"/>
                </a:solidFill>
                <a:latin typeface="Arial"/>
                <a:ea typeface="Times New Roman"/>
              </a:rPr>
              <a:t>“Business Builder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393920"/>
            <a:ext cx="82296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 CREACION de EMPRESAS DINAM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asar de una mentalidad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49400" y="-2700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35040" y="2274840"/>
            <a:ext cx="7608960" cy="3386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82760" y="62064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0000"/>
                </a:solidFill>
                <a:latin typeface="Arial"/>
              </a:rPr>
              <a:t>Ejemplos de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Emprendedores </a:t>
            </a:r>
            <a:r>
              <a:rPr b="1" i="1" lang="es-AR" sz="2400" spc="-1" strike="noStrike">
                <a:solidFill>
                  <a:srgbClr val="ff0000"/>
                </a:solidFill>
                <a:latin typeface="Arial"/>
              </a:rPr>
              <a:t>Profes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0000"/>
                </a:solidFill>
                <a:latin typeface="Arial"/>
              </a:rPr>
              <a:t>Mundialmente recono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38320" y="2133720"/>
            <a:ext cx="316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46680" y="2133720"/>
            <a:ext cx="316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mprend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2880" y="4428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56720" y="3716280"/>
            <a:ext cx="287280" cy="2174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8526" h="21600">
                <a:moveTo>
                  <a:pt x="0" y="0"/>
                </a:moveTo>
                <a:lnTo>
                  <a:pt x="28526" y="0"/>
                </a:lnTo>
                <a:lnTo>
                  <a:pt x="28526" y="21600"/>
                </a:lnTo>
                <a:lnTo>
                  <a:pt x="0" y="21600"/>
                </a:lnTo>
                <a:close/>
              </a:path>
              <a:path fill="lightenLess" w="28526" h="21600">
                <a:moveTo>
                  <a:pt x="0" y="0"/>
                </a:moveTo>
                <a:lnTo>
                  <a:pt x="28526" y="0"/>
                </a:lnTo>
                <a:lnTo>
                  <a:pt x="27126" y="1400"/>
                </a:lnTo>
                <a:lnTo>
                  <a:pt x="1400" y="1400"/>
                </a:lnTo>
                <a:close/>
              </a:path>
              <a:path fill="darken" w="28526" h="21600">
                <a:moveTo>
                  <a:pt x="28526" y="0"/>
                </a:moveTo>
                <a:lnTo>
                  <a:pt x="28526" y="21600"/>
                </a:lnTo>
                <a:lnTo>
                  <a:pt x="27126" y="20200"/>
                </a:lnTo>
                <a:lnTo>
                  <a:pt x="27126" y="1400"/>
                </a:lnTo>
                <a:close/>
              </a:path>
              <a:path fill="darkenLess" w="28526" h="21600">
                <a:moveTo>
                  <a:pt x="2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26" y="20200"/>
                </a:lnTo>
                <a:close/>
              </a:path>
              <a:path fill="lighten" w="2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26" h="21600">
                <a:moveTo>
                  <a:pt x="7257" y="3794"/>
                </a:moveTo>
                <a:lnTo>
                  <a:pt x="21270" y="10800"/>
                </a:lnTo>
                <a:lnTo>
                  <a:pt x="725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6"/>
          <p:cNvSpPr/>
          <p:nvPr/>
        </p:nvSpPr>
        <p:spPr>
          <a:xfrm>
            <a:off x="1600200" y="6858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0000"/>
                </a:solidFill>
                <a:latin typeface="Arial"/>
              </a:rPr>
              <a:t>Ejemplos de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Emprendedores </a:t>
            </a:r>
            <a:r>
              <a:rPr b="1" i="1" lang="es-AR" sz="2400" spc="-1" strike="noStrike">
                <a:solidFill>
                  <a:srgbClr val="ff0000"/>
                </a:solidFill>
                <a:latin typeface="Arial"/>
              </a:rPr>
              <a:t>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ff0000"/>
                </a:solidFill>
                <a:latin typeface="Arial"/>
              </a:rPr>
              <a:t>Argent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28640" y="2000160"/>
          <a:ext cx="7286760" cy="318132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rende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adolibre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os Galperí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y Freire / Santiago Bilink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agon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nceslao Cas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ón Cosas Nues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bo Naz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meran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iago Pi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remate.com / Dineromail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ec Oxen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97" name="5 CuadroTexto"/>
          <p:cNvSpPr/>
          <p:nvPr/>
        </p:nvSpPr>
        <p:spPr>
          <a:xfrm>
            <a:off x="1305000" y="564372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ón: http://spanish.bilinkis.com – Aprendiendo a V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05080" y="2492280"/>
            <a:ext cx="74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e1e78"/>
                </a:solidFill>
                <a:latin typeface="Arial"/>
              </a:rPr>
              <a:t>El emprendedor dinámico es un líder que no sólo participa activamente en la invención de sí mismo, sino que al hacerlo transforma el espacio social de su comunidad y genera a la vez que otros acceden a nuevas formas de 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7650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Generación de 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Emprendedora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Dinamismo – Sustentabilidad - Perdu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000" y="98280"/>
            <a:ext cx="879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L EQUIPO EMPRENDEDOR Y EL MANAGEMENT  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00200" y="1514520"/>
            <a:ext cx="70866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s allá de una base “genética”, el EMPRENDEDOR PROFESIONAL no nace, se h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pacidades emprendedoras profesionales no son necesariamente innatas sino que pueden ser adquiridas, por lo tanto pueden desarrollarse y mejorarse mediante un proceso de aprendiz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90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l Emprendedor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0" y="690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l Emprendedor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357200" y="1743120"/>
            <a:ext cx="7056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utre sus actitudes y aptitudes al avanzar en el proceso cre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ubre cuales debe desarrollar para ser más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umula habilidades, conocimientos, experiencia y relaciones con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puesta de Valor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gramas de Formación Profesional para Emprendedor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Programas de Incubación de Empresas Innovadoras en 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MPREAR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fo@emprear.org.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03280" y="44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7f7ff"/>
                </a:solidFill>
                <a:latin typeface="Arial"/>
              </a:rPr>
              <a:t>VISIÓN DEL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126828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e1e78"/>
                </a:solidFill>
                <a:latin typeface="Arial"/>
              </a:rPr>
              <a:t>Facilitar una nueva generación de profesionales</a:t>
            </a:r>
            <a:r>
              <a:rPr b="0" i="1" lang="es-ES" sz="2800" spc="-1" strike="noStrike">
                <a:solidFill>
                  <a:srgbClr val="1e1e78"/>
                </a:solidFill>
                <a:latin typeface="Arial"/>
              </a:rPr>
              <a:t> con actitud y aptitud para llevar adelante emprendimientos o unidades de negocios de alto potencial, dinámicos, perdurables y sustenta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407664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1e1e78"/>
                </a:solidFill>
                <a:latin typeface="Arial"/>
              </a:rPr>
              <a:t>Como consecuencia … </a:t>
            </a:r>
            <a:r>
              <a:rPr b="1" i="1" lang="es-ES" sz="2800" spc="-1" strike="noStrike">
                <a:solidFill>
                  <a:srgbClr val="1e1e78"/>
                </a:solidFill>
                <a:latin typeface="Arial"/>
              </a:rPr>
              <a:t>brindar a la sociedad, profesionales con deseos y sueños de construir una Argentina de crecimiento sustentable e integrada al mundo</a:t>
            </a:r>
            <a:r>
              <a:rPr b="0" i="1" lang="es-ES" sz="2800" spc="-1" strike="noStrike">
                <a:solidFill>
                  <a:srgbClr val="1e1e7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03280" y="836640"/>
            <a:ext cx="741672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1e1e78"/>
                </a:solidFill>
                <a:latin typeface="Arial"/>
              </a:rPr>
              <a:t>Lograr</a:t>
            </a:r>
            <a:r>
              <a:rPr b="0" lang="es-ES" sz="2000" spc="-1" strike="noStrike">
                <a:solidFill>
                  <a:srgbClr val="1e1e78"/>
                </a:solidFill>
                <a:latin typeface="Arial"/>
              </a:rPr>
              <a:t> en los futuros participantes una </a:t>
            </a:r>
            <a:r>
              <a:rPr b="0" i="1" lang="es-ES" sz="2000" spc="-1" strike="noStrike" u="sng">
                <a:solidFill>
                  <a:srgbClr val="1e1e78"/>
                </a:solidFill>
                <a:uFillTx/>
                <a:latin typeface="Arial"/>
              </a:rPr>
              <a:t>visión sistémica de la empresa</a:t>
            </a:r>
            <a:r>
              <a:rPr b="0" lang="es-ES" sz="2000" spc="-1" strike="noStrike">
                <a:solidFill>
                  <a:srgbClr val="1e1e78"/>
                </a:solidFill>
                <a:latin typeface="Arial"/>
              </a:rPr>
              <a:t> del siglo XXI, del proceso de gestación de nuevas empresas, del ecosistema y del contexto actual nacional e internacional para el apoyo a la creación de empresas de alto potencial de cr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1e1e78"/>
                </a:solidFill>
                <a:latin typeface="Arial"/>
              </a:rPr>
              <a:t>Facilitar</a:t>
            </a:r>
            <a:r>
              <a:rPr b="0" lang="es-ES" sz="2000" spc="-1" strike="noStrike">
                <a:solidFill>
                  <a:srgbClr val="1e1e78"/>
                </a:solidFill>
                <a:latin typeface="Arial"/>
              </a:rPr>
              <a:t> la </a:t>
            </a:r>
            <a:r>
              <a:rPr b="0" i="1" lang="es-ES" sz="2000" spc="-1" strike="noStrike" u="sng">
                <a:solidFill>
                  <a:srgbClr val="1e1e78"/>
                </a:solidFill>
                <a:uFillTx/>
                <a:latin typeface="Arial"/>
              </a:rPr>
              <a:t>Generación de Confianza</a:t>
            </a:r>
            <a:r>
              <a:rPr b="0" lang="es-ES" sz="2000" spc="-1" strike="noStrike">
                <a:solidFill>
                  <a:srgbClr val="1e1e78"/>
                </a:solidFill>
                <a:latin typeface="Arial"/>
              </a:rPr>
              <a:t> en el propio participante para que aprenda a hacer un mejor uso de sus propios recursos personales, desarrollar competencias genéricas, diseñar e implementar equipos de trabajo dinámicos y multidisciplin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1e1e78"/>
                </a:solidFill>
                <a:latin typeface="Arial"/>
              </a:rPr>
              <a:t>Transferir</a:t>
            </a:r>
            <a:r>
              <a:rPr b="0" lang="es-ES" sz="2000" spc="-1" strike="noStrike">
                <a:solidFill>
                  <a:srgbClr val="1e1e78"/>
                </a:solidFill>
                <a:latin typeface="Arial"/>
              </a:rPr>
              <a:t> </a:t>
            </a:r>
            <a:r>
              <a:rPr b="0" i="1" lang="es-ES" sz="2000" spc="-1" strike="noStrike" u="sng">
                <a:solidFill>
                  <a:srgbClr val="1e1e78"/>
                </a:solidFill>
                <a:uFillTx/>
                <a:latin typeface="Arial"/>
              </a:rPr>
              <a:t>conocimientos y herramientas prácticas</a:t>
            </a:r>
            <a:r>
              <a:rPr b="0" lang="es-ES" sz="2000" spc="-1" strike="noStrike">
                <a:solidFill>
                  <a:srgbClr val="1e1e78"/>
                </a:solidFill>
                <a:latin typeface="Arial"/>
              </a:rPr>
              <a:t> que les permitan a los participantes introducirse en el proceso emprendedor profesional que incluye: </a:t>
            </a:r>
            <a:r>
              <a:rPr b="1" lang="es-ES" sz="2000" spc="-1" strike="noStrike">
                <a:solidFill>
                  <a:srgbClr val="1e1e78"/>
                </a:solidFill>
                <a:latin typeface="Arial"/>
              </a:rPr>
              <a:t>concebir, validar, diseñar, implementar y operar nuevas empresas dinámicas, perdurables y susten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44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7f7ff"/>
                </a:solidFill>
                <a:latin typeface="Arial"/>
              </a:rPr>
              <a:t>COMPETENCIAS A ADQUIR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38320" y="121752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9480" y="305604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2080" y="456732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67640" y="5950080"/>
            <a:ext cx="38138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1e1e78"/>
                </a:solidFill>
                <a:latin typeface="Arial"/>
              </a:rPr>
              <a:t>Madero 399, Buenos Aires,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1e1e78"/>
                </a:solidFill>
                <a:latin typeface="Arial"/>
              </a:rPr>
              <a:t>TE: (011) 6393-4889  / e-mail: info@emprear.org.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4000" y="3789360"/>
            <a:ext cx="77724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e1e78"/>
                </a:solidFill>
                <a:latin typeface="Arial"/>
              </a:rPr>
              <a:t>Prof. Ing. Daniel Migu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e1e78"/>
                </a:solidFill>
                <a:latin typeface="Arial"/>
              </a:rPr>
              <a:t>Presidente &amp; Cof</a:t>
            </a:r>
            <a:r>
              <a:rPr b="0" lang="es-ES_tradnl" sz="1400" spc="-1" strike="noStrike">
                <a:solidFill>
                  <a:srgbClr val="1e1e78"/>
                </a:solidFill>
                <a:latin typeface="Arial"/>
              </a:rPr>
              <a:t>und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e1e78"/>
                </a:solidFill>
                <a:latin typeface="Arial"/>
              </a:rPr>
              <a:t>EMPREAR – Emprendedores Argentinos Asociación Ci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e1e78"/>
                </a:solidFill>
                <a:latin typeface="Arial"/>
              </a:rPr>
              <a:t>Centro de Emprendedores del IT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e1e78"/>
                </a:solidFill>
                <a:latin typeface="Arial"/>
              </a:rPr>
              <a:t>Titular Cátedra Formación para Emprendedores IT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1341360"/>
            <a:ext cx="792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BankGothic Md BT"/>
              </a:rPr>
              <a:t>INTRODUCCIÓN </a:t>
            </a:r>
            <a:r>
              <a:rPr b="1" lang="es-AR" sz="3200" spc="-1" strike="noStrike">
                <a:solidFill>
                  <a:srgbClr val="ff0000"/>
                </a:solidFill>
                <a:latin typeface="BankGothic M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BankGothic Md BT"/>
              </a:rPr>
              <a:t>EL MUNDO EMPRENDEDOR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BankGothic Md BT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BankGothic Md BT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BankGothic Md BT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BankGothic Md BT"/>
              </a:rPr>
              <a:t>LA CREACIÓN DE EMPRESAS DINÁ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52480" y="15238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1225440"/>
            <a:ext cx="74898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En Argentina</a:t>
            </a:r>
            <a:r>
              <a:rPr b="0" lang="es-ES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 existe un </a:t>
            </a:r>
            <a:r>
              <a:rPr b="1" lang="es-ES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universo de activos de alto potencial</a:t>
            </a:r>
            <a:r>
              <a:rPr b="0" lang="es-ES_tradnl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, materiales e intelectuales,</a:t>
            </a:r>
            <a:r>
              <a:rPr b="0" lang="es-ES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des</a:t>
            </a:r>
            <a:r>
              <a:rPr b="0" lang="es-ES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aprovechados, </a:t>
            </a:r>
            <a:r>
              <a:rPr b="0" lang="es-ES_tradnl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que podrían utilizarse </a:t>
            </a:r>
            <a:r>
              <a:rPr b="0" lang="es-ES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para la generación de nuevas empresas</a:t>
            </a:r>
            <a:r>
              <a:rPr b="0" lang="es-ES_tradnl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Si bien Argentina posee estos activos y tiene una actitud emprendedora verifica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no están dadas todas las condiciones necesarias</a:t>
            </a:r>
            <a:r>
              <a:rPr b="0" lang="es-ES_tradnl" sz="2800" spc="-1" strike="noStrike">
                <a:solidFill>
                  <a:srgbClr val="1f3e7d"/>
                </a:solidFill>
                <a:latin typeface="Arial"/>
                <a:ea typeface="Times New Roman"/>
              </a:rPr>
              <a:t> para la creación y sustento de nuevas empresas dinámic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texto Emprendedor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42920" y="1055520"/>
            <a:ext cx="802800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Inhibidores del potencial emprendedor argen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Fuertes creencias autolimitantes en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F</a:t>
            </a:r>
            <a:r>
              <a:rPr b="1" i="1" lang="es-ES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alta de desarrollo de políticas</a:t>
            </a: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 públicas y priv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Falta de formación emprendedora </a:t>
            </a:r>
            <a:r>
              <a:rPr b="0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(desde primaria, secundaria y universidad)</a:t>
            </a: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 y centros de apoyo a nivel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Inseguridad Jurídica y Física. Reglas de Juego Cambi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Falta de innovación y desarrollo </a:t>
            </a:r>
            <a:r>
              <a:rPr b="0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a partir de una desconexión con el sistema científico y tecnológico</a:t>
            </a: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Falta de cultura sobre inversión de riesgo </a:t>
            </a:r>
            <a:r>
              <a:rPr b="0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(Inversores Ángeles, capitales semilla, fondos de inversión de riesg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Desconfianza generalizada … </a:t>
            </a:r>
            <a:r>
              <a:rPr b="0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que se traduce en una f</a:t>
            </a:r>
            <a:r>
              <a:rPr b="0" i="1" lang="es-ES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alta de integración y cooperación</a:t>
            </a:r>
            <a:r>
              <a:rPr b="0" i="1" lang="es-ES_tradnl" sz="2000" spc="-1" strike="noStrike">
                <a:solidFill>
                  <a:srgbClr val="1e1e78"/>
                </a:solidFill>
                <a:latin typeface="Arial"/>
                <a:ea typeface="Times New Roman"/>
              </a:rPr>
              <a:t> entre diferentes actores de la socie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15238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76640" y="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texto Emprendedor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96000" y="1484280"/>
            <a:ext cx="2362320" cy="2362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ALT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MPRENDEDOR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 CAN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y VEHICU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406520" y="1413000"/>
            <a:ext cx="3886200" cy="4952880"/>
            <a:chOff x="1406520" y="1413000"/>
            <a:chExt cx="3886200" cy="4952880"/>
          </a:xfrm>
        </p:grpSpPr>
        <p:grpSp>
          <p:nvGrpSpPr>
            <p:cNvPr id="224" name=""/>
            <p:cNvGrpSpPr/>
            <p:nvPr/>
          </p:nvGrpSpPr>
          <p:grpSpPr>
            <a:xfrm>
              <a:off x="2930400" y="5375160"/>
              <a:ext cx="1143000" cy="990720"/>
              <a:chOff x="2930400" y="5375160"/>
              <a:chExt cx="1143000" cy="990720"/>
            </a:xfrm>
          </p:grpSpPr>
          <p:sp>
            <p:nvSpPr>
              <p:cNvPr id="225" name=""/>
              <p:cNvSpPr/>
              <p:nvPr/>
            </p:nvSpPr>
            <p:spPr>
              <a:xfrm>
                <a:off x="2930400" y="5375160"/>
                <a:ext cx="114300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Profes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87600" y="5756400"/>
                <a:ext cx="60984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406520" y="4613400"/>
              <a:ext cx="1600200" cy="1676160"/>
              <a:chOff x="1406520" y="4613400"/>
              <a:chExt cx="1600200" cy="1676160"/>
            </a:xfrm>
          </p:grpSpPr>
          <p:sp>
            <p:nvSpPr>
              <p:cNvPr id="228" name=""/>
              <p:cNvSpPr/>
              <p:nvPr/>
            </p:nvSpPr>
            <p:spPr>
              <a:xfrm>
                <a:off x="1406520" y="4613400"/>
                <a:ext cx="1600200" cy="73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Profesionale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con intención de independizar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68640" y="5527800"/>
                <a:ext cx="0" cy="761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785240" y="3317760"/>
              <a:ext cx="1398240" cy="762120"/>
              <a:chOff x="1785240" y="3317760"/>
              <a:chExt cx="1398240" cy="762120"/>
            </a:xfrm>
          </p:grpSpPr>
          <p:sp>
            <p:nvSpPr>
              <p:cNvPr id="231" name=""/>
              <p:cNvSpPr/>
              <p:nvPr/>
            </p:nvSpPr>
            <p:spPr>
              <a:xfrm>
                <a:off x="1785240" y="3317760"/>
                <a:ext cx="139824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Entrepreneu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940040" y="3622680"/>
                <a:ext cx="4572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869200" y="3622680"/>
              <a:ext cx="1189440" cy="993240"/>
              <a:chOff x="2869200" y="3622680"/>
              <a:chExt cx="1189440" cy="993240"/>
            </a:xfrm>
          </p:grpSpPr>
          <p:sp>
            <p:nvSpPr>
              <p:cNvPr id="234" name=""/>
              <p:cNvSpPr/>
              <p:nvPr/>
            </p:nvSpPr>
            <p:spPr>
              <a:xfrm>
                <a:off x="2869200" y="4095720"/>
                <a:ext cx="118944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Estudian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Avanza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616200" y="3622680"/>
                <a:ext cx="30492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692520" y="2327400"/>
              <a:ext cx="1600200" cy="1005840"/>
              <a:chOff x="3692520" y="2327400"/>
              <a:chExt cx="1600200" cy="1005840"/>
            </a:xfrm>
          </p:grpSpPr>
          <p:sp>
            <p:nvSpPr>
              <p:cNvPr id="237" name=""/>
              <p:cNvSpPr/>
              <p:nvPr/>
            </p:nvSpPr>
            <p:spPr>
              <a:xfrm>
                <a:off x="3692520" y="2813040"/>
                <a:ext cx="160020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Científicos e Invent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3844440" y="2327400"/>
                <a:ext cx="38124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62000" y="1413000"/>
              <a:ext cx="1349640" cy="1459800"/>
              <a:chOff x="1962000" y="1413000"/>
              <a:chExt cx="1349640" cy="1459800"/>
            </a:xfrm>
          </p:grpSpPr>
          <p:sp>
            <p:nvSpPr>
              <p:cNvPr id="240" name=""/>
              <p:cNvSpPr/>
              <p:nvPr/>
            </p:nvSpPr>
            <p:spPr>
              <a:xfrm>
                <a:off x="1962000" y="2352600"/>
                <a:ext cx="134964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Jóve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e1e78"/>
                    </a:solidFill>
                    <a:latin typeface="Arial"/>
                  </a:rPr>
                  <a:t>Profesional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2552760" y="1413000"/>
                <a:ext cx="0" cy="914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4932360" y="3651120"/>
            <a:ext cx="3125520" cy="2514240"/>
            <a:chOff x="4932360" y="3651120"/>
            <a:chExt cx="3125520" cy="2514240"/>
          </a:xfrm>
        </p:grpSpPr>
        <p:grpSp>
          <p:nvGrpSpPr>
            <p:cNvPr id="243" name=""/>
            <p:cNvGrpSpPr/>
            <p:nvPr/>
          </p:nvGrpSpPr>
          <p:grpSpPr>
            <a:xfrm>
              <a:off x="5313600" y="3651120"/>
              <a:ext cx="1295280" cy="939960"/>
              <a:chOff x="5313600" y="3651120"/>
              <a:chExt cx="1295280" cy="939960"/>
            </a:xfrm>
          </p:grpSpPr>
          <p:sp>
            <p:nvSpPr>
              <p:cNvPr id="244" name=""/>
              <p:cNvSpPr/>
              <p:nvPr/>
            </p:nvSpPr>
            <p:spPr>
              <a:xfrm>
                <a:off x="5313600" y="4040280"/>
                <a:ext cx="1295280" cy="5508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b1b6b"/>
                    </a:solidFill>
                    <a:latin typeface="Arial"/>
                  </a:rPr>
                  <a:t>EMPRES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5541840" y="3651120"/>
                <a:ext cx="38088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957640" y="4028400"/>
              <a:ext cx="2100240" cy="1904760"/>
              <a:chOff x="5957640" y="4028400"/>
              <a:chExt cx="2100240" cy="190476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5957640" y="4638240"/>
                <a:ext cx="2100240" cy="1294920"/>
                <a:chOff x="5957640" y="4638240"/>
                <a:chExt cx="2100240" cy="1294920"/>
              </a:xfrm>
            </p:grpSpPr>
            <p:sp>
              <p:nvSpPr>
                <p:cNvPr id="248" name=""/>
                <p:cNvSpPr/>
                <p:nvPr/>
              </p:nvSpPr>
              <p:spPr>
                <a:xfrm flipH="1">
                  <a:off x="5957640" y="5204520"/>
                  <a:ext cx="875160" cy="7286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745320" y="4638240"/>
                  <a:ext cx="787320" cy="5662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b1b6b"/>
                      </a:solidFill>
                      <a:latin typeface="Arial"/>
                    </a:rPr>
                    <a:t>Famili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482880" y="5123880"/>
                  <a:ext cx="1312560" cy="48564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1b1b6b"/>
                      </a:solidFill>
                      <a:latin typeface="Arial"/>
                    </a:rPr>
                    <a:t>Invers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58040" y="4961520"/>
                  <a:ext cx="699840" cy="3240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b1b6b"/>
                      </a:solidFill>
                      <a:latin typeface="Arial"/>
                    </a:rPr>
                    <a:t>Amig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V="1">
                <a:off x="7308000" y="4028400"/>
                <a:ext cx="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932360" y="4641480"/>
              <a:ext cx="1371600" cy="1523880"/>
              <a:chOff x="4932360" y="4641480"/>
              <a:chExt cx="1371600" cy="152388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4932360" y="4641480"/>
                <a:ext cx="1371600" cy="1447920"/>
                <a:chOff x="4932360" y="4641480"/>
                <a:chExt cx="1371600" cy="1447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084640" y="4870080"/>
                  <a:ext cx="685800" cy="60984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1b1b6b"/>
                      </a:solidFill>
                      <a:latin typeface="Arial"/>
                    </a:rPr>
                    <a:t>Ban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932360" y="5403600"/>
                  <a:ext cx="990720" cy="6858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1b1b6b"/>
                      </a:solidFill>
                      <a:latin typeface="Arial"/>
                    </a:rPr>
                    <a:t>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5770440" y="4641480"/>
                  <a:ext cx="0" cy="609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618160" y="5098680"/>
                  <a:ext cx="685800" cy="6858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b1b6b"/>
                      </a:solidFill>
                      <a:latin typeface="Arial"/>
                    </a:rPr>
                    <a:t>Mercad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5923080" y="5784480"/>
                <a:ext cx="30456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2276640" y="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texto Emprendedor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83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EN ARGENTIN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175360" y="2514600"/>
            <a:ext cx="213336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ENTRO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MPREND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Base Universitari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e integrada 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eco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lto gra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utonomí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049400" y="1343160"/>
            <a:ext cx="4386960" cy="5029200"/>
            <a:chOff x="1049400" y="1343160"/>
            <a:chExt cx="4386960" cy="5029200"/>
          </a:xfrm>
        </p:grpSpPr>
        <p:sp>
          <p:nvSpPr>
            <p:cNvPr id="264" name=""/>
            <p:cNvSpPr/>
            <p:nvPr/>
          </p:nvSpPr>
          <p:spPr>
            <a:xfrm>
              <a:off x="1735200" y="2666880"/>
              <a:ext cx="2396880" cy="2308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 Espíritu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ren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16280" y="2743200"/>
              <a:ext cx="155880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97160" y="2971800"/>
              <a:ext cx="124632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73480" y="3200400"/>
              <a:ext cx="118440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49800" y="3429000"/>
              <a:ext cx="112212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25760" y="3657600"/>
              <a:ext cx="106056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25760" y="3886200"/>
              <a:ext cx="106056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49800" y="4114800"/>
              <a:ext cx="112212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3480" y="4343400"/>
              <a:ext cx="118440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160" y="4572000"/>
              <a:ext cx="124632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92600" y="4800600"/>
              <a:ext cx="1496880" cy="144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35400" y="54388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Entrepreneurs           en gen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36120" y="1647720"/>
              <a:ext cx="120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Estudia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Universitar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55320" y="157176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Jóve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Profesional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9280" y="141912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Profes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49400" y="5181480"/>
              <a:ext cx="1828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Profesion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con capacidad de independizars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96960" y="609588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Invers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30280" y="2133720"/>
              <a:ext cx="609480" cy="60948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1880" y="1752480"/>
              <a:ext cx="0" cy="76212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639960" y="2209680"/>
              <a:ext cx="457200" cy="45720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1582560" y="4572000"/>
              <a:ext cx="304920" cy="53352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487680" y="4952880"/>
              <a:ext cx="380880" cy="45720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878200" y="5105520"/>
              <a:ext cx="0" cy="91440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63640" y="1343160"/>
              <a:ext cx="96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Científ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e1e78"/>
                  </a:solidFill>
                  <a:latin typeface="Arial"/>
                </a:rPr>
                <a:t>Inven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259080" y="1752480"/>
              <a:ext cx="380880" cy="68580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203960" y="2492280"/>
            <a:ext cx="1905120" cy="885600"/>
            <a:chOff x="7203960" y="2492280"/>
            <a:chExt cx="1905120" cy="885600"/>
          </a:xfrm>
        </p:grpSpPr>
        <p:sp>
          <p:nvSpPr>
            <p:cNvPr id="290" name=""/>
            <p:cNvSpPr/>
            <p:nvPr/>
          </p:nvSpPr>
          <p:spPr>
            <a:xfrm>
              <a:off x="7585200" y="2492280"/>
              <a:ext cx="1523880" cy="885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reación de Nuevas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nám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03960" y="2876400"/>
              <a:ext cx="304920" cy="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203960" y="4591080"/>
            <a:ext cx="1905120" cy="580680"/>
            <a:chOff x="7203960" y="4591080"/>
            <a:chExt cx="1905120" cy="580680"/>
          </a:xfrm>
        </p:grpSpPr>
        <p:sp>
          <p:nvSpPr>
            <p:cNvPr id="293" name=""/>
            <p:cNvSpPr/>
            <p:nvPr/>
          </p:nvSpPr>
          <p:spPr>
            <a:xfrm>
              <a:off x="7585200" y="4591080"/>
              <a:ext cx="1523880" cy="5806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vitalización de Empre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03960" y="4821120"/>
              <a:ext cx="304920" cy="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203960" y="3603600"/>
            <a:ext cx="1905120" cy="824040"/>
            <a:chOff x="7203960" y="3603600"/>
            <a:chExt cx="1905120" cy="824040"/>
          </a:xfrm>
        </p:grpSpPr>
        <p:sp>
          <p:nvSpPr>
            <p:cNvPr id="296" name=""/>
            <p:cNvSpPr/>
            <p:nvPr/>
          </p:nvSpPr>
          <p:spPr>
            <a:xfrm>
              <a:off x="7585200" y="3603600"/>
              <a:ext cx="1523880" cy="8240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evos Facilitadores del Camb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03960" y="3909960"/>
              <a:ext cx="304920" cy="0"/>
            </a:xfrm>
            <a:prstGeom prst="line">
              <a:avLst/>
            </a:prstGeom>
            <a:ln w="57240">
              <a:solidFill>
                <a:srgbClr val="cb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423240" y="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opuesta de Val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63280" y="554040"/>
            <a:ext cx="6689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lgunos números de ONG - EMPREAR y                    Centro</a:t>
            </a:r>
            <a:r>
              <a:rPr b="1" lang="es-AR" sz="2600" spc="-1" strike="noStrike">
                <a:solidFill>
                  <a:srgbClr val="ff0000"/>
                </a:solidFill>
                <a:latin typeface="Arial"/>
              </a:rPr>
              <a:t> del Emprendedores del ITBA</a:t>
            </a:r>
            <a:br>
              <a:rPr sz="2600"/>
            </a:br>
            <a:r>
              <a:rPr b="1" lang="es-AR" sz="2600" spc="-1" strike="noStrike">
                <a:solidFill>
                  <a:srgbClr val="ff0000"/>
                </a:solidFill>
                <a:latin typeface="Arial"/>
              </a:rPr>
              <a:t>desde 2002 a la fech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332000" y="2052720"/>
          <a:ext cx="7619760" cy="375264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de 5000 personas sensibilizadas en el tema emprende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4600" indent="-44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de 800 emprendedores 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ionaliz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de 10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rendimientos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sesorad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de 2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resas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námicas que apoyamos su cre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mos apoyando 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ción de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resas 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ámicas de alto potenci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332000" y="249228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32000" y="306864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371628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32000" y="429264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494028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108000" y="1504800"/>
          <a:ext cx="9144000" cy="4876560"/>
        </p:xfrm>
        <a:graphic>
          <a:graphicData uri="http://schemas.openxmlformats.org/drawingml/2006/table">
            <a:tbl>
              <a:tblPr/>
              <a:tblGrid>
                <a:gridCol w="4284720"/>
                <a:gridCol w="48592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o Packaging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br>
                        <a:rPr sz="1800"/>
                      </a:b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es: Diego Hernaye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://www.neopackaging.com.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tus Technologi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: Gonzalo Salgado Salgueiro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://www.lotustech.com.ar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spectia</a:t>
                      </a:r>
                      <a:br>
                        <a:rPr sz="1800"/>
                      </a:b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ñía de Inteligencia Comercial</a:t>
                      </a:r>
                      <a:br>
                        <a:rPr sz="1800"/>
                      </a:b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: Raúl Amigo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682640" y="1577880"/>
            <a:ext cx="2563920" cy="417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581200" y="2657520"/>
            <a:ext cx="768600" cy="792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905120" y="3809880"/>
            <a:ext cx="2120760" cy="881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183680" y="22320"/>
            <a:ext cx="746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Ej. emprendimientos profesionales argenti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-324000" y="1484280"/>
          <a:ext cx="9144000" cy="4892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r Kur Améric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a: Dra. Cecilia Mirenda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999999"/>
                          </a:solidFill>
                          <a:latin typeface="Verdana"/>
                        </a:rPr>
                        <a:t>http://www.mayrkurweb.com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tagonia Natural Product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: Miguel Sampedro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999999"/>
                          </a:solidFill>
                          <a:latin typeface="Verdana"/>
                        </a:rPr>
                        <a:t>info@pnpsa.com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ro Capi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: Martín Ubierna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999999"/>
                          </a:solidFill>
                          <a:latin typeface="Verdana"/>
                        </a:rPr>
                        <a:t>martin.ubierna@farocapital.com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6680" y="2984400"/>
            <a:ext cx="138096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2668680" y="4280040"/>
            <a:ext cx="1057320" cy="514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2771640" y="1555920"/>
            <a:ext cx="920880" cy="936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183680" y="22320"/>
            <a:ext cx="746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Ej. emprendimientos profesionales argenti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-324000" y="1565280"/>
          <a:ext cx="9144000" cy="6111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9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a Argentina S.A.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sesoramiento, implementación y formación de recursos humanos en sistemas de gestión y desarrollo organizacional)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es: Leopoldo Colombo, Sergio Lozano, Claudio Pisani, Mario Casal y Esteban Simoncini.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999999"/>
                          </a:solidFill>
                          <a:latin typeface="Verdana"/>
                        </a:rPr>
                        <a:t>http://www.quaraargentina.com.ar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a Software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Software factory especializada en tecnologías emergentes)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: Matías Bagini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999999"/>
                          </a:solidFill>
                          <a:latin typeface="Verdana"/>
                        </a:rPr>
                        <a:t>http://www.prodasoftware.com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628640" y="1633680"/>
          <a:ext cx="243864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33680"/>
                    <a:ext cx="243864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1803240" y="3716280"/>
          <a:ext cx="190512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3240" y="3716280"/>
                    <a:ext cx="19051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183680" y="22320"/>
            <a:ext cx="746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Ej. emprendimientos profesionales argenti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36360" y="1366920"/>
          <a:ext cx="9144000" cy="5302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Factory SR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999999"/>
                          </a:solidFill>
                          <a:latin typeface="Verdana"/>
                        </a:rPr>
                        <a:t>&lt;info&gt;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: Ernesto Cambursano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999999"/>
                          </a:solidFill>
                          <a:latin typeface="Verdana"/>
                        </a:rPr>
                        <a:t>http://www.datafactory.com.ar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URA S. A.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Servicios de Telecomunicaciones)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es: Jerónimo Serafini, Fernando Weinschenk y Bernardo Groschopp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999999"/>
                          </a:solidFill>
                          <a:latin typeface="Verdana"/>
                        </a:rPr>
                        <a:t>http://www.anura.com.ar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RB S. A.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Transporte de cargas generales, nacionales e internacionales)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es: Paul Steverlynck, Ignacio Braun, Lucas Pombo, Alex Bohtlingk y Andres Scronik</a:t>
                      </a:r>
                      <a:br>
                        <a:rPr sz="1400"/>
                      </a:br>
                      <a:r>
                        <a:rPr b="0" lang="es-ES" sz="1400" spc="-1" strike="noStrike">
                          <a:solidFill>
                            <a:srgbClr val="999999"/>
                          </a:solidFill>
                          <a:latin typeface="Verdana"/>
                        </a:rPr>
                        <a:t>http://www.starb.com.ar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712880" y="1547640"/>
          <a:ext cx="23623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547640"/>
                    <a:ext cx="23623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636560" y="2629080"/>
          <a:ext cx="259092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6560" y="2629080"/>
                    <a:ext cx="25909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017800" y="4282920"/>
          <a:ext cx="178092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17800" y="4282920"/>
                    <a:ext cx="1780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1183680" y="22320"/>
            <a:ext cx="746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Ej. emprendimientos profesionales argenti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8218440" y="619200"/>
            <a:ext cx="934920" cy="649080"/>
            <a:chOff x="8218440" y="619200"/>
            <a:chExt cx="934920" cy="649080"/>
          </a:xfrm>
        </p:grpSpPr>
        <p:sp>
          <p:nvSpPr>
            <p:cNvPr id="58" name=""/>
            <p:cNvSpPr/>
            <p:nvPr/>
          </p:nvSpPr>
          <p:spPr>
            <a:xfrm>
              <a:off x="8218440" y="619200"/>
              <a:ext cx="934920" cy="649080"/>
            </a:xfrm>
            <a:custGeom>
              <a:avLst/>
              <a:gdLst/>
              <a:ahLst/>
              <a:rect l="l" t="t" r="r" b="b"/>
              <a:pathLst>
                <a:path w="1088" h="182">
                  <a:moveTo>
                    <a:pt x="0" y="0"/>
                  </a:moveTo>
                  <a:lnTo>
                    <a:pt x="181" y="182"/>
                  </a:lnTo>
                  <a:lnTo>
                    <a:pt x="907" y="182"/>
                  </a:lnTo>
                  <a:lnTo>
                    <a:pt x="10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63960" y="691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800" spc="-1" strike="noStrike">
                  <a:solidFill>
                    <a:srgbClr val="f7f7ff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422880" y="4428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73200" y="1484280"/>
            <a:ext cx="71755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e1e78"/>
                </a:solidFill>
                <a:latin typeface="Arial"/>
              </a:rPr>
              <a:t>Entrepreneu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e1e78"/>
                </a:solidFill>
                <a:latin typeface="Arial"/>
              </a:rPr>
              <a:t>Desarrollo y Revolución Global del Empr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e1e78"/>
                </a:solidFill>
                <a:latin typeface="Arial"/>
              </a:rPr>
              <a:t>Tipos de Emprendimientos y Emprend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e1e78"/>
                </a:solidFill>
                <a:latin typeface="Arial"/>
              </a:rPr>
              <a:t>El Emprendedor Tradicional vs. Profesional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e1e78"/>
                </a:solidFill>
                <a:latin typeface="Arial"/>
              </a:rPr>
              <a:t>Proceso de Creación de Empresas Dinámicas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e1e78"/>
                </a:solidFill>
                <a:latin typeface="Arial"/>
              </a:rPr>
              <a:t>Factores Exógenos y End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e1e78"/>
                </a:solidFill>
                <a:latin typeface="Arial"/>
              </a:rPr>
              <a:t>El “Boostrapping” y el “network”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e1e78"/>
                </a:solidFill>
                <a:latin typeface="Arial"/>
              </a:rPr>
              <a:t>Las inversiones de Riesgo (“Venture Capital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77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imeros 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1297080" y="160344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1297080" y="213372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1297080" y="270828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4" action="ppaction://hlinksldjump"/>
          </p:cNvPr>
          <p:cNvSpPr/>
          <p:nvPr/>
        </p:nvSpPr>
        <p:spPr>
          <a:xfrm>
            <a:off x="1297080" y="3213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5" action="ppaction://hlinksldjump"/>
          </p:cNvPr>
          <p:cNvSpPr/>
          <p:nvPr/>
        </p:nvSpPr>
        <p:spPr>
          <a:xfrm>
            <a:off x="1297080" y="378936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6" action="ppaction://hlinksldjump"/>
          </p:cNvPr>
          <p:cNvSpPr/>
          <p:nvPr/>
        </p:nvSpPr>
        <p:spPr>
          <a:xfrm>
            <a:off x="1297080" y="436572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7" action="ppaction://hlinksldjump"/>
          </p:cNvPr>
          <p:cNvSpPr/>
          <p:nvPr/>
        </p:nvSpPr>
        <p:spPr>
          <a:xfrm>
            <a:off x="1297080" y="4869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8" action="ppaction://hlinksldjump"/>
          </p:cNvPr>
          <p:cNvSpPr/>
          <p:nvPr/>
        </p:nvSpPr>
        <p:spPr>
          <a:xfrm>
            <a:off x="1297080" y="5445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22880" y="4428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677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ntrepreneu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1557360"/>
            <a:ext cx="705672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trepreneurship es el arte de emprender y generar riqueza mas allá de la certidumbre y de los recursos iniciales necesarios para tal f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808080"/>
                </a:solidFill>
                <a:latin typeface="Arial"/>
              </a:rPr>
              <a:t>Los entrepreneurs asumen riesgos en pos de capitalizar una  oportunidad y alcanzar una visión de alto impa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n personas capaces de crear nuevas empresas e innovar con nuevos productos o servicios que generan valor econó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620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ambios de Paradig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n el Desarrollo Empresa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ntre el siglo XX y el X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170160" y="2565360"/>
            <a:ext cx="2614680" cy="3389400"/>
            <a:chOff x="3170160" y="2565360"/>
            <a:chExt cx="2614680" cy="3389400"/>
          </a:xfrm>
        </p:grpSpPr>
        <p:graphicFrame>
          <p:nvGraphicFramePr>
            <p:cNvPr id="77" name=""/>
            <p:cNvGraphicFramePr/>
            <p:nvPr/>
          </p:nvGraphicFramePr>
          <p:xfrm>
            <a:off x="3373560" y="3511440"/>
            <a:ext cx="2411280" cy="244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73560" y="3511440"/>
                      <a:ext cx="2411280" cy="244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"/>
            <p:cNvGraphicFramePr/>
            <p:nvPr/>
          </p:nvGraphicFramePr>
          <p:xfrm>
            <a:off x="3170160" y="2565360"/>
            <a:ext cx="2122560" cy="56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70160" y="2565360"/>
                      <a:ext cx="212256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"/>
          <p:cNvGrpSpPr/>
          <p:nvPr/>
        </p:nvGrpSpPr>
        <p:grpSpPr>
          <a:xfrm>
            <a:off x="6203880" y="2629080"/>
            <a:ext cx="2921040" cy="3254040"/>
            <a:chOff x="6203880" y="2629080"/>
            <a:chExt cx="2921040" cy="3254040"/>
          </a:xfrm>
        </p:grpSpPr>
        <p:graphicFrame>
          <p:nvGraphicFramePr>
            <p:cNvPr id="82" name=""/>
            <p:cNvGraphicFramePr/>
            <p:nvPr/>
          </p:nvGraphicFramePr>
          <p:xfrm>
            <a:off x="6251400" y="3429000"/>
            <a:ext cx="2497320" cy="245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51400" y="3429000"/>
                      <a:ext cx="2497320" cy="24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203880" y="2629080"/>
            <a:ext cx="2921040" cy="44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03880" y="2629080"/>
                      <a:ext cx="292104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" name=""/>
          <p:cNvSpPr/>
          <p:nvPr/>
        </p:nvSpPr>
        <p:spPr>
          <a:xfrm>
            <a:off x="2411280" y="2637000"/>
            <a:ext cx="720720" cy="43308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620640"/>
            <a:ext cx="114156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637000"/>
            <a:ext cx="576360" cy="433080"/>
          </a:xfrm>
          <a:prstGeom prst="rightArrow">
            <a:avLst>
              <a:gd name="adj1" fmla="val 50000"/>
              <a:gd name="adj2" fmla="val 332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4920" y="2492280"/>
            <a:ext cx="2664000" cy="3441960"/>
            <a:chOff x="34920" y="2492280"/>
            <a:chExt cx="2664000" cy="3441960"/>
          </a:xfrm>
        </p:grpSpPr>
        <p:graphicFrame>
          <p:nvGraphicFramePr>
            <p:cNvPr id="90" name=""/>
            <p:cNvGraphicFramePr/>
            <p:nvPr/>
          </p:nvGraphicFramePr>
          <p:xfrm>
            <a:off x="395280" y="3511440"/>
            <a:ext cx="2303640" cy="2422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5280" y="3511440"/>
                      <a:ext cx="2303640" cy="242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"/>
            <p:cNvGraphicFramePr/>
            <p:nvPr/>
          </p:nvGraphicFramePr>
          <p:xfrm>
            <a:off x="34920" y="2492280"/>
            <a:ext cx="2521080" cy="671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4920" y="2492280"/>
                      <a:ext cx="2521080" cy="6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9320" y="639720"/>
            <a:ext cx="79246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8"/>
                </a:solidFill>
                <a:latin typeface="Arial"/>
                <a:ea typeface="Arial"/>
              </a:rPr>
              <a:t>La generación de riqueza en Argentina estará en manos de nuevos emprendedores</a:t>
            </a:r>
            <a:r>
              <a:rPr b="1" lang="es-ES_tradnl" sz="2800" spc="-1" strike="noStrike">
                <a:solidFill>
                  <a:srgbClr val="1e1e7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1e1e78"/>
                </a:solidFill>
                <a:latin typeface="Arial"/>
                <a:ea typeface="Arial"/>
              </a:rPr>
              <a:t>-</a:t>
            </a:r>
            <a:r>
              <a:rPr b="1" lang="es-ES_tradnl" sz="2800" spc="-1" strike="noStrike">
                <a:solidFill>
                  <a:srgbClr val="1e1e78"/>
                </a:solidFill>
                <a:latin typeface="Arial"/>
                <a:ea typeface="Arial"/>
              </a:rPr>
              <a:t>entrepreneurs– </a:t>
            </a:r>
            <a:r>
              <a:rPr b="1" lang="en-US" sz="2800" spc="-1" strike="noStrike">
                <a:solidFill>
                  <a:srgbClr val="1e1e78"/>
                </a:solidFill>
                <a:latin typeface="Arial"/>
                <a:ea typeface="Arial"/>
              </a:rPr>
              <a:t>que entiendan el nuevo modelo de creación de valor en el Siglo XXI, en la era del Conocimiento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8"/>
                </a:solidFill>
                <a:latin typeface="Arial"/>
                <a:ea typeface="Arial"/>
              </a:rPr>
              <a:t>La nueva generación de emprendedores argentinos tiene la oportunidad de empezar desde el nacimiento de su nueva compañía con los </a:t>
            </a:r>
            <a:r>
              <a:rPr b="1" lang="es-ES_tradnl" sz="2800" spc="-1" strike="noStrike">
                <a:solidFill>
                  <a:srgbClr val="1e1e78"/>
                </a:solidFill>
                <a:latin typeface="Arial"/>
                <a:ea typeface="Arial"/>
              </a:rPr>
              <a:t>nuevos modelos de generación de valor</a:t>
            </a:r>
            <a:r>
              <a:rPr b="1" lang="en-US" sz="2800" spc="-1" strike="noStrike">
                <a:solidFill>
                  <a:srgbClr val="1e1e7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44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7f7ff"/>
                </a:solidFill>
                <a:latin typeface="Arial"/>
              </a:rPr>
              <a:t>REFLEX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1052640" y="12733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Valor econó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357200" y="2314440"/>
            <a:ext cx="705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genera valor cuando hay un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rapart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ispuesta 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vertir o pagar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 una propuesta de valor (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roducto o servic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620640"/>
            <a:ext cx="6933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El Emprendedor Profesional y su Proceso de Cre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 Empresas Diná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8920" y="5416560"/>
            <a:ext cx="7313400" cy="669960"/>
            <a:chOff x="1528920" y="5416560"/>
            <a:chExt cx="7313400" cy="669960"/>
          </a:xfrm>
        </p:grpSpPr>
        <p:sp>
          <p:nvSpPr>
            <p:cNvPr id="101" name=""/>
            <p:cNvSpPr/>
            <p:nvPr/>
          </p:nvSpPr>
          <p:spPr>
            <a:xfrm>
              <a:off x="5340240" y="5416560"/>
              <a:ext cx="3241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MX" sz="1200" spc="-1" strike="noStrike">
                  <a:solidFill>
                    <a:srgbClr val="1e1e78"/>
                  </a:solidFill>
                  <a:latin typeface="Arial"/>
                </a:rPr>
                <a:t>Emprendimiento liderado                            por emprendedor tradic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8920" y="5857920"/>
              <a:ext cx="7313400" cy="228600"/>
            </a:xfrm>
            <a:custGeom>
              <a:avLst/>
              <a:gdLst/>
              <a:ahLst/>
              <a:rect l="l" t="t" r="r" b="b"/>
              <a:pathLst>
                <a:path w="2811" h="184">
                  <a:moveTo>
                    <a:pt x="0" y="184"/>
                  </a:moveTo>
                  <a:cubicBezTo>
                    <a:pt x="174" y="158"/>
                    <a:pt x="350" y="132"/>
                    <a:pt x="516" y="115"/>
                  </a:cubicBezTo>
                  <a:cubicBezTo>
                    <a:pt x="682" y="97"/>
                    <a:pt x="615" y="99"/>
                    <a:pt x="997" y="80"/>
                  </a:cubicBezTo>
                  <a:cubicBezTo>
                    <a:pt x="1379" y="61"/>
                    <a:pt x="2433" y="17"/>
                    <a:pt x="2811" y="0"/>
                  </a:cubicBezTo>
                </a:path>
              </a:pathLst>
            </a:custGeom>
            <a:noFill/>
            <a:ln w="38160">
              <a:solidFill>
                <a:srgbClr val="1e1e78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8820000" y="2722680"/>
            <a:ext cx="0" cy="309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84480" y="4227480"/>
            <a:ext cx="1213920" cy="5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r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spe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5848200"/>
            <a:ext cx="0" cy="2160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69800" y="2944800"/>
            <a:ext cx="4078440" cy="2789280"/>
            <a:chOff x="2269800" y="2944800"/>
            <a:chExt cx="4078440" cy="2789280"/>
          </a:xfrm>
        </p:grpSpPr>
        <p:sp>
          <p:nvSpPr>
            <p:cNvPr id="107" name=""/>
            <p:cNvSpPr/>
            <p:nvPr/>
          </p:nvSpPr>
          <p:spPr>
            <a:xfrm>
              <a:off x="2269800" y="4600440"/>
              <a:ext cx="148968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" sz="1400" spc="-1" strike="noStrike">
                  <a:solidFill>
                    <a:srgbClr val="008000"/>
                  </a:solidFill>
                  <a:latin typeface="Arial"/>
                </a:rPr>
                <a:t>1º ronda</a:t>
              </a:r>
              <a:r>
                <a:rPr b="1" lang="es-AR" sz="1400" spc="-1" strike="noStrike">
                  <a:solidFill>
                    <a:srgbClr val="008000"/>
                  </a:solidFill>
                  <a:latin typeface="Arial"/>
                </a:rPr>
                <a:t>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AR" sz="1400" spc="-1" strike="noStrike">
                  <a:solidFill>
                    <a:srgbClr val="008000"/>
                  </a:solidFill>
                  <a:latin typeface="Arial"/>
                </a:rPr>
                <a:t>Financi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AR" sz="1400" spc="-1" strike="noStrike">
                  <a:solidFill>
                    <a:srgbClr val="008000"/>
                  </a:solidFill>
                  <a:latin typeface="Arial"/>
                </a:rPr>
                <a:t>de ries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40240" y="4095720"/>
              <a:ext cx="149040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" sz="1400" spc="-1" strike="noStrike">
                  <a:solidFill>
                    <a:srgbClr val="008000"/>
                  </a:solidFill>
                  <a:latin typeface="Arial"/>
                </a:rPr>
                <a:t>2º ronda</a:t>
              </a:r>
              <a:r>
                <a:rPr b="1" lang="es-AR" sz="1400" spc="-1" strike="noStrike">
                  <a:solidFill>
                    <a:srgbClr val="008000"/>
                  </a:solidFill>
                  <a:latin typeface="Arial"/>
                </a:rPr>
                <a:t> de Financi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AR" sz="1400" spc="-1" strike="noStrike">
                  <a:solidFill>
                    <a:srgbClr val="008000"/>
                  </a:solidFill>
                  <a:latin typeface="Arial"/>
                </a:rPr>
                <a:t>de ries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107880" y="5319720"/>
              <a:ext cx="47880" cy="41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9160" y="4960800"/>
              <a:ext cx="14616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67160" y="3879720"/>
              <a:ext cx="432000" cy="28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6240" y="3227400"/>
              <a:ext cx="2057400" cy="5785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AR" sz="1600" spc="-1" strike="noStrike">
                  <a:solidFill>
                    <a:srgbClr val="625662"/>
                  </a:solidFill>
                  <a:latin typeface="Arial"/>
                </a:rPr>
                <a:t>Transformaciones Espera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2240" y="2944800"/>
              <a:ext cx="20160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AR" sz="1400" spc="-1" strike="noStrike">
                  <a:solidFill>
                    <a:srgbClr val="008000"/>
                  </a:solidFill>
                  <a:latin typeface="Arial"/>
                </a:rPr>
                <a:t>Posible Salida    Venta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AR" sz="1400" spc="-1" strike="noStrike">
                  <a:solidFill>
                    <a:srgbClr val="008000"/>
                  </a:solidFill>
                  <a:latin typeface="Arial"/>
                </a:rPr>
                <a:t>Actores   Estratégi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153440" y="2234880"/>
            <a:ext cx="7779600" cy="4146840"/>
            <a:chOff x="1153440" y="2234880"/>
            <a:chExt cx="7779600" cy="4146840"/>
          </a:xfrm>
        </p:grpSpPr>
        <p:sp>
          <p:nvSpPr>
            <p:cNvPr id="115" name=""/>
            <p:cNvSpPr/>
            <p:nvPr/>
          </p:nvSpPr>
          <p:spPr>
            <a:xfrm>
              <a:off x="1371600" y="6026040"/>
              <a:ext cx="28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06880" y="5608800"/>
              <a:ext cx="0" cy="4554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74040" y="3664080"/>
              <a:ext cx="0" cy="2415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84800" y="4840200"/>
              <a:ext cx="0" cy="1231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153440" y="2234880"/>
              <a:ext cx="7779600" cy="4146840"/>
              <a:chOff x="1153440" y="2234880"/>
              <a:chExt cx="7779600" cy="4146840"/>
            </a:xfrm>
          </p:grpSpPr>
          <p:sp>
            <p:nvSpPr>
              <p:cNvPr id="120" name=""/>
              <p:cNvSpPr/>
              <p:nvPr/>
            </p:nvSpPr>
            <p:spPr>
              <a:xfrm>
                <a:off x="1550880" y="6111720"/>
                <a:ext cx="5144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Inic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20880" y="6076800"/>
                <a:ext cx="282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71880" y="6076800"/>
                <a:ext cx="282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59520" y="6076800"/>
                <a:ext cx="282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35800" y="6076800"/>
                <a:ext cx="282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00200" y="6081840"/>
                <a:ext cx="727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46800" y="6076800"/>
                <a:ext cx="1686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Tiempo (en Año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676520" y="2494080"/>
                <a:ext cx="0" cy="36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57360" y="56786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26880" y="5535720"/>
                <a:ext cx="38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59160" y="53182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28680" y="5175360"/>
                <a:ext cx="38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59160" y="495792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28680" y="4815000"/>
                <a:ext cx="38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x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9160" y="46148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28680" y="4471920"/>
                <a:ext cx="38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59160" y="42544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28680" y="4111560"/>
                <a:ext cx="38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x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59160" y="389412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28680" y="3751200"/>
                <a:ext cx="38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x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59160" y="351792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28680" y="3375000"/>
                <a:ext cx="38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59160" y="315756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53440" y="3014640"/>
                <a:ext cx="4809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x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6200000">
                <a:off x="204840" y="3712680"/>
                <a:ext cx="32299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Crecimiento Ventas  (Multiplicador anual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 rot="20871600">
            <a:off x="1600920" y="5661000"/>
            <a:ext cx="1398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AR" sz="1400" spc="-1" strike="noStrike">
                <a:solidFill>
                  <a:srgbClr val="008000"/>
                </a:solidFill>
                <a:latin typeface="Arial"/>
              </a:rPr>
              <a:t>Bootstr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04800" y="2722680"/>
            <a:ext cx="7794720" cy="3363840"/>
            <a:chOff x="1504800" y="2722680"/>
            <a:chExt cx="7794720" cy="3363840"/>
          </a:xfrm>
        </p:grpSpPr>
        <p:sp>
          <p:nvSpPr>
            <p:cNvPr id="147" name=""/>
            <p:cNvSpPr/>
            <p:nvPr/>
          </p:nvSpPr>
          <p:spPr>
            <a:xfrm>
              <a:off x="7427880" y="2897280"/>
              <a:ext cx="18716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MX" sz="1200" spc="-1" strike="noStrike">
                  <a:solidFill>
                    <a:srgbClr val="ff0000"/>
                  </a:solidFill>
                  <a:latin typeface="Arial"/>
                </a:rPr>
                <a:t>Emprendimiento liderado por emprendedore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04800" y="2722680"/>
              <a:ext cx="7369200" cy="3363840"/>
            </a:xfrm>
            <a:custGeom>
              <a:avLst/>
              <a:gdLst/>
              <a:ahLst/>
              <a:rect l="l" t="t" r="r" b="b"/>
              <a:pathLst>
                <a:path w="5406" h="1875">
                  <a:moveTo>
                    <a:pt x="0" y="1875"/>
                  </a:moveTo>
                  <a:cubicBezTo>
                    <a:pt x="423" y="1840"/>
                    <a:pt x="847" y="1806"/>
                    <a:pt x="1225" y="1738"/>
                  </a:cubicBezTo>
                  <a:cubicBezTo>
                    <a:pt x="1603" y="1670"/>
                    <a:pt x="1944" y="1596"/>
                    <a:pt x="2268" y="1466"/>
                  </a:cubicBezTo>
                  <a:cubicBezTo>
                    <a:pt x="2592" y="1336"/>
                    <a:pt x="2944" y="1102"/>
                    <a:pt x="3171" y="958"/>
                  </a:cubicBezTo>
                  <a:cubicBezTo>
                    <a:pt x="3398" y="814"/>
                    <a:pt x="3491" y="710"/>
                    <a:pt x="3629" y="604"/>
                  </a:cubicBezTo>
                  <a:cubicBezTo>
                    <a:pt x="3767" y="498"/>
                    <a:pt x="3866" y="409"/>
                    <a:pt x="4001" y="324"/>
                  </a:cubicBezTo>
                  <a:cubicBezTo>
                    <a:pt x="4136" y="239"/>
                    <a:pt x="4265" y="146"/>
                    <a:pt x="4438" y="94"/>
                  </a:cubicBezTo>
                  <a:cubicBezTo>
                    <a:pt x="4611" y="42"/>
                    <a:pt x="4877" y="26"/>
                    <a:pt x="5038" y="13"/>
                  </a:cubicBezTo>
                  <a:cubicBezTo>
                    <a:pt x="5199" y="0"/>
                    <a:pt x="5329" y="13"/>
                    <a:pt x="5406" y="1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9020000">
              <a:off x="4968360" y="4196880"/>
              <a:ext cx="1887840" cy="20160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978200">
              <a:off x="4017600" y="5357520"/>
              <a:ext cx="731880" cy="1220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887200">
              <a:off x="2747520" y="5794200"/>
              <a:ext cx="731880" cy="1238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422880" y="4428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17840" y="834480"/>
            <a:ext cx="7065720" cy="5283720"/>
            <a:chOff x="1617840" y="834480"/>
            <a:chExt cx="7065720" cy="5283720"/>
          </a:xfrm>
        </p:grpSpPr>
        <p:sp>
          <p:nvSpPr>
            <p:cNvPr id="155" name=""/>
            <p:cNvSpPr/>
            <p:nvPr/>
          </p:nvSpPr>
          <p:spPr>
            <a:xfrm>
              <a:off x="1617840" y="1073160"/>
              <a:ext cx="6459480" cy="5045040"/>
            </a:xfrm>
            <a:custGeom>
              <a:avLst/>
              <a:gdLst/>
              <a:ahLst/>
              <a:rect l="l" t="t" r="r" b="b"/>
              <a:pathLst>
                <a:path w="4069" h="3178">
                  <a:moveTo>
                    <a:pt x="45" y="3140"/>
                  </a:moveTo>
                  <a:cubicBezTo>
                    <a:pt x="120" y="3065"/>
                    <a:pt x="0" y="3178"/>
                    <a:pt x="117" y="3100"/>
                  </a:cubicBezTo>
                  <a:cubicBezTo>
                    <a:pt x="170" y="3065"/>
                    <a:pt x="217" y="3052"/>
                    <a:pt x="277" y="3036"/>
                  </a:cubicBezTo>
                  <a:cubicBezTo>
                    <a:pt x="368" y="3011"/>
                    <a:pt x="459" y="2983"/>
                    <a:pt x="549" y="2956"/>
                  </a:cubicBezTo>
                  <a:cubicBezTo>
                    <a:pt x="582" y="2946"/>
                    <a:pt x="623" y="2933"/>
                    <a:pt x="653" y="2916"/>
                  </a:cubicBezTo>
                  <a:cubicBezTo>
                    <a:pt x="695" y="2892"/>
                    <a:pt x="736" y="2861"/>
                    <a:pt x="781" y="2844"/>
                  </a:cubicBezTo>
                  <a:cubicBezTo>
                    <a:pt x="817" y="2831"/>
                    <a:pt x="857" y="2835"/>
                    <a:pt x="893" y="2820"/>
                  </a:cubicBezTo>
                  <a:cubicBezTo>
                    <a:pt x="934" y="2802"/>
                    <a:pt x="970" y="2759"/>
                    <a:pt x="1013" y="2748"/>
                  </a:cubicBezTo>
                  <a:cubicBezTo>
                    <a:pt x="1068" y="2734"/>
                    <a:pt x="1117" y="2706"/>
                    <a:pt x="1173" y="2692"/>
                  </a:cubicBezTo>
                  <a:cubicBezTo>
                    <a:pt x="1218" y="2662"/>
                    <a:pt x="1276" y="2660"/>
                    <a:pt x="1325" y="2636"/>
                  </a:cubicBezTo>
                  <a:cubicBezTo>
                    <a:pt x="1369" y="2614"/>
                    <a:pt x="1395" y="2564"/>
                    <a:pt x="1437" y="2540"/>
                  </a:cubicBezTo>
                  <a:cubicBezTo>
                    <a:pt x="1463" y="2525"/>
                    <a:pt x="1490" y="2526"/>
                    <a:pt x="1517" y="2508"/>
                  </a:cubicBezTo>
                  <a:cubicBezTo>
                    <a:pt x="1536" y="2480"/>
                    <a:pt x="1549" y="2463"/>
                    <a:pt x="1581" y="2452"/>
                  </a:cubicBezTo>
                  <a:cubicBezTo>
                    <a:pt x="1586" y="2444"/>
                    <a:pt x="1593" y="2437"/>
                    <a:pt x="1597" y="2428"/>
                  </a:cubicBezTo>
                  <a:cubicBezTo>
                    <a:pt x="1601" y="2418"/>
                    <a:pt x="1599" y="2405"/>
                    <a:pt x="1605" y="2396"/>
                  </a:cubicBezTo>
                  <a:cubicBezTo>
                    <a:pt x="1616" y="2378"/>
                    <a:pt x="1663" y="2343"/>
                    <a:pt x="1677" y="2332"/>
                  </a:cubicBezTo>
                  <a:cubicBezTo>
                    <a:pt x="1736" y="2237"/>
                    <a:pt x="1809" y="2172"/>
                    <a:pt x="1893" y="2100"/>
                  </a:cubicBezTo>
                  <a:cubicBezTo>
                    <a:pt x="1922" y="2076"/>
                    <a:pt x="1934" y="2048"/>
                    <a:pt x="1965" y="2028"/>
                  </a:cubicBezTo>
                  <a:cubicBezTo>
                    <a:pt x="1979" y="1959"/>
                    <a:pt x="2026" y="1919"/>
                    <a:pt x="2061" y="1860"/>
                  </a:cubicBezTo>
                  <a:cubicBezTo>
                    <a:pt x="2123" y="1755"/>
                    <a:pt x="2181" y="1657"/>
                    <a:pt x="2261" y="1564"/>
                  </a:cubicBezTo>
                  <a:cubicBezTo>
                    <a:pt x="2290" y="1530"/>
                    <a:pt x="2309" y="1492"/>
                    <a:pt x="2341" y="1460"/>
                  </a:cubicBezTo>
                  <a:cubicBezTo>
                    <a:pt x="2365" y="1389"/>
                    <a:pt x="2325" y="1514"/>
                    <a:pt x="2357" y="1364"/>
                  </a:cubicBezTo>
                  <a:cubicBezTo>
                    <a:pt x="2372" y="1292"/>
                    <a:pt x="2434" y="1226"/>
                    <a:pt x="2469" y="1164"/>
                  </a:cubicBezTo>
                  <a:cubicBezTo>
                    <a:pt x="2515" y="1084"/>
                    <a:pt x="2546" y="993"/>
                    <a:pt x="2597" y="916"/>
                  </a:cubicBezTo>
                  <a:cubicBezTo>
                    <a:pt x="2621" y="820"/>
                    <a:pt x="2722" y="694"/>
                    <a:pt x="2773" y="628"/>
                  </a:cubicBezTo>
                  <a:cubicBezTo>
                    <a:pt x="2885" y="483"/>
                    <a:pt x="3008" y="371"/>
                    <a:pt x="3157" y="268"/>
                  </a:cubicBezTo>
                  <a:cubicBezTo>
                    <a:pt x="3199" y="239"/>
                    <a:pt x="3247" y="237"/>
                    <a:pt x="3293" y="220"/>
                  </a:cubicBezTo>
                  <a:cubicBezTo>
                    <a:pt x="3334" y="205"/>
                    <a:pt x="3353" y="181"/>
                    <a:pt x="3397" y="172"/>
                  </a:cubicBezTo>
                  <a:cubicBezTo>
                    <a:pt x="3536" y="102"/>
                    <a:pt x="3692" y="77"/>
                    <a:pt x="3845" y="60"/>
                  </a:cubicBezTo>
                  <a:cubicBezTo>
                    <a:pt x="3850" y="49"/>
                    <a:pt x="3852" y="36"/>
                    <a:pt x="3861" y="28"/>
                  </a:cubicBezTo>
                  <a:cubicBezTo>
                    <a:pt x="3895" y="0"/>
                    <a:pt x="4049" y="4"/>
                    <a:pt x="4069" y="4"/>
                  </a:cubicBezTo>
                </a:path>
              </a:pathLst>
            </a:custGeom>
            <a:noFill/>
            <a:ln w="28440">
              <a:solidFill>
                <a:srgbClr val="1e1e78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703600">
              <a:off x="7004520" y="104112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1e1e78"/>
                  </a:solidFill>
                  <a:latin typeface="Arial"/>
                </a:rPr>
                <a:t>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371840" y="471816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763280" y="1418760"/>
            <a:ext cx="5545440" cy="4753080"/>
            <a:chOff x="1763280" y="1418760"/>
            <a:chExt cx="5545440" cy="4753080"/>
          </a:xfrm>
        </p:grpSpPr>
        <p:sp>
          <p:nvSpPr>
            <p:cNvPr id="159" name=""/>
            <p:cNvSpPr/>
            <p:nvPr/>
          </p:nvSpPr>
          <p:spPr>
            <a:xfrm>
              <a:off x="3755880" y="1598400"/>
              <a:ext cx="1727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CONTEX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763280" y="1418760"/>
              <a:ext cx="5545440" cy="4753080"/>
              <a:chOff x="1763280" y="1418760"/>
              <a:chExt cx="5545440" cy="4753080"/>
            </a:xfrm>
          </p:grpSpPr>
          <p:sp>
            <p:nvSpPr>
              <p:cNvPr id="161" name=""/>
              <p:cNvSpPr/>
              <p:nvPr/>
            </p:nvSpPr>
            <p:spPr>
              <a:xfrm>
                <a:off x="3635280" y="5740200"/>
                <a:ext cx="1727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ES" sz="2000" spc="-1" strike="noStrike">
                    <a:solidFill>
                      <a:srgbClr val="008000"/>
                    </a:solidFill>
                    <a:latin typeface="Arial"/>
                  </a:rPr>
                  <a:t>RED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1763280" y="1418760"/>
                <a:ext cx="5545440" cy="4753080"/>
                <a:chOff x="1763280" y="1418760"/>
                <a:chExt cx="5545440" cy="47530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763640" y="3796200"/>
                  <a:ext cx="5545080" cy="2375640"/>
                </a:xfrm>
                <a:custGeom>
                  <a:avLst/>
                  <a:gdLst/>
                  <a:ahLst/>
                  <a:rect l="l" t="t" r="r" b="b"/>
                  <a:pathLst>
                    <a:path w="3901" h="998">
                      <a:moveTo>
                        <a:pt x="0" y="0"/>
                      </a:moveTo>
                      <a:cubicBezTo>
                        <a:pt x="650" y="499"/>
                        <a:pt x="1301" y="998"/>
                        <a:pt x="1951" y="998"/>
                      </a:cubicBezTo>
                      <a:cubicBezTo>
                        <a:pt x="2601" y="998"/>
                        <a:pt x="3251" y="499"/>
                        <a:pt x="3901" y="0"/>
                      </a:cubicBezTo>
                    </a:path>
                  </a:pathLst>
                </a:custGeom>
                <a:noFill/>
                <a:ln w="572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0800000">
                  <a:off x="1763280" y="1418400"/>
                  <a:ext cx="5545080" cy="2377080"/>
                </a:xfrm>
                <a:custGeom>
                  <a:avLst/>
                  <a:gdLst/>
                  <a:ahLst/>
                  <a:rect l="l" t="t" r="r" b="b"/>
                  <a:pathLst>
                    <a:path w="3901" h="998">
                      <a:moveTo>
                        <a:pt x="0" y="0"/>
                      </a:moveTo>
                      <a:cubicBezTo>
                        <a:pt x="650" y="499"/>
                        <a:pt x="1301" y="998"/>
                        <a:pt x="1951" y="998"/>
                      </a:cubicBezTo>
                      <a:cubicBezTo>
                        <a:pt x="2601" y="998"/>
                        <a:pt x="3251" y="499"/>
                        <a:pt x="3901" y="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3635280" y="5222880"/>
                <a:ext cx="17287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s-ES" sz="1400" spc="-1" strike="noStrike">
                    <a:solidFill>
                      <a:srgbClr val="008000"/>
                    </a:solidFill>
                    <a:latin typeface="Arial"/>
                  </a:rPr>
                  <a:t>FACTORES ENDÓGEN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660840" y="1919160"/>
              <a:ext cx="1798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FACTORES EXÓGEN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rot="10800000">
            <a:off x="3319200" y="3897360"/>
            <a:ext cx="2376360" cy="7920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800" spc="-1" strike="noStrike">
                <a:solidFill>
                  <a:srgbClr val="f7f7ff"/>
                </a:solidFill>
                <a:latin typeface="Arial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71920" y="3003480"/>
            <a:ext cx="1511280" cy="720720"/>
          </a:xfrm>
          <a:prstGeom prst="rect">
            <a:avLst/>
          </a:prstGeom>
          <a:solidFill>
            <a:srgbClr val="1e1e78"/>
          </a:solidFill>
          <a:ln w="28440">
            <a:solidFill>
              <a:srgbClr val="1e1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800" spc="-1" strike="noStrike">
                <a:solidFill>
                  <a:srgbClr val="f7f7ff"/>
                </a:solidFill>
                <a:latin typeface="Arial"/>
              </a:rPr>
              <a:t>Oport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5120" y="3003480"/>
            <a:ext cx="1513080" cy="720720"/>
          </a:xfrm>
          <a:prstGeom prst="rect">
            <a:avLst/>
          </a:prstGeom>
          <a:solidFill>
            <a:srgbClr val="1e1e78"/>
          </a:solidFill>
          <a:ln w="28440">
            <a:solidFill>
              <a:srgbClr val="1e1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800" spc="-1" strike="noStrike">
                <a:solidFill>
                  <a:srgbClr val="f7f7ff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6480" y="3247920"/>
            <a:ext cx="2521080" cy="720720"/>
            <a:chOff x="3246480" y="3247920"/>
            <a:chExt cx="2521080" cy="720720"/>
          </a:xfrm>
        </p:grpSpPr>
        <p:sp>
          <p:nvSpPr>
            <p:cNvPr id="171" name=""/>
            <p:cNvSpPr/>
            <p:nvPr/>
          </p:nvSpPr>
          <p:spPr>
            <a:xfrm>
              <a:off x="3246480" y="3809880"/>
              <a:ext cx="2521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65600" y="3247920"/>
              <a:ext cx="151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838080" y="58680"/>
            <a:ext cx="8035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AR" sz="2600" spc="-1" strike="noStrike">
                <a:solidFill>
                  <a:srgbClr val="f7f7ff"/>
                </a:solidFill>
                <a:latin typeface="BankGothic Md BT"/>
              </a:rPr>
              <a:t>Modelo de Creación y Sust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AR" sz="2600" spc="-1" strike="noStrike">
                <a:solidFill>
                  <a:srgbClr val="f7f7ff"/>
                </a:solidFill>
                <a:latin typeface="BankGothic Md BT"/>
              </a:rPr>
              <a:t> </a:t>
            </a:r>
            <a:r>
              <a:rPr b="1" lang="es-AR" sz="2600" spc="-1" strike="noStrike">
                <a:solidFill>
                  <a:srgbClr val="ff0000"/>
                </a:solidFill>
                <a:latin typeface="BankGothic Md BT"/>
              </a:rPr>
              <a:t>de Empresas Dinám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4156200"/>
            <a:ext cx="2808360" cy="718920"/>
          </a:xfrm>
          <a:custGeom>
            <a:avLst/>
            <a:gdLst/>
            <a:ahLst/>
            <a:rect l="l" t="t" r="r" b="b"/>
            <a:pathLst>
              <a:path w="1769" h="453">
                <a:moveTo>
                  <a:pt x="0" y="453"/>
                </a:moveTo>
                <a:cubicBezTo>
                  <a:pt x="121" y="351"/>
                  <a:pt x="242" y="249"/>
                  <a:pt x="499" y="226"/>
                </a:cubicBezTo>
                <a:cubicBezTo>
                  <a:pt x="756" y="203"/>
                  <a:pt x="1345" y="340"/>
                  <a:pt x="1542" y="317"/>
                </a:cubicBezTo>
                <a:cubicBezTo>
                  <a:pt x="1739" y="294"/>
                  <a:pt x="1641" y="143"/>
                  <a:pt x="1679" y="90"/>
                </a:cubicBezTo>
                <a:cubicBezTo>
                  <a:pt x="1717" y="37"/>
                  <a:pt x="1743" y="18"/>
                  <a:pt x="1769" y="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4760" y="3865680"/>
            <a:ext cx="13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mboliz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equilib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04:25:10Z</dcterms:created>
  <dc:creator>Daniel Miguez</dc:creator>
  <dc:description/>
  <dc:language>en-US</dc:language>
  <cp:lastModifiedBy>C.P.C.E.C.A.B.A</cp:lastModifiedBy>
  <dcterms:modified xsi:type="dcterms:W3CDTF">2009-09-24T17:35:31Z</dcterms:modified>
  <cp:revision>104</cp:revision>
  <dc:subject/>
  <dc:title>Presentación de PowerPoint</dc:title>
</cp:coreProperties>
</file>