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5581-4EE7-41CC-BBB2-3EB40CE8ED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CD15-B529-4AD2-9A92-64337C579D6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ENTE ESTUDIO DR. ATILIO PEN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F74F-C8C4-41C3-85CF-CEBDB9715E3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ENTE ESTUDIO DR. ATILIO PEN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671F-2432-47DC-9E9D-E58D695160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/Lic.Marta Silvia Yussem-myussem@hotmai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8C2F-0D1A-4F6C-884D-19FE3010C2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UENTE ESTUDIO DR. ATILIO PEN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ABC2-9722-46AA-B30B-1411DC06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14D-FDB2-4C4F-A33E-4BBCA3C8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F98-59EC-4C94-AB52-69A2D643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EA07-443B-4B61-818D-C491D40B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5C9-E7CC-4AB3-8DDF-861CB269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CAC-8342-4FCD-9EE0-E6198ED9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807D-0811-4DC4-BA3C-27A32927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6A1E-1128-4413-BFED-31C9529F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4188-6BE8-435B-8966-7239AD1F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EDD-2859-43F7-AA0E-50F29B93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82B-16AF-4FEF-9F11-CCC84840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DF70-8E6A-4303-A06B-754C40EB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8619-43EE-4CC7-9420-632726D4EBE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083A-E42E-41B0-87F6-CF016220CAC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El día D…un Profesional”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part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77756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Relación con el cliente externo al estudio Py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PCECABA-16 de octubre de 200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843280" y="386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918520" y="3213000"/>
            <a:ext cx="3829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Lic. Marta Silvia Yuss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721480" y="5516640"/>
            <a:ext cx="31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yussem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F96F-6A5F-407F-91B2-67AA983E624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Rol a desempeñar en los profesionales de Cs. Ec. para la prestación de servicios profesionales a la Pyme.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70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Rol 1 :EXPERTO TEC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Tienen saber técnico muy desarrollado , mucha capacidad pero están rigidizados en como bajar al  cliente .Les cuesta manejar las emo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Rol 2. Asistente Facilitador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para el desarrollo de habilidades, conocimiento y experiencias que incrementan la capacidad actual aplicada del máximo ejecutivo-fundador de la organiz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Como hacer para desarrollar mejor la capacidad y habilidades del dueño o    máximo ejecutivo de la empresa. ( Armado de un espacio de Reflexión y derivarlos a estudiar para desarrollar las capacidades de su propia naturaleza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Rol 3- 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Diseñador de la organización de la pequeña empresa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facilitador el ajuste permanente y sistemático entre las capacidades del máximo ejecutivo la complejidad requerida del órgano de gerencia y el comportamiento de la organización , particularmente durante las transiciones del cambio de tamañ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Colabora en el diseño de las pequeñas empresas , facilitar el ajuste continuo entre las capacidades del máximo ejecutivo y el comportamiento de la organización, durante las transiciones del cambio de tamaño ( variabilidad de la organiz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(continu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Rol a desempeñar en los profesionales de Cs. Ec.para la prestación de Servicios Profesionales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Rol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Facilitador de la integración de otros profesionales , tales como ingenieros , abogados ,psicólogos, sociólogos, etc. Que mejoran el desempeño requerido del órgano de gerencia de la organización y la creación de la eventualmente necesaria dirección no ejecutiva para la segunda transición organizacional antes ci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Algo así con el rol de INTEGRADOR de distintas profesiones para el buen desempeño de la organ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Fuente : Dr. Atilio Penna “El crecimiento pyme y el rol del profesional de Ciencias Económicas “.Conferencia en Mar del Pl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51CA-FCA9-4219-BFC0-4A312802A76D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cc"/>
                </a:solidFill>
                <a:latin typeface="Times New Roman"/>
              </a:rPr>
              <a:t>Preve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Importancia de armar un espacio para el pensamiento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Rol de la tercera parte: trabajar con equida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obtener la habilidad para manejar las emociones de la 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y la propia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Armar una sucesion gene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nsejo de 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Destrabar acciones en un Dire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Promover el intercambio cienti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Derivar y trabajar en conjunto con otras profes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Trabajo de vinculacion de distintas áreas profesionales.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6DEF-9089-4DB8-8372-1B6DF16316E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2556000" y="249228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Monotype Corsiva"/>
              </a:rPr>
              <a:t>Gracias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564000" y="4292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356000" y="4653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ic. Marta Silvia Yussem-myussem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EDC3-F012-4E6B-B480-E56523762CF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77156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838080" y="304920"/>
          <a:ext cx="7239240" cy="5957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920"/>
                    <a:ext cx="7239240" cy="59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4666-6ED3-4330-A015-B944AAD8D78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600200" y="62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914400" y="-461880"/>
          <a:ext cx="7467480" cy="7035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-461880"/>
                    <a:ext cx="7467480" cy="70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01E3-D291-4448-9A1F-B966B09078E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"/>
          <p:cNvSpPr/>
          <p:nvPr/>
        </p:nvSpPr>
        <p:spPr>
          <a:xfrm>
            <a:off x="2209680" y="1523880"/>
            <a:ext cx="0" cy="1028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>
            <a:off x="2209680" y="2514600"/>
            <a:ext cx="457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5"/>
          <p:cNvSpPr/>
          <p:nvPr/>
        </p:nvSpPr>
        <p:spPr>
          <a:xfrm flipV="1">
            <a:off x="6781680" y="1523880"/>
            <a:ext cx="0" cy="1028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6"/>
          <p:cNvSpPr/>
          <p:nvPr/>
        </p:nvSpPr>
        <p:spPr>
          <a:xfrm>
            <a:off x="4433760" y="2514600"/>
            <a:ext cx="0" cy="800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2895480" y="3276720"/>
            <a:ext cx="3013200" cy="3200400"/>
          </a:xfrm>
          <a:prstGeom prst="triangle">
            <a:avLst>
              <a:gd name="adj" fmla="val 50009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2895480" y="343080"/>
            <a:ext cx="72396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"/>
          <p:cNvSpPr/>
          <p:nvPr/>
        </p:nvSpPr>
        <p:spPr>
          <a:xfrm>
            <a:off x="5181480" y="228600"/>
            <a:ext cx="9781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>
            <a:off x="3249720" y="1028880"/>
            <a:ext cx="23889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1"/>
          <p:cNvSpPr/>
          <p:nvPr/>
        </p:nvSpPr>
        <p:spPr>
          <a:xfrm>
            <a:off x="5638680" y="685800"/>
            <a:ext cx="0" cy="34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3249720" y="685800"/>
            <a:ext cx="0" cy="34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3"/>
          <p:cNvSpPr/>
          <p:nvPr/>
        </p:nvSpPr>
        <p:spPr>
          <a:xfrm>
            <a:off x="4952880" y="990720"/>
            <a:ext cx="0" cy="419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579132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3429000" y="1295280"/>
            <a:ext cx="60948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4572000" y="1295280"/>
            <a:ext cx="62712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7"/>
          <p:cNvSpPr/>
          <p:nvPr/>
        </p:nvSpPr>
        <p:spPr>
          <a:xfrm>
            <a:off x="1371600" y="1905120"/>
            <a:ext cx="1447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18"/>
          <p:cNvSpPr/>
          <p:nvPr/>
        </p:nvSpPr>
        <p:spPr>
          <a:xfrm>
            <a:off x="5486400" y="1295280"/>
            <a:ext cx="542880" cy="34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495288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22"/>
          <p:cNvSpPr/>
          <p:nvPr/>
        </p:nvSpPr>
        <p:spPr>
          <a:xfrm>
            <a:off x="2590920" y="1295280"/>
            <a:ext cx="542880" cy="34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137160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3276720" y="190512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5257800" y="190512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6"/>
          <p:cNvSpPr/>
          <p:nvPr/>
        </p:nvSpPr>
        <p:spPr>
          <a:xfrm>
            <a:off x="1676520" y="190512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7"/>
          <p:cNvSpPr/>
          <p:nvPr/>
        </p:nvSpPr>
        <p:spPr>
          <a:xfrm>
            <a:off x="5486400" y="2819520"/>
            <a:ext cx="3985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8"/>
          <p:cNvSpPr/>
          <p:nvPr/>
        </p:nvSpPr>
        <p:spPr>
          <a:xfrm>
            <a:off x="5029200" y="2819520"/>
            <a:ext cx="3985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9"/>
          <p:cNvSpPr/>
          <p:nvPr/>
        </p:nvSpPr>
        <p:spPr>
          <a:xfrm>
            <a:off x="3048120" y="2819520"/>
            <a:ext cx="3967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0"/>
          <p:cNvSpPr/>
          <p:nvPr/>
        </p:nvSpPr>
        <p:spPr>
          <a:xfrm>
            <a:off x="1506600" y="2857680"/>
            <a:ext cx="3985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32"/>
          <p:cNvSpPr/>
          <p:nvPr/>
        </p:nvSpPr>
        <p:spPr>
          <a:xfrm>
            <a:off x="1066680" y="1295280"/>
            <a:ext cx="542880" cy="343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4"/>
          <p:cNvSpPr/>
          <p:nvPr/>
        </p:nvSpPr>
        <p:spPr>
          <a:xfrm flipH="1">
            <a:off x="1947600" y="1752480"/>
            <a:ext cx="73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35"/>
          <p:cNvSpPr/>
          <p:nvPr/>
        </p:nvSpPr>
        <p:spPr>
          <a:xfrm flipH="1">
            <a:off x="1983960" y="1752480"/>
            <a:ext cx="73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6"/>
          <p:cNvSpPr/>
          <p:nvPr/>
        </p:nvSpPr>
        <p:spPr>
          <a:xfrm>
            <a:off x="1687680" y="2857680"/>
            <a:ext cx="0" cy="34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7"/>
          <p:cNvSpPr/>
          <p:nvPr/>
        </p:nvSpPr>
        <p:spPr>
          <a:xfrm>
            <a:off x="1616040" y="29718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38"/>
          <p:cNvSpPr/>
          <p:nvPr/>
        </p:nvSpPr>
        <p:spPr>
          <a:xfrm>
            <a:off x="3581280" y="990720"/>
            <a:ext cx="0" cy="34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9"/>
          <p:cNvSpPr/>
          <p:nvPr/>
        </p:nvSpPr>
        <p:spPr>
          <a:xfrm>
            <a:off x="4952880" y="190512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0"/>
          <p:cNvSpPr/>
          <p:nvPr/>
        </p:nvSpPr>
        <p:spPr>
          <a:xfrm>
            <a:off x="5638680" y="190512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1"/>
          <p:cNvSpPr/>
          <p:nvPr/>
        </p:nvSpPr>
        <p:spPr>
          <a:xfrm>
            <a:off x="365760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42"/>
          <p:cNvSpPr/>
          <p:nvPr/>
        </p:nvSpPr>
        <p:spPr>
          <a:xfrm>
            <a:off x="281952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43"/>
          <p:cNvSpPr/>
          <p:nvPr/>
        </p:nvSpPr>
        <p:spPr>
          <a:xfrm>
            <a:off x="2819520" y="190512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4"/>
          <p:cNvSpPr/>
          <p:nvPr/>
        </p:nvSpPr>
        <p:spPr>
          <a:xfrm>
            <a:off x="179280" y="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Organización y genograma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5"/>
          <p:cNvSpPr/>
          <p:nvPr/>
        </p:nvSpPr>
        <p:spPr>
          <a:xfrm>
            <a:off x="5996160" y="6400800"/>
            <a:ext cx="31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myussem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6D69-FA66-4691-8993-B9110C262D0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Confusiones en el Rol del Profesional de Cs. E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rincipal Consult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Medico de cabecera ( trabaja en la urgenc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Rol de psicólogo ( Escucha y trata de resol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oco espacio para la Creatividad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5651640" y="5942160"/>
            <a:ext cx="18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ilI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348000" y="61545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306320" y="6165720"/>
            <a:ext cx="48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ic. Marta Silvia Yussem-myussem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B762-2FEE-4501-BC14-E866DCE10A3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Problemáticas a nivel pers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Riesgo matric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Propios valores (puede tener sanciones penales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Como comunicar a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Tema de lealtades : hacia si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hacia 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115880" y="5899320"/>
            <a:ext cx="48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ic. Marta Silvia Yussem-myussem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F9F5-64C9-4130-9DD8-11948E4A4FF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468360" y="62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476360" y="692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258560" y="260280"/>
            <a:ext cx="70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Problema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: Sustentabilidad  y Ayuda al Cliente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476360" y="836640"/>
            <a:ext cx="676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Solu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scuchar bie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Atender y comprender la demanda  explici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y la demanda implíc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Desarrollar la capacidad personal para sustentar emocionalmente al cl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m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Armar un espacio para la reflexión de su propio trabajo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560400" y="6237360"/>
            <a:ext cx="48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Lic. Marta Silvia Yussem-myussem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4F40-8216-45A3-B48D-BF21A38132C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2"/>
          <p:cNvGrpSpPr/>
          <p:nvPr/>
        </p:nvGrpSpPr>
        <p:grpSpPr>
          <a:xfrm>
            <a:off x="304920" y="260280"/>
            <a:ext cx="8839080" cy="5105160"/>
            <a:chOff x="304920" y="260280"/>
            <a:chExt cx="8839080" cy="5105160"/>
          </a:xfrm>
        </p:grpSpPr>
        <p:sp>
          <p:nvSpPr>
            <p:cNvPr id="120" name="Text Box 3"/>
            <p:cNvSpPr/>
            <p:nvPr/>
          </p:nvSpPr>
          <p:spPr>
            <a:xfrm>
              <a:off x="380880" y="869760"/>
              <a:ext cx="845784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EL CPN ES VISTO COMO EL MÉDICO DE CABECERA DE LA PYME: PUEDE COORDINAR LAS INTERVENCIONES DE OTROS PROFESIONALES  EXTERNOS Y ATENDER LAS  DIFICULTADES EMERGENTES DEL CRECIMIENTO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4"/>
            <p:cNvSpPr/>
            <p:nvPr/>
          </p:nvSpPr>
          <p:spPr>
            <a:xfrm>
              <a:off x="380880" y="1569960"/>
              <a:ext cx="8457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Arial"/>
                <a:buAutoNum type="arabicPeriod" startAt="2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300" spc="-1" strike="noStrike">
                  <a:solidFill>
                    <a:srgbClr val="000000"/>
                  </a:solidFill>
                  <a:latin typeface="Arial"/>
                </a:rPr>
                <a:t>EL CPN SE MUESTRA DISPUESTO A LA PRESTACIÓN DE NUEVOS SERVICI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380880" y="2012760"/>
              <a:ext cx="8534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POR TENER SU TIEMPO OCUPADO EN TAREAS OPERATIVAS LOS PROFESIONALES SUELEN NO PODER CAPACITARSE NI FORMULAR PROPUESTAS DE NUEVOS SERVICI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380880" y="2514600"/>
              <a:ext cx="8305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EN LAS PYMES SE SUELE VER AL CONTADOR PÚBLICO COMO UN MERO LIQUIDADOR DE IMPUEST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380880" y="3047760"/>
              <a:ext cx="8381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 startAt="5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EL ASESORAMIENTO QUE PRESTA EL CPN A MENUDO ES VISTO COMO CONSEJO QUE BRINDA UN AMIGO DEL EMPRESARI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380880" y="3581280"/>
              <a:ext cx="8457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814"/>
                </a:spcBef>
                <a:buClr>
                  <a:srgbClr val="000000"/>
                </a:buClr>
                <a:buFont typeface="Arial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Arial"/>
                </a:rPr>
                <a:t>EL CPN SIENTE CIERTA INCAPACIDAD PARA PODER VENDER LOS NUEVOS SERVICIOS REQUERIDO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9"/>
            <p:cNvGrpSpPr/>
            <p:nvPr/>
          </p:nvGrpSpPr>
          <p:grpSpPr>
            <a:xfrm>
              <a:off x="304920" y="260280"/>
              <a:ext cx="8839080" cy="5105160"/>
              <a:chOff x="304920" y="260280"/>
              <a:chExt cx="8839080" cy="5105160"/>
            </a:xfrm>
          </p:grpSpPr>
          <p:grpSp>
            <p:nvGrpSpPr>
              <p:cNvPr id="127" name="Group 10"/>
              <p:cNvGrpSpPr/>
              <p:nvPr/>
            </p:nvGrpSpPr>
            <p:grpSpPr>
              <a:xfrm>
                <a:off x="304920" y="260280"/>
                <a:ext cx="8839080" cy="5105160"/>
                <a:chOff x="304920" y="260280"/>
                <a:chExt cx="8839080" cy="5105160"/>
              </a:xfrm>
            </p:grpSpPr>
            <p:sp>
              <p:nvSpPr>
                <p:cNvPr id="128" name="Text Box 11"/>
                <p:cNvSpPr/>
                <p:nvPr/>
              </p:nvSpPr>
              <p:spPr>
                <a:xfrm>
                  <a:off x="380880" y="4222440"/>
                  <a:ext cx="8381520" cy="11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457200" indent="-457200">
                    <a:lnSpc>
                      <a:spcPct val="100000"/>
                    </a:lnSpc>
                    <a:buClr>
                      <a:srgbClr val="000000"/>
                    </a:buClr>
                    <a:buFont typeface="Arial"/>
                    <a:buAutoNum type="arabicPeriod" startAt="7"/>
                    <a:tabLst>
                      <a:tab algn="l" pos="8763120"/>
                      <a:tab algn="l" pos="9144000"/>
                      <a:tab algn="l" pos="10058400"/>
                    </a:tabLst>
                  </a:pPr>
                  <a:r>
                    <a:rPr b="1" i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EL EMPRESARIO PYME AFRONTA DIFICULTADES PARA: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just">
                    <a:lnSpc>
                      <a:spcPct val="100000"/>
                    </a:lnSpc>
                    <a:tabLst>
                      <a:tab algn="l" pos="0"/>
                      <a:tab algn="l" pos="8763120"/>
                      <a:tab algn="l" pos="9144000"/>
                      <a:tab algn="l" pos="10058400"/>
                    </a:tabLst>
                  </a:pPr>
                  <a:r>
                    <a:rPr b="1" i="1" lang="es-MX" sz="13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i="1" lang="es-MX" sz="13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r>
                    <a:rPr b="1" i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COMPRENDER LAS COMPLEJIDADES DEL CRECIMIENTO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just">
                    <a:lnSpc>
                      <a:spcPct val="100000"/>
                    </a:lnSpc>
                    <a:tabLst>
                      <a:tab algn="l" pos="0"/>
                      <a:tab algn="l" pos="8763120"/>
                      <a:tab algn="l" pos="9144000"/>
                      <a:tab algn="l" pos="10058400"/>
                    </a:tabLst>
                  </a:pPr>
                  <a:r>
                    <a:rPr b="1" i="1" lang="es-MX" sz="13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i="1" lang="es-MX" sz="13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r>
                    <a:rPr b="1" i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RECONOCER HONORARIOS ADICIONALES FRENTE A LOS NUEVOS SERVICIO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marL="457200" indent="-457200" algn="just">
                    <a:lnSpc>
                      <a:spcPct val="100000"/>
                    </a:lnSpc>
                    <a:tabLst>
                      <a:tab algn="l" pos="0"/>
                      <a:tab algn="l" pos="8763120"/>
                      <a:tab algn="l" pos="9144000"/>
                      <a:tab algn="l" pos="10058400"/>
                    </a:tabLst>
                  </a:pPr>
                  <a:r>
                    <a:rPr b="1" i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1" i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AMBAS DIFICULTADES SE INCREMENTAN CUANDO SE TRATA DE JÓVENES PROFESIONALES Y DE PYMES FAMILIARE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Rectangle 12"/>
                <p:cNvSpPr/>
                <p:nvPr/>
              </p:nvSpPr>
              <p:spPr>
                <a:xfrm>
                  <a:off x="304920" y="260280"/>
                  <a:ext cx="8839080" cy="51051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" name="Text Box 13"/>
              <p:cNvSpPr/>
              <p:nvPr/>
            </p:nvSpPr>
            <p:spPr>
              <a:xfrm>
                <a:off x="1447560" y="336600"/>
                <a:ext cx="655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Text Box 15"/>
          <p:cNvSpPr/>
          <p:nvPr/>
        </p:nvSpPr>
        <p:spPr>
          <a:xfrm>
            <a:off x="5437080" y="5373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2843280" y="5805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Fuente: Dr. Atilio Penna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059A-711B-41B7-9EF5-752B9519805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3640" y="907560"/>
            <a:ext cx="777708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Dificultades en cumplir el rol del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profesional de Cs. Ec.</a:t>
            </a:r>
            <a:br>
              <a:rPr sz="4000"/>
            </a:b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Al estar abocados en la tarea operativa ,las posibilidades de entendimiento disminuyen drasticamente,no solo para la especie humana sino también para los mamíferos en general, las av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Las dificultades en muchas organizaciones laborales , aun de gran tamaño ,por no considerar trabajo a los procesos mentales que no son acompañados por acciones instantáneas o movimientos fís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Los limites y dificultades humanas , entre otros los vinculares , existentes en todo proceso de comunicación (recordemos a las ballenas encalladas, las aves perdidas en largas migraciones , etc.) y que son fuertemente influenciadas por el hábitat o ambiente organizacional en el cual trabaja la dupla profesional máximo ejecutiv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64760" y="5970600"/>
            <a:ext cx="88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Fuente: Conferencia “ El crecimiento Pyme y el rol del Profesional de Cs Ec.”Dr. Atilio P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23:46:18Z</dcterms:created>
  <dc:creator>Florencia</dc:creator>
  <dc:description/>
  <dc:language>en-US</dc:language>
  <cp:lastModifiedBy>Administrator</cp:lastModifiedBy>
  <dcterms:modified xsi:type="dcterms:W3CDTF">2008-10-15T20:05:03Z</dcterms:modified>
  <cp:revision>36</cp:revision>
  <dc:subject/>
  <dc:title>Presentación de PowerPoint</dc:title>
</cp:coreProperties>
</file>