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A89-2063-4BB4-AA3F-F788E0ED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B74-8DE8-4FDE-AB2E-5A799D9D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679-959E-4B87-A357-D8EA6A0A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BBC-7B4C-4923-A217-93333A7C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322-418E-4B64-B267-5D616D14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54B2-352B-405A-9654-A09BA43A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3434-E93D-47D8-BFBB-8B18CBA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DC3-735A-4561-A6EB-7DF15E02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FE52-B329-45B4-B283-C6A2517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BE2-FF6D-4BF7-AB8B-BE7A5CD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6C15-D566-4BD5-8C02-67C7FB6B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693-B2F1-43B3-B85D-6DCAEFF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7F0C-A79A-4781-8B70-37ACEC0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FAA4-153B-4207-9AD0-A91B4C0A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17F5-EC6E-49C8-9C14-876E9215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6A84-34C9-4725-9CEA-A63335DF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EA67-05F7-41F9-85E6-139FCBFD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396-205C-42E7-8C56-6A0DDBD1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9AB-895D-4C5A-BFCD-AB0C504F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A28-8F7F-45F4-B73E-D24EA9C1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816-C411-4104-B71C-694E19E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2CC7-1021-4F2E-A56C-2F7480D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CDB-6F4C-412B-9368-036324C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8C1-3A40-4CDC-A8C5-F9549C6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A0F6-19C9-414F-B097-784AA7D7C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C097-0E79-45A0-8E2A-E65AC3ADA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609480"/>
            <a:ext cx="75960" cy="5715000"/>
          </a:xfrm>
          <a:prstGeom prst="rect">
            <a:avLst/>
          </a:prstGeom>
          <a:gradFill rotWithShape="0">
            <a:gsLst>
              <a:gs pos="0">
                <a:srgbClr val="8b7ba7"/>
              </a:gs>
              <a:gs pos="100000">
                <a:srgbClr val="442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886200"/>
            <a:ext cx="7315200" cy="76320"/>
          </a:xfrm>
          <a:prstGeom prst="rect">
            <a:avLst/>
          </a:prstGeom>
          <a:gradFill rotWithShape="0">
            <a:gsLst>
              <a:gs pos="0">
                <a:srgbClr val="442a72"/>
              </a:gs>
              <a:gs pos="100000">
                <a:srgbClr val="ada2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3809880"/>
            <a:ext cx="228600" cy="228600"/>
          </a:xfrm>
          <a:prstGeom prst="ellipse">
            <a:avLst/>
          </a:prstGeom>
          <a:solidFill>
            <a:srgbClr val="442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angelavattino@speedy.com.ar" TargetMode="External"/><Relationship Id="rId2" Type="http://schemas.openxmlformats.org/officeDocument/2006/relationships/hyperlink" Target="http://www.reddecontadores.org.ar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586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ffffff"/>
                </a:solidFill>
                <a:latin typeface="Times New Roman"/>
              </a:rPr>
              <a:t>Fidelizacion de clientes interno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509800" y="2244600"/>
            <a:ext cx="3489120" cy="3470040"/>
            <a:chOff x="5509800" y="2244600"/>
            <a:chExt cx="3489120" cy="3470040"/>
          </a:xfrm>
        </p:grpSpPr>
        <p:sp>
          <p:nvSpPr>
            <p:cNvPr id="124" name="_s1014815"/>
            <p:cNvSpPr/>
            <p:nvPr/>
          </p:nvSpPr>
          <p:spPr>
            <a:xfrm>
              <a:off x="6544440" y="2749320"/>
              <a:ext cx="1418400" cy="1446120"/>
            </a:xfrm>
            <a:prstGeom prst="ellipse">
              <a:avLst/>
            </a:prstGeom>
            <a:solidFill>
              <a:srgbClr val="b76a03">
                <a:alpha val="50000"/>
              </a:srgbClr>
            </a:solidFill>
            <a:ln w="468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_s1014793"/>
            <p:cNvSpPr/>
            <p:nvPr/>
          </p:nvSpPr>
          <p:spPr>
            <a:xfrm>
              <a:off x="7065720" y="224460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_s1014816"/>
            <p:cNvSpPr/>
            <p:nvPr/>
          </p:nvSpPr>
          <p:spPr>
            <a:xfrm>
              <a:off x="6891480" y="2878200"/>
              <a:ext cx="1418760" cy="144576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_s1014795"/>
            <p:cNvSpPr/>
            <p:nvPr/>
          </p:nvSpPr>
          <p:spPr>
            <a:xfrm>
              <a:off x="8146800" y="257472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_s1014817"/>
            <p:cNvSpPr/>
            <p:nvPr/>
          </p:nvSpPr>
          <p:spPr>
            <a:xfrm>
              <a:off x="7074720" y="3203640"/>
              <a:ext cx="1418760" cy="1445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_s1014797"/>
            <p:cNvSpPr/>
            <p:nvPr/>
          </p:nvSpPr>
          <p:spPr>
            <a:xfrm>
              <a:off x="8622720" y="341460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_s1014818"/>
            <p:cNvSpPr/>
            <p:nvPr/>
          </p:nvSpPr>
          <p:spPr>
            <a:xfrm>
              <a:off x="7011000" y="3573360"/>
              <a:ext cx="1418760" cy="1445760"/>
            </a:xfrm>
            <a:prstGeom prst="ellipse">
              <a:avLst/>
            </a:prstGeom>
            <a:solidFill>
              <a:srgbClr val="bb5f03">
                <a:alpha val="50000"/>
              </a:srgbClr>
            </a:solidFill>
            <a:ln w="4680">
              <a:solidFill>
                <a:srgbClr val="bb5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_s1014803"/>
            <p:cNvSpPr/>
            <p:nvPr/>
          </p:nvSpPr>
          <p:spPr>
            <a:xfrm>
              <a:off x="8457840" y="4730760"/>
              <a:ext cx="3765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_s1014819"/>
            <p:cNvSpPr/>
            <p:nvPr/>
          </p:nvSpPr>
          <p:spPr>
            <a:xfrm>
              <a:off x="6729480" y="3814560"/>
              <a:ext cx="1418760" cy="14461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46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_s1014805"/>
            <p:cNvSpPr/>
            <p:nvPr/>
          </p:nvSpPr>
          <p:spPr>
            <a:xfrm>
              <a:off x="7729920" y="535464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_s1014820"/>
            <p:cNvSpPr/>
            <p:nvPr/>
          </p:nvSpPr>
          <p:spPr>
            <a:xfrm>
              <a:off x="6360840" y="3814560"/>
              <a:ext cx="1418760" cy="1446120"/>
            </a:xfrm>
            <a:prstGeom prst="ellipse">
              <a:avLst/>
            </a:prstGeom>
            <a:solidFill>
              <a:srgbClr val="b76a03">
                <a:alpha val="50000"/>
              </a:srgbClr>
            </a:solidFill>
            <a:ln w="468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_s1014807"/>
            <p:cNvSpPr/>
            <p:nvPr/>
          </p:nvSpPr>
          <p:spPr>
            <a:xfrm>
              <a:off x="6402600" y="535464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_s1014821"/>
            <p:cNvSpPr/>
            <p:nvPr/>
          </p:nvSpPr>
          <p:spPr>
            <a:xfrm>
              <a:off x="6079320" y="3573360"/>
              <a:ext cx="1418760" cy="144576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_s1014809"/>
            <p:cNvSpPr/>
            <p:nvPr/>
          </p:nvSpPr>
          <p:spPr>
            <a:xfrm>
              <a:off x="5674680" y="4730760"/>
              <a:ext cx="37656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_s1014822"/>
            <p:cNvSpPr/>
            <p:nvPr/>
          </p:nvSpPr>
          <p:spPr>
            <a:xfrm>
              <a:off x="6015240" y="3203640"/>
              <a:ext cx="1418760" cy="1445760"/>
            </a:xfrm>
            <a:prstGeom prst="ellipse">
              <a:avLst/>
            </a:prstGeom>
            <a:solidFill>
              <a:srgbClr val="cccc00">
                <a:alpha val="50000"/>
              </a:srgbClr>
            </a:solidFill>
            <a:ln w="468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_s1014813"/>
            <p:cNvSpPr/>
            <p:nvPr/>
          </p:nvSpPr>
          <p:spPr>
            <a:xfrm>
              <a:off x="5509800" y="341460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_s1014823"/>
            <p:cNvSpPr/>
            <p:nvPr/>
          </p:nvSpPr>
          <p:spPr>
            <a:xfrm>
              <a:off x="6199200" y="2878200"/>
              <a:ext cx="1418400" cy="1445760"/>
            </a:xfrm>
            <a:prstGeom prst="ellipse">
              <a:avLst/>
            </a:prstGeom>
            <a:solidFill>
              <a:srgbClr val="bb5f03">
                <a:alpha val="50000"/>
              </a:srgbClr>
            </a:solidFill>
            <a:ln w="4680">
              <a:solidFill>
                <a:srgbClr val="bb5f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_s1014811"/>
            <p:cNvSpPr/>
            <p:nvPr/>
          </p:nvSpPr>
          <p:spPr>
            <a:xfrm>
              <a:off x="5984280" y="2574720"/>
              <a:ext cx="37620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Cadena de la Comunic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aber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ch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algo , no significa haber sido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cuch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aber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scuchad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algo no significa haberlo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rend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aber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mprendid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algo no significa haberlo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ep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aber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eptado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algo no significa haberlo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implemen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Haber </a:t>
            </a: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implementado 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lgo no significa haberlo </a:t>
            </a: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adoptado para siempr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Compet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 a los resultados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Orientación de alcanzar objetivos individuales y de la empresa, trabajando eficazmente y optimizando los recurs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rientacion de Servicios al cliente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Actuar evaluando como impacta su gestión en el cliente externo, asegurando una respuesta satisfactoria a sus expectativ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novación: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Disposición de apertura continua a nuevas alternativas, transformando problemas en oportunidades. Apertura ment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actividad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: Capacidad para tomar iniciativas y asumir la responsabilidad que las cosas suced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finir en cada momento lo que se quiere hacer y com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Reactividad Vs Proactivida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sonas Reactivas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ven afectadas por las circunstancias, las condiciones y el ambiente so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sienten bien , si su entorno esta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tienen libertad para elegir sus propias acc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entran sus esfuerzos en el circulo de preocupación: en los defectos de los otros, en los problemas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sonas Proac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Se mueven por valores seleccionados, pueden pasar  muchas cosas a su alrededor pero son dueñas de cómo quieren reaccionar antes estos estím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entran sus esfuerzos en el circulo de influencia, su energía es posi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eec94"/>
                </a:solidFill>
                <a:latin typeface="Times New Roman"/>
              </a:rPr>
              <a:t>Competencia: Liderazgo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s la capacidad para dirigir actividades laborales de los miembros de un equipo y de influir para la obtención de objetivos específicos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El liderazgo es un arte para movilizar personas en forma particular y concluir con los objetivos grupal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Practicas para un Liderazgo ejemplar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85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 u="sng">
                <a:solidFill>
                  <a:srgbClr val="ffffff"/>
                </a:solidFill>
                <a:uFillTx/>
                <a:latin typeface="Times New Roman"/>
              </a:rPr>
              <a:t>Desafiar el proceso</a:t>
            </a:r>
            <a:r>
              <a:rPr b="0" lang="es-AR" sz="3400" spc="-1" strike="noStrike">
                <a:solidFill>
                  <a:srgbClr val="ffffff"/>
                </a:solidFill>
                <a:latin typeface="Times New Roman"/>
              </a:rPr>
              <a:t>: Tomar riesgos, innova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 u="sng">
                <a:solidFill>
                  <a:srgbClr val="ffffff"/>
                </a:solidFill>
                <a:uFillTx/>
                <a:latin typeface="Times New Roman"/>
              </a:rPr>
              <a:t>Inspirar una visión compartida</a:t>
            </a:r>
            <a:r>
              <a:rPr b="0" lang="es-AR" sz="3400" spc="-1" strike="noStrike">
                <a:solidFill>
                  <a:srgbClr val="ffffff"/>
                </a:solidFill>
                <a:latin typeface="Times New Roman"/>
              </a:rPr>
              <a:t>: Confianza en sus habilidades y conocimiento de su gente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 u="sng">
                <a:solidFill>
                  <a:srgbClr val="ffffff"/>
                </a:solidFill>
                <a:uFillTx/>
                <a:latin typeface="Times New Roman"/>
              </a:rPr>
              <a:t>Permitir actuar a otros</a:t>
            </a:r>
            <a:r>
              <a:rPr b="0" lang="es-AR" sz="3400" spc="-1" strike="noStrike">
                <a:solidFill>
                  <a:srgbClr val="ffffff"/>
                </a:solidFill>
                <a:latin typeface="Times New Roman"/>
              </a:rPr>
              <a:t>: esfuerzo de equipo, permanenci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 u="sng">
                <a:solidFill>
                  <a:srgbClr val="ffffff"/>
                </a:solidFill>
                <a:uFillTx/>
                <a:latin typeface="Times New Roman"/>
              </a:rPr>
              <a:t>Marcar el camino</a:t>
            </a:r>
            <a:r>
              <a:rPr b="0" lang="es-AR" sz="3400" spc="-1" strike="noStrike">
                <a:solidFill>
                  <a:srgbClr val="ffffff"/>
                </a:solidFill>
                <a:latin typeface="Times New Roman"/>
              </a:rPr>
              <a:t>: Van primero, marcan con el ejemplo crean compromiso y dedicación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85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 u="sng">
                <a:solidFill>
                  <a:srgbClr val="ffffff"/>
                </a:solidFill>
                <a:uFillTx/>
                <a:latin typeface="Times New Roman"/>
              </a:rPr>
              <a:t>Llegar al corazón</a:t>
            </a:r>
            <a:r>
              <a:rPr b="0" lang="es-AR" sz="3400" spc="-1" strike="noStrike">
                <a:solidFill>
                  <a:srgbClr val="ffffff"/>
                </a:solidFill>
                <a:latin typeface="Times New Roman"/>
              </a:rPr>
              <a:t>: Estar cerca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Rasgos que distinguen a los lideres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Empuje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alto deseo de realización, inici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seo de dirigir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disposición a asumir responsabil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Honradez e integrid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equilibrio entre palabras y hech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fianza en si mism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teligencia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capacidad de anál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nocimientos adecuados para el trabaj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El líder crea compromiso une y motiva porque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Lucha por resolver sus conflictos inter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 nivel de autoestima es al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Da cuenta de su propia actuacion inter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 atreve si es necesario a ser impopu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 pregunta; ¿Qué puedo hacer por los demá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s-AR" sz="4400" spc="-1" strike="noStrike">
                <a:solidFill>
                  <a:srgbClr val="ffffcc"/>
                </a:solidFill>
                <a:latin typeface="Times New Roman"/>
              </a:rPr>
              <a:t>El manipulador despersonaliza y crea frustración porqu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Vive en un mundo de aparienc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Busca el apla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u ética es totalmente relati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 centra en las urgencias y en las pres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 pregunta: ¿Qué hacen los demas por mi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Funciones de líder: DELEGA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1342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legir el empleado apropi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unicar las expectativ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cerse a un lad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 retract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27280" y="28926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-Bol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AR" sz="4400" spc="-1" strike="noStrike">
                <a:solidFill>
                  <a:srgbClr val="ffffff"/>
                </a:solidFill>
                <a:latin typeface="Times New Roman"/>
              </a:rPr>
              <a:t>Cuando la gente esta incentivada a resolver problemas como propios, habilitada a tomar decisiones y alineada con sus motivaciones personales  y las estratégicas , se tiene el mayor potencial de sus contribuciones al negocio.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Estructuras Crecientes en la organiza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Necesidad de camb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Capacitación y Fidelización  de RECURSOS HUMAN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17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3500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otivar a las personas es la mejor forma de retener sobre ellas la responsabilidad”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280" y="4869000"/>
            <a:ext cx="8209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s-AR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angelavattino@speedy.com.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www</a:t>
            </a:r>
            <a:r>
              <a:rPr b="0" lang="es-AR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.reddecontadores.org.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Que significa Fidelizar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Establecer vínculos sólidos y  mantenimiento de relaciones a largo plaz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4800" spc="-1" strike="noStrike">
                <a:solidFill>
                  <a:srgbClr val="ffffff"/>
                </a:solidFill>
                <a:latin typeface="Times New Roman"/>
              </a:rPr>
              <a:t>Los empleados son el reflejo de los valores de la organización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5400" spc="-1" strike="noStrike">
                <a:solidFill>
                  <a:srgbClr val="ffffff"/>
                </a:solidFill>
                <a:latin typeface="Times New Roman"/>
              </a:rPr>
              <a:t>Según Frederick Reichheld: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ffff"/>
                </a:solidFill>
                <a:latin typeface="Times New Roman"/>
              </a:rPr>
              <a:t> “ </a:t>
            </a:r>
            <a:r>
              <a:rPr b="0" lang="es-AR" sz="5400" spc="-1" strike="noStrike">
                <a:solidFill>
                  <a:srgbClr val="ffffff"/>
                </a:solidFill>
                <a:latin typeface="Times New Roman"/>
              </a:rPr>
              <a:t>Sin empleados leales es imposible mantener una base de clientes leales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omo Fidelizar a nuestros clientes internos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Buscando satisfacer las necesidades específicas de cada trabajad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Incrementando esfuerzos para mantenerlos en el plantel, que sean productivos y puedan realizar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Ser creativos en la búsqueda de motivaciones de tipo no dineraria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Capacitación por Compet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" sz="40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Son comportamientos - </a:t>
            </a:r>
            <a:r>
              <a:rPr b="1" lang="es-AR" sz="4000" spc="-1" strike="noStrike" u="sng">
                <a:solidFill>
                  <a:srgbClr val="ffffff"/>
                </a:solidFill>
                <a:uFillTx/>
                <a:latin typeface="Times New Roman"/>
              </a:rPr>
              <a:t>Habilidades, Aptitudes</a:t>
            </a: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 - que distinguen el desempeño de los empleados y logran resultados superio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eec94"/>
                </a:solidFill>
                <a:latin typeface="Times New Roman"/>
              </a:rPr>
              <a:t>Competenci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bajo en Equipo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: Es la disposición de trabajar con otros, buscando sinergia de esfuerzos, aportando lo mejor de si, y asumiendo responsabilidades para el logro de objetivos del equip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unicación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: Cuando pensamos en transmitir, poner a conocimiento, de otros, pensamientos , ordenes, pedidos, delegación de tareas, limite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eec94"/>
                </a:solidFill>
                <a:latin typeface="Times New Roman"/>
              </a:rPr>
              <a:t>Competenci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 u="sng">
                <a:solidFill>
                  <a:srgbClr val="ffffff"/>
                </a:solidFill>
                <a:uFillTx/>
                <a:latin typeface="Times New Roman"/>
              </a:rPr>
              <a:t>Escucha efectiva</a:t>
            </a: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titudes que la favorecen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: Interés, respeto y apertura hacia el otro</a:t>
            </a: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AR" sz="3600" spc="-1" strike="noStrike" u="sng">
                <a:solidFill>
                  <a:srgbClr val="ffffff"/>
                </a:solidFill>
                <a:uFillTx/>
                <a:latin typeface="Times New Roman"/>
              </a:rPr>
              <a:t>Factores que la limitan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ercep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ntexto de Comun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mociona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-5482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onfia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Oír es un fenonomeno biológico. Se asocia a la capacidad de distinguir sonidos en nuestras interacciones con un medi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scuchar es un fenómeno totalmente diferente, aunque descansa en el fenómeno de oír. Escuchar pertenece al fenómeno del lengua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La diferencia entre escuchar y oír, es el hecho que cuando escuchamos, generamos un mundo interpreta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odemos decir que decimos lo que decimos, y los demás escuchan lo que escuch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8T14:59:00Z</dcterms:created>
  <dc:creator>RHO</dc:creator>
  <dc:description/>
  <dc:language>en-US</dc:language>
  <cp:lastModifiedBy>Colossus User</cp:lastModifiedBy>
  <dcterms:modified xsi:type="dcterms:W3CDTF">2008-10-15T11:56:39Z</dcterms:modified>
  <cp:revision>321</cp:revision>
  <dc:subject/>
  <dc:title>Presentación de PowerPoint</dc:title>
</cp:coreProperties>
</file>