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982-3876-4FCD-A8AC-E96FC5E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4EF-914B-4BA3-944E-10447E20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89B-1633-4594-835E-5C46471C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AF-886F-4AD5-AD9D-ECA4AC54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5AE-F9FE-4774-AFA7-5A912FCF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CDDF-12BB-498D-B2CF-B2D057D7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23C-B137-41E7-9B85-6823E4F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832-1A96-4664-B98D-5721C91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583-4E4E-450C-88E1-FFC0D87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5C00-56A7-4E70-91C2-0651C2C3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CDDF-DBCD-424C-BCEF-12A6606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B9A-3192-4B44-ADA9-B3824F1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520-90DB-48C5-8A07-636EDCF1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AEDD-4273-40DF-8E3E-8B235683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FF81-BF7B-4210-9B14-FF92653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71F-8D7E-48D7-B4A5-412E864E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6073-919C-456D-B87E-A813069C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806-7017-4073-A689-7C74436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A8B-EAEC-464F-9FD3-7EFB5B3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CAA-97CB-47E5-B3CD-DC027E8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988-CF7D-4EA1-A317-DD3075BC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153-9D95-4322-8846-96FEF8A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768-0D14-4534-8F41-861A55E5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5FD-8468-4D01-942B-6A8ADE6A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59F4-39F5-481D-9EC5-0A8AEF07641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F8B-2842-41D8-B315-ECEF24AFB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722-A572-44FD-A028-25EC2F8CA6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57E-93BF-4013-96F1-3B4FF1FF6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rebuchet MS"/>
              </a:rPr>
              <a:t>Servicios no tradicion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99640" y="4005360"/>
            <a:ext cx="77742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Presupuestación e implement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es-AR" sz="2200" spc="-1" strike="noStrike">
                <a:solidFill>
                  <a:srgbClr val="ffffff"/>
                </a:solidFill>
                <a:latin typeface="Trebuchet MS"/>
              </a:rPr>
              <a:t>L.A. Mariana Vanyay - C.P. Juan Pablo  Santamar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EF44E1-C9CD-4236-9006-563A2A1005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Gestión y cost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Diseño y rediseño de estructuras de cost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Costo para la toma de decision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Análisis de las actividades (ABC costing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Target co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DAE53-E02E-448C-9E2E-1D772F2FDD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Marketing relacion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Individualida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Fide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asos a tener en cue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Manejo de dat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Implantación de program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Retroali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155B5-D09D-46D6-BDE4-1483779DF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Planeamiento estratég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74167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Análisis FOD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Requerimientos y oportunidad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lan estratégico del negoci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Fortalecimiento de cadena de val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lan de mejora contin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CAEA-7A91-484B-90EA-C5D962083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Relaciones labor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201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Negociación ante conflict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Administración de las remuneracion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Selección e incorporación del person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Descripción y análisis de 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DAF4-6D39-4DD5-8DC7-A80400B871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Sistem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Diseño y análisis de proces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arametrización de procesos y variabl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Implementación de sistem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Adicción de valor a los proces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Desarrollo tecnológico TIC´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1C4D1-C5D7-4ECA-8257-19C9023FA9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Por que presupuestar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ermite conocer nuestros costos y determinar nuestra rentabilida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Claridad en la propuesta de prestación de nuestro servici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Seriedad profesion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Jerarquiza nuestra prof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803B-F5E9-41DC-960E-9505025ED4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Presupuest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043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Honorarios mínimos suge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resupu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lan de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Contrato de servicios ó Carta conve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D316B-8062-47D9-B299-5589B1FECC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Pautas a considerar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articularidad del clie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Naturaleza y complejidad de las tareas a realiza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Horas de trabajo asignad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Recursos a utiliza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Requerimientos al clie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Urgencia de la prestac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Eventu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47C0C-700B-4EB6-AD19-85E75B0098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Implementación</a:t>
            </a:r>
            <a:endParaRPr b="1" lang="en-US" sz="4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gnóstico y análisi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Presupuestac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Aceptación de presupues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Requerimientos básic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Implementación y contro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Servicio de post-imple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E9AE6-C1C4-4C7F-AA5C-AA32FF3533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Reflexión fin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301C-A518-477E-AB04-D10250BBCD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rebuchet MS"/>
              </a:rPr>
              <a:t>Características del Servicio Profesiona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Servicio brindado por profesional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Oferta intangibl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Participación activa del clie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Se produce y consume al mismo tiemp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Variabilidad absolu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Mercado muy competitiv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6E8CE-85F6-41A6-A566-DBA9B58357D2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Muchas gracia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594D0-2FEC-4FD9-9B15-C288889BC5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rebuchet MS"/>
              </a:rPr>
              <a:t>Visión profesional desde 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Trebuchet MS"/>
              </a:rPr>
              <a:t>la Oferta y la Deman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844280"/>
            <a:ext cx="7369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Desarrollo de la imagen del profesiona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Capacitación y actualización permanen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Aceptación nuevas exigencias del merc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Tecnología e infraestructu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Servicios de alto valor agreg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Atención personalizad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1D119-2A8B-4F48-BC5D-41C193C1D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rebuchet MS"/>
              </a:rPr>
              <a:t>Hacia donde orientamos nuestros servicios profesionale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91920"/>
            <a:ext cx="7283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Servicios tradi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Nuevos nicho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5C3F1-31A7-4BE1-AAA0-BFC478736E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Nuevos nichos comerciales</a:t>
            </a: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Investigación del mercado potencial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Obtener información para detectar necesidades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Creación de nuevas necesidades, intereses y deseos de los clientes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Diferenciación del servicio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Capacidad de respuesta al cambio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Percepción emprendedor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D7146-17A9-4F9F-B39A-8B9B282EB7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rebuchet MS"/>
              </a:rPr>
              <a:t>Competencias para la prestación de nuestros servici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Aptitud proactiv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Habilidad para comunicar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Visión global y estratégica del merc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Capacidad de negocia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Toma de decisiones ante incertidumbr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Trabajo en equipo interdisciplinari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Redes profes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AA7E-B59F-4DBA-96D0-81157B491D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Capacit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4842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Capacitación y desarrollo del person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Fortalecimiento de trabajo en equip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Mejora de la relación comunicacion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Capacitación “in company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Capacitación no convencion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Organización de congresos y jornad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rebuchet MS"/>
              </a:rPr>
              <a:t>Talleres abier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B9F3D-83C0-4717-A579-C5D0F93038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Reestructuración de empres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Diagnóstico del nivel de deterioro de la empresa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Reflotamiento de empresas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Reorganización de empresas en crecimiento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rebuchet MS"/>
              </a:rPr>
              <a:t>La Pyme exportadora y los Consorcios de cooper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8BA28-69BC-49E8-B4CD-19E55AC0AF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rebuchet MS"/>
              </a:rPr>
              <a:t>Responsabilidad soci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Triple dimensión: económica, ambiental y soci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rebuchet MS"/>
              </a:rPr>
              <a:t>Balance social y Reportes de sustentabilida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Valoración del capital human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Relación con el medio ambie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Voluntariado corpor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II Jornada del Pequeño y Mediano Estudio Profesion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9192-1D7D-4155-8CEF-F04E9C5EB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5:08:41Z</dcterms:created>
  <dc:creator>clientexp</dc:creator>
  <dc:description/>
  <dc:language>en-US</dc:language>
  <cp:lastModifiedBy>PC</cp:lastModifiedBy>
  <dcterms:modified xsi:type="dcterms:W3CDTF">2008-10-16T11:18:21Z</dcterms:modified>
  <cp:revision>24</cp:revision>
  <dc:subject/>
  <dc:title>Cómo iniciarse en la actividad independiente</dc:title>
</cp:coreProperties>
</file>