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818-9EEC-4194-9E1E-B3BB863D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FCD-FAF7-4C23-B0F0-C5E5B8DA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108-0FEE-49EE-B90B-F1F20156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FCB-1BD3-488C-AA1D-EA5E95D9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F39-949A-4FB9-B4A2-82E03B4F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6FB-A15B-4C93-B5DC-663EEF37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A32-FA1F-4FEF-84A9-B18A6A64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E56-AD23-4B44-8C90-E49798B0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7E8-A150-4FBD-9A2C-0DF19C4D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3ED-EDD3-4DB7-AB75-4A3BEC36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DFD-3328-42D4-B304-F0B8D737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B1B-8C6F-4CED-9AF1-0B52C52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D9C8-1BCF-4AF3-A8B1-3DCCDBE93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7476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Book Antiqua"/>
              </a:rPr>
              <a:t>Planificación suces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Book Antiqua"/>
              </a:rPr>
              <a:t>Para clientes y estudios Py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"/>
            <a:ext cx="91440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99ccff"/>
                </a:solidFill>
                <a:latin typeface="Book Antiqua"/>
              </a:rPr>
              <a:t>VIII Jornada del Pequeño y Mediano Estudio Profesion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2068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4797360"/>
          <a:ext cx="367200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797360"/>
                    <a:ext cx="36720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133720"/>
            <a:ext cx="9144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Conjunto de estrategias para que la transmisión del patrimonio de una persona y el poder en una empresa, por causa de fallecimiento o retiro, se realicen en cumplimiento de los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99ccff"/>
                </a:solidFill>
                <a:latin typeface="Verdana"/>
              </a:rPr>
              <a:t>INTERESES Y DESEOS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l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99ccff"/>
                </a:solidFill>
                <a:latin typeface="Verdana"/>
              </a:rPr>
              <a:t>HEREDANTE</a:t>
            </a: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y las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99ccff"/>
                </a:solidFill>
                <a:latin typeface="Verdana"/>
              </a:rPr>
              <a:t>NECESIDADES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 su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99ccff"/>
                </a:solidFill>
                <a:latin typeface="Verdana"/>
              </a:rPr>
              <a:t>ENTORNO AFECTIVO</a:t>
            </a: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 un marco de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99ccff"/>
                </a:solidFill>
                <a:latin typeface="Verdana"/>
              </a:rPr>
              <a:t>EQUIDAD</a:t>
            </a: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808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lanificación sucesor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700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9320" y="2895480"/>
            <a:ext cx="4876560" cy="32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n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na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n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0680" y="1741320"/>
            <a:ext cx="35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Verdana"/>
              </a:rPr>
              <a:t>Cuando tene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08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Momento para Planifica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4616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5640" y="2349360"/>
            <a:ext cx="7674120" cy="32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Familia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No Familia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Grupo empresa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Grupo Familiar titular de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08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Diferentes modelos 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Empresa y Famil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46160" y="6524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3471840"/>
            <a:ext cx="66657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Con eje en la empre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Que tienden a profesionalizar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Con eje en la fami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880" y="2273400"/>
            <a:ext cx="42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Verdana"/>
              </a:rPr>
              <a:t>Empresas Familia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1268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08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Diferentes modelos 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Empresa y Famil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3255840"/>
            <a:ext cx="856908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Que no continuarán cuando se retiren los </a:t>
            </a: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ropietari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Que continuarán con no familia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Que tienden a convertirse en empresas de famil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440" y="2273400"/>
            <a:ext cx="48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Verdana"/>
              </a:rPr>
              <a:t>Empresas No Familia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808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Diferentes modelos 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Empresa y Famil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4616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2103480"/>
            <a:ext cx="86756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¿Quiénes son mis herederos forzos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Si no tengo herederos forzosos, ¿quiénes son mis herederos legít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¿Hay alguien que debiera recibir parte de mi herencia, y no es heredero forzo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¿Todos ellos necesitan de mi aporte económ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4616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02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Y por casa,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¿Cómo andamos?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989000"/>
            <a:ext cx="867564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¿Todos mis hijos son del mismo matrimon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¿Sigo en matrimonio con el padre/madre de mis hij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¿A quiénes afectaría una enfermedad grave que yo pudiera sufr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¿A quiénes afectaría mi fall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602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Y por casa,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¿Cómo andamos? </a:t>
            </a:r>
            <a:r>
              <a:rPr b="1" lang="es-AR" sz="2200" spc="-1" strike="noStrike">
                <a:solidFill>
                  <a:srgbClr val="99ccff"/>
                </a:solidFill>
                <a:latin typeface="Book Antiqua"/>
                <a:ea typeface="Arial"/>
              </a:rPr>
              <a:t>( II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4616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73360"/>
            <a:ext cx="874872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¿Podría afectarme la enfermedad de un soci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¿Podría afectarme la muerte de un soci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¿Qué puedo hacer por la continuidad de mi Estudio o empres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¿Qué tipos de conflicto imagino en caso de que yo no esté físicamen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¿Tengo alguna manera de evitarlos o minimizarlo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602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reguntas en el estud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o la empres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6680" y="1109520"/>
            <a:ext cx="68785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¿Cuáles son mis sueños para el largo plazo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320" y="2287440"/>
            <a:ext cx="729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¿Qué estoy haciendo para que esos sueños 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cumplan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7160" y="3500280"/>
            <a:ext cx="6832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¿Qué me propongo hacer por esos sueños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1844640"/>
            <a:ext cx="896472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Algún miembro tiene expectativas que no se corresponden con la 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Algún miembro de la familia se considera segr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El elegido para liderar en la nueva generación no es reconocido por otro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Falta de reconocimiento (económico o moral) del esfuerzo, la dedicación o el ta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02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Orígenes del conflicto 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Empresa &amp; Famil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4616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08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Legítimas Hereditari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0"/>
            <a:ext cx="7239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Legítima de los hijos: 8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egítima del cónyuge: 5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Legítima de los padres: 66,6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0680" y="64800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320920"/>
            <a:ext cx="896472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Conflictos históricos entre las gen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Sospechas de fr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Fr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Conflicto entre cónyu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4616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02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Orígenes del conflicto 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Empresa &amp; Familia </a:t>
            </a:r>
            <a:r>
              <a:rPr b="1" lang="es-AR" sz="2200" spc="-1" strike="noStrike">
                <a:solidFill>
                  <a:srgbClr val="99ccff"/>
                </a:solidFill>
                <a:latin typeface="Book Antiqua"/>
                <a:ea typeface="Arial"/>
              </a:rPr>
              <a:t>( II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2133720"/>
            <a:ext cx="878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Ambos cónyuges trabajan en la empres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60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Conflicto entre cónyu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4616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0320" y="1413000"/>
            <a:ext cx="45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Verdana"/>
              </a:rPr>
              <a:t>Diferentes situa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8720" y="2884320"/>
            <a:ext cx="722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El cónyuge que trabaja en la empresa decidió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cortar la rel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70360"/>
            <a:ext cx="79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El cónyuge que trabaja en la empresa originó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la ira del otro</a:t>
            </a:r>
            <a:r>
              <a:rPr b="0" lang="es-AR" sz="25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917960"/>
            <a:ext cx="87487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El cónyuge que trabaja en la empresa se considera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AR" sz="2500" spc="-1" strike="noStrike">
                <a:solidFill>
                  <a:srgbClr val="ffffff"/>
                </a:solidFill>
                <a:latin typeface="Verdana"/>
              </a:rPr>
              <a:t>víctima del otro/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2276640"/>
            <a:ext cx="874872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El Abordaje Estratégico: Protocolo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El fideicomiso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El fideicomiso de Protección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Seguros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Do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Convenios de continuidad empres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08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Herramientas de aplica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ráctic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5240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rotocolo Familia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179280" y="278136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Acuerdo entre las actuales generaciones, con absoluto valor moral y relativo valor legal, que permite disponer un curso de acción trascendente, en cuanto 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2295360"/>
            <a:ext cx="8748720" cy="32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Metas familiares y empresa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Estructura actual y des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89000"/>
            <a:ext cx="914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rotocolo Familiar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99ccff"/>
                </a:solidFill>
                <a:latin typeface="Book Antiqua"/>
                <a:ea typeface="Arial"/>
              </a:rPr>
              <a:t>Aspectos comprendi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1773360"/>
            <a:ext cx="921708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autas para el ingreso y egreso de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autas para la retribución de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Régimen de apoyo de la empresa al desarrollo de la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Mecanismos de prevención y resolución de confli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La ley de circulación de las acciones (pactos de sindicación, obligaciones de compra de accione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9000"/>
            <a:ext cx="914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rotocolo Familiar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99ccff"/>
                </a:solidFill>
                <a:latin typeface="Book Antiqua"/>
                <a:ea typeface="Arial"/>
              </a:rPr>
              <a:t>Aspectos comprendidos </a:t>
            </a:r>
            <a:r>
              <a:rPr b="1" lang="es-AR" sz="2200" spc="-1" strike="noStrike">
                <a:solidFill>
                  <a:srgbClr val="99ccff"/>
                </a:solidFill>
                <a:latin typeface="Book Antiqua"/>
                <a:ea typeface="Arial"/>
              </a:rPr>
              <a:t>( II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37452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860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99ccff"/>
                </a:solidFill>
                <a:latin typeface="Book Antiqua"/>
                <a:ea typeface="Arial"/>
              </a:rPr>
              <a:t>Seguro de vida con acuerdo de compraventa entre socio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560" y="2179800"/>
            <a:ext cx="168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b2b2b2"/>
                </a:solidFill>
                <a:uFillTx/>
                <a:latin typeface="Verdana"/>
              </a:rPr>
              <a:t>Tomad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93400" y="2882880"/>
            <a:ext cx="5417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Verdana"/>
                <a:ea typeface="Arial"/>
              </a:rPr>
              <a:t>La sociedad titular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31480" y="3645000"/>
            <a:ext cx="328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b) Cada socio, por s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6480" y="4221000"/>
            <a:ext cx="774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c) Los socios, en forma cruzada o recípro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7452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7360" y="1890720"/>
            <a:ext cx="227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b2b2b2"/>
                </a:solidFill>
                <a:uFillTx/>
                <a:latin typeface="Verdana"/>
              </a:rPr>
              <a:t>Beneficiari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240" y="2637000"/>
            <a:ext cx="78804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)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sociedad titular de la empresa, con carg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mprar las acciones del socio fall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ccff"/>
                </a:solidFill>
                <a:latin typeface="Book Antiqua"/>
                <a:ea typeface="Arial"/>
              </a:rPr>
              <a:t>Seguro de vida con acuerdo de compraventa entre socios </a:t>
            </a:r>
            <a:r>
              <a:rPr b="1" lang="es-AR" sz="2200" spc="-1" strike="noStrike">
                <a:solidFill>
                  <a:srgbClr val="99ccff"/>
                </a:solidFill>
                <a:latin typeface="Book Antiqua"/>
                <a:ea typeface="Arial"/>
              </a:rPr>
              <a:t>( II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2000" y="3716280"/>
            <a:ext cx="489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b)</a:t>
            </a: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La familia del socio fallec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2280" y="4292640"/>
            <a:ext cx="275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c)</a:t>
            </a: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Un fidecomi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084640"/>
            <a:ext cx="7345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d)</a:t>
            </a: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Los socios sobrevivientes, con cargo a comprar</a:t>
            </a: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las acciones del socio fallec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7640" y="1773360"/>
            <a:ext cx="619308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Abog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Con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Administradores de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scriba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Psicólog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Profesionales de finanz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Profesionales de segu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51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Red de profesion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ccff"/>
                </a:solidFill>
                <a:latin typeface="Book Antiqua"/>
              </a:rPr>
              <a:t>Los roles del profesional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ccff"/>
                </a:solidFill>
                <a:latin typeface="Book Antiqua"/>
              </a:rPr>
              <a:t>ciencias económ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3716280"/>
            <a:ext cx="748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2.-</a:t>
            </a: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TENCIÓN DIRECTA:</a:t>
            </a: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 Contador se especializa en</a:t>
            </a: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nificación Patrimonial y Financiera, y brinda servicios</a:t>
            </a: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rectos</a:t>
            </a: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a sus clientes en estas áreas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1989000"/>
            <a:ext cx="763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1.- </a:t>
            </a: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TENCIÓN LATERAL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angencialmente descubr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una</a:t>
            </a: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ecesidad de Planificación de parte de un cliente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y le</a:t>
            </a: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sugiere</a:t>
            </a: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que haga la consulta, o lo lleva a la consulta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96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strategias que permiten prepara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ara evitar o disminuir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nsecuencias de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una contin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iesgosa o indese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8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reven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700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ccff"/>
                </a:solidFill>
                <a:latin typeface="Book Antiqua"/>
              </a:rPr>
              <a:t>Los roles del profesional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ccff"/>
                </a:solidFill>
                <a:latin typeface="Book Antiqua"/>
              </a:rPr>
              <a:t>ciencias económicas </a:t>
            </a:r>
            <a:r>
              <a:rPr b="1" lang="es-AR" sz="2200" spc="-1" strike="noStrike">
                <a:solidFill>
                  <a:srgbClr val="99ccff"/>
                </a:solidFill>
                <a:latin typeface="Book Antiqua"/>
              </a:rPr>
              <a:t>( II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933720"/>
            <a:ext cx="82087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4.- </a:t>
            </a: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SUPERVISOR: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 como hombre de confianza del cliente,</a:t>
            </a: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supervisa todo el proceso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104920"/>
            <a:ext cx="86407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3.- </a:t>
            </a: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ARTICIPACIÓN EXPERTA: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 el Profesional de Cs. Ec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abarca un área de servicio específico: Planificación</a:t>
            </a: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Impositiva,</a:t>
            </a: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Sociedades, Organizaci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08000" y="909720"/>
            <a:ext cx="8785080" cy="5904000"/>
            <a:chOff x="108000" y="909720"/>
            <a:chExt cx="8785080" cy="5904000"/>
          </a:xfrm>
        </p:grpSpPr>
        <p:sp>
          <p:nvSpPr>
            <p:cNvPr id="155" name=""/>
            <p:cNvSpPr/>
            <p:nvPr/>
          </p:nvSpPr>
          <p:spPr>
            <a:xfrm>
              <a:off x="108000" y="909720"/>
              <a:ext cx="280836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CO DE INCUMB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terminación d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motivaciones de la consul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neces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expecta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3920" y="2432160"/>
              <a:ext cx="2403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OMIENDA PROFES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32000" y="1845000"/>
              <a:ext cx="2543400" cy="11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ALUACIÓN ESTRATÉ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álisis crítico de la situación actual mediante entrevistas con las personas involucradas y estudio de la documentación pertinen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84720" y="4221360"/>
              <a:ext cx="2808360" cy="11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JECUCION DEL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esta en práctica de las medidas que conducen a satisfacer el requerimiento inicial. Elaboración de los instrumentos correspondient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32000" y="3356280"/>
              <a:ext cx="261144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E ESCRI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íntesis de los elementos relevados y conclusion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51080" y="4435560"/>
              <a:ext cx="259236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 DE A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ructuración de las metas y los pasos para lograrlas en un plazo determinad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7040" y="5661360"/>
              <a:ext cx="259236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NITOREO DEL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visión sistemática para constatar que el plan se esté cumpliendo adecuadamente y realizar los ajustes necesario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32000" y="1989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27280" y="2563920"/>
              <a:ext cx="504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724360" y="4687920"/>
              <a:ext cx="36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08720" y="5301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27640" y="3069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0" y="115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ccff"/>
                </a:solidFill>
                <a:latin typeface="Book Antiqua"/>
              </a:rPr>
              <a:t>Metodologí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368400" y="64911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4076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Book Antiqua"/>
                <a:ea typeface="Arial"/>
              </a:rPr>
              <a:t>www.caps-empresas.org.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411280" y="546120"/>
          <a:ext cx="4464360" cy="15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546120"/>
                    <a:ext cx="44643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771640" y="4869000"/>
            <a:ext cx="40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Book Antiqua"/>
                <a:ea typeface="Arial"/>
              </a:rPr>
              <a:t>www.buendivorcio.org.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2349360"/>
            <a:ext cx="76327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Book Antiqua"/>
                <a:ea typeface="Arial"/>
              </a:rPr>
              <a:t>www.caps.org.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Book Antiqua"/>
                <a:ea typeface="Arial"/>
              </a:rPr>
              <a:t>Tel.: 4371-9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b2b2b2"/>
                </a:solidFill>
                <a:latin typeface="Book Antiqua"/>
                <a:ea typeface="Arial"/>
              </a:rPr>
              <a:t>(posibilidad de suscribirse al Newsletter TEMAS DE PLANIFIC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856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133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iones que se adopta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o consecuenci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capacidad de ver por anticip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 que ha de ocu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revis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700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05740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Es el</a:t>
            </a:r>
            <a:r>
              <a:rPr b="0" lang="es-ES_tradnl" sz="2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99ccff"/>
                </a:solidFill>
                <a:latin typeface="Verdana"/>
              </a:rPr>
              <a:t>proces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que permite determinar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99ccff"/>
                </a:solidFill>
                <a:latin typeface="Verdana"/>
              </a:rPr>
              <a:t>metas personales y patrimoniales</a:t>
            </a: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y lo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99ccff"/>
                </a:solidFill>
                <a:latin typeface="Verdana"/>
              </a:rPr>
              <a:t>paso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para alcanzarlas,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respetando la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99ccff"/>
                </a:solidFill>
                <a:latin typeface="Verdana"/>
              </a:rPr>
              <a:t>necesidades del entorno afectivo</a:t>
            </a: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en un marco d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99ccff"/>
                </a:solidFill>
                <a:latin typeface="Verdana"/>
              </a:rPr>
              <a:t>equidad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y con adecuada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99ccff"/>
                </a:solidFill>
                <a:latin typeface="Verdana"/>
              </a:rPr>
              <a:t>asistencia profesional</a:t>
            </a:r>
            <a:r>
              <a:rPr b="0" lang="es-ES_tradnl" sz="2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08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lanificación Person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700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89000"/>
            <a:ext cx="88390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99ccff"/>
                </a:solidFill>
                <a:uFillTx/>
                <a:latin typeface="Verdana"/>
              </a:rPr>
              <a:t>Financiera</a:t>
            </a:r>
            <a:r>
              <a:rPr b="0" lang="es-ES_tradnl" sz="2500" spc="-1" strike="noStrike">
                <a:solidFill>
                  <a:srgbClr val="99ccff"/>
                </a:solidFill>
                <a:latin typeface="Verdana"/>
              </a:rPr>
              <a:t>: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flujos de fondos a largo plaz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99ccff"/>
                </a:solidFill>
                <a:uFillTx/>
                <a:latin typeface="Verdana"/>
              </a:rPr>
              <a:t>Patrimonial</a:t>
            </a:r>
            <a:r>
              <a:rPr b="0" lang="es-ES_tradnl" sz="2500" spc="-1" strike="noStrike">
                <a:solidFill>
                  <a:srgbClr val="99ccff"/>
                </a:solidFill>
                <a:latin typeface="Verdana"/>
              </a:rPr>
              <a:t>: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titularidad de activos y pasivos </a:t>
            </a:r>
            <a:br>
              <a:rPr sz="2500"/>
            </a:b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y su vinculación con  familia y empres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99ccff"/>
                </a:solidFill>
                <a:uFillTx/>
                <a:latin typeface="Verdana"/>
              </a:rPr>
              <a:t>Personalísima</a:t>
            </a:r>
            <a:r>
              <a:rPr b="0" lang="es-ES_tradnl" sz="2500" spc="-1" strike="noStrike">
                <a:solidFill>
                  <a:srgbClr val="99ccff"/>
                </a:solidFill>
                <a:latin typeface="Verdana"/>
              </a:rPr>
              <a:t>: 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cuestiones no cuantificables económicamen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99ccff"/>
                </a:solidFill>
                <a:uFillTx/>
                <a:latin typeface="Verdana"/>
              </a:rPr>
              <a:t>Sucesoria</a:t>
            </a:r>
            <a:r>
              <a:rPr b="0" lang="es-ES_tradnl" sz="2500" spc="-1" strike="noStrike">
                <a:solidFill>
                  <a:srgbClr val="99ccff"/>
                </a:solidFill>
                <a:latin typeface="Verdana"/>
              </a:rPr>
              <a:t>: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ramas </a:t>
            </a:r>
            <a:r>
              <a:rPr b="0" lang="es-ES_tradnl" sz="2500" spc="-1" strike="noStrike" u="sng">
                <a:solidFill>
                  <a:srgbClr val="99ccff"/>
                </a:solidFill>
                <a:uFillTx/>
                <a:latin typeface="Verdana"/>
              </a:rPr>
              <a:t>financiera</a:t>
            </a:r>
            <a:r>
              <a:rPr b="0" lang="es-ES_tradnl" sz="2500" spc="-1" strike="noStrike">
                <a:solidFill>
                  <a:srgbClr val="99ccff"/>
                </a:solidFill>
                <a:latin typeface="Verdana"/>
              </a:rPr>
              <a:t>, </a:t>
            </a:r>
            <a:r>
              <a:rPr b="0" lang="es-ES_tradnl" sz="2500" spc="-1" strike="noStrike" u="sng">
                <a:solidFill>
                  <a:srgbClr val="99ccff"/>
                </a:solidFill>
                <a:uFillTx/>
                <a:latin typeface="Verdana"/>
              </a:rPr>
              <a:t>patrimonial</a:t>
            </a:r>
            <a:r>
              <a:rPr b="0" lang="es-ES_tradnl" sz="2500" spc="-1" strike="noStrike">
                <a:solidFill>
                  <a:srgbClr val="99ccff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_tradnl" sz="2500" spc="-1" strike="noStrike" u="sng">
                <a:solidFill>
                  <a:srgbClr val="99ccff"/>
                </a:solidFill>
                <a:uFillTx/>
                <a:latin typeface="Verdana"/>
              </a:rPr>
              <a:t>personalísima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frente a la posibilidad </a:t>
            </a:r>
            <a:br>
              <a:rPr sz="2500"/>
            </a:b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del retiro y la certeza de la muer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8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lanificación Personal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Ram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700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808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Instrumentos de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lanificación person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700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421000"/>
            <a:ext cx="5715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 test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a d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 fideicom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a renta vitali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as soci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eguros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Instrumen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2309760"/>
            <a:ext cx="838188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  <a:ea typeface="Arial"/>
              </a:rPr>
              <a:t>la protección del patrimonio frente 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  <a:ea typeface="Arial"/>
              </a:rPr>
              <a:t>   </a:t>
            </a:r>
            <a:r>
              <a:rPr b="0" lang="es-AR" sz="2600" spc="-1" strike="noStrike">
                <a:solidFill>
                  <a:srgbClr val="ffffff"/>
                </a:solidFill>
                <a:latin typeface="Verdana"/>
                <a:ea typeface="Arial"/>
              </a:rPr>
              <a:t>conflictos familiares, el Estado y terceros acreedore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000" y="1905120"/>
            <a:ext cx="545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b2b2b2"/>
                </a:solidFill>
                <a:latin typeface="Verdana"/>
                <a:ea typeface="Arial"/>
              </a:rPr>
              <a:t> </a:t>
            </a:r>
            <a:r>
              <a:rPr b="0" lang="es-AR" sz="2800" spc="-1" strike="noStrike">
                <a:solidFill>
                  <a:srgbClr val="b2b2b2"/>
                </a:solidFill>
                <a:latin typeface="Verdana"/>
                <a:ea typeface="Arial"/>
              </a:rPr>
              <a:t>Conjunto de </a:t>
            </a:r>
            <a:r>
              <a:rPr b="1" lang="es-AR" sz="2800" spc="-1" strike="noStrike">
                <a:solidFill>
                  <a:srgbClr val="b2b2b2"/>
                </a:solidFill>
                <a:latin typeface="Verdana"/>
                <a:ea typeface="Arial"/>
              </a:rPr>
              <a:t>estrategias</a:t>
            </a:r>
            <a:r>
              <a:rPr b="0" lang="es-AR" sz="2800" spc="-1" strike="noStrike">
                <a:solidFill>
                  <a:srgbClr val="b2b2b2"/>
                </a:solidFill>
                <a:latin typeface="Verdana"/>
                <a:ea typeface="Arial"/>
              </a:rPr>
              <a:t> para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08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lanificación patrimoni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700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4437000"/>
            <a:ext cx="748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el crecimiento del patrimonio, a través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AR" sz="2600" spc="-1" strike="noStrike">
                <a:solidFill>
                  <a:srgbClr val="ffffff"/>
                </a:solidFill>
                <a:latin typeface="Verdana"/>
              </a:rPr>
              <a:t>los mecanismos adecua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2004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ho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anejo del endeu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alidad de vida en el ret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808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99ccff"/>
                </a:solidFill>
                <a:latin typeface="Book Antiqua"/>
                <a:ea typeface="Arial"/>
              </a:rPr>
              <a:t>Planificación financier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7000" y="64771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© Dr. Leonardo J. Gli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7524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Verdana"/>
              </a:rPr>
              <a:t>Fijación de metas de largo plazo, y los pasos para cumplirlas, en materia d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3:04:49Z</dcterms:created>
  <dc:creator>Administracion</dc:creator>
  <dc:description/>
  <dc:language>en-US</dc:language>
  <cp:lastModifiedBy>PC</cp:lastModifiedBy>
  <dcterms:modified xsi:type="dcterms:W3CDTF">2008-10-16T21:05:17Z</dcterms:modified>
  <cp:revision>36</cp:revision>
  <dc:subject/>
  <dc:title>Presentación de PowerPoint</dc:title>
</cp:coreProperties>
</file>