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CF1-3F79-452E-B3EA-A6D7361F68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9F63-D8A5-489C-ADA1-F5D7F68824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37B-97F6-4D26-839C-76AE66F3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245-7A72-440E-9C21-EE62926D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663-C310-4EFD-825E-723B1CB8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C06-0FE7-43E2-91CC-29229CF2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8E1-E213-412E-9BB1-F8CDF5E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084-6443-4A9A-A0D1-17E81E0D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4D9-5955-481C-A8BC-B58B79A3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FC8-5C2B-4D47-95D3-18BD7A9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CB8-F1BA-4E18-9D7E-566032AE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4D0-6B28-45CC-8603-0E8CC2D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6AC-A443-417E-8A65-F6A010D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FF1-4798-416D-894A-22189E8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D28E-A33F-4EA1-9462-CEA13CDE426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8D0-3EDC-4151-A744-18FAF9D77B1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5010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COMO DESARROLLO MI CARRERA PROFESIONAL?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INDEPENDIENTE O CORPORATIV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4928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.P. JORGE H. SANTESTEBAN HU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CEE-42F2-4CF6-9B67-2DF44C9BC385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A78-B83B-48C1-A437-8F69F17FB49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 Título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VIII ENCUENTRO DE JÓVENES PROFESIONALES EN CIENCIAS ECONOM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C.P.C.E.C.A.B.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:\PERSONAL\POWER POINT VARIOS\PRESENTACIONES EN POWER POINT\IMAGENES\PH01956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F27D-EEC1-45DA-8E7C-7161040C07D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FE0C-14EC-4248-A0D7-EFDFCB34313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FES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4200" y="1928880"/>
            <a:ext cx="8715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Dicho de una person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Que practica habitualmente una actividad, incluso delictiva, de la cual viv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PACITADO POR LA SOCIEDAD PARA SERV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UE HACE EJERCICIO DIARIO DE LA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UE LE PERMITE VIVIR CON DIGN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97B-9C17-4DA5-BA1B-B2036233F311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B692-7370-40C9-8FD0-73B2F9B210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INDEPENDIEN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4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638-881A-4900-A6A9-91CB30E7704C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F99-9C58-411D-9908-F7319769BE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:\PERSONAL\POWER POINT VARIOS\PRESENTACIONES EN POWER POINT\IMAGENES\PH01964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7A7E-8DE4-4F9B-93D5-59E7A747788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ACF-CDE4-4274-BE48-EFEE286B4D1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DEPEND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5480" y="1071720"/>
            <a:ext cx="86439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Dicho de una persona: Que sostiene sus derechos u opiniones sin admitir intervención ajena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285840" y="2227320"/>
            <a:ext cx="81439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SER INDEPENDIENTE IMPLICA ASUMI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ESTAR EN UNA CORPORACION NO LOS E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LAS CIENCIAS ECONOMICAS SON DISCIPLIN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ESTO SIGNIFICA INTEGRARNOS A LA SOCIEDAD, ASUMIR EL  ROL QUE NUESTRA VOCACION NOS COND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Y EN ESPECIAL , DAR RESPUESTAS RESPECTO DE LO QUE SE ESPERA DE NOS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3499-44DC-4966-B64D-FD26540A1BAC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6F1-A626-4484-B625-89A777BBD0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DEPEND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643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ONOCER EL PERFIL PROPIO…LAS HABIL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Y PERFILES APTOS PARA LIDERAR, PARA TRABAJAR EN EQUIPO, O DE MODO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ASOCIARSE NO ES OTRA COSA QUE COMENZAR CON UNA CORPORACION…AUN PEQUEÑA…. PERO COMO LID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0EE-4CE1-4E50-83B4-698B006C41A3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AEC-AFED-4933-A906-B9B72D0D35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DEPEND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UEÑO DE SU TIEMPO”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ARROLLO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SYUNTIVA: ¿DAR FE PUBLICA O SER CONSULT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RABAJO NO RUTI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VENTA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IESGO EMPRE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FECTADO POR EL ENTORNO 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MEROS AÑOS….CUESTA ARRIBA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23E-BE06-44D2-88A0-B9287886568B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ADC2-E2FA-4672-863F-A15C367257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CORPORATIV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1BBD-12D0-464E-81BC-510DCB946C62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85FC-63C6-443C-88E5-67338BD9A5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H:\PERSONAL\POWER POINT VARIOS\PRESENTACIONES EN POWER POINT\IMAGENES\PH02064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537F-1D34-4682-94F4-D7E49C87C3B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826E-5B2D-4581-9A14-41588BE810F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RPORA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85480" y="1071720"/>
            <a:ext cx="86439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Organización compuesta por personas que, como miembros de ella, la gobiernan. Empresa, normalmente de grandes dimensiones, en especial si agrupa a otra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n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714240" y="3366000"/>
            <a:ext cx="814392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VENTAJAS  DE LA PERTENENCIA A UN GRUPO O NOMBRE RECONO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IERTA SEGURIDAD ECONOMICA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CILIDADES PARA CAPACITACION A NIVELES SING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4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F892-E3CD-449D-8DEA-ED646470ACC9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8151-8B98-4E33-9CC5-61F62F6B06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LGUNAS IDEAS ACERCA DEL 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42960" y="192852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ARROL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RR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DEPEND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RPORATI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FLEXIONES FI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E72E-F245-4CF4-A096-BB101726B6FC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577-A911-4C35-98B2-0B5ED2C307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500" spc="-1" strike="noStrike">
                <a:solidFill>
                  <a:srgbClr val="000000"/>
                </a:solidFill>
                <a:latin typeface="Calibri"/>
              </a:rPr>
              <a:t>REFLEXIONES FINALE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994-8704-455D-821E-64854FB54E29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BC9A-6B56-45D0-86BB-C670D3452D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:\PERSONAL\POWER POINT VARIOS\PRESENTACIONES EN POWER POINT\IMAGENES\PH01558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5EA-C7BC-46F3-A72D-E710432E002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D476-B336-48E7-ADF5-D8B50BD79CF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13840" y="149976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L SER JOVEN PROFESIONAL EN CIENCIAS ECONOMIC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IMPL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AB2-6D40-4395-BDB5-6FB6CFE2B532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239D-431B-42D7-9435-D5B0CCBA70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99720" y="428400"/>
            <a:ext cx="7572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dispuesto a SERV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ponsable ante sus COMPROMI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ientado al BIEN CO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vorece a la FE PU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camina la solución de CONFLI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cialmente CONF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tegrado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sus P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gulloso de su PERTEN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 se rinde ante la ADVERSID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liza…Discierne…OP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al con sus CONVI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E33-904D-4AD4-ACB8-7228D3322E6E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F1D-8B58-44D0-914E-CEEC907E1D0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99720" y="428760"/>
            <a:ext cx="7572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J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MAS PIERDAN LA REBEL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O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TEN POR HACER SU PROPIO CAM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VAN CADA EXPERIENCIA CAPITALIZAND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E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XIJAN AL MAXIMO SUS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CA CLAUDIQUEN SUS IDE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FC1-FF4B-4A7A-817A-BC1DC3D96C41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B57-62B5-4EF4-99EC-1ED28B28C6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E244-172C-4CA9-8EC5-76FC6296D7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santesteban@fibertel.com.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WordArt 1027"/>
          <p:cNvSpPr txBox="1"/>
          <p:nvPr/>
        </p:nvSpPr>
        <p:spPr>
          <a:xfrm>
            <a:off x="2057400" y="1828800"/>
            <a:ext cx="5257800" cy="27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4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C974-18E4-46B8-AF64-CBC609FC1F89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DESARROLLA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B0B-C6EC-4EC3-879E-21603173A600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Marcador de número de diapositiva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85B-CD6E-4643-B9F4-8402426007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H01510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86E6-0EBA-48F5-A9E5-E9EA71BBD79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548-33FD-48F5-B4EB-77EFA11E7DC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ARRO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2 Subtítulo"/>
          <p:cNvGrpSpPr/>
          <p:nvPr/>
        </p:nvGrpSpPr>
        <p:grpSpPr>
          <a:xfrm>
            <a:off x="212760" y="1925640"/>
            <a:ext cx="8645400" cy="4505400"/>
            <a:chOff x="212760" y="1925640"/>
            <a:chExt cx="8645400" cy="4505400"/>
          </a:xfrm>
        </p:grpSpPr>
        <p:pic>
          <p:nvPicPr>
            <p:cNvPr id="68" name="2 Subtítulo" descr=""/>
            <p:cNvPicPr/>
            <p:nvPr/>
          </p:nvPicPr>
          <p:blipFill>
            <a:blip r:embed="rId1"/>
            <a:stretch/>
          </p:blipFill>
          <p:spPr>
            <a:xfrm>
              <a:off x="212760" y="1925640"/>
              <a:ext cx="864540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14200" y="1928880"/>
              <a:ext cx="8643960" cy="45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2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Calibri"/>
                </a:rPr>
                <a:t>Acrecentar, dar incremento a algo de orden físico, intelectual o moral.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200" spc="-1" strike="noStrike">
                  <a:solidFill>
                    <a:srgbClr val="000000"/>
                  </a:solidFill>
                  <a:latin typeface="Calibri"/>
                </a:rPr>
                <a:t>“ </a:t>
              </a:r>
              <a:r>
                <a:rPr b="0" i="1" lang="es-ES" sz="3200" spc="-1" strike="noStrike">
                  <a:solidFill>
                    <a:srgbClr val="000000"/>
                  </a:solidFill>
                  <a:latin typeface="Calibri"/>
                </a:rPr>
                <a:t>Dicho de una comunidad humana: Progresar, crecer económica, social, cultural o políticamente”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EDUCACION CONTINU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INTERACCION CON COLE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CRECER COMO PROFESIONAL Y COMO SER HUM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39F9-2346-4A62-A194-B6EE69721F32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1D47-890B-4646-89B6-4E3B65C155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CARRER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4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B30-CFAA-4909-A5B4-2D70E379335A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91A-F676-4690-8A06-3D1E79D90B2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H01479J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4A7-7DF3-49F8-9A9A-65E7263B5BA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5048-9DDC-4CA5-9D30-3807D275615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RR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643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Conjunto de estudios que habilitan para el ejercicio de una profesión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NTO DE PART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EROS METROS…..DIFICIL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ORRIDO……. SENTIDO DE LA CARR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NEA DE LLEGADA……¿SE ALCANZA ALGUNA VE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326A-DEB5-44EC-94C0-9AA07598ECEB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136-F7D0-4588-B13D-0019F85B16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88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PROFESION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F23-DFC7-4D9C-8557-1B3F3A658C63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4536-99ED-4ABC-BB52-14E85C13DA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ORGE H.SANTESTEBAN H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mo, Verónica Marcela</cp:lastModifiedBy>
  <dcterms:modified xsi:type="dcterms:W3CDTF">2012-08-28T20:51:22Z</dcterms:modified>
  <cp:revision>33</cp:revision>
  <dc:subject/>
  <dc:title>Diapositiva 1</dc:title>
</cp:coreProperties>
</file>