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3.wmf" ContentType="image/x-wmf"/>
  <Override PartName="/ppt/media/image28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30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6.png" ContentType="image/png"/>
  <Override PartName="/ppt/media/image11.wmf" ContentType="image/x-wmf"/>
  <Override PartName="/ppt/media/image12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3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0BB-7DF8-4030-81F6-5DA51565F1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8BB-ECDA-4E63-8238-A4863B8990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5698-EA0A-4B71-8577-1A301C42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B63D-E49F-4701-837E-A5C4E672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B698-15A8-436D-8B9F-587E4D6A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83B1-7470-4164-B380-3EF85F6B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8D6A-6F7F-4134-94CF-2D34DC66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E425-3F72-4DC2-B974-2BD6174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18B0-85A5-4E4A-9F45-5AF1881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0A34-00FA-454B-AD86-0E5C7CB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4805-DE70-453C-B406-9B26F180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E70C-DA5E-44EB-B0A6-048BB03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6A54-7C66-4D49-96BA-D98308A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FE24-1C9A-4A73-8D35-732C115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83C-353E-41D2-8A81-5C70028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5228-7E41-4EBA-B951-C1B0238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AAA7-4234-43E7-8CEE-14AB415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AD9A-DEBA-49FB-8EE8-3156634D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64EA-C57B-45F8-83AD-2D468309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70FF-127B-4C69-A08B-11EC488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1C73-B95C-4FE3-8460-604C70C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D33B-CF68-4BFE-9679-1C479491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4B14-355E-4D5A-8F00-3664D61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A325-6B72-44C1-B4E1-DB5B288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7159-B8A9-47DF-9BB8-21FCAF6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EA00-8E84-4F81-9F22-1CBC8A8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87640" y="59500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A3F-75BE-4B46-931B-AF26F4DA5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solidFill>
              <a:srgbClr val="000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12356" t="27366" r="72886" b="64759"/>
          <a:stretch/>
        </p:blipFill>
        <p:spPr>
          <a:xfrm>
            <a:off x="7991640" y="476280"/>
            <a:ext cx="1152360" cy="43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  <p:sp>
        <p:nvSpPr>
          <p:cNvPr id="1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3399"/>
          </a:solidFill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081-D773-48CA-817A-C4C2DA323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Unicode MS"/>
              </a:rPr>
              <a:t>Perspectivas de la Economía y el Mercado de Capitales global y local</a:t>
            </a: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 Unicode MS"/>
              </a:rPr>
              <a:t>Lic. Alejandro Vanoli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Arial Unicode MS"/>
              </a:rPr>
              <a:t> Vicepresidente CN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3399"/>
          </a:solidFill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2356" t="27366" r="72886" b="64759"/>
          <a:stretch/>
        </p:blipFill>
        <p:spPr>
          <a:xfrm>
            <a:off x="3780000" y="4653000"/>
            <a:ext cx="2457360" cy="10713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25892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CDS: Aumento del riesg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05080" cy="1800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5280" y="59500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1052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aíses Europ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91080" y="1413000"/>
            <a:ext cx="4102200" cy="1800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51640" y="1052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aíses Asi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28600" y="4005360"/>
            <a:ext cx="4105440" cy="1871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58920" y="3500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EU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3573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aíses Latinoameric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576680" y="4017960"/>
            <a:ext cx="4176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57080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érdidas y Capitalizaciones Mundiales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(en U$S b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9500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8360" y="1413000"/>
          <a:ext cx="8280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280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risis: Origen y efectos a nive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125360"/>
            <a:ext cx="8064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Y la recesión no se hizo espera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PBI real (Var. % tri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35280" y="4581360"/>
            <a:ext cx="1190520" cy="1582920"/>
            <a:chOff x="1835280" y="4581360"/>
            <a:chExt cx="1190520" cy="1582920"/>
          </a:xfrm>
        </p:grpSpPr>
        <p:grpSp>
          <p:nvGrpSpPr>
            <p:cNvPr id="205" name=""/>
            <p:cNvGrpSpPr/>
            <p:nvPr/>
          </p:nvGrpSpPr>
          <p:grpSpPr>
            <a:xfrm>
              <a:off x="1908000" y="5011560"/>
              <a:ext cx="1079640" cy="1152720"/>
              <a:chOff x="1908000" y="5011560"/>
              <a:chExt cx="1079640" cy="1152720"/>
            </a:xfrm>
          </p:grpSpPr>
          <p:sp>
            <p:nvSpPr>
              <p:cNvPr id="206" name=""/>
              <p:cNvSpPr/>
              <p:nvPr/>
            </p:nvSpPr>
            <p:spPr>
              <a:xfrm>
                <a:off x="1908000" y="5011560"/>
                <a:ext cx="1079640" cy="36036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Españ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12720" y="5371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25720" y="5730840"/>
                <a:ext cx="792000" cy="43344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-0.2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835280" y="4581360"/>
              <a:ext cx="1190520" cy="79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5292720" y="4941720"/>
            <a:ext cx="1190520" cy="1392480"/>
            <a:chOff x="5292720" y="4941720"/>
            <a:chExt cx="1190520" cy="1392480"/>
          </a:xfrm>
        </p:grpSpPr>
        <p:grpSp>
          <p:nvGrpSpPr>
            <p:cNvPr id="211" name=""/>
            <p:cNvGrpSpPr/>
            <p:nvPr/>
          </p:nvGrpSpPr>
          <p:grpSpPr>
            <a:xfrm>
              <a:off x="5365800" y="5181480"/>
              <a:ext cx="1079280" cy="1152720"/>
              <a:chOff x="5365800" y="5181480"/>
              <a:chExt cx="1079280" cy="1152720"/>
            </a:xfrm>
          </p:grpSpPr>
          <p:sp>
            <p:nvSpPr>
              <p:cNvPr id="212" name=""/>
              <p:cNvSpPr/>
              <p:nvPr/>
            </p:nvSpPr>
            <p:spPr>
              <a:xfrm>
                <a:off x="5365800" y="5181480"/>
                <a:ext cx="1079280" cy="36036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Reino Uni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70160" y="55418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3160" y="5900760"/>
                <a:ext cx="791640" cy="43344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- 0.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5292720" y="4941720"/>
              <a:ext cx="1190520" cy="60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3635280" y="4653000"/>
            <a:ext cx="1190520" cy="1420560"/>
            <a:chOff x="3635280" y="4653000"/>
            <a:chExt cx="1190520" cy="1420560"/>
          </a:xfrm>
        </p:grpSpPr>
        <p:grpSp>
          <p:nvGrpSpPr>
            <p:cNvPr id="217" name=""/>
            <p:cNvGrpSpPr/>
            <p:nvPr/>
          </p:nvGrpSpPr>
          <p:grpSpPr>
            <a:xfrm>
              <a:off x="3706560" y="4921560"/>
              <a:ext cx="1079640" cy="1152000"/>
              <a:chOff x="3706560" y="4921560"/>
              <a:chExt cx="1079640" cy="1152000"/>
            </a:xfrm>
          </p:grpSpPr>
          <p:sp>
            <p:nvSpPr>
              <p:cNvPr id="218" name=""/>
              <p:cNvSpPr/>
              <p:nvPr/>
            </p:nvSpPr>
            <p:spPr>
              <a:xfrm>
                <a:off x="3706560" y="4921560"/>
                <a:ext cx="1079640" cy="36000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EEU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11280" y="52815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4280" y="5640480"/>
                <a:ext cx="792000" cy="43308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- 0.3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635280" y="4653000"/>
              <a:ext cx="1190520" cy="62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971640" y="2781360"/>
            <a:ext cx="1079280" cy="1152000"/>
            <a:chOff x="971640" y="2781360"/>
            <a:chExt cx="1079280" cy="1152000"/>
          </a:xfrm>
        </p:grpSpPr>
        <p:sp>
          <p:nvSpPr>
            <p:cNvPr id="223" name=""/>
            <p:cNvSpPr/>
            <p:nvPr/>
          </p:nvSpPr>
          <p:spPr>
            <a:xfrm>
              <a:off x="971640" y="2781360"/>
              <a:ext cx="1079280" cy="36000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6000" y="31413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9000" y="3500280"/>
              <a:ext cx="791640" cy="433080"/>
            </a:xfrm>
            <a:prstGeom prst="ellipse">
              <a:avLst/>
            </a:prstGeom>
            <a:solidFill>
              <a:srgbClr val="dad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3.1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900000" y="2421000"/>
            <a:ext cx="11908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7" name=""/>
          <p:cNvGrpSpPr/>
          <p:nvPr/>
        </p:nvGrpSpPr>
        <p:grpSpPr>
          <a:xfrm>
            <a:off x="4643280" y="2421000"/>
            <a:ext cx="1190520" cy="1583640"/>
            <a:chOff x="4643280" y="2421000"/>
            <a:chExt cx="1190520" cy="1583640"/>
          </a:xfrm>
        </p:grpSpPr>
        <p:grpSp>
          <p:nvGrpSpPr>
            <p:cNvPr id="228" name=""/>
            <p:cNvGrpSpPr/>
            <p:nvPr/>
          </p:nvGrpSpPr>
          <p:grpSpPr>
            <a:xfrm>
              <a:off x="4716360" y="2852640"/>
              <a:ext cx="1079640" cy="1152000"/>
              <a:chOff x="4716360" y="2852640"/>
              <a:chExt cx="1079640" cy="1152000"/>
            </a:xfrm>
          </p:grpSpPr>
          <p:sp>
            <p:nvSpPr>
              <p:cNvPr id="229" name=""/>
              <p:cNvSpPr/>
              <p:nvPr/>
            </p:nvSpPr>
            <p:spPr>
              <a:xfrm>
                <a:off x="4716360" y="2852640"/>
                <a:ext cx="1079640" cy="36000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21080" y="3212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34080" y="3571560"/>
                <a:ext cx="792000" cy="43308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1.58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643280" y="2421000"/>
              <a:ext cx="1190520" cy="838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6659640" y="2924280"/>
            <a:ext cx="1190520" cy="1512360"/>
            <a:chOff x="6659640" y="2924280"/>
            <a:chExt cx="1190520" cy="1512360"/>
          </a:xfrm>
        </p:grpSpPr>
        <p:grpSp>
          <p:nvGrpSpPr>
            <p:cNvPr id="234" name=""/>
            <p:cNvGrpSpPr/>
            <p:nvPr/>
          </p:nvGrpSpPr>
          <p:grpSpPr>
            <a:xfrm>
              <a:off x="6730920" y="3284640"/>
              <a:ext cx="1079640" cy="1152000"/>
              <a:chOff x="6730920" y="3284640"/>
              <a:chExt cx="1079640" cy="1152000"/>
            </a:xfrm>
          </p:grpSpPr>
          <p:sp>
            <p:nvSpPr>
              <p:cNvPr id="235" name=""/>
              <p:cNvSpPr/>
              <p:nvPr/>
            </p:nvSpPr>
            <p:spPr>
              <a:xfrm>
                <a:off x="6730920" y="3284640"/>
                <a:ext cx="1079640" cy="36000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Franci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35640" y="364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48640" y="4003560"/>
                <a:ext cx="792000" cy="43308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0.1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6659640" y="2924280"/>
              <a:ext cx="1190520" cy="79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6732720" y="4941720"/>
            <a:ext cx="1190520" cy="1506600"/>
            <a:chOff x="6732720" y="4941720"/>
            <a:chExt cx="1190520" cy="1506600"/>
          </a:xfrm>
        </p:grpSpPr>
        <p:grpSp>
          <p:nvGrpSpPr>
            <p:cNvPr id="240" name=""/>
            <p:cNvGrpSpPr/>
            <p:nvPr/>
          </p:nvGrpSpPr>
          <p:grpSpPr>
            <a:xfrm>
              <a:off x="6770880" y="5295600"/>
              <a:ext cx="1079280" cy="1152720"/>
              <a:chOff x="6770880" y="5295600"/>
              <a:chExt cx="1079280" cy="1152720"/>
            </a:xfrm>
          </p:grpSpPr>
          <p:sp>
            <p:nvSpPr>
              <p:cNvPr id="241" name=""/>
              <p:cNvSpPr/>
              <p:nvPr/>
            </p:nvSpPr>
            <p:spPr>
              <a:xfrm>
                <a:off x="6770880" y="5295600"/>
                <a:ext cx="1079280" cy="36036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Aleman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75240" y="565596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88240" y="6014880"/>
                <a:ext cx="791640" cy="43344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-0.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" descr=""/>
            <p:cNvPicPr/>
            <p:nvPr/>
          </p:nvPicPr>
          <p:blipFill>
            <a:blip r:embed="rId7"/>
            <a:stretch/>
          </p:blipFill>
          <p:spPr>
            <a:xfrm>
              <a:off x="6732720" y="4941720"/>
              <a:ext cx="1190520" cy="71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179280" y="4437000"/>
            <a:ext cx="1190880" cy="1584000"/>
            <a:chOff x="179280" y="4437000"/>
            <a:chExt cx="1190880" cy="1584000"/>
          </a:xfrm>
        </p:grpSpPr>
        <p:grpSp>
          <p:nvGrpSpPr>
            <p:cNvPr id="246" name=""/>
            <p:cNvGrpSpPr/>
            <p:nvPr/>
          </p:nvGrpSpPr>
          <p:grpSpPr>
            <a:xfrm>
              <a:off x="252360" y="4869000"/>
              <a:ext cx="1079640" cy="1152000"/>
              <a:chOff x="252360" y="4869000"/>
              <a:chExt cx="1079640" cy="1152000"/>
            </a:xfrm>
          </p:grpSpPr>
          <p:sp>
            <p:nvSpPr>
              <p:cNvPr id="247" name=""/>
              <p:cNvSpPr/>
              <p:nvPr/>
            </p:nvSpPr>
            <p:spPr>
              <a:xfrm>
                <a:off x="252360" y="4869000"/>
                <a:ext cx="1079640" cy="36000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Jap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7080" y="522900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0080" y="5587920"/>
                <a:ext cx="792000" cy="43308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- 0.1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8"/>
            <a:stretch/>
          </p:blipFill>
          <p:spPr>
            <a:xfrm>
              <a:off x="179280" y="4437000"/>
              <a:ext cx="1190880" cy="79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2843280" y="2421000"/>
            <a:ext cx="1190520" cy="1583640"/>
            <a:chOff x="2843280" y="2421000"/>
            <a:chExt cx="1190520" cy="1583640"/>
          </a:xfrm>
        </p:grpSpPr>
        <p:grpSp>
          <p:nvGrpSpPr>
            <p:cNvPr id="252" name=""/>
            <p:cNvGrpSpPr/>
            <p:nvPr/>
          </p:nvGrpSpPr>
          <p:grpSpPr>
            <a:xfrm>
              <a:off x="2914560" y="2852640"/>
              <a:ext cx="1079640" cy="1152000"/>
              <a:chOff x="2914560" y="2852640"/>
              <a:chExt cx="1079640" cy="1152000"/>
            </a:xfrm>
          </p:grpSpPr>
          <p:sp>
            <p:nvSpPr>
              <p:cNvPr id="253" name=""/>
              <p:cNvSpPr/>
              <p:nvPr/>
            </p:nvSpPr>
            <p:spPr>
              <a:xfrm>
                <a:off x="2914560" y="2852640"/>
                <a:ext cx="1079640" cy="360000"/>
              </a:xfrm>
              <a:prstGeom prst="rect">
                <a:avLst/>
              </a:prstGeom>
              <a:solidFill>
                <a:srgbClr val="0000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19280" y="3212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32280" y="3571560"/>
                <a:ext cx="792000" cy="433080"/>
              </a:xfrm>
              <a:prstGeom prst="ellipse">
                <a:avLst/>
              </a:prstGeom>
              <a:solidFill>
                <a:srgbClr val="dad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1.80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2843280" y="2421000"/>
              <a:ext cx="1190520" cy="79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57" name=""/>
          <p:cNvSpPr/>
          <p:nvPr/>
        </p:nvSpPr>
        <p:spPr>
          <a:xfrm>
            <a:off x="179280" y="414972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95280" y="1052640"/>
          <a:ext cx="5329080" cy="25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5329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57200" y="457200"/>
            <a:ext cx="757080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sector real anticipa recesión duradera en EE.UU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6624360" cy="2405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72360" y="1557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volución Construcción C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4581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dicadores de Confianza de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842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57080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recimiento del PBI real y tendencia (Var.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68280"/>
            <a:ext cx="8713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684360" y="0"/>
          <a:ext cx="7416720" cy="7226280"/>
        </p:xfrm>
        <a:graphic>
          <a:graphicData uri="http://schemas.openxmlformats.org/drawingml/2006/table">
            <a:tbl>
              <a:tblPr/>
              <a:tblGrid>
                <a:gridCol w="1484280"/>
                <a:gridCol w="1482840"/>
                <a:gridCol w="1482480"/>
                <a:gridCol w="1482840"/>
                <a:gridCol w="1484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World output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Advanced econo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Unit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Euro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United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Emerging and developing economies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Rus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Developing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ASEAN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Western Hemisp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   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Inherit"/>
                          <a:ea typeface="Arial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632720" cy="50472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ad8d9"/>
                </a:solidFill>
                <a:latin typeface="Arial"/>
              </a:rPr>
              <a:t>Crisis Financiera: Origen y Efectos a nivel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Impacto en mercados em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ad8d9"/>
                </a:solidFill>
                <a:latin typeface="Arial"/>
              </a:rPr>
              <a:t>Mientras tanto en Argenti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41120" y="1523880"/>
            <a:ext cx="8893440" cy="3909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68360" y="5734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Re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s países que mas sufren tienen déficit de cuent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aises e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cr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sla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ng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67280" y="1628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íses Bál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iger Burkina Faso Buru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etnam Arm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jo c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558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Latinoamérica (salvo Argentina Venezuela y Ecuador) pasará a tener DCC 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860640"/>
            <a:ext cx="2130120" cy="2054520"/>
          </a:xfrm>
          <a:custGeom>
            <a:avLst/>
            <a:gdLst/>
            <a:ahLst/>
            <a:rect l="l" t="t" r="r" b="b"/>
            <a:pathLst>
              <a:path w="1342" h="1294">
                <a:moveTo>
                  <a:pt x="127" y="195"/>
                </a:moveTo>
                <a:lnTo>
                  <a:pt x="122" y="292"/>
                </a:lnTo>
                <a:lnTo>
                  <a:pt x="119" y="303"/>
                </a:lnTo>
                <a:lnTo>
                  <a:pt x="114" y="311"/>
                </a:lnTo>
                <a:lnTo>
                  <a:pt x="66" y="326"/>
                </a:lnTo>
                <a:lnTo>
                  <a:pt x="32" y="343"/>
                </a:lnTo>
                <a:lnTo>
                  <a:pt x="15" y="376"/>
                </a:lnTo>
                <a:lnTo>
                  <a:pt x="18" y="396"/>
                </a:lnTo>
                <a:lnTo>
                  <a:pt x="0" y="418"/>
                </a:lnTo>
                <a:lnTo>
                  <a:pt x="0" y="443"/>
                </a:lnTo>
                <a:lnTo>
                  <a:pt x="15" y="457"/>
                </a:lnTo>
                <a:lnTo>
                  <a:pt x="23" y="478"/>
                </a:lnTo>
                <a:lnTo>
                  <a:pt x="23" y="498"/>
                </a:lnTo>
                <a:lnTo>
                  <a:pt x="47" y="488"/>
                </a:lnTo>
                <a:lnTo>
                  <a:pt x="61" y="506"/>
                </a:lnTo>
                <a:lnTo>
                  <a:pt x="84" y="506"/>
                </a:lnTo>
                <a:lnTo>
                  <a:pt x="105" y="489"/>
                </a:lnTo>
                <a:lnTo>
                  <a:pt x="121" y="549"/>
                </a:lnTo>
                <a:lnTo>
                  <a:pt x="148" y="555"/>
                </a:lnTo>
                <a:lnTo>
                  <a:pt x="199" y="540"/>
                </a:lnTo>
                <a:lnTo>
                  <a:pt x="242" y="518"/>
                </a:lnTo>
                <a:lnTo>
                  <a:pt x="276" y="489"/>
                </a:lnTo>
                <a:lnTo>
                  <a:pt x="303" y="521"/>
                </a:lnTo>
                <a:lnTo>
                  <a:pt x="308" y="549"/>
                </a:lnTo>
                <a:lnTo>
                  <a:pt x="308" y="570"/>
                </a:lnTo>
                <a:lnTo>
                  <a:pt x="348" y="590"/>
                </a:lnTo>
                <a:lnTo>
                  <a:pt x="376" y="589"/>
                </a:lnTo>
                <a:lnTo>
                  <a:pt x="413" y="613"/>
                </a:lnTo>
                <a:lnTo>
                  <a:pt x="454" y="627"/>
                </a:lnTo>
                <a:lnTo>
                  <a:pt x="479" y="653"/>
                </a:lnTo>
                <a:lnTo>
                  <a:pt x="475" y="717"/>
                </a:lnTo>
                <a:lnTo>
                  <a:pt x="541" y="717"/>
                </a:lnTo>
                <a:lnTo>
                  <a:pt x="546" y="752"/>
                </a:lnTo>
                <a:lnTo>
                  <a:pt x="558" y="771"/>
                </a:lnTo>
                <a:lnTo>
                  <a:pt x="558" y="807"/>
                </a:lnTo>
                <a:lnTo>
                  <a:pt x="544" y="838"/>
                </a:lnTo>
                <a:lnTo>
                  <a:pt x="559" y="867"/>
                </a:lnTo>
                <a:lnTo>
                  <a:pt x="559" y="897"/>
                </a:lnTo>
                <a:lnTo>
                  <a:pt x="556" y="929"/>
                </a:lnTo>
                <a:lnTo>
                  <a:pt x="582" y="929"/>
                </a:lnTo>
                <a:lnTo>
                  <a:pt x="617" y="930"/>
                </a:lnTo>
                <a:lnTo>
                  <a:pt x="627" y="936"/>
                </a:lnTo>
                <a:lnTo>
                  <a:pt x="643" y="949"/>
                </a:lnTo>
                <a:lnTo>
                  <a:pt x="652" y="985"/>
                </a:lnTo>
                <a:lnTo>
                  <a:pt x="665" y="980"/>
                </a:lnTo>
                <a:lnTo>
                  <a:pt x="674" y="1044"/>
                </a:lnTo>
                <a:lnTo>
                  <a:pt x="680" y="1051"/>
                </a:lnTo>
                <a:lnTo>
                  <a:pt x="683" y="1052"/>
                </a:lnTo>
                <a:lnTo>
                  <a:pt x="694" y="1075"/>
                </a:lnTo>
                <a:lnTo>
                  <a:pt x="685" y="1100"/>
                </a:lnTo>
                <a:lnTo>
                  <a:pt x="647" y="1119"/>
                </a:lnTo>
                <a:lnTo>
                  <a:pt x="608" y="1154"/>
                </a:lnTo>
                <a:lnTo>
                  <a:pt x="589" y="1171"/>
                </a:lnTo>
                <a:lnTo>
                  <a:pt x="589" y="1206"/>
                </a:lnTo>
                <a:lnTo>
                  <a:pt x="606" y="1219"/>
                </a:lnTo>
                <a:lnTo>
                  <a:pt x="609" y="1242"/>
                </a:lnTo>
                <a:lnTo>
                  <a:pt x="638" y="1239"/>
                </a:lnTo>
                <a:lnTo>
                  <a:pt x="674" y="1261"/>
                </a:lnTo>
                <a:lnTo>
                  <a:pt x="707" y="1294"/>
                </a:lnTo>
                <a:lnTo>
                  <a:pt x="726" y="1284"/>
                </a:lnTo>
                <a:lnTo>
                  <a:pt x="749" y="1263"/>
                </a:lnTo>
                <a:lnTo>
                  <a:pt x="755" y="1229"/>
                </a:lnTo>
                <a:lnTo>
                  <a:pt x="769" y="1218"/>
                </a:lnTo>
                <a:lnTo>
                  <a:pt x="777" y="1214"/>
                </a:lnTo>
                <a:lnTo>
                  <a:pt x="788" y="1198"/>
                </a:lnTo>
                <a:lnTo>
                  <a:pt x="803" y="1185"/>
                </a:lnTo>
                <a:lnTo>
                  <a:pt x="837" y="1145"/>
                </a:lnTo>
                <a:lnTo>
                  <a:pt x="837" y="1077"/>
                </a:lnTo>
                <a:lnTo>
                  <a:pt x="845" y="1060"/>
                </a:lnTo>
                <a:lnTo>
                  <a:pt x="861" y="1045"/>
                </a:lnTo>
                <a:lnTo>
                  <a:pt x="885" y="1045"/>
                </a:lnTo>
                <a:lnTo>
                  <a:pt x="896" y="1029"/>
                </a:lnTo>
                <a:lnTo>
                  <a:pt x="918" y="1029"/>
                </a:lnTo>
                <a:lnTo>
                  <a:pt x="948" y="1009"/>
                </a:lnTo>
                <a:lnTo>
                  <a:pt x="951" y="1005"/>
                </a:lnTo>
                <a:lnTo>
                  <a:pt x="988" y="993"/>
                </a:lnTo>
                <a:lnTo>
                  <a:pt x="1009" y="988"/>
                </a:lnTo>
                <a:lnTo>
                  <a:pt x="1034" y="1005"/>
                </a:lnTo>
                <a:lnTo>
                  <a:pt x="1061" y="985"/>
                </a:lnTo>
                <a:lnTo>
                  <a:pt x="1066" y="969"/>
                </a:lnTo>
                <a:lnTo>
                  <a:pt x="1107" y="930"/>
                </a:lnTo>
                <a:lnTo>
                  <a:pt x="1116" y="910"/>
                </a:lnTo>
                <a:lnTo>
                  <a:pt x="1132" y="898"/>
                </a:lnTo>
                <a:lnTo>
                  <a:pt x="1151" y="887"/>
                </a:lnTo>
                <a:lnTo>
                  <a:pt x="1150" y="865"/>
                </a:lnTo>
                <a:lnTo>
                  <a:pt x="1155" y="832"/>
                </a:lnTo>
                <a:lnTo>
                  <a:pt x="1165" y="823"/>
                </a:lnTo>
                <a:lnTo>
                  <a:pt x="1165" y="805"/>
                </a:lnTo>
                <a:lnTo>
                  <a:pt x="1174" y="779"/>
                </a:lnTo>
                <a:lnTo>
                  <a:pt x="1182" y="741"/>
                </a:lnTo>
                <a:lnTo>
                  <a:pt x="1184" y="716"/>
                </a:lnTo>
                <a:lnTo>
                  <a:pt x="1187" y="688"/>
                </a:lnTo>
                <a:lnTo>
                  <a:pt x="1190" y="664"/>
                </a:lnTo>
                <a:lnTo>
                  <a:pt x="1199" y="653"/>
                </a:lnTo>
                <a:lnTo>
                  <a:pt x="1206" y="653"/>
                </a:lnTo>
                <a:lnTo>
                  <a:pt x="1213" y="662"/>
                </a:lnTo>
                <a:lnTo>
                  <a:pt x="1238" y="613"/>
                </a:lnTo>
                <a:lnTo>
                  <a:pt x="1265" y="590"/>
                </a:lnTo>
                <a:lnTo>
                  <a:pt x="1290" y="569"/>
                </a:lnTo>
                <a:lnTo>
                  <a:pt x="1300" y="552"/>
                </a:lnTo>
                <a:lnTo>
                  <a:pt x="1316" y="533"/>
                </a:lnTo>
                <a:lnTo>
                  <a:pt x="1342" y="507"/>
                </a:lnTo>
                <a:lnTo>
                  <a:pt x="1342" y="454"/>
                </a:lnTo>
                <a:lnTo>
                  <a:pt x="1336" y="438"/>
                </a:lnTo>
                <a:lnTo>
                  <a:pt x="1334" y="416"/>
                </a:lnTo>
                <a:lnTo>
                  <a:pt x="1334" y="409"/>
                </a:lnTo>
                <a:lnTo>
                  <a:pt x="1318" y="396"/>
                </a:lnTo>
                <a:lnTo>
                  <a:pt x="1270" y="375"/>
                </a:lnTo>
                <a:lnTo>
                  <a:pt x="1253" y="368"/>
                </a:lnTo>
                <a:lnTo>
                  <a:pt x="1236" y="352"/>
                </a:lnTo>
                <a:lnTo>
                  <a:pt x="1193" y="293"/>
                </a:lnTo>
                <a:lnTo>
                  <a:pt x="1155" y="293"/>
                </a:lnTo>
                <a:lnTo>
                  <a:pt x="1052" y="263"/>
                </a:lnTo>
                <a:lnTo>
                  <a:pt x="1041" y="271"/>
                </a:lnTo>
                <a:lnTo>
                  <a:pt x="1025" y="279"/>
                </a:lnTo>
                <a:lnTo>
                  <a:pt x="1009" y="272"/>
                </a:lnTo>
                <a:lnTo>
                  <a:pt x="1010" y="250"/>
                </a:lnTo>
                <a:lnTo>
                  <a:pt x="1019" y="235"/>
                </a:lnTo>
                <a:lnTo>
                  <a:pt x="1000" y="234"/>
                </a:lnTo>
                <a:lnTo>
                  <a:pt x="993" y="220"/>
                </a:lnTo>
                <a:lnTo>
                  <a:pt x="966" y="209"/>
                </a:lnTo>
                <a:lnTo>
                  <a:pt x="940" y="201"/>
                </a:lnTo>
                <a:lnTo>
                  <a:pt x="919" y="197"/>
                </a:lnTo>
                <a:lnTo>
                  <a:pt x="897" y="213"/>
                </a:lnTo>
                <a:lnTo>
                  <a:pt x="886" y="205"/>
                </a:lnTo>
                <a:lnTo>
                  <a:pt x="896" y="180"/>
                </a:lnTo>
                <a:lnTo>
                  <a:pt x="831" y="171"/>
                </a:lnTo>
                <a:lnTo>
                  <a:pt x="821" y="180"/>
                </a:lnTo>
                <a:lnTo>
                  <a:pt x="804" y="173"/>
                </a:lnTo>
                <a:lnTo>
                  <a:pt x="763" y="189"/>
                </a:lnTo>
                <a:lnTo>
                  <a:pt x="838" y="117"/>
                </a:lnTo>
                <a:lnTo>
                  <a:pt x="804" y="84"/>
                </a:lnTo>
                <a:lnTo>
                  <a:pt x="804" y="79"/>
                </a:lnTo>
                <a:lnTo>
                  <a:pt x="798" y="50"/>
                </a:lnTo>
                <a:lnTo>
                  <a:pt x="774" y="31"/>
                </a:lnTo>
                <a:lnTo>
                  <a:pt x="749" y="50"/>
                </a:lnTo>
                <a:lnTo>
                  <a:pt x="716" y="98"/>
                </a:lnTo>
                <a:lnTo>
                  <a:pt x="694" y="104"/>
                </a:lnTo>
                <a:lnTo>
                  <a:pt x="671" y="92"/>
                </a:lnTo>
                <a:lnTo>
                  <a:pt x="641" y="92"/>
                </a:lnTo>
                <a:lnTo>
                  <a:pt x="623" y="107"/>
                </a:lnTo>
                <a:lnTo>
                  <a:pt x="595" y="107"/>
                </a:lnTo>
                <a:lnTo>
                  <a:pt x="582" y="116"/>
                </a:lnTo>
                <a:lnTo>
                  <a:pt x="548" y="117"/>
                </a:lnTo>
                <a:lnTo>
                  <a:pt x="515" y="122"/>
                </a:lnTo>
                <a:lnTo>
                  <a:pt x="504" y="135"/>
                </a:lnTo>
                <a:lnTo>
                  <a:pt x="491" y="107"/>
                </a:lnTo>
                <a:lnTo>
                  <a:pt x="491" y="39"/>
                </a:lnTo>
                <a:lnTo>
                  <a:pt x="480" y="30"/>
                </a:lnTo>
                <a:lnTo>
                  <a:pt x="464" y="14"/>
                </a:lnTo>
                <a:lnTo>
                  <a:pt x="448" y="0"/>
                </a:lnTo>
                <a:lnTo>
                  <a:pt x="436" y="16"/>
                </a:lnTo>
                <a:lnTo>
                  <a:pt x="416" y="16"/>
                </a:lnTo>
                <a:lnTo>
                  <a:pt x="391" y="26"/>
                </a:lnTo>
                <a:lnTo>
                  <a:pt x="329" y="25"/>
                </a:lnTo>
                <a:lnTo>
                  <a:pt x="315" y="20"/>
                </a:lnTo>
                <a:lnTo>
                  <a:pt x="291" y="10"/>
                </a:lnTo>
                <a:lnTo>
                  <a:pt x="297" y="27"/>
                </a:lnTo>
                <a:lnTo>
                  <a:pt x="304" y="46"/>
                </a:lnTo>
                <a:lnTo>
                  <a:pt x="320" y="72"/>
                </a:lnTo>
                <a:lnTo>
                  <a:pt x="333" y="90"/>
                </a:lnTo>
                <a:lnTo>
                  <a:pt x="313" y="108"/>
                </a:lnTo>
                <a:lnTo>
                  <a:pt x="299" y="118"/>
                </a:lnTo>
                <a:lnTo>
                  <a:pt x="296" y="127"/>
                </a:lnTo>
                <a:lnTo>
                  <a:pt x="284" y="137"/>
                </a:lnTo>
                <a:lnTo>
                  <a:pt x="271" y="138"/>
                </a:lnTo>
                <a:lnTo>
                  <a:pt x="232" y="125"/>
                </a:lnTo>
                <a:lnTo>
                  <a:pt x="201" y="102"/>
                </a:lnTo>
                <a:lnTo>
                  <a:pt x="194" y="89"/>
                </a:lnTo>
                <a:lnTo>
                  <a:pt x="184" y="101"/>
                </a:lnTo>
                <a:lnTo>
                  <a:pt x="177" y="92"/>
                </a:lnTo>
                <a:lnTo>
                  <a:pt x="125" y="118"/>
                </a:lnTo>
                <a:lnTo>
                  <a:pt x="129" y="131"/>
                </a:lnTo>
                <a:lnTo>
                  <a:pt x="159" y="149"/>
                </a:lnTo>
                <a:lnTo>
                  <a:pt x="118" y="150"/>
                </a:lnTo>
                <a:lnTo>
                  <a:pt x="110" y="186"/>
                </a:lnTo>
                <a:lnTo>
                  <a:pt x="127" y="195"/>
                </a:lnTo>
                <a:close/>
              </a:path>
            </a:pathLst>
          </a:custGeom>
          <a:solidFill>
            <a:srgbClr val="6666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525840"/>
            <a:ext cx="765360" cy="555480"/>
          </a:xfrm>
          <a:custGeom>
            <a:avLst/>
            <a:gdLst/>
            <a:ahLst/>
            <a:rect l="l" t="t" r="r" b="b"/>
            <a:pathLst>
              <a:path w="482" h="350">
                <a:moveTo>
                  <a:pt x="24" y="15"/>
                </a:moveTo>
                <a:lnTo>
                  <a:pt x="39" y="36"/>
                </a:lnTo>
                <a:lnTo>
                  <a:pt x="39" y="67"/>
                </a:lnTo>
                <a:lnTo>
                  <a:pt x="51" y="77"/>
                </a:lnTo>
                <a:lnTo>
                  <a:pt x="75" y="75"/>
                </a:lnTo>
                <a:lnTo>
                  <a:pt x="75" y="18"/>
                </a:lnTo>
                <a:lnTo>
                  <a:pt x="115" y="0"/>
                </a:lnTo>
                <a:lnTo>
                  <a:pt x="162" y="2"/>
                </a:lnTo>
                <a:lnTo>
                  <a:pt x="185" y="17"/>
                </a:lnTo>
                <a:lnTo>
                  <a:pt x="232" y="18"/>
                </a:lnTo>
                <a:lnTo>
                  <a:pt x="259" y="25"/>
                </a:lnTo>
                <a:lnTo>
                  <a:pt x="392" y="10"/>
                </a:lnTo>
                <a:lnTo>
                  <a:pt x="374" y="28"/>
                </a:lnTo>
                <a:lnTo>
                  <a:pt x="392" y="36"/>
                </a:lnTo>
                <a:lnTo>
                  <a:pt x="410" y="51"/>
                </a:lnTo>
                <a:lnTo>
                  <a:pt x="432" y="57"/>
                </a:lnTo>
                <a:lnTo>
                  <a:pt x="432" y="82"/>
                </a:lnTo>
                <a:lnTo>
                  <a:pt x="482" y="93"/>
                </a:lnTo>
                <a:lnTo>
                  <a:pt x="447" y="117"/>
                </a:lnTo>
                <a:lnTo>
                  <a:pt x="447" y="121"/>
                </a:lnTo>
                <a:lnTo>
                  <a:pt x="458" y="136"/>
                </a:lnTo>
                <a:lnTo>
                  <a:pt x="448" y="143"/>
                </a:lnTo>
                <a:lnTo>
                  <a:pt x="432" y="141"/>
                </a:lnTo>
                <a:lnTo>
                  <a:pt x="423" y="159"/>
                </a:lnTo>
                <a:lnTo>
                  <a:pt x="424" y="177"/>
                </a:lnTo>
                <a:lnTo>
                  <a:pt x="438" y="198"/>
                </a:lnTo>
                <a:lnTo>
                  <a:pt x="449" y="198"/>
                </a:lnTo>
                <a:lnTo>
                  <a:pt x="443" y="212"/>
                </a:lnTo>
                <a:lnTo>
                  <a:pt x="438" y="216"/>
                </a:lnTo>
                <a:lnTo>
                  <a:pt x="428" y="228"/>
                </a:lnTo>
                <a:lnTo>
                  <a:pt x="405" y="228"/>
                </a:lnTo>
                <a:lnTo>
                  <a:pt x="381" y="238"/>
                </a:lnTo>
                <a:lnTo>
                  <a:pt x="322" y="237"/>
                </a:lnTo>
                <a:lnTo>
                  <a:pt x="307" y="232"/>
                </a:lnTo>
                <a:lnTo>
                  <a:pt x="285" y="222"/>
                </a:lnTo>
                <a:lnTo>
                  <a:pt x="285" y="230"/>
                </a:lnTo>
                <a:lnTo>
                  <a:pt x="298" y="260"/>
                </a:lnTo>
                <a:lnTo>
                  <a:pt x="315" y="286"/>
                </a:lnTo>
                <a:lnTo>
                  <a:pt x="325" y="302"/>
                </a:lnTo>
                <a:lnTo>
                  <a:pt x="303" y="323"/>
                </a:lnTo>
                <a:lnTo>
                  <a:pt x="291" y="330"/>
                </a:lnTo>
                <a:lnTo>
                  <a:pt x="289" y="337"/>
                </a:lnTo>
                <a:lnTo>
                  <a:pt x="277" y="349"/>
                </a:lnTo>
                <a:lnTo>
                  <a:pt x="263" y="350"/>
                </a:lnTo>
                <a:lnTo>
                  <a:pt x="225" y="337"/>
                </a:lnTo>
                <a:lnTo>
                  <a:pt x="217" y="289"/>
                </a:lnTo>
                <a:lnTo>
                  <a:pt x="186" y="251"/>
                </a:lnTo>
                <a:lnTo>
                  <a:pt x="167" y="218"/>
                </a:lnTo>
                <a:lnTo>
                  <a:pt x="170" y="203"/>
                </a:lnTo>
                <a:lnTo>
                  <a:pt x="183" y="194"/>
                </a:lnTo>
                <a:lnTo>
                  <a:pt x="184" y="175"/>
                </a:lnTo>
                <a:lnTo>
                  <a:pt x="167" y="167"/>
                </a:lnTo>
                <a:lnTo>
                  <a:pt x="145" y="174"/>
                </a:lnTo>
                <a:lnTo>
                  <a:pt x="117" y="156"/>
                </a:lnTo>
                <a:lnTo>
                  <a:pt x="36" y="139"/>
                </a:lnTo>
                <a:lnTo>
                  <a:pt x="6" y="92"/>
                </a:lnTo>
                <a:lnTo>
                  <a:pt x="0" y="68"/>
                </a:lnTo>
                <a:lnTo>
                  <a:pt x="13" y="32"/>
                </a:lnTo>
                <a:lnTo>
                  <a:pt x="24" y="15"/>
                </a:lnTo>
                <a:close/>
              </a:path>
            </a:pathLst>
          </a:custGeom>
          <a:solidFill>
            <a:srgbClr val="bfb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3645000"/>
            <a:ext cx="287280" cy="399960"/>
          </a:xfrm>
          <a:custGeom>
            <a:avLst/>
            <a:gdLst/>
            <a:ahLst/>
            <a:rect l="l" t="t" r="r" b="b"/>
            <a:pathLst>
              <a:path w="181" h="252">
                <a:moveTo>
                  <a:pt x="58" y="0"/>
                </a:moveTo>
                <a:lnTo>
                  <a:pt x="23" y="22"/>
                </a:lnTo>
                <a:lnTo>
                  <a:pt x="24" y="26"/>
                </a:lnTo>
                <a:lnTo>
                  <a:pt x="35" y="40"/>
                </a:lnTo>
                <a:lnTo>
                  <a:pt x="24" y="48"/>
                </a:lnTo>
                <a:lnTo>
                  <a:pt x="9" y="46"/>
                </a:lnTo>
                <a:lnTo>
                  <a:pt x="0" y="64"/>
                </a:lnTo>
                <a:lnTo>
                  <a:pt x="1" y="82"/>
                </a:lnTo>
                <a:lnTo>
                  <a:pt x="15" y="103"/>
                </a:lnTo>
                <a:lnTo>
                  <a:pt x="26" y="103"/>
                </a:lnTo>
                <a:lnTo>
                  <a:pt x="19" y="118"/>
                </a:lnTo>
                <a:lnTo>
                  <a:pt x="47" y="144"/>
                </a:lnTo>
                <a:lnTo>
                  <a:pt x="60" y="156"/>
                </a:lnTo>
                <a:lnTo>
                  <a:pt x="59" y="224"/>
                </a:lnTo>
                <a:lnTo>
                  <a:pt x="73" y="252"/>
                </a:lnTo>
                <a:lnTo>
                  <a:pt x="83" y="239"/>
                </a:lnTo>
                <a:lnTo>
                  <a:pt x="118" y="234"/>
                </a:lnTo>
                <a:lnTo>
                  <a:pt x="148" y="234"/>
                </a:lnTo>
                <a:lnTo>
                  <a:pt x="164" y="224"/>
                </a:lnTo>
                <a:lnTo>
                  <a:pt x="181" y="224"/>
                </a:lnTo>
                <a:lnTo>
                  <a:pt x="166" y="161"/>
                </a:lnTo>
                <a:lnTo>
                  <a:pt x="132" y="136"/>
                </a:lnTo>
                <a:lnTo>
                  <a:pt x="124" y="118"/>
                </a:lnTo>
                <a:lnTo>
                  <a:pt x="156" y="79"/>
                </a:lnTo>
                <a:lnTo>
                  <a:pt x="104" y="48"/>
                </a:lnTo>
                <a:lnTo>
                  <a:pt x="99" y="54"/>
                </a:lnTo>
                <a:lnTo>
                  <a:pt x="87" y="28"/>
                </a:lnTo>
                <a:lnTo>
                  <a:pt x="58" y="0"/>
                </a:lnTo>
                <a:close/>
              </a:path>
            </a:pathLst>
          </a:custGeom>
          <a:solidFill>
            <a:srgbClr val="dff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076640"/>
            <a:ext cx="311040" cy="339840"/>
          </a:xfrm>
          <a:custGeom>
            <a:avLst/>
            <a:gdLst/>
            <a:ahLst/>
            <a:rect l="l" t="t" r="r" b="b"/>
            <a:pathLst>
              <a:path w="196" h="214">
                <a:moveTo>
                  <a:pt x="58" y="3"/>
                </a:moveTo>
                <a:lnTo>
                  <a:pt x="25" y="9"/>
                </a:lnTo>
                <a:lnTo>
                  <a:pt x="27" y="43"/>
                </a:lnTo>
                <a:lnTo>
                  <a:pt x="0" y="93"/>
                </a:lnTo>
                <a:lnTo>
                  <a:pt x="10" y="131"/>
                </a:lnTo>
                <a:lnTo>
                  <a:pt x="34" y="131"/>
                </a:lnTo>
                <a:lnTo>
                  <a:pt x="38" y="171"/>
                </a:lnTo>
                <a:lnTo>
                  <a:pt x="39" y="184"/>
                </a:lnTo>
                <a:lnTo>
                  <a:pt x="54" y="214"/>
                </a:lnTo>
                <a:lnTo>
                  <a:pt x="74" y="205"/>
                </a:lnTo>
                <a:lnTo>
                  <a:pt x="101" y="179"/>
                </a:lnTo>
                <a:lnTo>
                  <a:pt x="116" y="136"/>
                </a:lnTo>
                <a:lnTo>
                  <a:pt x="152" y="125"/>
                </a:lnTo>
                <a:lnTo>
                  <a:pt x="161" y="89"/>
                </a:lnTo>
                <a:lnTo>
                  <a:pt x="196" y="57"/>
                </a:lnTo>
                <a:lnTo>
                  <a:pt x="195" y="34"/>
                </a:lnTo>
                <a:lnTo>
                  <a:pt x="120" y="0"/>
                </a:lnTo>
                <a:lnTo>
                  <a:pt x="58" y="3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149720"/>
            <a:ext cx="706320" cy="981000"/>
          </a:xfrm>
          <a:custGeom>
            <a:avLst/>
            <a:gdLst/>
            <a:ahLst/>
            <a:rect l="l" t="t" r="r" b="b"/>
            <a:pathLst>
              <a:path w="445" h="618">
                <a:moveTo>
                  <a:pt x="144" y="91"/>
                </a:moveTo>
                <a:lnTo>
                  <a:pt x="106" y="103"/>
                </a:lnTo>
                <a:lnTo>
                  <a:pt x="91" y="145"/>
                </a:lnTo>
                <a:lnTo>
                  <a:pt x="63" y="173"/>
                </a:lnTo>
                <a:lnTo>
                  <a:pt x="44" y="178"/>
                </a:lnTo>
                <a:lnTo>
                  <a:pt x="31" y="151"/>
                </a:lnTo>
                <a:lnTo>
                  <a:pt x="28" y="137"/>
                </a:lnTo>
                <a:lnTo>
                  <a:pt x="15" y="132"/>
                </a:lnTo>
                <a:lnTo>
                  <a:pt x="0" y="156"/>
                </a:lnTo>
                <a:lnTo>
                  <a:pt x="0" y="214"/>
                </a:lnTo>
                <a:lnTo>
                  <a:pt x="8" y="230"/>
                </a:lnTo>
                <a:lnTo>
                  <a:pt x="25" y="240"/>
                </a:lnTo>
                <a:lnTo>
                  <a:pt x="83" y="308"/>
                </a:lnTo>
                <a:lnTo>
                  <a:pt x="90" y="319"/>
                </a:lnTo>
                <a:lnTo>
                  <a:pt x="112" y="369"/>
                </a:lnTo>
                <a:lnTo>
                  <a:pt x="139" y="394"/>
                </a:lnTo>
                <a:lnTo>
                  <a:pt x="156" y="419"/>
                </a:lnTo>
                <a:lnTo>
                  <a:pt x="162" y="425"/>
                </a:lnTo>
                <a:lnTo>
                  <a:pt x="171" y="460"/>
                </a:lnTo>
                <a:lnTo>
                  <a:pt x="194" y="496"/>
                </a:lnTo>
                <a:lnTo>
                  <a:pt x="228" y="517"/>
                </a:lnTo>
                <a:lnTo>
                  <a:pt x="281" y="554"/>
                </a:lnTo>
                <a:lnTo>
                  <a:pt x="348" y="586"/>
                </a:lnTo>
                <a:lnTo>
                  <a:pt x="388" y="618"/>
                </a:lnTo>
                <a:lnTo>
                  <a:pt x="417" y="579"/>
                </a:lnTo>
                <a:lnTo>
                  <a:pt x="424" y="591"/>
                </a:lnTo>
                <a:lnTo>
                  <a:pt x="430" y="589"/>
                </a:lnTo>
                <a:lnTo>
                  <a:pt x="445" y="555"/>
                </a:lnTo>
                <a:lnTo>
                  <a:pt x="442" y="539"/>
                </a:lnTo>
                <a:lnTo>
                  <a:pt x="433" y="531"/>
                </a:lnTo>
                <a:lnTo>
                  <a:pt x="433" y="512"/>
                </a:lnTo>
                <a:lnTo>
                  <a:pt x="440" y="487"/>
                </a:lnTo>
                <a:lnTo>
                  <a:pt x="440" y="443"/>
                </a:lnTo>
                <a:lnTo>
                  <a:pt x="433" y="419"/>
                </a:lnTo>
                <a:lnTo>
                  <a:pt x="430" y="397"/>
                </a:lnTo>
                <a:lnTo>
                  <a:pt x="399" y="375"/>
                </a:lnTo>
                <a:lnTo>
                  <a:pt x="370" y="369"/>
                </a:lnTo>
                <a:lnTo>
                  <a:pt x="356" y="309"/>
                </a:lnTo>
                <a:lnTo>
                  <a:pt x="334" y="326"/>
                </a:lnTo>
                <a:lnTo>
                  <a:pt x="313" y="326"/>
                </a:lnTo>
                <a:lnTo>
                  <a:pt x="298" y="309"/>
                </a:lnTo>
                <a:lnTo>
                  <a:pt x="274" y="318"/>
                </a:lnTo>
                <a:lnTo>
                  <a:pt x="274" y="298"/>
                </a:lnTo>
                <a:lnTo>
                  <a:pt x="267" y="279"/>
                </a:lnTo>
                <a:lnTo>
                  <a:pt x="251" y="263"/>
                </a:lnTo>
                <a:lnTo>
                  <a:pt x="251" y="238"/>
                </a:lnTo>
                <a:lnTo>
                  <a:pt x="269" y="215"/>
                </a:lnTo>
                <a:lnTo>
                  <a:pt x="265" y="196"/>
                </a:lnTo>
                <a:lnTo>
                  <a:pt x="277" y="176"/>
                </a:lnTo>
                <a:lnTo>
                  <a:pt x="283" y="165"/>
                </a:lnTo>
                <a:lnTo>
                  <a:pt x="313" y="147"/>
                </a:lnTo>
                <a:lnTo>
                  <a:pt x="364" y="131"/>
                </a:lnTo>
                <a:lnTo>
                  <a:pt x="346" y="123"/>
                </a:lnTo>
                <a:lnTo>
                  <a:pt x="345" y="72"/>
                </a:lnTo>
                <a:lnTo>
                  <a:pt x="350" y="68"/>
                </a:lnTo>
                <a:lnTo>
                  <a:pt x="349" y="55"/>
                </a:lnTo>
                <a:lnTo>
                  <a:pt x="337" y="50"/>
                </a:lnTo>
                <a:lnTo>
                  <a:pt x="296" y="50"/>
                </a:lnTo>
                <a:lnTo>
                  <a:pt x="280" y="59"/>
                </a:lnTo>
                <a:lnTo>
                  <a:pt x="263" y="45"/>
                </a:lnTo>
                <a:lnTo>
                  <a:pt x="237" y="36"/>
                </a:lnTo>
                <a:lnTo>
                  <a:pt x="210" y="24"/>
                </a:lnTo>
                <a:lnTo>
                  <a:pt x="210" y="0"/>
                </a:lnTo>
                <a:lnTo>
                  <a:pt x="185" y="0"/>
                </a:lnTo>
                <a:lnTo>
                  <a:pt x="188" y="23"/>
                </a:lnTo>
                <a:lnTo>
                  <a:pt x="150" y="59"/>
                </a:lnTo>
                <a:lnTo>
                  <a:pt x="144" y="91"/>
                </a:lnTo>
                <a:close/>
              </a:path>
            </a:pathLst>
          </a:custGeom>
          <a:solidFill>
            <a:srgbClr val="00bf9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4653000"/>
            <a:ext cx="660240" cy="722160"/>
          </a:xfrm>
          <a:custGeom>
            <a:avLst/>
            <a:gdLst/>
            <a:ahLst/>
            <a:rect l="l" t="t" r="r" b="b"/>
            <a:pathLst>
              <a:path w="416" h="455">
                <a:moveTo>
                  <a:pt x="0" y="63"/>
                </a:moveTo>
                <a:lnTo>
                  <a:pt x="62" y="44"/>
                </a:lnTo>
                <a:lnTo>
                  <a:pt x="97" y="27"/>
                </a:lnTo>
                <a:lnTo>
                  <a:pt x="134" y="0"/>
                </a:lnTo>
                <a:lnTo>
                  <a:pt x="160" y="32"/>
                </a:lnTo>
                <a:lnTo>
                  <a:pt x="165" y="62"/>
                </a:lnTo>
                <a:lnTo>
                  <a:pt x="165" y="81"/>
                </a:lnTo>
                <a:lnTo>
                  <a:pt x="206" y="101"/>
                </a:lnTo>
                <a:lnTo>
                  <a:pt x="233" y="100"/>
                </a:lnTo>
                <a:lnTo>
                  <a:pt x="272" y="125"/>
                </a:lnTo>
                <a:lnTo>
                  <a:pt x="298" y="134"/>
                </a:lnTo>
                <a:lnTo>
                  <a:pt x="313" y="134"/>
                </a:lnTo>
                <a:lnTo>
                  <a:pt x="336" y="164"/>
                </a:lnTo>
                <a:lnTo>
                  <a:pt x="331" y="228"/>
                </a:lnTo>
                <a:lnTo>
                  <a:pt x="395" y="228"/>
                </a:lnTo>
                <a:lnTo>
                  <a:pt x="403" y="251"/>
                </a:lnTo>
                <a:lnTo>
                  <a:pt x="411" y="262"/>
                </a:lnTo>
                <a:lnTo>
                  <a:pt x="416" y="281"/>
                </a:lnTo>
                <a:lnTo>
                  <a:pt x="416" y="318"/>
                </a:lnTo>
                <a:lnTo>
                  <a:pt x="400" y="350"/>
                </a:lnTo>
                <a:lnTo>
                  <a:pt x="381" y="345"/>
                </a:lnTo>
                <a:lnTo>
                  <a:pt x="356" y="335"/>
                </a:lnTo>
                <a:lnTo>
                  <a:pt x="314" y="337"/>
                </a:lnTo>
                <a:lnTo>
                  <a:pt x="282" y="369"/>
                </a:lnTo>
                <a:lnTo>
                  <a:pt x="278" y="387"/>
                </a:lnTo>
                <a:lnTo>
                  <a:pt x="268" y="401"/>
                </a:lnTo>
                <a:lnTo>
                  <a:pt x="264" y="433"/>
                </a:lnTo>
                <a:lnTo>
                  <a:pt x="243" y="433"/>
                </a:lnTo>
                <a:lnTo>
                  <a:pt x="222" y="422"/>
                </a:lnTo>
                <a:lnTo>
                  <a:pt x="214" y="455"/>
                </a:lnTo>
                <a:lnTo>
                  <a:pt x="175" y="432"/>
                </a:lnTo>
                <a:lnTo>
                  <a:pt x="162" y="432"/>
                </a:lnTo>
                <a:lnTo>
                  <a:pt x="143" y="423"/>
                </a:lnTo>
                <a:lnTo>
                  <a:pt x="118" y="437"/>
                </a:lnTo>
                <a:lnTo>
                  <a:pt x="48" y="397"/>
                </a:lnTo>
                <a:lnTo>
                  <a:pt x="64" y="350"/>
                </a:lnTo>
                <a:lnTo>
                  <a:pt x="44" y="301"/>
                </a:lnTo>
                <a:lnTo>
                  <a:pt x="34" y="286"/>
                </a:lnTo>
                <a:lnTo>
                  <a:pt x="30" y="282"/>
                </a:lnTo>
                <a:lnTo>
                  <a:pt x="36" y="278"/>
                </a:lnTo>
                <a:lnTo>
                  <a:pt x="51" y="245"/>
                </a:lnTo>
                <a:lnTo>
                  <a:pt x="48" y="231"/>
                </a:lnTo>
                <a:lnTo>
                  <a:pt x="39" y="223"/>
                </a:lnTo>
                <a:lnTo>
                  <a:pt x="39" y="202"/>
                </a:lnTo>
                <a:lnTo>
                  <a:pt x="46" y="179"/>
                </a:lnTo>
                <a:lnTo>
                  <a:pt x="46" y="130"/>
                </a:lnTo>
                <a:lnTo>
                  <a:pt x="39" y="111"/>
                </a:lnTo>
                <a:lnTo>
                  <a:pt x="36" y="88"/>
                </a:lnTo>
                <a:lnTo>
                  <a:pt x="25" y="78"/>
                </a:lnTo>
                <a:lnTo>
                  <a:pt x="0" y="63"/>
                </a:lnTo>
                <a:close/>
              </a:path>
            </a:pathLst>
          </a:custGeom>
          <a:solidFill>
            <a:srgbClr val="5fd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5229360"/>
            <a:ext cx="441360" cy="455400"/>
          </a:xfrm>
          <a:custGeom>
            <a:avLst/>
            <a:gdLst/>
            <a:ahLst/>
            <a:rect l="l" t="t" r="r" b="b"/>
            <a:pathLst>
              <a:path w="278" h="287">
                <a:moveTo>
                  <a:pt x="55" y="0"/>
                </a:moveTo>
                <a:lnTo>
                  <a:pt x="21" y="34"/>
                </a:lnTo>
                <a:lnTo>
                  <a:pt x="17" y="52"/>
                </a:lnTo>
                <a:lnTo>
                  <a:pt x="7" y="66"/>
                </a:lnTo>
                <a:lnTo>
                  <a:pt x="0" y="97"/>
                </a:lnTo>
                <a:lnTo>
                  <a:pt x="6" y="116"/>
                </a:lnTo>
                <a:lnTo>
                  <a:pt x="37" y="135"/>
                </a:lnTo>
                <a:lnTo>
                  <a:pt x="60" y="140"/>
                </a:lnTo>
                <a:lnTo>
                  <a:pt x="103" y="165"/>
                </a:lnTo>
                <a:lnTo>
                  <a:pt x="123" y="169"/>
                </a:lnTo>
                <a:lnTo>
                  <a:pt x="142" y="181"/>
                </a:lnTo>
                <a:lnTo>
                  <a:pt x="156" y="205"/>
                </a:lnTo>
                <a:lnTo>
                  <a:pt x="158" y="240"/>
                </a:lnTo>
                <a:lnTo>
                  <a:pt x="149" y="252"/>
                </a:lnTo>
                <a:lnTo>
                  <a:pt x="151" y="268"/>
                </a:lnTo>
                <a:lnTo>
                  <a:pt x="175" y="286"/>
                </a:lnTo>
                <a:lnTo>
                  <a:pt x="208" y="287"/>
                </a:lnTo>
                <a:lnTo>
                  <a:pt x="239" y="243"/>
                </a:lnTo>
                <a:lnTo>
                  <a:pt x="259" y="228"/>
                </a:lnTo>
                <a:lnTo>
                  <a:pt x="278" y="229"/>
                </a:lnTo>
                <a:lnTo>
                  <a:pt x="270" y="219"/>
                </a:lnTo>
                <a:lnTo>
                  <a:pt x="263" y="151"/>
                </a:lnTo>
                <a:lnTo>
                  <a:pt x="247" y="159"/>
                </a:lnTo>
                <a:lnTo>
                  <a:pt x="242" y="125"/>
                </a:lnTo>
                <a:lnTo>
                  <a:pt x="223" y="112"/>
                </a:lnTo>
                <a:lnTo>
                  <a:pt x="207" y="105"/>
                </a:lnTo>
                <a:lnTo>
                  <a:pt x="154" y="104"/>
                </a:lnTo>
                <a:lnTo>
                  <a:pt x="156" y="85"/>
                </a:lnTo>
                <a:lnTo>
                  <a:pt x="155" y="44"/>
                </a:lnTo>
                <a:lnTo>
                  <a:pt x="141" y="17"/>
                </a:lnTo>
                <a:lnTo>
                  <a:pt x="115" y="9"/>
                </a:lnTo>
                <a:lnTo>
                  <a:pt x="94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7f9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2320" y="5308560"/>
            <a:ext cx="817560" cy="1812960"/>
          </a:xfrm>
          <a:custGeom>
            <a:avLst/>
            <a:gdLst/>
            <a:ahLst/>
            <a:rect l="l" t="t" r="r" b="b"/>
            <a:pathLst>
              <a:path w="515" h="1142">
                <a:moveTo>
                  <a:pt x="177" y="29"/>
                </a:moveTo>
                <a:lnTo>
                  <a:pt x="139" y="10"/>
                </a:lnTo>
                <a:lnTo>
                  <a:pt x="129" y="10"/>
                </a:lnTo>
                <a:lnTo>
                  <a:pt x="105" y="1"/>
                </a:lnTo>
                <a:lnTo>
                  <a:pt x="81" y="14"/>
                </a:lnTo>
                <a:lnTo>
                  <a:pt x="91" y="51"/>
                </a:lnTo>
                <a:lnTo>
                  <a:pt x="82" y="75"/>
                </a:lnTo>
                <a:lnTo>
                  <a:pt x="54" y="90"/>
                </a:lnTo>
                <a:lnTo>
                  <a:pt x="39" y="128"/>
                </a:lnTo>
                <a:lnTo>
                  <a:pt x="48" y="140"/>
                </a:lnTo>
                <a:lnTo>
                  <a:pt x="43" y="177"/>
                </a:lnTo>
                <a:lnTo>
                  <a:pt x="39" y="193"/>
                </a:lnTo>
                <a:lnTo>
                  <a:pt x="27" y="223"/>
                </a:lnTo>
                <a:lnTo>
                  <a:pt x="0" y="263"/>
                </a:lnTo>
                <a:lnTo>
                  <a:pt x="13" y="318"/>
                </a:lnTo>
                <a:lnTo>
                  <a:pt x="20" y="459"/>
                </a:lnTo>
                <a:lnTo>
                  <a:pt x="28" y="496"/>
                </a:lnTo>
                <a:lnTo>
                  <a:pt x="17" y="524"/>
                </a:lnTo>
                <a:lnTo>
                  <a:pt x="17" y="754"/>
                </a:lnTo>
                <a:lnTo>
                  <a:pt x="43" y="788"/>
                </a:lnTo>
                <a:lnTo>
                  <a:pt x="38" y="807"/>
                </a:lnTo>
                <a:lnTo>
                  <a:pt x="49" y="817"/>
                </a:lnTo>
                <a:lnTo>
                  <a:pt x="41" y="842"/>
                </a:lnTo>
                <a:lnTo>
                  <a:pt x="58" y="858"/>
                </a:lnTo>
                <a:lnTo>
                  <a:pt x="59" y="895"/>
                </a:lnTo>
                <a:lnTo>
                  <a:pt x="49" y="883"/>
                </a:lnTo>
                <a:lnTo>
                  <a:pt x="49" y="896"/>
                </a:lnTo>
                <a:lnTo>
                  <a:pt x="57" y="922"/>
                </a:lnTo>
                <a:lnTo>
                  <a:pt x="57" y="960"/>
                </a:lnTo>
                <a:lnTo>
                  <a:pt x="48" y="983"/>
                </a:lnTo>
                <a:lnTo>
                  <a:pt x="47" y="1008"/>
                </a:lnTo>
                <a:lnTo>
                  <a:pt x="42" y="1021"/>
                </a:lnTo>
                <a:lnTo>
                  <a:pt x="42" y="1055"/>
                </a:lnTo>
                <a:lnTo>
                  <a:pt x="57" y="1070"/>
                </a:lnTo>
                <a:lnTo>
                  <a:pt x="64" y="1068"/>
                </a:lnTo>
                <a:lnTo>
                  <a:pt x="68" y="1096"/>
                </a:lnTo>
                <a:lnTo>
                  <a:pt x="72" y="1119"/>
                </a:lnTo>
                <a:lnTo>
                  <a:pt x="97" y="1133"/>
                </a:lnTo>
                <a:lnTo>
                  <a:pt x="117" y="1135"/>
                </a:lnTo>
                <a:lnTo>
                  <a:pt x="129" y="1142"/>
                </a:lnTo>
                <a:lnTo>
                  <a:pt x="146" y="1138"/>
                </a:lnTo>
                <a:lnTo>
                  <a:pt x="173" y="1134"/>
                </a:lnTo>
                <a:lnTo>
                  <a:pt x="153" y="1101"/>
                </a:lnTo>
                <a:lnTo>
                  <a:pt x="146" y="1089"/>
                </a:lnTo>
                <a:lnTo>
                  <a:pt x="155" y="1052"/>
                </a:lnTo>
                <a:lnTo>
                  <a:pt x="171" y="1046"/>
                </a:lnTo>
                <a:lnTo>
                  <a:pt x="179" y="1029"/>
                </a:lnTo>
                <a:lnTo>
                  <a:pt x="175" y="1022"/>
                </a:lnTo>
                <a:lnTo>
                  <a:pt x="171" y="1014"/>
                </a:lnTo>
                <a:lnTo>
                  <a:pt x="178" y="996"/>
                </a:lnTo>
                <a:lnTo>
                  <a:pt x="204" y="979"/>
                </a:lnTo>
                <a:lnTo>
                  <a:pt x="227" y="958"/>
                </a:lnTo>
                <a:lnTo>
                  <a:pt x="227" y="922"/>
                </a:lnTo>
                <a:lnTo>
                  <a:pt x="212" y="915"/>
                </a:lnTo>
                <a:lnTo>
                  <a:pt x="181" y="892"/>
                </a:lnTo>
                <a:lnTo>
                  <a:pt x="171" y="873"/>
                </a:lnTo>
                <a:lnTo>
                  <a:pt x="181" y="857"/>
                </a:lnTo>
                <a:lnTo>
                  <a:pt x="210" y="826"/>
                </a:lnTo>
                <a:lnTo>
                  <a:pt x="227" y="810"/>
                </a:lnTo>
                <a:lnTo>
                  <a:pt x="227" y="770"/>
                </a:lnTo>
                <a:lnTo>
                  <a:pt x="237" y="728"/>
                </a:lnTo>
                <a:lnTo>
                  <a:pt x="269" y="746"/>
                </a:lnTo>
                <a:lnTo>
                  <a:pt x="283" y="736"/>
                </a:lnTo>
                <a:lnTo>
                  <a:pt x="273" y="719"/>
                </a:lnTo>
                <a:lnTo>
                  <a:pt x="236" y="719"/>
                </a:lnTo>
                <a:lnTo>
                  <a:pt x="229" y="687"/>
                </a:lnTo>
                <a:lnTo>
                  <a:pt x="219" y="663"/>
                </a:lnTo>
                <a:lnTo>
                  <a:pt x="239" y="664"/>
                </a:lnTo>
                <a:lnTo>
                  <a:pt x="262" y="668"/>
                </a:lnTo>
                <a:lnTo>
                  <a:pt x="290" y="671"/>
                </a:lnTo>
                <a:lnTo>
                  <a:pt x="300" y="666"/>
                </a:lnTo>
                <a:lnTo>
                  <a:pt x="311" y="632"/>
                </a:lnTo>
                <a:lnTo>
                  <a:pt x="311" y="614"/>
                </a:lnTo>
                <a:lnTo>
                  <a:pt x="316" y="595"/>
                </a:lnTo>
                <a:lnTo>
                  <a:pt x="325" y="579"/>
                </a:lnTo>
                <a:lnTo>
                  <a:pt x="381" y="579"/>
                </a:lnTo>
                <a:lnTo>
                  <a:pt x="381" y="564"/>
                </a:lnTo>
                <a:lnTo>
                  <a:pt x="400" y="548"/>
                </a:lnTo>
                <a:lnTo>
                  <a:pt x="408" y="525"/>
                </a:lnTo>
                <a:lnTo>
                  <a:pt x="391" y="501"/>
                </a:lnTo>
                <a:lnTo>
                  <a:pt x="391" y="485"/>
                </a:lnTo>
                <a:lnTo>
                  <a:pt x="383" y="449"/>
                </a:lnTo>
                <a:lnTo>
                  <a:pt x="369" y="441"/>
                </a:lnTo>
                <a:lnTo>
                  <a:pt x="355" y="439"/>
                </a:lnTo>
                <a:lnTo>
                  <a:pt x="355" y="419"/>
                </a:lnTo>
                <a:lnTo>
                  <a:pt x="376" y="399"/>
                </a:lnTo>
                <a:lnTo>
                  <a:pt x="377" y="379"/>
                </a:lnTo>
                <a:lnTo>
                  <a:pt x="383" y="354"/>
                </a:lnTo>
                <a:lnTo>
                  <a:pt x="383" y="318"/>
                </a:lnTo>
                <a:lnTo>
                  <a:pt x="410" y="295"/>
                </a:lnTo>
                <a:lnTo>
                  <a:pt x="410" y="262"/>
                </a:lnTo>
                <a:lnTo>
                  <a:pt x="429" y="243"/>
                </a:lnTo>
                <a:lnTo>
                  <a:pt x="471" y="208"/>
                </a:lnTo>
                <a:lnTo>
                  <a:pt x="507" y="189"/>
                </a:lnTo>
                <a:lnTo>
                  <a:pt x="515" y="166"/>
                </a:lnTo>
                <a:lnTo>
                  <a:pt x="506" y="141"/>
                </a:lnTo>
                <a:lnTo>
                  <a:pt x="481" y="141"/>
                </a:lnTo>
                <a:lnTo>
                  <a:pt x="459" y="162"/>
                </a:lnTo>
                <a:lnTo>
                  <a:pt x="434" y="199"/>
                </a:lnTo>
                <a:lnTo>
                  <a:pt x="404" y="197"/>
                </a:lnTo>
                <a:lnTo>
                  <a:pt x="376" y="181"/>
                </a:lnTo>
                <a:lnTo>
                  <a:pt x="375" y="165"/>
                </a:lnTo>
                <a:lnTo>
                  <a:pt x="383" y="150"/>
                </a:lnTo>
                <a:lnTo>
                  <a:pt x="381" y="118"/>
                </a:lnTo>
                <a:lnTo>
                  <a:pt x="367" y="94"/>
                </a:lnTo>
                <a:lnTo>
                  <a:pt x="346" y="82"/>
                </a:lnTo>
                <a:lnTo>
                  <a:pt x="326" y="78"/>
                </a:lnTo>
                <a:lnTo>
                  <a:pt x="285" y="53"/>
                </a:lnTo>
                <a:lnTo>
                  <a:pt x="260" y="46"/>
                </a:lnTo>
                <a:lnTo>
                  <a:pt x="232" y="25"/>
                </a:lnTo>
                <a:lnTo>
                  <a:pt x="229" y="9"/>
                </a:lnTo>
                <a:lnTo>
                  <a:pt x="205" y="11"/>
                </a:lnTo>
                <a:lnTo>
                  <a:pt x="186" y="0"/>
                </a:lnTo>
                <a:lnTo>
                  <a:pt x="177" y="29"/>
                </a:lnTo>
                <a:close/>
              </a:path>
            </a:pathLst>
          </a:custGeom>
          <a:solidFill>
            <a:srgbClr val="9f3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5084640"/>
            <a:ext cx="384120" cy="2132280"/>
          </a:xfrm>
          <a:custGeom>
            <a:avLst/>
            <a:gdLst/>
            <a:ahLst/>
            <a:rect l="l" t="t" r="r" b="b"/>
            <a:pathLst>
              <a:path w="242" h="1343">
                <a:moveTo>
                  <a:pt x="27" y="40"/>
                </a:moveTo>
                <a:lnTo>
                  <a:pt x="54" y="0"/>
                </a:lnTo>
                <a:lnTo>
                  <a:pt x="77" y="32"/>
                </a:lnTo>
                <a:lnTo>
                  <a:pt x="97" y="80"/>
                </a:lnTo>
                <a:lnTo>
                  <a:pt x="82" y="128"/>
                </a:lnTo>
                <a:lnTo>
                  <a:pt x="152" y="168"/>
                </a:lnTo>
                <a:lnTo>
                  <a:pt x="161" y="206"/>
                </a:lnTo>
                <a:lnTo>
                  <a:pt x="152" y="228"/>
                </a:lnTo>
                <a:lnTo>
                  <a:pt x="126" y="245"/>
                </a:lnTo>
                <a:lnTo>
                  <a:pt x="110" y="280"/>
                </a:lnTo>
                <a:lnTo>
                  <a:pt x="117" y="294"/>
                </a:lnTo>
                <a:lnTo>
                  <a:pt x="110" y="348"/>
                </a:lnTo>
                <a:lnTo>
                  <a:pt x="102" y="374"/>
                </a:lnTo>
                <a:lnTo>
                  <a:pt x="69" y="415"/>
                </a:lnTo>
                <a:lnTo>
                  <a:pt x="81" y="461"/>
                </a:lnTo>
                <a:lnTo>
                  <a:pt x="84" y="517"/>
                </a:lnTo>
                <a:lnTo>
                  <a:pt x="91" y="620"/>
                </a:lnTo>
                <a:lnTo>
                  <a:pt x="97" y="648"/>
                </a:lnTo>
                <a:lnTo>
                  <a:pt x="86" y="677"/>
                </a:lnTo>
                <a:lnTo>
                  <a:pt x="86" y="841"/>
                </a:lnTo>
                <a:lnTo>
                  <a:pt x="86" y="907"/>
                </a:lnTo>
                <a:lnTo>
                  <a:pt x="112" y="941"/>
                </a:lnTo>
                <a:lnTo>
                  <a:pt x="110" y="960"/>
                </a:lnTo>
                <a:lnTo>
                  <a:pt x="118" y="970"/>
                </a:lnTo>
                <a:lnTo>
                  <a:pt x="110" y="996"/>
                </a:lnTo>
                <a:lnTo>
                  <a:pt x="127" y="1010"/>
                </a:lnTo>
                <a:lnTo>
                  <a:pt x="127" y="1045"/>
                </a:lnTo>
                <a:lnTo>
                  <a:pt x="118" y="1038"/>
                </a:lnTo>
                <a:lnTo>
                  <a:pt x="118" y="1049"/>
                </a:lnTo>
                <a:lnTo>
                  <a:pt x="126" y="1077"/>
                </a:lnTo>
                <a:lnTo>
                  <a:pt x="126" y="1113"/>
                </a:lnTo>
                <a:lnTo>
                  <a:pt x="117" y="1138"/>
                </a:lnTo>
                <a:lnTo>
                  <a:pt x="117" y="1160"/>
                </a:lnTo>
                <a:lnTo>
                  <a:pt x="111" y="1174"/>
                </a:lnTo>
                <a:lnTo>
                  <a:pt x="111" y="1208"/>
                </a:lnTo>
                <a:lnTo>
                  <a:pt x="126" y="1223"/>
                </a:lnTo>
                <a:lnTo>
                  <a:pt x="133" y="1223"/>
                </a:lnTo>
                <a:lnTo>
                  <a:pt x="141" y="1272"/>
                </a:lnTo>
                <a:lnTo>
                  <a:pt x="166" y="1286"/>
                </a:lnTo>
                <a:lnTo>
                  <a:pt x="183" y="1288"/>
                </a:lnTo>
                <a:lnTo>
                  <a:pt x="199" y="1295"/>
                </a:lnTo>
                <a:lnTo>
                  <a:pt x="218" y="1289"/>
                </a:lnTo>
                <a:lnTo>
                  <a:pt x="242" y="1287"/>
                </a:lnTo>
                <a:lnTo>
                  <a:pt x="210" y="1308"/>
                </a:lnTo>
                <a:lnTo>
                  <a:pt x="194" y="1310"/>
                </a:lnTo>
                <a:lnTo>
                  <a:pt x="183" y="1325"/>
                </a:lnTo>
                <a:lnTo>
                  <a:pt x="181" y="1343"/>
                </a:lnTo>
                <a:lnTo>
                  <a:pt x="145" y="1311"/>
                </a:lnTo>
                <a:lnTo>
                  <a:pt x="154" y="1303"/>
                </a:lnTo>
                <a:lnTo>
                  <a:pt x="150" y="1293"/>
                </a:lnTo>
                <a:lnTo>
                  <a:pt x="141" y="1295"/>
                </a:lnTo>
                <a:lnTo>
                  <a:pt x="135" y="1277"/>
                </a:lnTo>
                <a:lnTo>
                  <a:pt x="112" y="1277"/>
                </a:lnTo>
                <a:lnTo>
                  <a:pt x="98" y="1271"/>
                </a:lnTo>
                <a:lnTo>
                  <a:pt x="98" y="1253"/>
                </a:lnTo>
                <a:lnTo>
                  <a:pt x="82" y="1227"/>
                </a:lnTo>
                <a:lnTo>
                  <a:pt x="71" y="1177"/>
                </a:lnTo>
                <a:lnTo>
                  <a:pt x="69" y="1155"/>
                </a:lnTo>
                <a:lnTo>
                  <a:pt x="53" y="1123"/>
                </a:lnTo>
                <a:lnTo>
                  <a:pt x="63" y="1117"/>
                </a:lnTo>
                <a:lnTo>
                  <a:pt x="76" y="1113"/>
                </a:lnTo>
                <a:lnTo>
                  <a:pt x="49" y="1086"/>
                </a:lnTo>
                <a:lnTo>
                  <a:pt x="47" y="1074"/>
                </a:lnTo>
                <a:lnTo>
                  <a:pt x="38" y="1078"/>
                </a:lnTo>
                <a:lnTo>
                  <a:pt x="22" y="1069"/>
                </a:lnTo>
                <a:lnTo>
                  <a:pt x="0" y="1053"/>
                </a:lnTo>
                <a:lnTo>
                  <a:pt x="15" y="1039"/>
                </a:lnTo>
                <a:lnTo>
                  <a:pt x="29" y="1021"/>
                </a:lnTo>
                <a:lnTo>
                  <a:pt x="33" y="1033"/>
                </a:lnTo>
                <a:lnTo>
                  <a:pt x="54" y="1053"/>
                </a:lnTo>
                <a:lnTo>
                  <a:pt x="72" y="1049"/>
                </a:lnTo>
                <a:lnTo>
                  <a:pt x="62" y="1035"/>
                </a:lnTo>
                <a:lnTo>
                  <a:pt x="69" y="1016"/>
                </a:lnTo>
                <a:lnTo>
                  <a:pt x="72" y="994"/>
                </a:lnTo>
                <a:lnTo>
                  <a:pt x="63" y="987"/>
                </a:lnTo>
                <a:lnTo>
                  <a:pt x="79" y="979"/>
                </a:lnTo>
                <a:lnTo>
                  <a:pt x="52" y="944"/>
                </a:lnTo>
                <a:lnTo>
                  <a:pt x="53" y="845"/>
                </a:lnTo>
                <a:lnTo>
                  <a:pt x="30" y="846"/>
                </a:lnTo>
                <a:lnTo>
                  <a:pt x="11" y="827"/>
                </a:lnTo>
                <a:lnTo>
                  <a:pt x="9" y="786"/>
                </a:lnTo>
                <a:lnTo>
                  <a:pt x="20" y="767"/>
                </a:lnTo>
                <a:lnTo>
                  <a:pt x="20" y="740"/>
                </a:lnTo>
                <a:lnTo>
                  <a:pt x="12" y="733"/>
                </a:lnTo>
                <a:lnTo>
                  <a:pt x="19" y="695"/>
                </a:lnTo>
                <a:lnTo>
                  <a:pt x="30" y="654"/>
                </a:lnTo>
                <a:lnTo>
                  <a:pt x="29" y="619"/>
                </a:lnTo>
                <a:lnTo>
                  <a:pt x="45" y="603"/>
                </a:lnTo>
                <a:lnTo>
                  <a:pt x="45" y="559"/>
                </a:lnTo>
                <a:lnTo>
                  <a:pt x="45" y="471"/>
                </a:lnTo>
                <a:lnTo>
                  <a:pt x="62" y="449"/>
                </a:lnTo>
                <a:lnTo>
                  <a:pt x="59" y="439"/>
                </a:lnTo>
                <a:lnTo>
                  <a:pt x="47" y="421"/>
                </a:lnTo>
                <a:lnTo>
                  <a:pt x="45" y="378"/>
                </a:lnTo>
                <a:lnTo>
                  <a:pt x="50" y="369"/>
                </a:lnTo>
                <a:lnTo>
                  <a:pt x="54" y="340"/>
                </a:lnTo>
                <a:lnTo>
                  <a:pt x="56" y="236"/>
                </a:lnTo>
                <a:lnTo>
                  <a:pt x="39" y="226"/>
                </a:lnTo>
                <a:lnTo>
                  <a:pt x="53" y="204"/>
                </a:lnTo>
                <a:lnTo>
                  <a:pt x="53" y="173"/>
                </a:lnTo>
                <a:lnTo>
                  <a:pt x="53" y="129"/>
                </a:lnTo>
                <a:lnTo>
                  <a:pt x="53" y="88"/>
                </a:lnTo>
                <a:lnTo>
                  <a:pt x="44" y="54"/>
                </a:lnTo>
                <a:lnTo>
                  <a:pt x="27" y="4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3789360"/>
            <a:ext cx="222120" cy="231840"/>
          </a:xfrm>
          <a:custGeom>
            <a:avLst/>
            <a:gdLst/>
            <a:ahLst/>
            <a:rect l="l" t="t" r="r" b="b"/>
            <a:pathLst>
              <a:path w="140" h="146">
                <a:moveTo>
                  <a:pt x="32" y="0"/>
                </a:moveTo>
                <a:lnTo>
                  <a:pt x="53" y="8"/>
                </a:lnTo>
                <a:lnTo>
                  <a:pt x="131" y="8"/>
                </a:lnTo>
                <a:lnTo>
                  <a:pt x="136" y="30"/>
                </a:lnTo>
                <a:lnTo>
                  <a:pt x="120" y="56"/>
                </a:lnTo>
                <a:lnTo>
                  <a:pt x="128" y="65"/>
                </a:lnTo>
                <a:lnTo>
                  <a:pt x="128" y="84"/>
                </a:lnTo>
                <a:lnTo>
                  <a:pt x="140" y="100"/>
                </a:lnTo>
                <a:lnTo>
                  <a:pt x="140" y="121"/>
                </a:lnTo>
                <a:lnTo>
                  <a:pt x="115" y="130"/>
                </a:lnTo>
                <a:lnTo>
                  <a:pt x="86" y="128"/>
                </a:lnTo>
                <a:lnTo>
                  <a:pt x="68" y="146"/>
                </a:lnTo>
                <a:lnTo>
                  <a:pt x="57" y="144"/>
                </a:lnTo>
                <a:lnTo>
                  <a:pt x="42" y="82"/>
                </a:lnTo>
                <a:lnTo>
                  <a:pt x="9" y="59"/>
                </a:lnTo>
                <a:lnTo>
                  <a:pt x="0" y="39"/>
                </a:lnTo>
                <a:lnTo>
                  <a:pt x="32" y="0"/>
                </a:lnTo>
                <a:close/>
              </a:path>
            </a:pathLst>
          </a:custGeom>
          <a:solidFill>
            <a:srgbClr val="3f1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33520" y="3803760"/>
            <a:ext cx="163440" cy="223560"/>
          </a:xfrm>
          <a:custGeom>
            <a:avLst/>
            <a:gdLst/>
            <a:ahLst/>
            <a:rect l="l" t="t" r="r" b="b"/>
            <a:pathLst>
              <a:path w="103" h="141">
                <a:moveTo>
                  <a:pt x="15" y="8"/>
                </a:moveTo>
                <a:lnTo>
                  <a:pt x="27" y="0"/>
                </a:lnTo>
                <a:lnTo>
                  <a:pt x="54" y="33"/>
                </a:lnTo>
                <a:lnTo>
                  <a:pt x="87" y="49"/>
                </a:lnTo>
                <a:lnTo>
                  <a:pt x="103" y="67"/>
                </a:lnTo>
                <a:lnTo>
                  <a:pt x="88" y="79"/>
                </a:lnTo>
                <a:lnTo>
                  <a:pt x="78" y="87"/>
                </a:lnTo>
                <a:lnTo>
                  <a:pt x="45" y="135"/>
                </a:lnTo>
                <a:lnTo>
                  <a:pt x="23" y="141"/>
                </a:lnTo>
                <a:lnTo>
                  <a:pt x="10" y="134"/>
                </a:lnTo>
                <a:lnTo>
                  <a:pt x="0" y="127"/>
                </a:lnTo>
                <a:lnTo>
                  <a:pt x="24" y="120"/>
                </a:lnTo>
                <a:lnTo>
                  <a:pt x="24" y="99"/>
                </a:lnTo>
                <a:lnTo>
                  <a:pt x="12" y="83"/>
                </a:lnTo>
                <a:lnTo>
                  <a:pt x="12" y="66"/>
                </a:lnTo>
                <a:lnTo>
                  <a:pt x="4" y="55"/>
                </a:lnTo>
                <a:lnTo>
                  <a:pt x="20" y="29"/>
                </a:lnTo>
                <a:lnTo>
                  <a:pt x="15" y="8"/>
                </a:lnTo>
                <a:close/>
              </a:path>
            </a:pathLst>
          </a:custGeom>
          <a:solidFill>
            <a:srgbClr val="ffbf7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500280"/>
            <a:ext cx="693720" cy="868680"/>
          </a:xfrm>
          <a:custGeom>
            <a:avLst/>
            <a:gdLst/>
            <a:ahLst/>
            <a:rect l="l" t="t" r="r" b="b"/>
            <a:pathLst>
              <a:path w="437" h="547">
                <a:moveTo>
                  <a:pt x="265" y="11"/>
                </a:moveTo>
                <a:lnTo>
                  <a:pt x="236" y="38"/>
                </a:lnTo>
                <a:lnTo>
                  <a:pt x="224" y="56"/>
                </a:lnTo>
                <a:lnTo>
                  <a:pt x="212" y="91"/>
                </a:lnTo>
                <a:lnTo>
                  <a:pt x="219" y="118"/>
                </a:lnTo>
                <a:lnTo>
                  <a:pt x="248" y="162"/>
                </a:lnTo>
                <a:lnTo>
                  <a:pt x="329" y="179"/>
                </a:lnTo>
                <a:lnTo>
                  <a:pt x="357" y="197"/>
                </a:lnTo>
                <a:lnTo>
                  <a:pt x="379" y="190"/>
                </a:lnTo>
                <a:lnTo>
                  <a:pt x="397" y="198"/>
                </a:lnTo>
                <a:lnTo>
                  <a:pt x="396" y="217"/>
                </a:lnTo>
                <a:lnTo>
                  <a:pt x="382" y="225"/>
                </a:lnTo>
                <a:lnTo>
                  <a:pt x="381" y="244"/>
                </a:lnTo>
                <a:lnTo>
                  <a:pt x="398" y="274"/>
                </a:lnTo>
                <a:lnTo>
                  <a:pt x="429" y="310"/>
                </a:lnTo>
                <a:lnTo>
                  <a:pt x="437" y="361"/>
                </a:lnTo>
                <a:lnTo>
                  <a:pt x="406" y="337"/>
                </a:lnTo>
                <a:lnTo>
                  <a:pt x="398" y="323"/>
                </a:lnTo>
                <a:lnTo>
                  <a:pt x="388" y="334"/>
                </a:lnTo>
                <a:lnTo>
                  <a:pt x="382" y="327"/>
                </a:lnTo>
                <a:lnTo>
                  <a:pt x="329" y="353"/>
                </a:lnTo>
                <a:lnTo>
                  <a:pt x="333" y="367"/>
                </a:lnTo>
                <a:lnTo>
                  <a:pt x="347" y="375"/>
                </a:lnTo>
                <a:lnTo>
                  <a:pt x="364" y="384"/>
                </a:lnTo>
                <a:lnTo>
                  <a:pt x="323" y="385"/>
                </a:lnTo>
                <a:lnTo>
                  <a:pt x="316" y="421"/>
                </a:lnTo>
                <a:lnTo>
                  <a:pt x="332" y="430"/>
                </a:lnTo>
                <a:lnTo>
                  <a:pt x="325" y="539"/>
                </a:lnTo>
                <a:lnTo>
                  <a:pt x="319" y="547"/>
                </a:lnTo>
                <a:lnTo>
                  <a:pt x="299" y="538"/>
                </a:lnTo>
                <a:lnTo>
                  <a:pt x="297" y="488"/>
                </a:lnTo>
                <a:lnTo>
                  <a:pt x="304" y="482"/>
                </a:lnTo>
                <a:lnTo>
                  <a:pt x="299" y="470"/>
                </a:lnTo>
                <a:lnTo>
                  <a:pt x="289" y="465"/>
                </a:lnTo>
                <a:lnTo>
                  <a:pt x="250" y="465"/>
                </a:lnTo>
                <a:lnTo>
                  <a:pt x="233" y="474"/>
                </a:lnTo>
                <a:lnTo>
                  <a:pt x="215" y="460"/>
                </a:lnTo>
                <a:lnTo>
                  <a:pt x="191" y="451"/>
                </a:lnTo>
                <a:lnTo>
                  <a:pt x="165" y="440"/>
                </a:lnTo>
                <a:lnTo>
                  <a:pt x="165" y="415"/>
                </a:lnTo>
                <a:lnTo>
                  <a:pt x="139" y="415"/>
                </a:lnTo>
                <a:lnTo>
                  <a:pt x="61" y="381"/>
                </a:lnTo>
                <a:lnTo>
                  <a:pt x="0" y="385"/>
                </a:lnTo>
                <a:lnTo>
                  <a:pt x="56" y="293"/>
                </a:lnTo>
                <a:lnTo>
                  <a:pt x="56" y="187"/>
                </a:lnTo>
                <a:lnTo>
                  <a:pt x="85" y="137"/>
                </a:lnTo>
                <a:lnTo>
                  <a:pt x="104" y="105"/>
                </a:lnTo>
                <a:lnTo>
                  <a:pt x="123" y="98"/>
                </a:lnTo>
                <a:lnTo>
                  <a:pt x="147" y="42"/>
                </a:lnTo>
                <a:lnTo>
                  <a:pt x="163" y="50"/>
                </a:lnTo>
                <a:lnTo>
                  <a:pt x="175" y="30"/>
                </a:lnTo>
                <a:lnTo>
                  <a:pt x="251" y="0"/>
                </a:lnTo>
                <a:lnTo>
                  <a:pt x="265" y="11"/>
                </a:lnTo>
                <a:close/>
              </a:path>
            </a:pathLst>
          </a:custGeom>
          <a:solidFill>
            <a:srgbClr val="6666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58920" y="5734080"/>
            <a:ext cx="274680" cy="274680"/>
          </a:xfrm>
          <a:custGeom>
            <a:avLst/>
            <a:gdLst/>
            <a:ahLst/>
            <a:rect l="l" t="t" r="r" b="b"/>
            <a:pathLst>
              <a:path w="173" h="173">
                <a:moveTo>
                  <a:pt x="55" y="0"/>
                </a:moveTo>
                <a:lnTo>
                  <a:pt x="28" y="25"/>
                </a:lnTo>
                <a:lnTo>
                  <a:pt x="28" y="58"/>
                </a:lnTo>
                <a:lnTo>
                  <a:pt x="22" y="82"/>
                </a:lnTo>
                <a:lnTo>
                  <a:pt x="21" y="105"/>
                </a:lnTo>
                <a:lnTo>
                  <a:pt x="0" y="126"/>
                </a:lnTo>
                <a:lnTo>
                  <a:pt x="0" y="146"/>
                </a:lnTo>
                <a:lnTo>
                  <a:pt x="14" y="148"/>
                </a:lnTo>
                <a:lnTo>
                  <a:pt x="26" y="156"/>
                </a:lnTo>
                <a:lnTo>
                  <a:pt x="28" y="159"/>
                </a:lnTo>
                <a:lnTo>
                  <a:pt x="61" y="173"/>
                </a:lnTo>
                <a:lnTo>
                  <a:pt x="74" y="165"/>
                </a:lnTo>
                <a:lnTo>
                  <a:pt x="119" y="165"/>
                </a:lnTo>
                <a:lnTo>
                  <a:pt x="132" y="149"/>
                </a:lnTo>
                <a:lnTo>
                  <a:pt x="149" y="135"/>
                </a:lnTo>
                <a:lnTo>
                  <a:pt x="158" y="102"/>
                </a:lnTo>
                <a:lnTo>
                  <a:pt x="173" y="90"/>
                </a:lnTo>
                <a:lnTo>
                  <a:pt x="140" y="56"/>
                </a:lnTo>
                <a:lnTo>
                  <a:pt x="101" y="34"/>
                </a:lnTo>
                <a:lnTo>
                  <a:pt x="75" y="37"/>
                </a:lnTo>
                <a:lnTo>
                  <a:pt x="72" y="15"/>
                </a:lnTo>
                <a:lnTo>
                  <a:pt x="55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028000" y="2205000"/>
            <a:ext cx="804600" cy="1513080"/>
            <a:chOff x="8028000" y="2205000"/>
            <a:chExt cx="804600" cy="1513080"/>
          </a:xfrm>
        </p:grpSpPr>
        <p:sp>
          <p:nvSpPr>
            <p:cNvPr id="291" name=""/>
            <p:cNvSpPr/>
            <p:nvPr/>
          </p:nvSpPr>
          <p:spPr>
            <a:xfrm>
              <a:off x="8028000" y="2205000"/>
              <a:ext cx="804600" cy="15130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28000" y="2205000"/>
              <a:ext cx="767160" cy="1494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55360" y="2223000"/>
              <a:ext cx="739800" cy="14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65520" y="2314080"/>
              <a:ext cx="551520" cy="368280"/>
            </a:xfrm>
            <a:custGeom>
              <a:avLst/>
              <a:gdLst/>
              <a:ahLst/>
              <a:rect l="l" t="t" r="r" b="b"/>
              <a:pathLst>
                <a:path w="3927" h="3976">
                  <a:moveTo>
                    <a:pt x="1963" y="0"/>
                  </a:moveTo>
                  <a:lnTo>
                    <a:pt x="2065" y="2"/>
                  </a:lnTo>
                  <a:lnTo>
                    <a:pt x="2165" y="10"/>
                  </a:lnTo>
                  <a:lnTo>
                    <a:pt x="2262" y="23"/>
                  </a:lnTo>
                  <a:lnTo>
                    <a:pt x="2359" y="41"/>
                  </a:lnTo>
                  <a:lnTo>
                    <a:pt x="2454" y="63"/>
                  </a:lnTo>
                  <a:lnTo>
                    <a:pt x="2548" y="90"/>
                  </a:lnTo>
                  <a:lnTo>
                    <a:pt x="2638" y="121"/>
                  </a:lnTo>
                  <a:lnTo>
                    <a:pt x="2728" y="156"/>
                  </a:lnTo>
                  <a:lnTo>
                    <a:pt x="2815" y="196"/>
                  </a:lnTo>
                  <a:lnTo>
                    <a:pt x="2899" y="240"/>
                  </a:lnTo>
                  <a:lnTo>
                    <a:pt x="2982" y="288"/>
                  </a:lnTo>
                  <a:lnTo>
                    <a:pt x="3062" y="340"/>
                  </a:lnTo>
                  <a:lnTo>
                    <a:pt x="3138" y="395"/>
                  </a:lnTo>
                  <a:lnTo>
                    <a:pt x="3213" y="454"/>
                  </a:lnTo>
                  <a:lnTo>
                    <a:pt x="3284" y="517"/>
                  </a:lnTo>
                  <a:lnTo>
                    <a:pt x="3352" y="583"/>
                  </a:lnTo>
                  <a:lnTo>
                    <a:pt x="3417" y="651"/>
                  </a:lnTo>
                  <a:lnTo>
                    <a:pt x="3479" y="724"/>
                  </a:lnTo>
                  <a:lnTo>
                    <a:pt x="3537" y="799"/>
                  </a:lnTo>
                  <a:lnTo>
                    <a:pt x="3592" y="877"/>
                  </a:lnTo>
                  <a:lnTo>
                    <a:pt x="3643" y="957"/>
                  </a:lnTo>
                  <a:lnTo>
                    <a:pt x="3691" y="1041"/>
                  </a:lnTo>
                  <a:lnTo>
                    <a:pt x="3734" y="1127"/>
                  </a:lnTo>
                  <a:lnTo>
                    <a:pt x="3773" y="1214"/>
                  </a:lnTo>
                  <a:lnTo>
                    <a:pt x="3809" y="1305"/>
                  </a:lnTo>
                  <a:lnTo>
                    <a:pt x="3839" y="1397"/>
                  </a:lnTo>
                  <a:lnTo>
                    <a:pt x="3866" y="1492"/>
                  </a:lnTo>
                  <a:lnTo>
                    <a:pt x="3887" y="1588"/>
                  </a:lnTo>
                  <a:lnTo>
                    <a:pt x="3905" y="1686"/>
                  </a:lnTo>
                  <a:lnTo>
                    <a:pt x="3917" y="1785"/>
                  </a:lnTo>
                  <a:lnTo>
                    <a:pt x="3924" y="1886"/>
                  </a:lnTo>
                  <a:lnTo>
                    <a:pt x="3927" y="1988"/>
                  </a:lnTo>
                  <a:lnTo>
                    <a:pt x="3924" y="2091"/>
                  </a:lnTo>
                  <a:lnTo>
                    <a:pt x="3917" y="2192"/>
                  </a:lnTo>
                  <a:lnTo>
                    <a:pt x="3905" y="2291"/>
                  </a:lnTo>
                  <a:lnTo>
                    <a:pt x="3887" y="2389"/>
                  </a:lnTo>
                  <a:lnTo>
                    <a:pt x="3866" y="2485"/>
                  </a:lnTo>
                  <a:lnTo>
                    <a:pt x="3839" y="2579"/>
                  </a:lnTo>
                  <a:lnTo>
                    <a:pt x="3809" y="2671"/>
                  </a:lnTo>
                  <a:lnTo>
                    <a:pt x="3773" y="2762"/>
                  </a:lnTo>
                  <a:lnTo>
                    <a:pt x="3734" y="2850"/>
                  </a:lnTo>
                  <a:lnTo>
                    <a:pt x="3691" y="2936"/>
                  </a:lnTo>
                  <a:lnTo>
                    <a:pt x="3643" y="3019"/>
                  </a:lnTo>
                  <a:lnTo>
                    <a:pt x="3592" y="3100"/>
                  </a:lnTo>
                  <a:lnTo>
                    <a:pt x="3537" y="3177"/>
                  </a:lnTo>
                  <a:lnTo>
                    <a:pt x="3479" y="3253"/>
                  </a:lnTo>
                  <a:lnTo>
                    <a:pt x="3417" y="3325"/>
                  </a:lnTo>
                  <a:lnTo>
                    <a:pt x="3352" y="3394"/>
                  </a:lnTo>
                  <a:lnTo>
                    <a:pt x="3284" y="3460"/>
                  </a:lnTo>
                  <a:lnTo>
                    <a:pt x="3213" y="3522"/>
                  </a:lnTo>
                  <a:lnTo>
                    <a:pt x="3138" y="3581"/>
                  </a:lnTo>
                  <a:lnTo>
                    <a:pt x="3062" y="3636"/>
                  </a:lnTo>
                  <a:lnTo>
                    <a:pt x="2982" y="3688"/>
                  </a:lnTo>
                  <a:lnTo>
                    <a:pt x="2899" y="3736"/>
                  </a:lnTo>
                  <a:lnTo>
                    <a:pt x="2815" y="3780"/>
                  </a:lnTo>
                  <a:lnTo>
                    <a:pt x="2728" y="3820"/>
                  </a:lnTo>
                  <a:lnTo>
                    <a:pt x="2638" y="3856"/>
                  </a:lnTo>
                  <a:lnTo>
                    <a:pt x="2548" y="3886"/>
                  </a:lnTo>
                  <a:lnTo>
                    <a:pt x="2454" y="3914"/>
                  </a:lnTo>
                  <a:lnTo>
                    <a:pt x="2359" y="3935"/>
                  </a:lnTo>
                  <a:lnTo>
                    <a:pt x="2262" y="3954"/>
                  </a:lnTo>
                  <a:lnTo>
                    <a:pt x="2165" y="3966"/>
                  </a:lnTo>
                  <a:lnTo>
                    <a:pt x="2065" y="3973"/>
                  </a:lnTo>
                  <a:lnTo>
                    <a:pt x="1963" y="3976"/>
                  </a:lnTo>
                  <a:lnTo>
                    <a:pt x="1862" y="3973"/>
                  </a:lnTo>
                  <a:lnTo>
                    <a:pt x="1763" y="3966"/>
                  </a:lnTo>
                  <a:lnTo>
                    <a:pt x="1665" y="3954"/>
                  </a:lnTo>
                  <a:lnTo>
                    <a:pt x="1568" y="3935"/>
                  </a:lnTo>
                  <a:lnTo>
                    <a:pt x="1472" y="3914"/>
                  </a:lnTo>
                  <a:lnTo>
                    <a:pt x="1380" y="3886"/>
                  </a:lnTo>
                  <a:lnTo>
                    <a:pt x="1288" y="3856"/>
                  </a:lnTo>
                  <a:lnTo>
                    <a:pt x="1199" y="3820"/>
                  </a:lnTo>
                  <a:lnTo>
                    <a:pt x="1112" y="3780"/>
                  </a:lnTo>
                  <a:lnTo>
                    <a:pt x="1028" y="3736"/>
                  </a:lnTo>
                  <a:lnTo>
                    <a:pt x="945" y="3688"/>
                  </a:lnTo>
                  <a:lnTo>
                    <a:pt x="865" y="3636"/>
                  </a:lnTo>
                  <a:lnTo>
                    <a:pt x="789" y="3581"/>
                  </a:lnTo>
                  <a:lnTo>
                    <a:pt x="714" y="3522"/>
                  </a:lnTo>
                  <a:lnTo>
                    <a:pt x="643" y="3460"/>
                  </a:lnTo>
                  <a:lnTo>
                    <a:pt x="575" y="3394"/>
                  </a:lnTo>
                  <a:lnTo>
                    <a:pt x="510" y="3325"/>
                  </a:lnTo>
                  <a:lnTo>
                    <a:pt x="448" y="3253"/>
                  </a:lnTo>
                  <a:lnTo>
                    <a:pt x="390" y="3177"/>
                  </a:lnTo>
                  <a:lnTo>
                    <a:pt x="335" y="3100"/>
                  </a:lnTo>
                  <a:lnTo>
                    <a:pt x="284" y="3019"/>
                  </a:lnTo>
                  <a:lnTo>
                    <a:pt x="237" y="2936"/>
                  </a:lnTo>
                  <a:lnTo>
                    <a:pt x="193" y="2850"/>
                  </a:lnTo>
                  <a:lnTo>
                    <a:pt x="154" y="2762"/>
                  </a:lnTo>
                  <a:lnTo>
                    <a:pt x="119" y="2671"/>
                  </a:lnTo>
                  <a:lnTo>
                    <a:pt x="87" y="2579"/>
                  </a:lnTo>
                  <a:lnTo>
                    <a:pt x="61" y="2485"/>
                  </a:lnTo>
                  <a:lnTo>
                    <a:pt x="39" y="2389"/>
                  </a:lnTo>
                  <a:lnTo>
                    <a:pt x="22" y="2291"/>
                  </a:lnTo>
                  <a:lnTo>
                    <a:pt x="10" y="2192"/>
                  </a:lnTo>
                  <a:lnTo>
                    <a:pt x="2" y="2091"/>
                  </a:lnTo>
                  <a:lnTo>
                    <a:pt x="0" y="1988"/>
                  </a:lnTo>
                  <a:lnTo>
                    <a:pt x="2" y="1886"/>
                  </a:lnTo>
                  <a:lnTo>
                    <a:pt x="10" y="1785"/>
                  </a:lnTo>
                  <a:lnTo>
                    <a:pt x="22" y="1686"/>
                  </a:lnTo>
                  <a:lnTo>
                    <a:pt x="39" y="1588"/>
                  </a:lnTo>
                  <a:lnTo>
                    <a:pt x="61" y="1492"/>
                  </a:lnTo>
                  <a:lnTo>
                    <a:pt x="87" y="1397"/>
                  </a:lnTo>
                  <a:lnTo>
                    <a:pt x="119" y="1305"/>
                  </a:lnTo>
                  <a:lnTo>
                    <a:pt x="154" y="1214"/>
                  </a:lnTo>
                  <a:lnTo>
                    <a:pt x="193" y="1127"/>
                  </a:lnTo>
                  <a:lnTo>
                    <a:pt x="237" y="1041"/>
                  </a:lnTo>
                  <a:lnTo>
                    <a:pt x="284" y="957"/>
                  </a:lnTo>
                  <a:lnTo>
                    <a:pt x="335" y="877"/>
                  </a:lnTo>
                  <a:lnTo>
                    <a:pt x="390" y="799"/>
                  </a:lnTo>
                  <a:lnTo>
                    <a:pt x="448" y="724"/>
                  </a:lnTo>
                  <a:lnTo>
                    <a:pt x="510" y="651"/>
                  </a:lnTo>
                  <a:lnTo>
                    <a:pt x="575" y="583"/>
                  </a:lnTo>
                  <a:lnTo>
                    <a:pt x="643" y="517"/>
                  </a:lnTo>
                  <a:lnTo>
                    <a:pt x="714" y="454"/>
                  </a:lnTo>
                  <a:lnTo>
                    <a:pt x="789" y="395"/>
                  </a:lnTo>
                  <a:lnTo>
                    <a:pt x="865" y="340"/>
                  </a:lnTo>
                  <a:lnTo>
                    <a:pt x="945" y="288"/>
                  </a:lnTo>
                  <a:lnTo>
                    <a:pt x="1028" y="240"/>
                  </a:lnTo>
                  <a:lnTo>
                    <a:pt x="1112" y="196"/>
                  </a:lnTo>
                  <a:lnTo>
                    <a:pt x="1199" y="156"/>
                  </a:lnTo>
                  <a:lnTo>
                    <a:pt x="1288" y="121"/>
                  </a:lnTo>
                  <a:lnTo>
                    <a:pt x="1380" y="90"/>
                  </a:lnTo>
                  <a:lnTo>
                    <a:pt x="1472" y="63"/>
                  </a:lnTo>
                  <a:lnTo>
                    <a:pt x="1568" y="41"/>
                  </a:lnTo>
                  <a:lnTo>
                    <a:pt x="1665" y="23"/>
                  </a:lnTo>
                  <a:lnTo>
                    <a:pt x="1763" y="10"/>
                  </a:lnTo>
                  <a:lnTo>
                    <a:pt x="1862" y="2"/>
                  </a:lnTo>
                  <a:lnTo>
                    <a:pt x="1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5520" y="2775960"/>
              <a:ext cx="551520" cy="368280"/>
            </a:xfrm>
            <a:custGeom>
              <a:avLst/>
              <a:gdLst/>
              <a:ahLst/>
              <a:rect l="l" t="t" r="r" b="b"/>
              <a:pathLst>
                <a:path w="3927" h="3976">
                  <a:moveTo>
                    <a:pt x="1963" y="0"/>
                  </a:moveTo>
                  <a:lnTo>
                    <a:pt x="2065" y="2"/>
                  </a:lnTo>
                  <a:lnTo>
                    <a:pt x="2165" y="10"/>
                  </a:lnTo>
                  <a:lnTo>
                    <a:pt x="2262" y="23"/>
                  </a:lnTo>
                  <a:lnTo>
                    <a:pt x="2359" y="41"/>
                  </a:lnTo>
                  <a:lnTo>
                    <a:pt x="2454" y="62"/>
                  </a:lnTo>
                  <a:lnTo>
                    <a:pt x="2548" y="90"/>
                  </a:lnTo>
                  <a:lnTo>
                    <a:pt x="2638" y="121"/>
                  </a:lnTo>
                  <a:lnTo>
                    <a:pt x="2728" y="156"/>
                  </a:lnTo>
                  <a:lnTo>
                    <a:pt x="2815" y="196"/>
                  </a:lnTo>
                  <a:lnTo>
                    <a:pt x="2899" y="240"/>
                  </a:lnTo>
                  <a:lnTo>
                    <a:pt x="2982" y="288"/>
                  </a:lnTo>
                  <a:lnTo>
                    <a:pt x="3062" y="340"/>
                  </a:lnTo>
                  <a:lnTo>
                    <a:pt x="3138" y="395"/>
                  </a:lnTo>
                  <a:lnTo>
                    <a:pt x="3213" y="454"/>
                  </a:lnTo>
                  <a:lnTo>
                    <a:pt x="3284" y="516"/>
                  </a:lnTo>
                  <a:lnTo>
                    <a:pt x="3352" y="583"/>
                  </a:lnTo>
                  <a:lnTo>
                    <a:pt x="3417" y="651"/>
                  </a:lnTo>
                  <a:lnTo>
                    <a:pt x="3479" y="724"/>
                  </a:lnTo>
                  <a:lnTo>
                    <a:pt x="3537" y="799"/>
                  </a:lnTo>
                  <a:lnTo>
                    <a:pt x="3592" y="877"/>
                  </a:lnTo>
                  <a:lnTo>
                    <a:pt x="3643" y="957"/>
                  </a:lnTo>
                  <a:lnTo>
                    <a:pt x="3691" y="1041"/>
                  </a:lnTo>
                  <a:lnTo>
                    <a:pt x="3734" y="1127"/>
                  </a:lnTo>
                  <a:lnTo>
                    <a:pt x="3773" y="1214"/>
                  </a:lnTo>
                  <a:lnTo>
                    <a:pt x="3809" y="1305"/>
                  </a:lnTo>
                  <a:lnTo>
                    <a:pt x="3839" y="1397"/>
                  </a:lnTo>
                  <a:lnTo>
                    <a:pt x="3866" y="1492"/>
                  </a:lnTo>
                  <a:lnTo>
                    <a:pt x="3887" y="1588"/>
                  </a:lnTo>
                  <a:lnTo>
                    <a:pt x="3905" y="1686"/>
                  </a:lnTo>
                  <a:lnTo>
                    <a:pt x="3917" y="1785"/>
                  </a:lnTo>
                  <a:lnTo>
                    <a:pt x="3924" y="1886"/>
                  </a:lnTo>
                  <a:lnTo>
                    <a:pt x="3927" y="1988"/>
                  </a:lnTo>
                  <a:lnTo>
                    <a:pt x="3924" y="2091"/>
                  </a:lnTo>
                  <a:lnTo>
                    <a:pt x="3917" y="2192"/>
                  </a:lnTo>
                  <a:lnTo>
                    <a:pt x="3905" y="2291"/>
                  </a:lnTo>
                  <a:lnTo>
                    <a:pt x="3887" y="2389"/>
                  </a:lnTo>
                  <a:lnTo>
                    <a:pt x="3866" y="2484"/>
                  </a:lnTo>
                  <a:lnTo>
                    <a:pt x="3839" y="2579"/>
                  </a:lnTo>
                  <a:lnTo>
                    <a:pt x="3809" y="2671"/>
                  </a:lnTo>
                  <a:lnTo>
                    <a:pt x="3773" y="2762"/>
                  </a:lnTo>
                  <a:lnTo>
                    <a:pt x="3734" y="2850"/>
                  </a:lnTo>
                  <a:lnTo>
                    <a:pt x="3691" y="2935"/>
                  </a:lnTo>
                  <a:lnTo>
                    <a:pt x="3643" y="3019"/>
                  </a:lnTo>
                  <a:lnTo>
                    <a:pt x="3592" y="3100"/>
                  </a:lnTo>
                  <a:lnTo>
                    <a:pt x="3537" y="3177"/>
                  </a:lnTo>
                  <a:lnTo>
                    <a:pt x="3479" y="3253"/>
                  </a:lnTo>
                  <a:lnTo>
                    <a:pt x="3417" y="3325"/>
                  </a:lnTo>
                  <a:lnTo>
                    <a:pt x="3352" y="3393"/>
                  </a:lnTo>
                  <a:lnTo>
                    <a:pt x="3284" y="3460"/>
                  </a:lnTo>
                  <a:lnTo>
                    <a:pt x="3213" y="3522"/>
                  </a:lnTo>
                  <a:lnTo>
                    <a:pt x="3138" y="3581"/>
                  </a:lnTo>
                  <a:lnTo>
                    <a:pt x="3062" y="3636"/>
                  </a:lnTo>
                  <a:lnTo>
                    <a:pt x="2982" y="3688"/>
                  </a:lnTo>
                  <a:lnTo>
                    <a:pt x="2899" y="3736"/>
                  </a:lnTo>
                  <a:lnTo>
                    <a:pt x="2815" y="3780"/>
                  </a:lnTo>
                  <a:lnTo>
                    <a:pt x="2728" y="3820"/>
                  </a:lnTo>
                  <a:lnTo>
                    <a:pt x="2638" y="3856"/>
                  </a:lnTo>
                  <a:lnTo>
                    <a:pt x="2548" y="3886"/>
                  </a:lnTo>
                  <a:lnTo>
                    <a:pt x="2454" y="3914"/>
                  </a:lnTo>
                  <a:lnTo>
                    <a:pt x="2359" y="3935"/>
                  </a:lnTo>
                  <a:lnTo>
                    <a:pt x="2262" y="3954"/>
                  </a:lnTo>
                  <a:lnTo>
                    <a:pt x="2165" y="3966"/>
                  </a:lnTo>
                  <a:lnTo>
                    <a:pt x="2065" y="3973"/>
                  </a:lnTo>
                  <a:lnTo>
                    <a:pt x="1963" y="3976"/>
                  </a:lnTo>
                  <a:lnTo>
                    <a:pt x="1862" y="3973"/>
                  </a:lnTo>
                  <a:lnTo>
                    <a:pt x="1763" y="3966"/>
                  </a:lnTo>
                  <a:lnTo>
                    <a:pt x="1665" y="3954"/>
                  </a:lnTo>
                  <a:lnTo>
                    <a:pt x="1568" y="3935"/>
                  </a:lnTo>
                  <a:lnTo>
                    <a:pt x="1472" y="3914"/>
                  </a:lnTo>
                  <a:lnTo>
                    <a:pt x="1380" y="3886"/>
                  </a:lnTo>
                  <a:lnTo>
                    <a:pt x="1288" y="3856"/>
                  </a:lnTo>
                  <a:lnTo>
                    <a:pt x="1199" y="3820"/>
                  </a:lnTo>
                  <a:lnTo>
                    <a:pt x="1112" y="3780"/>
                  </a:lnTo>
                  <a:lnTo>
                    <a:pt x="1028" y="3736"/>
                  </a:lnTo>
                  <a:lnTo>
                    <a:pt x="945" y="3688"/>
                  </a:lnTo>
                  <a:lnTo>
                    <a:pt x="865" y="3636"/>
                  </a:lnTo>
                  <a:lnTo>
                    <a:pt x="789" y="3581"/>
                  </a:lnTo>
                  <a:lnTo>
                    <a:pt x="714" y="3522"/>
                  </a:lnTo>
                  <a:lnTo>
                    <a:pt x="643" y="3460"/>
                  </a:lnTo>
                  <a:lnTo>
                    <a:pt x="575" y="3393"/>
                  </a:lnTo>
                  <a:lnTo>
                    <a:pt x="510" y="3325"/>
                  </a:lnTo>
                  <a:lnTo>
                    <a:pt x="448" y="3253"/>
                  </a:lnTo>
                  <a:lnTo>
                    <a:pt x="390" y="3177"/>
                  </a:lnTo>
                  <a:lnTo>
                    <a:pt x="335" y="3100"/>
                  </a:lnTo>
                  <a:lnTo>
                    <a:pt x="284" y="3019"/>
                  </a:lnTo>
                  <a:lnTo>
                    <a:pt x="237" y="2935"/>
                  </a:lnTo>
                  <a:lnTo>
                    <a:pt x="193" y="2850"/>
                  </a:lnTo>
                  <a:lnTo>
                    <a:pt x="154" y="2762"/>
                  </a:lnTo>
                  <a:lnTo>
                    <a:pt x="119" y="2671"/>
                  </a:lnTo>
                  <a:lnTo>
                    <a:pt x="87" y="2579"/>
                  </a:lnTo>
                  <a:lnTo>
                    <a:pt x="61" y="2484"/>
                  </a:lnTo>
                  <a:lnTo>
                    <a:pt x="39" y="2389"/>
                  </a:lnTo>
                  <a:lnTo>
                    <a:pt x="22" y="2291"/>
                  </a:lnTo>
                  <a:lnTo>
                    <a:pt x="10" y="2192"/>
                  </a:lnTo>
                  <a:lnTo>
                    <a:pt x="2" y="2091"/>
                  </a:lnTo>
                  <a:lnTo>
                    <a:pt x="0" y="1988"/>
                  </a:lnTo>
                  <a:lnTo>
                    <a:pt x="2" y="1886"/>
                  </a:lnTo>
                  <a:lnTo>
                    <a:pt x="10" y="1785"/>
                  </a:lnTo>
                  <a:lnTo>
                    <a:pt x="22" y="1686"/>
                  </a:lnTo>
                  <a:lnTo>
                    <a:pt x="39" y="1588"/>
                  </a:lnTo>
                  <a:lnTo>
                    <a:pt x="61" y="1492"/>
                  </a:lnTo>
                  <a:lnTo>
                    <a:pt x="87" y="1397"/>
                  </a:lnTo>
                  <a:lnTo>
                    <a:pt x="119" y="1305"/>
                  </a:lnTo>
                  <a:lnTo>
                    <a:pt x="154" y="1214"/>
                  </a:lnTo>
                  <a:lnTo>
                    <a:pt x="193" y="1127"/>
                  </a:lnTo>
                  <a:lnTo>
                    <a:pt x="237" y="1041"/>
                  </a:lnTo>
                  <a:lnTo>
                    <a:pt x="284" y="957"/>
                  </a:lnTo>
                  <a:lnTo>
                    <a:pt x="335" y="877"/>
                  </a:lnTo>
                  <a:lnTo>
                    <a:pt x="390" y="799"/>
                  </a:lnTo>
                  <a:lnTo>
                    <a:pt x="448" y="724"/>
                  </a:lnTo>
                  <a:lnTo>
                    <a:pt x="510" y="651"/>
                  </a:lnTo>
                  <a:lnTo>
                    <a:pt x="575" y="583"/>
                  </a:lnTo>
                  <a:lnTo>
                    <a:pt x="643" y="516"/>
                  </a:lnTo>
                  <a:lnTo>
                    <a:pt x="714" y="454"/>
                  </a:lnTo>
                  <a:lnTo>
                    <a:pt x="789" y="395"/>
                  </a:lnTo>
                  <a:lnTo>
                    <a:pt x="865" y="340"/>
                  </a:lnTo>
                  <a:lnTo>
                    <a:pt x="945" y="288"/>
                  </a:lnTo>
                  <a:lnTo>
                    <a:pt x="1028" y="240"/>
                  </a:lnTo>
                  <a:lnTo>
                    <a:pt x="1112" y="196"/>
                  </a:lnTo>
                  <a:lnTo>
                    <a:pt x="1199" y="156"/>
                  </a:lnTo>
                  <a:lnTo>
                    <a:pt x="1288" y="121"/>
                  </a:lnTo>
                  <a:lnTo>
                    <a:pt x="1380" y="90"/>
                  </a:lnTo>
                  <a:lnTo>
                    <a:pt x="1472" y="62"/>
                  </a:lnTo>
                  <a:lnTo>
                    <a:pt x="1568" y="41"/>
                  </a:lnTo>
                  <a:lnTo>
                    <a:pt x="1665" y="23"/>
                  </a:lnTo>
                  <a:lnTo>
                    <a:pt x="1763" y="10"/>
                  </a:lnTo>
                  <a:lnTo>
                    <a:pt x="1862" y="2"/>
                  </a:lnTo>
                  <a:lnTo>
                    <a:pt x="1963" y="0"/>
                  </a:lnTo>
                  <a:close/>
                </a:path>
              </a:pathLst>
            </a:custGeom>
            <a:solidFill>
              <a:srgbClr val="ffff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65520" y="3236400"/>
              <a:ext cx="551520" cy="368280"/>
            </a:xfrm>
            <a:custGeom>
              <a:avLst/>
              <a:gdLst/>
              <a:ahLst/>
              <a:rect l="l" t="t" r="r" b="b"/>
              <a:pathLst>
                <a:path w="3927" h="3976">
                  <a:moveTo>
                    <a:pt x="1963" y="0"/>
                  </a:moveTo>
                  <a:lnTo>
                    <a:pt x="2065" y="2"/>
                  </a:lnTo>
                  <a:lnTo>
                    <a:pt x="2165" y="10"/>
                  </a:lnTo>
                  <a:lnTo>
                    <a:pt x="2262" y="22"/>
                  </a:lnTo>
                  <a:lnTo>
                    <a:pt x="2359" y="41"/>
                  </a:lnTo>
                  <a:lnTo>
                    <a:pt x="2454" y="62"/>
                  </a:lnTo>
                  <a:lnTo>
                    <a:pt x="2548" y="90"/>
                  </a:lnTo>
                  <a:lnTo>
                    <a:pt x="2638" y="120"/>
                  </a:lnTo>
                  <a:lnTo>
                    <a:pt x="2728" y="156"/>
                  </a:lnTo>
                  <a:lnTo>
                    <a:pt x="2815" y="196"/>
                  </a:lnTo>
                  <a:lnTo>
                    <a:pt x="2899" y="240"/>
                  </a:lnTo>
                  <a:lnTo>
                    <a:pt x="2982" y="288"/>
                  </a:lnTo>
                  <a:lnTo>
                    <a:pt x="3062" y="340"/>
                  </a:lnTo>
                  <a:lnTo>
                    <a:pt x="3138" y="395"/>
                  </a:lnTo>
                  <a:lnTo>
                    <a:pt x="3213" y="454"/>
                  </a:lnTo>
                  <a:lnTo>
                    <a:pt x="3284" y="516"/>
                  </a:lnTo>
                  <a:lnTo>
                    <a:pt x="3352" y="583"/>
                  </a:lnTo>
                  <a:lnTo>
                    <a:pt x="3417" y="651"/>
                  </a:lnTo>
                  <a:lnTo>
                    <a:pt x="3479" y="723"/>
                  </a:lnTo>
                  <a:lnTo>
                    <a:pt x="3537" y="799"/>
                  </a:lnTo>
                  <a:lnTo>
                    <a:pt x="3592" y="876"/>
                  </a:lnTo>
                  <a:lnTo>
                    <a:pt x="3643" y="957"/>
                  </a:lnTo>
                  <a:lnTo>
                    <a:pt x="3691" y="1041"/>
                  </a:lnTo>
                  <a:lnTo>
                    <a:pt x="3734" y="1126"/>
                  </a:lnTo>
                  <a:lnTo>
                    <a:pt x="3773" y="1214"/>
                  </a:lnTo>
                  <a:lnTo>
                    <a:pt x="3809" y="1305"/>
                  </a:lnTo>
                  <a:lnTo>
                    <a:pt x="3839" y="1397"/>
                  </a:lnTo>
                  <a:lnTo>
                    <a:pt x="3866" y="1492"/>
                  </a:lnTo>
                  <a:lnTo>
                    <a:pt x="3887" y="1588"/>
                  </a:lnTo>
                  <a:lnTo>
                    <a:pt x="3905" y="1685"/>
                  </a:lnTo>
                  <a:lnTo>
                    <a:pt x="3917" y="1784"/>
                  </a:lnTo>
                  <a:lnTo>
                    <a:pt x="3924" y="1885"/>
                  </a:lnTo>
                  <a:lnTo>
                    <a:pt x="3927" y="1987"/>
                  </a:lnTo>
                  <a:lnTo>
                    <a:pt x="3924" y="2091"/>
                  </a:lnTo>
                  <a:lnTo>
                    <a:pt x="3917" y="2192"/>
                  </a:lnTo>
                  <a:lnTo>
                    <a:pt x="3905" y="2290"/>
                  </a:lnTo>
                  <a:lnTo>
                    <a:pt x="3887" y="2388"/>
                  </a:lnTo>
                  <a:lnTo>
                    <a:pt x="3866" y="2484"/>
                  </a:lnTo>
                  <a:lnTo>
                    <a:pt x="3839" y="2579"/>
                  </a:lnTo>
                  <a:lnTo>
                    <a:pt x="3809" y="2671"/>
                  </a:lnTo>
                  <a:lnTo>
                    <a:pt x="3773" y="2762"/>
                  </a:lnTo>
                  <a:lnTo>
                    <a:pt x="3734" y="2850"/>
                  </a:lnTo>
                  <a:lnTo>
                    <a:pt x="3691" y="2935"/>
                  </a:lnTo>
                  <a:lnTo>
                    <a:pt x="3643" y="3019"/>
                  </a:lnTo>
                  <a:lnTo>
                    <a:pt x="3592" y="3100"/>
                  </a:lnTo>
                  <a:lnTo>
                    <a:pt x="3537" y="3177"/>
                  </a:lnTo>
                  <a:lnTo>
                    <a:pt x="3479" y="3253"/>
                  </a:lnTo>
                  <a:lnTo>
                    <a:pt x="3417" y="3325"/>
                  </a:lnTo>
                  <a:lnTo>
                    <a:pt x="3352" y="3393"/>
                  </a:lnTo>
                  <a:lnTo>
                    <a:pt x="3284" y="3460"/>
                  </a:lnTo>
                  <a:lnTo>
                    <a:pt x="3213" y="3522"/>
                  </a:lnTo>
                  <a:lnTo>
                    <a:pt x="3138" y="3581"/>
                  </a:lnTo>
                  <a:lnTo>
                    <a:pt x="3062" y="3636"/>
                  </a:lnTo>
                  <a:lnTo>
                    <a:pt x="2982" y="3688"/>
                  </a:lnTo>
                  <a:lnTo>
                    <a:pt x="2899" y="3736"/>
                  </a:lnTo>
                  <a:lnTo>
                    <a:pt x="2815" y="3780"/>
                  </a:lnTo>
                  <a:lnTo>
                    <a:pt x="2728" y="3820"/>
                  </a:lnTo>
                  <a:lnTo>
                    <a:pt x="2638" y="3856"/>
                  </a:lnTo>
                  <a:lnTo>
                    <a:pt x="2548" y="3886"/>
                  </a:lnTo>
                  <a:lnTo>
                    <a:pt x="2454" y="3914"/>
                  </a:lnTo>
                  <a:lnTo>
                    <a:pt x="2359" y="3935"/>
                  </a:lnTo>
                  <a:lnTo>
                    <a:pt x="2262" y="3953"/>
                  </a:lnTo>
                  <a:lnTo>
                    <a:pt x="2165" y="3966"/>
                  </a:lnTo>
                  <a:lnTo>
                    <a:pt x="2065" y="3973"/>
                  </a:lnTo>
                  <a:lnTo>
                    <a:pt x="1963" y="3976"/>
                  </a:lnTo>
                  <a:lnTo>
                    <a:pt x="1862" y="3973"/>
                  </a:lnTo>
                  <a:lnTo>
                    <a:pt x="1763" y="3966"/>
                  </a:lnTo>
                  <a:lnTo>
                    <a:pt x="1665" y="3953"/>
                  </a:lnTo>
                  <a:lnTo>
                    <a:pt x="1568" y="3935"/>
                  </a:lnTo>
                  <a:lnTo>
                    <a:pt x="1472" y="3914"/>
                  </a:lnTo>
                  <a:lnTo>
                    <a:pt x="1380" y="3886"/>
                  </a:lnTo>
                  <a:lnTo>
                    <a:pt x="1288" y="3856"/>
                  </a:lnTo>
                  <a:lnTo>
                    <a:pt x="1199" y="3820"/>
                  </a:lnTo>
                  <a:lnTo>
                    <a:pt x="1112" y="3780"/>
                  </a:lnTo>
                  <a:lnTo>
                    <a:pt x="1028" y="3736"/>
                  </a:lnTo>
                  <a:lnTo>
                    <a:pt x="945" y="3688"/>
                  </a:lnTo>
                  <a:lnTo>
                    <a:pt x="865" y="3636"/>
                  </a:lnTo>
                  <a:lnTo>
                    <a:pt x="789" y="3581"/>
                  </a:lnTo>
                  <a:lnTo>
                    <a:pt x="714" y="3522"/>
                  </a:lnTo>
                  <a:lnTo>
                    <a:pt x="643" y="3460"/>
                  </a:lnTo>
                  <a:lnTo>
                    <a:pt x="575" y="3393"/>
                  </a:lnTo>
                  <a:lnTo>
                    <a:pt x="510" y="3325"/>
                  </a:lnTo>
                  <a:lnTo>
                    <a:pt x="448" y="3253"/>
                  </a:lnTo>
                  <a:lnTo>
                    <a:pt x="390" y="3177"/>
                  </a:lnTo>
                  <a:lnTo>
                    <a:pt x="335" y="3100"/>
                  </a:lnTo>
                  <a:lnTo>
                    <a:pt x="284" y="3019"/>
                  </a:lnTo>
                  <a:lnTo>
                    <a:pt x="237" y="2935"/>
                  </a:lnTo>
                  <a:lnTo>
                    <a:pt x="193" y="2850"/>
                  </a:lnTo>
                  <a:lnTo>
                    <a:pt x="154" y="2762"/>
                  </a:lnTo>
                  <a:lnTo>
                    <a:pt x="119" y="2671"/>
                  </a:lnTo>
                  <a:lnTo>
                    <a:pt x="87" y="2579"/>
                  </a:lnTo>
                  <a:lnTo>
                    <a:pt x="61" y="2484"/>
                  </a:lnTo>
                  <a:lnTo>
                    <a:pt x="39" y="2388"/>
                  </a:lnTo>
                  <a:lnTo>
                    <a:pt x="22" y="2290"/>
                  </a:lnTo>
                  <a:lnTo>
                    <a:pt x="10" y="2192"/>
                  </a:lnTo>
                  <a:lnTo>
                    <a:pt x="2" y="2091"/>
                  </a:lnTo>
                  <a:lnTo>
                    <a:pt x="0" y="1987"/>
                  </a:lnTo>
                  <a:lnTo>
                    <a:pt x="2" y="1885"/>
                  </a:lnTo>
                  <a:lnTo>
                    <a:pt x="10" y="1784"/>
                  </a:lnTo>
                  <a:lnTo>
                    <a:pt x="22" y="1685"/>
                  </a:lnTo>
                  <a:lnTo>
                    <a:pt x="39" y="1588"/>
                  </a:lnTo>
                  <a:lnTo>
                    <a:pt x="61" y="1492"/>
                  </a:lnTo>
                  <a:lnTo>
                    <a:pt x="87" y="1397"/>
                  </a:lnTo>
                  <a:lnTo>
                    <a:pt x="119" y="1305"/>
                  </a:lnTo>
                  <a:lnTo>
                    <a:pt x="154" y="1214"/>
                  </a:lnTo>
                  <a:lnTo>
                    <a:pt x="193" y="1126"/>
                  </a:lnTo>
                  <a:lnTo>
                    <a:pt x="237" y="1041"/>
                  </a:lnTo>
                  <a:lnTo>
                    <a:pt x="284" y="957"/>
                  </a:lnTo>
                  <a:lnTo>
                    <a:pt x="335" y="876"/>
                  </a:lnTo>
                  <a:lnTo>
                    <a:pt x="390" y="799"/>
                  </a:lnTo>
                  <a:lnTo>
                    <a:pt x="448" y="723"/>
                  </a:lnTo>
                  <a:lnTo>
                    <a:pt x="510" y="651"/>
                  </a:lnTo>
                  <a:lnTo>
                    <a:pt x="575" y="583"/>
                  </a:lnTo>
                  <a:lnTo>
                    <a:pt x="643" y="516"/>
                  </a:lnTo>
                  <a:lnTo>
                    <a:pt x="714" y="454"/>
                  </a:lnTo>
                  <a:lnTo>
                    <a:pt x="789" y="395"/>
                  </a:lnTo>
                  <a:lnTo>
                    <a:pt x="865" y="340"/>
                  </a:lnTo>
                  <a:lnTo>
                    <a:pt x="945" y="288"/>
                  </a:lnTo>
                  <a:lnTo>
                    <a:pt x="1028" y="240"/>
                  </a:lnTo>
                  <a:lnTo>
                    <a:pt x="1112" y="196"/>
                  </a:lnTo>
                  <a:lnTo>
                    <a:pt x="1199" y="156"/>
                  </a:lnTo>
                  <a:lnTo>
                    <a:pt x="1288" y="120"/>
                  </a:lnTo>
                  <a:lnTo>
                    <a:pt x="1380" y="90"/>
                  </a:lnTo>
                  <a:lnTo>
                    <a:pt x="1472" y="62"/>
                  </a:lnTo>
                  <a:lnTo>
                    <a:pt x="1568" y="41"/>
                  </a:lnTo>
                  <a:lnTo>
                    <a:pt x="1665" y="22"/>
                  </a:lnTo>
                  <a:lnTo>
                    <a:pt x="1763" y="10"/>
                  </a:lnTo>
                  <a:lnTo>
                    <a:pt x="1862" y="2"/>
                  </a:lnTo>
                  <a:lnTo>
                    <a:pt x="1963" y="0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tinoamérica - Devaluación Tipo de Cambio vs. U$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24000" y="1773360"/>
            <a:ext cx="792360" cy="4334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357720"/>
            <a:ext cx="792360" cy="4330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 44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57120" y="1587600"/>
            <a:ext cx="119052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24000" y="3154320"/>
            <a:ext cx="119052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19052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932360" y="4797360"/>
            <a:ext cx="1190520" cy="790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4932360" y="3213000"/>
            <a:ext cx="1190520" cy="790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5003640" y="1628640"/>
            <a:ext cx="1190880" cy="676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124000" y="4941720"/>
            <a:ext cx="792360" cy="4334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 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48360" y="1773360"/>
            <a:ext cx="792360" cy="4334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 28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04000" y="4941720"/>
            <a:ext cx="792360" cy="4334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 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7080" y="3357720"/>
            <a:ext cx="792000" cy="4330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+ 12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61149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Últimos tres m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632720" cy="50472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Crisis : Origen y Efectos a nivel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Impacto en mercados em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Situación de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Tipo de Cambio Peso -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700280"/>
          <a:ext cx="91440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11280" y="1268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devaluación del Real a partir de Octubre 2008 hace que el TCR traspase los  0.70 que alcanzaba un añ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6165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mpacto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 la impacto en la región depende del grado de apertura de las economías y su dependencia respecto a los commod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s economías más abiertas (Brasil, Chile, México) sufrieron considerables salidas de capitales que provocaron fuertes devaluaciones de la moneda local, impactando directamente en el crédito y en la actividad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or lo tanto, el crecimiento de estos países se resentirá aún más que los otros países de la reg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632720" cy="50472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4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ad8d9"/>
                </a:solidFill>
                <a:latin typeface="Arial"/>
              </a:rPr>
              <a:t>Crisis : Origen y Efectos a nivel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dad8d9"/>
                </a:solidFill>
                <a:latin typeface="Arial"/>
              </a:rPr>
              <a:t>Impacto en mercados em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Situación en Argenti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49952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ientras tanto en Argentin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1268280"/>
            <a:ext cx="3744720" cy="39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PBI </a:t>
            </a: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i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Variación Anual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ariación Trim.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13.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ector Exter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ariación Importaciones     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ariación Exportaciones     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00720" y="1268280"/>
            <a:ext cx="4392360" cy="503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imador Mensual Industri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(EMI),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a Septiembre 2008 muestra un crecimiento del 5,8% con respecto a Septiembr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08720" y="2781360"/>
            <a:ext cx="10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270828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Co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00" y="400536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Desestacionaliz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8028000" y="3715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451640" y="2924280"/>
            <a:ext cx="50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49952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precio S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1773360"/>
          <a:ext cx="8713800" cy="45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7138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11280" y="1268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precio de la soja, luego del pico observado en julio de este año, esta volviendo a los valores observados en diciembr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6093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2276640"/>
            <a:ext cx="1944720" cy="45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medio 2004-2007: U$S 246,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57080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Tasa BADLAR 30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628640"/>
          <a:ext cx="849780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4978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11280" y="126828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Tasa Badlar a 30 días, muestra un crecimiento de un 10% desde diciembr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093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2205000"/>
            <a:ext cx="216072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medio 2004-2007:  5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49952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de los depósitos y  préstamos (en millones de 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971640" y="2349360"/>
          <a:ext cx="7229520" cy="3110040"/>
        </p:xfrm>
        <a:graphic>
          <a:graphicData uri="http://schemas.openxmlformats.org/drawingml/2006/table">
            <a:tbl>
              <a:tblPr/>
              <a:tblGrid>
                <a:gridCol w="1446480"/>
                <a:gridCol w="1444320"/>
                <a:gridCol w="1447920"/>
                <a:gridCol w="1446120"/>
                <a:gridCol w="14446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Priv.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5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7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0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Púb.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3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Priv.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0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.6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Púb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2411280" y="1628640"/>
          <a:ext cx="5780160" cy="718920"/>
        </p:xfrm>
        <a:graphic>
          <a:graphicData uri="http://schemas.openxmlformats.org/drawingml/2006/table">
            <a:tbl>
              <a:tblPr/>
              <a:tblGrid>
                <a:gridCol w="1444680"/>
                <a:gridCol w="1446120"/>
                <a:gridCol w="1442880"/>
                <a:gridCol w="144648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-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8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24000" y="5661000"/>
            <a:ext cx="230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uente B.C.R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* Al 7 de noviem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95280" y="1671480"/>
            <a:ext cx="8280360" cy="44942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Balanz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6165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Cuenta Capital y Financiera vs. Balance Comer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1341360"/>
          <a:ext cx="856944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569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6492960" y="4948200"/>
            <a:ext cx="2555640" cy="129708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ida de 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cumul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$S 15.571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6165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499520" cy="45072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Reservas BCRA (en U$S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6165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126828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632720" cy="50472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ituación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Peor crisis internacional desde 1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La crisis financiera derivó en recesión 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Los países desarrollados han hecho poco y nada para salir de la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3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7d"/>
                </a:solidFill>
                <a:latin typeface="Arial"/>
              </a:rPr>
              <a:t>Argentina esta mejor preparada pero debe reforzar sus escu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3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erspectiva Internacional: Consideracione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765000"/>
            <a:ext cx="86407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La crisis resalta la necesidad de una mayor regulación global…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contar con una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verdader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forma de la arquitectura financiera glob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rear un ente que cumpla la función de regular, coordinar y supervisar al mercado de capitales (incluyendo calificadoras de riesgo, hedge fund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pensar el rol del FMI en la economía mundi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yor control de los movimientos de capitales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rol paraísos off 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ar Basile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ecesidad de políticas keynesianas de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49952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erspectivas Locales: Consideraciones F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crisis no repercutirá en la Argentina como impactó el “Tequila” o la crisis del sudeste asiá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se debe a la fortaleza fiscal, superávit externo, acumulación de reservas, ausencia de burbujas, bajo apalancamiento y escasa profundidad  sector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global se hará sentir en los precios de las materias primas que reducirán el superávit comercial. Sin embargo, las importaciones también descenderán. El efecto total dependerá de las elasticidades. </a:t>
            </a: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Hay que cuidar equilibrio 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nte la caída de la demanda privada, se necesitarán políticas fiscales anticíclicas para mantener la senda del crecimiento. </a:t>
            </a: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e debe cuidar el emp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mercado de capitales debe servir a la producción y no ser fuente de elusiones a normas cambiarias e impositivas o aprovechar exenciones sin fines ú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l Estado deberá </a:t>
            </a:r>
            <a:r>
              <a:rPr b="1" i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orientar el crédito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al sector productivo y al consumo junto con una política de fuerte desarrollo de la infraestructura (ferrocarril, puertos, rutas, energía). La reforma previsional es una oportunidad de hacer lo que los AFJP no hici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Unicode MS"/>
              </a:rPr>
              <a:t>Perspectivas de la Economía y el Mercado de Capitales global y local</a:t>
            </a: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 Unicode MS"/>
              </a:rPr>
              <a:t>Lic. Alejandro Vanoli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Arial Unicode MS"/>
              </a:rPr>
              <a:t> Vicepresidente CN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3399"/>
          </a:solidFill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rcRect l="12356" t="27366" r="72886" b="64759"/>
          <a:stretch/>
        </p:blipFill>
        <p:spPr>
          <a:xfrm>
            <a:off x="3780000" y="4653000"/>
            <a:ext cx="2457360" cy="10713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25892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92199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determinantes de la crisis financie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4760" y="1631880"/>
            <a:ext cx="6073560" cy="4440240"/>
          </a:xfrm>
          <a:prstGeom prst="ellipse">
            <a:avLst/>
          </a:prstGeom>
          <a:noFill/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181480"/>
            <a:ext cx="2984400" cy="14241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36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beralización Financiera/Procic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3139920"/>
            <a:ext cx="2549520" cy="14241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1836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regul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Auto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3440" y="3139920"/>
            <a:ext cx="2536920" cy="14241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36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líticas Macro/ Desequilibrio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1268280"/>
            <a:ext cx="2892600" cy="13050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36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re Apalanc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3581280"/>
            <a:ext cx="585720" cy="552600"/>
          </a:xfrm>
          <a:prstGeom prst="rightArrow">
            <a:avLst>
              <a:gd name="adj1" fmla="val 50000"/>
              <a:gd name="adj2" fmla="val 26498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286880" y="4823640"/>
            <a:ext cx="493920" cy="511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239360" y="2364480"/>
            <a:ext cx="588960" cy="511200"/>
          </a:xfrm>
          <a:prstGeom prst="rightArrow">
            <a:avLst>
              <a:gd name="adj1" fmla="val 50000"/>
              <a:gd name="adj2" fmla="val 28803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38680" y="3581280"/>
            <a:ext cx="671760" cy="552600"/>
          </a:xfrm>
          <a:prstGeom prst="rightArrow">
            <a:avLst>
              <a:gd name="adj1" fmla="val 50000"/>
              <a:gd name="adj2" fmla="val 30391"/>
            </a:avLst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895480"/>
            <a:ext cx="2209680" cy="19051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 burb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risis Subprime: Origen y efectos a nivel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4640" y="1268280"/>
            <a:ext cx="1297080" cy="576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3360" y="155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28640" y="112392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isis del Sector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9920" y="1339920"/>
            <a:ext cx="1657440" cy="64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lítica Mone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xpansion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9960" y="11811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81600" y="1325520"/>
            <a:ext cx="1008000" cy="289080"/>
            <a:chOff x="4881600" y="1325520"/>
            <a:chExt cx="1008000" cy="289080"/>
          </a:xfrm>
        </p:grpSpPr>
        <p:sp>
          <p:nvSpPr>
            <p:cNvPr id="142" name=""/>
            <p:cNvSpPr/>
            <p:nvPr/>
          </p:nvSpPr>
          <p:spPr>
            <a:xfrm>
              <a:off x="4881600" y="16146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9040" y="13255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093000" y="1123920"/>
            <a:ext cx="158256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a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réditos Hipotecario Ba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érminos y Condiciones La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093000" y="112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3000" y="15555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9720" y="1052640"/>
            <a:ext cx="287280" cy="2376360"/>
          </a:xfrm>
          <a:custGeom>
            <a:avLst/>
            <a:gdLst>
              <a:gd name="textAreaLeft" fmla="*/ 0 w 287280"/>
              <a:gd name="textAreaRight" fmla="*/ 103680 w 28728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39920" y="2995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77000" y="1052640"/>
            <a:ext cx="144360" cy="2303280"/>
          </a:xfrm>
          <a:custGeom>
            <a:avLst/>
            <a:gdLst>
              <a:gd name="textAreaLeft" fmla="*/ 92160 w 144360"/>
              <a:gd name="textAreaRight" fmla="*/ 144360 w 14436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9920" y="2637000"/>
            <a:ext cx="1863720" cy="64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rtfolios de Crédi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ltamente riesgo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89000" y="2924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0280" y="2637000"/>
            <a:ext cx="1584360" cy="64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redit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11240" y="212076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entidades financieras vendieron sus portofol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0280" y="3355920"/>
            <a:ext cx="17287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novación de Productos Estructu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CDOs, CD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6280" y="4508640"/>
            <a:ext cx="151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uando la economía comienza a recuperars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4640" y="4437000"/>
            <a:ext cx="1503360" cy="1224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77000" y="2852640"/>
            <a:ext cx="1403640" cy="58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Burbuja de Pre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1628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9920" y="43639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92280" y="450864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581360"/>
            <a:ext cx="1582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a de Propie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400" y="49737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73360" y="4292640"/>
            <a:ext cx="287280" cy="9349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0640" y="4435560"/>
            <a:ext cx="280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ra en lo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exto altamente riesg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 ACC comienzan a reducir la calificación a los   C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932280" y="44355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29264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9360" y="4579920"/>
            <a:ext cx="1584360" cy="431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Fly to qualit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2172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184464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cios Propie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5229360"/>
            <a:ext cx="26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a la Economí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risis financiera y de Liqui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olución Índices Bursá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2060640"/>
          <a:ext cx="864072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4072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11280" y="126828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rcada tendencia bajista desde May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59500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stricción de liquidez: Evolución Tasa Libor 6 m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838160"/>
          <a:ext cx="8424720" cy="43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38160"/>
                    <a:ext cx="842472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11280" y="1268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Libor a 6 meses oscila dentro de las bandas de 6.4 y 6.8, muy por encima de las tasas observadas  hasta e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6093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: 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4388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sector financiero sufre la crisis: Evolución Acción Citi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200" y="1085760"/>
            <a:ext cx="902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337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570800" cy="523800"/>
          </a:xfrm>
          <a:prstGeom prst="rect">
            <a:avLst/>
          </a:prstGeom>
          <a:solidFill>
            <a:srgbClr val="333399">
              <a:alpha val="3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ercados Emergentes y Desarrollados: Spreads de Bonos Corporativos y Soberanos, 1998-2008 </a:t>
            </a:r>
            <a:r>
              <a:rPr b="1" lang="es-MX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MX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(Puntos Bás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52640"/>
            <a:ext cx="8713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59:54Z</dcterms:created>
  <dc:creator>acerrato</dc:creator>
  <dc:description/>
  <dc:language>en-US</dc:language>
  <cp:lastModifiedBy>cnv</cp:lastModifiedBy>
  <dcterms:modified xsi:type="dcterms:W3CDTF">2008-11-21T11:53:54Z</dcterms:modified>
  <cp:revision>262</cp:revision>
  <dc:subject/>
  <dc:title>Diapositiva 1</dc:title>
</cp:coreProperties>
</file>