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0120" y="-360"/>
            <a:ext cx="2928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09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96400" y="4707000"/>
            <a:ext cx="4975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28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0120" y="9407160"/>
            <a:ext cx="2928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B8F-851D-456D-9427-0B5AB57A7D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84F0DAD-4686-4360-B4FC-CB96BFD821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C03A80F-D3A4-44D0-90DF-5D994F8EF0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593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33640" y="941076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0D8CD11-F9CE-45D6-920B-2E4F79D0CDEB}" type="slidenum"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091F50A-AD68-468D-98C9-C142C92177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7C7B86-04B7-4693-8258-245A7F1BE8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B7E8AC9-6FD6-41F3-8222-EAACEDDCFBD2}" type="slidenum"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271D32A-80D5-42C1-AD2D-A82E1057C8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01440" y="4703400"/>
            <a:ext cx="49654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1D1746C-8F3B-4555-A3B3-45D6760F94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01440" y="4703400"/>
            <a:ext cx="49654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3544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E2892FA-EE33-468B-92C7-32255083717F}" type="slidenum"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33640" y="941076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2F3-8FBB-4C7C-A710-8F20E04091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33640" y="941076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0280516-0C1E-41E1-9D4B-2D4E7FFA94AD}" type="slidenum"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33640" y="941076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D064340-372C-4F5D-80C3-1FE91069FB7B}" type="slidenum"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33640" y="941076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1C7E-BD9C-4FE2-ABEF-8E3B0286A4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65480" cy="4457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220-B07C-4561-BD7F-1E763B4E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361-092E-40A9-B17B-CD8A312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940-D7D3-4EC4-BF87-1127A5A6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EE6-8EFE-4F8A-B10F-60C9F0BA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C56-0120-42C0-ADF7-311462D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40E-E9DD-4124-8334-F7B78858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F66-643E-4BB5-84B8-29332D38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482-FA5C-44EF-B0FB-2DD3ECC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23A-989D-45FA-A2CC-CA271C8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717-7C9D-433D-9CC4-5AFFFE3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12B-0BF4-4B1C-AAB1-6EBCADA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BA0-5353-4668-9987-6A6D353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" name=""/>
            <p:cNvSpPr/>
            <p:nvPr/>
          </p:nvSpPr>
          <p:spPr>
            <a:xfrm>
              <a:off x="4572000" y="0"/>
              <a:ext cx="4572000" cy="836640"/>
            </a:xfrm>
            <a:prstGeom prst="rect">
              <a:avLst/>
            </a:prstGeom>
            <a:solidFill>
              <a:srgbClr val="082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4572000" cy="83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360360" y="115920"/>
              <a:ext cx="28432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69D6-DD10-4C0A-A550-46E117831D13}" type="slidenum">
              <a:rPr b="0" lang="es-E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09680" y="1254240"/>
            <a:ext cx="472464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gentina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sis Financiera Internacional y Política Mone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6000" y="3645000"/>
            <a:ext cx="7416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Hernán Lacunz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Gerente Gen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Banco Central de la República Argent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onsejo Profesional de Ciencias Económicas                             de la Ciudad Autónoma de Buenos Ai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19 de noviembre de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08000" y="1413000"/>
            <a:ext cx="8893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ducción del pánico, pero persiste la vola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Impacto en el balance del sistema financiero (riesgo de colapso del créd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Impacto en economía real: ¿Gran Depresión? ¿V, U, 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Impacto en economías emer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981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e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4500720" cy="278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Crisis financiera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50760" y="3370320"/>
            <a:ext cx="46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vision proyecciones mundiales del FMI en novi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4678200" y="3716280"/>
            <a:ext cx="4465800" cy="1951200"/>
            <a:chOff x="4678200" y="3716280"/>
            <a:chExt cx="4465800" cy="1951200"/>
          </a:xfrm>
        </p:grpSpPr>
        <p:sp>
          <p:nvSpPr>
            <p:cNvPr id="709" name=""/>
            <p:cNvSpPr/>
            <p:nvPr/>
          </p:nvSpPr>
          <p:spPr>
            <a:xfrm>
              <a:off x="4678200" y="4350960"/>
              <a:ext cx="3797280" cy="10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55880" y="3828600"/>
              <a:ext cx="49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 (oct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44480" y="3837240"/>
              <a:ext cx="518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(nov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583480" y="389592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if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05920" y="4349880"/>
              <a:ext cx="49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Mu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93480" y="43610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180640" y="43610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737920" y="436104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00160" y="467388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conomías avanz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93480" y="4673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38160" y="4673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737920" y="4673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00160" y="48268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93480" y="4826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38160" y="4826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737920" y="4826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01240" y="49849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Euroz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93480" y="49849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38160" y="49849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7920" y="49849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98360" y="5297760"/>
              <a:ext cx="284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conomías emergentes y en desarro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93480" y="52977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s-E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80640" y="52977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737920" y="52977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00880" y="546912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Latinoamé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3480" y="5469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80640" y="54691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37920" y="54691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3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78200" y="3716280"/>
              <a:ext cx="446580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78200" y="4189320"/>
              <a:ext cx="446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78200" y="5635440"/>
              <a:ext cx="4465800" cy="2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EAD-3F92-4B5E-940B-C366ADB905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5657400" y="227016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istema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2000" y="1339920"/>
            <a:ext cx="360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nomías Avanza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74280" y="1339920"/>
            <a:ext cx="404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conomías en Desarro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01560" y="569916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conomía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3920" y="5880240"/>
            <a:ext cx="152388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86200" y="24512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40" idx="3"/>
            <a:endCxn id="743" idx="3"/>
          </p:cNvCxnSpPr>
          <p:nvPr/>
        </p:nvCxnSpPr>
        <p:spPr>
          <a:xfrm flipH="1">
            <a:off x="7992360" y="2468160"/>
            <a:ext cx="189720" cy="3429720"/>
          </a:xfrm>
          <a:prstGeom prst="curvedConnector5">
            <a:avLst>
              <a:gd name="adj1" fmla="val -311596"/>
              <a:gd name="adj2" fmla="val 50000"/>
              <a:gd name="adj3" fmla="val -311596"/>
            </a:avLst>
          </a:prstGeom>
          <a:ln w="698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740" idx="1"/>
            <a:endCxn id="743" idx="1"/>
          </p:cNvCxnSpPr>
          <p:nvPr/>
        </p:nvCxnSpPr>
        <p:spPr>
          <a:xfrm flipH="1" flipV="1" rot="10800000">
            <a:off x="5727240" y="2467440"/>
            <a:ext cx="316800" cy="3429720"/>
          </a:xfrm>
          <a:prstGeom prst="curvedConnector5">
            <a:avLst>
              <a:gd name="adj1" fmla="val -155745"/>
              <a:gd name="adj2" fmla="val 50000"/>
              <a:gd name="adj3" fmla="val -155745"/>
            </a:avLst>
          </a:prstGeom>
          <a:ln w="8244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748" name=""/>
          <p:cNvSpPr/>
          <p:nvPr/>
        </p:nvSpPr>
        <p:spPr>
          <a:xfrm>
            <a:off x="704520" y="21938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istema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48320" y="562284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conomía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/>
          <p:nvPr/>
        </p:nvCxnSpPr>
        <p:spPr>
          <a:xfrm flipV="1" rot="10800000">
            <a:off x="610560" y="2420640"/>
            <a:ext cx="189720" cy="3429720"/>
          </a:xfrm>
          <a:prstGeom prst="curvedConnector5">
            <a:avLst>
              <a:gd name="adj1" fmla="val 367110"/>
              <a:gd name="adj2" fmla="val 50000"/>
              <a:gd name="adj3" fmla="val 367110"/>
            </a:avLst>
          </a:prstGeom>
          <a:ln w="6984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751" name=""/>
          <p:cNvCxnSpPr/>
          <p:nvPr/>
        </p:nvCxnSpPr>
        <p:spPr>
          <a:xfrm>
            <a:off x="3202560" y="2419920"/>
            <a:ext cx="316440" cy="3429720"/>
          </a:xfrm>
          <a:prstGeom prst="curvedConnector5">
            <a:avLst>
              <a:gd name="adj1" fmla="val 203986"/>
              <a:gd name="adj2" fmla="val 50000"/>
              <a:gd name="adj3" fmla="val 203986"/>
            </a:avLst>
          </a:prstGeom>
          <a:ln w="507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3608640" y="2438280"/>
            <a:ext cx="182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 MT"/>
              </a:rPr>
              <a:t>Sudden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0000"/>
                </a:solidFill>
                <a:latin typeface="Gill Sans MT"/>
              </a:rPr>
              <a:t>(financie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0000"/>
                </a:solidFill>
                <a:latin typeface="Gill Sans MT"/>
              </a:rPr>
              <a:t>precios de activ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0000"/>
                </a:solidFill>
                <a:latin typeface="Gill Sans MT"/>
              </a:rPr>
              <a:t>riesgo sober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603252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aída en demanda de exportaciones y términos de intercambio (comer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0000" y="367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17200" y="191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7200" y="5346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924360" y="364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17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534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372420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spuestas de Po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40360" y="3851280"/>
            <a:ext cx="215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espuestas de Polí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ill Sans MT"/>
              </a:rPr>
              <a:t>(menor espacio para políticas anticícl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3429000"/>
            <a:ext cx="2808360" cy="1224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51640" y="3716280"/>
            <a:ext cx="25779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1593720"/>
            <a:ext cx="1600200" cy="6480"/>
          </a:xfrm>
          <a:prstGeom prst="line">
            <a:avLst/>
          </a:prstGeom>
          <a:ln w="698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34640" y="1057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conta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Transmisión de la cr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81B-BC23-42AF-8030-66A63BCA8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5867280" y="2362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76320" y="2449440"/>
            <a:ext cx="4495680" cy="3284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4648320" y="24922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0600" y="1125360"/>
            <a:ext cx="87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Impacto de la crisis sobre economías en desarrollo: menores prec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de commodities y salida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4ED-7CAB-4DA4-BB4F-427D602F53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08320" y="1166760"/>
            <a:ext cx="80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rgentina: enfrentando las turbulencias en mejore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que en el 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7640" y="256536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gentina: resultados fiscal y externo y reservas intern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32000" y="2924280"/>
            <a:ext cx="6916680" cy="2952720"/>
            <a:chOff x="1332000" y="2924280"/>
            <a:chExt cx="6916680" cy="2952720"/>
          </a:xfrm>
        </p:grpSpPr>
        <p:sp>
          <p:nvSpPr>
            <p:cNvPr id="774" name=""/>
            <p:cNvSpPr/>
            <p:nvPr/>
          </p:nvSpPr>
          <p:spPr>
            <a:xfrm>
              <a:off x="1375200" y="2924280"/>
              <a:ext cx="141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(En % del PI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92640" y="3286080"/>
              <a:ext cx="925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Tequila </a:t>
              </a:r>
              <a:r>
                <a:rPr b="1" lang="es-AR" sz="17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40560" y="3286080"/>
              <a:ext cx="81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Brasil 19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87040" y="3286080"/>
              <a:ext cx="723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</a:rPr>
                <a:t>EE.UU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73040" y="397836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Rdo. Primario SP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96120" y="397836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0,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09120" y="397836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0,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96560" y="397836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3,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73040" y="4496040"/>
              <a:ext cx="203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Rdo. Financiero SP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21600" y="449604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-0,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34600" y="4496040"/>
              <a:ext cx="564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96560" y="44960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1,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75200" y="4991040"/>
              <a:ext cx="2164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Rdo. Cuenta Corrien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21600" y="499104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-4,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34600" y="4991040"/>
              <a:ext cx="564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96560" y="49910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2,8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32000" y="3184560"/>
              <a:ext cx="6916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2000" y="3818160"/>
              <a:ext cx="6916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32000" y="5834160"/>
              <a:ext cx="69166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96080" y="5465880"/>
              <a:ext cx="243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ervas internacional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44640" y="5465880"/>
              <a:ext cx="551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09120" y="546588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65160" y="5465880"/>
              <a:ext cx="613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s-AR" sz="17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CD9-F5FD-410B-89CA-77DB1E839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140000" y="43920"/>
            <a:ext cx="52671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Argentina: </a:t>
            </a:r>
            <a:br>
              <a:rPr sz="2000"/>
            </a:b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Régimen Monetario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Régimen monetario y cambia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Prevenir accidentes, no curar heridas: administración de riesg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Sin emisión monetaria para financiar al Teso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Regulación Financi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Profundidad financiera no se consigue con ataj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.Desdolarización: descalce de mone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.Exposición al sector públ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Times New Roman"/>
              </a:rPr>
              <a:t>Liquidez y solv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034-59EC-4779-8E6A-AC3CD6A236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E27-D8A1-483C-9971-039DA69BB976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051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2"/>
          <p:cNvSpPr/>
          <p:nvPr/>
        </p:nvSpPr>
        <p:spPr>
          <a:xfrm>
            <a:off x="0" y="112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a cobertura de las reservas internacionales es alta en  términos histó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723000" cy="476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369-7DED-44D1-9186-A6C213D5C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1332000" y="2386080"/>
            <a:ext cx="6156360" cy="447192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250920" y="981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 imperativo: no ganar profundidad financiera a costa de frag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5600" y="6451560"/>
            <a:ext cx="2587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: Bebczuk (200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63640" y="1647720"/>
            <a:ext cx="5616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Crecimiento real del crédito bancario privado antes y después de 20 crisis financieras en AL, 1980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71F-7618-47AB-B259-A4EA67000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1008360" y="925560"/>
            <a:ext cx="7657920" cy="4869720"/>
            <a:chOff x="1008360" y="925560"/>
            <a:chExt cx="7657920" cy="4869720"/>
          </a:xfrm>
        </p:grpSpPr>
        <p:sp>
          <p:nvSpPr>
            <p:cNvPr id="80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4200" y="3433680"/>
              <a:ext cx="147600" cy="69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64200" y="3244680"/>
              <a:ext cx="295200" cy="1400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64200" y="3054240"/>
              <a:ext cx="442800" cy="209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64200" y="2863800"/>
              <a:ext cx="588960" cy="281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4200" y="2674800"/>
              <a:ext cx="736560" cy="351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64200" y="2484360"/>
              <a:ext cx="884160" cy="4222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64200" y="2295360"/>
              <a:ext cx="1033200" cy="49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64200" y="2104920"/>
              <a:ext cx="1179360" cy="561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64200" y="1916280"/>
              <a:ext cx="1326960" cy="633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11800" y="3503520"/>
              <a:ext cx="37800" cy="162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559400" y="3384720"/>
              <a:ext cx="73080" cy="322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07000" y="3263760"/>
              <a:ext cx="111240" cy="486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853160" y="3144960"/>
              <a:ext cx="150480" cy="647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0760" y="3025800"/>
              <a:ext cx="187200" cy="81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48360" y="2906640"/>
              <a:ext cx="225360" cy="971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97400" y="2786040"/>
              <a:ext cx="262080" cy="1135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43560" y="2666880"/>
              <a:ext cx="299880" cy="1297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91160" y="2549520"/>
              <a:ext cx="336600" cy="14572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346640" y="3665520"/>
              <a:ext cx="102960" cy="127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430880" y="3706920"/>
              <a:ext cx="201600" cy="2556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512960" y="3749760"/>
              <a:ext cx="304920" cy="384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597560" y="3792600"/>
              <a:ext cx="406080" cy="511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681080" y="3836880"/>
              <a:ext cx="506520" cy="63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763880" y="3878280"/>
              <a:ext cx="609480" cy="766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846680" y="3921120"/>
              <a:ext cx="712800" cy="8938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929120" y="3963960"/>
              <a:ext cx="814320" cy="1022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013360" y="4006800"/>
              <a:ext cx="914400" cy="11494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181040" y="3792600"/>
              <a:ext cx="1652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098960" y="3962520"/>
              <a:ext cx="33192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014360" y="4133880"/>
              <a:ext cx="4986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932280" y="4303800"/>
              <a:ext cx="6652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847680" y="4473720"/>
              <a:ext cx="8334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763440" y="4645080"/>
              <a:ext cx="10004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681000" y="4815000"/>
              <a:ext cx="116532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598560" y="4986360"/>
              <a:ext cx="1330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514320" y="5156280"/>
              <a:ext cx="14986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4079880" y="3665160"/>
              <a:ext cx="101520" cy="127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3895200" y="3706920"/>
              <a:ext cx="203400" cy="2556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3710160" y="3749400"/>
              <a:ext cx="304560" cy="3841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524040" y="3792600"/>
              <a:ext cx="407880" cy="511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3339720" y="3836520"/>
              <a:ext cx="507960" cy="63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3156120" y="3878280"/>
              <a:ext cx="607680" cy="766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2968560" y="3920760"/>
              <a:ext cx="712800" cy="8938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2786040" y="3963960"/>
              <a:ext cx="812880" cy="1022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2600280" y="4006440"/>
              <a:ext cx="914400" cy="11494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079880" y="3503520"/>
              <a:ext cx="38160" cy="162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895560" y="3384360"/>
              <a:ext cx="73080" cy="3222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710160" y="3263760"/>
              <a:ext cx="110880" cy="486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524400" y="3144600"/>
              <a:ext cx="150840" cy="647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340080" y="3025440"/>
              <a:ext cx="187200" cy="81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156120" y="2906280"/>
              <a:ext cx="223560" cy="971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968560" y="2785680"/>
              <a:ext cx="262080" cy="1135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2786040" y="2666520"/>
              <a:ext cx="298440" cy="1297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600280" y="2549520"/>
              <a:ext cx="338040" cy="14572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4200" y="362268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118040" y="3433680"/>
              <a:ext cx="146160" cy="69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968640" y="3244320"/>
              <a:ext cx="295560" cy="1400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821040" y="3054240"/>
              <a:ext cx="443160" cy="209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675240" y="2863440"/>
              <a:ext cx="588960" cy="281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527280" y="2674440"/>
              <a:ext cx="736920" cy="3510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379680" y="2484000"/>
              <a:ext cx="884520" cy="4222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3230640" y="2295000"/>
              <a:ext cx="1033560" cy="49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3084480" y="2104560"/>
              <a:ext cx="1179720" cy="561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938320" y="1915920"/>
              <a:ext cx="1325880" cy="633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264200" y="1916280"/>
              <a:ext cx="0" cy="170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4264200" y="2547720"/>
              <a:ext cx="1326960" cy="107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64200" y="3622680"/>
              <a:ext cx="1665000" cy="38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64200" y="3622680"/>
              <a:ext cx="749160" cy="153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514680" y="3622680"/>
              <a:ext cx="749520" cy="153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600280" y="3622680"/>
              <a:ext cx="1663920" cy="38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2936520" y="2547720"/>
              <a:ext cx="1327320" cy="107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64200" y="2295360"/>
              <a:ext cx="736560" cy="73044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817880" y="3025800"/>
              <a:ext cx="182520" cy="72396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680000" y="3749760"/>
              <a:ext cx="138240" cy="72396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31920" y="4303800"/>
              <a:ext cx="747720" cy="16992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894120" y="3706920"/>
              <a:ext cx="38160" cy="59688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>
              <a:off x="3379320" y="2906280"/>
              <a:ext cx="514440" cy="80028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3379680" y="2295360"/>
              <a:ext cx="884520" cy="61128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64200" y="2674800"/>
              <a:ext cx="736560" cy="35100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00760" y="3025800"/>
              <a:ext cx="187200" cy="81108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679640" y="3836880"/>
              <a:ext cx="507960" cy="63684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847680" y="4473720"/>
              <a:ext cx="831960" cy="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339720" y="3836520"/>
              <a:ext cx="507960" cy="63684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3340080" y="3025440"/>
              <a:ext cx="187200" cy="81108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527280" y="2674440"/>
              <a:ext cx="736920" cy="35100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64200" y="2295360"/>
              <a:ext cx="147600" cy="120816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1800" y="3503520"/>
              <a:ext cx="37800" cy="16200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49600" y="3665520"/>
              <a:ext cx="147960" cy="63828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4181400" y="3792600"/>
              <a:ext cx="416160" cy="51120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4079880" y="3665160"/>
              <a:ext cx="101520" cy="12708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3673080" y="3144960"/>
              <a:ext cx="406440" cy="52056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673440" y="2295360"/>
              <a:ext cx="590760" cy="84960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16320" y="2627280"/>
              <a:ext cx="93600" cy="936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54680" y="2978280"/>
              <a:ext cx="92160" cy="936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41880" y="3789360"/>
              <a:ext cx="92160" cy="9216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32480" y="4427640"/>
              <a:ext cx="93600" cy="91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01960" y="4427640"/>
              <a:ext cx="92160" cy="91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92560" y="3789360"/>
              <a:ext cx="93600" cy="9216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79760" y="2978280"/>
              <a:ext cx="93600" cy="936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76640" y="92556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81400" y="1208160"/>
              <a:ext cx="58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092480" y="353844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92480" y="334980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92480" y="316080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92480" y="297036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92480" y="278136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92480" y="259092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92480" y="240192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92480" y="221148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92480" y="202248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92480" y="1832040"/>
              <a:ext cx="119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27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47760" y="1592280"/>
              <a:ext cx="7092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Liquide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04480" y="2298600"/>
              <a:ext cx="27756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rédito al sector público / Activo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19960" y="251784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48640" y="3798720"/>
              <a:ext cx="2717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rédito al sector privado / Activo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42160" y="401796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70520" y="4981680"/>
              <a:ext cx="3478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recimiento anual crédito al sector pri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02480" y="520056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08360" y="4981680"/>
              <a:ext cx="2533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artera irregular  sector pri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2640" y="5200560"/>
              <a:ext cx="1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68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23720" y="3908520"/>
              <a:ext cx="3783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RO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88800" y="2408400"/>
              <a:ext cx="14770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Capitales míni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95560" y="5680080"/>
              <a:ext cx="233280" cy="0"/>
            </a:xfrm>
            <a:prstGeom prst="line">
              <a:avLst/>
            </a:prstGeom>
            <a:ln w="27000">
              <a:solidFill>
                <a:srgbClr val="f200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49640" y="5594400"/>
              <a:ext cx="19587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rgentina (promedio=4..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38360" y="5680080"/>
              <a:ext cx="233640" cy="0"/>
            </a:xfrm>
            <a:prstGeom prst="line">
              <a:avLst/>
            </a:prstGeom>
            <a:ln w="27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08200" y="5632560"/>
              <a:ext cx="92160" cy="936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47880" y="5594400"/>
              <a:ext cx="15199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LA (prom. –sin Arg.-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788080" y="5680080"/>
              <a:ext cx="233280" cy="0"/>
            </a:xfrm>
            <a:prstGeom prst="line">
              <a:avLst/>
            </a:prstGeom>
            <a:ln w="27000">
              <a:solidFill>
                <a:srgbClr val="babe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27400" y="5594400"/>
              <a:ext cx="242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374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rgentina 2004 (promedio = 2..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95280" y="623736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ill Sans MT"/>
              </a:rPr>
              <a:t>Fuente: Bancos Centrales, Agencias de Supervisión y F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4000" y="887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Política financiera del BCRA: indicadores convergen a valores de L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Sistema financiero argenti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7F8-908C-4F4F-9542-1C20F29D30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533520" y="1197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Política financiera del BCRA: cambio en la estructura de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836640" y="1724040"/>
            <a:ext cx="7240680" cy="50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9BF-4656-484E-AC16-06C19446E1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8502-1692-4274-8CEF-45C4398EEFB4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051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4920" y="1197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Política financiera del BCRA: cambio en la estructura de pas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1065240" y="1676520"/>
            <a:ext cx="7240680" cy="50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C85-8E7B-4214-B1DE-4C3C99005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000" y="1341360"/>
            <a:ext cx="88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diciones iniciales: entorno macro-micro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longada fase expan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Insuficiente regulación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liferación innovaciones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odelo de negocios bancario: “originar y distribu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Factores de propa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gnitud del 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istema financiero en las som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pacidad de nuevos instrumentos: dificultad para localizar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ánico: exceso de oferta de activos agravó apalanc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Una “tormenta perfect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507-6DD7-4E31-A1AA-B478B2A763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1042920" y="90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Política financiera del BCRA: desdo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2840" y="2197080"/>
            <a:ext cx="8901000" cy="3136680"/>
            <a:chOff x="42840" y="2197080"/>
            <a:chExt cx="8901000" cy="3136680"/>
          </a:xfrm>
        </p:grpSpPr>
        <p:pic>
          <p:nvPicPr>
            <p:cNvPr id="957" name="" descr=""/>
            <p:cNvPicPr/>
            <p:nvPr/>
          </p:nvPicPr>
          <p:blipFill>
            <a:blip r:embed="rId1"/>
            <a:stretch/>
          </p:blipFill>
          <p:spPr>
            <a:xfrm>
              <a:off x="4495680" y="2226960"/>
              <a:ext cx="4448160" cy="31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"/>
            <a:stretch/>
          </p:blipFill>
          <p:spPr>
            <a:xfrm>
              <a:off x="42840" y="2197080"/>
              <a:ext cx="4448160" cy="31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0D7-E2DD-46FF-961A-72F0FFB13B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4D6-4E94-4CE8-8309-08E0D5D3AD76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Política mone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042920" y="1397160"/>
          <a:ext cx="7058160" cy="4547880"/>
        </p:xfrm>
        <a:graphic>
          <a:graphicData uri="http://schemas.openxmlformats.org/drawingml/2006/table">
            <a:tbl>
              <a:tblPr/>
              <a:tblGrid>
                <a:gridCol w="3529080"/>
                <a:gridCol w="352908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s episodios en los últimos 16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uesta del BCRA: estrategia secuen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io - octubre 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 - julio 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iembre – octubre 2008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bilizar el mercado de camb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sa de interé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egurar provisión de liquidez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930-B495-4B30-85AB-36ABEE69F5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B7BC-9A1B-4DBE-A914-0205B9635B1D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228600" y="99072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000000"/>
                </a:solidFill>
                <a:latin typeface="Times New Roman"/>
              </a:rPr>
              <a:t>Flotación administrada: intervención en el mercado de camb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125360" y="2016000"/>
            <a:ext cx="6723360" cy="476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3C0-0E55-49DC-978F-66578F2696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89A-DBC4-4BE0-B649-BFCD420AE5ED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"/>
          <p:cNvSpPr/>
          <p:nvPr/>
        </p:nvSpPr>
        <p:spPr>
          <a:xfrm>
            <a:off x="0" y="888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as tasas de interés se incrementaron durante los dos primeros episodios para estabilizarse en niveles sup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723000" cy="476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694-0249-4872-B209-7928E91ED7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1187280" y="1727280"/>
            <a:ext cx="7237440" cy="5130720"/>
          </a:xfrm>
          <a:prstGeom prst="rect">
            <a:avLst/>
          </a:prstGeom>
          <a:ln w="0">
            <a:noFill/>
          </a:ln>
        </p:spPr>
      </p:pic>
      <p:sp>
        <p:nvSpPr>
          <p:cNvPr id="9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D63-F888-433A-A1FB-1F5AB0948DC8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iquidez bancaria significativamente más alta que en los añ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9"/>
          <p:cNvSpPr/>
          <p:nvPr/>
        </p:nvSpPr>
        <p:spPr>
          <a:xfrm rot="16200000">
            <a:off x="3746520" y="2314080"/>
            <a:ext cx="228600" cy="847800"/>
          </a:xfrm>
          <a:custGeom>
            <a:avLst/>
            <a:gdLst>
              <a:gd name="textAreaLeft" fmla="*/ 0 w 228600"/>
              <a:gd name="textAreaRight" fmla="*/ 82440 w 228600"/>
              <a:gd name="textAreaTop" fmla="*/ 21960 h 847800"/>
              <a:gd name="textAreaBottom" fmla="*/ 82584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3203640" y="2349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1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11"/>
          <p:cNvSpPr/>
          <p:nvPr/>
        </p:nvSpPr>
        <p:spPr>
          <a:xfrm rot="16200000">
            <a:off x="6210360" y="2438280"/>
            <a:ext cx="304560" cy="701640"/>
          </a:xfrm>
          <a:custGeom>
            <a:avLst/>
            <a:gdLst>
              <a:gd name="textAreaLeft" fmla="*/ 0 w 304560"/>
              <a:gd name="textAreaRight" fmla="*/ 109800 w 30456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2"/>
          <p:cNvSpPr/>
          <p:nvPr/>
        </p:nvSpPr>
        <p:spPr>
          <a:xfrm>
            <a:off x="5796000" y="2349360"/>
            <a:ext cx="11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2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13"/>
          <p:cNvSpPr/>
          <p:nvPr/>
        </p:nvSpPr>
        <p:spPr>
          <a:xfrm rot="16200000">
            <a:off x="7489080" y="2456640"/>
            <a:ext cx="287280" cy="648000"/>
          </a:xfrm>
          <a:custGeom>
            <a:avLst/>
            <a:gdLst>
              <a:gd name="textAreaLeft" fmla="*/ 0 w 287280"/>
              <a:gd name="textAreaRight" fmla="*/ 103680 w 28728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4"/>
          <p:cNvSpPr/>
          <p:nvPr/>
        </p:nvSpPr>
        <p:spPr>
          <a:xfrm>
            <a:off x="7020000" y="234936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3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25D-9E31-42DD-B107-9DD818CF8A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237440" cy="51310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4915-F571-4AA5-A5C8-CBE15EAC1844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iquidez bancaria significativamente más alta que en los añ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9"/>
          <p:cNvSpPr/>
          <p:nvPr/>
        </p:nvSpPr>
        <p:spPr>
          <a:xfrm rot="16200000">
            <a:off x="3801960" y="1823760"/>
            <a:ext cx="228600" cy="847800"/>
          </a:xfrm>
          <a:custGeom>
            <a:avLst/>
            <a:gdLst>
              <a:gd name="textAreaLeft" fmla="*/ 0 w 228600"/>
              <a:gd name="textAreaRight" fmla="*/ 82440 w 228600"/>
              <a:gd name="textAreaTop" fmla="*/ 21960 h 847800"/>
              <a:gd name="textAreaBottom" fmla="*/ 82584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0"/>
          <p:cNvSpPr/>
          <p:nvPr/>
        </p:nvSpPr>
        <p:spPr>
          <a:xfrm>
            <a:off x="3276720" y="1844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1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1"/>
          <p:cNvSpPr/>
          <p:nvPr/>
        </p:nvSpPr>
        <p:spPr>
          <a:xfrm rot="16200000">
            <a:off x="6283080" y="2005920"/>
            <a:ext cx="304920" cy="702000"/>
          </a:xfrm>
          <a:custGeom>
            <a:avLst/>
            <a:gdLst>
              <a:gd name="textAreaLeft" fmla="*/ 0 w 304920"/>
              <a:gd name="textAreaRight" fmla="*/ 110160 w 304920"/>
              <a:gd name="textAreaTop" fmla="*/ 18000 h 702000"/>
              <a:gd name="textAreaBottom" fmla="*/ 68400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2"/>
          <p:cNvSpPr/>
          <p:nvPr/>
        </p:nvSpPr>
        <p:spPr>
          <a:xfrm>
            <a:off x="5867280" y="18446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2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3"/>
          <p:cNvSpPr/>
          <p:nvPr/>
        </p:nvSpPr>
        <p:spPr>
          <a:xfrm rot="16200000">
            <a:off x="7626240" y="1958400"/>
            <a:ext cx="299880" cy="649440"/>
          </a:xfrm>
          <a:custGeom>
            <a:avLst/>
            <a:gdLst>
              <a:gd name="textAreaLeft" fmla="*/ 0 w 299880"/>
              <a:gd name="textAreaRight" fmla="*/ 108360 w 2998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7236000" y="18446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3º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8BA-6924-49AE-ADF3-E4535A827C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348-5E17-4419-A9FE-8A25828EE805}" type="slidenum">
              <a:rPr b="0" lang="en-US" sz="14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"/>
          <p:cNvSpPr/>
          <p:nvPr/>
        </p:nvSpPr>
        <p:spPr>
          <a:xfrm>
            <a:off x="12600" y="863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Una estrategia secuencial:  estabilizar el mercado de cambios y proveer liqu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9788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06C-CBB8-40B8-A4D0-DA6F71FA80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Liquidez e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Nuevas líneas de pases activos (tasa fija y variable) y  ampliación de mo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Recompra anticipada de LEBAC y NOBAC: mercado secundario, ventanilla automática y </a:t>
            </a:r>
            <a:r>
              <a:rPr b="0" i="1" lang="es-AR" sz="1800" spc="-1" strike="noStrike">
                <a:solidFill>
                  <a:srgbClr val="000000"/>
                </a:solidFill>
                <a:latin typeface="Times New Roman"/>
              </a:rPr>
              <a:t>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Operaciones de mercado abierto (títulos públ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Ventanilla de pases con colaterales no tradicionales (Bogar y P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Ventanilla de liquidez: precalificación de garantías y ampliación a todas las fuentes de fon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Mayores montos para pases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ómputo del efectivo como enc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osiciones bimestrales para integración de efectivo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Liquidez en dó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ntervención cambi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ases en dó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Mercado de fut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Reducción de encajes en dó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Medidas Complemen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Administración de la cr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486-B7F4-4F1A-BD6A-7C4D8F8C55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La volatilidad cambiaria ha sido inferior a la del resto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7991640" cy="34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0E-63DE-4413-9014-2279766ED4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El tipo de cambio real se mantiene en niveles compet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604000" cy="37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FA8-B192-4151-9437-1CF16EC4AD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49228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nfoque tradicional (episodio de iliquid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ueba y error (Lehman, AIG, agencias hipoteca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acciones competitivas (Irlan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fectos “balsámic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55320" y="12682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ción de política (in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Crisis financiera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6AF-C98C-4704-B9B9-A3DAD5F22DB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Política monetaria y financiera ante la crisis interna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Reservas internacionales: “colchón” de liquide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Tipo de cambio: reducir la volatilidad, sin seguro de camb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Demanda de dinero: rendimiento en pesos (tasa interés) superior a rendimiento en dólares (depreciación esper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strategia secuencial: estabilidad cambiaria, tasas de interés, inyección de liquid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Prestamista de última instancia: abundante y abarcativo, mas no gratui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Liquidez sistémica asegurada (en pesos y dólares) para anticipar la contin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Sistema financiero amortiguador y no propagador de las turbul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"/>
          <p:cNvSpPr/>
          <p:nvPr/>
        </p:nvSpPr>
        <p:spPr>
          <a:xfrm>
            <a:off x="1022400" y="6188040"/>
            <a:ext cx="1681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4572000" y="1364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69C-D306-47CF-8D3A-ED4E3226C9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37960" y="1268280"/>
            <a:ext cx="8585640" cy="5531040"/>
            <a:chOff x="237960" y="1268280"/>
            <a:chExt cx="8585640" cy="5531040"/>
          </a:xfrm>
        </p:grpSpPr>
        <p:sp>
          <p:nvSpPr>
            <p:cNvPr id="61" name=""/>
            <p:cNvSpPr/>
            <p:nvPr/>
          </p:nvSpPr>
          <p:spPr>
            <a:xfrm>
              <a:off x="1082520" y="6324480"/>
              <a:ext cx="3041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293840" y="1758960"/>
              <a:ext cx="6880320" cy="3676680"/>
              <a:chOff x="1293840" y="1758960"/>
              <a:chExt cx="6880320" cy="3676680"/>
            </a:xfrm>
          </p:grpSpPr>
          <p:sp>
            <p:nvSpPr>
              <p:cNvPr id="63" name=""/>
              <p:cNvSpPr/>
              <p:nvPr/>
            </p:nvSpPr>
            <p:spPr>
              <a:xfrm>
                <a:off x="1336680" y="1758960"/>
                <a:ext cx="1440" cy="36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3840" y="539100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93840" y="50277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93840" y="46641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93840" y="430200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93840" y="393696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3840" y="35751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93840" y="32115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93840" y="284796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93840" y="248436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93840" y="212076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93840" y="17589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36680" y="5391000"/>
                <a:ext cx="6837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133668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68588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03508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38284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73204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08124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343044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77820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12740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47660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82616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517536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522760" y="539100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87232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622152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57072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91848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26768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61688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966080" y="539100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71600" y="5292720"/>
                <a:ext cx="69840" cy="32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41440" y="52959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11280" y="5285880"/>
                <a:ext cx="71280" cy="97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82560" y="5286240"/>
                <a:ext cx="684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50960" y="5286240"/>
                <a:ext cx="69840" cy="11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20800" y="529740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790640" y="5289480"/>
                <a:ext cx="69840" cy="79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0480" y="528948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1930320" y="5280120"/>
                <a:ext cx="69840" cy="93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00160" y="528012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70000" y="5280120"/>
                <a:ext cx="69840" cy="61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39840" y="5286240"/>
                <a:ext cx="684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208240" y="5283360"/>
                <a:ext cx="71280" cy="28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79520" y="52833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349360" y="5262480"/>
                <a:ext cx="69840" cy="208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19200" y="5262480"/>
                <a:ext cx="684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487600" y="5250960"/>
                <a:ext cx="69840" cy="11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7440" y="525132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27280" y="5251320"/>
                <a:ext cx="71640" cy="97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5261040"/>
                <a:ext cx="680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766960" y="5250960"/>
                <a:ext cx="69840" cy="97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36800" y="525132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06640" y="525132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76480" y="5251320"/>
                <a:ext cx="71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048120" y="5238360"/>
                <a:ext cx="68040" cy="12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16160" y="523872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86000" y="5238720"/>
                <a:ext cx="69840" cy="64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55840" y="524520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325680" y="5229360"/>
                <a:ext cx="69840" cy="158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95520" y="52293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465360" y="5181120"/>
                <a:ext cx="69840" cy="478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35200" y="518148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05040" y="5181480"/>
                <a:ext cx="68400" cy="590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3440" y="5240520"/>
                <a:ext cx="71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5080" y="524052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14920" y="524052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884760" y="5230440"/>
                <a:ext cx="68040" cy="97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52800" y="523080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022640" y="5203440"/>
                <a:ext cx="71640" cy="270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94280" y="520380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4120" y="5203800"/>
                <a:ext cx="68040" cy="176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32160" y="522144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302000" y="5205600"/>
                <a:ext cx="69840" cy="158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71840" y="520560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441680" y="5200560"/>
                <a:ext cx="69840" cy="50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11520" y="520056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81360" y="5200560"/>
                <a:ext cx="69840" cy="129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51200" y="5213520"/>
                <a:ext cx="702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1400" y="5213520"/>
                <a:ext cx="69840" cy="158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1240" y="52293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861080" y="5214960"/>
                <a:ext cx="69840" cy="144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30920" y="52149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00760" y="5214960"/>
                <a:ext cx="68040" cy="22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68800" y="523728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38640" y="5237280"/>
                <a:ext cx="71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10280" y="523728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280120" y="5229360"/>
                <a:ext cx="68040" cy="79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8160" y="52293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418000" y="522720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87840" y="5227560"/>
                <a:ext cx="71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559480" y="5216040"/>
                <a:ext cx="68040" cy="11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27520" y="521640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697360" y="5175360"/>
                <a:ext cx="70200" cy="410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67560" y="517536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37400" y="5175360"/>
                <a:ext cx="69840" cy="23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7240" y="519912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7080" y="5199120"/>
                <a:ext cx="69840" cy="22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46920" y="522144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116760" y="5219280"/>
                <a:ext cx="680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84800" y="5219640"/>
                <a:ext cx="71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256440" y="5208120"/>
                <a:ext cx="69840" cy="11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26280" y="520848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396120" y="5170320"/>
                <a:ext cx="69840" cy="37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65960" y="5170680"/>
                <a:ext cx="680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534000" y="5167080"/>
                <a:ext cx="69840" cy="32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03840" y="5167440"/>
                <a:ext cx="71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675480" y="5133600"/>
                <a:ext cx="69840" cy="334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45320" y="5133960"/>
                <a:ext cx="684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813720" y="5119560"/>
                <a:ext cx="69840" cy="144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83560" y="511956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953400" y="5106600"/>
                <a:ext cx="71280" cy="12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24680" y="5106960"/>
                <a:ext cx="684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7093080" y="5087520"/>
                <a:ext cx="69840" cy="190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62920" y="508788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32760" y="5087880"/>
                <a:ext cx="69840" cy="46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2600" y="5092560"/>
                <a:ext cx="698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372440" y="5073840"/>
                <a:ext cx="69840" cy="187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42280" y="507384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512120" y="4581360"/>
                <a:ext cx="69840" cy="4921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81960" y="4581720"/>
                <a:ext cx="680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650000" y="4048200"/>
                <a:ext cx="71640" cy="5335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1640" y="4048200"/>
                <a:ext cx="69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7791480" y="2908440"/>
                <a:ext cx="69840" cy="1139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61320" y="2908440"/>
                <a:ext cx="684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929720" y="2225160"/>
                <a:ext cx="69840" cy="6829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99560" y="2225520"/>
                <a:ext cx="712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43160" y="526248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13000" y="5267520"/>
                <a:ext cx="5688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82840" y="5267520"/>
                <a:ext cx="5688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552680" y="5257800"/>
                <a:ext cx="5688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22520" y="525780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92360" y="526896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62200" y="526896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32040" y="526104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0080" y="526104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71720" y="5251320"/>
                <a:ext cx="554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41560" y="5251320"/>
                <a:ext cx="554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111400" y="525780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79800" y="5257800"/>
                <a:ext cx="5688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49640" y="5253120"/>
                <a:ext cx="5688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20920" y="525312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90760" y="523404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59160" y="523404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29000" y="5221440"/>
                <a:ext cx="5688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98840" y="5221440"/>
                <a:ext cx="5688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68680" y="5230800"/>
                <a:ext cx="5688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38520" y="523080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08360" y="5221440"/>
                <a:ext cx="5544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78200" y="5221440"/>
                <a:ext cx="5724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48040" y="5222880"/>
                <a:ext cx="572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17880" y="5222880"/>
                <a:ext cx="572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87720" y="521028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57560" y="521028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27400" y="521640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97240" y="521640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5640" y="5200560"/>
                <a:ext cx="5688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36920" y="5200560"/>
                <a:ext cx="554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06760" y="515304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76600" y="515304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45000" y="5211720"/>
                <a:ext cx="5688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14840" y="521172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86120" y="5211720"/>
                <a:ext cx="5580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55960" y="5211720"/>
                <a:ext cx="5580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24360" y="5202360"/>
                <a:ext cx="5724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94200" y="5202360"/>
                <a:ext cx="57240" cy="5688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64040" y="517536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33880" y="517536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03720" y="519120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73560" y="519120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517680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13240" y="517680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83080" y="517212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2920" y="517212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22760" y="5184720"/>
                <a:ext cx="554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92600" y="5184720"/>
                <a:ext cx="5724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61000" y="520056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30840" y="520056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02120" y="5186520"/>
                <a:ext cx="5580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71960" y="5186520"/>
                <a:ext cx="5580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40360" y="520848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10200" y="520848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80040" y="520848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51320" y="5208480"/>
                <a:ext cx="5580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19720" y="5200560"/>
                <a:ext cx="554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89560" y="520056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59400" y="519912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29240" y="519912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99080" y="518796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68920" y="5187960"/>
                <a:ext cx="554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38760" y="5146560"/>
                <a:ext cx="554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08600" y="5146560"/>
                <a:ext cx="57240" cy="5580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77000" y="517068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48280" y="5170680"/>
                <a:ext cx="5580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18120" y="5191200"/>
                <a:ext cx="5580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87960" y="5191200"/>
                <a:ext cx="55800" cy="572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56360" y="519120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26200" y="5191200"/>
                <a:ext cx="57240" cy="55440"/>
              </a:xfrm>
              <a:prstGeom prst="rect">
                <a:avLst/>
              </a:prstGeom>
              <a:solidFill>
                <a:srgbClr val="0000ff"/>
              </a:solidFill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297480" y="518004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67320" y="518004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37160" y="5141880"/>
              <a:ext cx="5580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05560" y="5141880"/>
              <a:ext cx="572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5138640"/>
              <a:ext cx="57240" cy="558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5240" y="5138640"/>
              <a:ext cx="57240" cy="558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16880" y="5105520"/>
              <a:ext cx="554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4920" y="5105520"/>
              <a:ext cx="554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4760" y="5091120"/>
              <a:ext cx="572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24600" y="5091120"/>
              <a:ext cx="572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94440" y="507852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4280" y="507852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34120" y="5057640"/>
              <a:ext cx="5580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3960" y="5057640"/>
              <a:ext cx="572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3800" y="506412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42200" y="506412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13480" y="504504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83320" y="504504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3160" y="4552920"/>
              <a:ext cx="5580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560" y="455292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1400" y="4019400"/>
              <a:ext cx="572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63040" y="4019400"/>
              <a:ext cx="55440" cy="572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32880" y="2879640"/>
              <a:ext cx="55440" cy="558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0920" y="2879640"/>
              <a:ext cx="57240" cy="5580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70760" y="219708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40600" y="2197080"/>
              <a:ext cx="57240" cy="5544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74160" y="1758960"/>
              <a:ext cx="1440" cy="36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31320" y="539100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31320" y="478476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31320" y="417996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31320" y="357516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1320" y="296856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31320" y="236376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1320" y="175896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16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144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11280" y="2212920"/>
              <a:ext cx="7128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82560" y="2212920"/>
              <a:ext cx="684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509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08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064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6048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3032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01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700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9840" y="2212920"/>
              <a:ext cx="684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08240" y="2212920"/>
              <a:ext cx="7128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952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493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9200" y="2212920"/>
              <a:ext cx="684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876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5744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27280" y="2212920"/>
              <a:ext cx="716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98920" y="2212920"/>
              <a:ext cx="680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69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368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0664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76480" y="2212920"/>
              <a:ext cx="716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8120" y="2212920"/>
              <a:ext cx="680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161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860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5584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568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9552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6536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3520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05040" y="2212920"/>
              <a:ext cx="684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3440" y="2212920"/>
              <a:ext cx="716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4508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14920" y="22129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84760" y="2212920"/>
              <a:ext cx="68040" cy="3016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52800" y="251460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22640" y="2514600"/>
              <a:ext cx="716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94280" y="251460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64120" y="2514600"/>
              <a:ext cx="680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32160" y="251460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02000" y="2514600"/>
              <a:ext cx="69840" cy="1522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71840" y="266688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41680" y="266688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11520" y="266688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1360" y="266688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51200" y="2666880"/>
              <a:ext cx="702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21400" y="2666880"/>
              <a:ext cx="69840" cy="1508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91240" y="28177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61080" y="28177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30920" y="28177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00760" y="2817720"/>
              <a:ext cx="680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68800" y="281772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38640" y="2817720"/>
              <a:ext cx="71640" cy="45396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10280" y="3271680"/>
              <a:ext cx="69840" cy="3034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80120" y="3575160"/>
              <a:ext cx="680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48160" y="35751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8000" y="35751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87840" y="3575160"/>
              <a:ext cx="716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59480" y="3575160"/>
              <a:ext cx="680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7520" y="35751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7360" y="3575160"/>
              <a:ext cx="70200" cy="45252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67560" y="402768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37400" y="402768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07240" y="402768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7080" y="402768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46920" y="402768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6760" y="4027680"/>
              <a:ext cx="68040" cy="1522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84800" y="4179960"/>
              <a:ext cx="716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644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628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9612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65960" y="4179960"/>
              <a:ext cx="680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3400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03840" y="4179960"/>
              <a:ext cx="716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7548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45320" y="4179960"/>
              <a:ext cx="6840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372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356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3400" y="4179960"/>
              <a:ext cx="7128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24680" y="4179960"/>
              <a:ext cx="6840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308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3276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0260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7244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4228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12120" y="4179960"/>
              <a:ext cx="698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81960" y="4179960"/>
              <a:ext cx="680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50000" y="4179960"/>
              <a:ext cx="7164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21640" y="4179960"/>
              <a:ext cx="69840" cy="30312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91480" y="4483080"/>
              <a:ext cx="698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61320" y="4483080"/>
              <a:ext cx="6840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9720" y="4483080"/>
              <a:ext cx="69840" cy="3016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99560" y="4784760"/>
              <a:ext cx="71280" cy="144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27080" y="1268280"/>
              <a:ext cx="386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Base monetaria y tasa de fondos feder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0640" y="53085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8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0640" y="49449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85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0640" y="458172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9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0640" y="42195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95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8960" y="38545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0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8960" y="349236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05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8960" y="31291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1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8960" y="27655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15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8960" y="24019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2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8960" y="20383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25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8960" y="1676520"/>
              <a:ext cx="62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.300.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900000">
              <a:off x="67464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3/01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900000">
              <a:off x="102384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7/02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8900000">
              <a:off x="137304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4/03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8900000">
              <a:off x="172080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8/04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8900000">
              <a:off x="207000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3/05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8900000">
              <a:off x="241740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7/06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8900000">
              <a:off x="276696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1/08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8900000">
              <a:off x="311616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5/09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900000">
              <a:off x="346536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0/10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8900000">
              <a:off x="381312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4/11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900000">
              <a:off x="416232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9/12/2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8900000">
              <a:off x="451152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3/01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8900000">
              <a:off x="486072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7/02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8900000">
              <a:off x="520848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2/04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8900000">
              <a:off x="555768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7/05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900000">
              <a:off x="590688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1/06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8900000">
              <a:off x="625608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6/07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8900000">
              <a:off x="660528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0/08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8900000">
              <a:off x="695304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4/09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8900000">
              <a:off x="7300800" y="575424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9/10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-1356120" y="3524400"/>
              <a:ext cx="334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Arial"/>
                </a:rPr>
                <a:t>(Base monetaria en USD millones - Desestacionalizad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82160" y="53085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0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82160" y="47023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82160" y="4097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2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82160" y="3492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82160" y="2886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4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82160" y="22813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5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82160" y="167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6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7705080" y="3543480"/>
              <a:ext cx="208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000000"/>
                  </a:solidFill>
                  <a:latin typeface="Arial"/>
                </a:rPr>
                <a:t>(Tasa Fondos Federales - % anua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38960" y="1676520"/>
              <a:ext cx="168408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69000" y="1830240"/>
              <a:ext cx="2300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54680" y="1800360"/>
              <a:ext cx="55440" cy="5688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28920" y="1755720"/>
              <a:ext cx="98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Base moneta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69000" y="2116080"/>
              <a:ext cx="230040" cy="18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29640" y="205416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Tasa Fed Fu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473280" y="1768320"/>
              <a:ext cx="8280" cy="3652920"/>
              <a:chOff x="3473280" y="1768320"/>
              <a:chExt cx="8280" cy="36529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473280" y="1768320"/>
                <a:ext cx="8280" cy="3289320"/>
                <a:chOff x="3473280" y="1768320"/>
                <a:chExt cx="8280" cy="32893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473280" y="17683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473280" y="1785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473280" y="1801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73280" y="1819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473280" y="18352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473280" y="18511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473280" y="1868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73280" y="1884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73280" y="19018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473280" y="1917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473280" y="1933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473280" y="1951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473280" y="1967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73280" y="19828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473280" y="2000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473280" y="2016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73280" y="2033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73280" y="2049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473280" y="20653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473280" y="2082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473280" y="2098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473280" y="2116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473280" y="2131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73280" y="214776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473280" y="2165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473280" y="2181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73280" y="21970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73280" y="2214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473280" y="2230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473280" y="2247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473280" y="2263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473280" y="22795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73280" y="2297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73280" y="2313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473280" y="2330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473280" y="2346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73280" y="23623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73280" y="2379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473280" y="2395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473280" y="24112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473280" y="2428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473280" y="2444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473280" y="2462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473280" y="2478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473280" y="24940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473280" y="25113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473280" y="2527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473280" y="2544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473280" y="2560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473280" y="25765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473280" y="2594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473280" y="2610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473280" y="26272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473280" y="2643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73280" y="2658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473280" y="2676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473280" y="2692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473280" y="27082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73280" y="2725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73280" y="2741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473280" y="2759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473280" y="27748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473280" y="27907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473280" y="28083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473280" y="2824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473280" y="284148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73280" y="2857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473280" y="28735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73280" y="2890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473280" y="2906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473280" y="29224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473280" y="2940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73280" y="2955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73280" y="297324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473280" y="2989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473280" y="30052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473280" y="3022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73280" y="3038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73280" y="3056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473280" y="30718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473280" y="308772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473280" y="310500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473280" y="3121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473280" y="31370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473280" y="31543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473280" y="3170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73280" y="3187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473280" y="3203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73280" y="32194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473280" y="323676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473280" y="3252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473280" y="3270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473280" y="3286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473280" y="330192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473280" y="3319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473280" y="3335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473280" y="33512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473280" y="336852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473280" y="3384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473280" y="3402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473280" y="3417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73280" y="34336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473280" y="34513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473280" y="3467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473280" y="3484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473280" y="350028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473280" y="35164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473280" y="3533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73280" y="3549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473280" y="3567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473280" y="3583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473280" y="3598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473280" y="3616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473280" y="363204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73280" y="36482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473280" y="36655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473280" y="36813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473280" y="3699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473280" y="3714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473280" y="37306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473280" y="3747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473280" y="3764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73280" y="3781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473280" y="37972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73280" y="3813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473280" y="3830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473280" y="3846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473280" y="38624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473280" y="3879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473280" y="3895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473280" y="3913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473280" y="3929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473280" y="39448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473280" y="39625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473280" y="39783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473280" y="3995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473280" y="4011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473280" y="40276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473280" y="4044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473280" y="4060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473280" y="407664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73280" y="40942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473280" y="4110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73280" y="4127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73280" y="4143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73280" y="41594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73280" y="4176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73280" y="4192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73280" y="4210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73280" y="4226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3280" y="424188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73280" y="4259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73280" y="4275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473280" y="429120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473280" y="4308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473280" y="43243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473280" y="4341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473280" y="4357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473280" y="43736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473280" y="4390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473280" y="4406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473280" y="4424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473280" y="4440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473280" y="44560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473280" y="4473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473280" y="4489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473280" y="4506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473280" y="4522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473280" y="45385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473280" y="4556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473280" y="4572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473280" y="458784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473280" y="4605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473280" y="46213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473280" y="4638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73280" y="4654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473280" y="46702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473280" y="4687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473280" y="4703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73280" y="4721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473280" y="47372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473280" y="4753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473280" y="47703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473280" y="47862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473280" y="480204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473280" y="4819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473280" y="48355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73280" y="4853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473280" y="48690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473280" y="48848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473280" y="49021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473280" y="4917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473280" y="4935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73280" y="49514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73280" y="4967280"/>
                  <a:ext cx="828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473280" y="4984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473280" y="5000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73280" y="501660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473280" y="50338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473280" y="5049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>
                <a:off x="3473280" y="50673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473280" y="50832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73280" y="50990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73280" y="5116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73280" y="51325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473280" y="51498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73280" y="51656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73280" y="51814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73280" y="5199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73280" y="52149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73280" y="52308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73280" y="52484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73280" y="5264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73280" y="52815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73280" y="52974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73280" y="53132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3280" y="5330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3280" y="53467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73280" y="53643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473280" y="53802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73280" y="5396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73280" y="5413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 rot="18900000">
              <a:off x="7605360" y="5767200"/>
              <a:ext cx="70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/1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AR" sz="1100" spc="-1" strike="noStrike">
                  <a:solidFill>
                    <a:srgbClr val="000000"/>
                  </a:solidFill>
                  <a:latin typeface="Arial"/>
                </a:rPr>
                <a:t>/200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754-72B1-4667-97A8-1AA253B578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41200" y="133200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187280" y="981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situación del mercado interbanc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171440" y="1600200"/>
            <a:ext cx="6067440" cy="3733920"/>
            <a:chOff x="1171440" y="1600200"/>
            <a:chExt cx="6067440" cy="3733920"/>
          </a:xfrm>
        </p:grpSpPr>
        <p:sp>
          <p:nvSpPr>
            <p:cNvPr id="668" name=""/>
            <p:cNvSpPr/>
            <p:nvPr/>
          </p:nvSpPr>
          <p:spPr>
            <a:xfrm>
              <a:off x="3990960" y="3240000"/>
              <a:ext cx="304920" cy="68580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90920" y="275904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Dic-07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Nuevas formas de inyección de liquidez ante estigma (TA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71440" y="3429000"/>
              <a:ext cx="160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Ag-07: 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Inicio de la crisis provocada por segmento subpr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91120" y="2286000"/>
              <a:ext cx="182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Mar-08: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Bancos de inversión: </a:t>
              </a: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Bear S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05520" y="2895480"/>
              <a:ext cx="380880" cy="125892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81680" y="2133720"/>
              <a:ext cx="228600" cy="83808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5880" y="16002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Lehman Br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1480" y="3200400"/>
              <a:ext cx="182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Problema con Fannie Mae  y Freddie 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72200" y="3770280"/>
              <a:ext cx="152280" cy="80172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33720" y="4191120"/>
              <a:ext cx="609480" cy="114300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A3D-F027-4D75-9E23-BFA274347E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50920" y="1484280"/>
            <a:ext cx="88930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nfoqu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Inyección de capitales al balance del sistema 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Bancos centrales y Teso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scala sin pr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Medidas simples y con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Garantizar los pasivos banc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xtender seguros de depós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Socializar capital de la ban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Intervención directa en compra de papeles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nfoque 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Baja coordinada de ta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Asistencia recíproca e ilimitada entre bancos cent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14920" y="955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ción de política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30760" y="42840"/>
            <a:ext cx="6070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Crisis financiera inter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326-B2E5-479D-AC07-1C31A99105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340000" y="90792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Arial"/>
                <a:ea typeface="Arial"/>
              </a:rPr>
              <a:t>Principales medidas anunci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684360" y="1322280"/>
            <a:ext cx="8172360" cy="520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6AE-E9CC-4FA3-8E01-E69EB4D93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082520" y="6332400"/>
            <a:ext cx="304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00200" y="100476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ción de los activos de la Reserva Federal (distribución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51440" y="2274840"/>
            <a:ext cx="47066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63244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Fuente: en base a la Reserva Fed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10480" cy="497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37A-2A1E-4FA9-9D18-19F33C78F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7715160" cy="55627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6320" y="838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situación del mercado interbancari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171440" y="1600200"/>
            <a:ext cx="7363080" cy="3733920"/>
            <a:chOff x="1171440" y="1600200"/>
            <a:chExt cx="7363080" cy="3733920"/>
          </a:xfrm>
        </p:grpSpPr>
        <p:sp>
          <p:nvSpPr>
            <p:cNvPr id="691" name=""/>
            <p:cNvSpPr/>
            <p:nvPr/>
          </p:nvSpPr>
          <p:spPr>
            <a:xfrm>
              <a:off x="3990960" y="3240000"/>
              <a:ext cx="304920" cy="68580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90920" y="275904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Dic-07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Nuevas formas de inyección de liquidez ante estigma (TA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38480" y="4191120"/>
              <a:ext cx="609480" cy="114300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71440" y="3429000"/>
              <a:ext cx="1600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Ag-07: 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Inicio de la crisis provocada por segmento subpr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91120" y="2286000"/>
              <a:ext cx="182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Mar-08: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Bancos de inversión: </a:t>
              </a: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Bear S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05520" y="2895480"/>
              <a:ext cx="380880" cy="125892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1680" y="2133720"/>
              <a:ext cx="228600" cy="83808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95880" y="16002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Lehman Br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7391160" y="1828440"/>
              <a:ext cx="685800" cy="68580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91520" y="25542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Coordinación Interna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3200400"/>
              <a:ext cx="1828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99"/>
                  </a:solidFill>
                  <a:latin typeface="Times New Roman"/>
                </a:rPr>
                <a:t>Problema con Fannie Mae  y Freddie M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72200" y="3770280"/>
              <a:ext cx="152280" cy="801720"/>
            </a:xfrm>
            <a:prstGeom prst="line">
              <a:avLst/>
            </a:prstGeom>
            <a:ln w="9360">
              <a:solidFill>
                <a:srgbClr val="3264a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B5B-9A52-4FE1-BAA5-7A3E268E8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8:11:36Z</dcterms:created>
  <dc:creator>l10356</dc:creator>
  <dc:description/>
  <dc:language>en-US</dc:language>
  <cp:lastModifiedBy>Audio</cp:lastModifiedBy>
  <dcterms:modified xsi:type="dcterms:W3CDTF">2008-11-19T11:58:44Z</dcterms:modified>
  <cp:revision>1187</cp:revision>
  <dc:subject/>
  <dc:title>Título en cuerpo 42 Subtítulo en cuerpo 20 </dc:title>
</cp:coreProperties>
</file>