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D2D21-0227-44E0-B095-3BE1C4A70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47EBF-C308-4E51-A448-A4500C1FD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C4CC8-2A5F-4DD5-81B0-DB9790A12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9D7EE-16DA-49C5-B048-9F334B461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6C2E0-94DB-4878-9804-147B0279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E030-20C4-477C-9419-A9634E65D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70EFB-F734-4293-A34C-D5720381C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F989F-5F17-4389-8D3B-1D8A447FE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80BBC-1C85-4073-924F-A5E07CB6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1C5A-56BC-4495-8496-952735138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3530-CDCD-4C7C-91AE-998F487D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887A-894F-4321-975F-2A0022D70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E440-F717-4AA3-AB0F-ECA86E0777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ERMINOS DE INTERCAMBIO:</a:t>
            </a:r>
            <a:br>
              <a:rPr sz="4000"/>
            </a:br>
            <a:r>
              <a:rPr b="1" i="1" lang="en-US" sz="4000" spc="-1" strike="noStrike">
                <a:solidFill>
                  <a:srgbClr val="000000"/>
                </a:solidFill>
                <a:latin typeface="Arial"/>
              </a:rPr>
              <a:t>¿ADIOS A LAS BUENAS NOTICIA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1148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berto Bouza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idad de San Andr</a:t>
            </a:r>
            <a:r>
              <a:rPr b="1" i="1" lang="es-AR" sz="2000" spc="-1" strike="noStrike">
                <a:solidFill>
                  <a:srgbClr val="000000"/>
                </a:solidFill>
                <a:latin typeface="Arial"/>
              </a:rPr>
              <a:t>és/CONICE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Noviembre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La Argentina y el “nuevo” escenario internacional</a:t>
            </a:r>
            <a:endParaRPr b="0" lang="en-US" sz="3600" spc="-1" strike="noStrike">
              <a:solidFill>
                <a:srgbClr val="000000"/>
              </a:solidFill>
              <a:latin typeface="Arial"/>
            </a:endParaRPr>
          </a:p>
        </p:txBody>
      </p:sp>
      <p:sp>
        <p:nvSpPr>
          <p:cNvPr id="62"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Si el shock es permanente conviene tomar nota del cambio en el tipo de cambio real de equilibrio, compatibilizando este hecho con la moderación de los efectos de la “enfermedad holand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Para ello no es aconsejable recurrir a instrumentos que desvinculen de manera permanente el precio que reciben los productores del precio internacional</a:t>
            </a:r>
            <a:r>
              <a:rPr b="1" i="1" lang="es-MX"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Sin embargo, instrumentos alternativos (como un impuesto extraordinario al activo que genera la renta o las políticas específicas de estímulo a actividades que se desea promover) requieren mayores capacidades instit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6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La Argentina y el “nuevo” escenario internacional</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Finalmente, para moderar el impacto distributivo los impuestos a la exportación como instrumentos permanentes tampoco hacen senti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Resulta más eficiente realizar transferencias directas a quienes las necesit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Otra vez, esto requiere capacidades institucionales may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6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Un comentario final</a:t>
            </a:r>
            <a:endParaRPr b="0" lang="en-US" sz="3600" spc="-1" strike="noStrike">
              <a:solidFill>
                <a:srgbClr val="000000"/>
              </a:solidFill>
              <a:latin typeface="Arial"/>
            </a:endParaRPr>
          </a:p>
        </p:txBody>
      </p:sp>
      <p:sp>
        <p:nvSpPr>
          <p:cNvPr id="6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Políticas más inteligentes requieren recursos políticos e institucionales cuya oferta escasea en la Argentina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Oportunidad para instalar un debate estratégico sobr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Arial"/>
              </a:rPr>
              <a:t>Perfil productivo de la Argentina y las políticas más aptas para promoverl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Arial"/>
              </a:rPr>
              <a:t>El modo de construcción de políticas sostenibles en un marco de legitimidad y mayor consenso</a:t>
            </a: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En este contexto, las malas noticias pueden resultar no tan malas y estimular un debate más fundamental que la Argentina tiene pend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5"/>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uchas gra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000" spc="-1" strike="noStrike">
                <a:solidFill>
                  <a:srgbClr val="000000"/>
                </a:solidFill>
                <a:latin typeface="Arial"/>
              </a:rPr>
              <a:t>Esquema de la presentación</a:t>
            </a:r>
            <a:endParaRPr b="0" lang="en-US" sz="4000" spc="-1" strike="noStrike">
              <a:solidFill>
                <a:srgbClr val="000000"/>
              </a:solidFill>
              <a:latin typeface="Arial"/>
            </a:endParaRPr>
          </a:p>
        </p:txBody>
      </p:sp>
      <p:sp>
        <p:nvSpPr>
          <p:cNvPr id="44" name="PlaceHolder 2"/>
          <p:cNvSpPr>
            <a:spLocks noGrp="1"/>
          </p:cNvSpPr>
          <p:nvPr>
            <p:ph/>
          </p:nvPr>
        </p:nvSpPr>
        <p:spPr>
          <a:xfrm>
            <a:off x="609480" y="14940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Arial"/>
              </a:rPr>
              <a:t>El “nuevo” escenario internacional y la Argentin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Arial"/>
              </a:rPr>
              <a:t>La Argentina y el “nuevo” escenario intern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000000"/>
                </a:solidFill>
                <a:latin typeface="Arial"/>
              </a:rPr>
              <a:t>Un comentario f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El “nuevo” escenario internacional y la Argentina</a:t>
            </a:r>
            <a:endParaRPr b="0" lang="en-US" sz="3600" spc="-1" strike="noStrike">
              <a:solidFill>
                <a:srgbClr val="000000"/>
              </a:solidFill>
              <a:latin typeface="Arial"/>
            </a:endParaRPr>
          </a:p>
        </p:txBody>
      </p:sp>
      <p:sp>
        <p:nvSpPr>
          <p:cNvPr id="46"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Hasta hace pocos meses un grave problema que enfrentaba la Argentina era cómo administrar los efectos de las “buenas notici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Las buenas noticias eran el aumento en el precio de los productos primarios de exportación, que entre 2002 y mediados de 2008 crecieron notablem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Hasta mediados de 2007 el aumento fue gradual desde los bajos niveles alcanzados en el período 1999-2000, pero desde fines de 2007 y hasta mediados de 2008 el ritmo de aumento se aceleró</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El “nuevo” escenario internacional y la Argentina</a:t>
            </a:r>
            <a:endParaRPr b="0" lang="en-US" sz="3600" spc="-1" strike="noStrike">
              <a:solidFill>
                <a:srgbClr val="000000"/>
              </a:solidFill>
              <a:latin typeface="Arial"/>
            </a:endParaRPr>
          </a:p>
        </p:txBody>
      </p:sp>
      <p:pic>
        <p:nvPicPr>
          <p:cNvPr id="48" name="1 Gráfico" descr=""/>
          <p:cNvPicPr/>
          <p:nvPr/>
        </p:nvPicPr>
        <p:blipFill>
          <a:blip r:embed="rId1"/>
          <a:stretch/>
        </p:blipFill>
        <p:spPr>
          <a:xfrm>
            <a:off x="450720" y="1596960"/>
            <a:ext cx="8242560" cy="5035680"/>
          </a:xfrm>
          <a:prstGeom prst="rect">
            <a:avLst/>
          </a:prstGeom>
          <a:ln w="0">
            <a:noFill/>
          </a:ln>
        </p:spPr>
      </p:pic>
      <p:sp>
        <p:nvSpPr>
          <p:cNvPr id="49" name="4 Elipse"/>
          <p:cNvSpPr/>
          <p:nvPr/>
        </p:nvSpPr>
        <p:spPr>
          <a:xfrm rot="20664600">
            <a:off x="5715000" y="3429000"/>
            <a:ext cx="2209680" cy="9144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5 Elipse"/>
          <p:cNvSpPr/>
          <p:nvPr/>
        </p:nvSpPr>
        <p:spPr>
          <a:xfrm rot="1423800">
            <a:off x="7571880" y="1823760"/>
            <a:ext cx="1067040" cy="16002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El “nuevo” escenario internacional y la Argentina</a:t>
            </a:r>
            <a:endParaRPr b="0" lang="en-US" sz="3600" spc="-1" strike="noStrike">
              <a:solidFill>
                <a:srgbClr val="000000"/>
              </a:solidFill>
              <a:latin typeface="Arial"/>
            </a:endParaRPr>
          </a:p>
        </p:txBody>
      </p:sp>
      <p:sp>
        <p:nvSpPr>
          <p:cNvPr id="52" name="PlaceHolder 2"/>
          <p:cNvSpPr>
            <a:spLocks noGrp="1"/>
          </p:cNvSpPr>
          <p:nvPr>
            <p:ph/>
          </p:nvPr>
        </p:nvSpPr>
        <p:spPr>
          <a:xfrm>
            <a:off x="457200" y="1523880"/>
            <a:ext cx="86868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Estos comportamientos se atribuían principalmente a influencias de largo plazo sobre la oferta y la deman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Arial"/>
              </a:rPr>
              <a:t>Del lado de la demanda:</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aumento del ingreso per capita,  la población y la tasa de urbanización en PED, especialmente en Asia</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altos precios del petróleo y subsidios a la producción de sustitutos biológicos (en EEUU 1/3 de la producción de maíz se destina a etanol, en comparación con 5% hace una década)</a:t>
            </a:r>
            <a:endParaRPr b="0" lang="en-US" sz="14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Arial"/>
              </a:rPr>
              <a:t>Del lado de la oferta</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Restricciones en materia de disponibilidad de tierra y agua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Baja inversión en infraestructura rura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Baja inversión en nuevos desarrollos de tecnología agrícola</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Cambio climático</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Arial"/>
              </a:rPr>
              <a:t>Subsidio en países de la OCDE</a:t>
            </a:r>
            <a:endParaRPr b="0" lang="en-US" sz="14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Estas influencias de largo plazo se complementaban con factores transitorios como la depreciación del dólar, los cambios en la asignación de inversiones financieras, las respuestas defensivas de política (oferta), los eventos climáticos (ej: sequía en Austra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2">
                                            <p:txEl>
                                              <p:pRg st="9" end="9"/>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El “nuevo” escenario internacional y la Argentina</a:t>
            </a:r>
            <a:endParaRPr b="0" lang="en-US" sz="3600" spc="-1" strike="noStrike">
              <a:solidFill>
                <a:srgbClr val="000000"/>
              </a:solidFill>
              <a:latin typeface="Arial"/>
            </a:endParaRPr>
          </a:p>
        </p:txBody>
      </p:sp>
      <p:sp>
        <p:nvSpPr>
          <p:cNvPr id="54" name="PlaceHolder 2"/>
          <p:cNvSpPr>
            <a:spLocks noGrp="1"/>
          </p:cNvSpPr>
          <p:nvPr>
            <p:ph/>
          </p:nvPr>
        </p:nvSpPr>
        <p:spPr>
          <a:xfrm>
            <a:off x="609480" y="187488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La crisis financiera ha cambiado el panorama de corto plazo, pero no los fundament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Los factores estructurales seguirán dominando en el mediano plaz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El escenario previsible es, entonces, uno términos de intercambio favorables, pero no tan favorable como el que se anticipaba hace pocos me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La Argentina y el “nuevo” escenario internacional</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51055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Esto ha dado origen a una paradoja: vista la manera en que la Argentina había enfrentando las “buenas noticias”, el nuevo escenario internacional no parece necesariamente una mala noticia</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Más allá de las peculiaridades del gobierno de turno, la Argentina enfrentó las buenas noticias replicando dos características tradicionales de su política comercial, a saber:</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Una alta volatilidad</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Su subordinación a urgencias y demandas macroeconómicas</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Estos dos hechos estilizados básicos son, a su vez, el resultado de:</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Una competencia histórica entre distintos modelos de inserción en la economía mundial</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Arial"/>
              </a:rPr>
              <a:t>Un contexto de fuerte volatilidad macroeconóm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6">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La Argentina y el “nuevo” escenario internacional</a:t>
            </a:r>
            <a:endParaRPr b="0" lang="en-US" sz="3600" spc="-1" strike="noStrike">
              <a:solidFill>
                <a:srgbClr val="000000"/>
              </a:solidFill>
              <a:latin typeface="Arial"/>
            </a:endParaRPr>
          </a:p>
        </p:txBody>
      </p:sp>
      <p:sp>
        <p:nvSpPr>
          <p:cNvPr id="58"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Los críticos de la política oficial subrayaban que ésta era el resultado del interés por capturar parte de la renta y hacerse de recursos para consolidar el control político del Congreso y las provinci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Independientemente de los objetivos del gobierno, la Argentina tenía dos desafíos subyacentes derivados del “boom” de precios de los bienes de exportación: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Arial"/>
              </a:rPr>
              <a:t>El primero era enfrentar sus impactos sobre la asignación de recursos a través de la apreciación del tipo de cambio re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Arial"/>
              </a:rPr>
              <a:t>El segundo era enfrentar sus impactos distributivos, especialmente sobre el salario real de los trabajadores urbano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a:solidFill>
                  <a:srgbClr val="000000"/>
                </a:solidFill>
                <a:latin typeface="Arial"/>
              </a:rPr>
              <a:t>La Argentina y el “nuevo” escenario internacional</a:t>
            </a:r>
            <a:endParaRPr b="0" lang="en-US" sz="3600" spc="-1" strike="noStrike">
              <a:solidFill>
                <a:srgbClr val="000000"/>
              </a:solidFill>
              <a:latin typeface="Arial"/>
            </a:endParaRPr>
          </a:p>
        </p:txBody>
      </p:sp>
      <p:sp>
        <p:nvSpPr>
          <p:cNvPr id="6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El modo de enfrentar el impacto asignativo depende críticamente si el shock de precios es de corto o largo plaz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Si el shock es de corto plazo puede ser razonable moderar sus efectos a través de mecanismos de emergencia (como los fondos contracíclicos o, bajo ciertas condiciones, los impuestos extraordinarios a la exporta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Pero para que los impuestos extraordinarios a la exportación cumplan ese papel no deben ser convertidos en gasto doméstico, ya que de lo contrario la presión sobre el tipo de cambio real opera por otros canales pero no desapare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5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20:37:17Z</dcterms:created>
  <dc:creator>Roberto Bouzas</dc:creator>
  <dc:description/>
  <dc:language>en-US</dc:language>
  <cp:lastModifiedBy>Roberto Bouzas</cp:lastModifiedBy>
  <dcterms:modified xsi:type="dcterms:W3CDTF">2008-11-20T17:31:57Z</dcterms:modified>
  <cp:revision>47</cp:revision>
  <dc:subject/>
  <dc:title>EL COMERCIO EXTERIOR ARGENTINO EN UNA VISION DE LARGO PLAZO</dc:title>
</cp:coreProperties>
</file>