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7D2-C3D1-46F5-A575-68CE68C3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36160" y="2276280"/>
            <a:ext cx="8007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136160" y="4266720"/>
            <a:ext cx="8007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A61-599C-4AA0-92AF-CA74AE21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36160" y="227628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39440" y="227628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136160" y="426672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39440" y="426672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94E-0368-4E42-86CD-43EA3317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36160" y="2276280"/>
            <a:ext cx="2578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3720" y="2276280"/>
            <a:ext cx="2578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51280" y="2276280"/>
            <a:ext cx="2578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136160" y="4266720"/>
            <a:ext cx="2578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3720" y="4266720"/>
            <a:ext cx="2578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551280" y="4266720"/>
            <a:ext cx="2578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602-D0DC-4EC6-BD02-F87F3A26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36160" y="2276280"/>
            <a:ext cx="800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36160" y="2276280"/>
            <a:ext cx="800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36160" y="2276280"/>
            <a:ext cx="3907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9440" y="2276280"/>
            <a:ext cx="3907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36160" y="227628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9440" y="2276280"/>
            <a:ext cx="3907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36160" y="426672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136160" y="2276280"/>
            <a:ext cx="800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F501-1307-4A3F-BFEF-B167A9F5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36160" y="2276280"/>
            <a:ext cx="3907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9440" y="227628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239440" y="426672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36160" y="227628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9440" y="227628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36160" y="4266720"/>
            <a:ext cx="8007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36160" y="2276280"/>
            <a:ext cx="8007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36160" y="4266720"/>
            <a:ext cx="8007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36160" y="227628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39440" y="227628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36160" y="426672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239440" y="426672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36160" y="2276280"/>
            <a:ext cx="2578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43720" y="2276280"/>
            <a:ext cx="2578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551280" y="2276280"/>
            <a:ext cx="2578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36160" y="4266720"/>
            <a:ext cx="2578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43720" y="4266720"/>
            <a:ext cx="2578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551280" y="4266720"/>
            <a:ext cx="2578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36160" y="2276280"/>
            <a:ext cx="800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1F7-B324-4C5E-904F-AC7DAA3A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36160" y="2276280"/>
            <a:ext cx="3907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9440" y="2276280"/>
            <a:ext cx="3907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6D2-43EC-49BC-BF4B-22A4F1F4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6C6-A1E7-483E-A71C-FD6CABCD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4FE-0668-4FBE-81CF-9EA04EDE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36160" y="227628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9440" y="2276280"/>
            <a:ext cx="3907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36160" y="426672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7C7-EA11-414F-8597-C19C0AA2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36160" y="2276280"/>
            <a:ext cx="3907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9440" y="227628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39440" y="426672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86BF-37DA-4CAC-BB6F-F9F97A18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36160" y="227628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9440" y="2276280"/>
            <a:ext cx="39074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6160" y="4266720"/>
            <a:ext cx="8007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283-7B34-4B30-9C23-17478F1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36160" y="2276280"/>
            <a:ext cx="800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lnSpc>
                <a:spcPct val="105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lnSpc>
                <a:spcPct val="105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769080" y="609300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0007640" cy="380880"/>
            <a:chOff x="0" y="0"/>
            <a:chExt cx="10007640" cy="380880"/>
          </a:xfrm>
        </p:grpSpPr>
        <p:sp>
          <p:nvSpPr>
            <p:cNvPr id="5" name=""/>
            <p:cNvSpPr/>
            <p:nvPr/>
          </p:nvSpPr>
          <p:spPr>
            <a:xfrm>
              <a:off x="0" y="0"/>
              <a:ext cx="10007280" cy="380880"/>
            </a:xfrm>
            <a:prstGeom prst="rect">
              <a:avLst/>
            </a:prstGeom>
            <a:gradFill rotWithShape="0">
              <a:gsLst>
                <a:gs pos="0">
                  <a:srgbClr val="003af4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66320" y="0"/>
              <a:ext cx="66718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     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" name=""/>
            <p:cNvCxnSpPr/>
            <p:nvPr/>
          </p:nvCxnSpPr>
          <p:spPr>
            <a:xfrm flipV="1">
              <a:off x="0" y="377640"/>
              <a:ext cx="10008000" cy="36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sp>
        <p:nvSpPr>
          <p:cNvPr id="8" name=""/>
          <p:cNvSpPr/>
          <p:nvPr/>
        </p:nvSpPr>
        <p:spPr>
          <a:xfrm>
            <a:off x="412920" y="380880"/>
            <a:ext cx="0" cy="6477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69920" y="152280"/>
            <a:ext cx="2476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95360" y="144360"/>
            <a:ext cx="203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ideicomisos Financier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365724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1B66-9D1F-4F54-B3A7-FB7F1F14F738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-14400" y="6453360"/>
            <a:ext cx="10007280" cy="404280"/>
            <a:chOff x="-14400" y="6453360"/>
            <a:chExt cx="10007280" cy="404280"/>
          </a:xfrm>
        </p:grpSpPr>
        <p:sp>
          <p:nvSpPr>
            <p:cNvPr id="14" name=""/>
            <p:cNvSpPr/>
            <p:nvPr/>
          </p:nvSpPr>
          <p:spPr>
            <a:xfrm>
              <a:off x="-14400" y="6453360"/>
              <a:ext cx="10007280" cy="404280"/>
            </a:xfrm>
            <a:prstGeom prst="rect">
              <a:avLst/>
            </a:prstGeom>
            <a:solidFill>
              <a:srgbClr val="003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02120" y="6490440"/>
              <a:ext cx="41698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" name="" descr=""/>
            <p:cNvPicPr/>
            <p:nvPr/>
          </p:nvPicPr>
          <p:blipFill>
            <a:blip r:embed="rId2"/>
            <a:stretch/>
          </p:blipFill>
          <p:spPr>
            <a:xfrm>
              <a:off x="-14400" y="6459840"/>
              <a:ext cx="416520" cy="397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5920" y="3200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800600"/>
            <a:ext cx="990612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4800600"/>
            <a:ext cx="9905760" cy="2057040"/>
            <a:chOff x="0" y="4800600"/>
            <a:chExt cx="9905760" cy="205704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0" y="4800600"/>
              <a:ext cx="9905760" cy="7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0" y="4914360"/>
              <a:ext cx="9905760" cy="194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0" y="4800600"/>
            <a:ext cx="9906120" cy="1440"/>
          </a:xfrm>
          <a:prstGeom prst="line">
            <a:avLst/>
          </a:prstGeom>
          <a:ln w="57240">
            <a:solidFill>
              <a:srgbClr val="cf3b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rcRect l="0" t="0" r="0" b="16910"/>
          <a:stretch/>
        </p:blipFill>
        <p:spPr>
          <a:xfrm>
            <a:off x="0" y="4648320"/>
            <a:ext cx="9906120" cy="190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549080" y="215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492360" y="2349360"/>
            <a:ext cx="43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12880" y="1844640"/>
            <a:ext cx="6769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FIDEICOMISOS FINANCIER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ASPECTOS FISCAL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70A-1A21-4641-B052-ED96D3CE8578}" type="slidenum">
              <a:t>1</a:t>
            </a:fld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75880" y="692280"/>
            <a:ext cx="46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DEICOMISOS FINANCIE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PECTOS FISCALE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9240" y="1700280"/>
            <a:ext cx="828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20880" y="177336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mpuesto a las Gana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0880" y="3716280"/>
            <a:ext cx="82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1) No se aplican disposiciones sobre transferencia de ingresos a fiscos extranjero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50960" y="2276640"/>
          <a:ext cx="7405560" cy="1336680"/>
        </p:xfrm>
        <a:graphic>
          <a:graphicData uri="http://schemas.openxmlformats.org/drawingml/2006/table">
            <a:tbl>
              <a:tblPr/>
              <a:tblGrid>
                <a:gridCol w="1789200"/>
                <a:gridCol w="1873080"/>
                <a:gridCol w="1727280"/>
                <a:gridCol w="201600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 Física Argen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ciario Exteri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jeto Empres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eses y actualizaci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ento </a:t>
                      </a: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s-ES_tradnl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v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992160" y="4554360"/>
            <a:ext cx="8209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Impuesto al Valor Agregad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s operaciones financieras y prestaciones relativas a la emisión, suscripción, colocación, transferencia, amortización, intereses y cancelación de los Valores Fiduciarios, como así también las correspondientes a sus garantías, están exentas del IVA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14A-30B2-4276-B3A1-F6E62AC2A1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5240" y="1413000"/>
            <a:ext cx="828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2160" y="1628640"/>
            <a:ext cx="820908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Aspectos a considerar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ctamen (DAT) No. 11/97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locación por oferta públ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Ley No. 17.811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Dictamen (DAT) No. 16/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s.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Conj. CNV y AFIP Nº 470-1738/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75880" y="476280"/>
            <a:ext cx="46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DEICOMISOS FINANCIE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PECTOS FISCALE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20880" y="4626000"/>
            <a:ext cx="82087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mpuesto de Igual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las utilidades distribuidas por fideicomisos financieros pueden estar sujetas al Impuesto de Igualación. No se aplica a los fideicomisos financieros cuyos certificados de participación sean colocados por oferta pública (artículo 69 LIG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7AF-0AF3-4E16-99DB-3CAE7CB9D6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5240" y="1413000"/>
            <a:ext cx="828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2160" y="1557360"/>
            <a:ext cx="8209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ores Fiduciario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 oferta pú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mpuesto al Valor Agrega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los intereses que obtenga el inversor se encuentran alcanzados por el impuest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75880" y="476280"/>
            <a:ext cx="46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DEICOMISOS FINANCIE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PECTOS FISCALE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65240" y="3068640"/>
          <a:ext cx="7632720" cy="2136600"/>
        </p:xfrm>
        <a:graphic>
          <a:graphicData uri="http://schemas.openxmlformats.org/drawingml/2006/table">
            <a:tbl>
              <a:tblPr/>
              <a:tblGrid>
                <a:gridCol w="2544840"/>
                <a:gridCol w="2543040"/>
                <a:gridCol w="2544840"/>
              </a:tblGrid>
              <a:tr h="70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_tradnl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Impuesto a las Gananci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Sujeto Empr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Beneficiario del Exteri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ereses Título de Deu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v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tención a Benef. Exterior (15.05% o 35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tilidad Certific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gualación (si aplic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gualación (si aplic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ajen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v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ento (D. 228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4305240" y="1628640"/>
            <a:ext cx="647640" cy="287640"/>
          </a:xfrm>
          <a:prstGeom prst="rightArrow">
            <a:avLst>
              <a:gd name="adj1" fmla="val 50000"/>
              <a:gd name="adj2" fmla="val 56289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D70-C989-4E73-8A95-B5CF190D04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658600" y="765000"/>
            <a:ext cx="46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DEICOMISOS FINANCIE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PECTOS FISCALE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20880" y="1628640"/>
            <a:ext cx="828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2160" y="1844640"/>
            <a:ext cx="820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Gravámen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Ganancia Mínima Presu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sobre los Bienes Pers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sobre los Ingresos Br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827-3E0F-47FB-B0DF-EB3611EC0C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658600" y="765000"/>
            <a:ext cx="46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DEICOMISOS FINANCIE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PECTOS FISCALE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20880" y="1628640"/>
            <a:ext cx="828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2160" y="1844640"/>
            <a:ext cx="820908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IDEICOMISO FINANCIERO – Impuesto a las Ganancia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Fideicomiso es sujeto del Impuesto a las Ganancias a la alícuota del 35%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ideicomiso Financiero como sujeto de Tratados Internaciona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No se aplican las reglas de infracapitalización que limitan la deducción de interes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No son deducibles los importes que bajo cualquier denominació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rresponda asignar en concepto de distribución de utilidades, excepto que cumpla con ciertos requisito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680-1137-4188-8D00-30BF4746F6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5240" y="2637000"/>
            <a:ext cx="777564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Se titulicen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activos homogéneos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que consistan en valores negociables públicos o privados o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derechos creditorios provenientes de operaciones de financiación evidenciados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a constitución de los Fideicomisos y la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oferta pública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de los Valores Fiduciarios se hubieren efectuado de acuerdo con las normas de la CNV dependiente del Ministerio de Economí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os activos homogéneos originalmente fideicomitidos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no sean sustituidos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por otros tras su realización o cancelación, salvo colocaciones financieras transitoria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8600" y="765000"/>
            <a:ext cx="46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DEICOMISOS FINANCIE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PECTOS FISCALE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20880" y="1628640"/>
            <a:ext cx="828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5440" y="1700280"/>
            <a:ext cx="42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IDEICOMISO FINANCIERO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“Que deduce utilidades” -  Requisi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5E9-4969-43AC-B612-7B13B23999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65240" y="1484280"/>
            <a:ext cx="828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20880" y="2508120"/>
            <a:ext cx="777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lazo de duración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del Fideicomiso, sólo en el supuesto de instrumentos representativos de crédito, guarde relación con el de cancelación definitiva de los activos fideicomitidos o de los derechos creditorios que lo componen, respectivamente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beneficio bruto o tot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el fideicomiso se integre únicamente de las rentas generadas por los activos fideicomitidos, admitiéndose que una proporción no superior al 10% del ingreso  total provenga de otras operaciones realizadas para mantener el valor de los activ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20160" y="1635120"/>
            <a:ext cx="42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IDEICOMISO FINANCIERO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“Que deduce utilidades” -  Requisi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58600" y="476280"/>
            <a:ext cx="46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DEICOMISOS FINANCIE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PECTOS FISCALE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32400" y="5516640"/>
            <a:ext cx="85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el año fiscal en el cual no se cumpla con alguno de los requisitos y en los añ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guientes de duración del fideicomiso no resultarán deducibles las utilidad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7E8-30A0-44AA-AF55-F30D566114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45560" y="2117880"/>
            <a:ext cx="486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eses positivo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cobro de crédit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4200" y="242244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7360" y="2803680"/>
            <a:ext cx="445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eses pasivo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Título de deud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2320" y="4327560"/>
            <a:ext cx="238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ado 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3040" y="3489480"/>
            <a:ext cx="831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stos del fideicomiso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Honorarios Fiduciario y Administrador, otros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4200" y="310824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3120" y="4114800"/>
            <a:ext cx="346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9080" y="348948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3280" y="5300640"/>
            <a:ext cx="364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Deducción Util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58600" y="765000"/>
            <a:ext cx="46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DEICOMISOS FINANCIE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PECTOS FISCALE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9240" y="1700280"/>
            <a:ext cx="828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5013360"/>
            <a:ext cx="3467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71440" y="4149720"/>
            <a:ext cx="340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tilidades Certific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13240" y="4508640"/>
            <a:ext cx="1726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2E7-2E0C-43F1-8C9F-D07E8B180E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41160" y="549360"/>
            <a:ext cx="46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DEICOMISOS FINANCIE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PECTOS FISCALE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49240" y="1484280"/>
            <a:ext cx="828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8440" y="2486160"/>
            <a:ext cx="70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on sujetos en la medida en que realicen algún hecho imponib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6080" y="3219480"/>
            <a:ext cx="84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ando los bienes fideicomitidos fuesen créditos, las transmisiones a favor 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ideicomiso no constituirán prestaciones o colocaciones financieras gravada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89080" y="3521160"/>
            <a:ext cx="95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9880" y="4365360"/>
            <a:ext cx="932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ando el crédito cedido incluya intereses de financiación, el sujeto pasivo del Im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 el Fiduciante, salvo que el pago deba efectuarse al cesionario o a quien éste indiqu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cuyo caso será quien lo reciba el que asumirá la calidad de sujeto pasiv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0160" y="1628640"/>
            <a:ext cx="64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IDEICOMISO FINANCIERO – Impuesto al Valor Agregado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206-2C98-4CF4-AE43-00A0C1115C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658600" y="549360"/>
            <a:ext cx="46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DEICOMISOS FINANCIE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PECTOS FISCALE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20880" y="1484280"/>
            <a:ext cx="828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2160" y="1844640"/>
            <a:ext cx="820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deicomiso Financiero - Otros Graváme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mpuesto a la Ganancia Mínima Presun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No son sujeto (artículo 2 inciso f) Ley IG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mpuesto sobre los Débitos y Créditos Bancari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deicomiso Financiero no cumple con los requisitos artículo 70.2 del DR de la LIG: Grav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deicomiso Financiero que cumple con los requisitos artículo 70.2 del DR de la LIG: Ex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deicomiso Financiero cuyo activo subyacente son créditos originados en banco: Tributan como Entidad Financiera (Dictamen DAT No. 46/2003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1BA-2351-4472-AC75-AB20E11CA1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75880" y="692280"/>
            <a:ext cx="46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DEICOMISOS FINANCIE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PECTOS GENERALE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57240" y="1773360"/>
            <a:ext cx="7473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rato de fideicomiso en el qu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Fiduciario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tidad financiera o sociedad autorizada por la Comisión Nacional de Valores para actuar como fiduciario financie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Beneficiario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tenedores de certificados de participación o de títulos representativos de deud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FFB-D072-4A3C-9FED-15C8760F76EE}" type="slidenum">
              <a:t>2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658600" y="549360"/>
            <a:ext cx="46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DEICOMISOS FINANCIE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PECTOS FISCALE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20880" y="1484280"/>
            <a:ext cx="828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2160" y="184464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deicomiso Financiero - Otros Graváme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mpuesto sobre los Ingresos Brut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Ciudad de Bs. As.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deicomisos Financieros: son sujetos del Impuesto si se verifica el hecho imponible. Los ingresos brutos y la base imponible tienen el tratamiento que corresponde según la naturaleza de la actividad económica que realice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deicomisos Financieros con créditos originados en entidades financieras tributan como éstas últ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63E-A4AE-4EAF-807C-3C9861110B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75880" y="692280"/>
            <a:ext cx="46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DEICOMISOS FINANCIE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PECTOS GENERALE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57240" y="1773360"/>
            <a:ext cx="747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1800" y="1679400"/>
            <a:ext cx="8353440" cy="47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Valores Fiduciario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on considerados títulos valores y pueden ser objeto de Oferta Públic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ítulos de Deud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itidos por el Fiduciante, Fiduciario o un Tercero. Se asimilan a deuda. Otorgan el derecho a la devolución del capital más un interé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ertificados de Participac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itidos por el Fiduciario. Se asimilan a capital. Otorgan un derecho a la devolución del capital y las utilidades del fideicomi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800" spc="-1" strike="noStrike" u="sng">
                <a:solidFill>
                  <a:srgbClr val="ffffff"/>
                </a:solidFill>
                <a:uFillTx/>
                <a:latin typeface="Arial"/>
              </a:rPr>
              <a:t>Contenido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(art.12, Cáp. XV. Normas CNV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a) Individualización del emisor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b) Identificación del Fideicomi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) Monto de la emisión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d) Clase, número de serie y orden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) Garantías de terceros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f) Resolución de CN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g) Plazo de vig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8108-B512-4937-903F-0BE598645922}" type="slidenum">
              <a:t>3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75880" y="692280"/>
            <a:ext cx="46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DEICOMISOS FINANCIE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PECTOS GENERALE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2421000"/>
            <a:ext cx="671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1800" y="1935000"/>
            <a:ext cx="835344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CURITIZACION O TITULIZACIO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un proceso de financiamiento que consiste en agrupar activos homogéneos que se utilizan para garantizar el pago de títulos valores que son colocados entre los inversor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ivos ilíquidos se transforman en activos financieros líquidos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9A0D-F950-491F-B83F-AD688CFB9A76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240160" y="1773360"/>
            <a:ext cx="1800" cy="246852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20880" y="1268280"/>
            <a:ext cx="53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para el riesg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13160" y="2565360"/>
            <a:ext cx="495360" cy="685800"/>
          </a:xfrm>
          <a:custGeom>
            <a:avLst/>
            <a:gdLst>
              <a:gd name="textAreaLeft" fmla="*/ 66240 w 495360"/>
              <a:gd name="textAreaRight" fmla="*/ 429120 w 49536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1226000">
            <a:off x="5465880" y="2455560"/>
            <a:ext cx="495360" cy="685800"/>
          </a:xfrm>
          <a:custGeom>
            <a:avLst/>
            <a:gdLst>
              <a:gd name="textAreaLeft" fmla="*/ 66240 w 495360"/>
              <a:gd name="textAreaRight" fmla="*/ 429120 w 49536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05280" y="3052800"/>
            <a:ext cx="11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41880" y="620640"/>
            <a:ext cx="5529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SQUEMA DE UNA SECURIT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4720" y="1073160"/>
            <a:ext cx="828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9240" y="3500280"/>
            <a:ext cx="273528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Sociedad emisor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3429000"/>
            <a:ext cx="273528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Fideicomiso Financi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49240" y="1916280"/>
            <a:ext cx="13669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Acreed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77960" y="1916280"/>
            <a:ext cx="13669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Obligacionist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54680" y="1916280"/>
            <a:ext cx="165420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Tenedores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Valores Fiduciari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2781360"/>
            <a:ext cx="11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ffff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6" idx="2"/>
            <a:endCxn id="114" idx="0"/>
          </p:cNvCxnSpPr>
          <p:nvPr/>
        </p:nvCxnSpPr>
        <p:spPr>
          <a:xfrm flipH="1" rot="16200000">
            <a:off x="1443960" y="2726280"/>
            <a:ext cx="864000" cy="684720"/>
          </a:xfrm>
          <a:prstGeom prst="bentConnector3">
            <a:avLst>
              <a:gd name="adj1" fmla="val 49979"/>
            </a:avLst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21" name=""/>
          <p:cNvCxnSpPr>
            <a:stCxn id="117" idx="2"/>
            <a:endCxn id="114" idx="0"/>
          </p:cNvCxnSpPr>
          <p:nvPr/>
        </p:nvCxnSpPr>
        <p:spPr>
          <a:xfrm rot="5400000">
            <a:off x="2307600" y="2546280"/>
            <a:ext cx="864000" cy="1045440"/>
          </a:xfrm>
          <a:prstGeom prst="bentConnector3">
            <a:avLst>
              <a:gd name="adj1" fmla="val 49979"/>
            </a:avLst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122" name=""/>
          <p:cNvSpPr/>
          <p:nvPr/>
        </p:nvSpPr>
        <p:spPr>
          <a:xfrm>
            <a:off x="7616880" y="2565360"/>
            <a:ext cx="0" cy="86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20880" y="48625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joras del crédito: internas y extern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89280" y="5516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inanciación fuera de balance – Reducción de costos de financiació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jor calificación que el fiducia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75A-332D-4072-BDE4-E45885E7A1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675880" y="476280"/>
            <a:ext cx="46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DEICOMISOS FINANCIE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PECTOS GENERALE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2421000"/>
            <a:ext cx="671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6160" y="1455840"/>
          <a:ext cx="8497800" cy="4852440"/>
        </p:xfrm>
        <a:graphic>
          <a:graphicData uri="http://schemas.openxmlformats.org/drawingml/2006/table">
            <a:tbl>
              <a:tblPr/>
              <a:tblGrid>
                <a:gridCol w="4109040"/>
                <a:gridCol w="438876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Bienes Fideicomiti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Fideicomiso Financier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éditos personales con descuento en haberes por código de descuent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encred III, Banco Piano III, Banex Créditos 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éditos Prendarios sobre automoto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nansur 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éditos de consu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cubono I, Riberio I, Agrarium 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tras Hipotecarias (créditos hipotecario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dulas Hipotecarias Argentinas 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éditos originados en la utilización de Tarjetas de Crédito emitidas por el Fiducian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arjeta Shopping XX, Credipaz I, Tarjeta Privada 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rechos creditorios por operaciones de venta a través de Tarjeta de Créd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rimoldi 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réditos originados por prestación de servic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ex 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ratos de leas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NL Leasing, BST Leasing 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éstamos Garantiza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pervielle Préstamos Garantizados 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86AD-A735-4735-BF78-D990774E1FAB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75880" y="692280"/>
            <a:ext cx="46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DEICOMISOS FINANCIE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PECTOS FISCALE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4880" y="1773360"/>
            <a:ext cx="87120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Cumple requisitos del art.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70 DR LI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Valores fiduciari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con oferta pú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No cumple requisitos del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art. 70 DR LI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Fideicomi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Valores fiducia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sin oferta pú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9240" y="1628640"/>
            <a:ext cx="828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65600" y="2421000"/>
            <a:ext cx="71280" cy="3168720"/>
          </a:xfrm>
          <a:custGeom>
            <a:avLst/>
            <a:gdLst>
              <a:gd name="textAreaLeft" fmla="*/ 45720 w 71280"/>
              <a:gd name="textAreaRight" fmla="*/ 71640 w 7128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88160" y="2060640"/>
            <a:ext cx="144360" cy="2089080"/>
          </a:xfrm>
          <a:custGeom>
            <a:avLst/>
            <a:gdLst>
              <a:gd name="textAreaLeft" fmla="*/ 92160 w 144360"/>
              <a:gd name="textAreaRight" fmla="*/ 144360 w 14436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2B9-724D-432E-B079-86B374DECF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675880" y="692280"/>
            <a:ext cx="46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DEICOMISOS FINANCIE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PECTOS FISCALE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9240" y="1700280"/>
            <a:ext cx="828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20880" y="2060640"/>
            <a:ext cx="763272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lores Fiduciarios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ítulos de Deuda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en general, se asimilan a deuda. Otorgan el derecho a la devolución del capital más un interé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ertificados de Participación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se asimilan a capital. Otorgan un derecho a la devolución del capital y las utilidades del fideicomis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strumentos Híbrid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istinción entre deuda y capital. Tratamiento Fiscal correspondient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67D6-B3FC-4095-9BAA-EDC70969EA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675880" y="692280"/>
            <a:ext cx="46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DEICOMISOS FINANCIER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–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PECTOS FISCALE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9240" y="1700280"/>
            <a:ext cx="828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0880" y="2060640"/>
            <a:ext cx="82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ores Fiduciario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cados por oferta pú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deicomisos que se constituyen par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titulización de activo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0520" y="213372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0520" y="256536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0880" y="350208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mpuesto a las Gana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650960" y="4076640"/>
          <a:ext cx="7405560" cy="1625760"/>
        </p:xfrm>
        <a:graphic>
          <a:graphicData uri="http://schemas.openxmlformats.org/drawingml/2006/table">
            <a:tbl>
              <a:tblPr/>
              <a:tblGrid>
                <a:gridCol w="1650960"/>
                <a:gridCol w="2011320"/>
                <a:gridCol w="1727280"/>
                <a:gridCol w="201600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 Física Argen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ciario Exteri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jeto Empres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dos de compraventa y disposi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ento </a:t>
                      </a: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*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vad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920880" y="591192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*) No se aplican disposiciones sobre transferencia de ingresos a fiscos extranjero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81240" y="2492280"/>
            <a:ext cx="18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(artículo 83 Ley 24441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FD1D-CB29-4B8D-86AC-6625725FE9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0:37:48Z</dcterms:created>
  <dc:creator>LGC</dc:creator>
  <dc:description/>
  <dc:language>en-US</dc:language>
  <cp:lastModifiedBy>C.P.C.E.C.A.B.A.</cp:lastModifiedBy>
  <cp:lastPrinted>2003-03-11T22:58:53Z</cp:lastPrinted>
  <dcterms:modified xsi:type="dcterms:W3CDTF">2006-06-14T21:25:00Z</dcterms:modified>
  <cp:revision>127</cp:revision>
  <dc:subject/>
  <dc:title>Diapositiva 1</dc:title>
</cp:coreProperties>
</file>