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464D-51D1-4300-BE7E-DE2304FF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EF90-4402-4F30-8279-91843211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4C1D-16F7-4BD0-A1FD-632301D5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2A2-3A7B-4EB8-A134-48800FFA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EB62-A4D1-4B0F-B77C-6691D027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1DF8-2464-49EB-9E38-7178A961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FC0E-57A8-4624-9E6E-665255C0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2CE9-9E8A-4EDB-96B0-1F323323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C12C-8028-44E5-998A-E3F0EF11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5D70-1F6F-4E7B-8CF8-CC627810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D09A-9D6F-4B8D-97CB-545BA394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A21B-1587-4E97-B76B-F1317DF8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69D2-EB2F-46E5-A457-C064BD59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B7F2-D6DD-4323-A6FA-8E37F269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8AD7-7639-4B11-A6E3-0828160E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8ACD-A06C-4966-AADC-5A02A826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FE6A-9256-4B0F-91CB-D1F2B390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11BC-C4A1-4D74-B96B-D5ACC3F1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7E13-9013-4EC8-A6ED-98B71161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2DCB-9BBF-4C29-9F14-E9133729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F385-BA53-42E7-A019-F457432E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F82A-7446-40F8-903E-E1D6FCF9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06D-5F63-43CE-8A70-28B96CC0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2BCC-EECE-4C2C-899D-85E54C64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9571-DB53-4F33-A7DF-10287979DB06}" type="slidenum">
              <a:rPr b="0" lang="es-A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EC46-EF28-4109-A2B7-D130912B50DC}" type="slidenum">
              <a:rPr b="0" lang="es-A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c0c0c0"/>
                </a:solidFill>
                <a:latin typeface="Arial"/>
              </a:rPr>
              <a:t>ASPECTOS FISCALES DEL FIDEICOMISO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c0c0c0"/>
                </a:solidFill>
                <a:latin typeface="Arial"/>
              </a:rPr>
              <a:t>NO FINANCIERO</a:t>
            </a: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609300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c0c0"/>
                </a:solidFill>
                <a:latin typeface="Arial"/>
              </a:rPr>
              <a:t>Junio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CUESTIONES PARTICULARES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incidencia parcial de la figura Fiduciante – Benefici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ribución parcial de resultado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ponsabilidad del Fiduci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FIDEICOMISOS “MIXTOS”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eced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ctámenes (DAT) 17/04 y 60/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ómputo como pago a cuenta del impuesto a las ganan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ibles sol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FIDEICOMISOS DE GARANTÍA – IMPUESTO A LA GANANCIA MÍNIMA PRESUNTA 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deicomisos de “construcción al costo”: Características de la fig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tamiento de la asignación de 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imilación a “condominio” o “empresa constructora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lidad económ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FIDEICOMISOS INMOBILIARIOS 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sencia norm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tuación del Fiduciante / Benefici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tamiento del Benefici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ibles sol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IMPUESTO SOBRE LOS BIENES PERSONALES: SITUACIÓN DE LOS BENEFICIARIOS  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normativa impositiva aplicable a los Fideicomisos no financieros es insuficiente, ya que no se encuentran regulados aspectos básicos que hacen a la fig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hay que perder de vista que el Fideicomiso constituye un vehículo para el desarrollo de actividades o negocios subyacentes; la interpretación de sus implicancias fiscales debe realizarse atendiendo al fin perseguido por las partes contratantes, valorando especialmente la realidad económica presente en estas oper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 imprescindible contar con mayores y mejores regulaciones tributarias (Nueva Ley de Fideicomiso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71640" y="404280"/>
            <a:ext cx="73454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Marco tributario aplicable a los Fideicomisos no Financiero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Aspectos Gener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Algunas cuestiones particular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 algn="just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deicomisos “mixto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 algn="just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deicomisos de garant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 algn="just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deicomisos inmobilia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 algn="just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tamiento de los beneficiarios frente al Impuesto sobre los bienes pers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spcBef>
                <a:spcPts val="55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onclusi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349000"/>
            <a:ext cx="91440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MARCO TRIBUTARIO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ASPECTOS GENERALES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IMPUESTO A LAS GANANCIAS</a:t>
            </a:r>
            <a:br>
              <a:rPr sz="2400"/>
            </a:b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FIDEICOMISO NO FINANCIERO CONSTITUIDO EN EL PAÍS – CASO GENERAL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 rot="10800000">
            <a:off x="5501880" y="2535840"/>
            <a:ext cx="3535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deicomiso sujeto pasivo (artículo 69, inciso 6, LI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duciario responsable por deuda aj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termina e ingresa el impuesto aplicando las disposiciones de la tercera catego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68360" y="2276640"/>
            <a:ext cx="4967280" cy="4248000"/>
            <a:chOff x="468360" y="2276640"/>
            <a:chExt cx="4967280" cy="4248000"/>
          </a:xfrm>
        </p:grpSpPr>
        <p:sp>
          <p:nvSpPr>
            <p:cNvPr id="218" name=""/>
            <p:cNvSpPr/>
            <p:nvPr/>
          </p:nvSpPr>
          <p:spPr>
            <a:xfrm>
              <a:off x="468360" y="2276640"/>
              <a:ext cx="1944720" cy="936360"/>
            </a:xfrm>
            <a:prstGeom prst="ellipse">
              <a:avLst/>
            </a:prstGeom>
            <a:solidFill>
              <a:srgbClr val="00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26920" y="2565360"/>
              <a:ext cx="12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ducian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87640" y="2276640"/>
              <a:ext cx="1944720" cy="936360"/>
            </a:xfrm>
            <a:prstGeom prst="ellipse">
              <a:avLst/>
            </a:prstGeom>
            <a:solidFill>
              <a:srgbClr val="00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19640" y="2565360"/>
              <a:ext cx="122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enefici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19280" y="4076640"/>
              <a:ext cx="2303280" cy="720720"/>
            </a:xfrm>
            <a:prstGeom prst="ellipse">
              <a:avLst/>
            </a:prstGeom>
            <a:solidFill>
              <a:srgbClr val="00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06560" y="4286160"/>
              <a:ext cx="15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ideicomi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74920" y="5516640"/>
              <a:ext cx="2449440" cy="1008000"/>
            </a:xfrm>
            <a:prstGeom prst="ellipse">
              <a:avLst/>
            </a:prstGeom>
            <a:solidFill>
              <a:srgbClr val="00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08000" y="5877000"/>
              <a:ext cx="14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iduciari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43280" y="5986440"/>
              <a:ext cx="792360" cy="368280"/>
            </a:xfrm>
            <a:prstGeom prst="rect">
              <a:avLst/>
            </a:prstGeom>
            <a:solidFill>
              <a:srgbClr val="0099ff"/>
            </a:solidFill>
            <a:ln cap="sq"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99"/>
                  </a:solidFill>
                  <a:latin typeface="Arial"/>
                </a:rPr>
                <a:t>I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4360" y="3284640"/>
              <a:ext cx="934920" cy="1368360"/>
            </a:xfrm>
            <a:custGeom>
              <a:avLst/>
              <a:gdLst>
                <a:gd name="textAreaLeft" fmla="*/ 125280 w 934920"/>
                <a:gd name="textAreaRight" fmla="*/ 809640 w 934920"/>
                <a:gd name="textAreaTop" fmla="*/ 239400 h 1368360"/>
                <a:gd name="textAreaBottom" fmla="*/ 99216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84360" y="4869000"/>
              <a:ext cx="358920" cy="576000"/>
            </a:xfrm>
            <a:prstGeom prst="upArrow">
              <a:avLst>
                <a:gd name="adj1" fmla="val 50000"/>
                <a:gd name="adj2" fmla="val 40120"/>
              </a:avLst>
            </a:prstGeom>
            <a:solidFill>
              <a:srgbClr val="00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95640" y="6021360"/>
              <a:ext cx="505080" cy="360360"/>
            </a:xfrm>
            <a:prstGeom prst="rightArrow">
              <a:avLst>
                <a:gd name="adj1" fmla="val 50000"/>
                <a:gd name="adj2" fmla="val 35040"/>
              </a:avLst>
            </a:prstGeom>
            <a:solidFill>
              <a:srgbClr val="00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rot="11410800">
              <a:off x="4066560" y="3141720"/>
              <a:ext cx="936360" cy="1579680"/>
            </a:xfrm>
            <a:custGeom>
              <a:avLst/>
              <a:gdLst>
                <a:gd name="textAreaLeft" fmla="*/ 125280 w 936360"/>
                <a:gd name="textAreaRight" fmla="*/ 811080 w 936360"/>
                <a:gd name="textAreaTop" fmla="*/ 290880 h 1579680"/>
                <a:gd name="textAreaBottom" fmla="*/ 1072800 h 157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956" stAng="-5400000" swAng="5400000"/>
                  <a:lnTo>
                    <a:pt x="21600" y="10692"/>
                  </a:lnTo>
                  <a:arcTo wR="21600" hR="7956" stAng="0" swAng="2770375"/>
                  <a:lnTo>
                    <a:pt x="7200" y="21145"/>
                  </a:lnTo>
                  <a:lnTo>
                    <a:pt x="0" y="17280"/>
                  </a:lnTo>
                  <a:lnTo>
                    <a:pt x="7200" y="12505"/>
                  </a:lnTo>
                  <a:lnTo>
                    <a:pt x="7200" y="15457"/>
                  </a:lnTo>
                  <a:arcTo wR="21600" hR="7956" stAng="2770375" swAng="-2549663"/>
                  <a:lnTo>
                    <a:pt x="21278" y="9324"/>
                  </a:lnTo>
                  <a:arcTo wR="21600" hR="7956" stAng="-220712" swAng="-5179288"/>
                  <a:close/>
                </a:path>
                <a:path fill="darkenLess" w="21600" h="21600">
                  <a:moveTo>
                    <a:pt x="0" y="0"/>
                  </a:moveTo>
                  <a:arcTo wR="21600" hR="7956" stAng="-5400000" swAng="5400000"/>
                  <a:lnTo>
                    <a:pt x="21600" y="10692"/>
                  </a:lnTo>
                  <a:arcTo wR="21600" hR="7956" stAng="0" swAng="-220712"/>
                  <a:lnTo>
                    <a:pt x="21278" y="9324"/>
                  </a:lnTo>
                  <a:arcTo wR="21600" hR="7956" stAng="-220712" swAng="-5179288"/>
                  <a:close/>
                </a:path>
              </a:pathLst>
            </a:custGeom>
            <a:solidFill>
              <a:srgbClr val="00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641560" y="199872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deicomiso “transparent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duciario atribuye resultado impositivo a Fiduciante – Benefici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rige para Fiduciante –Beneficiario del exteri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33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IMPUESTO A LAS GANANCIAS</a:t>
            </a:r>
            <a:br>
              <a:rPr sz="2400"/>
            </a:b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FIDEICOMISO NO FINANCIERO – CASO FIDUCIANTE BENEFICIARIO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755640" y="1989000"/>
            <a:ext cx="4176720" cy="4464360"/>
            <a:chOff x="755640" y="1989000"/>
            <a:chExt cx="4176720" cy="4464360"/>
          </a:xfrm>
        </p:grpSpPr>
        <p:sp>
          <p:nvSpPr>
            <p:cNvPr id="234" name=""/>
            <p:cNvSpPr/>
            <p:nvPr/>
          </p:nvSpPr>
          <p:spPr>
            <a:xfrm>
              <a:off x="755640" y="1989000"/>
              <a:ext cx="2519280" cy="1224000"/>
            </a:xfrm>
            <a:prstGeom prst="ellipse">
              <a:avLst/>
            </a:prstGeom>
            <a:solidFill>
              <a:srgbClr val="00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16000" y="2205000"/>
              <a:ext cx="18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iducian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neficiar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68720" y="2421000"/>
              <a:ext cx="863640" cy="368280"/>
            </a:xfrm>
            <a:prstGeom prst="rect">
              <a:avLst/>
            </a:prstGeom>
            <a:solidFill>
              <a:srgbClr val="0099ff"/>
            </a:solidFill>
            <a:ln cap="sq"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99"/>
                  </a:solidFill>
                  <a:latin typeface="Arial"/>
                </a:rPr>
                <a:t>I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0000" y="4005360"/>
              <a:ext cx="2087640" cy="792000"/>
            </a:xfrm>
            <a:prstGeom prst="ellipse">
              <a:avLst/>
            </a:prstGeom>
            <a:solidFill>
              <a:srgbClr val="00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87280" y="422100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ideicomis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63640" y="5661000"/>
              <a:ext cx="2195640" cy="792360"/>
            </a:xfrm>
            <a:prstGeom prst="ellipse">
              <a:avLst/>
            </a:prstGeom>
            <a:solidFill>
              <a:srgbClr val="00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16000" y="595008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iduciar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63640" y="4870440"/>
              <a:ext cx="432000" cy="719280"/>
            </a:xfrm>
            <a:prstGeom prst="upArrow">
              <a:avLst>
                <a:gd name="adj1" fmla="val 50000"/>
                <a:gd name="adj2" fmla="val 41625"/>
              </a:avLst>
            </a:prstGeom>
            <a:solidFill>
              <a:srgbClr val="00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6920" y="2997360"/>
              <a:ext cx="360360" cy="122364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14200 h 1223640"/>
                <a:gd name="textAreaBottom" fmla="*/ 88740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rot="11268600">
              <a:off x="2986200" y="2923920"/>
              <a:ext cx="360360" cy="129672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26800 h 1296720"/>
                <a:gd name="textAreaBottom" fmla="*/ 940320 h 12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48000" y="2421000"/>
              <a:ext cx="576360" cy="431640"/>
            </a:xfrm>
            <a:prstGeom prst="rightArrow">
              <a:avLst>
                <a:gd name="adj1" fmla="val 50000"/>
                <a:gd name="adj2" fmla="val 33382"/>
              </a:avLst>
            </a:prstGeom>
            <a:solidFill>
              <a:srgbClr val="00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00244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segunda (artículo 140, inciso b) LIG) o tercera categoría (artículo 146, inciso b) LI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rige regla de atribución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licable a “figuras jurídicas equivalente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IMPUESTO A LAS GANANCIAS</a:t>
            </a:r>
            <a:br>
              <a:rPr sz="2400"/>
            </a:b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FIDEICOMISO CONSTITUIDO EN EL EXTERIOR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2320" y="4876920"/>
            <a:ext cx="676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10920" y="199872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deicomisos no financieros son sujetos pasivos del gravamen (artículo 2°, inciso 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duciario responsable por deuda aje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nción para bienes entregados por fiduciantes a fideicomisos sujetos al impues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sencia de normas específicas para los fideicomisos no financieros “Fiduciante Beneficiari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IMPUESTO A LA GANANCIA MINIMA PRESUNTA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2320" y="4876920"/>
            <a:ext cx="676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84000" y="14130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V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spcBef>
                <a:spcPts val="451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regulado expresa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spcBef>
                <a:spcPts val="451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canzado en tanto realice operaciones grav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spcBef>
                <a:spcPts val="451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erencia de bienes sin tratamiento especí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IBB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spcBef>
                <a:spcPts val="451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jeto pasivo en la medida que desarrolle actividades alcanzadas (incluido expresamente en pocas jurisdiccion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spcBef>
                <a:spcPts val="451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ulaciones escasas y genéric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IMPUESTO AL VALOR AGREGADO E IMPUESTO SOBRE LOS INGRESOS BRUTOS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2320" y="4876920"/>
            <a:ext cx="676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84000" y="14130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1360">
              <a:spcBef>
                <a:spcPts val="451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El Fideicomiso no es sujeto del impuesto (Dictámenes del Fisc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1360">
              <a:spcBef>
                <a:spcPts val="451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Tratamiento del Fiduciante y/o Beneficiario no regul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c0c0c0"/>
                </a:solidFill>
                <a:latin typeface="Arial"/>
              </a:rPr>
              <a:t>IMPUESTO SOBRE LOS CRÉDITOS Y DÉBITOS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1360">
              <a:spcBef>
                <a:spcPts val="451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Las cuentas del Fideicomiso se encuentran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grav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1360">
              <a:spcBef>
                <a:spcPts val="451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ícuota reducida para los Fideicomisos de garant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c0c0c0"/>
                </a:solidFill>
                <a:latin typeface="Arial"/>
              </a:rPr>
              <a:t>IMPUESTO DE SEL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1360">
              <a:spcBef>
                <a:spcPts val="451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Tratamiento disp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1360">
              <a:spcBef>
                <a:spcPts val="451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ocas jurisdicciones poseen normas particul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IMPUESTO SOBRE LOS BIENES PERSONALES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2320" y="4876920"/>
            <a:ext cx="676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4:39:10Z</dcterms:created>
  <dc:creator>PwC</dc:creator>
  <dc:description/>
  <dc:language>en-US</dc:language>
  <cp:lastModifiedBy>C.P.C.E.C.A.B.A.</cp:lastModifiedBy>
  <dcterms:modified xsi:type="dcterms:W3CDTF">2006-06-14T21:23:49Z</dcterms:modified>
  <cp:revision>14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89227735</vt:r8>
  </property>
  <property fmtid="{D5CDD505-2E9C-101B-9397-08002B2CF9AE}" pid="3" name="_AuthorEmail">
    <vt:lpwstr>augusto_bonifacio@cgc.com.ar</vt:lpwstr>
  </property>
  <property fmtid="{D5CDD505-2E9C-101B-9397-08002B2CF9AE}" pid="4" name="_AuthorEmailDisplayName">
    <vt:lpwstr>Bonifacio, Augusto</vt:lpwstr>
  </property>
  <property fmtid="{D5CDD505-2E9C-101B-9397-08002B2CF9AE}" pid="5" name="_EmailSubject">
    <vt:lpwstr>World chart 3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