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6CAE-BDB9-461A-A91C-6FEE3A717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4027-1C71-43F6-A6E4-BCF9DBA4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8A1D-106D-4A47-BE24-90DADC751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D5D6-6C0F-4273-B8FE-921DC0E29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DB43-6C28-452A-9B75-AC848D01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67D7-0B2A-4847-B094-0EFAFC3E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0D84-1D29-41D6-B09B-D5E3A221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CCF0-BF1F-4414-B299-7913DFFD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6212-2A6F-4A9E-BE96-7684177F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2FC0-BB4F-4910-A8D2-A2133862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56BB-2CF7-4525-84C4-5E339766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7856-4B50-43AF-B464-4F9E2773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7CC1-7875-4203-96C4-3CBB3B11276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000000"/>
                </a:solidFill>
                <a:uFillTx/>
                <a:latin typeface="Verdana"/>
              </a:rPr>
              <a:t>Gerencia de Control Económico Financi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9152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Verdana"/>
              </a:rPr>
              <a:t>Responsabilidad Prim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2800" spc="-1" strike="noStrike">
                <a:solidFill>
                  <a:srgbClr val="000000"/>
                </a:solidFill>
                <a:latin typeface="Verdana"/>
              </a:rPr>
              <a:t>Principales A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RESPONSABILIDAD PRIMA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Verdana"/>
                <a:ea typeface="Arial"/>
              </a:rPr>
              <a:t>Efectuar el control económico, financiero y de legalidad de los Agentes del Seguro de Salud, fiscalizando, supervisando, orientando y fomentando la correcta gestión de los recursos y gastos del patrimonio para asegurar las condiciones de viabilidad económico – financiera suficiente que permitan solventar los servicios comprend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Principales Ac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  <a:ea typeface="Arial"/>
              </a:rPr>
              <a:t>Proponer la documentación a ser requerida a los Agentes del Seguro a efectos de obtener información respecto de su desempeño económico financi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  <a:ea typeface="Arial"/>
              </a:rPr>
              <a:t>Controlar los Presupuestos de Gastos y Recursos, Estados Contables e Intermedios, Cuadros , Anexos y Notas y las relaciones económicas financieras a ser cumplidas por los Agentes del Segu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  <a:ea typeface="Arial"/>
              </a:rPr>
              <a:t>Ejecutar por sí o juntamente con la Gerencia de Control Prestacional las Auditorías conforme al Plan aprobado así como las auditorías no programad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Principales Ac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  <a:ea typeface="Arial"/>
              </a:rPr>
              <a:t>Coordinar juntamente con las GCP y GAJ las actividades de las Sindicaturas designadas en los Agentes del Segu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  <a:ea typeface="Arial"/>
              </a:rPr>
              <a:t>Elaborar y ejecutar el plan de Fiscalización de los Agentes del Seguro y otros responsables en relación a sus obligaciones respecto al Fondo Solidario de Redistribución en lo atinente a cotizaciones voluntarias, planes superadores y otr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  <a:ea typeface="Arial"/>
              </a:rPr>
              <a:t>Evaluar la viabilidad económico – financiera de los Agentes del Segur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826920" y="907920"/>
            <a:ext cx="7656480" cy="5261040"/>
            <a:chOff x="826920" y="907920"/>
            <a:chExt cx="7656480" cy="5261040"/>
          </a:xfrm>
        </p:grpSpPr>
        <p:sp>
          <p:nvSpPr>
            <p:cNvPr id="50" name=""/>
            <p:cNvSpPr/>
            <p:nvPr/>
          </p:nvSpPr>
          <p:spPr>
            <a:xfrm>
              <a:off x="3416040" y="1644480"/>
              <a:ext cx="11588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Gerencia de Contro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conómic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inancier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87920" y="5586120"/>
              <a:ext cx="1058400" cy="578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partament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ndicatur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ntable y Jurídi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CE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11160" y="5580000"/>
              <a:ext cx="113148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Departament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Control 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Estados Contables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y Financiero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10640" y="3289320"/>
              <a:ext cx="11268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ubgerencia de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ntrol Económic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inancier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859640" y="5564160"/>
              <a:ext cx="921240" cy="578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partamento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valuació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 Pronóstico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upuestario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21160" y="5611680"/>
              <a:ext cx="9410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partament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scalización de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caudacion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149920" y="5551200"/>
              <a:ext cx="107964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partament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risis y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quidación de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gentes del Segur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13240" y="5516280"/>
              <a:ext cx="857160" cy="578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partamento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uditori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ntab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2160" y="907920"/>
              <a:ext cx="50544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erencia de Control Económico Financier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20720" y="1538280"/>
              <a:ext cx="11527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3992040" y="2189160"/>
              <a:ext cx="612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409560" y="3193920"/>
              <a:ext cx="11527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26920" y="5518080"/>
              <a:ext cx="115236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14280" y="5518080"/>
              <a:ext cx="11527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47720" y="5518080"/>
              <a:ext cx="11527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746240" y="5518080"/>
              <a:ext cx="11527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36840" y="5518080"/>
              <a:ext cx="11527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330680" y="5510160"/>
              <a:ext cx="11527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12640" y="4721040"/>
              <a:ext cx="518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7907040" y="2698560"/>
              <a:ext cx="30240" cy="28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1411200" y="4724280"/>
              <a:ext cx="2880" cy="79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028760" y="3851280"/>
              <a:ext cx="0" cy="86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flipV="1">
              <a:off x="4031640" y="4719240"/>
              <a:ext cx="3240" cy="79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flipV="1">
              <a:off x="5322240" y="4724280"/>
              <a:ext cx="3240" cy="79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>
              <a:off x="2710800" y="4724280"/>
              <a:ext cx="3240" cy="79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6608160" y="4714560"/>
              <a:ext cx="3240" cy="79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3995640" y="2695320"/>
              <a:ext cx="393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8101080" y="3716280"/>
            <a:ext cx="104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44000" y="3716280"/>
            <a:ext cx="900000" cy="11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tividades Compartidas con la Gerencia de Control Prestacional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101080" y="3789360"/>
            <a:ext cx="142920" cy="144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826920" y="907920"/>
            <a:ext cx="7656480" cy="5261040"/>
            <a:chOff x="826920" y="907920"/>
            <a:chExt cx="7656480" cy="5261040"/>
          </a:xfrm>
        </p:grpSpPr>
        <p:sp>
          <p:nvSpPr>
            <p:cNvPr id="81" name=""/>
            <p:cNvSpPr/>
            <p:nvPr/>
          </p:nvSpPr>
          <p:spPr>
            <a:xfrm>
              <a:off x="3416040" y="1644480"/>
              <a:ext cx="11588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Gerencia de Contro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conómic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inancier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54800" y="5586120"/>
              <a:ext cx="1125360" cy="578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epartament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indicatur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ntable y Jurídi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GCE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11160" y="5580000"/>
              <a:ext cx="113148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Departament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Control 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Estados Contables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y Financiero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410640" y="3289320"/>
              <a:ext cx="11268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ubgerencia de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ntrol Económic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inancier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30120" y="5564160"/>
              <a:ext cx="982080" cy="578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epartamento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valuació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e Pronóstico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resupuestario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493440" y="5611680"/>
              <a:ext cx="9975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epartament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iscalización de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ecaudacion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18600" y="5551200"/>
              <a:ext cx="114228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epartament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risis y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Liquidación de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gentes del Segur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194160" y="5516280"/>
              <a:ext cx="896760" cy="578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epartamento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uditori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ntab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82160" y="907920"/>
              <a:ext cx="50544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erencia de Control Económico Financier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20720" y="1538280"/>
              <a:ext cx="11527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3992040" y="2189160"/>
              <a:ext cx="612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09560" y="3193920"/>
              <a:ext cx="11527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26920" y="5518080"/>
              <a:ext cx="115236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280" y="5518080"/>
              <a:ext cx="11527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47720" y="5518080"/>
              <a:ext cx="11527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46240" y="5518080"/>
              <a:ext cx="11527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36840" y="5518080"/>
              <a:ext cx="11527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30680" y="5510160"/>
              <a:ext cx="11527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412640" y="4721040"/>
              <a:ext cx="518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7907040" y="2698560"/>
              <a:ext cx="30240" cy="28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1411200" y="4724280"/>
              <a:ext cx="2880" cy="79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28760" y="3851280"/>
              <a:ext cx="0" cy="86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flipV="1">
              <a:off x="4031640" y="4719240"/>
              <a:ext cx="3240" cy="79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5322240" y="4724280"/>
              <a:ext cx="3240" cy="79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flipV="1">
              <a:off x="2710800" y="4724280"/>
              <a:ext cx="3240" cy="79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flipV="1">
              <a:off x="6608160" y="4714560"/>
              <a:ext cx="3240" cy="79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995640" y="2695320"/>
              <a:ext cx="393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3T03:45:55Z</dcterms:created>
  <dc:creator>PaZ</dc:creator>
  <dc:description/>
  <dc:language>en-US</dc:language>
  <cp:lastModifiedBy>vazcarate</cp:lastModifiedBy>
  <dcterms:modified xsi:type="dcterms:W3CDTF">2011-09-13T20:57:08Z</dcterms:modified>
  <cp:revision>48</cp:revision>
  <dc:subject/>
  <dc:title>TITULO</dc:title>
</cp:coreProperties>
</file>