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7BF-7C5B-4EC5-8F1D-AC89AC82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F1E-640A-4C5D-A95E-1E48CD4F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159-99E0-490E-9639-A4A9A7FA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C95-C0C2-434E-964C-A387F316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B78-B340-4D85-A1B8-2A122CCD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3E4-31B9-4EDB-AE7F-CD2F4205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31C-FEE3-4D4B-A24E-E325CFA6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3B2-DCA1-479A-8B8D-51583CEF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F764-8AC9-4FD6-AC99-9E906BC0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F23-6105-494F-80C1-C690FD5A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507-877A-488D-A245-728B9712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C9E3-3204-42B0-8E88-23311680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926A-D128-444E-8761-FF622ECDB3B1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1EE1-AF41-4E38-AF71-4384CBC33B7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mailto:kaimenkf@gmail.com" TargetMode="External"/><Relationship Id="rId7" Type="http://schemas.openxmlformats.org/officeDocument/2006/relationships/hyperlink" Target="mailto:hdirenzo@gmail.com" TargetMode="External"/><Relationship Id="rId8" Type="http://schemas.openxmlformats.org/officeDocument/2006/relationships/hyperlink" Target="http://kaimen.com.ar/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17160" y="6461280"/>
            <a:ext cx="52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º Jornada de Administración de Salud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0 Imagen" descr="MyBannerMaker_Banner.jpg"/>
          <p:cNvPicPr/>
          <p:nvPr/>
        </p:nvPicPr>
        <p:blipFill>
          <a:blip r:embed="rId3"/>
          <a:stretch/>
        </p:blipFill>
        <p:spPr>
          <a:xfrm>
            <a:off x="1104840" y="417600"/>
            <a:ext cx="6934320" cy="857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05880" y="1340640"/>
            <a:ext cx="42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irector: Profesor Horacio Di Ren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95280" y="1916280"/>
            <a:ext cx="1743120" cy="2609640"/>
          </a:xfrm>
          <a:prstGeom prst="rect">
            <a:avLst/>
          </a:prstGeom>
          <a:ln w="0">
            <a:noFill/>
          </a:ln>
        </p:spPr>
      </p:pic>
      <p:pic>
        <p:nvPicPr>
          <p:cNvPr id="47" name="chikung" descr=""/>
          <p:cNvPicPr/>
          <p:nvPr/>
        </p:nvPicPr>
        <p:blipFill>
          <a:blip r:embed="rId5"/>
          <a:stretch/>
        </p:blipFill>
        <p:spPr>
          <a:xfrm>
            <a:off x="2050920" y="4941720"/>
            <a:ext cx="5616720" cy="1076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080" y="2056680"/>
            <a:ext cx="59443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ualquier consulta posterior no dude en escribi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kaimenkf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direnzo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00360" y="3356640"/>
            <a:ext cx="55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Visitenos 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kaimen.com.ar/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http://boletinkaimen.blogspot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442-FC10-449F-952E-04C65F15A0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7:47:30Z</dcterms:created>
  <dc:creator>ncampregher</dc:creator>
  <dc:description/>
  <dc:language>en-US</dc:language>
  <cp:lastModifiedBy>amoro</cp:lastModifiedBy>
  <dcterms:modified xsi:type="dcterms:W3CDTF">2011-09-15T15:46:02Z</dcterms:modified>
  <cp:revision>10</cp:revision>
  <dc:subject/>
  <dc:title>Diapositiva 1</dc:title>
</cp:coreProperties>
</file>