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5E17-F94C-486D-B19C-1C72C9A5D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8280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220640"/>
            <a:ext cx="8280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ADF7-A7B0-4A34-8F10-508FA8D65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75248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22064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22064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969D-A81B-44D8-BDCF-ABF023DD3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266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752480"/>
            <a:ext cx="266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752480"/>
            <a:ext cx="266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220640"/>
            <a:ext cx="266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220640"/>
            <a:ext cx="266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220640"/>
            <a:ext cx="266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C2C5-41EC-47B1-9AD3-ACF332017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752480"/>
            <a:ext cx="82803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8280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4040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7880" y="1752480"/>
            <a:ext cx="4040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8440" y="380880"/>
            <a:ext cx="8286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752480"/>
            <a:ext cx="4040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4920" y="422064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752480"/>
            <a:ext cx="82803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A9F3-CA4B-4284-A5CB-759158530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4040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75248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7880" y="422064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880" y="175248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4920" y="4220640"/>
            <a:ext cx="8280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8280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4920" y="4220640"/>
            <a:ext cx="8280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7880" y="175248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422064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7880" y="422064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266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4640" y="1752480"/>
            <a:ext cx="266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4720" y="1752480"/>
            <a:ext cx="266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4920" y="4220640"/>
            <a:ext cx="266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4640" y="4220640"/>
            <a:ext cx="266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4720" y="4220640"/>
            <a:ext cx="2666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8280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D1C3-E264-484B-9EC7-F766A1F54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4040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752480"/>
            <a:ext cx="4040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478F-C385-42C3-B93D-8908AAE8D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ABA1-A3E8-45A4-859B-A87CDD194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380880"/>
            <a:ext cx="8286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69EA-06E0-4802-906C-228FF2118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752480"/>
            <a:ext cx="4040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22064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3464-414B-415C-A4EE-693D67FD6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4040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75248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22064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8754-30DD-4192-8828-0BDE53259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752480"/>
            <a:ext cx="404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220640"/>
            <a:ext cx="8280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6418-B842-43D6-BA1D-C6D50971E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752480"/>
            <a:ext cx="8280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52560" indent="-38088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523880" indent="-380880">
              <a:spcBef>
                <a:spcPts val="624"/>
              </a:spcBef>
              <a:spcAft>
                <a:spcPts val="624"/>
              </a:spcAft>
              <a:buClr>
                <a:srgbClr val="cc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932120" indent="-228600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340000" indent="-228600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340000" indent="-22860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340000" indent="-22860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21128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7984-D72E-424F-AAB5-D815B47CDD53}" type="slidenum">
              <a:rPr b="1" lang="es-AR" sz="16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313320" y="6524640"/>
            <a:ext cx="2362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JORGE V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6524640"/>
            <a:ext cx="23623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Lucida Sans"/>
              </a:rPr>
              <a:t>Noviembre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1628640"/>
            <a:ext cx="6048360" cy="1295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cc"/>
                </a:solidFill>
                <a:latin typeface="Arial Black"/>
              </a:rPr>
              <a:t>REINGENIERIA C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99ff"/>
                </a:solidFill>
                <a:latin typeface="Verdana"/>
              </a:rPr>
              <a:t>NOV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3068640"/>
            <a:ext cx="612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99ff"/>
                </a:solidFill>
                <a:latin typeface="Verdana"/>
              </a:rPr>
              <a:t>NORMAS CONTABLES Y DE AUDI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99ff"/>
                </a:solidFill>
                <a:latin typeface="Verdana"/>
              </a:rPr>
              <a:t>ARGENTINAS –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59640" y="5343480"/>
            <a:ext cx="2233440" cy="390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62120" y="4292640"/>
            <a:ext cx="1944720" cy="64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235480" y="4292640"/>
            <a:ext cx="2000520" cy="649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228600" algn="ctr">
              <a:spcBef>
                <a:spcPts val="624"/>
              </a:spcBef>
              <a:spcAft>
                <a:spcPts val="624"/>
              </a:spcAft>
              <a:buClr>
                <a:srgbClr val="ccccff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331920" algn="ctr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282600" algn="ctr"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282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282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476280"/>
            <a:ext cx="8280360" cy="2736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Verdana"/>
              </a:rPr>
              <a:t>Normas contables internacionales del IA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Toda entidad cuyos estados contables cumplan las NIIF efectuará, en las notas, una declaración, explícita y sin reservas, de cumplimiento. En los estados contables no se declarará que se cumplen las NIIF a menos que aquéllos cumplan con todos los requisitos de ést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#14 NIC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645000"/>
            <a:ext cx="2160720" cy="504720"/>
          </a:xfrm>
          <a:prstGeom prst="rightArrow">
            <a:avLst>
              <a:gd name="adj1" fmla="val 49685"/>
              <a:gd name="adj2" fmla="val 80745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3500280"/>
            <a:ext cx="4608720" cy="719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NO SE PUEDEN AD</a:t>
            </a: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4651200"/>
            <a:ext cx="2160720" cy="505080"/>
          </a:xfrm>
          <a:prstGeom prst="rightArrow">
            <a:avLst>
              <a:gd name="adj1" fmla="val 49685"/>
              <a:gd name="adj2" fmla="val 80687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4510080"/>
            <a:ext cx="4608720" cy="719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SE DEBEN AD</a:t>
            </a: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508464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8337-943F-4D27-A342-1E59162FA936}" type="slidenum">
              <a:t>10</a:t>
            </a:fld>
          </a:p>
        </p:txBody>
      </p:sp>
    </p:spTree>
  </p:cSld>
  <p:transition spd="slow">
    <p:split dir="out" orient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Nuestras realidades contabl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7770960" y="2060640"/>
            <a:ext cx="97776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9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4292640"/>
            <a:ext cx="684036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ECC QUE TIENEN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060640"/>
            <a:ext cx="684036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ECC QUE NO TIENEN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70960" y="4292640"/>
            <a:ext cx="97776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997360"/>
            <a:ext cx="8496000" cy="576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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66ffff"/>
                </a:solidFill>
                <a:latin typeface="Verdana"/>
              </a:rPr>
              <a:t>NCFA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– Fuente: Práctica Contable Gener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5229360"/>
            <a:ext cx="8496000" cy="576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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66ffff"/>
                </a:solidFill>
                <a:latin typeface="Verdana"/>
              </a:rPr>
              <a:t>NCIA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– Fuente: NIIF adaptadas a nuestras re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8560" y="3645000"/>
            <a:ext cx="792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ffff"/>
                </a:solidFill>
                <a:latin typeface="Verdana"/>
              </a:rPr>
              <a:t>Normas Contables Fundamentales Argent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5840280"/>
            <a:ext cx="7921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ffff"/>
                </a:solidFill>
                <a:latin typeface="Verdana"/>
              </a:rPr>
              <a:t>Normas Contables Integrales Argent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67A7-1764-42C8-B5A4-FC11DB9F1827}" type="slidenum">
              <a:t>11</a:t>
            </a:fld>
          </a:p>
        </p:txBody>
      </p:sp>
    </p:spTree>
  </p:cSld>
  <p:transition spd="slow">
    <p:split dir="out" orient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¿Y las normas de auditoría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7770960" y="2060640"/>
            <a:ext cx="97776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9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292640"/>
            <a:ext cx="604836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ECC QUE TIENEN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060640"/>
            <a:ext cx="604836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ECC QUE NO TIENEN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70960" y="4292640"/>
            <a:ext cx="97776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997360"/>
            <a:ext cx="8496000" cy="576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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Revisión amplia: Existencia / Pertenencia / Integr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229360"/>
            <a:ext cx="8496000" cy="576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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NAA – Fuente: ISA adaptadas a nuestras re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6360" y="2997360"/>
            <a:ext cx="83340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BE85-741C-4B44-93DD-4ADE960AFD37}" type="slidenum">
              <a:t>12</a:t>
            </a:fld>
          </a:p>
        </p:txBody>
      </p:sp>
    </p:spTree>
  </p:cSld>
  <p:transition spd="slow">
    <p:split dir="out" orient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¿Por qué no la RL / CL / Compilació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7770960" y="1844640"/>
            <a:ext cx="97776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9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844640"/>
            <a:ext cx="604836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ECC QUE NO TIENEN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2781360"/>
            <a:ext cx="849600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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orque no le agregan ningún valor a los EEC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716280"/>
            <a:ext cx="849600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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Y si un trabajo no agrega valor, no percibe honorari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4653000"/>
            <a:ext cx="849600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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Y si un trabajo no agrega valor, no importa quién firm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5589720"/>
            <a:ext cx="8496000" cy="576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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Y si no importa quién firma, no necesita leg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303200"/>
            <a:ext cx="835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ffff"/>
                </a:solidFill>
                <a:latin typeface="Verdana"/>
              </a:rPr>
              <a:t>RL: Revisión limitada / CL: Certificación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23BE-E1E4-4816-8163-1D7A62030A50}" type="slidenum">
              <a:t>13</a:t>
            </a:fld>
          </a:p>
        </p:txBody>
      </p:sp>
    </p:spTree>
  </p:cSld>
  <p:transition spd="slow">
    <p:split dir="out" orient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rcRect l="0" t="0" r="0" b="21158"/>
          <a:stretch/>
        </p:blipFill>
        <p:spPr>
          <a:xfrm>
            <a:off x="411120" y="1168560"/>
            <a:ext cx="8337600" cy="449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237F-5BB9-4D26-B813-A53243CB2A47}" type="slidenum">
              <a:t>14</a:t>
            </a:fld>
          </a:p>
        </p:txBody>
      </p:sp>
    </p:spTree>
  </p:cSld>
  <p:transition spd="slow">
    <p:split dir="out" orient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primera o de segu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uando proponemos elaborar  normas contables a medida de las PyMEs, algunos aducen que ello crearía Contadores de Primera y de Segunda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Las normas contables no pueden ser calificadas de primera o de segunda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Las normas contables aplicadas para elaborar estados contables que faciliten la toma de decisiones económi-cas por sus usuarios tipo – inversores y acreedores – tienen que ser necesariamente diferentes de las que se requieren para emitir estados contables destinados sólo a cumplir con formalidades legales o fiscale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/// . . 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-27000"/>
            <a:ext cx="1582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NEX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D11A-6BB6-443B-A756-875F37C43691}" type="slidenum">
              <a:t>15</a:t>
            </a:fld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También es diferente el “tipo” de servicio que brinda el contador – auditor de una PyME al del auditor de una gran empresa multinacional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En ambos casos, el “tipo” de servicio proporcionado no es de primera o de segunda, es adecuado a las particu-lares necesidades de sus diferentes clientes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66ffff"/>
                </a:solidFill>
                <a:latin typeface="Verdana"/>
              </a:rPr>
              <a:t>En realidad, la “calidad” del servicio profesional se deteriora cuando pretendemos proporcionarle a un cliente un “tipo” de servicio que en realidad no necesita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3F7A-5382-4249-8F7D-43FF7066A6F4}" type="slidenum">
              <a:t>16</a:t>
            </a:fld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NCFA – Unidad de medi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8280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juste por inflación: Método simplificado (Res. 183/79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7093080" y="-27000"/>
            <a:ext cx="1582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NEX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5936-F2C6-4248-9507-30E8448A2C72}" type="slidenum">
              <a:t>17</a:t>
            </a:fld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NCFA – Criterios de medició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De costo de reposición a costo de la última compr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De vida útil de los bienes de uso según la capacidad de servicio a según los usos y costumbr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De segregar los componentes financieros implícitos a segregar los explícit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De activar los bienes comprados con arrendamientos financieros a no activarl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De registrar los activos y pasivos impositivos diferi-dos a no registrarl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Simplificar la metodología para determinar el valor recuperable de los activos fijo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plicar en forma optativa la RT 2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7093080" y="-27000"/>
            <a:ext cx="1582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NEX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00CB-8587-4976-965D-2AAB414D9403}" type="slidenum">
              <a:t>18</a:t>
            </a:fld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NCFA – Criterios de exposició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8280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stados contables comparativos: no se exige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stado de Flujos de Efectivo: Determinar el total de las actividades de operación por diferencia con las actividades de inversión y financiación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stado de Resultados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52560" indent="-38088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ostos de ventas: pueden determinarse por diferencia de inventario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52560" indent="-380880">
              <a:spcBef>
                <a:spcPts val="624"/>
              </a:spcBef>
              <a:spcAft>
                <a:spcPts val="624"/>
              </a:spcAft>
              <a:buClr>
                <a:srgbClr val="ff3399"/>
              </a:buClr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Resultados financieros y de tenencia en una sola línea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Notas a los estados contables: reducir en forma signifi-cativa los requerimientos de información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7093080" y="-27000"/>
            <a:ext cx="1582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NEX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87B4-3BB6-4BD0-99F9-1F27929F5A6F}" type="slidenum">
              <a:t>19</a:t>
            </a:fld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¿Cuáles son sus clientes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00720" y="2492280"/>
            <a:ext cx="1582920" cy="223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87640" cy="1465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6560" y="1557360"/>
            <a:ext cx="3529080" cy="649440"/>
          </a:xfrm>
          <a:prstGeom prst="wedgeRectCallout">
            <a:avLst>
              <a:gd name="adj1" fmla="val 11583"/>
              <a:gd name="adj2" fmla="val 107944"/>
            </a:avLst>
          </a:prstGeom>
          <a:noFill/>
          <a:ln w="9360">
            <a:solidFill>
              <a:srgbClr val="ffff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¿Pequeñas empres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6360" y="1557360"/>
            <a:ext cx="3419280" cy="649440"/>
          </a:xfrm>
          <a:prstGeom prst="wedgeRectCallout">
            <a:avLst>
              <a:gd name="adj1" fmla="val 6638"/>
              <a:gd name="adj2" fmla="val 102324"/>
            </a:avLst>
          </a:prstGeom>
          <a:noFill/>
          <a:ln w="9360">
            <a:solidFill>
              <a:srgbClr val="ffff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¿Grandes empresa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869000"/>
            <a:ext cx="8136000" cy="1582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¿Qué diferencia a una pequeña empresa de una gran empre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¿El monto de las ventas, el total del activo, el total del patrimonio neto, el número de empleados o cualquier otra vari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22EC-87B1-46F2-BAF2-F91C879E4C9E}" type="slidenum">
              <a:t>2</a:t>
            </a:fld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o hay una única definición cuantificable que abarque las principales características de lo que es una pequeña o mediana empresa, ni las diferencias existentes entre empresas, sectores o países con distinto grado de desarrollo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ccff"/>
                </a:solidFill>
                <a:latin typeface="Verdana"/>
              </a:rPr>
              <a:t>OIT. Condiciones generales para fomentar la creación de empleos en la pequeña y mediana empresa. Informe de la Conferencia Internacional del Trabajo, 85ª reunión, Ginebra, 1997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or lo tanto,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cualquier definición que se adopte consi-derando los totales de ventas, activos, patrimonio neto o personal, incluirá una cantidad indefinida de empre-sas que no son pequeñas y excluirá a otras que lo son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5013360"/>
            <a:ext cx="806472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Y entonces, a efectos contables: ¿Cuál es la sol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5805360"/>
            <a:ext cx="806472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¡Cambiar nuestro enfo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C82B-40C1-4604-97AA-64619A047127}" type="slidenum">
              <a:t>3</a:t>
            </a:fld>
          </a:p>
        </p:txBody>
      </p:sp>
    </p:spTree>
  </p:cSld>
  <p:transition spd="slow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Cambiar nuestro enfoqu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11640" y="4224240"/>
            <a:ext cx="988920" cy="1225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56360" y="3863880"/>
            <a:ext cx="2504880" cy="1724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5280" y="4079880"/>
            <a:ext cx="2495520" cy="1704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5807160"/>
            <a:ext cx="2374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5807160"/>
            <a:ext cx="180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5807160"/>
            <a:ext cx="180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916280"/>
            <a:ext cx="8353440" cy="576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99"/>
                </a:solidFill>
                <a:latin typeface="Wingdings 2"/>
                <a:ea typeface="Wingdings 2"/>
              </a:rPr>
              <a:t>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DE LAS CARACTERISTICAS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852640"/>
            <a:ext cx="835344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99"/>
                </a:solidFill>
                <a:latin typeface="Wingdings 2"/>
                <a:ea typeface="Wingdings 2"/>
              </a:rPr>
              <a:t>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 LAS NECESIDADES CONTABLES DE LOS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7280" y="3860640"/>
            <a:ext cx="4752720" cy="2376720"/>
          </a:xfrm>
          <a:prstGeom prst="rect">
            <a:avLst/>
          </a:prstGeom>
          <a:noFill/>
          <a:ln w="28440">
            <a:solidFill>
              <a:srgbClr val="3399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511B-5302-4239-ADEE-1EE558C90284}" type="slidenum">
              <a:t>4</a:t>
            </a:fld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Preguntas fundamental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00280"/>
            <a:ext cx="468144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¿LOS EECC TIENEN USUARI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3429000"/>
            <a:ext cx="1152360" cy="431640"/>
          </a:xfrm>
          <a:prstGeom prst="rightArrow">
            <a:avLst>
              <a:gd name="adj1" fmla="val 50000"/>
              <a:gd name="adj2" fmla="val 66743"/>
            </a:avLst>
          </a:prstGeom>
          <a:gradFill rotWithShape="0">
            <a:gsLst>
              <a:gs pos="0">
                <a:srgbClr val="000082"/>
              </a:gs>
              <a:gs pos="5000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3840" y="2781360"/>
            <a:ext cx="649440" cy="16556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5080" y="2852640"/>
            <a:ext cx="1152720" cy="432000"/>
          </a:xfrm>
          <a:prstGeom prst="right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000082"/>
              </a:gs>
              <a:gs pos="5000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4920" y="2781360"/>
            <a:ext cx="381780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¿LOC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5080" y="4003560"/>
            <a:ext cx="1152720" cy="432000"/>
          </a:xfrm>
          <a:prstGeom prst="right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000082"/>
              </a:gs>
              <a:gs pos="5000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4920" y="3932280"/>
            <a:ext cx="3817800" cy="576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¿INTERNACION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5157720"/>
            <a:ext cx="1152360" cy="432000"/>
          </a:xfrm>
          <a:prstGeom prst="rightArrow">
            <a:avLst>
              <a:gd name="adj1" fmla="val 50000"/>
              <a:gd name="adj2" fmla="val 66688"/>
            </a:avLst>
          </a:prstGeom>
          <a:gradFill rotWithShape="0">
            <a:gsLst>
              <a:gs pos="0">
                <a:srgbClr val="000082"/>
              </a:gs>
              <a:gs pos="5000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3840" y="5086440"/>
            <a:ext cx="649440" cy="576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4920" y="5086440"/>
            <a:ext cx="5329440" cy="1366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No hay nada más inútil que hacer eficientemente la tarea equivo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eter Dru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CB54-503E-4397-A34F-4C75A9313D9A}" type="slidenum">
              <a:t>5</a:t>
            </a:fld>
          </a:p>
        </p:txBody>
      </p:sp>
    </p:spTree>
  </p:cSld>
  <p:transition spd="slow">
    <p:split dir="out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EECC que no tienen usuari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752480"/>
            <a:ext cx="8280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¿Qué beneficios obtiene la empresa a cambio de la emisión de los eecc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2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¿Obtiene capitales en los mercados de valores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3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¿Obtiene líneas de crédito en el mercado bancario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4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¿Obtiene mayores créditos y plazos de sus proveedo-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res?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5"/>
              </a:buBlip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¿Obtiene una reducción en las tasas de interés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uando los eecc tienen por único objeto su presentación ante la IGJ o IGPJ y la AFIP, el costo de su elaboración no genera ningún beneficio. Y, cuando los costos supe- ran los beneficios, los eecc son un problema en lugar de una solución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0"/>
            <a:ext cx="24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FE DE ERRA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FA88-D0A4-42C7-9BE4-C1605B962742}" type="slidenum">
              <a:t>6</a:t>
            </a:fld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Una propuesta concret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773360"/>
            <a:ext cx="8353440" cy="3528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1360"/>
                <a:tab algn="l" pos="1965240"/>
                <a:tab algn="l" pos="35002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ARA EECC DESTINADOS A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1965240"/>
                <a:tab algn="l" pos="35002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1965240"/>
                <a:tab algn="l" pos="35002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99"/>
                </a:solidFill>
                <a:latin typeface="Wingdings"/>
                <a:ea typeface="Wingdings"/>
              </a:rPr>
              <a:t>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INTERNACIONALES: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plicar normas contables y de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uditoria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1965240"/>
                <a:tab algn="l" pos="35002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1965240"/>
                <a:tab algn="l" pos="35002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99"/>
                </a:solidFill>
                <a:latin typeface="Wingdings"/>
                <a:ea typeface="Wingdings"/>
              </a:rPr>
              <a:t>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OCALES:  aplicar normas contables y de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uditoría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oc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1965240"/>
                <a:tab algn="l" pos="35002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1360"/>
                <a:tab algn="l" pos="1965240"/>
                <a:tab algn="l" pos="3500280"/>
                <a:tab algn="l" pos="413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ARA EECC SIN USUARIOS:  aplicar normas contables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básicas y revisión ampl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516640"/>
            <a:ext cx="8353440" cy="86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 Black"/>
              </a:rPr>
              <a:t>¡Cada ente debe elegir la norma m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 Black"/>
              </a:rPr>
              <a:t>adecuada a su estrategia de negoci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58F2-675A-4526-8DB4-13A3336D050C}" type="slidenum">
              <a:t>7</a:t>
            </a:fld>
          </a:p>
        </p:txBody>
      </p:sp>
    </p:spTree>
  </p:cSld>
  <p:transition spd="slow"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1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6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33360"/>
            <a:ext cx="8280360" cy="223200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LAS NORMAS CONTABLES GLOBALES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INCOMPATIBLES CON NORMAS 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FISCALES / COMERCIALES / CIVILES / SOCIET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141720"/>
            <a:ext cx="8282160" cy="79200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  <a:effectLst>
            <a:outerShdw dist="17819" dir="27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ffff"/>
                </a:solidFill>
                <a:latin typeface="Verdana"/>
              </a:rPr>
              <a:t>¿RESPONSABILIDAD PATRIMONIAL GLOB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4508640"/>
            <a:ext cx="8280360" cy="1512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Y CON NUESTRAS COSTUMBRES CON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INFLACION / COSTOS DE REP. / PROB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BEEB-281B-459E-BA64-338985DCF7B8}" type="slidenum">
              <a:t>8</a:t>
            </a:fld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1258560" cy="719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921800" y="0"/>
            <a:ext cx="1258560" cy="720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8440" y="380880"/>
            <a:ext cx="8286840" cy="9144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NCP   ≠   IASB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844640"/>
            <a:ext cx="3384720" cy="4032360"/>
          </a:xfrm>
          <a:prstGeom prst="foldedCorner">
            <a:avLst>
              <a:gd name="adj" fmla="val 21717"/>
            </a:avLst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STADOS CON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INDIVIDUA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ffff"/>
                </a:solidFill>
                <a:latin typeface="Verdana"/>
              </a:rPr>
              <a:t>Princip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Verdana"/>
              </a:rPr>
              <a:t>No neces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1280" y="1844640"/>
            <a:ext cx="3384360" cy="4032360"/>
          </a:xfrm>
          <a:prstGeom prst="foldedCorner">
            <a:avLst>
              <a:gd name="adj" fmla="val 21763"/>
            </a:avLst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ESTADOS CON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CONSOLIDAD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66ffff"/>
                </a:solidFill>
                <a:latin typeface="Verdana"/>
              </a:rPr>
              <a:t>Complem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Verdana"/>
              </a:rPr>
              <a:t>Princip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A50B-00E0-4013-9576-1578D196911D}" type="slidenum">
              <a:t>9</a:t>
            </a:fld>
          </a:p>
        </p:txBody>
      </p:sp>
    </p:spTree>
  </p:cSld>
  <p:transition spd="slow">
    <p:split dir="out" orient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4:36:38Z</dcterms:created>
  <dc:creator>Jorge Voss</dc:creator>
  <dc:description/>
  <dc:language>en-US</dc:language>
  <cp:lastModifiedBy>CPCECABA</cp:lastModifiedBy>
  <dcterms:modified xsi:type="dcterms:W3CDTF">2006-12-01T18:51:12Z</dcterms:modified>
  <cp:revision>8</cp:revision>
  <dc:subject>CPCECABA - Nov. 2006</dc:subject>
  <dc:title>Reingeniería Contable 2</dc:title>
</cp:coreProperties>
</file>