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8B6-5DD0-4831-B0A5-A49F91A7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D2A-5D52-467F-ACD6-370B0C12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C62-E0D0-4EDA-A8C8-A3CEA20D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AD1-9DB3-4472-9BF0-D7262296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83D1-D1CE-4496-B37C-EB37239D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F68-CCA9-4601-A88F-537FEFA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98E8-768B-43CC-ACA6-5D319A9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401A-2F7A-4CA5-8DD1-E4831F08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60D-9105-48DC-A258-E4CD74D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644C-B2A8-47FB-846A-33FF8EF9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7F3E-9AF0-4A84-AB7D-2FD9422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8B2-7B46-46A7-8477-1C560FC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BFC-662C-4BBA-954F-4107954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2CC4-09A3-470A-BFA1-AF438644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259-63E4-4EBD-9D24-2A717A8D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5680-B3BF-45BD-97CD-3E504813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79E4-2B13-4B89-8970-92724A4B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C23-22BD-4182-958B-052A4AA2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C57-3152-472B-9BBA-A559405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80B-46E5-4145-9592-BA9A48CC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B0F-278F-4F9E-AC2D-82FF646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5C8-584C-4D5D-9FB5-0C53F19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742-5DAB-4477-B712-A29CACD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A7B-B6FD-478E-8E8A-EF492E5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D2A-98C1-4743-8FB8-ED8B2D426B77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1280" y="115920"/>
            <a:ext cx="896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Verdana"/>
              </a:rPr>
              <a:t>BURN OU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345-105D-4FA2-BE44-28B4DDCEFA09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517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s-AR" sz="4000" spc="-1" strike="noStrike">
                <a:solidFill>
                  <a:srgbClr val="ffff00"/>
                </a:solidFill>
                <a:latin typeface="Verdana"/>
              </a:rPr>
              <a:t>Nuevos roles a ejercer ante un escenario de crecimiento”</a:t>
            </a:r>
            <a:r>
              <a:rPr b="1" lang="es-AR" sz="4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000"/>
            </a:b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iudad Autónoma de Buenos Aires, 28 de noviembre de 2006</a:t>
            </a:r>
            <a:r>
              <a:rPr b="1" lang="es-AR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7560" y="5564160"/>
            <a:ext cx="74804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xposi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Dra. Gloria S. Tabachn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Dr. CP. Ángel Abi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573360"/>
            <a:ext cx="853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ema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00"/>
                </a:solidFill>
                <a:latin typeface="Verdana"/>
              </a:rPr>
              <a:t>Stress – B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Cómo evitar el Agotamiento Profesional</a:t>
            </a:r>
            <a:r>
              <a:rPr b="0" lang="es-A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60280"/>
            <a:ext cx="7983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sejo Profesional de Ciencias Econó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Verdana"/>
              </a:rPr>
              <a:t>VII Jornada del Pequeño y Mediano Estudio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2637000"/>
            <a:ext cx="3672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Tedi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Depresión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Alie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2637000"/>
            <a:ext cx="3024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nsiedad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Fatiga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Est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216000" y="62028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Diagnóstico diferencial 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917720"/>
            <a:ext cx="8820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Tedio </a:t>
            </a:r>
            <a:br>
              <a:rPr sz="16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Mezcla de agotamiento físico, emocional y sentimientos de fatiga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Síntoma del síndrome de quemarse.</a:t>
            </a:r>
            <a:br>
              <a:rPr sz="1800"/>
            </a:br>
            <a:br>
              <a:rPr sz="1600"/>
            </a:b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Depresión</a:t>
            </a:r>
            <a:br>
              <a:rPr sz="16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ansancio, retiro social, sentimiento de fracaso, sentimiento de culp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usa atribuida al propio sujeto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sin referencia a contextos específicos.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índrome de quemarse: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usa de los problemas atribuida a interacción con los sujetos del trabajo, enojo, ira, cólera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Alienación</a:t>
            </a:r>
            <a:br>
              <a:rPr sz="16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crepancia entre deseos y exigencias de la realidad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Grado de percepción de que la existencia no tiene un claro propósito y significad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Poca libertad para llevar a cabo una tarea posibl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índrome de quemarse: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demasiada libertad para llevar a cabo una tarea impo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216000" y="62028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Diagnóstico diferencial 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989000"/>
            <a:ext cx="842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Ansiedad</a:t>
            </a:r>
            <a:br>
              <a:rPr sz="44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prehensión, tensión, malestar o desasosiego frente a peligro desconocido, forma parte del síndrome de quemarse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 de no poseer las habilidades necesarias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índrome de quemarse: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la situación excede a las habilidades que una persona posee.</a:t>
            </a: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Fatiga física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cuperación rápida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, muchas veces acompañado de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sentimientos de realización personal y éxito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índrome de quemarse: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profundo sentimiento de fracaso.</a:t>
            </a:r>
            <a:br>
              <a:rPr sz="1800"/>
            </a:br>
            <a:br>
              <a:rPr sz="1800"/>
            </a:b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Estré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Tiene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fectos positivos y negativ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para la vida,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icia accion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, da energía para vivir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índrome de quemarse: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sólo efectos negativos,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a corto o mediano plazo como respuesta a estré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16000" y="64728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Diagnóstico diferencial 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2360" y="620280"/>
            <a:ext cx="8856720" cy="6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TIOLOGIA DEL SINDROME 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1280" y="1197000"/>
            <a:ext cx="89647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screpancia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tre demandas de la tarea y recursos del sujeto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utoconcienci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las discrepanci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xpectativa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éxito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Incertidumbre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ercepción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equidad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lta de contro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resultados de sus acciones laborale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poyo soci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compañero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ive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reactividad del sujeto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Orientación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 el intercambio (no aceptan favores que no puedan ser devueltos en plazo bre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stresores laborales:</a:t>
            </a: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 Desencadenantes</a:t>
            </a:r>
            <a:r>
              <a:rPr b="1" lang="es-AR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1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20" y="2494080"/>
            <a:ext cx="3313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uid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luminación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ibracion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Higien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Tóxic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spacio físico disponibl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Turnos nocturn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y rotación de turn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portunidad para emplear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habilidad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ariedad de tarea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tro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7720" y="177264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Ambiente fís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y contenido del puesto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4920" y="2421000"/>
            <a:ext cx="30258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laciones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erpersonales con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compañer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superior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subordinad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usuari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alta de cohesión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l grup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alta de seguridad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el puesto de trabaj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portunidades de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moción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ercepción de inequidad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mbigüedad de rol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onflicto de 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1880" y="1772640"/>
            <a:ext cx="25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Desempeño de role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estrés de rol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781360"/>
            <a:ext cx="241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ivel de formación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técnico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blemas ético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structura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rganizac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lima organizacional</a:t>
            </a: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760" y="1785600"/>
            <a:ext cx="24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Nuevas tecnolog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y otros asp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organizacionale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35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Variables personales:</a:t>
            </a: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 Facilitadores</a:t>
            </a:r>
            <a:r>
              <a:rPr b="1" lang="es-AR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1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20" y="2638440"/>
            <a:ext cx="2160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ex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dad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stado civil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Hij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Antigüedad en el puesto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y en la profe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3840" y="215532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Demográficas</a:t>
            </a:r>
            <a:r>
              <a:rPr b="1" lang="es-AR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2565360"/>
            <a:ext cx="2737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ujetos: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mpáticos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ensibles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human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dicados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altruista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dealista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obsesiv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ntusiasta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ocus de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ontrol extern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Baja autoconfianza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sonalidad tipo “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5760" y="21553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sonalidad</a:t>
            </a:r>
            <a:r>
              <a:rPr b="1" lang="es-AR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65360"/>
            <a:ext cx="2592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Activas: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entradas en el problem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asivas: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entradas en la emoción (evitación, escape)</a:t>
            </a: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1600" y="1911240"/>
            <a:ext cx="196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de afron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19162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poyo social en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l trabajo</a:t>
            </a:r>
            <a:r>
              <a:rPr b="0" lang="es-AR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2567160"/>
            <a:ext cx="1512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ormal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formal</a:t>
            </a: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47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Personalidad tipo “A”.</a:t>
            </a:r>
            <a:r>
              <a:rPr b="1" lang="es-AR" sz="1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1280" y="1584360"/>
            <a:ext cx="90727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Impacienci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Velocidad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xcesiva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rgenci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emporal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sfuerzo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or el logro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ompetitividad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gresividad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Hostilidad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Habl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gesto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bruscos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ompromis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xcesivo por el trabajo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Sobrecarg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rol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clives a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nfermedades cardiovasculares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Individualistas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oca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ctividades físicas y recreativas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jercicios físicos, relajación, vacaciones, distracciones, etc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Opuesto a tipo B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a satisfacción de necesidades de éxito y logros no origina los estragos físicos y psicológicos del tipo “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73440" y="620640"/>
            <a:ext cx="932508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RESILIENCIA: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apacidad de las persona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o grupos de afrontar las adversidades de la vida con éxito y salir incluso fortalecidos de ellas.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" y="2882880"/>
            <a:ext cx="73090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LOS PILARES DE LA RESILIENCIA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trospección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dependenci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apacidad de relacionarse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iciativ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umor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reatividad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Moralidad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utoestima consist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81080" y="-27000"/>
            <a:ext cx="95061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Características de </a:t>
            </a:r>
            <a:br>
              <a:rPr sz="3600"/>
            </a:b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PERSONALIDAD RESISTENTE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frente al estrés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920" y="2349360"/>
            <a:ext cx="93963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OMPROMISO</a:t>
            </a:r>
            <a:br>
              <a:rPr sz="18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pacidad para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creer en la verdad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mportancia e interés del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valor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de lo que es y hace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Tendencia a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mplicarse en diferentes situaciones de vida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trabajo, familia, amigos, instituciones)</a:t>
            </a:r>
            <a:br>
              <a:rPr sz="1600"/>
            </a:br>
            <a:br>
              <a:rPr sz="1600"/>
            </a:b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ONTROL</a:t>
            </a:r>
            <a:br>
              <a:rPr sz="18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Tendencia a creer que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o influye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en los hechos y resultados de los mismos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inimizan creencia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de indefensión, se buscan explicacione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nfatiza la propia responsabilidad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vs. acciones de otros, el azar, el destino</a:t>
            </a:r>
            <a:br>
              <a:rPr sz="1600"/>
            </a:br>
            <a:br>
              <a:rPr sz="1600"/>
            </a:b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RETO</a:t>
            </a:r>
            <a:br>
              <a:rPr sz="18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reencia de que el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cambio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es la norma, oportunidad para desarrollarse, más que como amenaza a la seguridad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Buscan </a:t>
            </a: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nuevas experiencia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y se aproximan a ellas con flexibilidad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81080" y="692280"/>
            <a:ext cx="9506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RESISTENCIA AL CAMBIO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-252360" y="1916280"/>
            <a:ext cx="939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resistencia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a buscar ayuda individual es a menudo un problema por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Miedo a ser estigmatizad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entimientos de vergüenza sobre la propia vulnerabilidad y/o debilidad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mitaciones de tiemp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mitaciones financier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l síndrome de “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burn out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” es probablemente l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ulminación de una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respuesta sostenida e intensa 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stress negativ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o distres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burn out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no es sólo signos y síntom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relacionados con este distress, sino que afecta to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esferas de la existenci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apsíqu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erpersonal o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ofe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o de los aspectos más tristes es la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pérdida 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motivación para involucrarse creativamente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y el dar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cuenta que la capacidad para ayudar a otros h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desaparecid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, porque no queda nada para d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81080" y="620640"/>
            <a:ext cx="950616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PUESTAS AL ESTRÉS LABORAL CRÓNICO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1844640"/>
            <a:ext cx="93963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stenia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norexia o exceso alimentario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Trastornos del sueño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Cefalea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Lumbalgias, cervicalgia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lteraciones gastrointestinales (diarreas, úlceras) 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Dolores musculare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lteraciones menstruale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Precordialgia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Palpitacione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Hipertensión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Crisis asmática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Catarros frecuente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Infecciones frecuente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Alergia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Fatiga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Mareos</a:t>
            </a:r>
            <a:br>
              <a:rPr sz="1800"/>
            </a:b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Náusea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181080" y="981000"/>
            <a:ext cx="950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CONSECUENCIAS NOCIVAS PARA EL INDIVI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484280"/>
            <a:ext cx="532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ALTERACIONES PSICOSO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71280" y="2160720"/>
            <a:ext cx="93963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sánim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burrimient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Hastí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stados depresiv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timiento de fracas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érdida del sentido de prioridad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tanciamiento emocional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ación de atrapamiento y de “volverse loco”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Tics nervios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Miedos indefinid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soñaciones diurnas aumentada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noi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timientos de desesperanza, impotencia u omnipotenci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significancia, soledad, alien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181080" y="619200"/>
            <a:ext cx="950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PUESTAS AL ESTRÉS LABORAL CR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181080" y="981000"/>
            <a:ext cx="950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CONSECUENCIAS NOCIVAS PARA EL INDIVI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1484280"/>
            <a:ext cx="532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ALTERACIONES EMO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612720" y="2519280"/>
            <a:ext cx="60483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lcoholismo y consumo de drog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endencias suicid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inism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Grandiosidad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rritabilidad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bre concentración y rendimient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utomedicació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onductas riesgosas que favorecen: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caíd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accident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juego excesivo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1916280"/>
            <a:ext cx="532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ALTERACIONES CONDUCTU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519280"/>
            <a:ext cx="50403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gresividad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Violenci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mbios bruscos de humor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ojo frecuent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islamient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spicaci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preci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verbalizació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flexi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81080" y="619200"/>
            <a:ext cx="950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PUESTAS AL ESTRÉS LABORAL CR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181080" y="981000"/>
            <a:ext cx="950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CONSECUENCIAS NOCIVAS PARA EL INDIVI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36360" y="2492280"/>
            <a:ext cx="9361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Aislamient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hiperinvolucramient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con el equipo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Problem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conyugales y familiare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Malhumor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con los usuar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Desconfianza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acia sus pares y/o superiore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ctitudes 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hipercr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108000" y="1486080"/>
            <a:ext cx="936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ALTERACIONE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VINCUL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6360" y="1844640"/>
            <a:ext cx="936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ABORALES Y EXTRALABORALES</a:t>
            </a: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81080" y="619200"/>
            <a:ext cx="950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PUESTAS AL ESTRÉS LABORAL CR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181080" y="981000"/>
            <a:ext cx="9506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CONSECUENCIAS NOCIVAS PARA EL INDIVI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468360" y="1197000"/>
            <a:ext cx="96123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ctitudes cínica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nflictos constante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frentamientos matrimoniales, separacione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Incapacidad para aislarse de los problemas laborales al llegar a casa</a:t>
            </a:r>
            <a:br>
              <a:rPr sz="1800"/>
            </a:br>
            <a:br>
              <a:rPr sz="1200"/>
            </a:b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Desean estar solo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igen mayor atención a los suyos pero no la dan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húsan discutir problemas familiare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mplían su rol profesional a su vida privada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e vuelcan completamente a su trabajo y desplazan las relaciones familiares a segundo plano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durecimiento de sus sentimientos</a:t>
            </a:r>
            <a:br>
              <a:rPr sz="1800"/>
            </a:br>
            <a:br>
              <a:rPr sz="1200"/>
            </a:b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Tratan con menos consideración y respeto a su familia que a sus clientes o usu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81080" y="619200"/>
            <a:ext cx="9506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PROBLEMAS FAMILIARES Y CONYUGALES</a:t>
            </a: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684360" y="1413000"/>
            <a:ext cx="9649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Satisfacción laboral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isminuida</a:t>
            </a:r>
            <a:br>
              <a:rPr sz="1600"/>
            </a:br>
            <a:br>
              <a:rPr sz="1600"/>
            </a:b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bsentism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laboral elev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ropensión al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bandon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o intención de  dejar el puesto 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o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teré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por las actividades laborales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Deterior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a calidad del servici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ument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os conflictos interpersonales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ument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a rotación laboral  no deseada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ument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os  accidentes de trabaj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Cost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conómicos aumentados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Pérdida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a eficacia y eficiencia  para conseguir objetivos 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mplementación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adecuada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políticas organiz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36360" y="1052640"/>
            <a:ext cx="936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CONSECUENCIAS NOCIVAS PARA L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PUESTAS AL ESTRÉS LABORAL CRÓNICO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81080" y="42480"/>
            <a:ext cx="950616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NTRENAMIENTO PARA EL MANEJO DEL TIEMPO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-217440" y="1989000"/>
            <a:ext cx="9902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stablecer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prioridad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Delegar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ctividad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dificar la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percepción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de lo urgent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alizar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DISEÑO DIAR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posible, objetivos realist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omarse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respiros o tregu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iaria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manal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ensual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rimestral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uales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OTRAS ESTRATEGIAS: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ejorar la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mpetencia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profesional: cursos, congres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Ejercicio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físicos, relajación, meditació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Hobbi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Revisar hábitos: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limentación, sedentarismo, adiccion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mpromiso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ideológicos, religios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amb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de puestos o rol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Balancear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el dar y el recib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09800" y="42480"/>
            <a:ext cx="95058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NTRENAMIENTO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N CONDUCTAS ASERTIVAS</a:t>
            </a: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628640"/>
            <a:ext cx="9144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CONDUCTA ASERTIVA: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Expresión directa, honesta y apropiada de sentimientos, 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deseos y necesidade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Ser ASERTIVO es: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Tener derecho a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equivocarse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Considera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las propias necesidades como las de los demás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Decir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sin sentirse culpable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Saber juzga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las propias conductas, pensamientos y emociones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sumi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las consecuencias de los propios actos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Discuti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el papel de creencias, actitudes, prejuicios, mitos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der juga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a intercambiar roles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Combatir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 sentimientos de agotamiento y malest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933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ENTRENAMIENTO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EN RESOLUCIÓN DE PROBLEMAS</a:t>
            </a:r>
            <a:r>
              <a:rPr b="1" lang="es-AR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-181080" y="1844640"/>
            <a:ext cx="9361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268280"/>
          <a:ext cx="9144000" cy="5453280"/>
        </p:xfrm>
        <a:graphic>
          <a:graphicData uri="http://schemas.openxmlformats.org/drawingml/2006/table">
            <a:tbl>
              <a:tblPr/>
              <a:tblGrid>
                <a:gridCol w="3708360"/>
                <a:gridCol w="2190960"/>
                <a:gridCol w="324468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NOCIMI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Para qué viene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CEPTAR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LOS PROPIOS PROBLEMAS Y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NOCERL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ICACIÓN DE ESTRESORES Y CONFLICTO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CULTOS (MIEDO, ANGUSTIA, ETC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uál es su problem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Qué le preocup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Qué pasa hoy con su vid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NUNCIAR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L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IMUL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CIÓN DE ALTERNATIV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Y OBJETIVOS RE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Qué hace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ómo lo vamos a ve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CEPTAR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QUIVOCAR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ENERAR POSIBLES SOLU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omo va a sali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STALARSE EN LA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JA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ES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FERIR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EL PROBLE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LU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uáles? (delimitarla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ómo? (evaluarla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TRAVESAR LA ANGUSTIA</a:t>
                      </a: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DE ENFRENTAR LA REALIDA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LEVAR LAS SOLUCION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 LA PRÁC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rogarse sobre posibilidades de éxito y fracas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MAR DECIS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SUMIR </a:t>
                      </a: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IESGOS E INCERTIDUMB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 HAY GARANTI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CIÓN GLOB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 LOS OBJETIVOS LOGR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Qué corregi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ómo adecuar las tácticas a la estrategia global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TROALIMENTARSE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FORMARSE, APRENDER, COMPARTIR, ACEPTAR CONSECUENCIAS,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 BUSCAR LA APROBACIÓN AUTOMÁTICA DE LOS OT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81080" y="763200"/>
            <a:ext cx="950616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RATEGIAS PARA LA BÚSQUEDA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 APOYO SOCIAL EN EL TRABAJO</a:t>
            </a:r>
            <a:br>
              <a:rPr sz="2000"/>
            </a:b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4464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Buscar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ayuda de compañeros y supervisores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en lo formal e informal para:</a:t>
            </a:r>
            <a:br>
              <a:rPr sz="1900"/>
            </a:b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tener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nueva información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desarrollar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nuevas habilidades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mejorar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habilidades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obtener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apoyo técnico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obtener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apoyo emocional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Analizar creencias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sobre sí mismo</a:t>
            </a:r>
            <a:br>
              <a:rPr sz="1900"/>
            </a:br>
            <a:br>
              <a:rPr sz="1900"/>
            </a:b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Evaluar el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grado de integración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propio dentro de la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 estructura sociolaboral</a:t>
            </a:r>
            <a:br>
              <a:rPr sz="1900"/>
            </a:br>
            <a:br>
              <a:rPr sz="1900"/>
            </a:b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Grupos de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autoayuda</a:t>
            </a:r>
            <a:br>
              <a:rPr sz="1900"/>
            </a:br>
            <a:br>
              <a:rPr sz="1900"/>
            </a:b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Supervisiones</a:t>
            </a:r>
            <a:br>
              <a:rPr sz="1900"/>
            </a:br>
            <a:br>
              <a:rPr sz="1900"/>
            </a:br>
            <a:r>
              <a:rPr b="1" lang="es-ES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s-ES_tradnl" sz="1900" spc="-1" strike="noStrike">
                <a:solidFill>
                  <a:srgbClr val="ffff00"/>
                </a:solidFill>
                <a:latin typeface="Verdana"/>
              </a:rPr>
              <a:t>Conocer</a:t>
            </a: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efectos del Burn Ou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2208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DEFINICION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5840" y="1125000"/>
            <a:ext cx="88585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ogresiva pérdida de idealismo,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nergía y propósit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fesionales que ayudan 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ondición psicológica debilitante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consecuencia de frustr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lacionada con el trabajo, que resulta en disminución de 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ductividad y moral, disminución de la resistencia para l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fermedades y consecuente ineficiencia labor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gotamiento físico, emocional y ment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or depleción física y fatig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rónica, sentimientos de inutilidad, desesperanza y desarrollo 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oncepto y actitudes negativas hacia sí mismo, el trabajo, la vida 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tras person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ría el resultado de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gastarse por la pretensión persistente de 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onjunto de expectativas inalcanzab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estado resultante 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trauma narcisist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que conlleva una disminución en la autoesti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 los suje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ALIZAR PROBLEMAS LABORALE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QUE NO PUEDEN SER CAMBIADO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CON ACCIONES PERSONALES</a:t>
            </a:r>
            <a:br>
              <a:rPr sz="2000"/>
            </a:b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421000"/>
          <a:ext cx="9144000" cy="37432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232000"/>
                <a:gridCol w="2627280"/>
              </a:tblGrid>
              <a:tr h="37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GRAMAS 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OCIALIZ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NTICIPATO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ALISIS 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IDE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Y EXPECTATIV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CION 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TROINFORM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SI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LOS 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IDERAZ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AN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TICIP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EATIV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INNOV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DES</a:t>
                      </a: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DE APOY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S 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ESARROL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ORGANIZAC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QUIP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 TRABAJ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TRAS ESTRATEG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INEAS CLARAS 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TOR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MUNICACIÓN</a:t>
                      </a: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RGANIZAC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DECU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MPEN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MO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TIMULAR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   RESPONS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   AUTONO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539640" y="1989000"/>
            <a:ext cx="842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Verdana"/>
              </a:rPr>
              <a:t>Estrategias organizacionales desde la direcció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94680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MEDITACIONES SOBRE MÍ MISM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71280" y="1871640"/>
            <a:ext cx="89647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o disimularme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s propios sentimientos y los pensamientos ligados a ellos, por temor a que no sean aceptables por el otr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o se puede jugar la propia vida a que le guste a los demá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uniformarnos para ser aprobad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a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eurosis de nuestro tiemp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 “ser como los otros para merecer el aplauso y así el éxito”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l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riesgo de todos los tiempo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 “huir de lo que precisamente no es posible eludir porque somos nosotros mismos”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odos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os desesperamos por justificar nuestras idea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 lugar de hacernos cargo de los problemas que reclaman atención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94680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MEDITACIONES SOBRE MÍ MISMO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6360" y="1557360"/>
            <a:ext cx="90727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 vital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no quedar atrapados en el monopolio de un ide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poder así practicar una ética de la aceptación y las diferencias que es lo contrario de la resignación y la discriminación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Aceptación es reconocimient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esto nos permite tomar decisiones más adecuadas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*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Tener poder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es dominar a los demás sino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dominarse a sí m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26120" y="5515560"/>
            <a:ext cx="58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o único permanente en la vida es el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33000" y="4797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CI, Guillermo: “Yo mismo y Y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76360" y="5516640"/>
            <a:ext cx="6191280" cy="865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ARA MÁS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gloriatabachnik@yahoo.com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abiad@asaintegral.com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ra. Gloria S. Tabachnik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y 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Dr. CP. Ángel Abiad</a:t>
            </a:r>
            <a:r>
              <a:rPr b="1" lang="es-AR" sz="4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Verdana"/>
              </a:rPr>
              <a:t>Gracias por la atención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349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Respuesta al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strés laboral crónico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en el marco laboral de las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profesiones centradas en la prestación de servici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4005360"/>
            <a:ext cx="90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ipo particular de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mecanismo de afrontamiento y autoprotección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frente al estrés generado en la relación profesional-cliente y en la relación profesional-organiz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63640"/>
            <a:ext cx="946800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Factores asociad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84464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Competencia y autoeficacia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percibida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Elevado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altruismo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Factores de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ayuda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y de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barrera</a:t>
            </a:r>
            <a:br>
              <a:rPr sz="2200"/>
            </a:b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Sentido existencial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del trabajo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Desilusión en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sujetos altamente motivado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hacia su  trabajo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Alto nivel de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autoconciencia y pesimismo</a:t>
            </a:r>
            <a:br>
              <a:rPr sz="2200"/>
            </a:b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Tendencia a retirarse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de manera mental o conductual de la situación problemática</a:t>
            </a:r>
            <a:br>
              <a:rPr sz="2200"/>
            </a:b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Se aporta má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de lo que se recibe a cambio</a:t>
            </a:r>
            <a:br>
              <a:rPr sz="2200"/>
            </a:b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Incertidumbre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inequidad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falta de control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Los estresores laborales generan </a:t>
            </a: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inseguridad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sobre las propias habilidades.</a:t>
            </a:r>
            <a:br>
              <a:rPr sz="2200"/>
            </a:br>
            <a:r>
              <a:rPr b="0" lang="es-ES" sz="2200" spc="-1" strike="noStrike">
                <a:solidFill>
                  <a:srgbClr val="ffff00"/>
                </a:solidFill>
                <a:latin typeface="Verdana"/>
              </a:rPr>
              <a:t>Percepciones y cognicione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 de los suje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94680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Fases del síndrom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232000"/>
            <a:ext cx="878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PERSONALIZ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500280"/>
            <a:ext cx="878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BAJA REALIZACION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ERSONAL EN EL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4824360"/>
            <a:ext cx="8785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AGOTAMIENTO EMO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94680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Estadí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844640"/>
            <a:ext cx="8964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IO 1- Luna de miel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 satisfacción laboral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promis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nergía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reatividad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i enfrenta las inevitables presiones de su trabajo convenientemente en forma positiva y adaptativa entonces persistirá  en esta etapa indefinidamente. Pocas personas lo hacen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IO 2 - Equilibrando el disbalanc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gunos días se siente mejor que otros, según pueda enfrentar el estrés laboral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nsatisfacción laboral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neficiencia en el trabajo, incluye evitar tomar decisiones necesarias, perder “cosas” Fatiga general, a menudo acompañada de profunda fatiga muscula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rastornos del sueño, su cabeza está tan “ocupada” que no puede dormirs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tividades escapistas, comer, beber, fumar, ver largamente tele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3560"/>
            <a:ext cx="94680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Estadío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44640"/>
            <a:ext cx="914400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IO 3 - Síntomas crónico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ntensificación de los síntomas del estadío 2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gotamiento crónic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nfermedad física, el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BURN OUT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 un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factor de riesg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para muchas enfermedade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ra, irritabilidad, depresión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IO 4 - Crisi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os síntomas se vuelven crítico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os síntomas físicos se intensifican o aumentan en núme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sesionado con las frustraciones del trabaj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l pesimismo y el dudar de sí mismo dominan los pensamiento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sarrolla una mentalidad “escapista”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IO 5 - Confusión síntomal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os síntomas de BURN OUT han penetrado tanto en su vida que Ud. es más proclive a ser etiquetado como padeciendo más un problema emocional y/o físico significativo y/o grave y no el llamado síndrome de BURN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LOS ANTECEDENTES DEL SÍNDROME DE BURN OUT DEBEN BUSCARSE EN:</a:t>
            </a:r>
            <a:endParaRPr b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492280"/>
            <a:ext cx="80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ariables del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orno social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Variables del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orno organizacional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Variables del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orno interpersonal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 Variables del 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orno individ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0:27:56Z</dcterms:created>
  <dc:creator>F1</dc:creator>
  <dc:description/>
  <dc:language>en-US</dc:language>
  <cp:lastModifiedBy>CPCECABA</cp:lastModifiedBy>
  <dcterms:modified xsi:type="dcterms:W3CDTF">2006-12-01T18:47:15Z</dcterms:modified>
  <cp:revision>185</cp:revision>
  <dc:subject/>
  <dc:title>Información general del proyec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