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8B2-24C8-4561-8129-8E60E992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CA05-DD9C-48F3-9D76-6F2BB4D5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93F9-2997-42B4-9489-D399B2EA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EAA7-AA94-44ED-AE42-B146B847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399-B66F-401C-B414-1F9FB58A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62BF-ED75-496B-AF77-229C4137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3934-E8BF-46C8-9A5E-661ED460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EAE-F85E-42C1-9F09-45B2B7C6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241-8588-4CDC-8522-F87BAE1C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CE8-BB7D-444F-9F92-9991C054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635-29FF-4577-B223-1EEB79F8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DAC-0DE9-49E9-BE21-53276D4A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2569-F27C-41F0-AD4E-A7DC13065E7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 PROFESIONAL PUEDE SER EMPRESARIO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276280"/>
            <a:ext cx="6408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 UNIPERSON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es o Asociaciones Flex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EDAD DE PROFESIONAL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.= Disciplina o C/.Otras Discipl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DADES AFINES A LA PROFE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EDO SER EMPRESARIO PROFESIONAL”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CIO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O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3280" y="2133720"/>
            <a:ext cx="4321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que me preparé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 adapto a cualqui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o potencial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s o después del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ación para siemp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o la renova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 proyecto es realiz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 preparo para obtener crédi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a de Retorno acep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ANDO SOY EMPRESARI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UMO RIES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ADAPTO A LOS CAMB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PTO INESTABILIDAD ECONO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Y NEGOCIADOR PERMA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E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CO PROYECTOS CLAROS Y ALTAMENTE REALIZ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CO PONER LOS “HUEVOS” EN DISTINTAS CANA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OY EMPRESARIO POR LO QUE HAGO, SINO, PORQUE ME VEN COMO “EMPRES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778280" y="1723680"/>
            <a:ext cx="3614760" cy="3190680"/>
            <a:chOff x="4778280" y="1723680"/>
            <a:chExt cx="3614760" cy="3190680"/>
          </a:xfrm>
        </p:grpSpPr>
        <p:sp>
          <p:nvSpPr>
            <p:cNvPr id="51" name="_s11294"/>
            <p:cNvSpPr/>
            <p:nvPr/>
          </p:nvSpPr>
          <p:spPr>
            <a:xfrm>
              <a:off x="5776920" y="2290320"/>
              <a:ext cx="1619280" cy="16189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1281"/>
            <p:cNvSpPr/>
            <p:nvPr/>
          </p:nvSpPr>
          <p:spPr>
            <a:xfrm>
              <a:off x="6370560" y="1723680"/>
              <a:ext cx="4320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1293"/>
            <p:cNvSpPr/>
            <p:nvPr/>
          </p:nvSpPr>
          <p:spPr>
            <a:xfrm>
              <a:off x="6310440" y="3214440"/>
              <a:ext cx="1618920" cy="161892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1279"/>
            <p:cNvSpPr/>
            <p:nvPr/>
          </p:nvSpPr>
          <p:spPr>
            <a:xfrm>
              <a:off x="7961400" y="4509720"/>
              <a:ext cx="4316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ÉD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1292"/>
            <p:cNvSpPr/>
            <p:nvPr/>
          </p:nvSpPr>
          <p:spPr>
            <a:xfrm>
              <a:off x="5241960" y="3213000"/>
              <a:ext cx="1619280" cy="16185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1277"/>
            <p:cNvSpPr/>
            <p:nvPr/>
          </p:nvSpPr>
          <p:spPr>
            <a:xfrm>
              <a:off x="4778280" y="4508280"/>
              <a:ext cx="43200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CUR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UM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01:30:15Z</dcterms:created>
  <dc:creator>std</dc:creator>
  <dc:description/>
  <dc:language>en-US</dc:language>
  <cp:lastModifiedBy>CPCECABA</cp:lastModifiedBy>
  <dcterms:modified xsi:type="dcterms:W3CDTF">2006-12-01T18:52:41Z</dcterms:modified>
  <cp:revision>8</cp:revision>
  <dc:subject/>
  <dc:title>EL PROFESIONAL PUEDE SER EMPRESARIO?</dc:title>
</cp:coreProperties>
</file>