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BEB-AD76-427E-BB6F-2055932A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A58-6E35-421D-9DFC-A25118D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E9A-7C06-4AAF-A78A-B290D46D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AC0-E431-4C2C-9FAD-CBE4D952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F9C1-3632-4A57-9FB8-25736DB7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63E-3452-4F54-8D2B-D18EE2F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BE9-9287-452A-B827-D009BD9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0CEB-EF61-46FE-82FC-D7B8760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AF6D-A9E9-48B2-A9CE-B9A84C0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7C89-A7DC-4430-8598-2FB3777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F183-03E3-4FC3-88B5-6D8D6AE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88B-6967-419C-BE4C-570D18D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FB45-A49A-4696-9363-264813E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AB35-4BCF-42D4-BB68-A6FA6B4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C194-BE4F-4980-9718-624A511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753E-5A3E-46FC-A89F-794589F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331-4370-4D59-9AD9-2FECB90C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B1C-D3DA-486D-830E-3AA2AD8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234-402F-44DE-93AD-86F522FD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114-98E5-469D-90F5-13A2192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C6E-DCF7-448B-A043-5A6C8049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43E-101E-4746-9A1B-4E5680F7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13A-6847-43FC-A993-C8FCA5B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A2A-9A43-4B9E-BEF9-AEEDC7C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CABF-2DB2-4B04-A936-D5BC981BABE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C3C0-3363-4319-AEFB-22661DF8E32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El Profesional como Empresario”</a:t>
            </a:r>
            <a:br>
              <a:rPr sz="3200"/>
            </a:b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Formación Profesional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ctor Públ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Organismos dependientes del Estado, Municipios y Otr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Auxiliares de la Justicia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ctor Priv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En empres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Estudios Profesiona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Profesión Independien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Docenc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Cátedra en instituciones educativas y/o de form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Capacitado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El Profesional como Empresario”</a:t>
            </a:r>
            <a:br>
              <a:rPr sz="2800"/>
            </a:br>
            <a:r>
              <a:rPr b="0" lang="es-AR" sz="2800" spc="-1" strike="noStrike">
                <a:solidFill>
                  <a:srgbClr val="333399"/>
                </a:solidFill>
                <a:latin typeface="Tahoma"/>
              </a:rPr>
              <a:t> Para estructurarnos como empresa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Elementos a consider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Conocer la estructura a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n que conta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Quien nos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mo y con que satisfac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ual es la reacción ante los camb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ntamos con proyección y/o programación de t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El Profesional como Empresario”</a:t>
            </a:r>
            <a:br>
              <a:rPr sz="3200"/>
            </a:b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Actualización y cambios tecnológicos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omo los enfrenta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Preventivamen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Necesida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formát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Hardwa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Softwa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omun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Con client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Con institucion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Con colegas y otras profesion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El Profesional como Empresario”</a:t>
            </a:r>
            <a:br>
              <a:rPr sz="3600"/>
            </a:b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Como prepararnos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Evaluar y actualizarse permanente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Optimizar la estructura inter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Fi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atisfacer los requerimiento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Propias de la actividad y especific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Emanadas por terceros y entes de contral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Incorporar la estructura exter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Nos permite ser flexibles y poder ofrec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iversidad de servi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Optimización de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El Profesional como Empresario”</a:t>
            </a:r>
            <a:br>
              <a:rPr sz="3600"/>
            </a:b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Que nos requier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Tomar la decisión impl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Asumir el riesgo empres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Planificar un desarrollo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Establecer las neces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Evaluar el presupuesto de inver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Posibilitar la asociativ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3:00:05Z</dcterms:created>
  <dc:creator>Jose </dc:creator>
  <dc:description/>
  <dc:language>en-US</dc:language>
  <cp:lastModifiedBy>CPCECABA</cp:lastModifiedBy>
  <dcterms:modified xsi:type="dcterms:W3CDTF">2006-12-01T18:53:29Z</dcterms:modified>
  <cp:revision>14</cp:revision>
  <dc:subject/>
  <dc:title>“El Profesional como empresario” Formación Profesional</dc:title>
</cp:coreProperties>
</file>