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1B41-D6C7-4181-AFC2-1C1F35316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00D5-C067-4E89-AFC2-24B0471E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D76D-2334-4C6A-A0F5-1EDC7E491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3AB2-01FC-401D-8AAD-AFA469E2D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CA6A-4078-451D-908A-C39EC216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8F7F-CF51-4A78-9CDC-83DEAC21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5642-A6BF-498F-9621-CEF32D90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72F7-B6F8-46A4-9F7C-F6F1092D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6D5E-88C4-4A81-8C58-33087360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6C44-10C4-4B21-9EF4-67F39075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0C39-26ED-48DA-87CF-9FB2E185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28AC-ED1F-487A-8FA6-A4E096F9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6CD1-E23D-4C65-8E38-0665DB03333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4160" y="765000"/>
            <a:ext cx="8638920" cy="18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STRATEGIAS DE CRECIMIENTO PROFESIONAL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4360" y="3789360"/>
            <a:ext cx="80578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R. RUBÉN DANIEL CIANFAGNA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28 DE NOVIEMBRE DE 2006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013400" y="382680"/>
            <a:ext cx="75826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ERVICIOS PROFES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NUEVOS SERV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¿ Es necesario prestar nuevos servicio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¿ Contamos con personal capacitad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¿ Tenemos el soporte técnico adecuad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¿ Qué inversión se requier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¿ Qué estrategias utilizaremos para difund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esos servicios 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08000" y="446040"/>
            <a:ext cx="5904000" cy="59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CLAVES DE ÉX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ener pleno convencimiento de   que contamos con la capacidad profesional neces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xperi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no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apaci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Orientación hacia el fut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ncre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Valio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844720" y="404640"/>
            <a:ext cx="475164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CLAVES DE ÉX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DEFINIR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i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Vi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strateg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68360" y="588960"/>
            <a:ext cx="4572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REALIZAR ESTUDIO DE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emanda potencial que justifique la prestación de esos serv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DEFINIR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sto del serv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recio del serv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374920" y="1700280"/>
            <a:ext cx="6769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UBICACIÓN DEL EST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studio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studio reg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studio n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050920" y="0"/>
            <a:ext cx="5761080" cy="74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RECURSOS HUMA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ntratación de nuevo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eleg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DEDICACIÓN DEL TITULAR O SO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st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rato cord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oti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ncentivos econó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soci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4000" y="476280"/>
            <a:ext cx="6408720" cy="67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RECURSOS ECONÓ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ESTRUC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Ofici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quip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No invertir más allá de nuestra capa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a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to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58920" y="404640"/>
            <a:ext cx="54007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OTRAS OP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soci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present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924360" y="1700280"/>
            <a:ext cx="647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59280" y="981000"/>
            <a:ext cx="32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nsorcios de profes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56000" y="170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24360" y="2565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59280" y="213372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structuras flex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24360" y="2781360"/>
            <a:ext cx="576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88000" y="321300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sociación parcial o pl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411280" y="189000"/>
            <a:ext cx="4572000" cy="67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OTRAS OP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VENTAJA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Obtención de trabajos   espe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m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sesor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ducción de co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specia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r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484360" y="981000"/>
            <a:ext cx="3960720" cy="49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OTRAS OP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DESVENTAJA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mpartir cl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m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oma deci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692360" y="2749680"/>
            <a:ext cx="5908680" cy="14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¿ Por qué crecer ?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66920" y="333360"/>
            <a:ext cx="5184720" cy="63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OTROS ASPECTOS A CONSIDE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onor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m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Organ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ntrol de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763640" y="730080"/>
            <a:ext cx="633744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HONORARIO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decu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ntemplar elementos objetivos y su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mprevi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Que permitan el cr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940760" y="333360"/>
            <a:ext cx="5112000" cy="78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IMAGE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untu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umpl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gur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done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spuesta a las neces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compañ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mpromi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res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É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NVALU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NVALO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20800" y="1149480"/>
            <a:ext cx="7741080" cy="40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ORGANIZACIÓ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lane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municación / Intercambio de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elegación de responsabil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nfoque al logro de result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35760" y="549360"/>
            <a:ext cx="398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CONTROL DE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LANIFI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ERIÓD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32000" y="-611280"/>
            <a:ext cx="7056360" cy="89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ESTUDIOS QUE HAN CREC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stán asociados con uno o más profes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edicación exclusiva a la profe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xcelente comunicación interna y exte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Organización piramidal interna y exte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ara definición de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losofía de serv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isión del estud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olíticas acordes a filosofía y mi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050920" y="260280"/>
            <a:ext cx="5400720" cy="65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ESTA VIDA ES TU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sta vida es tuy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azte cargo de eleg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o que quieres hac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Y hazlo bi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azte cargo de amar lo que quieres en la vida y ama sinceramente. (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adie lo puede hacer por 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azte cargo de ser feli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usan Polis Schu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55640" y="1125360"/>
            <a:ext cx="8497800" cy="374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" SOLO VIVE DE VERAS ,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IEN JAMÁS SE DETIENE "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76360" y="189000"/>
            <a:ext cx="6696000" cy="71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CRECIMIENTO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rmó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lanifi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Organiz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PARA ASEGURARNOS QUE SE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ól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osten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fica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xito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476360" y="404640"/>
            <a:ext cx="61214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OBJETIVO BÁSICO DEL ESTUDIO PROFE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Desarrollo de la práctica profe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1908000" y="2924280"/>
            <a:ext cx="64944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149720"/>
            <a:ext cx="2627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4076640"/>
            <a:ext cx="388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umento en el número de servicios que se pre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0000" y="2924280"/>
            <a:ext cx="86364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76720" y="4076640"/>
            <a:ext cx="38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umento en el número de clientes que se ati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32360" y="3933720"/>
            <a:ext cx="403236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3933720"/>
            <a:ext cx="396108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332000" y="1008000"/>
            <a:ext cx="66960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METODOLOGÍA DEL PLAN DE DESARRO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¿POR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A IMPROVISACIÓN LLEVA AL FRACASO Y DETERIORA LA CALIDAD DE NUESTROS SERV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58920" y="549360"/>
            <a:ext cx="676908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ANÁLISIS DEL MERCADO POTEN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rvicios profes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bicación del est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mplementación de recursos huma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ecesidad de recursos econó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Otras op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Otros aspectos a conside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403280" y="836640"/>
            <a:ext cx="6408720" cy="57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SERVICIOS PROFES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ERVICIOS ACTU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¿ Conocen nuestros clientes 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ervicio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¿ Conoce la comunidad nuestr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ervicio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¿ Como hacemos para darlo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conoce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¿ Cuáles son nuestras limitaciones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28720" y="549360"/>
            <a:ext cx="5580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ERVICIOS PROFES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ERVICIOS ACTU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A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ncrementar relaciones con 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mun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apacitarnos permanente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alidad profesional del tra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00:09:13Z</dcterms:created>
  <dc:creator>Alan Cianfagna</dc:creator>
  <dc:description/>
  <dc:language>en-US</dc:language>
  <cp:lastModifiedBy>CPCECABA</cp:lastModifiedBy>
  <dcterms:modified xsi:type="dcterms:W3CDTF">2006-12-01T18:49:34Z</dcterms:modified>
  <cp:revision>44</cp:revision>
  <dc:subject/>
  <dc:title>Diapositiva 1</dc:title>
</cp:coreProperties>
</file>