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EE3B-37F5-49C9-ADF6-C677D8C221E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¿Cómo hago para trabajar en Goog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roceso de selección. Pensar en Google como en un socio además de un empleador. No vamos a contratar al 100% de los uds. Pero quizás estemos impactando en el negocio del 100% de uds. Con nuestros productos y nuestro modelo de negocios asociativ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Muchos de nuestros ex empleados vienen a diario a nuesstra oficina porque hoy son socios de negocios (tienen agencias o start ups que hacen sinergia con nuestro negocio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¿Porqué Google cambia los logos frecuentemen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Google lleva la innovación en su ADN, sin eso, ya hubiera desaparecido o al menos, jamás hubieramos llegado hasta donde estamos. Jugar con nuestro logo, es simplemente parte de esta cultura que promueve el cambio, estimula el animarse a hacer cosas nuevas y cuestiona la rigidez de las estructuras. Qué es un logo sino una dura estructura de regl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 veces pienso que es como una terapia, en la que dentro de Google nos recordamos a diario, que todo cambio es posible. Me gusta pensarlo así sentir que podemos mirarnos en el espejo de nuestra home page y estar orgulloso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4 cosas que yo aprendí en el camin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No debe haber sido facil llegar hasta ahí no? Mi primera lección o aprendizaje es: El esfuerzo se recompen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2. Ponerse metas medibles y ejecutabl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3. Nunca es tarde para perseguir un sueño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4. El trabajo ideal y el dia lu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NO TERMINO DE ENTENDER LA IDEA, ALGUNA DE LAS DOS TE COP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tonces… ¿Cómo se están preparando ustedes para el cambio que sigue? Internet es suya, de los jovenes. Ustedes son parte de esta generación que va a llevar la tecnología al próximo nivel. Esta es SU OPORTUNIDAD de preparase para ser los AGENTES DE  CAMBI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BB8F90-D5FF-44A7-BF37-A1DB6AEB27F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N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¿Cómo funciona el buscad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No se asusten. No vamos a hacer ecu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ero SI Es importante que sepan que la piedra angular de Google, son las matemátic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Más precisamente, un algoritmo increiblemente util y efectivo que nos hace a todos encontrar eso que buscam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ntender la naturaleza del buscador es importante porque tienen implicancias a muchos niveles, desde un punto de vista comercial (para hacer negocios) pero también legal, jurídico, tenemos que entender con qué estamos lidian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piders, Web, Relevancia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¿Qué hace Google con mi inform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La privacidad es nuestra obsesión. Cuidar la privacidad de nuestros usuarios y defenderla es un principio básico de nuestro negoc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¿Cómo puedo hacer yo plata con el buscado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i fuera alguno de uds. Sentado aquí escuchándome, más allá de ver a Google como un modelo disruptivo y una gran empresa, lo vería como un socio de negoc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pelar al perfil emprendedor. Google socio de los emprendedores. Google hace que emprender sea mucho más facil. No solo es Google es una nueva forma de pensar (ownnership vs access)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dsense, AdWords, YT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¿Cómo es trabajar en Goog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drenalina. Esfuerzo + diversión. Protagonizar el cambio. Impactar la vida de millones de person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3224-C5E6-4D8D-9DAF-F33896BC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312A-C15E-4360-900D-88C00BEC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CF86D-46A9-4BA2-982E-FAD6A68F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B0EBC-ABBC-4DBB-9761-48AEEA9C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CD85E-EAA1-417C-A5F2-007AAE1A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3CB09-E026-473C-B0C2-60FDFB82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B1B92-95BC-4549-9306-D170B04A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A47BCA-7257-4C5D-A37B-940D783C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26381-272D-4B1C-A8D6-7AC2345B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5C59A8-A3F0-4BDE-A7DB-F679795B3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3FBA5-26EF-4373-B1BC-EA5E255B9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DA481-2244-44FA-B6B5-950E169C9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F881-7E7C-4E66-B410-12CEC9434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A31D01-BCC1-4E9E-A2B3-F5507A9E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87786-F222-4B31-808F-C184598F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EAEC68-F77A-4DD5-9A47-53A40F27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A406B-A0FD-4938-BAC6-4C4D5C52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7F699E-C8C0-42D8-8BE2-983764F2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46E213-C8B5-4214-999F-A7704199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AA9012-A3F4-4BA4-9424-A40C279D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1BCFF-874F-47B2-85A3-FD2622F2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FC3AD-3359-4A2D-9EED-A483E4CE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2BB318-85CD-45B8-92BC-574E14AC5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5819-440B-40CB-86A3-BF52F2CE0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3EB76A-626C-408A-9341-FDFFF2B63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33B83-D778-4EBE-98B7-D4884C450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26C76-D861-4F6F-B450-212B10BE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B8F18-97BE-4E16-B8F6-F37E1DAD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8A173-D1B1-43B6-8FB2-A027F1B4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2C74E-FBE3-4FB9-9B21-BEC9A9C5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F7FEB-1C02-4061-B55C-6AE6C26D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526DD-D65D-45BA-876A-6B2B1A31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F4403-1C0E-4219-963D-B34EBEC3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AFE79-4767-4DBC-894A-1AD9C7D3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2395-6EC9-464F-8410-B27E5E964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702C5-6113-4321-AF33-154A3E04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3C37D1-E3E3-482D-98CA-C73ABAD77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7C9A1-ED7D-43FC-AF1B-1BE79D79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1836F9-454C-47EB-BB5A-81A8F4E78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78B97-BDEC-4044-BC39-915DB08A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DB4B04-E916-4023-BBEB-C7CBF046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0997F7-26F0-45BB-8644-3FE3985A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EAF39E-3511-4BA7-BA61-5763CD1A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753DF-25E0-49E8-A13D-C62D2307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B1A1AA-C9F0-4906-9D6D-527A4A1F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4C4C-6396-46EF-ACE4-A0267A9A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2B0892-A2C6-4A51-844B-A2274254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30BAEE-9655-4A99-B039-5C44F9B4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9AC01C-06D8-425B-B832-75AC38FD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6CEED5-005B-4500-B148-316C2BD1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AFB68D-7F5D-4640-B6E0-3E8225A32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AC0914-2D9B-4770-B999-EDF57CB97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1C440B-6F85-4EAC-80A0-1462B403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8A6A21-6F93-4A32-9147-99CC985D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071DDD-57A1-43F5-9710-36852EA0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05D6B7-594F-4B1A-B411-9D7ADD00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BC1A-5F74-41FE-A6FA-06C8A622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3051B1-9B38-427C-ADDD-F20F58C1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C57D03-5F7D-4E10-92DB-2ECBD86B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3BD60F-25EB-4278-933E-E0EB4BDA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539698-039B-460B-8795-4840A467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07BED7-4DFE-4028-8308-EB5013E5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26FA1A-34C7-4AC0-B2AE-9F19869E7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717175-7746-4709-8062-53E457E25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CDD3-04B4-496A-90F5-090DC188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983C-2378-4236-A1D5-5032E0C0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A366-B0A2-47A5-BFE8-01DE6626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993F-983F-4349-A57F-8AB012FF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62DC-75D8-4D2E-9FEF-A7A925C3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BFCA-D671-45F2-B23F-6F5C9C4B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A8BA-86CF-477F-ABBA-816F7960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BB99-D3E7-4F94-83B1-38AD7455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0EA0-C2B3-458F-AEBC-ECBC334FC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FA01-5261-4B51-BF29-50677EA02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A59A6-05D3-48C9-9B17-154BDC4A2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72926-506E-4A5E-B68C-946DB0D4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4F195-E379-46FC-A9C2-F069DCF9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A9FB9-F5E0-4A46-B6AE-188B4E81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87F29-1CE1-4BBA-B340-DF974D67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88BD-BA69-47DE-A595-D330B134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2AA44-0B6B-411A-9D61-F07539F5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9C706-BA0A-478D-BA7A-43827429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C3DA3-B0EF-43DF-9B77-2F09B2B3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8445A-1B1D-4CCA-A0BC-283D90DF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B16EF-9651-40D9-9A1D-7362BE80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B4FA6-A8B2-41DD-9340-00BC06268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8BF0E-9680-4B87-B8B2-7FCD1DA0C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23415-0791-42A6-8093-A1C173EB9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F7C38-89DF-490E-83A5-C6CB1855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DCF37-2569-4DBD-99E7-2ADEE2E0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1E3A-981E-4745-96EC-FA7A2608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834B9-CDD6-4E97-9CBE-0731EA62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869DE-5F33-44B8-BC59-4E72F139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27BCF-327D-4A23-BBEB-1CF1623F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592B0-4FD2-4591-86EA-DD5A1A57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F0093-B406-42C8-872C-E798C8C5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517C1-318C-420C-A165-C046F6FC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A093D-0A28-4335-B3F4-2AEAB8B9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EE9CA-0AE4-4F01-9638-DF2B57E91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8E7C1-8664-425A-A4DE-56AFF1255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3F173-619E-43D4-A034-02613DD9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7795-AA60-4305-90E4-13FC4D60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0213A-305F-4764-9C68-6428A1C9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5C083-95EF-42F5-9246-DA86507C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037F3-BD75-4C87-B0EF-F88EDABD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C3C8A-A805-4B8A-91F4-7853A700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1FD52-B37A-49D7-8D6E-EF911276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8B55A-A458-4474-9A36-692658D9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431CD-0D39-4D62-92B1-E4EC6B30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1E553-37C2-4FC5-9E11-03B7117D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E9135-C7DB-4A30-94D0-069FC60E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54CFC-BEE9-4200-8621-4066FD7B2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8BFF-4CE1-43A2-B06B-6D2B78A6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B4E3E-197E-4A7D-9DD3-5AB33AB86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DAC24-BA3E-4F39-BA10-F5281CBFF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086BF-1B17-4C8D-AE18-86046A8C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78D3F-083C-4AC5-9168-B99974C1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4B677-B0E2-4634-A297-F000BF2C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1E8F2-370C-4CC1-B3D2-566FE7B8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F53F5-BE4F-4C3B-BB37-470DEEE2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78F71-4196-4179-8D58-AF2D519A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05813-0289-4901-A2B5-C89955B2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22F84-5E38-48FA-BE82-A51C3B1A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BC3E-D0AD-40FF-A00F-F2D35F83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CA9A4-1BA8-413D-9F8A-8B9368AE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E7A74-E4F6-46DE-9DEC-BA590FE38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AD844-1746-4196-9138-BFA5B0F53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802D2-EE83-4FA5-B158-081AB23E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F7A87-131F-4821-A333-ECFC152E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D7988-018E-43EE-BF6E-A2E3670F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4E9AD-3618-4EF5-B173-2E890306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F1E2A-8DA3-4D10-879D-92B7C8BB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FAE27-96D4-420A-B827-6C244F37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A8794-2E35-4F5B-B8CB-92F9389C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08DC-6522-4947-8550-A617F094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AEEB9-B928-4EC2-AFEF-70E946F7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5E3D0-9F0D-40F6-9678-08CE4326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C2031-214C-4F82-8D6B-773281DF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73D6A-9862-4A4C-AF07-858239927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2F262-75ED-45F4-8E01-D99F1424F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48BCA-EE26-4ABE-9439-87A8AD77A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C2152-F283-4DB7-B3B0-B04A8881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41F50-FAEF-42C4-99CB-334BC769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F7C66-92AF-48D1-9CED-710885CE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B3CB1-27AD-42AD-B83D-34FD13CC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8FBF-EA47-4DA0-B80E-4A228F51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ADADA-2D6A-4441-9AA5-D2F79417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C5933-00BA-4734-AC0F-4126A237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3720F-4D3E-493C-B3B5-B92717AE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445DB-2AF2-4868-9DA4-F2EE4BF7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B266F-5D49-43CE-B89A-34BAC658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F9C3E-A333-478C-A744-7FB9079F4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8F028-7E4C-49AD-B138-876CA4273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A269E-0AAA-4CF9-A1E1-78D887BED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78A8E-CE27-4B28-8D8E-03BB0F80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4C6981-F3E3-42DE-87C8-D382BF16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C438-205B-4C3C-9A4A-9DEEF3A890BB}" type="datetime">
              <a:rPr b="0" lang="es-ES" sz="14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78AC-651E-4CA5-92CA-3DB5956A983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DCDC-23F8-49E0-B703-E89ADE37F7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159F-3680-4529-A258-9999EE33D9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AC78-A854-4545-B323-0B40406203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8E7D-15A4-4995-9ABE-A38FCDE97A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5F7B-087A-440C-BEAE-128ED8BADC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D456-CFE4-424A-8AF9-04CB42B1AB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BBDD-3214-4ECA-BA4C-0C0D4EB2EA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2C32-7032-429A-9AE3-A5C468F7E5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8624BD-BC5A-4E67-9174-3C35001EA0D0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ヒラギノ角ゴ Pro W3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951061-1F53-4602-886E-E3519934FA0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8210-A884-4600-84CC-C796661E7B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6D9D-6CE9-472E-88D4-DF24FE9672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36FA-9C8C-42E8-A233-11BF7D64DD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7CA1-CF10-4ACE-A065-E9C83D0D76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2535-6D56-4029-B29A-99832F0E8C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F90D-B376-42AC-A76A-8B40BA3066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A02E-5590-40B9-AC55-8C8D584709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97AB-626F-420E-A09A-54191B3833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4CDC-4229-4F4D-8C60-FBB1E8A08F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F24A-D8E9-4055-9425-AF4D253DD5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A213-7321-47D6-9747-EA1DA278BB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8534-6AC9-402A-9E12-93DEDAB596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2744-BA98-4720-BC9A-407BE204E5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7428-9CBC-4B4B-A2E4-7353FED489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youtube.com/watch?v=EjN5avRvApk" TargetMode="Externa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8802-B066-4F89-9C5C-208986EF6CE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9"/>
          <p:cNvSpPr/>
          <p:nvPr/>
        </p:nvSpPr>
        <p:spPr>
          <a:xfrm>
            <a:off x="2021760" y="6461280"/>
            <a:ext cx="53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II Encuentro de Jóvenes Profesionales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655560" y="382680"/>
            <a:ext cx="7229520" cy="24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700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4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10 cosas que siempre quisieron saber   sobre Goo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00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001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Victoria Campete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001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Gerente de Comun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5" descr="GLogo_flat_transparent_RGB_larger"/>
          <p:cNvPicPr/>
          <p:nvPr/>
        </p:nvPicPr>
        <p:blipFill>
          <a:blip r:embed="rId3"/>
          <a:stretch/>
        </p:blipFill>
        <p:spPr>
          <a:xfrm>
            <a:off x="90360" y="3260880"/>
            <a:ext cx="9018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Zurich 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3"/>
          <p:cNvSpPr/>
          <p:nvPr/>
        </p:nvSpPr>
        <p:spPr>
          <a:xfrm>
            <a:off x="181080" y="5011560"/>
            <a:ext cx="6861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askerville"/>
                <a:ea typeface="ヒラギノ角ゴ Pro W3"/>
              </a:rPr>
              <a:t>¿Cómo HACER  </a:t>
            </a:r>
            <a:r>
              <a:rPr b="1" lang="en-US" sz="5400" spc="-1" strike="noStrike">
                <a:solidFill>
                  <a:srgbClr val="ffffff"/>
                </a:solidFill>
                <a:latin typeface="Baskerville"/>
                <a:ea typeface="ヒラギノ角ゴ Pro W3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Baskerville"/>
                <a:ea typeface="ヒラギノ角ゴ Pro W3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Baskerville"/>
                <a:ea typeface="ヒラギノ角ゴ Pro W3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Baskerville"/>
                <a:ea typeface="ヒラギノ角ゴ Pro W3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Baskerville"/>
                <a:ea typeface="ヒラギノ角ゴ Pro W3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4"/>
          <p:cNvSpPr/>
          <p:nvPr/>
        </p:nvSpPr>
        <p:spPr>
          <a:xfrm>
            <a:off x="917640" y="5646600"/>
            <a:ext cx="842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8000"/>
                </a:solidFill>
                <a:latin typeface="Baskerville"/>
                <a:ea typeface="ヒラギノ角ゴ Pro W3"/>
              </a:rPr>
              <a:t>para trabajar </a:t>
            </a:r>
            <a:r>
              <a:rPr b="1" lang="en-US" sz="5400" spc="-1" strike="noStrike">
                <a:solidFill>
                  <a:srgbClr val="ffffff"/>
                </a:solidFill>
                <a:latin typeface="Baskerville"/>
                <a:ea typeface="ヒラギノ角ゴ Pro W3"/>
              </a:rPr>
              <a:t>en Googl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4" descr="google1"/>
          <p:cNvPicPr/>
          <p:nvPr/>
        </p:nvPicPr>
        <p:blipFill>
          <a:blip r:embed="rId1"/>
          <a:stretch/>
        </p:blipFill>
        <p:spPr>
          <a:xfrm>
            <a:off x="0" y="-858960"/>
            <a:ext cx="9144000" cy="7855200"/>
          </a:xfrm>
          <a:prstGeom prst="rect">
            <a:avLst/>
          </a:prstGeom>
          <a:ln w="0">
            <a:noFill/>
          </a:ln>
        </p:spPr>
      </p:pic>
      <p:sp>
        <p:nvSpPr>
          <p:cNvPr id="578" name="TextBox 3"/>
          <p:cNvSpPr/>
          <p:nvPr/>
        </p:nvSpPr>
        <p:spPr>
          <a:xfrm>
            <a:off x="1239840" y="3532320"/>
            <a:ext cx="7904160" cy="1556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558ed5"/>
                </a:solidFill>
                <a:latin typeface="American Typewriter"/>
                <a:ea typeface="ヒラギノ角ゴ Pro W3"/>
              </a:rPr>
              <a:t>¿Por qué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558ed5"/>
                </a:solidFill>
                <a:latin typeface="Arial"/>
                <a:ea typeface="ヒラギノ角ゴ Pro W3"/>
              </a:rPr>
              <a:t>                       </a:t>
            </a:r>
            <a:r>
              <a:rPr b="1" lang="en-US" sz="4800" spc="-1" strike="noStrike">
                <a:solidFill>
                  <a:srgbClr val="558ed5"/>
                </a:solidFill>
                <a:latin typeface="American Typewriter"/>
                <a:ea typeface="ヒラギノ角ゴ Pro W3"/>
              </a:rPr>
              <a:t>los logo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4"/>
          <p:cNvSpPr/>
          <p:nvPr/>
        </p:nvSpPr>
        <p:spPr>
          <a:xfrm>
            <a:off x="1687680" y="4105440"/>
            <a:ext cx="398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merican Typewriter"/>
                <a:ea typeface="ヒラギノ角ゴ Pro W3"/>
              </a:rPr>
              <a:t>bianc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4" descr="bonus track.jpg"/>
          <p:cNvPicPr/>
          <p:nvPr/>
        </p:nvPicPr>
        <p:blipFill>
          <a:blip r:embed="rId1"/>
          <a:stretch/>
        </p:blipFill>
        <p:spPr>
          <a:xfrm>
            <a:off x="1469880" y="0"/>
            <a:ext cx="6456600" cy="6456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http://www.extreme-fitness-now.com/images/mountain-climber.jpg"/>
          <p:cNvPicPr/>
          <p:nvPr/>
        </p:nvPicPr>
        <p:blipFill>
          <a:blip r:embed="rId1"/>
          <a:srcRect l="0" t="0" r="7838" b="0"/>
          <a:stretch/>
        </p:blipFill>
        <p:spPr>
          <a:xfrm>
            <a:off x="-243000" y="-9360"/>
            <a:ext cx="9387000" cy="6797520"/>
          </a:xfrm>
          <a:prstGeom prst="rect">
            <a:avLst/>
          </a:prstGeom>
          <a:ln w="0">
            <a:noFill/>
          </a:ln>
        </p:spPr>
      </p:pic>
      <p:sp>
        <p:nvSpPr>
          <p:cNvPr id="582" name="TextBox 2"/>
          <p:cNvSpPr/>
          <p:nvPr/>
        </p:nvSpPr>
        <p:spPr>
          <a:xfrm>
            <a:off x="108000" y="217440"/>
            <a:ext cx="842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el esfuerzo 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3"/>
          <p:cNvSpPr/>
          <p:nvPr/>
        </p:nvSpPr>
        <p:spPr>
          <a:xfrm>
            <a:off x="3133800" y="907920"/>
            <a:ext cx="841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REPAG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4" descr="imagesarticlepicsgoalsettinglgjpg--683f78ae24a1c3da84282d076bd9a7c4"/>
          <p:cNvPicPr/>
          <p:nvPr/>
        </p:nvPicPr>
        <p:blipFill>
          <a:blip r:embed="rId1"/>
          <a:stretch/>
        </p:blipFill>
        <p:spPr>
          <a:xfrm>
            <a:off x="1866960" y="0"/>
            <a:ext cx="56275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A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AR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7" name="Picture 4" descr="stop_making_excuses"/>
          <p:cNvPicPr/>
          <p:nvPr/>
        </p:nvPicPr>
        <p:blipFill>
          <a:blip r:embed="rId1"/>
          <a:stretch/>
        </p:blipFill>
        <p:spPr>
          <a:xfrm>
            <a:off x="-154080" y="-115920"/>
            <a:ext cx="9483840" cy="7123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4" descr="monday-90"/>
          <p:cNvPicPr/>
          <p:nvPr/>
        </p:nvPicPr>
        <p:blipFill>
          <a:blip r:embed="rId1"/>
          <a:stretch/>
        </p:blipFill>
        <p:spPr>
          <a:xfrm>
            <a:off x="2097000" y="231840"/>
            <a:ext cx="4856400" cy="6373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4" descr=""/>
          <p:cNvPicPr/>
          <p:nvPr/>
        </p:nvPicPr>
        <p:blipFill>
          <a:blip r:embed="rId1"/>
          <a:stretch/>
        </p:blipFill>
        <p:spPr>
          <a:xfrm>
            <a:off x="131760" y="87480"/>
            <a:ext cx="8894880" cy="6672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Imagen 4" descr="proj_tripod_scrn.jpg"/>
          <p:cNvPicPr/>
          <p:nvPr/>
        </p:nvPicPr>
        <p:blipFill>
          <a:blip r:embed="rId1"/>
          <a:srcRect l="0" t="11340" r="0" b="13663"/>
          <a:stretch/>
        </p:blipFill>
        <p:spPr>
          <a:xfrm>
            <a:off x="819000" y="412920"/>
            <a:ext cx="7764480" cy="6445080"/>
          </a:xfrm>
          <a:prstGeom prst="rect">
            <a:avLst/>
          </a:prstGeom>
          <a:ln w="0">
            <a:noFill/>
          </a:ln>
        </p:spPr>
      </p:pic>
      <p:pic>
        <p:nvPicPr>
          <p:cNvPr id="591" name="Imagen 6" descr="video.tif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14520" y="1203480"/>
            <a:ext cx="6243480" cy="3485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9B5E-0329-4F46-A68C-60253B11C99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6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9"/>
          <p:cNvSpPr/>
          <p:nvPr/>
        </p:nvSpPr>
        <p:spPr>
          <a:xfrm>
            <a:off x="2021760" y="6461280"/>
            <a:ext cx="53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II Encuentro de Jóvenes Profesionales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4"/>
          <p:cNvSpPr/>
          <p:nvPr/>
        </p:nvSpPr>
        <p:spPr>
          <a:xfrm>
            <a:off x="395280" y="1282680"/>
            <a:ext cx="722952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330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000000"/>
                </a:solidFill>
                <a:latin typeface="Arial"/>
                <a:ea typeface="Arial Unicode MS"/>
              </a:rPr>
              <a:t>Gracias </a:t>
            </a:r>
            <a:r>
              <a:rPr b="1" lang="es-ES_tradnl" sz="6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5" descr="GLogo_flat_transparent_RGB_larger"/>
          <p:cNvPicPr/>
          <p:nvPr/>
        </p:nvPicPr>
        <p:blipFill>
          <a:blip r:embed="rId3"/>
          <a:stretch/>
        </p:blipFill>
        <p:spPr>
          <a:xfrm>
            <a:off x="108000" y="3260880"/>
            <a:ext cx="90183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9E05-5FFD-429B-8E64-38778833C38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8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10"/>
          <p:cNvSpPr/>
          <p:nvPr/>
        </p:nvSpPr>
        <p:spPr>
          <a:xfrm>
            <a:off x="2021760" y="6461280"/>
            <a:ext cx="53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II Encuentro de Jóvenes Profesionales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2" descr="GoogleScreenAlgorithm"/>
          <p:cNvPicPr/>
          <p:nvPr/>
        </p:nvPicPr>
        <p:blipFill>
          <a:blip r:embed="rId3"/>
          <a:srcRect l="0" t="17928" r="0" b="10485"/>
          <a:stretch/>
        </p:blipFill>
        <p:spPr>
          <a:xfrm>
            <a:off x="-162000" y="1455840"/>
            <a:ext cx="9306000" cy="4995720"/>
          </a:xfrm>
          <a:prstGeom prst="rect">
            <a:avLst/>
          </a:prstGeom>
          <a:ln w="0">
            <a:noFill/>
          </a:ln>
        </p:spPr>
      </p:pic>
      <p:sp>
        <p:nvSpPr>
          <p:cNvPr id="551" name="TextBox 5"/>
          <p:cNvSpPr/>
          <p:nvPr/>
        </p:nvSpPr>
        <p:spPr>
          <a:xfrm>
            <a:off x="-468360" y="260280"/>
            <a:ext cx="1003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¿Qué hacemos en Googl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10" descr="ruleta.jpg"/>
          <p:cNvPicPr/>
          <p:nvPr/>
        </p:nvPicPr>
        <p:blipFill>
          <a:blip r:embed="rId1"/>
          <a:srcRect l="0" t="0" r="0" b="1828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TextBox 4"/>
          <p:cNvSpPr/>
          <p:nvPr/>
        </p:nvSpPr>
        <p:spPr>
          <a:xfrm>
            <a:off x="177840" y="652320"/>
            <a:ext cx="8943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yuthaya"/>
                <a:ea typeface="ヒラギノ角ゴ Pro W3"/>
              </a:rPr>
              <a:t>grandesapuesta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372960" y="2318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Unicode MS"/>
                <a:ea typeface="ヒラギノ角ゴ Pro W3"/>
              </a:rPr>
              <a:t>¿Cuáles son nuestras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6" descr="Google-Money-Machine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6" name="TextBox 7"/>
          <p:cNvSpPr/>
          <p:nvPr/>
        </p:nvSpPr>
        <p:spPr>
          <a:xfrm>
            <a:off x="293760" y="309600"/>
            <a:ext cx="486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3366ff"/>
                </a:solidFill>
                <a:latin typeface="Marker Felt"/>
                <a:ea typeface="ヒラギノ角ゴ Pro W3"/>
              </a:rPr>
              <a:t>¿Cómo hacemos      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3"/>
          <p:cNvSpPr/>
          <p:nvPr/>
        </p:nvSpPr>
        <p:spPr>
          <a:xfrm>
            <a:off x="3083040" y="861840"/>
            <a:ext cx="2817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800" spc="-1" strike="noStrike">
                <a:solidFill>
                  <a:srgbClr val="3366ff"/>
                </a:solidFill>
                <a:latin typeface="Marker Felt"/>
                <a:ea typeface="ヒラギノ角ゴ Pro W3"/>
              </a:rPr>
              <a:t>$$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4" descr="free-sign"/>
          <p:cNvPicPr/>
          <p:nvPr/>
        </p:nvPicPr>
        <p:blipFill>
          <a:blip r:embed="rId1"/>
          <a:stretch/>
        </p:blipFill>
        <p:spPr>
          <a:xfrm>
            <a:off x="0" y="0"/>
            <a:ext cx="4724280" cy="6737400"/>
          </a:xfrm>
          <a:prstGeom prst="rect">
            <a:avLst/>
          </a:prstGeom>
          <a:ln w="0">
            <a:noFill/>
          </a:ln>
        </p:spPr>
      </p:pic>
      <p:sp>
        <p:nvSpPr>
          <p:cNvPr id="559" name="TextBox 2"/>
          <p:cNvSpPr/>
          <p:nvPr/>
        </p:nvSpPr>
        <p:spPr>
          <a:xfrm>
            <a:off x="4770360" y="479520"/>
            <a:ext cx="4057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pperplate"/>
                <a:ea typeface="ヒラギノ角ゴ Pro W3"/>
              </a:rPr>
              <a:t>¿Por qué todos los productos son </a:t>
            </a:r>
            <a:r>
              <a:rPr b="1" i="1" lang="en-US" sz="5400" spc="-1" strike="noStrike">
                <a:solidFill>
                  <a:srgbClr val="ff0000"/>
                </a:solidFill>
                <a:latin typeface="Copperplate"/>
                <a:ea typeface="ヒラギノ角ゴ Pro W3"/>
              </a:rPr>
              <a:t>GRATIS</a:t>
            </a:r>
            <a:r>
              <a:rPr b="1" lang="en-US" sz="5400" spc="-1" strike="noStrike">
                <a:solidFill>
                  <a:srgbClr val="000000"/>
                </a:solidFill>
                <a:latin typeface="Copperplate"/>
                <a:ea typeface="ヒラギノ角ゴ Pro W3"/>
              </a:rPr>
              <a:t>?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http://www.otc.ac.uk/uploads/images/math%20formula2.jpg"/>
          <p:cNvPicPr/>
          <p:nvPr/>
        </p:nvPicPr>
        <p:blipFill>
          <a:blip r:embed="rId1"/>
          <a:stretch/>
        </p:blipFill>
        <p:spPr>
          <a:xfrm>
            <a:off x="0" y="-2655720"/>
            <a:ext cx="9144000" cy="11121840"/>
          </a:xfrm>
          <a:prstGeom prst="rect">
            <a:avLst/>
          </a:prstGeom>
          <a:ln w="0">
            <a:noFill/>
          </a:ln>
        </p:spPr>
      </p:pic>
      <p:sp>
        <p:nvSpPr>
          <p:cNvPr id="561" name="TextBox 5"/>
          <p:cNvSpPr/>
          <p:nvPr/>
        </p:nvSpPr>
        <p:spPr>
          <a:xfrm>
            <a:off x="1006560" y="4919760"/>
            <a:ext cx="777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halkduster"/>
                <a:ea typeface="ヒラギノ角ゴ Pro W3"/>
              </a:rPr>
              <a:t>¿Cómo </a:t>
            </a:r>
            <a:r>
              <a:rPr b="1" lang="en-US" sz="6000" spc="-1" strike="noStrike">
                <a:solidFill>
                  <a:srgbClr val="ffff00"/>
                </a:solidFill>
                <a:latin typeface="Open Sans Extrabold"/>
                <a:ea typeface="ヒラギノ角ゴ Pro W3"/>
              </a:rPr>
              <a:t>funciona</a:t>
            </a:r>
            <a:r>
              <a:rPr b="0" lang="en-US" sz="6000" spc="-1" strike="noStrike">
                <a:solidFill>
                  <a:srgbClr val="ffff00"/>
                </a:solidFill>
                <a:latin typeface="Chalkduster"/>
                <a:ea typeface="ヒラギノ角ゴ Pro W3"/>
              </a:rPr>
              <a:t> el buscado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4" descr="laptop-privacy-1"/>
          <p:cNvPicPr/>
          <p:nvPr/>
        </p:nvPicPr>
        <p:blipFill>
          <a:blip r:embed="rId1"/>
          <a:stretch/>
        </p:blipFill>
        <p:spPr>
          <a:xfrm>
            <a:off x="0" y="0"/>
            <a:ext cx="9377280" cy="7043760"/>
          </a:xfrm>
          <a:prstGeom prst="rect">
            <a:avLst/>
          </a:prstGeom>
          <a:ln w="0">
            <a:noFill/>
          </a:ln>
        </p:spPr>
      </p:pic>
      <p:sp>
        <p:nvSpPr>
          <p:cNvPr id="563" name="Rectangle 2"/>
          <p:cNvSpPr/>
          <p:nvPr/>
        </p:nvSpPr>
        <p:spPr>
          <a:xfrm>
            <a:off x="233280" y="49338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utura"/>
                <a:ea typeface="ヒラギノ角ゴ Pro W3"/>
              </a:rPr>
              <a:t>¿Qué hace Google c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3"/>
          <p:cNvSpPr/>
          <p:nvPr/>
        </p:nvSpPr>
        <p:spPr>
          <a:xfrm>
            <a:off x="1641600" y="5514840"/>
            <a:ext cx="8448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i información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8" descr="nene empresario.jpg"/>
          <p:cNvPicPr/>
          <p:nvPr/>
        </p:nvPicPr>
        <p:blipFill>
          <a:blip r:embed="rId1"/>
          <a:stretch/>
        </p:blipFill>
        <p:spPr>
          <a:xfrm>
            <a:off x="-428760" y="-430200"/>
            <a:ext cx="5888160" cy="795636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9"/>
          <p:cNvSpPr/>
          <p:nvPr/>
        </p:nvSpPr>
        <p:spPr>
          <a:xfrm>
            <a:off x="3666960" y="681120"/>
            <a:ext cx="6861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Papyrus"/>
                <a:ea typeface="ヒラギノ角ゴ Pro W3"/>
              </a:rPr>
              <a:t>¿Cómo puedo  </a:t>
            </a:r>
            <a:r>
              <a:rPr b="1" lang="en-US" sz="5400" spc="-1" strike="noStrike">
                <a:solidFill>
                  <a:srgbClr val="000000"/>
                </a:solidFill>
                <a:latin typeface="Papyrus"/>
                <a:ea typeface="ヒラギノ角ゴ Pro W3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Papyrus"/>
                <a:ea typeface="ヒラギノ角ゴ Pro W3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Papyrus"/>
                <a:ea typeface="ヒラギノ角ゴ Pro W3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Papyrus"/>
                <a:ea typeface="ヒラギノ角ゴ Pro W3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Papyrus"/>
                <a:ea typeface="ヒラギノ角ゴ Pro W3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0"/>
          <p:cNvSpPr/>
          <p:nvPr/>
        </p:nvSpPr>
        <p:spPr>
          <a:xfrm>
            <a:off x="4906800" y="1357200"/>
            <a:ext cx="4469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hacer yo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11"/>
          <p:cNvSpPr/>
          <p:nvPr/>
        </p:nvSpPr>
        <p:spPr>
          <a:xfrm>
            <a:off x="3508200" y="2274840"/>
            <a:ext cx="755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Papyrus"/>
                <a:ea typeface="ヒラギノ角ゴ Pro W3"/>
              </a:rPr>
              <a:t>plata con Googl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4" descr="European-extreme-sports"/>
          <p:cNvPicPr/>
          <p:nvPr/>
        </p:nvPicPr>
        <p:blipFill>
          <a:blip r:embed="rId1"/>
          <a:srcRect l="0" t="13936" r="3489" b="1599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2"/>
          <p:cNvSpPr/>
          <p:nvPr/>
        </p:nvSpPr>
        <p:spPr>
          <a:xfrm>
            <a:off x="122400" y="47520"/>
            <a:ext cx="686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¿Cómo es  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3"/>
          <p:cNvSpPr/>
          <p:nvPr/>
        </p:nvSpPr>
        <p:spPr>
          <a:xfrm>
            <a:off x="1104840" y="746280"/>
            <a:ext cx="755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Open Sans Extrabold"/>
                <a:ea typeface="ヒラギノ角ゴ Pro W3"/>
              </a:rPr>
              <a:t>TRABAJ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4"/>
          <p:cNvSpPr/>
          <p:nvPr/>
        </p:nvSpPr>
        <p:spPr>
          <a:xfrm>
            <a:off x="4470480" y="730080"/>
            <a:ext cx="75564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5"/>
          <p:cNvSpPr/>
          <p:nvPr/>
        </p:nvSpPr>
        <p:spPr>
          <a:xfrm>
            <a:off x="528480" y="1413000"/>
            <a:ext cx="686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en Google?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7:47:30Z</dcterms:created>
  <dc:creator>ncampregher</dc:creator>
  <dc:description/>
  <dc:language>en-US</dc:language>
  <cp:lastModifiedBy>Cumo, Verónica Marcela</cp:lastModifiedBy>
  <dcterms:modified xsi:type="dcterms:W3CDTF">2011-08-31T20:42:14Z</dcterms:modified>
  <cp:revision>7</cp:revision>
  <dc:subject/>
  <dc:title>Diapositiva 1</dc:title>
</cp:coreProperties>
</file>