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3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</p:sldIdLst>
  <p:sldSz cx="9907588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9113-74C8-4109-BFDC-BF9FEF740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3640" y="4292280"/>
            <a:ext cx="773748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640" y="5412600"/>
            <a:ext cx="773748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0FC5-4D16-448E-BF02-6E0ACD108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3640" y="4292280"/>
            <a:ext cx="377568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288320" y="4292280"/>
            <a:ext cx="377568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3640" y="5412600"/>
            <a:ext cx="377568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288320" y="5412600"/>
            <a:ext cx="377568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40F0-E9F2-4FB3-9420-CBF544012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3640" y="4292280"/>
            <a:ext cx="249120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39760" y="4292280"/>
            <a:ext cx="249120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555880" y="4292280"/>
            <a:ext cx="249120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3640" y="5412600"/>
            <a:ext cx="249120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39760" y="5412600"/>
            <a:ext cx="249120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555880" y="5412600"/>
            <a:ext cx="249120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9492-9B77-41AC-B969-CCEDE86D4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3640" y="4292280"/>
            <a:ext cx="773748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3640" y="4292280"/>
            <a:ext cx="773748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23640" y="4292280"/>
            <a:ext cx="377568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288320" y="4292280"/>
            <a:ext cx="377568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3640" y="4292280"/>
            <a:ext cx="377568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288320" y="4292280"/>
            <a:ext cx="377568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23640" y="5412600"/>
            <a:ext cx="377568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3640" y="4292280"/>
            <a:ext cx="773748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B5A3-3FBF-4E08-ACD4-F87F9FDA2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3640" y="4292280"/>
            <a:ext cx="377568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8320" y="4292280"/>
            <a:ext cx="377568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288320" y="5412600"/>
            <a:ext cx="377568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3640" y="4292280"/>
            <a:ext cx="377568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8320" y="4292280"/>
            <a:ext cx="377568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23640" y="5412600"/>
            <a:ext cx="773748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3640" y="4292280"/>
            <a:ext cx="773748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640" y="5412600"/>
            <a:ext cx="773748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3640" y="4292280"/>
            <a:ext cx="377568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8320" y="4292280"/>
            <a:ext cx="377568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23640" y="5412600"/>
            <a:ext cx="377568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288320" y="5412600"/>
            <a:ext cx="377568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3640" y="4292280"/>
            <a:ext cx="249120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939760" y="4292280"/>
            <a:ext cx="249120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555880" y="4292280"/>
            <a:ext cx="249120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23640" y="5412600"/>
            <a:ext cx="249120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939760" y="5412600"/>
            <a:ext cx="249120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555880" y="5412600"/>
            <a:ext cx="249120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23640" y="4292280"/>
            <a:ext cx="773748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3640" y="4292280"/>
            <a:ext cx="773748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3640" y="4292280"/>
            <a:ext cx="377568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8320" y="4292280"/>
            <a:ext cx="377568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3640" y="4292280"/>
            <a:ext cx="773748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B0DC-E4D6-423F-B11B-C860E0C22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3640" y="4292280"/>
            <a:ext cx="377568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8320" y="4292280"/>
            <a:ext cx="377568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23640" y="5412600"/>
            <a:ext cx="377568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3640" y="4292280"/>
            <a:ext cx="377568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288320" y="4292280"/>
            <a:ext cx="377568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288320" y="5412600"/>
            <a:ext cx="377568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3640" y="4292280"/>
            <a:ext cx="377568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288320" y="4292280"/>
            <a:ext cx="377568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23640" y="5412600"/>
            <a:ext cx="773748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3640" y="4292280"/>
            <a:ext cx="773748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640" y="5412600"/>
            <a:ext cx="773748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3640" y="4292280"/>
            <a:ext cx="377568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288320" y="4292280"/>
            <a:ext cx="377568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23640" y="5412600"/>
            <a:ext cx="377568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288320" y="5412600"/>
            <a:ext cx="377568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3640" y="4292280"/>
            <a:ext cx="249120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39760" y="4292280"/>
            <a:ext cx="249120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555880" y="4292280"/>
            <a:ext cx="249120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23640" y="5412600"/>
            <a:ext cx="249120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2939760" y="5412600"/>
            <a:ext cx="249120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555880" y="5412600"/>
            <a:ext cx="249120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23640" y="4292280"/>
            <a:ext cx="773748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3640" y="4292280"/>
            <a:ext cx="773748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3640" y="4292280"/>
            <a:ext cx="377568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288320" y="4292280"/>
            <a:ext cx="377568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505E-DF68-4C91-9B05-9B6B54394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3640" y="4292280"/>
            <a:ext cx="377568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8320" y="4292280"/>
            <a:ext cx="377568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3640" y="4292280"/>
            <a:ext cx="377568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288320" y="4292280"/>
            <a:ext cx="377568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23640" y="5412600"/>
            <a:ext cx="377568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23640" y="4292280"/>
            <a:ext cx="377568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288320" y="4292280"/>
            <a:ext cx="377568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288320" y="5412600"/>
            <a:ext cx="377568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3640" y="4292280"/>
            <a:ext cx="377568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8320" y="4292280"/>
            <a:ext cx="377568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23640" y="5412600"/>
            <a:ext cx="773748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3640" y="4292280"/>
            <a:ext cx="773748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640" y="5412600"/>
            <a:ext cx="773748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3640" y="4292280"/>
            <a:ext cx="377568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288320" y="4292280"/>
            <a:ext cx="377568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23640" y="5412600"/>
            <a:ext cx="377568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288320" y="5412600"/>
            <a:ext cx="377568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23640" y="4292280"/>
            <a:ext cx="249120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2939760" y="4292280"/>
            <a:ext cx="249120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555880" y="4292280"/>
            <a:ext cx="249120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23640" y="5412600"/>
            <a:ext cx="249120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2939760" y="5412600"/>
            <a:ext cx="249120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555880" y="5412600"/>
            <a:ext cx="249120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55E6-6991-49A6-9DD2-42C93E3C1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23640" y="4292280"/>
            <a:ext cx="773748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23640" y="4292280"/>
            <a:ext cx="773748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3640" y="4292280"/>
            <a:ext cx="377568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288320" y="4292280"/>
            <a:ext cx="377568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23640" y="4292280"/>
            <a:ext cx="377568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8320" y="4292280"/>
            <a:ext cx="377568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23640" y="5412600"/>
            <a:ext cx="377568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23640" y="4292280"/>
            <a:ext cx="377568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288320" y="4292280"/>
            <a:ext cx="377568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288320" y="5412600"/>
            <a:ext cx="377568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23640" y="4292280"/>
            <a:ext cx="377568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288320" y="4292280"/>
            <a:ext cx="377568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23640" y="5412600"/>
            <a:ext cx="773748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23640" y="4292280"/>
            <a:ext cx="773748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640" y="5412600"/>
            <a:ext cx="773748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23640" y="4292280"/>
            <a:ext cx="377568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288320" y="4292280"/>
            <a:ext cx="377568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323640" y="5412600"/>
            <a:ext cx="377568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288320" y="5412600"/>
            <a:ext cx="377568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7245-BD9C-4CA7-AF60-39A3D30E4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23640" y="4292280"/>
            <a:ext cx="249120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2939760" y="4292280"/>
            <a:ext cx="249120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555880" y="4292280"/>
            <a:ext cx="249120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323640" y="5412600"/>
            <a:ext cx="249120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2939760" y="5412600"/>
            <a:ext cx="249120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555880" y="5412600"/>
            <a:ext cx="249120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323640" y="4292280"/>
            <a:ext cx="773748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23640" y="4292280"/>
            <a:ext cx="773748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23640" y="4292280"/>
            <a:ext cx="377568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288320" y="4292280"/>
            <a:ext cx="377568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23640" y="4292280"/>
            <a:ext cx="377568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288320" y="4292280"/>
            <a:ext cx="377568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23640" y="5412600"/>
            <a:ext cx="377568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23640" y="4292280"/>
            <a:ext cx="377568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288320" y="4292280"/>
            <a:ext cx="377568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288320" y="5412600"/>
            <a:ext cx="377568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23640" y="4292280"/>
            <a:ext cx="377568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8320" y="4292280"/>
            <a:ext cx="377568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323640" y="5412600"/>
            <a:ext cx="773748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3640" y="4292280"/>
            <a:ext cx="377568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288320" y="4292280"/>
            <a:ext cx="377568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3640" y="5412600"/>
            <a:ext cx="377568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8BBF-35A4-4A7A-BB15-5F40399C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23640" y="4292280"/>
            <a:ext cx="773748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640" y="5412600"/>
            <a:ext cx="773748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3640" y="4292280"/>
            <a:ext cx="377568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288320" y="4292280"/>
            <a:ext cx="377568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323640" y="5412600"/>
            <a:ext cx="377568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288320" y="5412600"/>
            <a:ext cx="377568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23640" y="4292280"/>
            <a:ext cx="249120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939760" y="4292280"/>
            <a:ext cx="249120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555880" y="4292280"/>
            <a:ext cx="249120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323640" y="5412600"/>
            <a:ext cx="249120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2939760" y="5412600"/>
            <a:ext cx="249120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5555880" y="5412600"/>
            <a:ext cx="249120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323640" y="4292280"/>
            <a:ext cx="773748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23640" y="4292280"/>
            <a:ext cx="773748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23640" y="4292280"/>
            <a:ext cx="377568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288320" y="4292280"/>
            <a:ext cx="377568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23640" y="4292280"/>
            <a:ext cx="377568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288320" y="4292280"/>
            <a:ext cx="377568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23640" y="5412600"/>
            <a:ext cx="377568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3640" y="4292280"/>
            <a:ext cx="377568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288320" y="4292280"/>
            <a:ext cx="377568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288320" y="5412600"/>
            <a:ext cx="377568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925A-B6CA-466A-9B1E-B7C014A3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23640" y="4292280"/>
            <a:ext cx="377568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288320" y="4292280"/>
            <a:ext cx="377568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288320" y="5412600"/>
            <a:ext cx="377568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23640" y="4292280"/>
            <a:ext cx="377568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288320" y="4292280"/>
            <a:ext cx="377568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323640" y="5412600"/>
            <a:ext cx="773748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23640" y="4292280"/>
            <a:ext cx="773748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640" y="5412600"/>
            <a:ext cx="773748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23640" y="4292280"/>
            <a:ext cx="377568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288320" y="4292280"/>
            <a:ext cx="377568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323640" y="5412600"/>
            <a:ext cx="377568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288320" y="5412600"/>
            <a:ext cx="377568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23640" y="4292280"/>
            <a:ext cx="249120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2939760" y="4292280"/>
            <a:ext cx="249120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555880" y="4292280"/>
            <a:ext cx="249120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323640" y="5412600"/>
            <a:ext cx="249120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2939760" y="5412600"/>
            <a:ext cx="249120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5555880" y="5412600"/>
            <a:ext cx="249120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323640" y="4292280"/>
            <a:ext cx="773748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23640" y="4292280"/>
            <a:ext cx="773748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23640" y="4292280"/>
            <a:ext cx="377568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8320" y="4292280"/>
            <a:ext cx="377568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3640" y="4292280"/>
            <a:ext cx="377568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88320" y="4292280"/>
            <a:ext cx="377568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3640" y="5412600"/>
            <a:ext cx="773748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E3E3-7815-47CF-B85A-7FB7C707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23640" y="4292280"/>
            <a:ext cx="377568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288320" y="4292280"/>
            <a:ext cx="377568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23640" y="5412600"/>
            <a:ext cx="377568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23640" y="4292280"/>
            <a:ext cx="377568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288320" y="4292280"/>
            <a:ext cx="377568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288320" y="5412600"/>
            <a:ext cx="377568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23640" y="4292280"/>
            <a:ext cx="377568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288320" y="4292280"/>
            <a:ext cx="377568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323640" y="5412600"/>
            <a:ext cx="773748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23640" y="4292280"/>
            <a:ext cx="773748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640" y="5412600"/>
            <a:ext cx="773748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23640" y="4292280"/>
            <a:ext cx="377568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288320" y="4292280"/>
            <a:ext cx="377568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323640" y="5412600"/>
            <a:ext cx="377568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288320" y="5412600"/>
            <a:ext cx="377568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23640" y="4292280"/>
            <a:ext cx="249120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2939760" y="4292280"/>
            <a:ext cx="249120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555880" y="4292280"/>
            <a:ext cx="249120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323640" y="5412600"/>
            <a:ext cx="249120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2939760" y="5412600"/>
            <a:ext cx="249120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555880" y="5412600"/>
            <a:ext cx="2491200" cy="10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0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1.jpeg"/><Relationship Id="rId3" Type="http://schemas.openxmlformats.org/officeDocument/2006/relationships/image" Target="../media/image9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23640" y="1307880"/>
            <a:ext cx="92566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8d"/>
                </a:solidFill>
                <a:latin typeface="Arial"/>
              </a:rPr>
              <a:t>Click to edit the outline text format</a:t>
            </a:r>
            <a:endParaRPr b="1" lang="en-US" sz="1400" spc="-1" strike="noStrike">
              <a:solidFill>
                <a:srgbClr val="00338d"/>
              </a:solidFill>
              <a:latin typeface="Arial"/>
            </a:endParaRPr>
          </a:p>
          <a:p>
            <a:pPr lvl="1" marL="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8d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00338d"/>
              </a:solidFill>
              <a:latin typeface="Arial"/>
            </a:endParaRPr>
          </a:p>
          <a:p>
            <a:pPr lvl="2" marL="179280" indent="-176040">
              <a:spcBef>
                <a:spcPts val="700"/>
              </a:spcBef>
              <a:buClr>
                <a:srgbClr val="00338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8d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00338d"/>
              </a:solidFill>
              <a:latin typeface="Arial"/>
            </a:endParaRPr>
          </a:p>
          <a:p>
            <a:pPr lvl="3" marL="358920" indent="-177840">
              <a:spcBef>
                <a:spcPts val="700"/>
              </a:spcBef>
              <a:buClr>
                <a:srgbClr val="00338d"/>
              </a:buClr>
              <a:buSzPct val="8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8d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338d"/>
              </a:solidFill>
              <a:latin typeface="Arial"/>
            </a:endParaRPr>
          </a:p>
          <a:p>
            <a:pPr lvl="4" marL="539640" indent="-179280">
              <a:spcBef>
                <a:spcPts val="700"/>
              </a:spcBef>
              <a:buClr>
                <a:srgbClr val="00338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8d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338d"/>
              </a:solidFill>
              <a:latin typeface="Arial"/>
            </a:endParaRPr>
          </a:p>
          <a:p>
            <a:pPr lvl="5" marL="539640" indent="-17928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8d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338d"/>
              </a:solidFill>
              <a:latin typeface="Arial"/>
            </a:endParaRPr>
          </a:p>
          <a:p>
            <a:pPr lvl="6" marL="539640" indent="-17928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8d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338d"/>
              </a:solidFill>
              <a:latin typeface="Arial"/>
            </a:endParaRPr>
          </a:p>
        </p:txBody>
      </p:sp>
      <p:pic>
        <p:nvPicPr>
          <p:cNvPr id="1" name="Picture 15" descr="Banner-4_A4"/>
          <p:cNvPicPr/>
          <p:nvPr/>
        </p:nvPicPr>
        <p:blipFill>
          <a:blip r:embed="rId2"/>
          <a:stretch/>
        </p:blipFill>
        <p:spPr>
          <a:xfrm>
            <a:off x="0" y="0"/>
            <a:ext cx="990108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Line 10"/>
          <p:cNvSpPr/>
          <p:nvPr/>
        </p:nvSpPr>
        <p:spPr>
          <a:xfrm>
            <a:off x="325440" y="6373800"/>
            <a:ext cx="92851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8"/>
          <p:cNvSpPr/>
          <p:nvPr/>
        </p:nvSpPr>
        <p:spPr>
          <a:xfrm>
            <a:off x="324000" y="6400800"/>
            <a:ext cx="332892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500" spc="-1" strike="noStrike">
                <a:solidFill>
                  <a:srgbClr val="00338d"/>
                </a:solidFill>
                <a:latin typeface="Arial"/>
              </a:rPr>
              <a:t>© 2011 Sibille, sociedad civil y firma miembro de la red de firmas miembro independientes de KPMG afiliadas a KPMG International Cooperative (“KPMG International”), una entidad suiza. Derechos reservados.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323640" y="115920"/>
            <a:ext cx="92566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70440" y="6386400"/>
            <a:ext cx="17938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8d"/>
                </a:solidFill>
                <a:latin typeface="Times New Roman"/>
              </a:defRPr>
            </a:lvl1pPr>
          </a:lstStyle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9F065-1F65-4320-B1AC-83B3B2B74FBD}" type="datetime">
              <a:rPr b="0" lang="en-US" sz="900" spc="-1" strike="noStrike">
                <a:solidFill>
                  <a:srgbClr val="00338d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328480" y="6386400"/>
            <a:ext cx="61340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338d"/>
                </a:solidFill>
                <a:latin typeface="Times New Roman"/>
              </a:defRPr>
            </a:lvl1pPr>
          </a:lstStyle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338d"/>
                </a:solidFill>
                <a:latin typeface="Times New Roman"/>
              </a:rPr>
              <a:t>GO HEADER &amp; FOOTER TO EDIT THIS TEX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989920" y="6386400"/>
            <a:ext cx="71280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338d"/>
                </a:solidFill>
                <a:latin typeface="Times New Roman"/>
              </a:defRPr>
            </a:lvl1pPr>
          </a:lstStyle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4C12E-FA88-4E51-8750-D054A05F3008}" type="slidenum">
              <a:rPr b="0" lang="en-GB" sz="900" spc="-1" strike="noStrike">
                <a:solidFill>
                  <a:srgbClr val="00338d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0" descr="Cover 2-5_A4"/>
          <p:cNvPicPr/>
          <p:nvPr/>
        </p:nvPicPr>
        <p:blipFill>
          <a:blip r:embed="rId2"/>
          <a:stretch/>
        </p:blipFill>
        <p:spPr>
          <a:xfrm>
            <a:off x="0" y="0"/>
            <a:ext cx="9918720" cy="6854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KPMG_white logo_cover 1_2_3"/>
          <p:cNvPicPr/>
          <p:nvPr/>
        </p:nvPicPr>
        <p:blipFill>
          <a:blip r:embed="rId3"/>
          <a:stretch/>
        </p:blipFill>
        <p:spPr>
          <a:xfrm>
            <a:off x="324000" y="434880"/>
            <a:ext cx="2158920" cy="7398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1600" y="2568240"/>
            <a:ext cx="4726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881600" y="4983120"/>
            <a:ext cx="47260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1080" algn="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296280" indent="-145800" algn="r">
              <a:spcBef>
                <a:spcPts val="601"/>
              </a:spcBef>
              <a:buClr>
                <a:srgbClr val="00338d"/>
              </a:buClr>
              <a:buSzPct val="7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446400" indent="-147600" algn="r">
              <a:spcBef>
                <a:spcPts val="601"/>
              </a:spcBef>
              <a:buClr>
                <a:srgbClr val="00338d"/>
              </a:buClr>
              <a:buSzPct val="8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4" marL="599040" indent="-148680" algn="r">
              <a:spcBef>
                <a:spcPts val="601"/>
              </a:spcBef>
              <a:buClr>
                <a:srgbClr val="00338d"/>
              </a:buClr>
              <a:buSzPct val="7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5" marL="599040" indent="-148680" algn="r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6" marL="599040" indent="-148680" algn="r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\\Arbuefsr02\marketing\CARPETAS de INTERCAMBIO\Presentación Nación Fideicomisos\fdo_bandera_argentina.jpg"/>
          <p:cNvPicPr/>
          <p:nvPr/>
        </p:nvPicPr>
        <p:blipFill>
          <a:blip r:embed="rId2"/>
          <a:stretch/>
        </p:blipFill>
        <p:spPr>
          <a:xfrm>
            <a:off x="0" y="0"/>
            <a:ext cx="9915480" cy="6867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PowerPoint-Graphics-6_A4"/>
          <p:cNvPicPr/>
          <p:nvPr/>
        </p:nvPicPr>
        <p:blipFill>
          <a:blip r:embed="rId3"/>
          <a:stretch/>
        </p:blipFill>
        <p:spPr>
          <a:xfrm>
            <a:off x="-6480" y="-6480"/>
            <a:ext cx="6751800" cy="68738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3640" y="1437840"/>
            <a:ext cx="52606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23640" y="3814920"/>
            <a:ext cx="50670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357120" indent="-176040">
              <a:spcBef>
                <a:spcPts val="601"/>
              </a:spcBef>
              <a:buClr>
                <a:srgbClr val="00338d"/>
              </a:buClr>
              <a:buSzPct val="7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538200" indent="-177840">
              <a:spcBef>
                <a:spcPts val="601"/>
              </a:spcBef>
              <a:buClr>
                <a:srgbClr val="00338d"/>
              </a:buClr>
              <a:buSzPct val="8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4" marL="722160" indent="-179280">
              <a:spcBef>
                <a:spcPts val="601"/>
              </a:spcBef>
              <a:buClr>
                <a:srgbClr val="00338d"/>
              </a:buClr>
              <a:buSzPct val="7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5" marL="722160" indent="-1792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6" marL="722160" indent="-1792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\\Arbuefsr02\marketing\CARPETAS de INTERCAMBIO\Presentación Nación Fideicomisos\fdo_banderas_internacional.jpg"/>
          <p:cNvPicPr/>
          <p:nvPr/>
        </p:nvPicPr>
        <p:blipFill>
          <a:blip r:embed="rId2"/>
          <a:stretch/>
        </p:blipFill>
        <p:spPr>
          <a:xfrm>
            <a:off x="0" y="0"/>
            <a:ext cx="9915480" cy="6867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PowerPoint-Graphics-6_A4"/>
          <p:cNvPicPr/>
          <p:nvPr/>
        </p:nvPicPr>
        <p:blipFill>
          <a:blip r:embed="rId3"/>
          <a:stretch/>
        </p:blipFill>
        <p:spPr>
          <a:xfrm>
            <a:off x="-6480" y="-6480"/>
            <a:ext cx="6751800" cy="68738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3640" y="1437840"/>
            <a:ext cx="52606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323640" y="3814920"/>
            <a:ext cx="50670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357120" indent="-176040">
              <a:spcBef>
                <a:spcPts val="601"/>
              </a:spcBef>
              <a:buClr>
                <a:srgbClr val="00338d"/>
              </a:buClr>
              <a:buSzPct val="7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538200" indent="-177840">
              <a:spcBef>
                <a:spcPts val="601"/>
              </a:spcBef>
              <a:buClr>
                <a:srgbClr val="00338d"/>
              </a:buClr>
              <a:buSzPct val="8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4" marL="722160" indent="-179280">
              <a:spcBef>
                <a:spcPts val="601"/>
              </a:spcBef>
              <a:buClr>
                <a:srgbClr val="00338d"/>
              </a:buClr>
              <a:buSzPct val="7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5" marL="722160" indent="-1792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6" marL="722160" indent="-1792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\\Arbuefsr02\marketing\CARPETAS de INTERCAMBIO\Presentación Nación Fideicomisos\fdo_bancos02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67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AnglePanel"/>
          <p:cNvPicPr/>
          <p:nvPr/>
        </p:nvPicPr>
        <p:blipFill>
          <a:blip r:embed="rId3"/>
          <a:stretch/>
        </p:blipFill>
        <p:spPr>
          <a:xfrm>
            <a:off x="-3240" y="4581360"/>
            <a:ext cx="4919760" cy="227808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4941360"/>
            <a:ext cx="3822480" cy="15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8d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PowerPoint-Graphics-3_A4"/>
          <p:cNvPicPr/>
          <p:nvPr/>
        </p:nvPicPr>
        <p:blipFill>
          <a:blip r:embed="rId2"/>
          <a:stretch/>
        </p:blipFill>
        <p:spPr>
          <a:xfrm>
            <a:off x="0" y="0"/>
            <a:ext cx="5240160" cy="54007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3640" y="1437840"/>
            <a:ext cx="41893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323640" y="2698920"/>
            <a:ext cx="35082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85400" indent="-91440">
              <a:spcBef>
                <a:spcPts val="601"/>
              </a:spcBef>
              <a:buClr>
                <a:srgbClr val="00338d"/>
              </a:buClr>
              <a:buSzPct val="7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279720" indent="-92160">
              <a:spcBef>
                <a:spcPts val="601"/>
              </a:spcBef>
              <a:buClr>
                <a:srgbClr val="00338d"/>
              </a:buClr>
              <a:buSzPct val="8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4" marL="375480" indent="-92880">
              <a:spcBef>
                <a:spcPts val="601"/>
              </a:spcBef>
              <a:buClr>
                <a:srgbClr val="00338d"/>
              </a:buClr>
              <a:buSzPct val="7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5" marL="375480" indent="-928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6" marL="375480" indent="-928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6" descr="PowerPoint-Graphics_A4"/>
          <p:cNvPicPr/>
          <p:nvPr/>
        </p:nvPicPr>
        <p:blipFill>
          <a:blip r:embed="rId2"/>
          <a:stretch/>
        </p:blipFill>
        <p:spPr>
          <a:xfrm>
            <a:off x="0" y="0"/>
            <a:ext cx="5041800" cy="3240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" descr="KPMG_white logo_cover 1_2_3"/>
          <p:cNvPicPr/>
          <p:nvPr/>
        </p:nvPicPr>
        <p:blipFill>
          <a:blip r:embed="rId3"/>
          <a:stretch/>
        </p:blipFill>
        <p:spPr>
          <a:xfrm>
            <a:off x="324000" y="434880"/>
            <a:ext cx="2158920" cy="7398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323640" y="4292280"/>
            <a:ext cx="773748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57120" indent="-176040">
              <a:spcBef>
                <a:spcPts val="601"/>
              </a:spcBef>
              <a:buClr>
                <a:srgbClr val="00338d"/>
              </a:buClr>
              <a:buSzPct val="7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601"/>
              </a:spcBef>
              <a:buClr>
                <a:srgbClr val="00338d"/>
              </a:buClr>
              <a:buSzPct val="8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722160" indent="-179280">
              <a:spcBef>
                <a:spcPts val="601"/>
              </a:spcBef>
              <a:buClr>
                <a:srgbClr val="00338d"/>
              </a:buClr>
              <a:buSzPct val="7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722160" indent="-1792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722160" indent="-1792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\\Arbuefsr02\Marketing\Diseño\141337887,81F537C410C8178E44D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8" descr="PowerPoint-Graphics-3_A4"/>
          <p:cNvPicPr/>
          <p:nvPr/>
        </p:nvPicPr>
        <p:blipFill>
          <a:blip r:embed="rId3"/>
          <a:stretch/>
        </p:blipFill>
        <p:spPr>
          <a:xfrm>
            <a:off x="0" y="0"/>
            <a:ext cx="5240160" cy="54007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0" descr="KPMG_white logo_cover 1_2_3"/>
          <p:cNvPicPr/>
          <p:nvPr/>
        </p:nvPicPr>
        <p:blipFill>
          <a:blip r:embed="rId4"/>
          <a:stretch/>
        </p:blipFill>
        <p:spPr>
          <a:xfrm>
            <a:off x="324000" y="434880"/>
            <a:ext cx="2158920" cy="73980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body"/>
          </p:nvPr>
        </p:nvSpPr>
        <p:spPr>
          <a:xfrm>
            <a:off x="323640" y="1307880"/>
            <a:ext cx="92566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8d"/>
                </a:solidFill>
                <a:latin typeface="Arial"/>
              </a:rPr>
              <a:t>Click to edit the outline text format</a:t>
            </a:r>
            <a:endParaRPr b="1" lang="en-US" sz="1400" spc="-1" strike="noStrike">
              <a:solidFill>
                <a:srgbClr val="00338d"/>
              </a:solidFill>
              <a:latin typeface="Arial"/>
            </a:endParaRPr>
          </a:p>
          <a:p>
            <a:pPr lvl="1" marL="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8d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00338d"/>
              </a:solidFill>
              <a:latin typeface="Arial"/>
            </a:endParaRPr>
          </a:p>
          <a:p>
            <a:pPr lvl="2" marL="179280" indent="-176040">
              <a:spcBef>
                <a:spcPts val="700"/>
              </a:spcBef>
              <a:buClr>
                <a:srgbClr val="00338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8d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00338d"/>
              </a:solidFill>
              <a:latin typeface="Arial"/>
            </a:endParaRPr>
          </a:p>
          <a:p>
            <a:pPr lvl="3" marL="358920" indent="-177840">
              <a:spcBef>
                <a:spcPts val="700"/>
              </a:spcBef>
              <a:buClr>
                <a:srgbClr val="00338d"/>
              </a:buClr>
              <a:buSzPct val="8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8d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338d"/>
              </a:solidFill>
              <a:latin typeface="Arial"/>
            </a:endParaRPr>
          </a:p>
          <a:p>
            <a:pPr lvl="4" marL="539640" indent="-179280">
              <a:spcBef>
                <a:spcPts val="700"/>
              </a:spcBef>
              <a:buClr>
                <a:srgbClr val="00338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8d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338d"/>
              </a:solidFill>
              <a:latin typeface="Arial"/>
            </a:endParaRPr>
          </a:p>
          <a:p>
            <a:pPr lvl="5" marL="539640" indent="-17928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8d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338d"/>
              </a:solidFill>
              <a:latin typeface="Arial"/>
            </a:endParaRPr>
          </a:p>
          <a:p>
            <a:pPr lvl="6" marL="539640" indent="-17928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8d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338d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323640" y="115920"/>
            <a:ext cx="92566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8"/>
          <p:cNvSpPr/>
          <p:nvPr/>
        </p:nvSpPr>
        <p:spPr>
          <a:xfrm>
            <a:off x="361800" y="2168640"/>
            <a:ext cx="3781440" cy="14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920" bIns="2592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Por qué iniciar tu carrera profesional en KPMG?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23640" y="115920"/>
            <a:ext cx="92566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sesorí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352520" y="2168640"/>
            <a:ext cx="8454960" cy="40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Arial"/>
              </a:rPr>
              <a:t>Management Consulting</a:t>
            </a:r>
            <a:endParaRPr b="1" lang="en-US" sz="1600" spc="-1" strike="noStrike">
              <a:solidFill>
                <a:srgbClr val="00338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70c0"/>
                </a:solidFill>
                <a:latin typeface="Arial"/>
              </a:rPr>
              <a:t>Business Performance Services </a:t>
            </a:r>
            <a:endParaRPr b="1" lang="en-US" sz="1400" spc="-1" strike="noStrike">
              <a:solidFill>
                <a:srgbClr val="00338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70c0"/>
                </a:solidFill>
                <a:latin typeface="Arial"/>
              </a:rPr>
              <a:t>IT Advisory</a:t>
            </a:r>
            <a:endParaRPr b="1" lang="en-US" sz="1400" spc="-1" strike="noStrike">
              <a:solidFill>
                <a:srgbClr val="00338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8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Arial"/>
              </a:rPr>
              <a:t>Risk Consulting</a:t>
            </a:r>
            <a:endParaRPr b="1" lang="en-US" sz="1600" spc="-1" strike="noStrike">
              <a:solidFill>
                <a:srgbClr val="00338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70c0"/>
                </a:solidFill>
                <a:latin typeface="Arial"/>
              </a:rPr>
              <a:t>Internal Audit, Risk &amp; Compliance Services </a:t>
            </a:r>
            <a:endParaRPr b="1" lang="en-US" sz="1400" spc="-1" strike="noStrike">
              <a:solidFill>
                <a:srgbClr val="00338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70c0"/>
                </a:solidFill>
                <a:latin typeface="Arial"/>
              </a:rPr>
              <a:t>Financial Risk Management </a:t>
            </a:r>
            <a:endParaRPr b="1" lang="en-US" sz="1400" spc="-1" strike="noStrike">
              <a:solidFill>
                <a:srgbClr val="00338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70c0"/>
                </a:solidFill>
                <a:latin typeface="Arial"/>
              </a:rPr>
              <a:t>Accounting Advisory Services </a:t>
            </a:r>
            <a:endParaRPr b="1" lang="en-US" sz="1400" spc="-1" strike="noStrike">
              <a:solidFill>
                <a:srgbClr val="00338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70c0"/>
                </a:solidFill>
                <a:latin typeface="Arial"/>
              </a:rPr>
              <a:t>Forensic</a:t>
            </a:r>
            <a:endParaRPr b="1" lang="en-US" sz="1400" spc="-1" strike="noStrike">
              <a:solidFill>
                <a:srgbClr val="00338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8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Arial"/>
              </a:rPr>
              <a:t>Transactions &amp; Restructuring</a:t>
            </a:r>
            <a:endParaRPr b="1" lang="en-US" sz="1600" spc="-1" strike="noStrike">
              <a:solidFill>
                <a:srgbClr val="00338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70c0"/>
                </a:solidFill>
                <a:latin typeface="Arial"/>
              </a:rPr>
              <a:t>Corporate Finance </a:t>
            </a:r>
            <a:endParaRPr b="1" lang="en-US" sz="1400" spc="-1" strike="noStrike">
              <a:solidFill>
                <a:srgbClr val="00338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70c0"/>
                </a:solidFill>
                <a:latin typeface="Arial"/>
              </a:rPr>
              <a:t>Transaction Services </a:t>
            </a:r>
            <a:endParaRPr b="1" lang="en-US" sz="1400" spc="-1" strike="noStrike">
              <a:solidFill>
                <a:srgbClr val="00338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70c0"/>
                </a:solidFill>
                <a:latin typeface="Arial"/>
              </a:rPr>
              <a:t>Restructuring</a:t>
            </a:r>
            <a:endParaRPr b="1" lang="en-US" sz="1400" spc="-1" strike="noStrike">
              <a:solidFill>
                <a:srgbClr val="00338d"/>
              </a:solidFill>
              <a:latin typeface="Arial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361800" y="1178640"/>
            <a:ext cx="9001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El departamento de Asesoría ofrece una variedad de servicios para ayudar a sus clientes a enfrentar sus desafíos y aprovechar sus oportunidades. Proveemos a las organizaciones el asesoramiento independiente y la información confiable que se necesitan para analizar alternativas y diseñar estrategi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23640" y="115920"/>
            <a:ext cx="92566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mpuesto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538280" y="2077560"/>
            <a:ext cx="8454960" cy="32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70c0"/>
                </a:solidFill>
                <a:latin typeface="Arial"/>
              </a:rPr>
              <a:t>• </a:t>
            </a:r>
            <a:r>
              <a:rPr b="1" lang="es-ES" sz="1400" spc="-1" strike="noStrike">
                <a:solidFill>
                  <a:srgbClr val="0070c0"/>
                </a:solidFill>
                <a:latin typeface="Arial"/>
              </a:rPr>
              <a:t>Planificación impositiva </a:t>
            </a:r>
            <a:endParaRPr b="1" lang="en-US" sz="1400" spc="-1" strike="noStrike">
              <a:solidFill>
                <a:srgbClr val="00338d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70c0"/>
                </a:solidFill>
                <a:latin typeface="Arial"/>
              </a:rPr>
              <a:t>• </a:t>
            </a:r>
            <a:r>
              <a:rPr b="1" lang="es-ES" sz="1400" spc="-1" strike="noStrike">
                <a:solidFill>
                  <a:srgbClr val="0070c0"/>
                </a:solidFill>
                <a:latin typeface="Arial"/>
              </a:rPr>
              <a:t>Precios de transferencia </a:t>
            </a:r>
            <a:endParaRPr b="1" lang="en-US" sz="1400" spc="-1" strike="noStrike">
              <a:solidFill>
                <a:srgbClr val="00338d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70c0"/>
                </a:solidFill>
                <a:latin typeface="Arial"/>
              </a:rPr>
              <a:t>• </a:t>
            </a:r>
            <a:r>
              <a:rPr b="1" lang="es-ES" sz="1400" spc="-1" strike="noStrike">
                <a:solidFill>
                  <a:srgbClr val="0070c0"/>
                </a:solidFill>
                <a:latin typeface="Arial"/>
              </a:rPr>
              <a:t>Fusiones y adquisiciones </a:t>
            </a:r>
            <a:endParaRPr b="1" lang="en-US" sz="1400" spc="-1" strike="noStrike">
              <a:solidFill>
                <a:srgbClr val="00338d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70c0"/>
                </a:solidFill>
                <a:latin typeface="Arial"/>
              </a:rPr>
              <a:t>• </a:t>
            </a:r>
            <a:r>
              <a:rPr b="1" lang="es-ES" sz="1400" spc="-1" strike="noStrike">
                <a:solidFill>
                  <a:srgbClr val="0070c0"/>
                </a:solidFill>
                <a:latin typeface="Arial"/>
              </a:rPr>
              <a:t>Asesoramiento contencioso tributario </a:t>
            </a:r>
            <a:endParaRPr b="1" lang="en-US" sz="1400" spc="-1" strike="noStrike">
              <a:solidFill>
                <a:srgbClr val="00338d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70c0"/>
                </a:solidFill>
                <a:latin typeface="Arial"/>
              </a:rPr>
              <a:t>• </a:t>
            </a:r>
            <a:r>
              <a:rPr b="1" lang="es-ES" sz="1400" spc="-1" strike="noStrike">
                <a:solidFill>
                  <a:srgbClr val="0070c0"/>
                </a:solidFill>
                <a:latin typeface="Arial"/>
              </a:rPr>
              <a:t>Asesoramiento legal</a:t>
            </a:r>
            <a:endParaRPr b="1" lang="en-US" sz="1400" spc="-1" strike="noStrike">
              <a:solidFill>
                <a:srgbClr val="00338d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70c0"/>
                </a:solidFill>
                <a:latin typeface="Arial"/>
              </a:rPr>
              <a:t>• </a:t>
            </a:r>
            <a:r>
              <a:rPr b="1" lang="es-ES" sz="1400" spc="-1" strike="noStrike">
                <a:solidFill>
                  <a:srgbClr val="0070c0"/>
                </a:solidFill>
                <a:latin typeface="Arial"/>
              </a:rPr>
              <a:t>Tributación internacional </a:t>
            </a:r>
            <a:endParaRPr b="1" lang="en-US" sz="1400" spc="-1" strike="noStrike">
              <a:solidFill>
                <a:srgbClr val="00338d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70c0"/>
                </a:solidFill>
                <a:latin typeface="Arial"/>
              </a:rPr>
              <a:t>• </a:t>
            </a:r>
            <a:r>
              <a:rPr b="1" lang="es-ES" sz="1400" spc="-1" strike="noStrike">
                <a:solidFill>
                  <a:srgbClr val="0070c0"/>
                </a:solidFill>
                <a:latin typeface="Arial"/>
              </a:rPr>
              <a:t>Cumplimiento de obligaciones impositivas</a:t>
            </a:r>
            <a:endParaRPr b="1" lang="en-US" sz="1400" spc="-1" strike="noStrike">
              <a:solidFill>
                <a:srgbClr val="00338d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70c0"/>
                </a:solidFill>
                <a:latin typeface="Arial"/>
              </a:rPr>
              <a:t>• </a:t>
            </a:r>
            <a:r>
              <a:rPr b="1" lang="es-ES" sz="1400" spc="-1" strike="noStrike">
                <a:solidFill>
                  <a:srgbClr val="0070c0"/>
                </a:solidFill>
                <a:latin typeface="Arial"/>
              </a:rPr>
              <a:t>Asesoramiento fiscal al personal expatriado </a:t>
            </a:r>
            <a:endParaRPr b="1" lang="en-US" sz="1400" spc="-1" strike="noStrike">
              <a:solidFill>
                <a:srgbClr val="00338d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70c0"/>
                </a:solidFill>
                <a:latin typeface="Arial"/>
              </a:rPr>
              <a:t>• </a:t>
            </a:r>
            <a:r>
              <a:rPr b="1" lang="es-ES" sz="1400" spc="-1" strike="noStrike">
                <a:solidFill>
                  <a:srgbClr val="0070c0"/>
                </a:solidFill>
                <a:latin typeface="Arial"/>
              </a:rPr>
              <a:t>Asesoramiento en seguridad social y laboral</a:t>
            </a:r>
            <a:endParaRPr b="1" lang="en-US" sz="1400" spc="-1" strike="noStrike">
              <a:solidFill>
                <a:srgbClr val="00338d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70c0"/>
                </a:solidFill>
                <a:latin typeface="Arial"/>
              </a:rPr>
              <a:t>• </a:t>
            </a:r>
            <a:r>
              <a:rPr b="1" lang="es-ES" sz="1400" spc="-1" strike="noStrike">
                <a:solidFill>
                  <a:srgbClr val="0070c0"/>
                </a:solidFill>
                <a:latin typeface="Arial"/>
              </a:rPr>
              <a:t>Planificación fiscal de individuos y empresas familiares </a:t>
            </a:r>
            <a:endParaRPr b="1" lang="en-US" sz="1400" spc="-1" strike="noStrike">
              <a:solidFill>
                <a:srgbClr val="00338d"/>
              </a:solidFill>
              <a:latin typeface="Arial"/>
            </a:endParaRPr>
          </a:p>
        </p:txBody>
      </p:sp>
      <p:sp>
        <p:nvSpPr>
          <p:cNvPr id="361" name="Rectangle 32"/>
          <p:cNvSpPr/>
          <p:nvPr/>
        </p:nvSpPr>
        <p:spPr>
          <a:xfrm rot="16200000">
            <a:off x="-1637280" y="3658320"/>
            <a:ext cx="36273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br>
              <a:rPr sz="2200"/>
            </a:br>
            <a:r>
              <a:rPr b="0" i="1" lang="es-AR" sz="2200" spc="-1" strike="noStrike">
                <a:solidFill>
                  <a:srgbClr val="ffffff"/>
                </a:solidFill>
                <a:latin typeface="Times New Roman"/>
              </a:rPr>
              <a:t>Nuestros Servic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4"/>
          <p:cNvSpPr/>
          <p:nvPr/>
        </p:nvSpPr>
        <p:spPr>
          <a:xfrm>
            <a:off x="452520" y="1177920"/>
            <a:ext cx="891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También brindamos a nuestros clientes asesoramiento en todos los aspectos de la tributación, ya sea local o internacional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23640" y="115920"/>
            <a:ext cx="92566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uditorí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1449360" y="2440080"/>
            <a:ext cx="845496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70c0"/>
                </a:solidFill>
                <a:latin typeface="Arial"/>
              </a:rPr>
              <a:t>• </a:t>
            </a:r>
            <a:r>
              <a:rPr b="1" lang="es-ES" sz="1500" spc="-1" strike="noStrike">
                <a:solidFill>
                  <a:srgbClr val="0070c0"/>
                </a:solidFill>
                <a:latin typeface="Arial"/>
              </a:rPr>
              <a:t>Auditoría de estados contables </a:t>
            </a:r>
            <a:endParaRPr b="1" lang="en-US" sz="1500" spc="-1" strike="noStrike">
              <a:solidFill>
                <a:srgbClr val="00338d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70c0"/>
                </a:solidFill>
                <a:latin typeface="Arial"/>
              </a:rPr>
              <a:t>• </a:t>
            </a:r>
            <a:r>
              <a:rPr b="1" lang="es-ES" sz="1500" spc="-1" strike="noStrike">
                <a:solidFill>
                  <a:srgbClr val="0070c0"/>
                </a:solidFill>
                <a:latin typeface="Arial"/>
              </a:rPr>
              <a:t>Certificaciones contables</a:t>
            </a:r>
            <a:endParaRPr b="1" lang="en-US" sz="1500" spc="-1" strike="noStrike">
              <a:solidFill>
                <a:srgbClr val="00338d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70c0"/>
                </a:solidFill>
                <a:latin typeface="Arial"/>
              </a:rPr>
              <a:t>• </a:t>
            </a:r>
            <a:r>
              <a:rPr b="1" lang="es-ES" sz="1500" spc="-1" strike="noStrike">
                <a:solidFill>
                  <a:srgbClr val="0070c0"/>
                </a:solidFill>
                <a:latin typeface="Arial"/>
              </a:rPr>
              <a:t>Procedimientos acordados de auditoría </a:t>
            </a:r>
            <a:endParaRPr b="1" lang="en-US" sz="1500" spc="-1" strike="noStrike">
              <a:solidFill>
                <a:srgbClr val="00338d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70c0"/>
                </a:solidFill>
                <a:latin typeface="Arial"/>
              </a:rPr>
              <a:t>• </a:t>
            </a:r>
            <a:r>
              <a:rPr b="1" lang="es-ES" sz="1500" spc="-1" strike="noStrike">
                <a:solidFill>
                  <a:srgbClr val="0070c0"/>
                </a:solidFill>
                <a:latin typeface="Arial"/>
              </a:rPr>
              <a:t>Revisiones limitadas de estados contables</a:t>
            </a:r>
            <a:endParaRPr b="1" lang="en-US" sz="1500" spc="-1" strike="noStrike">
              <a:solidFill>
                <a:srgbClr val="00338d"/>
              </a:solidFill>
              <a:latin typeface="Arial"/>
            </a:endParaRPr>
          </a:p>
        </p:txBody>
      </p:sp>
      <p:sp>
        <p:nvSpPr>
          <p:cNvPr id="365" name="Rectangle 32"/>
          <p:cNvSpPr/>
          <p:nvPr/>
        </p:nvSpPr>
        <p:spPr>
          <a:xfrm rot="16200000">
            <a:off x="-1637280" y="3658320"/>
            <a:ext cx="36273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br>
              <a:rPr sz="2200"/>
            </a:br>
            <a:r>
              <a:rPr b="0" i="1" lang="es-AR" sz="2200" spc="-1" strike="noStrike">
                <a:solidFill>
                  <a:srgbClr val="ffffff"/>
                </a:solidFill>
                <a:latin typeface="Times New Roman"/>
              </a:rPr>
              <a:t>Nuestros Servic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5"/>
          <p:cNvSpPr/>
          <p:nvPr/>
        </p:nvSpPr>
        <p:spPr>
          <a:xfrm>
            <a:off x="361800" y="1276560"/>
            <a:ext cx="9001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KPMG posee su propia metodología de auditoría que se basa en el análisis de riesgos y sus controles. Permite enfocar la auditoría de estados contables en las áreas de riesgo del ente auditado, haciendo más eficiente la misma y posibilitando brindar servicios de mayor valor agregad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75840" y="297000"/>
            <a:ext cx="92566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68" name="Oval 13"/>
          <p:cNvSpPr/>
          <p:nvPr/>
        </p:nvSpPr>
        <p:spPr>
          <a:xfrm>
            <a:off x="3873600" y="3068640"/>
            <a:ext cx="1506600" cy="1554120"/>
          </a:xfrm>
          <a:prstGeom prst="ellipse">
            <a:avLst/>
          </a:prstGeom>
          <a:solidFill>
            <a:srgbClr val="0b2a83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Client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&amp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Targ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Oval 15"/>
          <p:cNvSpPr/>
          <p:nvPr/>
        </p:nvSpPr>
        <p:spPr>
          <a:xfrm>
            <a:off x="5492880" y="2708280"/>
            <a:ext cx="1374480" cy="1352520"/>
          </a:xfrm>
          <a:prstGeom prst="ellipse">
            <a:avLst/>
          </a:prstGeom>
          <a:solidFill>
            <a:srgbClr val="007c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1" lang="es-AR" sz="1100" spc="-1" strike="noStrike">
                <a:solidFill>
                  <a:srgbClr val="ffffff"/>
                </a:solidFill>
                <a:latin typeface="Arial"/>
              </a:rPr>
              <a:t>Servicios financier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17"/>
          <p:cNvSpPr/>
          <p:nvPr/>
        </p:nvSpPr>
        <p:spPr>
          <a:xfrm>
            <a:off x="6934320" y="3044880"/>
            <a:ext cx="1170000" cy="3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920" bIns="25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s-AR" sz="1100" spc="-1" strike="noStrike">
                <a:solidFill>
                  <a:srgbClr val="000066"/>
                </a:solidFill>
                <a:latin typeface="Arial"/>
              </a:rPr>
              <a:t>Bancos y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s-AR" sz="1100" spc="-1" strike="noStrike">
                <a:solidFill>
                  <a:srgbClr val="000066"/>
                </a:solidFill>
                <a:latin typeface="Arial"/>
              </a:rPr>
              <a:t>Segur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Oval 18"/>
          <p:cNvSpPr/>
          <p:nvPr/>
        </p:nvSpPr>
        <p:spPr>
          <a:xfrm>
            <a:off x="3962520" y="1538280"/>
            <a:ext cx="1374480" cy="1354320"/>
          </a:xfrm>
          <a:prstGeom prst="ellipse">
            <a:avLst/>
          </a:prstGeom>
          <a:solidFill>
            <a:srgbClr val="e79603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Arial"/>
              </a:rPr>
              <a:t>Infraestructura Gobierno &amp; Salu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20"/>
          <p:cNvSpPr/>
          <p:nvPr/>
        </p:nvSpPr>
        <p:spPr>
          <a:xfrm>
            <a:off x="5403960" y="1898640"/>
            <a:ext cx="19494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920" bIns="25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s-AR" sz="1100" spc="-1" strike="noStrike">
                <a:solidFill>
                  <a:srgbClr val="000066"/>
                </a:solidFill>
                <a:latin typeface="Arial"/>
              </a:rPr>
              <a:t>Construcción, Salud, Transpor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s-AR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s-AR" sz="1100" spc="-1" strike="noStrike">
                <a:solidFill>
                  <a:srgbClr val="000066"/>
                </a:solidFill>
                <a:latin typeface="Arial"/>
              </a:rPr>
              <a:t>e Instituciones Educativ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Oval 21"/>
          <p:cNvSpPr/>
          <p:nvPr/>
        </p:nvSpPr>
        <p:spPr>
          <a:xfrm>
            <a:off x="4952880" y="4599000"/>
            <a:ext cx="1376640" cy="135252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1" lang="es-AR" sz="1100" spc="-1" strike="noStrike">
                <a:solidFill>
                  <a:srgbClr val="ffffff"/>
                </a:solidFill>
                <a:latin typeface="Arial"/>
              </a:rPr>
              <a:t>Mercados de consum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23"/>
          <p:cNvSpPr/>
          <p:nvPr/>
        </p:nvSpPr>
        <p:spPr>
          <a:xfrm>
            <a:off x="6392880" y="4959360"/>
            <a:ext cx="2455920" cy="3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920" bIns="25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s-AR" sz="1100" spc="-1" strike="noStrike">
                <a:solidFill>
                  <a:srgbClr val="000066"/>
                </a:solidFill>
                <a:latin typeface="Arial"/>
              </a:rPr>
              <a:t>Alimentos y Bebidas, Retai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s-AR" sz="1100" spc="-1" strike="noStrike">
                <a:solidFill>
                  <a:srgbClr val="000066"/>
                </a:solidFill>
                <a:latin typeface="Arial"/>
              </a:rPr>
              <a:t>Productos de consum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Oval 24"/>
          <p:cNvSpPr/>
          <p:nvPr/>
        </p:nvSpPr>
        <p:spPr>
          <a:xfrm>
            <a:off x="2973240" y="4508640"/>
            <a:ext cx="1376640" cy="1353960"/>
          </a:xfrm>
          <a:prstGeom prst="ellipse">
            <a:avLst/>
          </a:prstGeom>
          <a:solidFill>
            <a:srgbClr val="524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1" lang="es-AR" sz="900" spc="-1" strike="noStrike">
                <a:solidFill>
                  <a:srgbClr val="ffffff"/>
                </a:solidFill>
                <a:latin typeface="Arial"/>
              </a:rPr>
              <a:t>Información, Comunicación &amp; Entretenimi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26"/>
          <p:cNvSpPr/>
          <p:nvPr/>
        </p:nvSpPr>
        <p:spPr>
          <a:xfrm>
            <a:off x="1173240" y="4869000"/>
            <a:ext cx="1636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920" bIns="25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s-AR" sz="1100" spc="-1" strike="noStrike">
                <a:solidFill>
                  <a:srgbClr val="000066"/>
                </a:solidFill>
                <a:latin typeface="Arial"/>
              </a:rPr>
              <a:t>Telecomunicaciones, Media, Informátic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s-AR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s-AR" sz="1100" spc="-1" strike="noStrike">
                <a:solidFill>
                  <a:srgbClr val="000066"/>
                </a:solidFill>
                <a:latin typeface="Arial"/>
              </a:rPr>
              <a:t>y Turism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Oval 27"/>
          <p:cNvSpPr/>
          <p:nvPr/>
        </p:nvSpPr>
        <p:spPr>
          <a:xfrm>
            <a:off x="2432160" y="2708280"/>
            <a:ext cx="1374840" cy="1352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1" lang="es-AR" sz="1100" spc="-1" strike="noStrike">
                <a:solidFill>
                  <a:srgbClr val="ffffff"/>
                </a:solidFill>
                <a:latin typeface="Arial"/>
              </a:rPr>
              <a:t>Mercados industrial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29"/>
          <p:cNvSpPr/>
          <p:nvPr/>
        </p:nvSpPr>
        <p:spPr>
          <a:xfrm>
            <a:off x="367200" y="3068640"/>
            <a:ext cx="1973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920" bIns="2592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s-AR" sz="1100" spc="-1" strike="noStrike">
                <a:solidFill>
                  <a:srgbClr val="000066"/>
                </a:solidFill>
                <a:latin typeface="Arial"/>
              </a:rPr>
              <a:t>Industriales y Automotric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s-AR" sz="1100" spc="-1" strike="noStrike">
                <a:solidFill>
                  <a:srgbClr val="000066"/>
                </a:solidFill>
                <a:latin typeface="Arial"/>
              </a:rPr>
              <a:t>Química y Farmacéutica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s-AR" sz="1100" spc="-1" strike="noStrike">
                <a:solidFill>
                  <a:srgbClr val="000066"/>
                </a:solidFill>
                <a:latin typeface="Arial"/>
              </a:rPr>
              <a:t>Energía y Recursos Natural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2"/>
          <p:cNvSpPr/>
          <p:nvPr/>
        </p:nvSpPr>
        <p:spPr>
          <a:xfrm>
            <a:off x="272880" y="98280"/>
            <a:ext cx="89154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Nuestros mercados cl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23640" y="115920"/>
            <a:ext cx="92566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lgunos de Nuestros Clientes en Argentina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Rectangle 5"/>
          <p:cNvSpPr/>
          <p:nvPr/>
        </p:nvSpPr>
        <p:spPr>
          <a:xfrm>
            <a:off x="0" y="-11095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306"/>
          <p:cNvSpPr/>
          <p:nvPr/>
        </p:nvSpPr>
        <p:spPr>
          <a:xfrm>
            <a:off x="1440" y="7739640"/>
            <a:ext cx="209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308"/>
          <p:cNvSpPr/>
          <p:nvPr/>
        </p:nvSpPr>
        <p:spPr>
          <a:xfrm>
            <a:off x="5040360" y="30322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309"/>
          <p:cNvSpPr/>
          <p:nvPr/>
        </p:nvSpPr>
        <p:spPr>
          <a:xfrm>
            <a:off x="1082520" y="1268280"/>
            <a:ext cx="441036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71360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70c0"/>
                </a:solidFill>
                <a:latin typeface="Arial"/>
              </a:rPr>
              <a:t>Adidas Argent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171360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70c0"/>
                </a:solidFill>
                <a:latin typeface="Arial"/>
              </a:rPr>
              <a:t>BMW de Argent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171360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70c0"/>
                </a:solidFill>
                <a:latin typeface="Arial"/>
              </a:rPr>
              <a:t>Bay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171360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70c0"/>
                </a:solidFill>
                <a:latin typeface="Arial"/>
              </a:rPr>
              <a:t>Arc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171360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70c0"/>
                </a:solidFill>
                <a:latin typeface="Arial"/>
              </a:rPr>
              <a:t>Toyota Argentina S.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171360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70c0"/>
                </a:solidFill>
                <a:latin typeface="Arial"/>
              </a:rPr>
              <a:t>Banco de la Nación Argent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171360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70c0"/>
                </a:solidFill>
                <a:latin typeface="Arial"/>
              </a:rPr>
              <a:t>Banco Cent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171360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70c0"/>
                </a:solidFill>
                <a:latin typeface="Arial"/>
              </a:rPr>
              <a:t>Banco Santander 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171360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70c0"/>
                </a:solidFill>
                <a:latin typeface="Arial"/>
              </a:rPr>
              <a:t>HSB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171360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70c0"/>
                </a:solidFill>
                <a:latin typeface="Arial"/>
              </a:rPr>
              <a:t>Banco de Val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171360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70c0"/>
                </a:solidFill>
                <a:latin typeface="Arial"/>
              </a:rPr>
              <a:t>Banco Do Bras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171360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Arial"/>
              </a:rPr>
              <a:t>Deutsche Ba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171360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70c0"/>
                </a:solidFill>
                <a:latin typeface="Arial"/>
              </a:rPr>
              <a:t>Petrob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171360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70c0"/>
                </a:solidFill>
                <a:latin typeface="Arial"/>
              </a:rPr>
              <a:t>Tech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171360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70c0"/>
                </a:solidFill>
                <a:latin typeface="Arial"/>
              </a:rPr>
              <a:t>Tenar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309"/>
          <p:cNvSpPr/>
          <p:nvPr/>
        </p:nvSpPr>
        <p:spPr>
          <a:xfrm>
            <a:off x="4683240" y="1359000"/>
            <a:ext cx="441000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71360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70c0"/>
                </a:solidFill>
                <a:latin typeface="Arial"/>
              </a:rPr>
              <a:t>Telefón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171360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Arial"/>
              </a:rPr>
              <a:t>Kimberly Clark Argent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171360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70c0"/>
                </a:solidFill>
                <a:latin typeface="Arial"/>
              </a:rPr>
              <a:t>Pf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171360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70c0"/>
                </a:solidFill>
                <a:latin typeface="Arial"/>
              </a:rPr>
              <a:t>Aceitera General Dehe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171360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70c0"/>
                </a:solidFill>
                <a:latin typeface="Arial"/>
              </a:rPr>
              <a:t>Agfa Gevaert Argent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171360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70c0"/>
                </a:solidFill>
                <a:latin typeface="Arial"/>
              </a:rPr>
              <a:t>Droguería Suizo Argentina      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171360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70c0"/>
                </a:solidFill>
                <a:latin typeface="Arial"/>
              </a:rPr>
              <a:t>Bodega Nor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171360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70c0"/>
                </a:solidFill>
                <a:latin typeface="Arial"/>
              </a:rPr>
              <a:t>Bodegas Salentein S.A.</a:t>
            </a:r>
            <a:r>
              <a:rPr b="0" lang="en-US" sz="1600" spc="-1" strike="noStrike">
                <a:solidFill>
                  <a:srgbClr val="0070c0"/>
                </a:solidFill>
                <a:latin typeface="Arial"/>
              </a:rPr>
              <a:t>            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171360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70c0"/>
                </a:solidFill>
                <a:latin typeface="Arial"/>
              </a:rPr>
              <a:t>Dhl Express (Argentin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171360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70c0"/>
                </a:solidFill>
                <a:latin typeface="Arial"/>
              </a:rPr>
              <a:t>Hotal Fae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171360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70c0"/>
                </a:solidFill>
                <a:latin typeface="Arial"/>
              </a:rPr>
              <a:t>Pampa Energí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171360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70c0"/>
                </a:solidFill>
                <a:latin typeface="Arial"/>
              </a:rPr>
              <a:t>Pra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171360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70c0"/>
                </a:solidFill>
                <a:latin typeface="Arial"/>
              </a:rPr>
              <a:t>Transportadora de Gas del Sur (TG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171360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Arial"/>
              </a:rPr>
              <a:t>Vicent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6" descr="prepara"/>
          <p:cNvPicPr/>
          <p:nvPr/>
        </p:nvPicPr>
        <p:blipFill>
          <a:blip r:embed="rId1"/>
          <a:stretch/>
        </p:blipFill>
        <p:spPr>
          <a:xfrm>
            <a:off x="5403960" y="263520"/>
            <a:ext cx="1176120" cy="14446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7" descr="comenza"/>
          <p:cNvPicPr/>
          <p:nvPr/>
        </p:nvPicPr>
        <p:blipFill>
          <a:blip r:embed="rId2"/>
          <a:stretch/>
        </p:blipFill>
        <p:spPr>
          <a:xfrm>
            <a:off x="7559640" y="263520"/>
            <a:ext cx="1185840" cy="14558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8" descr="actualiza"/>
          <p:cNvPicPr/>
          <p:nvPr/>
        </p:nvPicPr>
        <p:blipFill>
          <a:blip r:embed="rId3"/>
          <a:stretch/>
        </p:blipFill>
        <p:spPr>
          <a:xfrm>
            <a:off x="6486480" y="263520"/>
            <a:ext cx="1187640" cy="14558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9" descr="botavanza"/>
          <p:cNvPicPr/>
          <p:nvPr/>
        </p:nvPicPr>
        <p:blipFill>
          <a:blip r:embed="rId4"/>
          <a:stretch/>
        </p:blipFill>
        <p:spPr>
          <a:xfrm>
            <a:off x="8631360" y="263520"/>
            <a:ext cx="1187280" cy="145584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881600" y="2800080"/>
            <a:ext cx="4726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1400"/>
              </a:spcBef>
              <a:buNone/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1" lang="es-AR" sz="2800" spc="-1" strike="noStrike">
                <a:solidFill>
                  <a:srgbClr val="ff9900"/>
                </a:solidFill>
                <a:latin typeface="Arial"/>
              </a:rPr>
              <a:t>Cómo integrar nuestro equipo de profesionales?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10"/>
          <p:cNvSpPr/>
          <p:nvPr/>
        </p:nvSpPr>
        <p:spPr>
          <a:xfrm>
            <a:off x="361800" y="1268280"/>
            <a:ext cx="927108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Nuestro proceso de búsqueda está orientado a graduados o estudiantes avanzados de prestigiosas y reconocidas universidades a quienes -mediante una cuidadosa política de reclutamiento, capacitación, planeamiento de carrera y evaluación de desempeño- les </a:t>
            </a:r>
            <a:r>
              <a:rPr b="1" lang="es-ES" sz="3200" spc="-1" strike="noStrike">
                <a:solidFill>
                  <a:srgbClr val="0070c0"/>
                </a:solidFill>
                <a:latin typeface="Arial"/>
              </a:rPr>
              <a:t>ofrecemos la oportunidad de desarrollarse personal y profesionalm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23640" y="115920"/>
            <a:ext cx="92566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9900"/>
                </a:solidFill>
                <a:latin typeface="Arial"/>
              </a:rPr>
              <a:t>Buscamos a los </a:t>
            </a:r>
            <a:r>
              <a:rPr b="1" lang="es-AR" sz="3200" spc="-1" strike="noStrike">
                <a:solidFill>
                  <a:srgbClr val="ff9900"/>
                </a:solidFill>
                <a:latin typeface="Arial"/>
              </a:rPr>
              <a:t>mejor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Group 4"/>
          <p:cNvGrpSpPr/>
          <p:nvPr/>
        </p:nvGrpSpPr>
        <p:grpSpPr>
          <a:xfrm>
            <a:off x="631800" y="3429000"/>
            <a:ext cx="8368920" cy="2584440"/>
            <a:chOff x="631800" y="3429000"/>
            <a:chExt cx="8368920" cy="2584440"/>
          </a:xfrm>
        </p:grpSpPr>
        <p:pic>
          <p:nvPicPr>
            <p:cNvPr id="394" name="Picture 5" descr="prepara"/>
            <p:cNvPicPr/>
            <p:nvPr/>
          </p:nvPicPr>
          <p:blipFill>
            <a:blip r:embed="rId1"/>
            <a:stretch/>
          </p:blipFill>
          <p:spPr>
            <a:xfrm>
              <a:off x="631800" y="3429000"/>
              <a:ext cx="2101680" cy="256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" name="Picture 6" descr="comenza"/>
            <p:cNvPicPr/>
            <p:nvPr/>
          </p:nvPicPr>
          <p:blipFill>
            <a:blip r:embed="rId2"/>
            <a:stretch/>
          </p:blipFill>
          <p:spPr>
            <a:xfrm>
              <a:off x="4806000" y="3429000"/>
              <a:ext cx="2117880" cy="258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Picture 7" descr="actualiza"/>
            <p:cNvPicPr/>
            <p:nvPr/>
          </p:nvPicPr>
          <p:blipFill>
            <a:blip r:embed="rId3"/>
            <a:stretch/>
          </p:blipFill>
          <p:spPr>
            <a:xfrm>
              <a:off x="2730600" y="3429000"/>
              <a:ext cx="2117880" cy="258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Picture 8" descr="botavanza"/>
            <p:cNvPicPr/>
            <p:nvPr/>
          </p:nvPicPr>
          <p:blipFill>
            <a:blip r:embed="rId4"/>
            <a:stretch/>
          </p:blipFill>
          <p:spPr>
            <a:xfrm>
              <a:off x="6882840" y="3429000"/>
              <a:ext cx="2117880" cy="2584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12" descr="\\Arbuefsr02\Marketing\Diseño\Tarjeton Reclutamiento 2011 - A.jpg"/>
          <p:cNvPicPr/>
          <p:nvPr/>
        </p:nvPicPr>
        <p:blipFill>
          <a:blip r:embed="rId1"/>
          <a:stretch/>
        </p:blipFill>
        <p:spPr>
          <a:xfrm>
            <a:off x="1127160" y="1177920"/>
            <a:ext cx="755172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13" descr="\\Arbuefsr02\Marketing\Diseño\reclutamiento 1.jpg"/>
          <p:cNvPicPr/>
          <p:nvPr/>
        </p:nvPicPr>
        <p:blipFill>
          <a:blip r:embed="rId1"/>
          <a:stretch/>
        </p:blipFill>
        <p:spPr>
          <a:xfrm>
            <a:off x="1082520" y="1177920"/>
            <a:ext cx="748692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881600" y="2890440"/>
            <a:ext cx="4726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Jóvenes Profesionales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6"/>
          <p:cNvSpPr/>
          <p:nvPr/>
        </p:nvSpPr>
        <p:spPr>
          <a:xfrm>
            <a:off x="361800" y="4003560"/>
            <a:ext cx="8715600" cy="184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920" bIns="2592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KPMG es la sigla conformada a partir de las iniciales de los apellidos de los principales miembros fundadores:</a:t>
            </a: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9900"/>
                </a:solidFill>
                <a:latin typeface="Arial"/>
              </a:rPr>
              <a:t>Klynveld, Peat, Marwick , Goerde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los avalan, con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ás de 100 años de experienci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nuestro compromiso con la calidad. Somos una empresa pionera en nuestro mercado, ya que KPMG fue la primera firma que surgió, en 1987, producto de una megafusión a nivel mundial de compañías de servicios profesion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361800" y="1449360"/>
            <a:ext cx="8282160" cy="17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920" bIns="25920" anchor="t">
            <a:spAutoFit/>
          </a:bodyPr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s-ES" sz="1600" spc="-1" strike="noStrike">
                <a:solidFill>
                  <a:srgbClr val="0070c0"/>
                </a:solidFill>
                <a:latin typeface="Arial"/>
              </a:rPr>
              <a:t>KPMG Internacional es una red global de firmas de servicios profesionales cuya aspiración es transformar el conocimiento en valor, para el beneficio de sus clientes, su gente y los mercados de capitales. Con más de 115.000 personas alrededor del mundo, las firmas miembro de KPMG proveen servicios de auditoría, impuestos y asesoría, concentrados por industria, en más de 150 país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23640" y="115920"/>
            <a:ext cx="92566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Nuestra histori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_s1035"/>
          <p:cNvSpPr/>
          <p:nvPr/>
        </p:nvSpPr>
        <p:spPr>
          <a:xfrm>
            <a:off x="6167520" y="5222880"/>
            <a:ext cx="1979640" cy="40464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So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_s1036"/>
          <p:cNvSpPr/>
          <p:nvPr/>
        </p:nvSpPr>
        <p:spPr>
          <a:xfrm>
            <a:off x="6167520" y="4756320"/>
            <a:ext cx="1979640" cy="3967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Dir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_s1037"/>
          <p:cNvSpPr/>
          <p:nvPr/>
        </p:nvSpPr>
        <p:spPr>
          <a:xfrm>
            <a:off x="6167520" y="4287960"/>
            <a:ext cx="1979640" cy="3967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Gerente Seni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_s1038"/>
          <p:cNvSpPr/>
          <p:nvPr/>
        </p:nvSpPr>
        <p:spPr>
          <a:xfrm>
            <a:off x="6167520" y="3809880"/>
            <a:ext cx="1979640" cy="40500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Ger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_s1039"/>
          <p:cNvSpPr/>
          <p:nvPr/>
        </p:nvSpPr>
        <p:spPr>
          <a:xfrm>
            <a:off x="6167520" y="3328920"/>
            <a:ext cx="1977840" cy="4078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Seni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_s1040"/>
          <p:cNvSpPr/>
          <p:nvPr/>
        </p:nvSpPr>
        <p:spPr>
          <a:xfrm>
            <a:off x="6167520" y="2863800"/>
            <a:ext cx="1979640" cy="39384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Semi Seni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_s1041"/>
          <p:cNvSpPr/>
          <p:nvPr/>
        </p:nvSpPr>
        <p:spPr>
          <a:xfrm>
            <a:off x="6167520" y="2398680"/>
            <a:ext cx="1979640" cy="39384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Juni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_s1042"/>
          <p:cNvSpPr/>
          <p:nvPr/>
        </p:nvSpPr>
        <p:spPr>
          <a:xfrm>
            <a:off x="6167520" y="1920960"/>
            <a:ext cx="1977840" cy="40464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Pas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13"/>
          <p:cNvSpPr/>
          <p:nvPr/>
        </p:nvSpPr>
        <p:spPr>
          <a:xfrm>
            <a:off x="5986440" y="1089000"/>
            <a:ext cx="22971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920" bIns="2592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br>
              <a:rPr sz="1800"/>
            </a:b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Categorí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Picture 20" descr="comenza"/>
          <p:cNvPicPr/>
          <p:nvPr/>
        </p:nvPicPr>
        <p:blipFill>
          <a:blip r:embed="rId1"/>
          <a:stretch/>
        </p:blipFill>
        <p:spPr>
          <a:xfrm>
            <a:off x="542880" y="1359000"/>
            <a:ext cx="3651120" cy="4356000"/>
          </a:xfrm>
          <a:prstGeom prst="rect">
            <a:avLst/>
          </a:prstGeom>
          <a:ln w="0">
            <a:noFill/>
          </a:ln>
        </p:spPr>
      </p:pic>
      <p:sp>
        <p:nvSpPr>
          <p:cNvPr id="411" name="Rectangle 20"/>
          <p:cNvSpPr/>
          <p:nvPr/>
        </p:nvSpPr>
        <p:spPr>
          <a:xfrm>
            <a:off x="272880" y="358920"/>
            <a:ext cx="332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erformance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Straight Connector 22"/>
          <p:cNvSpPr/>
          <p:nvPr/>
        </p:nvSpPr>
        <p:spPr>
          <a:xfrm>
            <a:off x="6122880" y="1808280"/>
            <a:ext cx="2070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Straight Connector 24"/>
          <p:cNvSpPr/>
          <p:nvPr/>
        </p:nvSpPr>
        <p:spPr>
          <a:xfrm>
            <a:off x="6122880" y="1719360"/>
            <a:ext cx="2070360" cy="0"/>
          </a:xfrm>
          <a:prstGeom prst="line">
            <a:avLst/>
          </a:prstGeom>
          <a:ln w="19080">
            <a:solidFill>
              <a:srgbClr val="a5a9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773600" y="3070080"/>
            <a:ext cx="4726080" cy="21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1400"/>
              </a:spcBef>
              <a:buNone/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Performance Management</a:t>
            </a:r>
            <a:br>
              <a:rPr sz="2800"/>
            </a:br>
            <a:r>
              <a:rPr b="1" lang="es-AR" sz="2800" spc="-1" strike="noStrike">
                <a:solidFill>
                  <a:srgbClr val="ff9900"/>
                </a:solidFill>
                <a:latin typeface="Arial"/>
              </a:rPr>
              <a:t>Evaluación de Desempeño - Dialogue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6"/>
          <p:cNvSpPr/>
          <p:nvPr/>
        </p:nvSpPr>
        <p:spPr>
          <a:xfrm>
            <a:off x="5313240" y="1449360"/>
            <a:ext cx="4140360" cy="47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920" bIns="25920" anchor="t">
            <a:noAutofit/>
          </a:bodyPr>
          <a:p>
            <a:pPr lvl="1" marL="7920" indent="-7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s-AR" sz="1600" spc="-1" strike="noStrike">
                <a:solidFill>
                  <a:srgbClr val="000066"/>
                </a:solidFill>
                <a:latin typeface="Arial"/>
                <a:ea typeface="Arial"/>
              </a:rPr>
              <a:t>Sistema de evaluación de desempeño </a:t>
            </a:r>
            <a:r>
              <a:rPr b="1" lang="es-AR" sz="1600" spc="-1" strike="noStrike">
                <a:solidFill>
                  <a:srgbClr val="ff9900"/>
                </a:solidFill>
                <a:latin typeface="Arial"/>
                <a:ea typeface="Arial"/>
              </a:rPr>
              <a:t>“Dialogue” </a:t>
            </a:r>
            <a:r>
              <a:rPr b="1" lang="es-AR" sz="1600" spc="-1" strike="noStrike">
                <a:solidFill>
                  <a:srgbClr val="000066"/>
                </a:solidFill>
                <a:latin typeface="Arial"/>
                <a:ea typeface="Arial"/>
              </a:rPr>
              <a:t>aplicado a todos los niveles de la firm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341280" indent="-298440">
              <a:lnSpc>
                <a:spcPct val="100000"/>
              </a:lnSpc>
              <a:spcBef>
                <a:spcPts val="300"/>
              </a:spcBef>
              <a:buClr>
                <a:srgbClr val="000066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s-AR" sz="1200" spc="-1" strike="noStrike">
                <a:solidFill>
                  <a:srgbClr val="000066"/>
                </a:solidFill>
                <a:latin typeface="Arial"/>
                <a:ea typeface="Arial"/>
              </a:rPr>
              <a:t>El sistema de evaluación de desempeño es continuamente monitoreado por el área de RRHH para garantizar el cumplimiento del mis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1280" indent="-298440">
              <a:lnSpc>
                <a:spcPct val="100000"/>
              </a:lnSpc>
              <a:spcBef>
                <a:spcPts val="326"/>
              </a:spcBef>
              <a:buClr>
                <a:srgbClr val="000066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s-AR" sz="1300" spc="-1" strike="noStrike">
                <a:solidFill>
                  <a:srgbClr val="000066"/>
                </a:solidFill>
                <a:latin typeface="Arial"/>
                <a:ea typeface="Arial"/>
              </a:rPr>
              <a:t>Constante contacto con Socios y Gerentes para atender asuntos que puedan surgir durante el proceso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341280" indent="-298440">
              <a:lnSpc>
                <a:spcPct val="100000"/>
              </a:lnSpc>
              <a:spcBef>
                <a:spcPts val="326"/>
              </a:spcBef>
              <a:buClr>
                <a:srgbClr val="000066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s-AR" sz="1300" spc="-1" strike="noStrike">
                <a:solidFill>
                  <a:srgbClr val="000066"/>
                </a:solidFill>
                <a:latin typeface="Arial"/>
                <a:ea typeface="Arial"/>
              </a:rPr>
              <a:t>Y está reforzado por un Programa de Coach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341280" indent="-298440">
              <a:lnSpc>
                <a:spcPct val="100000"/>
              </a:lnSpc>
              <a:spcBef>
                <a:spcPts val="326"/>
              </a:spcBef>
              <a:buClr>
                <a:srgbClr val="000066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" indent="-7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s-AR" sz="1600" spc="-1" strike="noStrike">
                <a:solidFill>
                  <a:srgbClr val="000066"/>
                </a:solidFill>
                <a:latin typeface="Arial"/>
                <a:ea typeface="Arial"/>
              </a:rPr>
              <a:t>Planeamiento de carre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341280" indent="-298440">
              <a:lnSpc>
                <a:spcPct val="100000"/>
              </a:lnSpc>
              <a:spcBef>
                <a:spcPts val="326"/>
              </a:spcBef>
              <a:buClr>
                <a:srgbClr val="000066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s-AR" sz="1300" spc="-1" strike="noStrike">
                <a:solidFill>
                  <a:srgbClr val="000066"/>
                </a:solidFill>
                <a:latin typeface="Arial"/>
                <a:ea typeface="Arial"/>
              </a:rPr>
              <a:t>Profundo compromiso de los Socios a cargo de cada departamento y del Director Ejecutivo con las promociones y con los resultados de la capacitación interna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Picture 13" descr="\\Arbuefsr02\Marketing\Diseño\reclutamiento 1.jpg"/>
          <p:cNvPicPr/>
          <p:nvPr/>
        </p:nvPicPr>
        <p:blipFill>
          <a:blip r:embed="rId1"/>
          <a:stretch/>
        </p:blipFill>
        <p:spPr>
          <a:xfrm>
            <a:off x="361800" y="1449360"/>
            <a:ext cx="4864320" cy="327492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13"/>
          <p:cNvSpPr/>
          <p:nvPr/>
        </p:nvSpPr>
        <p:spPr>
          <a:xfrm>
            <a:off x="369720" y="277920"/>
            <a:ext cx="30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erformance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5"/>
          <p:cNvSpPr/>
          <p:nvPr/>
        </p:nvSpPr>
        <p:spPr>
          <a:xfrm>
            <a:off x="4683240" y="1268280"/>
            <a:ext cx="4591080" cy="49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920" bIns="25920" anchor="t">
            <a:noAutofit/>
          </a:bodyPr>
          <a:p>
            <a:pPr lvl="1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s-AR" sz="1600" spc="-1" strike="noStrike">
                <a:solidFill>
                  <a:srgbClr val="000066"/>
                </a:solidFill>
                <a:latin typeface="Arial"/>
                <a:ea typeface="Arial"/>
              </a:rPr>
              <a:t>KPMG promueve la mejora continua del nivel técnico de sus profesi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290520" indent="-290520">
              <a:lnSpc>
                <a:spcPct val="110000"/>
              </a:lnSpc>
              <a:spcBef>
                <a:spcPts val="326"/>
              </a:spcBef>
              <a:buClr>
                <a:srgbClr val="000066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s-AR" sz="1300" spc="-1" strike="noStrike">
                <a:solidFill>
                  <a:srgbClr val="000066"/>
                </a:solidFill>
                <a:latin typeface="Arial"/>
                <a:ea typeface="Arial"/>
              </a:rPr>
              <a:t>Todo profesional debe asistir a 120 horas de capacitación como mínimo en tres años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290520" indent="-290520">
              <a:lnSpc>
                <a:spcPct val="110000"/>
              </a:lnSpc>
              <a:spcBef>
                <a:spcPts val="326"/>
              </a:spcBef>
              <a:buClr>
                <a:srgbClr val="000066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s-AR" sz="1300" spc="-1" strike="noStrike">
                <a:solidFill>
                  <a:srgbClr val="000066"/>
                </a:solidFill>
                <a:latin typeface="Arial"/>
                <a:ea typeface="Arial"/>
              </a:rPr>
              <a:t>Total reintegro de cursos técnicos de capacitación o seminarios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290520" indent="-290520">
              <a:lnSpc>
                <a:spcPct val="110000"/>
              </a:lnSpc>
              <a:spcBef>
                <a:spcPts val="326"/>
              </a:spcBef>
              <a:buClr>
                <a:srgbClr val="000066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s-AR" sz="1300" spc="-1" strike="noStrike">
                <a:solidFill>
                  <a:srgbClr val="000066"/>
                </a:solidFill>
                <a:latin typeface="Arial"/>
                <a:ea typeface="Arial"/>
              </a:rPr>
              <a:t>Total reintegro de cursos de inglés a aquellos empleados que necesitan alcanzar el nivel requerido por la firma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290520" indent="-290520">
              <a:lnSpc>
                <a:spcPct val="110000"/>
              </a:lnSpc>
              <a:spcBef>
                <a:spcPts val="326"/>
              </a:spcBef>
              <a:buClr>
                <a:srgbClr val="000066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s-AR" sz="1300" spc="-1" strike="noStrike">
                <a:solidFill>
                  <a:srgbClr val="000066"/>
                </a:solidFill>
                <a:latin typeface="Arial"/>
                <a:ea typeface="Arial"/>
              </a:rPr>
              <a:t>Reintegro por mantenimiento de cursos de inglés a aquellos empleados que necesitan mantener su nivel de inglés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290520" indent="-290520">
              <a:lnSpc>
                <a:spcPct val="110000"/>
              </a:lnSpc>
              <a:spcBef>
                <a:spcPts val="326"/>
              </a:spcBef>
              <a:buClr>
                <a:srgbClr val="000066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s-AR" sz="1300" spc="-1" strike="noStrike">
                <a:solidFill>
                  <a:srgbClr val="000066"/>
                </a:solidFill>
                <a:latin typeface="Arial"/>
                <a:ea typeface="Arial"/>
              </a:rPr>
              <a:t>Programa de Capacitación para “High Potentials”.(Exceptional Performers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290520" indent="-290520">
              <a:lnSpc>
                <a:spcPct val="110000"/>
              </a:lnSpc>
              <a:spcBef>
                <a:spcPts val="326"/>
              </a:spcBef>
              <a:buClr>
                <a:srgbClr val="000066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s-AR" sz="1300" spc="-1" strike="noStrike">
                <a:solidFill>
                  <a:srgbClr val="000066"/>
                </a:solidFill>
                <a:latin typeface="Arial"/>
                <a:ea typeface="Arial"/>
              </a:rPr>
              <a:t>Soft Skills training progra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9" name="Picture 12" descr="actualiza"/>
          <p:cNvPicPr/>
          <p:nvPr/>
        </p:nvPicPr>
        <p:blipFill>
          <a:blip r:embed="rId1"/>
          <a:stretch/>
        </p:blipFill>
        <p:spPr>
          <a:xfrm>
            <a:off x="361800" y="1231920"/>
            <a:ext cx="3781440" cy="4537080"/>
          </a:xfrm>
          <a:prstGeom prst="rect">
            <a:avLst/>
          </a:prstGeom>
          <a:ln w="0">
            <a:noFill/>
          </a:ln>
        </p:spPr>
      </p:pic>
      <p:sp>
        <p:nvSpPr>
          <p:cNvPr id="420" name="Rectangle 13"/>
          <p:cNvSpPr/>
          <p:nvPr/>
        </p:nvSpPr>
        <p:spPr>
          <a:xfrm>
            <a:off x="369720" y="277920"/>
            <a:ext cx="30351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500"/>
              </a:lnSpc>
              <a:spcBef>
                <a:spcPts val="9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erformance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9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s-AR" sz="1800" spc="-1" strike="noStrike">
                <a:solidFill>
                  <a:srgbClr val="ff9900"/>
                </a:solidFill>
                <a:latin typeface="Arial"/>
              </a:rPr>
              <a:t>Capacitación continu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5"/>
          <p:cNvSpPr/>
          <p:nvPr/>
        </p:nvSpPr>
        <p:spPr>
          <a:xfrm>
            <a:off x="5853240" y="1449360"/>
            <a:ext cx="369072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440" indent="-2844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555480"/>
                <a:tab algn="l" pos="55872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r>
              <a:rPr b="1" lang="es-AR" sz="1600" spc="-1" strike="noStrike">
                <a:solidFill>
                  <a:srgbClr val="000066"/>
                </a:solidFill>
                <a:latin typeface="Arial"/>
              </a:rPr>
              <a:t>Más del 80% de las contrataciones son</a:t>
            </a:r>
            <a:r>
              <a:rPr b="1" lang="es-AR" sz="1600" spc="-1" strike="noStrike">
                <a:solidFill>
                  <a:srgbClr val="ff9900"/>
                </a:solidFill>
                <a:latin typeface="Arial"/>
              </a:rPr>
              <a:t> jóvenes profesiona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440" indent="-28440">
              <a:lnSpc>
                <a:spcPct val="110000"/>
              </a:lnSpc>
              <a:spcBef>
                <a:spcPts val="349"/>
              </a:spcBef>
              <a:buClr>
                <a:srgbClr val="ff9900"/>
              </a:buClr>
              <a:buFont typeface="Arial"/>
              <a:buChar char="•"/>
              <a:tabLst>
                <a:tab algn="l" pos="0"/>
                <a:tab algn="l" pos="555480"/>
                <a:tab algn="l" pos="55872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r>
              <a:rPr b="1" lang="es-AR" sz="1400" spc="-1" strike="noStrike">
                <a:solidFill>
                  <a:srgbClr val="ff9900"/>
                </a:solidFill>
                <a:latin typeface="Arial"/>
              </a:rPr>
              <a:t>9/10 gerentes de la Firma ingresaron como jóvenes profesiona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440" indent="-28440">
              <a:lnSpc>
                <a:spcPct val="110000"/>
              </a:lnSpc>
              <a:spcBef>
                <a:spcPts val="400"/>
              </a:spcBef>
              <a:buClr>
                <a:srgbClr val="6a7f10"/>
              </a:buClr>
              <a:buFont typeface="Arial"/>
              <a:buChar char="–"/>
              <a:tabLst>
                <a:tab algn="l" pos="0"/>
                <a:tab algn="l" pos="555480"/>
                <a:tab algn="l" pos="55872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440" indent="-2844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555480"/>
                <a:tab algn="l" pos="55872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r>
              <a:rPr b="1" lang="es-AR" sz="1600" spc="-1" strike="noStrike">
                <a:solidFill>
                  <a:srgbClr val="000066"/>
                </a:solidFill>
                <a:latin typeface="Arial"/>
              </a:rPr>
              <a:t>Proceso de selección de 6 etapa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61880" indent="-171360">
              <a:lnSpc>
                <a:spcPct val="110000"/>
              </a:lnSpc>
              <a:spcBef>
                <a:spcPts val="326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555480"/>
                <a:tab algn="l" pos="55872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r>
              <a:rPr b="1" lang="es-AR" sz="1300" spc="-1" strike="noStrike">
                <a:solidFill>
                  <a:srgbClr val="000066"/>
                </a:solidFill>
                <a:latin typeface="Arial"/>
                <a:ea typeface="Arial"/>
              </a:rPr>
              <a:t>Examen técnic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461880" indent="-171360">
              <a:lnSpc>
                <a:spcPct val="110000"/>
              </a:lnSpc>
              <a:spcBef>
                <a:spcPts val="326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555480"/>
                <a:tab algn="l" pos="55872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r>
              <a:rPr b="1" lang="es-AR" sz="1300" spc="-1" strike="noStrike">
                <a:solidFill>
                  <a:srgbClr val="000066"/>
                </a:solidFill>
                <a:latin typeface="Arial"/>
                <a:ea typeface="Arial"/>
              </a:rPr>
              <a:t>Evaluación en inglé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461880" indent="-171360">
              <a:lnSpc>
                <a:spcPct val="110000"/>
              </a:lnSpc>
              <a:spcBef>
                <a:spcPts val="326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555480"/>
                <a:tab algn="l" pos="55872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r>
              <a:rPr b="1" lang="es-AR" sz="1300" spc="-1" strike="noStrike">
                <a:solidFill>
                  <a:srgbClr val="000066"/>
                </a:solidFill>
                <a:latin typeface="Arial"/>
                <a:ea typeface="Arial"/>
              </a:rPr>
              <a:t>Psicodiagnóstic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461880" indent="-171360">
              <a:lnSpc>
                <a:spcPct val="110000"/>
              </a:lnSpc>
              <a:spcBef>
                <a:spcPts val="326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555480"/>
                <a:tab algn="l" pos="55872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r>
              <a:rPr b="1" lang="es-AR" sz="1300" spc="-1" strike="noStrike">
                <a:solidFill>
                  <a:srgbClr val="000066"/>
                </a:solidFill>
                <a:latin typeface="Arial"/>
                <a:ea typeface="Arial"/>
              </a:rPr>
              <a:t>Assestm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461880" indent="-171360">
              <a:lnSpc>
                <a:spcPct val="110000"/>
              </a:lnSpc>
              <a:spcBef>
                <a:spcPts val="326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555480"/>
                <a:tab algn="l" pos="55872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r>
              <a:rPr b="1" lang="es-AR" sz="1300" spc="-1" strike="noStrike">
                <a:solidFill>
                  <a:srgbClr val="000066"/>
                </a:solidFill>
                <a:latin typeface="Arial"/>
                <a:ea typeface="Arial"/>
              </a:rPr>
              <a:t>Entrevista con Gerente del áre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461880" indent="-171360">
              <a:lnSpc>
                <a:spcPct val="110000"/>
              </a:lnSpc>
              <a:spcBef>
                <a:spcPts val="326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555480"/>
                <a:tab algn="l" pos="55872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r>
              <a:rPr b="1" lang="es-AR" sz="1300" spc="-1" strike="noStrike">
                <a:solidFill>
                  <a:srgbClr val="000066"/>
                </a:solidFill>
                <a:latin typeface="Arial"/>
                <a:ea typeface="Arial"/>
              </a:rPr>
              <a:t>Entrevista con Recursos Humano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461880" indent="-171360">
              <a:lnSpc>
                <a:spcPct val="110000"/>
              </a:lnSpc>
              <a:spcBef>
                <a:spcPts val="326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555480"/>
                <a:tab algn="l" pos="55872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r>
              <a:rPr b="1" lang="es-AR" sz="1300" spc="-1" strike="noStrike">
                <a:solidFill>
                  <a:srgbClr val="000066"/>
                </a:solidFill>
                <a:latin typeface="Arial"/>
                <a:ea typeface="Arial"/>
              </a:rPr>
              <a:t>Examen médico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461880" indent="-171360">
              <a:lnSpc>
                <a:spcPct val="110000"/>
              </a:lnSpc>
              <a:spcBef>
                <a:spcPts val="326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555480"/>
                <a:tab algn="l" pos="55872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440" indent="-2844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555480"/>
                <a:tab algn="l" pos="55872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r>
              <a:rPr b="1" lang="es-AR" sz="1600" spc="-1" strike="noStrike">
                <a:solidFill>
                  <a:srgbClr val="000066"/>
                </a:solidFill>
                <a:latin typeface="Arial"/>
              </a:rPr>
              <a:t>Las búsquedas que se realizan de posiciones jerárquicas se deben generalmente al desarrollo de nuevos servici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11"/>
          <p:cNvSpPr/>
          <p:nvPr/>
        </p:nvSpPr>
        <p:spPr>
          <a:xfrm>
            <a:off x="371520" y="368280"/>
            <a:ext cx="15127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500"/>
              </a:lnSpc>
              <a:spcBef>
                <a:spcPts val="9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ecruit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Picture 12" descr="\\Arbuefsr02\Marketing\Diseño\Tarjeton Reclutamiento 2011 - A.jpg"/>
          <p:cNvPicPr/>
          <p:nvPr/>
        </p:nvPicPr>
        <p:blipFill>
          <a:blip r:embed="rId1"/>
          <a:stretch/>
        </p:blipFill>
        <p:spPr>
          <a:xfrm>
            <a:off x="334800" y="1449360"/>
            <a:ext cx="5338800" cy="3562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881600" y="2568240"/>
            <a:ext cx="4726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1599"/>
              </a:spcBef>
              <a:buNone/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Jóvenes Profesionales</a:t>
            </a:r>
            <a:br>
              <a:rPr sz="3200"/>
            </a:br>
            <a:r>
              <a:rPr b="1" lang="es-AR" sz="3200" spc="-1" strike="noStrike">
                <a:solidFill>
                  <a:srgbClr val="ff9900"/>
                </a:solidFill>
                <a:latin typeface="Arial"/>
              </a:rPr>
              <a:t>Programas Especiales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7"/>
          <p:cNvSpPr/>
          <p:nvPr/>
        </p:nvSpPr>
        <p:spPr>
          <a:xfrm>
            <a:off x="7877160" y="2755800"/>
            <a:ext cx="1000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920" bIns="25920" anchor="t">
            <a:spAutoFit/>
          </a:bodyPr>
          <a:p>
            <a:pPr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Picture 9" descr="\\Arbuefsr02\Marketing\Diseño\grand prix 2.jpg"/>
          <p:cNvPicPr/>
          <p:nvPr/>
        </p:nvPicPr>
        <p:blipFill>
          <a:blip r:embed="rId1"/>
          <a:stretch/>
        </p:blipFill>
        <p:spPr>
          <a:xfrm>
            <a:off x="6122880" y="0"/>
            <a:ext cx="3783240" cy="6861240"/>
          </a:xfrm>
          <a:prstGeom prst="rect">
            <a:avLst/>
          </a:prstGeom>
          <a:ln w="0">
            <a:noFill/>
          </a:ln>
        </p:spPr>
      </p:pic>
      <p:sp>
        <p:nvSpPr>
          <p:cNvPr id="427" name="Rectangle 9"/>
          <p:cNvSpPr/>
          <p:nvPr/>
        </p:nvSpPr>
        <p:spPr>
          <a:xfrm>
            <a:off x="372600" y="189000"/>
            <a:ext cx="184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rogram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s-ES" sz="1800" spc="-1" strike="noStrike">
                <a:solidFill>
                  <a:srgbClr val="ff9900"/>
                </a:solidFill>
                <a:latin typeface="Arial"/>
              </a:rPr>
              <a:t>Jóvenes KP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Picture 6" descr="\\Arbuefsr02\Marketing\Diseño\banner grand prix.jpg"/>
          <p:cNvPicPr/>
          <p:nvPr/>
        </p:nvPicPr>
        <p:blipFill>
          <a:blip r:embed="rId2"/>
          <a:stretch/>
        </p:blipFill>
        <p:spPr>
          <a:xfrm>
            <a:off x="2343240" y="0"/>
            <a:ext cx="3782880" cy="6861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23640" y="115920"/>
            <a:ext cx="92566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Por qué elegir a KPMG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361800" y="1358640"/>
            <a:ext cx="9182160" cy="40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338d"/>
                </a:solidFill>
                <a:latin typeface="Arial"/>
              </a:rPr>
              <a:t>Porque formamos parte de una </a:t>
            </a:r>
            <a:r>
              <a:rPr b="1" lang="es-AR" sz="1800" spc="-1" strike="noStrike">
                <a:solidFill>
                  <a:srgbClr val="00338d"/>
                </a:solidFill>
                <a:latin typeface="Arial"/>
              </a:rPr>
              <a:t>red mundial</a:t>
            </a:r>
            <a:r>
              <a:rPr b="1" lang="es-AR" sz="1400" spc="-1" strike="noStrike">
                <a:solidFill>
                  <a:srgbClr val="00338d"/>
                </a:solidFill>
                <a:latin typeface="Arial"/>
              </a:rPr>
              <a:t> de firmas miembro que nos proporciona la consistencia necesaria para proponer soluciones globales.</a:t>
            </a:r>
            <a:endParaRPr b="1" lang="en-US" sz="1400" spc="-1" strike="noStrike">
              <a:solidFill>
                <a:srgbClr val="00338d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338d"/>
                </a:solidFill>
                <a:latin typeface="Arial"/>
              </a:rPr>
              <a:t>Porque cada cliente global tiene un </a:t>
            </a:r>
            <a:r>
              <a:rPr b="1" lang="es-AR" sz="1800" spc="-1" strike="noStrike">
                <a:solidFill>
                  <a:srgbClr val="00338d"/>
                </a:solidFill>
                <a:latin typeface="Arial"/>
              </a:rPr>
              <a:t>Lead Partner Global</a:t>
            </a:r>
            <a:r>
              <a:rPr b="1" lang="es-AR" sz="1400" spc="-1" strike="noStrike">
                <a:solidFill>
                  <a:srgbClr val="00338d"/>
                </a:solidFill>
                <a:latin typeface="Arial"/>
              </a:rPr>
              <a:t> que centraliza la acción en diferentes países.</a:t>
            </a:r>
            <a:endParaRPr b="1" lang="en-US" sz="1400" spc="-1" strike="noStrike">
              <a:solidFill>
                <a:srgbClr val="00338d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338d"/>
                </a:solidFill>
                <a:latin typeface="Arial"/>
              </a:rPr>
              <a:t>Porque los Clientes alrededor del mundo que renuevan su confianza en nosotros son  </a:t>
            </a:r>
            <a:r>
              <a:rPr b="1" lang="es-AR" sz="1800" spc="-1" strike="noStrike">
                <a:solidFill>
                  <a:srgbClr val="00338d"/>
                </a:solidFill>
                <a:latin typeface="Arial"/>
              </a:rPr>
              <a:t>compañías líderes</a:t>
            </a:r>
            <a:r>
              <a:rPr b="1" lang="es-AR" sz="1400" spc="-1" strike="noStrike">
                <a:solidFill>
                  <a:srgbClr val="00338d"/>
                </a:solidFill>
                <a:latin typeface="Arial"/>
              </a:rPr>
              <a:t> en cada uno de sus mercados</a:t>
            </a:r>
            <a:endParaRPr b="1" lang="en-US" sz="1400" spc="-1" strike="noStrike">
              <a:solidFill>
                <a:srgbClr val="00338d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338d"/>
                </a:solidFill>
                <a:latin typeface="Arial"/>
              </a:rPr>
              <a:t>Por nuestro probado track record brindando una gran variedad de servicios en Auditoría, Impuestos y Asesoría a </a:t>
            </a:r>
            <a:r>
              <a:rPr b="1" lang="es-AR" sz="1800" spc="-1" strike="noStrike">
                <a:solidFill>
                  <a:srgbClr val="00338d"/>
                </a:solidFill>
                <a:latin typeface="Arial"/>
              </a:rPr>
              <a:t>más de 1.100 empresas en Argentina</a:t>
            </a:r>
            <a:endParaRPr b="1" lang="en-US" sz="1800" spc="-1" strike="noStrike">
              <a:solidFill>
                <a:srgbClr val="00338d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338d"/>
                </a:solidFill>
                <a:latin typeface="Arial"/>
              </a:rPr>
              <a:t>Porque poseemos una alta capacitación técnica y conocimiento sectorial que respalda nuestros servicios</a:t>
            </a:r>
            <a:endParaRPr b="1" lang="en-US" sz="1400" spc="-1" strike="noStrike">
              <a:solidFill>
                <a:srgbClr val="00338d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338d"/>
                </a:solidFill>
                <a:latin typeface="Arial"/>
              </a:rPr>
              <a:t>Porque trabajamos para atraer y retener a los </a:t>
            </a:r>
            <a:r>
              <a:rPr b="1" lang="es-AR" sz="1800" spc="-1" strike="noStrike">
                <a:solidFill>
                  <a:srgbClr val="00338d"/>
                </a:solidFill>
                <a:latin typeface="Arial"/>
              </a:rPr>
              <a:t>mejores talentos del mercado</a:t>
            </a:r>
            <a:r>
              <a:rPr b="1" lang="es-AR" sz="1400" spc="-1" strike="noStrike">
                <a:solidFill>
                  <a:srgbClr val="00338d"/>
                </a:solidFill>
                <a:latin typeface="Arial"/>
              </a:rPr>
              <a:t>, capacitando a nuestros profesionales para transformar el conocimiento y la experiencia adquiridos en beneficio de nuestros clientes</a:t>
            </a:r>
            <a:endParaRPr b="1" lang="en-US" sz="1400" spc="-1" strike="noStrike">
              <a:solidFill>
                <a:srgbClr val="00338d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338d"/>
                </a:solidFill>
                <a:latin typeface="Arial"/>
              </a:rPr>
              <a:t>Porque KPMG es una firma de Servicios Profesionales con mayor potencial y </a:t>
            </a:r>
            <a:r>
              <a:rPr b="1" lang="es-AR" sz="1800" spc="-1" strike="noStrike">
                <a:solidFill>
                  <a:srgbClr val="00338d"/>
                </a:solidFill>
                <a:latin typeface="Arial"/>
              </a:rPr>
              <a:t>tasas más fuertes de crecimiento</a:t>
            </a:r>
            <a:endParaRPr b="1" lang="en-US" sz="1800" spc="-1" strike="noStrike">
              <a:solidFill>
                <a:srgbClr val="00338d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338d"/>
                </a:solidFill>
                <a:latin typeface="Arial"/>
              </a:rPr>
              <a:t>Porque KPMG esta comprometida con las comunidades</a:t>
            </a:r>
            <a:endParaRPr b="1" lang="en-US" sz="1400" spc="-1" strike="noStrike">
              <a:solidFill>
                <a:srgbClr val="00338d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338d"/>
                </a:solidFill>
                <a:latin typeface="Arial"/>
              </a:rPr>
              <a:t>Porque ante todo, </a:t>
            </a:r>
            <a:r>
              <a:rPr b="1" lang="es-AR" sz="1800" spc="-1" strike="noStrike">
                <a:solidFill>
                  <a:srgbClr val="00338d"/>
                </a:solidFill>
                <a:latin typeface="Arial"/>
              </a:rPr>
              <a:t>actuamos con profesionalismo e integridad.</a:t>
            </a:r>
            <a:endParaRPr b="1" lang="en-US" sz="1800" spc="-1" strike="noStrike">
              <a:solidFill>
                <a:srgbClr val="00338d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8d"/>
              </a:solidFill>
              <a:latin typeface="Arial"/>
            </a:endParaRPr>
          </a:p>
        </p:txBody>
      </p:sp>
      <p:sp>
        <p:nvSpPr>
          <p:cNvPr id="431" name="Rectangle 16"/>
          <p:cNvSpPr/>
          <p:nvPr/>
        </p:nvSpPr>
        <p:spPr>
          <a:xfrm rot="16200000">
            <a:off x="-1637280" y="3658320"/>
            <a:ext cx="36273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br>
              <a:rPr sz="2200"/>
            </a:br>
            <a:r>
              <a:rPr b="0" i="1" lang="es-AR" sz="2200" spc="-1" strike="noStrike">
                <a:solidFill>
                  <a:srgbClr val="ffffff"/>
                </a:solidFill>
                <a:latin typeface="Times New Roman"/>
              </a:rPr>
              <a:t>Conclusi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5" descr="botavanza"/>
          <p:cNvPicPr/>
          <p:nvPr/>
        </p:nvPicPr>
        <p:blipFill>
          <a:blip r:embed="rId1"/>
          <a:srcRect l="5275" t="2972" r="8791" b="2972"/>
          <a:stretch/>
        </p:blipFill>
        <p:spPr>
          <a:xfrm>
            <a:off x="142920" y="3436920"/>
            <a:ext cx="2322360" cy="309888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881600" y="2568240"/>
            <a:ext cx="4726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ff"/>
                </a:solidFill>
                <a:latin typeface="Arial"/>
              </a:rPr>
              <a:t>¡Comenzá </a:t>
            </a:r>
            <a:r>
              <a:rPr b="1" lang="sv-SE" sz="3200" spc="-1" strike="noStrike">
                <a:solidFill>
                  <a:srgbClr val="ff9900"/>
                </a:solidFill>
                <a:latin typeface="Arial"/>
              </a:rPr>
              <a:t>HOY</a:t>
            </a:r>
            <a:r>
              <a:rPr b="1" lang="sv-SE" sz="3200" spc="-1" strike="noStrike">
                <a:solidFill>
                  <a:srgbClr val="ffffff"/>
                </a:solidFill>
                <a:latin typeface="Arial"/>
              </a:rPr>
              <a:t> tu carrera profesional!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23640" y="4292280"/>
            <a:ext cx="773748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© 2011 Sibille, sociedad civil y firma miembro de la red de firmas miembro independientes de KPMG afiliadas a KPMG International Cooperative (“KPMG International”), una entidad suiza. Derechos reservad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Tanto KPMG, el logotipo de KPMG como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"cutting through complexity"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son marcas comerciales registradas de KPMG International Cooperative (“KPMG International”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2"/>
          <p:cNvSpPr/>
          <p:nvPr/>
        </p:nvSpPr>
        <p:spPr>
          <a:xfrm>
            <a:off x="5691240" y="1449360"/>
            <a:ext cx="3152520" cy="16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Mariano Bales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Socio a cargo de Recursos Huma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Socio de Auditorí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KPMG en Argent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23640" y="297000"/>
            <a:ext cx="92566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KPMG en el Mundo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19"/>
          <p:cNvSpPr/>
          <p:nvPr/>
        </p:nvSpPr>
        <p:spPr>
          <a:xfrm>
            <a:off x="361800" y="1268280"/>
            <a:ext cx="935280" cy="22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920" bIns="2592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s-ES" sz="800" spc="-1" strike="noStrike">
                <a:solidFill>
                  <a:srgbClr val="595959"/>
                </a:solidFill>
                <a:latin typeface="Arial"/>
              </a:rPr>
              <a:t>Las Amér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Argenti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Bras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Canadá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Chi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Colomb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Ecua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Estados Unid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Islas Vírgenes (U.S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Méx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Perú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Puerto R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Urugu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Venezue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20"/>
          <p:cNvSpPr/>
          <p:nvPr/>
        </p:nvSpPr>
        <p:spPr>
          <a:xfrm>
            <a:off x="1414440" y="1268280"/>
            <a:ext cx="93672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920" bIns="2592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s-ES" sz="800" spc="-1" strike="noStrike">
                <a:solidFill>
                  <a:srgbClr val="595959"/>
                </a:solidFill>
                <a:latin typeface="Arial"/>
              </a:rPr>
              <a:t>Subregión América Cent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Costa R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El Salva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Guatema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Hondur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Nicaragu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Panam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República Dominica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21"/>
          <p:cNvSpPr/>
          <p:nvPr/>
        </p:nvSpPr>
        <p:spPr>
          <a:xfrm>
            <a:off x="2467080" y="1268280"/>
            <a:ext cx="936360" cy="32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920" bIns="2592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s-ES" sz="800" spc="-1" strike="noStrike">
                <a:solidFill>
                  <a:srgbClr val="595959"/>
                </a:solidFill>
                <a:latin typeface="Arial"/>
              </a:rPr>
              <a:t>Asia Pacíf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Austral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Brunei Darussalam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Camboy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hina y Hong Kong S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Cor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Filipin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Islas Coo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Islas Fij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Indones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Jap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La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Malas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Nueva Zeland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Papua Nueva Guin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Singapu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Tailand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Taiwá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Vietna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22"/>
          <p:cNvSpPr/>
          <p:nvPr/>
        </p:nvSpPr>
        <p:spPr>
          <a:xfrm>
            <a:off x="3443400" y="1268280"/>
            <a:ext cx="934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920" bIns="2592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s-ES" sz="800" spc="-1" strike="noStrike">
                <a:solidFill>
                  <a:srgbClr val="595959"/>
                </a:solidFill>
                <a:latin typeface="Arial"/>
              </a:rPr>
              <a:t>Europa, Oriente Medio y Áfr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Aleman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Andor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Argel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Aust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Bélg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Chip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Costa de Marf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Dinamar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Españ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Finland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Franc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Grec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Irland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Islandi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Ital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Liechtenst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Luxemburg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Marruec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Norueg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Nueva Caledon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Países Baj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Polinesia frances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Portug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Seneg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Suec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Suiz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Túne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Turquí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Reino Uni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23"/>
          <p:cNvSpPr/>
          <p:nvPr/>
        </p:nvSpPr>
        <p:spPr>
          <a:xfrm>
            <a:off x="4468680" y="1268280"/>
            <a:ext cx="936720" cy="25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920" bIns="2592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s-ES" sz="800" spc="-1" strike="noStrike">
                <a:solidFill>
                  <a:srgbClr val="595959"/>
                </a:solidFill>
                <a:latin typeface="Arial"/>
              </a:rPr>
              <a:t>Subregión Áfr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Ango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Botswa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Gha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Ken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Malaw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Maur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Mozambiq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Namib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Nige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Sierra Le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Sudáfr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Swazilandi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Tanzan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Ugand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Zamb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Zimbabw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24"/>
          <p:cNvSpPr/>
          <p:nvPr/>
        </p:nvSpPr>
        <p:spPr>
          <a:xfrm>
            <a:off x="5405400" y="1268280"/>
            <a:ext cx="934920" cy="32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920" bIns="2592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s-ES" sz="800" spc="-1" strike="noStrike">
                <a:solidFill>
                  <a:srgbClr val="595959"/>
                </a:solidFill>
                <a:latin typeface="Arial"/>
              </a:rPr>
              <a:t>Subregión Europa Central y Europa del Es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Alban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Bosnia y Herzegovi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Bulg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Croac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Eslovaqu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Esloven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Eston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Hungrí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Kosov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Leton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Lituan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Macedon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Moldav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Monteneg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Polon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República Che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Ruman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Serb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25"/>
          <p:cNvSpPr/>
          <p:nvPr/>
        </p:nvSpPr>
        <p:spPr>
          <a:xfrm>
            <a:off x="6442200" y="1268280"/>
            <a:ext cx="93492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920" bIns="2592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s-ES" sz="800" spc="-1" strike="noStrike">
                <a:solidFill>
                  <a:srgbClr val="595959"/>
                </a:solidFill>
                <a:latin typeface="Arial"/>
              </a:rPr>
              <a:t>Subregión de Estados independien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Armen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Azerbaijá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Georg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Kazajstá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Kirguistá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Rus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Ucran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Uzbekistá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26"/>
          <p:cNvSpPr/>
          <p:nvPr/>
        </p:nvSpPr>
        <p:spPr>
          <a:xfrm>
            <a:off x="7362720" y="1268280"/>
            <a:ext cx="1011240" cy="32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920" bIns="2592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s-ES" sz="800" spc="-1" strike="noStrike">
                <a:solidFill>
                  <a:srgbClr val="595959"/>
                </a:solidFill>
                <a:latin typeface="Arial"/>
              </a:rPr>
              <a:t>Subregión de Medio Oriente y Asia del Su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Afganistá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Arabia Saudi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Bahr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Banglades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Egip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Emiratos Árabes Unid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Ind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Irá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República de las Maldiv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Kuwa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Líba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Omá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Pakistá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Qat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Si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Sri Lank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Yem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27"/>
          <p:cNvSpPr/>
          <p:nvPr/>
        </p:nvSpPr>
        <p:spPr>
          <a:xfrm>
            <a:off x="8518680" y="1268280"/>
            <a:ext cx="1025280" cy="34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920" bIns="2592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s-ES" sz="800" spc="-1" strike="noStrike">
                <a:solidFill>
                  <a:srgbClr val="595959"/>
                </a:solidFill>
                <a:latin typeface="Arial"/>
              </a:rPr>
              <a:t>Subregión Grupo de altam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Angui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Antigua y Barbud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Antillas holandes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Arub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Baham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Barbad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Bermud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Islas Caima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Islas del Ca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Isla de M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Islas Turcas y Caic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Islas Vírgenes Britán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Jama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Mal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Santa Lucí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San Vicente y Granadin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Surina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800" spc="-1" strike="noStrike">
                <a:solidFill>
                  <a:srgbClr val="595959"/>
                </a:solidFill>
                <a:latin typeface="Arial"/>
              </a:rPr>
              <a:t>Trinidad y Tobag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11"/>
          <p:cNvSpPr/>
          <p:nvPr/>
        </p:nvSpPr>
        <p:spPr>
          <a:xfrm>
            <a:off x="5327640" y="4780080"/>
            <a:ext cx="2960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000"/>
                </a:solidFill>
                <a:latin typeface="Arial"/>
              </a:rPr>
              <a:t>Estamos en más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000"/>
                </a:solidFill>
                <a:latin typeface="Arial"/>
              </a:rPr>
              <a:t>150 paíse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12"/>
          <p:cNvSpPr/>
          <p:nvPr/>
        </p:nvSpPr>
        <p:spPr>
          <a:xfrm>
            <a:off x="-809640" y="4508640"/>
            <a:ext cx="4952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000"/>
                </a:solidFill>
                <a:latin typeface="Arial"/>
              </a:rPr>
              <a:t>114.000</a:t>
            </a:r>
            <a:r>
              <a:rPr b="1" lang="es-ES" sz="2400" spc="-1" strike="noStrike">
                <a:solidFill>
                  <a:srgbClr val="ffc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000"/>
                </a:solidFill>
                <a:latin typeface="Arial"/>
              </a:rPr>
              <a:t>profesiona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000"/>
                </a:solidFill>
                <a:latin typeface="Arial"/>
              </a:rPr>
              <a:t>alrededor del mundo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7"/>
          <p:cNvSpPr/>
          <p:nvPr/>
        </p:nvSpPr>
        <p:spPr>
          <a:xfrm>
            <a:off x="271440" y="1262160"/>
            <a:ext cx="5041800" cy="56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920" bIns="25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s-ES" sz="1600" spc="-1" strike="noStrike">
                <a:solidFill>
                  <a:srgbClr val="ffc000"/>
                </a:solidFill>
                <a:latin typeface="Arial"/>
              </a:rPr>
              <a:t>Nuestra firma cuenta con un equipo multidisciplinario, integrado por más de 800 profesionales, que presta servicios a más de 1.100 empresas desde sus dos oficinas, ubicadas en las ciudades de Buenos Aires y Córdob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orque poseemos el respaldo y la consistencia de nuestra red global, vasta experiencia como auditores y asesores en negocios y un profundo conocimiento sectorial podemos ayudarlo a mejorar la competitividad de su empresa. En KPMG creemos que para aportar valor a nuestros clientes es esencial un amplio entendimiento de distintas industrias, en general, y de los negocios, en particular. Y hoy, más que nunca, para desarrollar en forma eficaz todo el potencial de nuestros profesionales nos focalizamos en su capacitación continua para que utilicen la experiencia y l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conocimientos adquiridos en beneficio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nuestros clientes.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itle 9"/>
          <p:cNvSpPr/>
          <p:nvPr/>
        </p:nvSpPr>
        <p:spPr>
          <a:xfrm>
            <a:off x="412920" y="538200"/>
            <a:ext cx="52606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ffffff"/>
                </a:solidFill>
                <a:latin typeface="Arial"/>
              </a:rPr>
              <a:t>KPMG en Argentin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23640" y="115920"/>
            <a:ext cx="92566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KPMG en Argentin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272520" y="1267920"/>
            <a:ext cx="5310360" cy="431172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920" bIns="2592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000"/>
                </a:solidFill>
                <a:latin typeface="Arial"/>
              </a:rPr>
              <a:t>Valoramos a nuestra gente por lo que es y lo que aporta a nuestros equipos. Por este motivo, trabajamos para atraer y retener los mejores talentos del mercado.</a:t>
            </a:r>
            <a:endParaRPr b="1" lang="en-US" sz="2000" spc="-1" strike="noStrike">
              <a:solidFill>
                <a:srgbClr val="00338d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8d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8d"/>
                </a:solidFill>
                <a:latin typeface="Arial"/>
              </a:rPr>
              <a:t>Nuestro proceso de búsqueda está orientado a graduados o estudiantes avanzados de prestigiosas y reconocidas universidades a quienes -mediante una cuidadosa política de reclutamiento, capacitación, planeamiento de carrera y evaluación de desempeño- les ofrecemos la oportunidad de desarrollarse personal y profesionalmente. </a:t>
            </a:r>
            <a:endParaRPr b="1" lang="en-US" sz="1600" spc="-1" strike="noStrike">
              <a:solidFill>
                <a:srgbClr val="00338d"/>
              </a:solidFill>
              <a:latin typeface="Arial"/>
            </a:endParaRPr>
          </a:p>
        </p:txBody>
      </p:sp>
      <p:pic>
        <p:nvPicPr>
          <p:cNvPr id="343" name="Picture 1" descr="\\Arbuefsr02\Marketing\Diseño\Dell_D420.jpg"/>
          <p:cNvPicPr/>
          <p:nvPr/>
        </p:nvPicPr>
        <p:blipFill>
          <a:blip r:embed="rId1"/>
          <a:stretch/>
        </p:blipFill>
        <p:spPr>
          <a:xfrm>
            <a:off x="5943600" y="1989000"/>
            <a:ext cx="36036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4"/>
          <p:cNvSpPr/>
          <p:nvPr/>
        </p:nvSpPr>
        <p:spPr>
          <a:xfrm>
            <a:off x="6226200" y="1355760"/>
            <a:ext cx="2687760" cy="4146480"/>
          </a:xfrm>
          <a:prstGeom prst="rect">
            <a:avLst/>
          </a:prstGeom>
          <a:solidFill>
            <a:srgbClr val="162f6a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920" bIns="25920" anchor="ctr">
            <a:noAutofit/>
          </a:bodyPr>
          <a:p>
            <a:pPr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5"/>
          <p:cNvSpPr/>
          <p:nvPr/>
        </p:nvSpPr>
        <p:spPr>
          <a:xfrm>
            <a:off x="825480" y="1355760"/>
            <a:ext cx="2610000" cy="4146480"/>
          </a:xfrm>
          <a:prstGeom prst="rect">
            <a:avLst/>
          </a:prstGeom>
          <a:solidFill>
            <a:srgbClr val="3d9cc2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920" bIns="25920" anchor="ctr">
            <a:noAutofit/>
          </a:bodyPr>
          <a:p>
            <a:pPr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6"/>
          <p:cNvSpPr/>
          <p:nvPr/>
        </p:nvSpPr>
        <p:spPr>
          <a:xfrm>
            <a:off x="3525840" y="1355760"/>
            <a:ext cx="2611440" cy="4146480"/>
          </a:xfrm>
          <a:prstGeom prst="rect">
            <a:avLst/>
          </a:prstGeom>
          <a:solidFill>
            <a:srgbClr val="2576ac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920" bIns="25920" anchor="ctr">
            <a:noAutofit/>
          </a:bodyPr>
          <a:p>
            <a:pPr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13"/>
          <p:cNvSpPr/>
          <p:nvPr/>
        </p:nvSpPr>
        <p:spPr>
          <a:xfrm>
            <a:off x="1095480" y="1601640"/>
            <a:ext cx="1850760" cy="30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920" bIns="25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Nuestros clien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Arial"/>
              </a:rPr>
              <a:t>Nos entusiasma poder trabajar con los clientes a fin de prestar un servicio que exceda sus expectativas para entablar relaciones duraderas basadas en el respeto y la confianza mutu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14"/>
          <p:cNvSpPr/>
          <p:nvPr/>
        </p:nvSpPr>
        <p:spPr>
          <a:xfrm>
            <a:off x="3886200" y="1604880"/>
            <a:ext cx="207000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920" bIns="25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Nuestra gen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Arial"/>
              </a:rPr>
              <a:t>Alcanzaremos el éxito en cualquier ámbito donde el trabajo en equipo permita la realización personal mediante un entorno de respeto, respaldo, honestidad y confianza, y donde podamos ofrecer trabajos desafiantes y gratificantes y oportunidades de desarrollo profesion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15"/>
          <p:cNvSpPr/>
          <p:nvPr/>
        </p:nvSpPr>
        <p:spPr>
          <a:xfrm>
            <a:off x="6407280" y="1566720"/>
            <a:ext cx="2430360" cy="30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920" bIns="25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Nuestro conocimien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Arial"/>
              </a:rPr>
              <a:t>Ampliaremos constantemente las fronteras de nuestro conocimiento compartido, tratándolo como un activo de valor que cualquier persona dentro de la organización tiene el derecho y el deber de utilizar. También existe la responsabilidad de contribuir con dicho conocimien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23640" y="115920"/>
            <a:ext cx="92566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Nuestros valores al servicio del client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23640" y="115920"/>
            <a:ext cx="92566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Nuestros valor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Rounded Rectangle 4"/>
          <p:cNvSpPr/>
          <p:nvPr/>
        </p:nvSpPr>
        <p:spPr>
          <a:xfrm>
            <a:off x="2522520" y="180828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Diagram 10" descr=""/>
          <p:cNvPicPr/>
          <p:nvPr/>
        </p:nvPicPr>
        <p:blipFill>
          <a:blip r:embed="rId1"/>
          <a:stretch/>
        </p:blipFill>
        <p:spPr>
          <a:xfrm>
            <a:off x="268200" y="1352520"/>
            <a:ext cx="8918640" cy="48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862520" y="2620800"/>
            <a:ext cx="4726080" cy="21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ffffff"/>
                </a:solidFill>
                <a:latin typeface="Arial"/>
              </a:rPr>
              <a:t>Nuestros Servicios</a:t>
            </a:r>
            <a:br>
              <a:rPr sz="3000"/>
            </a:br>
            <a:br>
              <a:rPr sz="3000"/>
            </a:br>
            <a:r>
              <a:rPr b="1" lang="es-AR" sz="2500" spc="-1" strike="noStrike">
                <a:solidFill>
                  <a:srgbClr val="ff9900"/>
                </a:solidFill>
                <a:latin typeface="Arial"/>
              </a:rPr>
              <a:t>Asesoría</a:t>
            </a:r>
            <a:br>
              <a:rPr sz="2500"/>
            </a:br>
            <a:r>
              <a:rPr b="1" lang="es-AR" sz="2500" spc="-1" strike="noStrike">
                <a:solidFill>
                  <a:srgbClr val="ff9900"/>
                </a:solidFill>
                <a:latin typeface="Arial"/>
              </a:rPr>
              <a:t>Impuestos </a:t>
            </a:r>
            <a:br>
              <a:rPr sz="2500"/>
            </a:br>
            <a:r>
              <a:rPr b="1" lang="es-AR" sz="2500" spc="-1" strike="noStrike">
                <a:solidFill>
                  <a:srgbClr val="ff9900"/>
                </a:solidFill>
                <a:latin typeface="Arial"/>
              </a:rPr>
              <a:t>Auditoría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\\Arbuefsr02\Marketing\Diseño\Tarjeton Reclutamiento 2.jpg"/>
          <p:cNvPicPr/>
          <p:nvPr/>
        </p:nvPicPr>
        <p:blipFill>
          <a:blip r:embed="rId1"/>
          <a:stretch/>
        </p:blipFill>
        <p:spPr>
          <a:xfrm>
            <a:off x="189000" y="189000"/>
            <a:ext cx="96249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2T20:43:50Z</dcterms:created>
  <dc:creator>duxdesign</dc:creator>
  <dc:description/>
  <dc:language>en-US</dc:language>
  <cp:lastModifiedBy>juangalindo</cp:lastModifiedBy>
  <dcterms:modified xsi:type="dcterms:W3CDTF">2011-09-02T17:31:05Z</dcterms:modified>
  <cp:revision>242</cp:revision>
  <dc:subject/>
  <dc:title>Diapositiva 1</dc:title>
</cp:coreProperties>
</file>