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CAF-F799-43A7-A200-6494796A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A55-A489-45B9-BB80-65AA2555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1CB-D9A6-4933-A68C-827EA408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23A-560F-48E7-8340-087D7D03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C53-B42A-4A8A-B902-2751499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657-015D-4B4C-BC6A-25F7ACEC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F4C-3C56-41E3-AA31-914109A7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A91-E4DB-4605-B781-F5AE7F80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783-0EC9-4B61-B86E-4D6B24B5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D8C-3913-48A7-8167-B39071FA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E3C-9839-43CA-A1F0-992D4F2E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107-59EE-4B8B-9A0B-F79F1124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C233-EF6D-4040-B138-BFBB4CF3D6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F747-9127-41C3-8612-8B6922874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oftware como valor agregado a la prof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Nuevas Tecnolog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57440" y="2990880"/>
            <a:ext cx="2229120" cy="8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265-02A2-4EBE-9587-C3A2ADEFEE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457440" y="2990880"/>
            <a:ext cx="2229120" cy="876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78960" y="4508640"/>
            <a:ext cx="3993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andro Gim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andro.gimeno@softwarea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7CC-FD48-4061-BD6D-7DBEF543A7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volución de la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estión por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Beneficios para la prof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602-FCBC-4F68-88F3-858C85842C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istemas transac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abilidad, Ventas, Logística, Manufa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estión por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volución de la inform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2CF-4C4D-4157-95F6-5CC4459D1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ambio de Paradigma: la organización como un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511164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delar la organización en base a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edidos/Cobr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mpras/Cuentas a P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esupuesto/Ejecución y Re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5796000" y="1916280"/>
            <a:ext cx="3058920" cy="2441160"/>
            <a:chOff x="5796000" y="1916280"/>
            <a:chExt cx="3058920" cy="2441160"/>
          </a:xfrm>
        </p:grpSpPr>
        <p:sp>
          <p:nvSpPr>
            <p:cNvPr id="63" name="AutoShape 4"/>
            <p:cNvSpPr/>
            <p:nvPr/>
          </p:nvSpPr>
          <p:spPr>
            <a:xfrm>
              <a:off x="5796000" y="1990800"/>
              <a:ext cx="3058920" cy="23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5" descr=""/>
            <p:cNvPicPr/>
            <p:nvPr/>
          </p:nvPicPr>
          <p:blipFill>
            <a:blip r:embed="rId3"/>
            <a:srcRect l="275" t="0" r="3518" b="0"/>
            <a:stretch/>
          </p:blipFill>
          <p:spPr>
            <a:xfrm>
              <a:off x="5835240" y="1916280"/>
              <a:ext cx="3011760" cy="24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005-10B0-473B-92ED-617E81D180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mponentes de la 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92520" y="1895400"/>
            <a:ext cx="3322440" cy="2459160"/>
          </a:xfrm>
          <a:prstGeom prst="ellipse">
            <a:avLst/>
          </a:prstGeom>
          <a:noFill/>
          <a:ln w="12600">
            <a:solidFill>
              <a:srgbClr val="2333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66720" y="3146400"/>
            <a:ext cx="3322800" cy="2459160"/>
          </a:xfrm>
          <a:prstGeom prst="ellipse">
            <a:avLst/>
          </a:prstGeom>
          <a:noFill/>
          <a:ln w="12600">
            <a:solidFill>
              <a:srgbClr val="2333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3800" y="3201840"/>
            <a:ext cx="3322800" cy="2459160"/>
          </a:xfrm>
          <a:prstGeom prst="ellipse">
            <a:avLst/>
          </a:prstGeom>
          <a:noFill/>
          <a:ln w="12600">
            <a:solidFill>
              <a:srgbClr val="2333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324240" y="2379600"/>
            <a:ext cx="2174760" cy="861840"/>
            <a:chOff x="3324240" y="2379600"/>
            <a:chExt cx="2174760" cy="86184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3324240" y="2409840"/>
              <a:ext cx="2174760" cy="83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3452400" y="2379600"/>
              <a:ext cx="1688400" cy="825120"/>
              <a:chOff x="3452400" y="2379600"/>
              <a:chExt cx="1688400" cy="825120"/>
            </a:xfrm>
          </p:grpSpPr>
          <p:sp>
            <p:nvSpPr>
              <p:cNvPr id="75" name=""/>
              <p:cNvSpPr/>
              <p:nvPr/>
            </p:nvSpPr>
            <p:spPr>
              <a:xfrm>
                <a:off x="3452400" y="2701080"/>
                <a:ext cx="207360" cy="206640"/>
              </a:xfrm>
              <a:custGeom>
                <a:avLst/>
                <a:gdLst/>
                <a:ahLst/>
                <a:rect l="l" t="t" r="r" b="b"/>
                <a:pathLst>
                  <a:path w="165" h="434">
                    <a:moveTo>
                      <a:pt x="0" y="380"/>
                    </a:moveTo>
                    <a:lnTo>
                      <a:pt x="0" y="52"/>
                    </a:lnTo>
                    <a:lnTo>
                      <a:pt x="82" y="0"/>
                    </a:lnTo>
                    <a:lnTo>
                      <a:pt x="164" y="52"/>
                    </a:lnTo>
                    <a:lnTo>
                      <a:pt x="164" y="380"/>
                    </a:lnTo>
                    <a:lnTo>
                      <a:pt x="82" y="433"/>
                    </a:lnTo>
                    <a:lnTo>
                      <a:pt x="0" y="38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092480" y="2701080"/>
                <a:ext cx="209880" cy="206640"/>
              </a:xfrm>
              <a:custGeom>
                <a:avLst/>
                <a:gdLst/>
                <a:ahLst/>
                <a:rect l="l" t="t" r="r" b="b"/>
                <a:pathLst>
                  <a:path w="167" h="434">
                    <a:moveTo>
                      <a:pt x="0" y="380"/>
                    </a:moveTo>
                    <a:lnTo>
                      <a:pt x="0" y="52"/>
                    </a:lnTo>
                    <a:lnTo>
                      <a:pt x="83" y="0"/>
                    </a:lnTo>
                    <a:lnTo>
                      <a:pt x="166" y="52"/>
                    </a:lnTo>
                    <a:lnTo>
                      <a:pt x="166" y="380"/>
                    </a:lnTo>
                    <a:lnTo>
                      <a:pt x="83" y="433"/>
                    </a:lnTo>
                    <a:lnTo>
                      <a:pt x="0" y="38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32360" y="2998080"/>
                <a:ext cx="208440" cy="206640"/>
              </a:xfrm>
              <a:custGeom>
                <a:avLst/>
                <a:gdLst/>
                <a:ahLst/>
                <a:rect l="l" t="t" r="r" b="b"/>
                <a:pathLst>
                  <a:path w="166" h="434">
                    <a:moveTo>
                      <a:pt x="0" y="381"/>
                    </a:moveTo>
                    <a:lnTo>
                      <a:pt x="0" y="52"/>
                    </a:lnTo>
                    <a:lnTo>
                      <a:pt x="82" y="0"/>
                    </a:lnTo>
                    <a:lnTo>
                      <a:pt x="165" y="52"/>
                    </a:lnTo>
                    <a:lnTo>
                      <a:pt x="165" y="381"/>
                    </a:lnTo>
                    <a:lnTo>
                      <a:pt x="82" y="433"/>
                    </a:lnTo>
                    <a:lnTo>
                      <a:pt x="0" y="381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32360" y="2379600"/>
                <a:ext cx="208440" cy="206280"/>
              </a:xfrm>
              <a:custGeom>
                <a:avLst/>
                <a:gdLst/>
                <a:ahLst/>
                <a:rect l="l" t="t" r="r" b="b"/>
                <a:pathLst>
                  <a:path w="166" h="433">
                    <a:moveTo>
                      <a:pt x="0" y="380"/>
                    </a:moveTo>
                    <a:lnTo>
                      <a:pt x="0" y="52"/>
                    </a:lnTo>
                    <a:lnTo>
                      <a:pt x="82" y="0"/>
                    </a:lnTo>
                    <a:lnTo>
                      <a:pt x="165" y="52"/>
                    </a:lnTo>
                    <a:lnTo>
                      <a:pt x="165" y="380"/>
                    </a:lnTo>
                    <a:lnTo>
                      <a:pt x="82" y="432"/>
                    </a:lnTo>
                    <a:lnTo>
                      <a:pt x="0" y="38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6760" y="2704320"/>
                <a:ext cx="196200" cy="200880"/>
              </a:xfrm>
              <a:custGeom>
                <a:avLst/>
                <a:gdLst>
                  <a:gd name="textAreaLeft" fmla="*/ 8640 w 196200"/>
                  <a:gd name="textAreaRight" fmla="*/ 187560 w 196200"/>
                  <a:gd name="textAreaTop" fmla="*/ 8640 h 200880"/>
                  <a:gd name="textAreaBottom" fmla="*/ 192240 h 200880"/>
                </a:gdLst>
                <a:ahLst/>
                <a:rect l="textAreaLeft" t="textAreaTop" r="textAreaRight" b="textAreaBottom"/>
                <a:pathLst>
                  <a:path w="21600" h="22114">
                    <a:moveTo>
                      <a:pt x="3276" y="0"/>
                    </a:moveTo>
                    <a:arcTo wR="3276" hR="3276" stAng="16200000" swAng="-5400000"/>
                    <a:lnTo>
                      <a:pt x="0" y="18838"/>
                    </a:lnTo>
                    <a:arcTo wR="3276" hR="3276" stAng="10800000" swAng="-5400000"/>
                    <a:lnTo>
                      <a:pt x="18324" y="22114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656960" y="3001320"/>
                <a:ext cx="196200" cy="200880"/>
              </a:xfrm>
              <a:custGeom>
                <a:avLst/>
                <a:gdLst>
                  <a:gd name="textAreaLeft" fmla="*/ 8640 w 196200"/>
                  <a:gd name="textAreaRight" fmla="*/ 187560 w 196200"/>
                  <a:gd name="textAreaTop" fmla="*/ 8640 h 200880"/>
                  <a:gd name="textAreaBottom" fmla="*/ 192240 h 200880"/>
                </a:gdLst>
                <a:ahLst/>
                <a:rect l="textAreaLeft" t="textAreaTop" r="textAreaRight" b="textAreaBottom"/>
                <a:pathLst>
                  <a:path w="21600" h="22114">
                    <a:moveTo>
                      <a:pt x="3276" y="0"/>
                    </a:moveTo>
                    <a:arcTo wR="3276" hR="3276" stAng="16200000" swAng="-5400000"/>
                    <a:lnTo>
                      <a:pt x="0" y="18838"/>
                    </a:lnTo>
                    <a:arcTo wR="3276" hR="3276" stAng="10800000" swAng="-5400000"/>
                    <a:lnTo>
                      <a:pt x="18324" y="22114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56960" y="2382480"/>
                <a:ext cx="196200" cy="200880"/>
              </a:xfrm>
              <a:custGeom>
                <a:avLst/>
                <a:gdLst>
                  <a:gd name="textAreaLeft" fmla="*/ 8640 w 196200"/>
                  <a:gd name="textAreaRight" fmla="*/ 187560 w 196200"/>
                  <a:gd name="textAreaTop" fmla="*/ 8640 h 200880"/>
                  <a:gd name="textAreaBottom" fmla="*/ 192240 h 200880"/>
                </a:gdLst>
                <a:ahLst/>
                <a:rect l="textAreaLeft" t="textAreaTop" r="textAreaRight" b="textAreaBottom"/>
                <a:pathLst>
                  <a:path w="21600" h="22114">
                    <a:moveTo>
                      <a:pt x="3276" y="0"/>
                    </a:moveTo>
                    <a:arcTo wR="3276" hR="3276" stAng="16200000" swAng="-5400000"/>
                    <a:lnTo>
                      <a:pt x="0" y="18838"/>
                    </a:lnTo>
                    <a:arcTo wR="3276" hR="3276" stAng="10800000" swAng="-5400000"/>
                    <a:lnTo>
                      <a:pt x="18324" y="22114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456800" y="2766240"/>
                <a:ext cx="115560" cy="77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75880" y="2804400"/>
                <a:ext cx="80280" cy="3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4475880" y="2771280"/>
                <a:ext cx="80280" cy="3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58320" y="2804400"/>
                <a:ext cx="11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752640" y="2789280"/>
                <a:ext cx="21240" cy="2916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0" y="61"/>
                    </a:move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80520" y="2804400"/>
                <a:ext cx="11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72320" y="2789280"/>
                <a:ext cx="21240" cy="2916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0" y="61"/>
                    </a:move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01280" y="28044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33400" y="2789280"/>
                <a:ext cx="21240" cy="2916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0" y="61"/>
                    </a:move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14760" y="2845800"/>
                <a:ext cx="138240" cy="255240"/>
              </a:xfrm>
              <a:custGeom>
                <a:avLst/>
                <a:gdLst/>
                <a:ahLst/>
                <a:rect l="l" t="t" r="r" b="b"/>
                <a:pathLst>
                  <a:path w="110" h="536">
                    <a:moveTo>
                      <a:pt x="0" y="0"/>
                    </a:moveTo>
                    <a:lnTo>
                      <a:pt x="0" y="535"/>
                    </a:lnTo>
                    <a:lnTo>
                      <a:pt x="109" y="5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33200" y="3087000"/>
                <a:ext cx="21240" cy="2880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14760" y="2482920"/>
                <a:ext cx="138240" cy="280440"/>
              </a:xfrm>
              <a:custGeom>
                <a:avLst/>
                <a:gdLst/>
                <a:ahLst/>
                <a:rect l="l" t="t" r="r" b="b"/>
                <a:pathLst>
                  <a:path w="110" h="589">
                    <a:moveTo>
                      <a:pt x="0" y="588"/>
                    </a:moveTo>
                    <a:lnTo>
                      <a:pt x="0" y="0"/>
                    </a:lnTo>
                    <a:lnTo>
                      <a:pt x="10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33200" y="2468160"/>
                <a:ext cx="21240" cy="284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59"/>
                    </a:moveTo>
                    <a:lnTo>
                      <a:pt x="16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59640" y="3101040"/>
                <a:ext cx="7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13640" y="3087000"/>
                <a:ext cx="21240" cy="28800"/>
              </a:xfrm>
              <a:custGeom>
                <a:avLst/>
                <a:gdLst/>
                <a:ahLst/>
                <a:rect l="l" t="t" r="r" b="b"/>
                <a:pathLst>
                  <a:path w="17" h="61">
                    <a:moveTo>
                      <a:pt x="0" y="60"/>
                    </a:move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59640" y="2482920"/>
                <a:ext cx="7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13640" y="2468160"/>
                <a:ext cx="21240" cy="284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59"/>
                    </a:moveTo>
                    <a:lnTo>
                      <a:pt x="16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3896640" y="19512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233356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6880" y="37670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233356"/>
                </a:solidFill>
                <a:latin typeface="Arial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8480" y="51624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233356"/>
                </a:solidFill>
                <a:latin typeface="Arial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183280" y="4413240"/>
            <a:ext cx="1620720" cy="47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841400" y="3952800"/>
            <a:ext cx="140040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496-6B07-42C1-BF9D-D89AC7F1DD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ipos de cono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55680" y="1657440"/>
            <a:ext cx="2533680" cy="1942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54040" y="3638520"/>
            <a:ext cx="826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Portador físico                                                        Activo intangible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245200" y="2031840"/>
            <a:ext cx="1210320" cy="1310400"/>
            <a:chOff x="5245200" y="2031840"/>
            <a:chExt cx="1210320" cy="1310400"/>
          </a:xfrm>
        </p:grpSpPr>
        <p:sp>
          <p:nvSpPr>
            <p:cNvPr id="111" name=""/>
            <p:cNvSpPr/>
            <p:nvPr/>
          </p:nvSpPr>
          <p:spPr>
            <a:xfrm>
              <a:off x="5622480" y="2989080"/>
              <a:ext cx="400320" cy="30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07520" y="2712960"/>
              <a:ext cx="489600" cy="36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45200" y="2031840"/>
              <a:ext cx="1210320" cy="9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2057760"/>
              <a:ext cx="1154160" cy="852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64360" y="2139840"/>
              <a:ext cx="972000" cy="6919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37760" y="2731320"/>
              <a:ext cx="432720" cy="32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6520" y="2802240"/>
              <a:ext cx="290880" cy="182160"/>
            </a:xfrm>
            <a:prstGeom prst="ellipse">
              <a:avLst/>
            </a:prstGeom>
            <a:solidFill>
              <a:srgbClr val="b8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55240" y="3015000"/>
              <a:ext cx="333720" cy="25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8240" y="3066480"/>
              <a:ext cx="198000" cy="149400"/>
            </a:xfrm>
            <a:prstGeom prst="ellipse">
              <a:avLst/>
            </a:prstGeom>
            <a:solidFill>
              <a:srgbClr val="b8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80920" y="3144960"/>
              <a:ext cx="257760" cy="197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43920" y="3200760"/>
              <a:ext cx="124920" cy="892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41080" y="1122480"/>
            <a:ext cx="82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 u="sng">
                <a:solidFill>
                  <a:srgbClr val="333399"/>
                </a:solidFill>
                <a:uFillTx/>
                <a:latin typeface="Trebuchet MS"/>
              </a:rPr>
              <a:t>Personas</a:t>
            </a:r>
            <a:r>
              <a:rPr b="1" i="1" lang="pt-BR" sz="24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i="1" lang="pt-BR" sz="2400" spc="-1" strike="noStrike" u="sng">
                <a:solidFill>
                  <a:srgbClr val="333399"/>
                </a:solidFill>
                <a:uFillTx/>
                <a:latin typeface="Trebuchet MS"/>
              </a:rPr>
              <a:t>Conocimiento</a:t>
            </a:r>
            <a:r>
              <a:rPr b="1" i="1" lang="pt-BR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304040" y="2211480"/>
            <a:ext cx="1213920" cy="1161000"/>
            <a:chOff x="7304040" y="2211480"/>
            <a:chExt cx="1213920" cy="1161000"/>
          </a:xfrm>
        </p:grpSpPr>
        <p:sp>
          <p:nvSpPr>
            <p:cNvPr id="124" name=""/>
            <p:cNvSpPr/>
            <p:nvPr/>
          </p:nvSpPr>
          <p:spPr>
            <a:xfrm>
              <a:off x="7304040" y="2211480"/>
              <a:ext cx="1213920" cy="78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87440" y="3062880"/>
              <a:ext cx="397080" cy="27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75000" y="2814120"/>
              <a:ext cx="483840" cy="32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9120" y="3088080"/>
              <a:ext cx="332280" cy="21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80680" y="3127680"/>
              <a:ext cx="199080" cy="133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44800" y="3199320"/>
              <a:ext cx="256320" cy="173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6360" y="3246840"/>
              <a:ext cx="126000" cy="82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32480" y="2236680"/>
              <a:ext cx="1155960" cy="73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8000" y="2297880"/>
              <a:ext cx="1029600" cy="605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00200" y="2832120"/>
              <a:ext cx="429120" cy="287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68240" y="2896920"/>
              <a:ext cx="289080" cy="16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973760" y="331308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Implícito                  Explícito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9720" y="4400640"/>
            <a:ext cx="8382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xplíci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cluído en productos, procesos, servicios y herramientas, o registrado en documentos (papeles, medios magnético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69720" y="4248000"/>
            <a:ext cx="37008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69720" y="5391000"/>
            <a:ext cx="37008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125-42BA-4B65-B9F0-246C050F28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Gestión por Proc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22400" y="3097080"/>
            <a:ext cx="1890720" cy="2224080"/>
          </a:xfrm>
          <a:custGeom>
            <a:avLst/>
            <a:gdLst/>
            <a:ahLst/>
            <a:rect l="l" t="t" r="r" b="b"/>
            <a:pathLst>
              <a:path w="1191" h="1401">
                <a:moveTo>
                  <a:pt x="0" y="0"/>
                </a:moveTo>
                <a:lnTo>
                  <a:pt x="122" y="149"/>
                </a:lnTo>
                <a:lnTo>
                  <a:pt x="236" y="254"/>
                </a:lnTo>
                <a:lnTo>
                  <a:pt x="416" y="382"/>
                </a:lnTo>
                <a:lnTo>
                  <a:pt x="707" y="536"/>
                </a:lnTo>
                <a:lnTo>
                  <a:pt x="964" y="637"/>
                </a:lnTo>
                <a:lnTo>
                  <a:pt x="1191" y="714"/>
                </a:lnTo>
                <a:lnTo>
                  <a:pt x="1064" y="858"/>
                </a:lnTo>
                <a:lnTo>
                  <a:pt x="970" y="1002"/>
                </a:lnTo>
                <a:lnTo>
                  <a:pt x="892" y="1169"/>
                </a:lnTo>
                <a:lnTo>
                  <a:pt x="859" y="1396"/>
                </a:lnTo>
                <a:lnTo>
                  <a:pt x="0" y="140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2809800"/>
            <a:ext cx="4783320" cy="2057400"/>
          </a:xfrm>
          <a:custGeom>
            <a:avLst/>
            <a:gdLst/>
            <a:ahLst/>
            <a:rect l="l" t="t" r="r" b="b"/>
            <a:pathLst>
              <a:path w="3013" h="1296">
                <a:moveTo>
                  <a:pt x="0" y="901"/>
                </a:moveTo>
                <a:lnTo>
                  <a:pt x="229" y="720"/>
                </a:lnTo>
                <a:lnTo>
                  <a:pt x="432" y="574"/>
                </a:lnTo>
                <a:lnTo>
                  <a:pt x="709" y="432"/>
                </a:lnTo>
                <a:lnTo>
                  <a:pt x="997" y="319"/>
                </a:lnTo>
                <a:lnTo>
                  <a:pt x="1390" y="198"/>
                </a:lnTo>
                <a:lnTo>
                  <a:pt x="1678" y="131"/>
                </a:lnTo>
                <a:lnTo>
                  <a:pt x="1961" y="81"/>
                </a:lnTo>
                <a:lnTo>
                  <a:pt x="2245" y="48"/>
                </a:lnTo>
                <a:lnTo>
                  <a:pt x="2629" y="0"/>
                </a:lnTo>
                <a:lnTo>
                  <a:pt x="3013" y="0"/>
                </a:lnTo>
                <a:lnTo>
                  <a:pt x="3013" y="1296"/>
                </a:lnTo>
                <a:lnTo>
                  <a:pt x="2581" y="1296"/>
                </a:lnTo>
                <a:lnTo>
                  <a:pt x="2160" y="1272"/>
                </a:lnTo>
                <a:lnTo>
                  <a:pt x="1745" y="1228"/>
                </a:lnTo>
                <a:lnTo>
                  <a:pt x="1268" y="1178"/>
                </a:lnTo>
                <a:lnTo>
                  <a:pt x="805" y="1104"/>
                </a:lnTo>
                <a:lnTo>
                  <a:pt x="373" y="1008"/>
                </a:lnTo>
                <a:lnTo>
                  <a:pt x="37" y="91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92200" y="227664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0800" y="53244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14320" y="5332320"/>
            <a:ext cx="88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Trebuchet MS"/>
              </a:rPr>
              <a:t>Tiemp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5435640"/>
            <a:ext cx="784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808080"/>
                </a:solidFill>
                <a:latin typeface="Trebuchet MS"/>
              </a:rPr>
              <a:t>E-2       E-1        E       E+1       E+2       E+3       E+4       E+7       E+8       E+9       E+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 rot="10800000">
            <a:off x="2397600" y="2809080"/>
            <a:ext cx="10514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1" y="0"/>
                </a:moveTo>
                <a:arcTo wR="10800" hR="10800" stAng="-5418751" swAng="5418751"/>
                <a:lnTo>
                  <a:pt x="10800" y="10800"/>
                </a:lnTo>
                <a:close/>
              </a:path>
              <a:path fill="none" w="21600" h="21600">
                <a:moveTo>
                  <a:pt x="10741" y="0"/>
                </a:moveTo>
                <a:arcTo wR="10800" hR="10800" stAng="-5418751" swAng="541875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42800" y="2612880"/>
            <a:ext cx="1185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Trebuchet MS"/>
              </a:rPr>
              <a:t>Impac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894600" y="447840"/>
            <a:ext cx="1341000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1" y="0"/>
                </a:moveTo>
                <a:arcTo wR="10800" hR="10800" stAng="-5431602" swAng="4746417"/>
                <a:lnTo>
                  <a:pt x="10800" y="10800"/>
                </a:lnTo>
                <a:close/>
              </a:path>
              <a:path fill="none" w="21600" h="21600">
                <a:moveTo>
                  <a:pt x="10701" y="0"/>
                </a:moveTo>
                <a:arcTo wR="10800" hR="10800" stAng="-5431602" swAng="474641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0960" y="4587840"/>
            <a:ext cx="129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Trebuchet MS"/>
              </a:rPr>
              <a:t>Op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3440" y="3502080"/>
            <a:ext cx="275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Trebuchet MS"/>
              </a:rPr>
              <a:t>Costos de la Re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49320" y="4116240"/>
            <a:ext cx="1729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Trebuchet MS"/>
              </a:rPr>
              <a:t>Oportun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Trebuchet MS"/>
              </a:rPr>
              <a:t>D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Trebuchet MS"/>
              </a:rPr>
              <a:t>Benefi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" y="1052640"/>
            <a:ext cx="8638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A medida que pasa el tiempo luego de un evento de negocio adverso, las opciones de resolverlo decrecen en forma significativa mientras que el impacto del evento aumenta en forma significativ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9760" y="5661000"/>
            <a:ext cx="238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808080"/>
                </a:solidFill>
                <a:latin typeface="Trebuchet MS"/>
              </a:rPr>
              <a:t>E = Adverse Business Ev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3776760"/>
            <a:ext cx="1016280" cy="8524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99cc03">
                  <a:alpha val="7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rebuchet MS"/>
              </a:rPr>
              <a:t>Ev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rebuchet MS"/>
              </a:rPr>
              <a:t>Ca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rebuchet MS"/>
              </a:rPr>
              <a:t>Raí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3EF-62AF-4603-A502-2FE0C3D09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ndicadores de Proc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332000" y="1413000"/>
            <a:ext cx="648000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AC7-2F17-4290-98C4-200CE7BEAC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sultoría de valor agregado en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Foco en la líne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terés en el Directorio y la Alt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emá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iesgo Ope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vado de 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estión por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Beneficios para la Prof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860640"/>
            <a:ext cx="2592360" cy="1167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sultoría de valor agregado a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0000"/>
                </a:solidFill>
                <a:latin typeface="Arial"/>
              </a:rPr>
              <a:t>DIFERENCI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560-2B9F-4FBC-A657-7FD2D0E52A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Leandro Gimeno</cp:lastModifiedBy>
  <dcterms:modified xsi:type="dcterms:W3CDTF">2011-09-01T18:01:04Z</dcterms:modified>
  <cp:revision>5</cp:revision>
  <dc:subject/>
  <dc:title>Diapositiva 1</dc:title>
</cp:coreProperties>
</file>