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085-C1E4-4795-BD38-E72441F6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48B-6BD8-4ED9-9456-28AF42C3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CEC-DED8-4267-B702-E44E947C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C7A4-8B5A-4844-BAEB-C47297F4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FB0-950D-4FA1-A49B-94F5F9C5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158-400E-4098-B8E2-63D4F30A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948-01FD-4CD6-8CF2-E9ECC11E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245-6583-4BC6-A22A-4F1F5CCC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E80-E144-4FEF-B7B7-7EFE12FB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07F-0A76-403C-8094-5ADD4C40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5C4-0C97-4DB7-B312-23DB378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632-1352-41B5-BD8E-C6D3546A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C7C9-5823-497F-AB9F-FEEE6FBBB1EB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0999-0ABE-4BD8-BC40-2E96D835F0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0"/>
          <p:cNvSpPr/>
          <p:nvPr/>
        </p:nvSpPr>
        <p:spPr>
          <a:xfrm>
            <a:off x="285840" y="357120"/>
            <a:ext cx="8572320" cy="235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06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40F8-858B-40DB-AC22-1FBCCC0ED8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Calibri"/>
                <a:ea typeface="Segoe UI"/>
              </a:rPr>
              <a:t>“</a:t>
            </a:r>
            <a:r>
              <a:rPr b="1" lang="es-AR" sz="4800" spc="-1" strike="noStrike">
                <a:solidFill>
                  <a:srgbClr val="ffffff"/>
                </a:solidFill>
                <a:latin typeface="Calibri"/>
                <a:ea typeface="Segoe UI"/>
              </a:rPr>
              <a:t>Empleabilidad en </a:t>
            </a:r>
            <a:br>
              <a:rPr sz="4800"/>
            </a:br>
            <a:r>
              <a:rPr b="1" lang="es-AR" sz="4800" spc="-1" strike="noStrike">
                <a:solidFill>
                  <a:srgbClr val="ffffff"/>
                </a:solidFill>
                <a:latin typeface="Calibri"/>
                <a:ea typeface="Segoe UI"/>
              </a:rPr>
              <a:t>Escenarios Incierto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0" y="324648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Inés Rodríguez Nava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untry Manager de bumera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6CBF-5CC0-4ABD-9FB4-87BC5A8387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286080" y="242892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66"/>
                </a:solidFill>
                <a:latin typeface="Calibri"/>
              </a:rPr>
              <a:t>La </a:t>
            </a:r>
            <a:r>
              <a:rPr b="1" lang="es-MX" sz="2000" spc="-1" strike="noStrike">
                <a:solidFill>
                  <a:srgbClr val="cc0066"/>
                </a:solidFill>
                <a:latin typeface="Calibri"/>
              </a:rPr>
              <a:t>orientación al mercado, </a:t>
            </a:r>
            <a:r>
              <a:rPr b="0" lang="es-MX" sz="2000" spc="-1" strike="noStrike">
                <a:solidFill>
                  <a:srgbClr val="cc0066"/>
                </a:solidFill>
                <a:latin typeface="Calibri"/>
              </a:rPr>
              <a:t>evidenciada en una actitud proactiva hacia donde se propone proyectar sus capacidades, resulta clave para asegurarse un 100% de empleabil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58920" y="3014640"/>
            <a:ext cx="86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cc0066"/>
                </a:solidFill>
                <a:latin typeface="Arial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0040" y="22939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RIENTACION A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Oval 5"/>
          <p:cNvGrpSpPr/>
          <p:nvPr/>
        </p:nvGrpSpPr>
        <p:grpSpPr>
          <a:xfrm>
            <a:off x="195120" y="1889280"/>
            <a:ext cx="2840040" cy="2768400"/>
            <a:chOff x="195120" y="1889280"/>
            <a:chExt cx="2840040" cy="2768400"/>
          </a:xfrm>
        </p:grpSpPr>
        <p:pic>
          <p:nvPicPr>
            <p:cNvPr id="153" name="Oval 5" descr=""/>
            <p:cNvPicPr/>
            <p:nvPr/>
          </p:nvPicPr>
          <p:blipFill>
            <a:blip r:embed="rId3"/>
            <a:stretch/>
          </p:blipFill>
          <p:spPr>
            <a:xfrm>
              <a:off x="195120" y="1889280"/>
              <a:ext cx="284004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25320" y="2306520"/>
              <a:ext cx="1986120" cy="19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ounded Rectangle 15"/>
          <p:cNvSpPr/>
          <p:nvPr/>
        </p:nvSpPr>
        <p:spPr>
          <a:xfrm>
            <a:off x="357120" y="214200"/>
            <a:ext cx="8572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06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  <a:ea typeface="Segoe UI"/>
              </a:rPr>
              <a:t>EMPLE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43D2-264B-4E87-961D-ECF95B83E6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9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15"/>
          <p:cNvSpPr/>
          <p:nvPr/>
        </p:nvSpPr>
        <p:spPr>
          <a:xfrm>
            <a:off x="357120" y="214200"/>
            <a:ext cx="8572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06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  <a:ea typeface="Segoe UI"/>
              </a:rPr>
              <a:t>EMPLE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9 Elipse"/>
          <p:cNvGrpSpPr/>
          <p:nvPr/>
        </p:nvGrpSpPr>
        <p:grpSpPr>
          <a:xfrm>
            <a:off x="1695600" y="2193840"/>
            <a:ext cx="6033960" cy="1390680"/>
            <a:chOff x="1695600" y="2193840"/>
            <a:chExt cx="6033960" cy="1390680"/>
          </a:xfrm>
        </p:grpSpPr>
        <p:pic>
          <p:nvPicPr>
            <p:cNvPr id="164" name="9 Elipse" descr=""/>
            <p:cNvPicPr/>
            <p:nvPr/>
          </p:nvPicPr>
          <p:blipFill>
            <a:blip r:embed="rId3"/>
            <a:stretch/>
          </p:blipFill>
          <p:spPr>
            <a:xfrm>
              <a:off x="1695600" y="2193840"/>
              <a:ext cx="60339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593800" y="2413080"/>
              <a:ext cx="42418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VISIÓN EMPRESARI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DE LA CARRER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DE00-9DE5-45EF-BBF6-C5FE6193CB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428760" y="10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Muchas</a:t>
            </a:r>
            <a:r>
              <a:rPr b="1" lang="es-AR" sz="5400" spc="-1" strike="noStrike">
                <a:solidFill>
                  <a:srgbClr val="ffffff"/>
                </a:solidFill>
                <a:latin typeface="Calibri"/>
                <a:ea typeface="Segoe UI"/>
              </a:rPr>
              <a:t>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C:\Users\nataliaca\Downloads\500.jpg"/>
          <p:cNvPicPr/>
          <p:nvPr/>
        </p:nvPicPr>
        <p:blipFill>
          <a:blip r:embed="rId3"/>
          <a:stretch/>
        </p:blipFill>
        <p:spPr>
          <a:xfrm>
            <a:off x="2786040" y="2643120"/>
            <a:ext cx="34290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357120" y="214200"/>
            <a:ext cx="8572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06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5235-772C-4420-87C4-4510B2C6C6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  <a:ea typeface="Segoe UI"/>
              </a:rPr>
              <a:t>DEL MUNDO HACIA ARGEN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http://www.cjr.org/images_staff/2-WSJcropped.jpg"/>
          <p:cNvPicPr/>
          <p:nvPr/>
        </p:nvPicPr>
        <p:blipFill>
          <a:blip r:embed="rId3"/>
          <a:stretch/>
        </p:blipFill>
        <p:spPr>
          <a:xfrm>
            <a:off x="2835360" y="1566720"/>
            <a:ext cx="248580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LA NACION"/>
          <p:cNvPicPr/>
          <p:nvPr/>
        </p:nvPicPr>
        <p:blipFill>
          <a:blip r:embed="rId4"/>
          <a:stretch/>
        </p:blipFill>
        <p:spPr>
          <a:xfrm>
            <a:off x="5473800" y="1852560"/>
            <a:ext cx="3066840" cy="708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LARIN"/>
          <p:cNvPicPr/>
          <p:nvPr/>
        </p:nvPicPr>
        <p:blipFill>
          <a:blip r:embed="rId5"/>
          <a:stretch/>
        </p:blipFill>
        <p:spPr>
          <a:xfrm>
            <a:off x="158760" y="1438200"/>
            <a:ext cx="2017800" cy="6121440"/>
          </a:xfrm>
          <a:prstGeom prst="rect">
            <a:avLst/>
          </a:prstGeom>
          <a:ln w="0">
            <a:noFill/>
          </a:ln>
        </p:spPr>
      </p:pic>
      <p:sp>
        <p:nvSpPr>
          <p:cNvPr id="57" name="6 Rectángulo"/>
          <p:cNvSpPr/>
          <p:nvPr/>
        </p:nvSpPr>
        <p:spPr>
          <a:xfrm>
            <a:off x="571680" y="1000080"/>
            <a:ext cx="79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Segoe UI"/>
              </a:rPr>
              <a:t>CRISIS GLOBAL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Segoe UI"/>
              </a:rPr>
              <a:t>                                   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Segoe UI"/>
              </a:rPr>
              <a:t>AFECTA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Segoe UI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  <a:ea typeface="Segoe UI"/>
              </a:rPr>
              <a:t>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Up Arrow 17"/>
          <p:cNvGrpSpPr/>
          <p:nvPr/>
        </p:nvGrpSpPr>
        <p:grpSpPr>
          <a:xfrm>
            <a:off x="3651120" y="963720"/>
            <a:ext cx="1401840" cy="536400"/>
            <a:chOff x="3651120" y="963720"/>
            <a:chExt cx="1401840" cy="536400"/>
          </a:xfrm>
        </p:grpSpPr>
        <p:pic>
          <p:nvPicPr>
            <p:cNvPr id="59" name="Up Arrow 17" descr=""/>
            <p:cNvPicPr/>
            <p:nvPr/>
          </p:nvPicPr>
          <p:blipFill>
            <a:blip r:embed="rId6"/>
            <a:stretch/>
          </p:blipFill>
          <p:spPr>
            <a:xfrm>
              <a:off x="3651120" y="963720"/>
              <a:ext cx="14018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5400000">
              <a:off x="4197960" y="624600"/>
              <a:ext cx="21420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6" descr="http://2.bp.blogspot.com/_x48SfNmkjMM/R1oQjSM4bgI/AAAAAAAAAI4/_SGCjVfjFzc/s400/ft_hirst006%2Bedited.jpg"/>
          <p:cNvPicPr/>
          <p:nvPr/>
        </p:nvPicPr>
        <p:blipFill>
          <a:blip r:embed="rId7"/>
          <a:stretch/>
        </p:blipFill>
        <p:spPr>
          <a:xfrm>
            <a:off x="2335320" y="3084480"/>
            <a:ext cx="2206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ounded Rectangle 13"/>
          <p:cNvSpPr/>
          <p:nvPr/>
        </p:nvSpPr>
        <p:spPr>
          <a:xfrm>
            <a:off x="357120" y="214200"/>
            <a:ext cx="8572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06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288F-EEA2-4EC8-9861-88640C6702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8 Imagen" descr="arcor.png"/>
          <p:cNvPicPr/>
          <p:nvPr/>
        </p:nvPicPr>
        <p:blipFill>
          <a:blip r:embed="rId3"/>
          <a:stretch/>
        </p:blipFill>
        <p:spPr>
          <a:xfrm>
            <a:off x="6083280" y="938160"/>
            <a:ext cx="2779560" cy="3402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  <a:ea typeface="Segoe UI"/>
              </a:rPr>
              <a:t>2011: NO TODAS SON MALAS NOTI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6 Imagen" descr="tapa_procter.png"/>
          <p:cNvPicPr/>
          <p:nvPr/>
        </p:nvPicPr>
        <p:blipFill>
          <a:blip r:embed="rId4"/>
          <a:stretch/>
        </p:blipFill>
        <p:spPr>
          <a:xfrm>
            <a:off x="480960" y="1139760"/>
            <a:ext cx="2560680" cy="6029280"/>
          </a:xfrm>
          <a:prstGeom prst="rect">
            <a:avLst/>
          </a:prstGeom>
          <a:ln w="0">
            <a:noFill/>
          </a:ln>
        </p:spPr>
      </p:pic>
      <p:pic>
        <p:nvPicPr>
          <p:cNvPr id="70" name="7 Imagen" descr="cronista.jpg"/>
          <p:cNvPicPr/>
          <p:nvPr/>
        </p:nvPicPr>
        <p:blipFill>
          <a:blip r:embed="rId5"/>
          <a:stretch/>
        </p:blipFill>
        <p:spPr>
          <a:xfrm>
            <a:off x="3346560" y="1011240"/>
            <a:ext cx="2609640" cy="3463920"/>
          </a:xfrm>
          <a:prstGeom prst="rect">
            <a:avLst/>
          </a:prstGeom>
          <a:ln w="0">
            <a:noFill/>
          </a:ln>
        </p:spPr>
      </p:pic>
      <p:pic>
        <p:nvPicPr>
          <p:cNvPr id="71" name="3 Imagen" descr="tapa_tecno.jpg"/>
          <p:cNvPicPr/>
          <p:nvPr/>
        </p:nvPicPr>
        <p:blipFill>
          <a:blip r:embed="rId6"/>
          <a:stretch/>
        </p:blipFill>
        <p:spPr>
          <a:xfrm>
            <a:off x="2914560" y="2687760"/>
            <a:ext cx="287676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ounded Rectangle 13"/>
          <p:cNvSpPr/>
          <p:nvPr/>
        </p:nvSpPr>
        <p:spPr>
          <a:xfrm>
            <a:off x="357120" y="214200"/>
            <a:ext cx="8572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06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B748-03E0-420E-B7C9-1A160105A9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  <a:ea typeface="Segoe UI"/>
              </a:rPr>
              <a:t>2011: OFERTAS DE EMPL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7 CuadroTexto"/>
          <p:cNvSpPr/>
          <p:nvPr/>
        </p:nvSpPr>
        <p:spPr>
          <a:xfrm>
            <a:off x="441720" y="1643040"/>
            <a:ext cx="32821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mini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abilida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udit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rol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8 Flecha derecha"/>
          <p:cNvSpPr/>
          <p:nvPr/>
        </p:nvSpPr>
        <p:spPr>
          <a:xfrm>
            <a:off x="4071960" y="1857240"/>
            <a:ext cx="1143000" cy="285840"/>
          </a:xfrm>
          <a:prstGeom prst="righ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9 Flecha derecha"/>
          <p:cNvSpPr/>
          <p:nvPr/>
        </p:nvSpPr>
        <p:spPr>
          <a:xfrm>
            <a:off x="4071960" y="2428920"/>
            <a:ext cx="1143000" cy="285840"/>
          </a:xfrm>
          <a:prstGeom prst="righ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0 Flecha derecha"/>
          <p:cNvSpPr/>
          <p:nvPr/>
        </p:nvSpPr>
        <p:spPr>
          <a:xfrm>
            <a:off x="4071960" y="3000240"/>
            <a:ext cx="1143000" cy="285840"/>
          </a:xfrm>
          <a:prstGeom prst="righ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1 Flecha derecha"/>
          <p:cNvSpPr/>
          <p:nvPr/>
        </p:nvSpPr>
        <p:spPr>
          <a:xfrm>
            <a:off x="4071960" y="3571920"/>
            <a:ext cx="1143000" cy="285840"/>
          </a:xfrm>
          <a:prstGeom prst="righ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2 Flecha derecha"/>
          <p:cNvSpPr/>
          <p:nvPr/>
        </p:nvSpPr>
        <p:spPr>
          <a:xfrm>
            <a:off x="4071960" y="4214880"/>
            <a:ext cx="1143000" cy="285840"/>
          </a:xfrm>
          <a:prstGeom prst="righ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4 CuadroTexto"/>
          <p:cNvSpPr/>
          <p:nvPr/>
        </p:nvSpPr>
        <p:spPr>
          <a:xfrm>
            <a:off x="6195240" y="1643040"/>
            <a:ext cx="29239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9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ed Rectangle 13"/>
          <p:cNvSpPr/>
          <p:nvPr/>
        </p:nvSpPr>
        <p:spPr>
          <a:xfrm>
            <a:off x="357120" y="214200"/>
            <a:ext cx="8572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06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D942-9B5C-4BD6-95BD-20067E9372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  <a:ea typeface="Segoe UI"/>
              </a:rPr>
              <a:t>PERO ESTO PUEDE CAMBIAR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39640" y="290052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La empleabilidad de una persona es lo que le permite conseguir y conservar empleo, avanzar en su proyecto de carrera, adaptarse a los cambios, optar por otro empleo o actividad cuando lo necesite </a:t>
            </a:r>
            <a:r>
              <a:rPr b="1" lang="es-AR" sz="2000" spc="-1" strike="noStrike">
                <a:solidFill>
                  <a:srgbClr val="000000"/>
                </a:solidFill>
                <a:latin typeface="Calibri"/>
              </a:rPr>
              <a:t>y mantenerse siempre atractivo para el mercado labo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9 Elipse"/>
          <p:cNvGrpSpPr/>
          <p:nvPr/>
        </p:nvGrpSpPr>
        <p:grpSpPr>
          <a:xfrm>
            <a:off x="2266920" y="1195560"/>
            <a:ext cx="4676760" cy="1388880"/>
            <a:chOff x="2266920" y="1195560"/>
            <a:chExt cx="4676760" cy="1388880"/>
          </a:xfrm>
        </p:grpSpPr>
        <p:pic>
          <p:nvPicPr>
            <p:cNvPr id="93" name="9 Elipse" descr=""/>
            <p:cNvPicPr/>
            <p:nvPr/>
          </p:nvPicPr>
          <p:blipFill>
            <a:blip r:embed="rId3"/>
            <a:stretch/>
          </p:blipFill>
          <p:spPr>
            <a:xfrm>
              <a:off x="2266920" y="1195560"/>
              <a:ext cx="46767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965320" y="1413000"/>
              <a:ext cx="32846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EMPLEABILID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ounded Rectangle 13"/>
          <p:cNvSpPr/>
          <p:nvPr/>
        </p:nvSpPr>
        <p:spPr>
          <a:xfrm>
            <a:off x="357120" y="214200"/>
            <a:ext cx="8572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06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8E62-26A8-451F-840C-F0CCFE8038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  <a:ea typeface="Segoe UI"/>
              </a:rPr>
              <a:t>EMPLE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68360" y="1341360"/>
            <a:ext cx="7991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Es un proceso de constru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4"/>
          <p:cNvGrpSpPr/>
          <p:nvPr/>
        </p:nvGrpSpPr>
        <p:grpSpPr>
          <a:xfrm>
            <a:off x="2124000" y="2133720"/>
            <a:ext cx="4463640" cy="3669840"/>
            <a:chOff x="2124000" y="2133720"/>
            <a:chExt cx="4463640" cy="3669840"/>
          </a:xfrm>
        </p:grpSpPr>
        <p:sp>
          <p:nvSpPr>
            <p:cNvPr id="103" name="Oval 4"/>
            <p:cNvSpPr/>
            <p:nvPr/>
          </p:nvSpPr>
          <p:spPr>
            <a:xfrm>
              <a:off x="2124000" y="2133720"/>
              <a:ext cx="2992680" cy="252432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5"/>
            <p:cNvSpPr/>
            <p:nvPr/>
          </p:nvSpPr>
          <p:spPr>
            <a:xfrm>
              <a:off x="3577680" y="2197080"/>
              <a:ext cx="2986920" cy="24609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3018240" y="3341160"/>
              <a:ext cx="2805840" cy="2462400"/>
            </a:xfrm>
            <a:prstGeom prst="ellipse">
              <a:avLst/>
            </a:prstGeom>
            <a:solidFill>
              <a:srgbClr val="ff505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7"/>
            <p:cNvSpPr/>
            <p:nvPr/>
          </p:nvSpPr>
          <p:spPr>
            <a:xfrm>
              <a:off x="2336760" y="2754360"/>
              <a:ext cx="160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HABILIDADES TECN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8"/>
            <p:cNvSpPr/>
            <p:nvPr/>
          </p:nvSpPr>
          <p:spPr>
            <a:xfrm>
              <a:off x="4557240" y="2635920"/>
              <a:ext cx="20304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HABILIDAD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9"/>
            <p:cNvSpPr/>
            <p:nvPr/>
          </p:nvSpPr>
          <p:spPr>
            <a:xfrm>
              <a:off x="3368160" y="5016600"/>
              <a:ext cx="2099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ORIENTACION AL MER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3447000" y="3470400"/>
              <a:ext cx="187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100% EMPLEA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2598840" y="3173760"/>
              <a:ext cx="9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5400" spc="-1" strike="noStrike">
                  <a:solidFill>
                    <a:srgbClr val="339933"/>
                  </a:solidFill>
                  <a:latin typeface="Calibri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5395680" y="3285720"/>
              <a:ext cx="9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5400" spc="-1" strike="noStrike">
                  <a:solidFill>
                    <a:srgbClr val="006699"/>
                  </a:solidFill>
                  <a:latin typeface="Calibri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3997440" y="4253400"/>
              <a:ext cx="840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5400" spc="-1" strike="noStrike">
                  <a:solidFill>
                    <a:srgbClr val="cc0066"/>
                  </a:solidFill>
                  <a:latin typeface="Calibri"/>
                </a:rPr>
                <a:t>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AF6A-5D1D-405F-A9F0-F7643B3405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Oval 5"/>
          <p:cNvGrpSpPr/>
          <p:nvPr/>
        </p:nvGrpSpPr>
        <p:grpSpPr>
          <a:xfrm>
            <a:off x="341280" y="1908000"/>
            <a:ext cx="2835360" cy="2767320"/>
            <a:chOff x="341280" y="1908000"/>
            <a:chExt cx="2835360" cy="2767320"/>
          </a:xfrm>
        </p:grpSpPr>
        <p:pic>
          <p:nvPicPr>
            <p:cNvPr id="118" name="Oval 5" descr=""/>
            <p:cNvPicPr/>
            <p:nvPr/>
          </p:nvPicPr>
          <p:blipFill>
            <a:blip r:embed="rId3"/>
            <a:stretch/>
          </p:blipFill>
          <p:spPr>
            <a:xfrm>
              <a:off x="341280" y="1908000"/>
              <a:ext cx="2835360" cy="27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68240" y="2328840"/>
              <a:ext cx="1986120" cy="19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8"/>
          <p:cNvSpPr/>
          <p:nvPr/>
        </p:nvSpPr>
        <p:spPr>
          <a:xfrm>
            <a:off x="428760" y="228600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ABILIDADES TE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285920" y="278604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339933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214800" y="253368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9933"/>
                </a:solidFill>
                <a:latin typeface="Calibri"/>
              </a:rPr>
              <a:t>Las habilidades técnicas implican que la persona es capaz de entregar resultados de calidad e incrementar esa capacidad por la adquisición de las habilidades necesarias para ser efectivo en su 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15"/>
          <p:cNvSpPr/>
          <p:nvPr/>
        </p:nvSpPr>
        <p:spPr>
          <a:xfrm>
            <a:off x="357120" y="214200"/>
            <a:ext cx="8572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06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  <a:ea typeface="Segoe UI"/>
              </a:rPr>
              <a:t>EMPLE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3D14-8451-4115-947C-92E558EAF8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plantilla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logoconsejo"/>
          <p:cNvPicPr/>
          <p:nvPr/>
        </p:nvPicPr>
        <p:blipFill>
          <a:blip r:embed="rId2"/>
          <a:stretch/>
        </p:blipFill>
        <p:spPr>
          <a:xfrm>
            <a:off x="7956720" y="5734080"/>
            <a:ext cx="971280" cy="933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2021760" y="6461280"/>
            <a:ext cx="53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II Encuentro de Jóvenes Profesionales 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15"/>
          <p:cNvSpPr/>
          <p:nvPr/>
        </p:nvSpPr>
        <p:spPr>
          <a:xfrm>
            <a:off x="357120" y="214200"/>
            <a:ext cx="8572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06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  <a:ea typeface="Segoe UI"/>
              </a:rPr>
              <a:t>EMPLE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143160" y="2143080"/>
            <a:ext cx="58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6699"/>
                </a:solidFill>
                <a:latin typeface="Calibri"/>
              </a:rPr>
              <a:t>Las </a:t>
            </a:r>
            <a:r>
              <a:rPr b="1" lang="es-MX" sz="2000" spc="-1" strike="noStrike">
                <a:solidFill>
                  <a:srgbClr val="006699"/>
                </a:solidFill>
                <a:latin typeface="Calibri"/>
              </a:rPr>
              <a:t>habilidades de influencia </a:t>
            </a:r>
            <a:r>
              <a:rPr b="0" lang="es-MX" sz="2000" spc="-1" strike="noStrike">
                <a:solidFill>
                  <a:srgbClr val="006699"/>
                </a:solidFill>
                <a:latin typeface="Calibri"/>
              </a:rPr>
              <a:t>implican que la persona sabe quién es y quién puede ser, sintiéndose poderoso y creyendo que puede hacer una diferencia; sabiendo que puede aprender cómo influenciar en la mayoría de las situaciones, desarrollar relaciones y ganarse el respeto de los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Oval 13"/>
          <p:cNvGrpSpPr/>
          <p:nvPr/>
        </p:nvGrpSpPr>
        <p:grpSpPr>
          <a:xfrm>
            <a:off x="341280" y="1816200"/>
            <a:ext cx="2835360" cy="2768400"/>
            <a:chOff x="341280" y="1816200"/>
            <a:chExt cx="2835360" cy="2768400"/>
          </a:xfrm>
        </p:grpSpPr>
        <p:pic>
          <p:nvPicPr>
            <p:cNvPr id="133" name="Oval 13" descr=""/>
            <p:cNvPicPr/>
            <p:nvPr/>
          </p:nvPicPr>
          <p:blipFill>
            <a:blip r:embed="rId3"/>
            <a:stretch/>
          </p:blipFill>
          <p:spPr>
            <a:xfrm>
              <a:off x="341280" y="1816200"/>
              <a:ext cx="283536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68240" y="2235240"/>
              <a:ext cx="1986120" cy="19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4"/>
          <p:cNvSpPr/>
          <p:nvPr/>
        </p:nvSpPr>
        <p:spPr>
          <a:xfrm>
            <a:off x="1500120" y="2906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699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642960" y="22636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HABILIDADES DE INFL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5"/>
          <p:cNvSpPr/>
          <p:nvPr/>
        </p:nvSpPr>
        <p:spPr>
          <a:xfrm>
            <a:off x="357120" y="214200"/>
            <a:ext cx="8572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06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Calibri"/>
                <a:ea typeface="Segoe UI"/>
              </a:rPr>
              <a:t>EMPLE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203640" y="2419200"/>
            <a:ext cx="53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6699"/>
                </a:solidFill>
                <a:latin typeface="Calibri"/>
              </a:rPr>
              <a:t>Las </a:t>
            </a:r>
            <a:r>
              <a:rPr b="1" lang="es-MX" sz="2000" spc="-1" strike="noStrike">
                <a:solidFill>
                  <a:srgbClr val="006699"/>
                </a:solidFill>
                <a:latin typeface="Calibri"/>
              </a:rPr>
              <a:t>habilidades relacionales </a:t>
            </a:r>
            <a:r>
              <a:rPr b="0" lang="es-MX" sz="2000" spc="-1" strike="noStrike">
                <a:solidFill>
                  <a:srgbClr val="006699"/>
                </a:solidFill>
                <a:latin typeface="Calibri"/>
              </a:rPr>
              <a:t>forman parte de las habilidades de influencia. Estas implican la convicción por parte de la persona que su presencia es valorada, ya que cuenta con la capacidad de generar confianza y construir sólidas redes de conta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Oval 13"/>
          <p:cNvGrpSpPr/>
          <p:nvPr/>
        </p:nvGrpSpPr>
        <p:grpSpPr>
          <a:xfrm>
            <a:off x="341280" y="1816200"/>
            <a:ext cx="2835360" cy="2768400"/>
            <a:chOff x="341280" y="1816200"/>
            <a:chExt cx="2835360" cy="2768400"/>
          </a:xfrm>
        </p:grpSpPr>
        <p:pic>
          <p:nvPicPr>
            <p:cNvPr id="141" name="Oval 13" descr=""/>
            <p:cNvPicPr/>
            <p:nvPr/>
          </p:nvPicPr>
          <p:blipFill>
            <a:blip r:embed="rId1"/>
            <a:stretch/>
          </p:blipFill>
          <p:spPr>
            <a:xfrm>
              <a:off x="341280" y="1816200"/>
              <a:ext cx="283536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68240" y="2235240"/>
              <a:ext cx="1986120" cy="19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4"/>
          <p:cNvSpPr/>
          <p:nvPr/>
        </p:nvSpPr>
        <p:spPr>
          <a:xfrm>
            <a:off x="1500120" y="2906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699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42960" y="22636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HABILIDADES DE INFL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7:47:30Z</dcterms:created>
  <dc:creator>ncampregher</dc:creator>
  <dc:description/>
  <dc:language>en-US</dc:language>
  <cp:lastModifiedBy>akowalew</cp:lastModifiedBy>
  <dcterms:modified xsi:type="dcterms:W3CDTF">2011-09-02T17:40:51Z</dcterms:modified>
  <cp:revision>24</cp:revision>
  <dc:subject/>
  <dc:title>Diapositiva 1</dc:title>
</cp:coreProperties>
</file>