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7C2-BD0C-4020-B6D6-5024FE15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210-EB2F-4A17-84A0-A1E81B61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289-17D5-4CD1-A3E0-2A46BD0F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DD7-3748-445C-9A70-FEC5A430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75B-0FAF-4C15-A37A-950C70D4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445-70C9-472F-B9B3-CEC9846F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47D-E781-48D5-AABB-F8B8BCE9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89C-2B8B-4566-A2A6-8F3EFE5B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894-28DD-482F-9CD9-DB6404E9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E31-1D73-4047-8805-51215D5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0A3D-4173-4F34-953A-6969DEAE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5BD-B035-4573-8540-B3466DEF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0C94-DB1A-42F0-BCD8-DBE0B2ECEA7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5" descr="S:\Diseño &amp; Comunicacion\Integro\Template power point\Integro [PPT Tapa].jpg"/>
          <p:cNvPicPr/>
          <p:nvPr/>
        </p:nvPicPr>
        <p:blipFill>
          <a:blip r:embed="rId1"/>
          <a:stretch/>
        </p:blipFill>
        <p:spPr>
          <a:xfrm>
            <a:off x="0" y="-11160"/>
            <a:ext cx="9148680" cy="6869160"/>
          </a:xfrm>
          <a:prstGeom prst="rect">
            <a:avLst/>
          </a:prstGeom>
          <a:ln w="0">
            <a:noFill/>
          </a:ln>
        </p:spPr>
      </p:pic>
      <p:sp>
        <p:nvSpPr>
          <p:cNvPr id="80" name="10 CuadroTexto"/>
          <p:cNvSpPr/>
          <p:nvPr/>
        </p:nvSpPr>
        <p:spPr>
          <a:xfrm>
            <a:off x="928800" y="5867280"/>
            <a:ext cx="4564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orporate Loyalty Solutions for Employees, Channel Partners and Customers in Latin Amer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9 CuadroTexto"/>
          <p:cNvSpPr/>
          <p:nvPr/>
        </p:nvSpPr>
        <p:spPr>
          <a:xfrm>
            <a:off x="915840" y="2421000"/>
            <a:ext cx="43768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VII ENCUENTRO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JOVENES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logoconsejo"/>
          <p:cNvPicPr/>
          <p:nvPr/>
        </p:nvPicPr>
        <p:blipFill>
          <a:blip r:embed="rId2"/>
          <a:stretch/>
        </p:blipFill>
        <p:spPr>
          <a:xfrm>
            <a:off x="993600" y="1413000"/>
            <a:ext cx="8971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167" name="10 CuadroTexto"/>
          <p:cNvSpPr/>
          <p:nvPr/>
        </p:nvSpPr>
        <p:spPr>
          <a:xfrm>
            <a:off x="223920" y="352440"/>
            <a:ext cx="76723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  <a:ea typeface="Arial"/>
              </a:rPr>
              <a:t>AUSENCIA REGLAS CLA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1"/>
          <p:cNvSpPr/>
          <p:nvPr/>
        </p:nvSpPr>
        <p:spPr>
          <a:xfrm>
            <a:off x="901800" y="1700280"/>
            <a:ext cx="7489800" cy="576360"/>
          </a:xfrm>
          <a:prstGeom prst="rect">
            <a:avLst/>
          </a:prstGeom>
          <a:solidFill>
            <a:srgbClr val="26267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O ALGO INHERENTE A NUESTR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861840" y="4653000"/>
            <a:ext cx="7569360" cy="1008000"/>
          </a:xfrm>
          <a:prstGeom prst="rect">
            <a:avLst/>
          </a:prstGeom>
          <a:solidFill>
            <a:srgbClr val="26267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L MANEJO DE LA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VIENE EN EL ADN DEL EMPRENDE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760320" y="2565360"/>
            <a:ext cx="7772400" cy="863640"/>
          </a:xfrm>
          <a:prstGeom prst="rect">
            <a:avLst/>
          </a:prstGeom>
          <a:solidFill>
            <a:srgbClr val="26267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ROMISO CONSTANTE DE INNOVACIO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REATIVIDAD PARA CUMPLIR LAS METAS FIJ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173" name="10 CuadroTexto"/>
          <p:cNvSpPr/>
          <p:nvPr/>
        </p:nvSpPr>
        <p:spPr>
          <a:xfrm>
            <a:off x="2444760" y="3068640"/>
            <a:ext cx="385596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  <a:ea typeface="Arial"/>
              </a:rPr>
              <a:t>GRACIA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10 CuadroTexto"/>
          <p:cNvSpPr/>
          <p:nvPr/>
        </p:nvSpPr>
        <p:spPr>
          <a:xfrm>
            <a:off x="223920" y="352440"/>
            <a:ext cx="76723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  <a:ea typeface="Arial"/>
              </a:rPr>
              <a:t>ARGENTINA 2001/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-14400" y="1197000"/>
            <a:ext cx="9171000" cy="4535280"/>
            <a:chOff x="-14400" y="1197000"/>
            <a:chExt cx="9171000" cy="4535280"/>
          </a:xfrm>
        </p:grpSpPr>
        <p:pic>
          <p:nvPicPr>
            <p:cNvPr id="87" name="Picture 1" descr="PLaza mayo 2.jpeg"/>
            <p:cNvPicPr/>
            <p:nvPr/>
          </p:nvPicPr>
          <p:blipFill>
            <a:blip r:embed="rId3"/>
            <a:stretch/>
          </p:blipFill>
          <p:spPr>
            <a:xfrm>
              <a:off x="-14400" y="1197000"/>
              <a:ext cx="4054680" cy="288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" descr="Cacerolazo.jpeg"/>
            <p:cNvPicPr/>
            <p:nvPr/>
          </p:nvPicPr>
          <p:blipFill>
            <a:blip r:embed="rId4"/>
            <a:stretch/>
          </p:blipFill>
          <p:spPr>
            <a:xfrm>
              <a:off x="2577960" y="1197000"/>
              <a:ext cx="3988440" cy="28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4" descr="PLaza Mayo 2001.jpeg"/>
            <p:cNvPicPr/>
            <p:nvPr/>
          </p:nvPicPr>
          <p:blipFill>
            <a:blip r:embed="rId5"/>
            <a:stretch/>
          </p:blipFill>
          <p:spPr>
            <a:xfrm>
              <a:off x="5211720" y="1197000"/>
              <a:ext cx="394488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31"/>
            <p:cNvSpPr/>
            <p:nvPr/>
          </p:nvSpPr>
          <p:spPr>
            <a:xfrm>
              <a:off x="5508360" y="4292640"/>
              <a:ext cx="3384360" cy="432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ISIS INSTITUCION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4572360" y="4796640"/>
              <a:ext cx="4320720" cy="43164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ISIS SOCIAL &amp; ECONOMIC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1"/>
            <p:cNvSpPr/>
            <p:nvPr/>
          </p:nvSpPr>
          <p:spPr>
            <a:xfrm>
              <a:off x="3492000" y="5300640"/>
              <a:ext cx="5401080" cy="43164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LACIONES SOCIALES QUEBRAD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1"/>
          <p:cNvSpPr/>
          <p:nvPr/>
        </p:nvSpPr>
        <p:spPr>
          <a:xfrm>
            <a:off x="722160" y="3068640"/>
            <a:ext cx="76996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  <a:ea typeface="Arial"/>
              </a:rPr>
              <a:t>AUSENCIA DE REGLAS = NUEVAS REG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98" name="10 CuadroTexto"/>
          <p:cNvSpPr/>
          <p:nvPr/>
        </p:nvSpPr>
        <p:spPr>
          <a:xfrm>
            <a:off x="223920" y="352440"/>
            <a:ext cx="76723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  <a:ea typeface="Arial"/>
              </a:rPr>
              <a:t>OPORTUNIDAD 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9"/>
          <p:cNvGrpSpPr/>
          <p:nvPr/>
        </p:nvGrpSpPr>
        <p:grpSpPr>
          <a:xfrm>
            <a:off x="1411200" y="3141720"/>
            <a:ext cx="6321600" cy="863280"/>
            <a:chOff x="1411200" y="3141720"/>
            <a:chExt cx="6321600" cy="863280"/>
          </a:xfrm>
        </p:grpSpPr>
        <p:sp>
          <p:nvSpPr>
            <p:cNvPr id="101" name="Rectangle 31"/>
            <p:cNvSpPr/>
            <p:nvPr/>
          </p:nvSpPr>
          <p:spPr>
            <a:xfrm>
              <a:off x="2635560" y="3141720"/>
              <a:ext cx="3867120" cy="43164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ONSTRUIR REL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1411200" y="3573360"/>
              <a:ext cx="6321600" cy="43164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RE LAS CORPORACIONES Y LAS PERSO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31"/>
          <p:cNvSpPr/>
          <p:nvPr/>
        </p:nvSpPr>
        <p:spPr>
          <a:xfrm>
            <a:off x="708120" y="4653000"/>
            <a:ext cx="7727760" cy="504720"/>
          </a:xfrm>
          <a:prstGeom prst="rect">
            <a:avLst/>
          </a:prstGeom>
          <a:solidFill>
            <a:srgbClr val="26267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  <a:ea typeface="Arial"/>
              </a:rPr>
              <a:t>SOLUCIONES DE FIDELIZACIÓN &amp; RELACION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1566720" y="1628640"/>
            <a:ext cx="6010560" cy="863640"/>
            <a:chOff x="1566720" y="1628640"/>
            <a:chExt cx="6010560" cy="863640"/>
          </a:xfrm>
        </p:grpSpPr>
        <p:sp>
          <p:nvSpPr>
            <p:cNvPr id="105" name="Rectangle 31"/>
            <p:cNvSpPr/>
            <p:nvPr/>
          </p:nvSpPr>
          <p:spPr>
            <a:xfrm>
              <a:off x="1566720" y="1628640"/>
              <a:ext cx="6010560" cy="43164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QUIVAR LA ADVERSIDAD PARA ENTEN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1566720" y="2060280"/>
              <a:ext cx="6010560" cy="432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O ACOMPAÑAR UNA NUEVA NECES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10 CuadroTexto"/>
          <p:cNvSpPr/>
          <p:nvPr/>
        </p:nvSpPr>
        <p:spPr>
          <a:xfrm>
            <a:off x="223920" y="352440"/>
            <a:ext cx="76723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  <a:ea typeface="Arial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0" y="1197000"/>
            <a:ext cx="9144000" cy="4824360"/>
            <a:chOff x="0" y="1197000"/>
            <a:chExt cx="9144000" cy="4824360"/>
          </a:xfrm>
        </p:grpSpPr>
        <p:sp>
          <p:nvSpPr>
            <p:cNvPr id="111" name="Rectangle 31"/>
            <p:cNvSpPr/>
            <p:nvPr/>
          </p:nvSpPr>
          <p:spPr>
            <a:xfrm>
              <a:off x="1531080" y="5301360"/>
              <a:ext cx="6081840" cy="720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GRAMAS DE BENEFICIOS CORPOR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RA CLIENTES Y EMPLE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2" descr="Screen Shot 2011-09-01 at 12.59.13.png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9144000" cy="385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114" name="10 CuadroTexto"/>
          <p:cNvSpPr/>
          <p:nvPr/>
        </p:nvSpPr>
        <p:spPr>
          <a:xfrm>
            <a:off x="223920" y="352440"/>
            <a:ext cx="76723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  <a:ea typeface="Arial"/>
              </a:rPr>
              <a:t>ESCALABI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450720" y="1844640"/>
            <a:ext cx="8328240" cy="2195640"/>
            <a:chOff x="450720" y="1844640"/>
            <a:chExt cx="8328240" cy="2195640"/>
          </a:xfrm>
        </p:grpSpPr>
        <p:sp>
          <p:nvSpPr>
            <p:cNvPr id="117" name="Rectangle 31"/>
            <p:cNvSpPr/>
            <p:nvPr/>
          </p:nvSpPr>
          <p:spPr>
            <a:xfrm>
              <a:off x="693000" y="1844640"/>
              <a:ext cx="2193480" cy="432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S SERVIC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3687840" y="1844640"/>
              <a:ext cx="1927440" cy="432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NOLOG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1"/>
            <p:cNvSpPr/>
            <p:nvPr/>
          </p:nvSpPr>
          <p:spPr>
            <a:xfrm>
              <a:off x="6542640" y="1844640"/>
              <a:ext cx="1794600" cy="432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D-TO-E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10 CuadroTexto"/>
            <p:cNvSpPr/>
            <p:nvPr/>
          </p:nvSpPr>
          <p:spPr>
            <a:xfrm>
              <a:off x="450720" y="2420640"/>
              <a:ext cx="2678400" cy="16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ENEFIC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ONOCIMI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CEN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MI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10 CuadroTexto"/>
            <p:cNvSpPr/>
            <p:nvPr/>
          </p:nvSpPr>
          <p:spPr>
            <a:xfrm>
              <a:off x="3355560" y="2420640"/>
              <a:ext cx="2678400" cy="12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LATAFOR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OUD COMPU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. PRODU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10 CuadroTexto"/>
            <p:cNvSpPr/>
            <p:nvPr/>
          </p:nvSpPr>
          <p:spPr>
            <a:xfrm>
              <a:off x="6100560" y="2420640"/>
              <a:ext cx="2678400" cy="16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NOLOG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ENI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GÍS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31"/>
          <p:cNvSpPr/>
          <p:nvPr/>
        </p:nvSpPr>
        <p:spPr>
          <a:xfrm>
            <a:off x="1447920" y="5013360"/>
            <a:ext cx="6381720" cy="503280"/>
          </a:xfrm>
          <a:prstGeom prst="rect">
            <a:avLst/>
          </a:prstGeom>
          <a:solidFill>
            <a:srgbClr val="26267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  <a:ea typeface="Arial"/>
              </a:rPr>
              <a:t>CRECIMIENTO ORGANICO DEL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10 CuadroTexto"/>
          <p:cNvSpPr/>
          <p:nvPr/>
        </p:nvSpPr>
        <p:spPr>
          <a:xfrm>
            <a:off x="223920" y="352440"/>
            <a:ext cx="76723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  <a:ea typeface="Arial"/>
              </a:rPr>
              <a:t>ARGENTINA EN CR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9"/>
          <p:cNvGrpSpPr/>
          <p:nvPr/>
        </p:nvGrpSpPr>
        <p:grpSpPr>
          <a:xfrm>
            <a:off x="-270000" y="1197000"/>
            <a:ext cx="9426600" cy="4535640"/>
            <a:chOff x="-270000" y="1197000"/>
            <a:chExt cx="9426600" cy="4535640"/>
          </a:xfrm>
        </p:grpSpPr>
        <p:sp>
          <p:nvSpPr>
            <p:cNvPr id="128" name="Rectangle 31"/>
            <p:cNvSpPr/>
            <p:nvPr/>
          </p:nvSpPr>
          <p:spPr>
            <a:xfrm>
              <a:off x="317160" y="4293360"/>
              <a:ext cx="3533760" cy="43164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FLACION ACELERAD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31"/>
            <p:cNvSpPr/>
            <p:nvPr/>
          </p:nvSpPr>
          <p:spPr>
            <a:xfrm>
              <a:off x="317160" y="4797360"/>
              <a:ext cx="3245760" cy="43164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ON TRIBUTAR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1"/>
            <p:cNvSpPr/>
            <p:nvPr/>
          </p:nvSpPr>
          <p:spPr>
            <a:xfrm>
              <a:off x="317160" y="5301000"/>
              <a:ext cx="5262120" cy="43164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CREMENTO DEL COSTO LABORA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2" descr="Screen Shot 2011-09-01 at 17.29.22.png"/>
            <p:cNvPicPr/>
            <p:nvPr/>
          </p:nvPicPr>
          <p:blipFill>
            <a:blip r:embed="rId3"/>
            <a:srcRect l="-40131" t="30" r="40131" b="30"/>
            <a:stretch/>
          </p:blipFill>
          <p:spPr>
            <a:xfrm>
              <a:off x="-270000" y="1198800"/>
              <a:ext cx="9426600" cy="28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Inflacion.jpeg"/>
            <p:cNvPicPr/>
            <p:nvPr/>
          </p:nvPicPr>
          <p:blipFill>
            <a:blip r:embed="rId4"/>
            <a:stretch/>
          </p:blipFill>
          <p:spPr>
            <a:xfrm>
              <a:off x="4320" y="1198800"/>
              <a:ext cx="3569760" cy="28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Straight Connector 8" descr=""/>
            <p:cNvPicPr/>
            <p:nvPr/>
          </p:nvPicPr>
          <p:blipFill>
            <a:blip r:embed="rId5"/>
            <a:stretch/>
          </p:blipFill>
          <p:spPr>
            <a:xfrm>
              <a:off x="3522600" y="1197000"/>
              <a:ext cx="30240" cy="288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135" name="10 CuadroTexto"/>
          <p:cNvSpPr/>
          <p:nvPr/>
        </p:nvSpPr>
        <p:spPr>
          <a:xfrm>
            <a:off x="223920" y="352440"/>
            <a:ext cx="76723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  <a:ea typeface="Arial"/>
              </a:rPr>
              <a:t>EXPANSIÓN REG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29"/>
          <p:cNvGrpSpPr/>
          <p:nvPr/>
        </p:nvGrpSpPr>
        <p:grpSpPr>
          <a:xfrm>
            <a:off x="295200" y="1628640"/>
            <a:ext cx="8694720" cy="4032360"/>
            <a:chOff x="295200" y="1628640"/>
            <a:chExt cx="8694720" cy="4032360"/>
          </a:xfrm>
        </p:grpSpPr>
        <p:sp>
          <p:nvSpPr>
            <p:cNvPr id="138" name="Rectangle 31"/>
            <p:cNvSpPr/>
            <p:nvPr/>
          </p:nvSpPr>
          <p:spPr>
            <a:xfrm>
              <a:off x="2511720" y="4725000"/>
              <a:ext cx="4253400" cy="432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SOLIDACIÓN MODE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1"/>
            <p:cNvSpPr/>
            <p:nvPr/>
          </p:nvSpPr>
          <p:spPr>
            <a:xfrm>
              <a:off x="1780560" y="5229000"/>
              <a:ext cx="5715720" cy="432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ENDIZAJE DE REGLAS LOC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5" descr="argentina.png"/>
            <p:cNvPicPr/>
            <p:nvPr/>
          </p:nvPicPr>
          <p:blipFill>
            <a:blip r:embed="rId3"/>
            <a:stretch/>
          </p:blipFill>
          <p:spPr>
            <a:xfrm>
              <a:off x="451440" y="2132640"/>
              <a:ext cx="12895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brazil.png"/>
            <p:cNvPicPr/>
            <p:nvPr/>
          </p:nvPicPr>
          <p:blipFill>
            <a:blip r:embed="rId4"/>
            <a:stretch/>
          </p:blipFill>
          <p:spPr>
            <a:xfrm>
              <a:off x="7547760" y="2132640"/>
              <a:ext cx="12895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8" descr="chile.png"/>
            <p:cNvPicPr/>
            <p:nvPr/>
          </p:nvPicPr>
          <p:blipFill>
            <a:blip r:embed="rId5"/>
            <a:stretch/>
          </p:blipFill>
          <p:spPr>
            <a:xfrm>
              <a:off x="2253960" y="2132640"/>
              <a:ext cx="12895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colombia.png"/>
            <p:cNvPicPr/>
            <p:nvPr/>
          </p:nvPicPr>
          <p:blipFill>
            <a:blip r:embed="rId6"/>
            <a:stretch/>
          </p:blipFill>
          <p:spPr>
            <a:xfrm>
              <a:off x="5788440" y="2132640"/>
              <a:ext cx="1289520" cy="12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6" descr="peru.png"/>
            <p:cNvPicPr/>
            <p:nvPr/>
          </p:nvPicPr>
          <p:blipFill>
            <a:blip r:embed="rId7"/>
            <a:stretch/>
          </p:blipFill>
          <p:spPr>
            <a:xfrm>
              <a:off x="3981960" y="2132640"/>
              <a:ext cx="1289520" cy="12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10 CuadroTexto"/>
            <p:cNvSpPr/>
            <p:nvPr/>
          </p:nvSpPr>
          <p:spPr>
            <a:xfrm>
              <a:off x="597600" y="3509640"/>
              <a:ext cx="9968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10 CuadroTexto"/>
            <p:cNvSpPr/>
            <p:nvPr/>
          </p:nvSpPr>
          <p:spPr>
            <a:xfrm>
              <a:off x="295200" y="1628640"/>
              <a:ext cx="15948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rgentin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10 CuadroTexto"/>
            <p:cNvSpPr/>
            <p:nvPr/>
          </p:nvSpPr>
          <p:spPr>
            <a:xfrm>
              <a:off x="2400480" y="3509640"/>
              <a:ext cx="9968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10 CuadroTexto"/>
            <p:cNvSpPr/>
            <p:nvPr/>
          </p:nvSpPr>
          <p:spPr>
            <a:xfrm>
              <a:off x="2101320" y="1628640"/>
              <a:ext cx="15948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i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10 CuadroTexto"/>
            <p:cNvSpPr/>
            <p:nvPr/>
          </p:nvSpPr>
          <p:spPr>
            <a:xfrm>
              <a:off x="4128480" y="3509640"/>
              <a:ext cx="9968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8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10 CuadroTexto"/>
            <p:cNvSpPr/>
            <p:nvPr/>
          </p:nvSpPr>
          <p:spPr>
            <a:xfrm>
              <a:off x="3829320" y="1628640"/>
              <a:ext cx="15948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10 CuadroTexto"/>
            <p:cNvSpPr/>
            <p:nvPr/>
          </p:nvSpPr>
          <p:spPr>
            <a:xfrm>
              <a:off x="5934600" y="3509640"/>
              <a:ext cx="9968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10 CuadroTexto"/>
            <p:cNvSpPr/>
            <p:nvPr/>
          </p:nvSpPr>
          <p:spPr>
            <a:xfrm>
              <a:off x="5635440" y="1628640"/>
              <a:ext cx="15948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lombi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10 CuadroTexto"/>
            <p:cNvSpPr/>
            <p:nvPr/>
          </p:nvSpPr>
          <p:spPr>
            <a:xfrm>
              <a:off x="7693920" y="3509640"/>
              <a:ext cx="99684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1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10 CuadroTexto"/>
            <p:cNvSpPr/>
            <p:nvPr/>
          </p:nvSpPr>
          <p:spPr>
            <a:xfrm>
              <a:off x="7395120" y="1628640"/>
              <a:ext cx="1594800" cy="4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as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Integro-[PPT-Interior-2]"/>
          <p:cNvPicPr/>
          <p:nvPr/>
        </p:nvPicPr>
        <p:blipFill>
          <a:blip r:embed="rId1"/>
          <a:stretch/>
        </p:blipFill>
        <p:spPr>
          <a:xfrm>
            <a:off x="0" y="-1440"/>
            <a:ext cx="9163080" cy="6859440"/>
          </a:xfrm>
          <a:prstGeom prst="rect">
            <a:avLst/>
          </a:prstGeom>
          <a:ln w="0">
            <a:noFill/>
          </a:ln>
        </p:spPr>
      </p:pic>
      <p:sp>
        <p:nvSpPr>
          <p:cNvPr id="156" name="10 CuadroTexto"/>
          <p:cNvSpPr/>
          <p:nvPr/>
        </p:nvSpPr>
        <p:spPr>
          <a:xfrm>
            <a:off x="223920" y="352440"/>
            <a:ext cx="76723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"/>
                <a:ea typeface="Arial"/>
              </a:rPr>
              <a:t>INTEGRO 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logoconsejo"/>
          <p:cNvPicPr/>
          <p:nvPr/>
        </p:nvPicPr>
        <p:blipFill>
          <a:blip r:embed="rId2"/>
          <a:stretch/>
        </p:blipFill>
        <p:spPr>
          <a:xfrm>
            <a:off x="8161200" y="189000"/>
            <a:ext cx="797040" cy="83016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3"/>
          <p:cNvGrpSpPr/>
          <p:nvPr/>
        </p:nvGrpSpPr>
        <p:grpSpPr>
          <a:xfrm>
            <a:off x="0" y="1197000"/>
            <a:ext cx="9144000" cy="5027760"/>
            <a:chOff x="0" y="1197000"/>
            <a:chExt cx="9144000" cy="5027760"/>
          </a:xfrm>
        </p:grpSpPr>
        <p:sp>
          <p:nvSpPr>
            <p:cNvPr id="159" name="Rectangle 31"/>
            <p:cNvSpPr/>
            <p:nvPr/>
          </p:nvSpPr>
          <p:spPr>
            <a:xfrm>
              <a:off x="317880" y="1197000"/>
              <a:ext cx="996840" cy="49968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10 CuadroTexto"/>
            <p:cNvSpPr/>
            <p:nvPr/>
          </p:nvSpPr>
          <p:spPr>
            <a:xfrm>
              <a:off x="1403640" y="1273320"/>
              <a:ext cx="531216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LABORADORES en 5 PA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1"/>
            <p:cNvSpPr/>
            <p:nvPr/>
          </p:nvSpPr>
          <p:spPr>
            <a:xfrm>
              <a:off x="317880" y="1773000"/>
              <a:ext cx="996840" cy="576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+25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10 CuadroTexto"/>
            <p:cNvSpPr/>
            <p:nvPr/>
          </p:nvSpPr>
          <p:spPr>
            <a:xfrm>
              <a:off x="1403640" y="1891440"/>
              <a:ext cx="432036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ES CORPOR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31"/>
            <p:cNvSpPr/>
            <p:nvPr/>
          </p:nvSpPr>
          <p:spPr>
            <a:xfrm>
              <a:off x="317880" y="2421000"/>
              <a:ext cx="996840" cy="576000"/>
            </a:xfrm>
            <a:prstGeom prst="rect">
              <a:avLst/>
            </a:prstGeom>
            <a:solidFill>
              <a:srgbClr val="26267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880" rIns="8388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700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10 CuadroTexto"/>
            <p:cNvSpPr/>
            <p:nvPr/>
          </p:nvSpPr>
          <p:spPr>
            <a:xfrm>
              <a:off x="1403640" y="2512800"/>
              <a:ext cx="6580440" cy="3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2120" bIns="421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MPLEADOS UTILIZAN NUESTRAS PLATAFOR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" descr="Screen Shot 2011-09-01 at 17.51.59.png"/>
            <p:cNvPicPr/>
            <p:nvPr/>
          </p:nvPicPr>
          <p:blipFill>
            <a:blip r:embed="rId3"/>
            <a:stretch/>
          </p:blipFill>
          <p:spPr>
            <a:xfrm>
              <a:off x="0" y="3132720"/>
              <a:ext cx="9144000" cy="309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01:02Z</dcterms:created>
  <dc:creator>Lisandro Lorenzini</dc:creator>
  <dc:description/>
  <dc:language>en-US</dc:language>
  <cp:lastModifiedBy>Germán Dyzenchauz</cp:lastModifiedBy>
  <dcterms:modified xsi:type="dcterms:W3CDTF">2011-09-02T01:04:47Z</dcterms:modified>
  <cp:revision>428</cp:revision>
  <dc:subject/>
  <dc:title>Diapositiva 1</dc:title>
</cp:coreProperties>
</file>